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867280" y="5678640"/>
            <a:ext cx="3276720" cy="117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Palatino"/>
              </a:rPr>
              <a:t>Click to edit the title text format</a:t>
            </a: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fafd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3" marL="1600200" indent="-228600">
              <a:spcBef>
                <a:spcPts val="499"/>
              </a:spcBef>
              <a:buClr>
                <a:srgbClr val="fafd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Palatino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Palatino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Palatino"/>
            </a:endParaRPr>
          </a:p>
          <a:p>
            <a:pPr lvl="5" marL="2057400" indent="-228600">
              <a:spcBef>
                <a:spcPts val="499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Palatino"/>
            </a:endParaRPr>
          </a:p>
          <a:p>
            <a:pPr lvl="6" marL="2057400" indent="-228600">
              <a:spcBef>
                <a:spcPts val="499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7880" y="228564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Palatino"/>
              </a:rPr>
              <a:t>Click to edit the title text format</a:t>
            </a: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7543800" y="1290600"/>
            <a:ext cx="16687800" cy="5567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fafd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fafd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fafd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fafd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fafd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fafd00"/>
              </a:buClr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fafd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fafd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fafd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5160" y="4724280"/>
            <a:ext cx="403884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afd00"/>
                </a:solidFill>
                <a:latin typeface="Times New Roman"/>
              </a:rPr>
              <a:t>Peter Ward</a:t>
            </a:r>
            <a:br>
              <a:rPr sz="3600"/>
            </a:b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RAM Myers</a:t>
            </a: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afd00"/>
                </a:solidFill>
                <a:latin typeface="Times New Roman"/>
              </a:rPr>
              <a:t>Dalhousie University</a:t>
            </a:r>
            <a:endParaRPr b="0" lang="en-US" sz="2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79" name=""/>
          <p:cNvSpPr/>
          <p:nvPr/>
        </p:nvSpPr>
        <p:spPr>
          <a:xfrm>
            <a:off x="-252360" y="1008000"/>
            <a:ext cx="91454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effects of soak time and</a:t>
            </a:r>
            <a:br>
              <a:rPr sz="4400"/>
            </a:br>
            <a:r>
              <a:rPr b="0" lang="en-AU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pth on longline</a:t>
            </a:r>
            <a:br>
              <a:rPr sz="4400"/>
            </a:br>
            <a:r>
              <a:rPr b="0" lang="en-AU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atch rate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03280" y="5445000"/>
            <a:ext cx="17337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ecece"/>
                </a:solidFill>
                <a:latin typeface="Times New Roman"/>
              </a:rPr>
              <a:t>EB WP-3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ecece"/>
                </a:solidFill>
                <a:latin typeface="Times New Roman"/>
              </a:rPr>
              <a:t>EB WP-12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1449360" y="5829480"/>
            <a:ext cx="1440" cy="77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892600" y="5829480"/>
            <a:ext cx="1440" cy="77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335480" y="5829480"/>
            <a:ext cx="1440" cy="77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449360" y="5829480"/>
            <a:ext cx="36082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396800" y="5943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ecece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41120" y="5943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ecece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284360" y="5943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ecece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1227240" y="5624640"/>
            <a:ext cx="7776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1227240" y="4556160"/>
            <a:ext cx="7776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1227240" y="3487680"/>
            <a:ext cx="77760" cy="18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1227240" y="2419200"/>
            <a:ext cx="77760" cy="18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1227240" y="1351080"/>
            <a:ext cx="7776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V="1">
            <a:off x="1305000" y="1350720"/>
            <a:ext cx="1440" cy="427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308240" y="293760"/>
            <a:ext cx="3890880" cy="553248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449360" y="5829480"/>
            <a:ext cx="1440" cy="777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892600" y="5829480"/>
            <a:ext cx="1440" cy="777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335480" y="5829480"/>
            <a:ext cx="0" cy="777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305000" y="282600"/>
            <a:ext cx="1440" cy="7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413320" y="282600"/>
            <a:ext cx="237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02" name=""/>
          <p:cNvGrpSpPr/>
          <p:nvPr/>
        </p:nvGrpSpPr>
        <p:grpSpPr>
          <a:xfrm>
            <a:off x="1820880" y="290520"/>
            <a:ext cx="2246040" cy="5334120"/>
            <a:chOff x="1820880" y="290520"/>
            <a:chExt cx="2246040" cy="5334120"/>
          </a:xfrm>
        </p:grpSpPr>
        <p:sp>
          <p:nvSpPr>
            <p:cNvPr id="1103" name=""/>
            <p:cNvSpPr/>
            <p:nvPr/>
          </p:nvSpPr>
          <p:spPr>
            <a:xfrm>
              <a:off x="1898640" y="290520"/>
              <a:ext cx="1974960" cy="5334120"/>
            </a:xfrm>
            <a:custGeom>
              <a:avLst/>
              <a:gdLst/>
              <a:ahLst/>
              <a:rect l="l" t="t" r="r" b="b"/>
              <a:pathLst>
                <a:path w="2490" h="6718">
                  <a:moveTo>
                    <a:pt x="0" y="0"/>
                  </a:moveTo>
                  <a:lnTo>
                    <a:pt x="38" y="125"/>
                  </a:lnTo>
                  <a:lnTo>
                    <a:pt x="79" y="258"/>
                  </a:lnTo>
                  <a:lnTo>
                    <a:pt x="124" y="393"/>
                  </a:lnTo>
                  <a:lnTo>
                    <a:pt x="168" y="528"/>
                  </a:lnTo>
                  <a:lnTo>
                    <a:pt x="216" y="663"/>
                  </a:lnTo>
                  <a:lnTo>
                    <a:pt x="265" y="796"/>
                  </a:lnTo>
                  <a:lnTo>
                    <a:pt x="314" y="931"/>
                  </a:lnTo>
                  <a:lnTo>
                    <a:pt x="367" y="1066"/>
                  </a:lnTo>
                  <a:lnTo>
                    <a:pt x="420" y="1201"/>
                  </a:lnTo>
                  <a:lnTo>
                    <a:pt x="476" y="1336"/>
                  </a:lnTo>
                  <a:lnTo>
                    <a:pt x="532" y="1469"/>
                  </a:lnTo>
                  <a:lnTo>
                    <a:pt x="589" y="1604"/>
                  </a:lnTo>
                  <a:lnTo>
                    <a:pt x="648" y="1739"/>
                  </a:lnTo>
                  <a:lnTo>
                    <a:pt x="708" y="1874"/>
                  </a:lnTo>
                  <a:lnTo>
                    <a:pt x="769" y="2009"/>
                  </a:lnTo>
                  <a:lnTo>
                    <a:pt x="831" y="2142"/>
                  </a:lnTo>
                  <a:lnTo>
                    <a:pt x="892" y="2277"/>
                  </a:lnTo>
                  <a:lnTo>
                    <a:pt x="954" y="2412"/>
                  </a:lnTo>
                  <a:lnTo>
                    <a:pt x="1017" y="2547"/>
                  </a:lnTo>
                  <a:lnTo>
                    <a:pt x="1079" y="2682"/>
                  </a:lnTo>
                  <a:lnTo>
                    <a:pt x="1142" y="2815"/>
                  </a:lnTo>
                  <a:lnTo>
                    <a:pt x="1203" y="2950"/>
                  </a:lnTo>
                  <a:lnTo>
                    <a:pt x="1264" y="3085"/>
                  </a:lnTo>
                  <a:lnTo>
                    <a:pt x="1325" y="3220"/>
                  </a:lnTo>
                  <a:lnTo>
                    <a:pt x="1386" y="3355"/>
                  </a:lnTo>
                  <a:lnTo>
                    <a:pt x="1443" y="3488"/>
                  </a:lnTo>
                  <a:lnTo>
                    <a:pt x="1501" y="3623"/>
                  </a:lnTo>
                  <a:lnTo>
                    <a:pt x="1558" y="3758"/>
                  </a:lnTo>
                  <a:lnTo>
                    <a:pt x="1613" y="3893"/>
                  </a:lnTo>
                  <a:lnTo>
                    <a:pt x="1667" y="4026"/>
                  </a:lnTo>
                  <a:lnTo>
                    <a:pt x="1721" y="4161"/>
                  </a:lnTo>
                  <a:lnTo>
                    <a:pt x="1772" y="4296"/>
                  </a:lnTo>
                  <a:lnTo>
                    <a:pt x="1823" y="4431"/>
                  </a:lnTo>
                  <a:lnTo>
                    <a:pt x="1871" y="4566"/>
                  </a:lnTo>
                  <a:lnTo>
                    <a:pt x="1919" y="4699"/>
                  </a:lnTo>
                  <a:lnTo>
                    <a:pt x="1966" y="4834"/>
                  </a:lnTo>
                  <a:lnTo>
                    <a:pt x="2011" y="4969"/>
                  </a:lnTo>
                  <a:lnTo>
                    <a:pt x="2055" y="5104"/>
                  </a:lnTo>
                  <a:lnTo>
                    <a:pt x="2096" y="5239"/>
                  </a:lnTo>
                  <a:lnTo>
                    <a:pt x="2137" y="5372"/>
                  </a:lnTo>
                  <a:lnTo>
                    <a:pt x="2179" y="5507"/>
                  </a:lnTo>
                  <a:lnTo>
                    <a:pt x="2216" y="5642"/>
                  </a:lnTo>
                  <a:lnTo>
                    <a:pt x="2254" y="5777"/>
                  </a:lnTo>
                  <a:lnTo>
                    <a:pt x="2290" y="5912"/>
                  </a:lnTo>
                  <a:lnTo>
                    <a:pt x="2327" y="6045"/>
                  </a:lnTo>
                  <a:lnTo>
                    <a:pt x="2360" y="6180"/>
                  </a:lnTo>
                  <a:lnTo>
                    <a:pt x="2394" y="6315"/>
                  </a:lnTo>
                  <a:lnTo>
                    <a:pt x="2425" y="6450"/>
                  </a:lnTo>
                  <a:lnTo>
                    <a:pt x="2458" y="6585"/>
                  </a:lnTo>
                  <a:lnTo>
                    <a:pt x="2490" y="6718"/>
                  </a:lnTo>
                </a:path>
              </a:pathLst>
            </a:custGeom>
            <a:noFill/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820880" y="290520"/>
              <a:ext cx="1884240" cy="5334120"/>
            </a:xfrm>
            <a:custGeom>
              <a:avLst/>
              <a:gdLst/>
              <a:ahLst/>
              <a:rect l="l" t="t" r="r" b="b"/>
              <a:pathLst>
                <a:path w="2374" h="6718">
                  <a:moveTo>
                    <a:pt x="0" y="0"/>
                  </a:moveTo>
                  <a:lnTo>
                    <a:pt x="38" y="125"/>
                  </a:lnTo>
                  <a:lnTo>
                    <a:pt x="82" y="258"/>
                  </a:lnTo>
                  <a:lnTo>
                    <a:pt x="127" y="393"/>
                  </a:lnTo>
                  <a:lnTo>
                    <a:pt x="174" y="528"/>
                  </a:lnTo>
                  <a:lnTo>
                    <a:pt x="224" y="663"/>
                  </a:lnTo>
                  <a:lnTo>
                    <a:pt x="273" y="796"/>
                  </a:lnTo>
                  <a:lnTo>
                    <a:pt x="326" y="931"/>
                  </a:lnTo>
                  <a:lnTo>
                    <a:pt x="379" y="1066"/>
                  </a:lnTo>
                  <a:lnTo>
                    <a:pt x="433" y="1201"/>
                  </a:lnTo>
                  <a:lnTo>
                    <a:pt x="489" y="1336"/>
                  </a:lnTo>
                  <a:lnTo>
                    <a:pt x="545" y="1469"/>
                  </a:lnTo>
                  <a:lnTo>
                    <a:pt x="602" y="1604"/>
                  </a:lnTo>
                  <a:lnTo>
                    <a:pt x="658" y="1739"/>
                  </a:lnTo>
                  <a:lnTo>
                    <a:pt x="717" y="1874"/>
                  </a:lnTo>
                  <a:lnTo>
                    <a:pt x="775" y="2009"/>
                  </a:lnTo>
                  <a:lnTo>
                    <a:pt x="833" y="2142"/>
                  </a:lnTo>
                  <a:lnTo>
                    <a:pt x="892" y="2277"/>
                  </a:lnTo>
                  <a:lnTo>
                    <a:pt x="951" y="2412"/>
                  </a:lnTo>
                  <a:lnTo>
                    <a:pt x="1009" y="2547"/>
                  </a:lnTo>
                  <a:lnTo>
                    <a:pt x="1068" y="2682"/>
                  </a:lnTo>
                  <a:lnTo>
                    <a:pt x="1125" y="2815"/>
                  </a:lnTo>
                  <a:lnTo>
                    <a:pt x="1183" y="2950"/>
                  </a:lnTo>
                  <a:lnTo>
                    <a:pt x="1241" y="3085"/>
                  </a:lnTo>
                  <a:lnTo>
                    <a:pt x="1298" y="3220"/>
                  </a:lnTo>
                  <a:lnTo>
                    <a:pt x="1354" y="3355"/>
                  </a:lnTo>
                  <a:lnTo>
                    <a:pt x="1408" y="3488"/>
                  </a:lnTo>
                  <a:lnTo>
                    <a:pt x="1464" y="3623"/>
                  </a:lnTo>
                  <a:lnTo>
                    <a:pt x="1517" y="3758"/>
                  </a:lnTo>
                  <a:lnTo>
                    <a:pt x="1570" y="3893"/>
                  </a:lnTo>
                  <a:lnTo>
                    <a:pt x="1621" y="4026"/>
                  </a:lnTo>
                  <a:lnTo>
                    <a:pt x="1672" y="4161"/>
                  </a:lnTo>
                  <a:lnTo>
                    <a:pt x="1721" y="4296"/>
                  </a:lnTo>
                  <a:lnTo>
                    <a:pt x="1769" y="4431"/>
                  </a:lnTo>
                  <a:lnTo>
                    <a:pt x="1815" y="4566"/>
                  </a:lnTo>
                  <a:lnTo>
                    <a:pt x="1859" y="4699"/>
                  </a:lnTo>
                  <a:lnTo>
                    <a:pt x="1904" y="4834"/>
                  </a:lnTo>
                  <a:lnTo>
                    <a:pt x="1945" y="4969"/>
                  </a:lnTo>
                  <a:lnTo>
                    <a:pt x="1986" y="5104"/>
                  </a:lnTo>
                  <a:lnTo>
                    <a:pt x="2025" y="5239"/>
                  </a:lnTo>
                  <a:lnTo>
                    <a:pt x="2063" y="5372"/>
                  </a:lnTo>
                  <a:lnTo>
                    <a:pt x="2100" y="5507"/>
                  </a:lnTo>
                  <a:lnTo>
                    <a:pt x="2134" y="5642"/>
                  </a:lnTo>
                  <a:lnTo>
                    <a:pt x="2169" y="5777"/>
                  </a:lnTo>
                  <a:lnTo>
                    <a:pt x="2200" y="5912"/>
                  </a:lnTo>
                  <a:lnTo>
                    <a:pt x="2231" y="6045"/>
                  </a:lnTo>
                  <a:lnTo>
                    <a:pt x="2262" y="6180"/>
                  </a:lnTo>
                  <a:lnTo>
                    <a:pt x="2292" y="6315"/>
                  </a:lnTo>
                  <a:lnTo>
                    <a:pt x="2320" y="6450"/>
                  </a:lnTo>
                  <a:lnTo>
                    <a:pt x="2348" y="6585"/>
                  </a:lnTo>
                  <a:lnTo>
                    <a:pt x="2374" y="6718"/>
                  </a:lnTo>
                </a:path>
              </a:pathLst>
            </a:custGeom>
            <a:noFill/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359440" y="428760"/>
              <a:ext cx="170748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800" spc="-1" strike="noStrike">
                  <a:solidFill>
                    <a:srgbClr val="fafd00"/>
                  </a:solidFill>
                  <a:latin typeface="Times New Roman"/>
                </a:rPr>
                <a:t>Bigeye tuna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fafd00"/>
                  </a:solidFill>
                  <a:latin typeface="Times New Roman"/>
                </a:rPr>
                <a:t>Day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57240" y="290520"/>
              <a:ext cx="1930680" cy="5334120"/>
            </a:xfrm>
            <a:custGeom>
              <a:avLst/>
              <a:gdLst/>
              <a:ahLst/>
              <a:rect l="l" t="t" r="r" b="b"/>
              <a:pathLst>
                <a:path w="2432" h="6718">
                  <a:moveTo>
                    <a:pt x="0" y="0"/>
                  </a:moveTo>
                  <a:lnTo>
                    <a:pt x="38" y="125"/>
                  </a:lnTo>
                  <a:lnTo>
                    <a:pt x="81" y="258"/>
                  </a:lnTo>
                  <a:lnTo>
                    <a:pt x="127" y="393"/>
                  </a:lnTo>
                  <a:lnTo>
                    <a:pt x="173" y="528"/>
                  </a:lnTo>
                  <a:lnTo>
                    <a:pt x="221" y="663"/>
                  </a:lnTo>
                  <a:lnTo>
                    <a:pt x="270" y="796"/>
                  </a:lnTo>
                  <a:lnTo>
                    <a:pt x="321" y="931"/>
                  </a:lnTo>
                  <a:lnTo>
                    <a:pt x="374" y="1066"/>
                  </a:lnTo>
                  <a:lnTo>
                    <a:pt x="428" y="1201"/>
                  </a:lnTo>
                  <a:lnTo>
                    <a:pt x="484" y="1336"/>
                  </a:lnTo>
                  <a:lnTo>
                    <a:pt x="540" y="1469"/>
                  </a:lnTo>
                  <a:lnTo>
                    <a:pt x="597" y="1604"/>
                  </a:lnTo>
                  <a:lnTo>
                    <a:pt x="655" y="1739"/>
                  </a:lnTo>
                  <a:lnTo>
                    <a:pt x="714" y="1874"/>
                  </a:lnTo>
                  <a:lnTo>
                    <a:pt x="773" y="2009"/>
                  </a:lnTo>
                  <a:lnTo>
                    <a:pt x="834" y="2142"/>
                  </a:lnTo>
                  <a:lnTo>
                    <a:pt x="894" y="2277"/>
                  </a:lnTo>
                  <a:lnTo>
                    <a:pt x="954" y="2412"/>
                  </a:lnTo>
                  <a:lnTo>
                    <a:pt x="1015" y="2547"/>
                  </a:lnTo>
                  <a:lnTo>
                    <a:pt x="1075" y="2682"/>
                  </a:lnTo>
                  <a:lnTo>
                    <a:pt x="1135" y="2815"/>
                  </a:lnTo>
                  <a:lnTo>
                    <a:pt x="1195" y="2950"/>
                  </a:lnTo>
                  <a:lnTo>
                    <a:pt x="1254" y="3085"/>
                  </a:lnTo>
                  <a:lnTo>
                    <a:pt x="1313" y="3220"/>
                  </a:lnTo>
                  <a:lnTo>
                    <a:pt x="1371" y="3355"/>
                  </a:lnTo>
                  <a:lnTo>
                    <a:pt x="1428" y="3488"/>
                  </a:lnTo>
                  <a:lnTo>
                    <a:pt x="1484" y="3623"/>
                  </a:lnTo>
                  <a:lnTo>
                    <a:pt x="1539" y="3758"/>
                  </a:lnTo>
                  <a:lnTo>
                    <a:pt x="1593" y="3893"/>
                  </a:lnTo>
                  <a:lnTo>
                    <a:pt x="1645" y="4026"/>
                  </a:lnTo>
                  <a:lnTo>
                    <a:pt x="1698" y="4161"/>
                  </a:lnTo>
                  <a:lnTo>
                    <a:pt x="1747" y="4296"/>
                  </a:lnTo>
                  <a:lnTo>
                    <a:pt x="1797" y="4431"/>
                  </a:lnTo>
                  <a:lnTo>
                    <a:pt x="1845" y="4566"/>
                  </a:lnTo>
                  <a:lnTo>
                    <a:pt x="1891" y="4699"/>
                  </a:lnTo>
                  <a:lnTo>
                    <a:pt x="1935" y="4834"/>
                  </a:lnTo>
                  <a:lnTo>
                    <a:pt x="1979" y="4969"/>
                  </a:lnTo>
                  <a:lnTo>
                    <a:pt x="2021" y="5104"/>
                  </a:lnTo>
                  <a:lnTo>
                    <a:pt x="2062" y="5239"/>
                  </a:lnTo>
                  <a:lnTo>
                    <a:pt x="2101" y="5372"/>
                  </a:lnTo>
                  <a:lnTo>
                    <a:pt x="2139" y="5507"/>
                  </a:lnTo>
                  <a:lnTo>
                    <a:pt x="2177" y="5642"/>
                  </a:lnTo>
                  <a:lnTo>
                    <a:pt x="2211" y="5777"/>
                  </a:lnTo>
                  <a:lnTo>
                    <a:pt x="2246" y="5912"/>
                  </a:lnTo>
                  <a:lnTo>
                    <a:pt x="2279" y="6045"/>
                  </a:lnTo>
                  <a:lnTo>
                    <a:pt x="2312" y="6180"/>
                  </a:lnTo>
                  <a:lnTo>
                    <a:pt x="2343" y="6315"/>
                  </a:lnTo>
                  <a:lnTo>
                    <a:pt x="2374" y="6450"/>
                  </a:lnTo>
                  <a:lnTo>
                    <a:pt x="2404" y="6585"/>
                  </a:lnTo>
                  <a:lnTo>
                    <a:pt x="2432" y="6718"/>
                  </a:lnTo>
                </a:path>
              </a:pathLst>
            </a:custGeom>
            <a:noFill/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826560" y="547056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ecece"/>
                </a:solidFill>
                <a:latin typeface="Times New Roman"/>
              </a:rPr>
              <a:t>5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26560" y="440208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ecece"/>
                </a:solidFill>
                <a:latin typeface="Times New Roman"/>
              </a:rPr>
              <a:t>4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826560" y="333360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ecece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26560" y="226692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ecece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26560" y="119844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ecece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rot="16200000">
            <a:off x="-342720" y="2708280"/>
            <a:ext cx="1471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cecece"/>
                </a:solidFill>
                <a:latin typeface="Times New Roman"/>
              </a:rPr>
              <a:t>Depth (m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776960" y="6278400"/>
            <a:ext cx="2929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cecece"/>
                </a:solidFill>
                <a:latin typeface="Times New Roman"/>
              </a:rPr>
              <a:t>Relative catchability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029960" y="1522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cecece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1419120" y="336600"/>
            <a:ext cx="3636720" cy="2101320"/>
            <a:chOff x="1419120" y="336600"/>
            <a:chExt cx="3636720" cy="2101320"/>
          </a:xfrm>
        </p:grpSpPr>
        <p:sp>
          <p:nvSpPr>
            <p:cNvPr id="1116" name=""/>
            <p:cNvSpPr/>
            <p:nvPr/>
          </p:nvSpPr>
          <p:spPr>
            <a:xfrm>
              <a:off x="1419120" y="750600"/>
              <a:ext cx="132480" cy="31572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444120" y="336600"/>
              <a:ext cx="1571760" cy="1876320"/>
            </a:xfrm>
            <a:custGeom>
              <a:avLst/>
              <a:gdLst/>
              <a:ahLst/>
              <a:rect l="l" t="t" r="r" b="b"/>
              <a:pathLst>
                <a:path w="432" h="720">
                  <a:moveTo>
                    <a:pt x="0" y="720"/>
                  </a:moveTo>
                  <a:cubicBezTo>
                    <a:pt x="239" y="720"/>
                    <a:pt x="432" y="398"/>
                    <a:pt x="432" y="0"/>
                  </a:cubicBezTo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475640" y="380880"/>
              <a:ext cx="1968120" cy="1831680"/>
            </a:xfrm>
            <a:custGeom>
              <a:avLst/>
              <a:gdLst/>
              <a:ahLst/>
              <a:rect l="l" t="t" r="r" b="b"/>
              <a:pathLst>
                <a:path w="540" h="720">
                  <a:moveTo>
                    <a:pt x="540" y="720"/>
                  </a:moveTo>
                  <a:cubicBezTo>
                    <a:pt x="242" y="720"/>
                    <a:pt x="0" y="398"/>
                    <a:pt x="0" y="0"/>
                  </a:cubicBezTo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810800" y="1512720"/>
              <a:ext cx="132120" cy="31572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40680" y="2122200"/>
              <a:ext cx="131040" cy="31572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44720" y="1512720"/>
              <a:ext cx="98280" cy="31572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929760" y="2122200"/>
              <a:ext cx="98280" cy="31572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957560" y="739440"/>
              <a:ext cx="98280" cy="31572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1398600" y="285840"/>
            <a:ext cx="3692160" cy="5276880"/>
            <a:chOff x="1398600" y="285840"/>
            <a:chExt cx="3692160" cy="5276880"/>
          </a:xfrm>
        </p:grpSpPr>
        <p:sp>
          <p:nvSpPr>
            <p:cNvPr id="1125" name=""/>
            <p:cNvSpPr/>
            <p:nvPr/>
          </p:nvSpPr>
          <p:spPr>
            <a:xfrm>
              <a:off x="3470400" y="285840"/>
              <a:ext cx="1592640" cy="4880160"/>
            </a:xfrm>
            <a:custGeom>
              <a:avLst/>
              <a:gdLst/>
              <a:ahLst/>
              <a:rect l="l" t="t" r="r" b="b"/>
              <a:pathLst>
                <a:path w="432" h="720">
                  <a:moveTo>
                    <a:pt x="0" y="720"/>
                  </a:moveTo>
                  <a:cubicBezTo>
                    <a:pt x="239" y="720"/>
                    <a:pt x="432" y="398"/>
                    <a:pt x="432" y="0"/>
                  </a:cubicBezTo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478520" y="401760"/>
              <a:ext cx="1991880" cy="4764240"/>
            </a:xfrm>
            <a:custGeom>
              <a:avLst/>
              <a:gdLst/>
              <a:ahLst/>
              <a:rect l="l" t="t" r="r" b="b"/>
              <a:pathLst>
                <a:path w="540" h="720">
                  <a:moveTo>
                    <a:pt x="540" y="720"/>
                  </a:moveTo>
                  <a:cubicBezTo>
                    <a:pt x="242" y="720"/>
                    <a:pt x="0" y="398"/>
                    <a:pt x="0" y="0"/>
                  </a:cubicBezTo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072960" y="5123160"/>
              <a:ext cx="79560" cy="43956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576880" y="4742280"/>
              <a:ext cx="79560" cy="43812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149920" y="4131000"/>
              <a:ext cx="79560" cy="43956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888560" y="3443400"/>
              <a:ext cx="79560" cy="43992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675080" y="2737080"/>
              <a:ext cx="79560" cy="43992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518120" y="1973520"/>
              <a:ext cx="79920" cy="43956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960800" y="2049840"/>
              <a:ext cx="65520" cy="43812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026680" y="1133640"/>
              <a:ext cx="64080" cy="43812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026680" y="533520"/>
              <a:ext cx="64080" cy="43812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667040" y="3521160"/>
              <a:ext cx="64080" cy="43848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408920" y="4208760"/>
              <a:ext cx="65880" cy="43812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77360" y="4820040"/>
              <a:ext cx="65880" cy="43812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36440" y="5104080"/>
              <a:ext cx="64080" cy="43812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438560" y="1133640"/>
              <a:ext cx="79560" cy="43992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398600" y="533520"/>
              <a:ext cx="79920" cy="43992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2608200" y="260280"/>
            <a:ext cx="1772640" cy="5334120"/>
            <a:chOff x="2608200" y="260280"/>
            <a:chExt cx="1772640" cy="5334120"/>
          </a:xfrm>
        </p:grpSpPr>
        <p:sp>
          <p:nvSpPr>
            <p:cNvPr id="1143" name=""/>
            <p:cNvSpPr/>
            <p:nvPr/>
          </p:nvSpPr>
          <p:spPr>
            <a:xfrm>
              <a:off x="2736720" y="260280"/>
              <a:ext cx="1003320" cy="5334120"/>
            </a:xfrm>
            <a:custGeom>
              <a:avLst/>
              <a:gdLst/>
              <a:ahLst/>
              <a:rect l="l" t="t" r="r" b="b"/>
              <a:pathLst>
                <a:path w="1263" h="6718">
                  <a:moveTo>
                    <a:pt x="283" y="0"/>
                  </a:moveTo>
                  <a:lnTo>
                    <a:pt x="230" y="125"/>
                  </a:lnTo>
                  <a:lnTo>
                    <a:pt x="179" y="258"/>
                  </a:lnTo>
                  <a:lnTo>
                    <a:pt x="136" y="393"/>
                  </a:lnTo>
                  <a:lnTo>
                    <a:pt x="100" y="528"/>
                  </a:lnTo>
                  <a:lnTo>
                    <a:pt x="69" y="663"/>
                  </a:lnTo>
                  <a:lnTo>
                    <a:pt x="46" y="796"/>
                  </a:lnTo>
                  <a:lnTo>
                    <a:pt x="28" y="931"/>
                  </a:lnTo>
                  <a:lnTo>
                    <a:pt x="15" y="1066"/>
                  </a:lnTo>
                  <a:lnTo>
                    <a:pt x="5" y="1201"/>
                  </a:lnTo>
                  <a:lnTo>
                    <a:pt x="1" y="1336"/>
                  </a:lnTo>
                  <a:lnTo>
                    <a:pt x="0" y="1469"/>
                  </a:lnTo>
                  <a:lnTo>
                    <a:pt x="1" y="1604"/>
                  </a:lnTo>
                  <a:lnTo>
                    <a:pt x="6" y="1739"/>
                  </a:lnTo>
                  <a:lnTo>
                    <a:pt x="13" y="1874"/>
                  </a:lnTo>
                  <a:lnTo>
                    <a:pt x="20" y="2009"/>
                  </a:lnTo>
                  <a:lnTo>
                    <a:pt x="29" y="2142"/>
                  </a:lnTo>
                  <a:lnTo>
                    <a:pt x="41" y="2277"/>
                  </a:lnTo>
                  <a:lnTo>
                    <a:pt x="52" y="2412"/>
                  </a:lnTo>
                  <a:lnTo>
                    <a:pt x="66" y="2547"/>
                  </a:lnTo>
                  <a:lnTo>
                    <a:pt x="80" y="2682"/>
                  </a:lnTo>
                  <a:lnTo>
                    <a:pt x="99" y="2815"/>
                  </a:lnTo>
                  <a:lnTo>
                    <a:pt x="117" y="2950"/>
                  </a:lnTo>
                  <a:lnTo>
                    <a:pt x="136" y="3085"/>
                  </a:lnTo>
                  <a:lnTo>
                    <a:pt x="158" y="3220"/>
                  </a:lnTo>
                  <a:lnTo>
                    <a:pt x="181" y="3355"/>
                  </a:lnTo>
                  <a:lnTo>
                    <a:pt x="207" y="3488"/>
                  </a:lnTo>
                  <a:lnTo>
                    <a:pt x="235" y="3623"/>
                  </a:lnTo>
                  <a:lnTo>
                    <a:pt x="265" y="3758"/>
                  </a:lnTo>
                  <a:lnTo>
                    <a:pt x="296" y="3893"/>
                  </a:lnTo>
                  <a:lnTo>
                    <a:pt x="329" y="4026"/>
                  </a:lnTo>
                  <a:lnTo>
                    <a:pt x="363" y="4161"/>
                  </a:lnTo>
                  <a:lnTo>
                    <a:pt x="401" y="4296"/>
                  </a:lnTo>
                  <a:lnTo>
                    <a:pt x="439" y="4431"/>
                  </a:lnTo>
                  <a:lnTo>
                    <a:pt x="480" y="4566"/>
                  </a:lnTo>
                  <a:lnTo>
                    <a:pt x="521" y="4699"/>
                  </a:lnTo>
                  <a:lnTo>
                    <a:pt x="564" y="4834"/>
                  </a:lnTo>
                  <a:lnTo>
                    <a:pt x="607" y="4969"/>
                  </a:lnTo>
                  <a:lnTo>
                    <a:pt x="651" y="5104"/>
                  </a:lnTo>
                  <a:lnTo>
                    <a:pt x="697" y="5239"/>
                  </a:lnTo>
                  <a:lnTo>
                    <a:pt x="745" y="5372"/>
                  </a:lnTo>
                  <a:lnTo>
                    <a:pt x="793" y="5507"/>
                  </a:lnTo>
                  <a:lnTo>
                    <a:pt x="841" y="5642"/>
                  </a:lnTo>
                  <a:lnTo>
                    <a:pt x="890" y="5777"/>
                  </a:lnTo>
                  <a:lnTo>
                    <a:pt x="941" y="5912"/>
                  </a:lnTo>
                  <a:lnTo>
                    <a:pt x="992" y="6045"/>
                  </a:lnTo>
                  <a:lnTo>
                    <a:pt x="1043" y="6180"/>
                  </a:lnTo>
                  <a:lnTo>
                    <a:pt x="1097" y="6315"/>
                  </a:lnTo>
                  <a:lnTo>
                    <a:pt x="1152" y="6450"/>
                  </a:lnTo>
                  <a:lnTo>
                    <a:pt x="1207" y="6585"/>
                  </a:lnTo>
                  <a:lnTo>
                    <a:pt x="1263" y="6718"/>
                  </a:lnTo>
                </a:path>
              </a:pathLst>
            </a:custGeom>
            <a:noFill/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608200" y="260280"/>
              <a:ext cx="390240" cy="5334120"/>
            </a:xfrm>
            <a:custGeom>
              <a:avLst/>
              <a:gdLst/>
              <a:ahLst/>
              <a:rect l="l" t="t" r="r" b="b"/>
              <a:pathLst>
                <a:path w="492" h="6718">
                  <a:moveTo>
                    <a:pt x="0" y="0"/>
                  </a:moveTo>
                  <a:lnTo>
                    <a:pt x="3" y="125"/>
                  </a:lnTo>
                  <a:lnTo>
                    <a:pt x="6" y="258"/>
                  </a:lnTo>
                  <a:lnTo>
                    <a:pt x="9" y="393"/>
                  </a:lnTo>
                  <a:lnTo>
                    <a:pt x="13" y="528"/>
                  </a:lnTo>
                  <a:lnTo>
                    <a:pt x="16" y="663"/>
                  </a:lnTo>
                  <a:lnTo>
                    <a:pt x="18" y="796"/>
                  </a:lnTo>
                  <a:lnTo>
                    <a:pt x="19" y="931"/>
                  </a:lnTo>
                  <a:lnTo>
                    <a:pt x="19" y="1066"/>
                  </a:lnTo>
                  <a:lnTo>
                    <a:pt x="19" y="1201"/>
                  </a:lnTo>
                  <a:lnTo>
                    <a:pt x="19" y="1336"/>
                  </a:lnTo>
                  <a:lnTo>
                    <a:pt x="21" y="1469"/>
                  </a:lnTo>
                  <a:lnTo>
                    <a:pt x="23" y="1604"/>
                  </a:lnTo>
                  <a:lnTo>
                    <a:pt x="24" y="1739"/>
                  </a:lnTo>
                  <a:lnTo>
                    <a:pt x="29" y="1874"/>
                  </a:lnTo>
                  <a:lnTo>
                    <a:pt x="34" y="2009"/>
                  </a:lnTo>
                  <a:lnTo>
                    <a:pt x="41" y="2142"/>
                  </a:lnTo>
                  <a:lnTo>
                    <a:pt x="49" y="2277"/>
                  </a:lnTo>
                  <a:lnTo>
                    <a:pt x="59" y="2412"/>
                  </a:lnTo>
                  <a:lnTo>
                    <a:pt x="70" y="2547"/>
                  </a:lnTo>
                  <a:lnTo>
                    <a:pt x="83" y="2682"/>
                  </a:lnTo>
                  <a:lnTo>
                    <a:pt x="97" y="2815"/>
                  </a:lnTo>
                  <a:lnTo>
                    <a:pt x="111" y="2950"/>
                  </a:lnTo>
                  <a:lnTo>
                    <a:pt x="126" y="3085"/>
                  </a:lnTo>
                  <a:lnTo>
                    <a:pt x="143" y="3220"/>
                  </a:lnTo>
                  <a:lnTo>
                    <a:pt x="159" y="3355"/>
                  </a:lnTo>
                  <a:lnTo>
                    <a:pt x="176" y="3488"/>
                  </a:lnTo>
                  <a:lnTo>
                    <a:pt x="192" y="3623"/>
                  </a:lnTo>
                  <a:lnTo>
                    <a:pt x="210" y="3758"/>
                  </a:lnTo>
                  <a:lnTo>
                    <a:pt x="227" y="3893"/>
                  </a:lnTo>
                  <a:lnTo>
                    <a:pt x="243" y="4026"/>
                  </a:lnTo>
                  <a:lnTo>
                    <a:pt x="261" y="4161"/>
                  </a:lnTo>
                  <a:lnTo>
                    <a:pt x="278" y="4296"/>
                  </a:lnTo>
                  <a:lnTo>
                    <a:pt x="294" y="4431"/>
                  </a:lnTo>
                  <a:lnTo>
                    <a:pt x="311" y="4566"/>
                  </a:lnTo>
                  <a:lnTo>
                    <a:pt x="329" y="4699"/>
                  </a:lnTo>
                  <a:lnTo>
                    <a:pt x="345" y="4834"/>
                  </a:lnTo>
                  <a:lnTo>
                    <a:pt x="362" y="4969"/>
                  </a:lnTo>
                  <a:lnTo>
                    <a:pt x="376" y="5104"/>
                  </a:lnTo>
                  <a:lnTo>
                    <a:pt x="393" y="5239"/>
                  </a:lnTo>
                  <a:lnTo>
                    <a:pt x="408" y="5372"/>
                  </a:lnTo>
                  <a:lnTo>
                    <a:pt x="422" y="5507"/>
                  </a:lnTo>
                  <a:lnTo>
                    <a:pt x="436" y="5642"/>
                  </a:lnTo>
                  <a:lnTo>
                    <a:pt x="449" y="5777"/>
                  </a:lnTo>
                  <a:lnTo>
                    <a:pt x="460" y="5912"/>
                  </a:lnTo>
                  <a:lnTo>
                    <a:pt x="470" y="6045"/>
                  </a:lnTo>
                  <a:lnTo>
                    <a:pt x="478" y="6180"/>
                  </a:lnTo>
                  <a:lnTo>
                    <a:pt x="485" y="6315"/>
                  </a:lnTo>
                  <a:lnTo>
                    <a:pt x="490" y="6450"/>
                  </a:lnTo>
                  <a:lnTo>
                    <a:pt x="492" y="6585"/>
                  </a:lnTo>
                  <a:lnTo>
                    <a:pt x="490" y="6718"/>
                  </a:lnTo>
                </a:path>
              </a:pathLst>
            </a:custGeom>
            <a:noFill/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569400" y="568440"/>
              <a:ext cx="81144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800"/>
              </a:br>
              <a:r>
                <a:rPr b="0" lang="en-AU" sz="2800" spc="-1" strike="noStrike">
                  <a:solidFill>
                    <a:srgbClr val="fafd00"/>
                  </a:solidFill>
                  <a:latin typeface="Times New Roman"/>
                </a:rPr>
                <a:t>Night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680920" y="260280"/>
              <a:ext cx="650880" cy="5334120"/>
            </a:xfrm>
            <a:custGeom>
              <a:avLst/>
              <a:gdLst/>
              <a:ahLst/>
              <a:rect l="l" t="t" r="r" b="b"/>
              <a:pathLst>
                <a:path w="821" h="6718">
                  <a:moveTo>
                    <a:pt x="117" y="0"/>
                  </a:moveTo>
                  <a:lnTo>
                    <a:pt x="95" y="125"/>
                  </a:lnTo>
                  <a:lnTo>
                    <a:pt x="74" y="258"/>
                  </a:lnTo>
                  <a:lnTo>
                    <a:pt x="58" y="393"/>
                  </a:lnTo>
                  <a:lnTo>
                    <a:pt x="43" y="528"/>
                  </a:lnTo>
                  <a:lnTo>
                    <a:pt x="30" y="663"/>
                  </a:lnTo>
                  <a:lnTo>
                    <a:pt x="20" y="796"/>
                  </a:lnTo>
                  <a:lnTo>
                    <a:pt x="12" y="931"/>
                  </a:lnTo>
                  <a:lnTo>
                    <a:pt x="5" y="1066"/>
                  </a:lnTo>
                  <a:lnTo>
                    <a:pt x="2" y="1201"/>
                  </a:lnTo>
                  <a:lnTo>
                    <a:pt x="0" y="1336"/>
                  </a:lnTo>
                  <a:lnTo>
                    <a:pt x="0" y="1469"/>
                  </a:lnTo>
                  <a:lnTo>
                    <a:pt x="2" y="1604"/>
                  </a:lnTo>
                  <a:lnTo>
                    <a:pt x="5" y="1739"/>
                  </a:lnTo>
                  <a:lnTo>
                    <a:pt x="10" y="1874"/>
                  </a:lnTo>
                  <a:lnTo>
                    <a:pt x="17" y="2009"/>
                  </a:lnTo>
                  <a:lnTo>
                    <a:pt x="25" y="2142"/>
                  </a:lnTo>
                  <a:lnTo>
                    <a:pt x="33" y="2277"/>
                  </a:lnTo>
                  <a:lnTo>
                    <a:pt x="44" y="2412"/>
                  </a:lnTo>
                  <a:lnTo>
                    <a:pt x="58" y="2547"/>
                  </a:lnTo>
                  <a:lnTo>
                    <a:pt x="71" y="2682"/>
                  </a:lnTo>
                  <a:lnTo>
                    <a:pt x="86" y="2815"/>
                  </a:lnTo>
                  <a:lnTo>
                    <a:pt x="102" y="2950"/>
                  </a:lnTo>
                  <a:lnTo>
                    <a:pt x="120" y="3085"/>
                  </a:lnTo>
                  <a:lnTo>
                    <a:pt x="138" y="3220"/>
                  </a:lnTo>
                  <a:lnTo>
                    <a:pt x="158" y="3355"/>
                  </a:lnTo>
                  <a:lnTo>
                    <a:pt x="179" y="3488"/>
                  </a:lnTo>
                  <a:lnTo>
                    <a:pt x="201" y="3623"/>
                  </a:lnTo>
                  <a:lnTo>
                    <a:pt x="224" y="3758"/>
                  </a:lnTo>
                  <a:lnTo>
                    <a:pt x="249" y="3893"/>
                  </a:lnTo>
                  <a:lnTo>
                    <a:pt x="273" y="4026"/>
                  </a:lnTo>
                  <a:lnTo>
                    <a:pt x="298" y="4161"/>
                  </a:lnTo>
                  <a:lnTo>
                    <a:pt x="324" y="4296"/>
                  </a:lnTo>
                  <a:lnTo>
                    <a:pt x="352" y="4431"/>
                  </a:lnTo>
                  <a:lnTo>
                    <a:pt x="378" y="4566"/>
                  </a:lnTo>
                  <a:lnTo>
                    <a:pt x="406" y="4699"/>
                  </a:lnTo>
                  <a:lnTo>
                    <a:pt x="436" y="4834"/>
                  </a:lnTo>
                  <a:lnTo>
                    <a:pt x="464" y="4969"/>
                  </a:lnTo>
                  <a:lnTo>
                    <a:pt x="494" y="5104"/>
                  </a:lnTo>
                  <a:lnTo>
                    <a:pt x="523" y="5239"/>
                  </a:lnTo>
                  <a:lnTo>
                    <a:pt x="551" y="5372"/>
                  </a:lnTo>
                  <a:lnTo>
                    <a:pt x="581" y="5507"/>
                  </a:lnTo>
                  <a:lnTo>
                    <a:pt x="610" y="5642"/>
                  </a:lnTo>
                  <a:lnTo>
                    <a:pt x="638" y="5777"/>
                  </a:lnTo>
                  <a:lnTo>
                    <a:pt x="668" y="5912"/>
                  </a:lnTo>
                  <a:lnTo>
                    <a:pt x="696" y="6045"/>
                  </a:lnTo>
                  <a:lnTo>
                    <a:pt x="722" y="6180"/>
                  </a:lnTo>
                  <a:lnTo>
                    <a:pt x="749" y="6315"/>
                  </a:lnTo>
                  <a:lnTo>
                    <a:pt x="775" y="6450"/>
                  </a:lnTo>
                  <a:lnTo>
                    <a:pt x="798" y="6585"/>
                  </a:lnTo>
                  <a:lnTo>
                    <a:pt x="821" y="6718"/>
                  </a:lnTo>
                </a:path>
              </a:pathLst>
            </a:custGeom>
            <a:noFill/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1473480" y="304920"/>
            <a:ext cx="3644640" cy="5333760"/>
            <a:chOff x="1473480" y="304920"/>
            <a:chExt cx="3644640" cy="5333760"/>
          </a:xfrm>
        </p:grpSpPr>
        <p:sp>
          <p:nvSpPr>
            <p:cNvPr id="1148" name=""/>
            <p:cNvSpPr/>
            <p:nvPr/>
          </p:nvSpPr>
          <p:spPr>
            <a:xfrm>
              <a:off x="2078280" y="304920"/>
              <a:ext cx="3039840" cy="5333760"/>
            </a:xfrm>
            <a:custGeom>
              <a:avLst/>
              <a:gdLst/>
              <a:ahLst/>
              <a:rect l="l" t="t" r="r" b="b"/>
              <a:pathLst>
                <a:path w="3830" h="6718">
                  <a:moveTo>
                    <a:pt x="3830" y="0"/>
                  </a:moveTo>
                  <a:lnTo>
                    <a:pt x="3614" y="125"/>
                  </a:lnTo>
                  <a:lnTo>
                    <a:pt x="3394" y="258"/>
                  </a:lnTo>
                  <a:lnTo>
                    <a:pt x="3188" y="393"/>
                  </a:lnTo>
                  <a:lnTo>
                    <a:pt x="2996" y="528"/>
                  </a:lnTo>
                  <a:lnTo>
                    <a:pt x="2815" y="663"/>
                  </a:lnTo>
                  <a:lnTo>
                    <a:pt x="2647" y="796"/>
                  </a:lnTo>
                  <a:lnTo>
                    <a:pt x="2489" y="931"/>
                  </a:lnTo>
                  <a:lnTo>
                    <a:pt x="2341" y="1066"/>
                  </a:lnTo>
                  <a:lnTo>
                    <a:pt x="2204" y="1201"/>
                  </a:lnTo>
                  <a:lnTo>
                    <a:pt x="2074" y="1336"/>
                  </a:lnTo>
                  <a:lnTo>
                    <a:pt x="1954" y="1469"/>
                  </a:lnTo>
                  <a:lnTo>
                    <a:pt x="1841" y="1604"/>
                  </a:lnTo>
                  <a:lnTo>
                    <a:pt x="1734" y="1739"/>
                  </a:lnTo>
                  <a:lnTo>
                    <a:pt x="1632" y="1874"/>
                  </a:lnTo>
                  <a:lnTo>
                    <a:pt x="1535" y="2009"/>
                  </a:lnTo>
                  <a:lnTo>
                    <a:pt x="1443" y="2142"/>
                  </a:lnTo>
                  <a:lnTo>
                    <a:pt x="1355" y="2277"/>
                  </a:lnTo>
                  <a:lnTo>
                    <a:pt x="1271" y="2412"/>
                  </a:lnTo>
                  <a:lnTo>
                    <a:pt x="1189" y="2547"/>
                  </a:lnTo>
                  <a:lnTo>
                    <a:pt x="1113" y="2682"/>
                  </a:lnTo>
                  <a:lnTo>
                    <a:pt x="1039" y="2815"/>
                  </a:lnTo>
                  <a:lnTo>
                    <a:pt x="969" y="2950"/>
                  </a:lnTo>
                  <a:lnTo>
                    <a:pt x="901" y="3085"/>
                  </a:lnTo>
                  <a:lnTo>
                    <a:pt x="837" y="3220"/>
                  </a:lnTo>
                  <a:lnTo>
                    <a:pt x="775" y="3355"/>
                  </a:lnTo>
                  <a:lnTo>
                    <a:pt x="717" y="3488"/>
                  </a:lnTo>
                  <a:lnTo>
                    <a:pt x="661" y="3623"/>
                  </a:lnTo>
                  <a:lnTo>
                    <a:pt x="610" y="3758"/>
                  </a:lnTo>
                  <a:lnTo>
                    <a:pt x="559" y="3893"/>
                  </a:lnTo>
                  <a:lnTo>
                    <a:pt x="513" y="4026"/>
                  </a:lnTo>
                  <a:lnTo>
                    <a:pt x="468" y="4161"/>
                  </a:lnTo>
                  <a:lnTo>
                    <a:pt x="426" y="4296"/>
                  </a:lnTo>
                  <a:lnTo>
                    <a:pt x="386" y="4431"/>
                  </a:lnTo>
                  <a:lnTo>
                    <a:pt x="350" y="4566"/>
                  </a:lnTo>
                  <a:lnTo>
                    <a:pt x="315" y="4699"/>
                  </a:lnTo>
                  <a:lnTo>
                    <a:pt x="283" y="4834"/>
                  </a:lnTo>
                  <a:lnTo>
                    <a:pt x="251" y="4969"/>
                  </a:lnTo>
                  <a:lnTo>
                    <a:pt x="223" y="5104"/>
                  </a:lnTo>
                  <a:lnTo>
                    <a:pt x="195" y="5239"/>
                  </a:lnTo>
                  <a:lnTo>
                    <a:pt x="171" y="5372"/>
                  </a:lnTo>
                  <a:lnTo>
                    <a:pt x="146" y="5507"/>
                  </a:lnTo>
                  <a:lnTo>
                    <a:pt x="125" y="5642"/>
                  </a:lnTo>
                  <a:lnTo>
                    <a:pt x="105" y="5777"/>
                  </a:lnTo>
                  <a:lnTo>
                    <a:pt x="85" y="5912"/>
                  </a:lnTo>
                  <a:lnTo>
                    <a:pt x="67" y="6045"/>
                  </a:lnTo>
                  <a:lnTo>
                    <a:pt x="51" y="6180"/>
                  </a:lnTo>
                  <a:lnTo>
                    <a:pt x="36" y="6315"/>
                  </a:lnTo>
                  <a:lnTo>
                    <a:pt x="23" y="6450"/>
                  </a:lnTo>
                  <a:lnTo>
                    <a:pt x="9" y="6585"/>
                  </a:lnTo>
                  <a:lnTo>
                    <a:pt x="0" y="6718"/>
                  </a:lnTo>
                </a:path>
              </a:pathLst>
            </a:custGeom>
            <a:noFill/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009880" y="304920"/>
              <a:ext cx="2295720" cy="5333760"/>
            </a:xfrm>
            <a:custGeom>
              <a:avLst/>
              <a:gdLst/>
              <a:ahLst/>
              <a:rect l="l" t="t" r="r" b="b"/>
              <a:pathLst>
                <a:path w="2893" h="6718">
                  <a:moveTo>
                    <a:pt x="2893" y="0"/>
                  </a:moveTo>
                  <a:lnTo>
                    <a:pt x="2811" y="125"/>
                  </a:lnTo>
                  <a:lnTo>
                    <a:pt x="2718" y="258"/>
                  </a:lnTo>
                  <a:lnTo>
                    <a:pt x="2623" y="393"/>
                  </a:lnTo>
                  <a:lnTo>
                    <a:pt x="2526" y="528"/>
                  </a:lnTo>
                  <a:lnTo>
                    <a:pt x="2429" y="663"/>
                  </a:lnTo>
                  <a:lnTo>
                    <a:pt x="2328" y="796"/>
                  </a:lnTo>
                  <a:lnTo>
                    <a:pt x="2226" y="931"/>
                  </a:lnTo>
                  <a:lnTo>
                    <a:pt x="2126" y="1066"/>
                  </a:lnTo>
                  <a:lnTo>
                    <a:pt x="2024" y="1201"/>
                  </a:lnTo>
                  <a:lnTo>
                    <a:pt x="1922" y="1336"/>
                  </a:lnTo>
                  <a:lnTo>
                    <a:pt x="1822" y="1469"/>
                  </a:lnTo>
                  <a:lnTo>
                    <a:pt x="1725" y="1604"/>
                  </a:lnTo>
                  <a:lnTo>
                    <a:pt x="1628" y="1739"/>
                  </a:lnTo>
                  <a:lnTo>
                    <a:pt x="1534" y="1874"/>
                  </a:lnTo>
                  <a:lnTo>
                    <a:pt x="1443" y="2009"/>
                  </a:lnTo>
                  <a:lnTo>
                    <a:pt x="1358" y="2142"/>
                  </a:lnTo>
                  <a:lnTo>
                    <a:pt x="1274" y="2277"/>
                  </a:lnTo>
                  <a:lnTo>
                    <a:pt x="1195" y="2412"/>
                  </a:lnTo>
                  <a:lnTo>
                    <a:pt x="1119" y="2547"/>
                  </a:lnTo>
                  <a:lnTo>
                    <a:pt x="1047" y="2682"/>
                  </a:lnTo>
                  <a:lnTo>
                    <a:pt x="978" y="2815"/>
                  </a:lnTo>
                  <a:lnTo>
                    <a:pt x="914" y="2950"/>
                  </a:lnTo>
                  <a:lnTo>
                    <a:pt x="851" y="3085"/>
                  </a:lnTo>
                  <a:lnTo>
                    <a:pt x="793" y="3220"/>
                  </a:lnTo>
                  <a:lnTo>
                    <a:pt x="737" y="3355"/>
                  </a:lnTo>
                  <a:lnTo>
                    <a:pt x="683" y="3488"/>
                  </a:lnTo>
                  <a:lnTo>
                    <a:pt x="634" y="3623"/>
                  </a:lnTo>
                  <a:lnTo>
                    <a:pt x="586" y="3758"/>
                  </a:lnTo>
                  <a:lnTo>
                    <a:pt x="540" y="3893"/>
                  </a:lnTo>
                  <a:lnTo>
                    <a:pt x="497" y="4026"/>
                  </a:lnTo>
                  <a:lnTo>
                    <a:pt x="456" y="4161"/>
                  </a:lnTo>
                  <a:lnTo>
                    <a:pt x="417" y="4296"/>
                  </a:lnTo>
                  <a:lnTo>
                    <a:pt x="379" y="4431"/>
                  </a:lnTo>
                  <a:lnTo>
                    <a:pt x="344" y="4566"/>
                  </a:lnTo>
                  <a:lnTo>
                    <a:pt x="311" y="4699"/>
                  </a:lnTo>
                  <a:lnTo>
                    <a:pt x="280" y="4834"/>
                  </a:lnTo>
                  <a:lnTo>
                    <a:pt x="249" y="4969"/>
                  </a:lnTo>
                  <a:lnTo>
                    <a:pt x="221" y="5104"/>
                  </a:lnTo>
                  <a:lnTo>
                    <a:pt x="195" y="5239"/>
                  </a:lnTo>
                  <a:lnTo>
                    <a:pt x="170" y="5372"/>
                  </a:lnTo>
                  <a:lnTo>
                    <a:pt x="147" y="5507"/>
                  </a:lnTo>
                  <a:lnTo>
                    <a:pt x="125" y="5642"/>
                  </a:lnTo>
                  <a:lnTo>
                    <a:pt x="104" y="5777"/>
                  </a:lnTo>
                  <a:lnTo>
                    <a:pt x="86" y="5912"/>
                  </a:lnTo>
                  <a:lnTo>
                    <a:pt x="68" y="6045"/>
                  </a:lnTo>
                  <a:lnTo>
                    <a:pt x="51" y="6180"/>
                  </a:lnTo>
                  <a:lnTo>
                    <a:pt x="37" y="6315"/>
                  </a:lnTo>
                  <a:lnTo>
                    <a:pt x="23" y="6450"/>
                  </a:lnTo>
                  <a:lnTo>
                    <a:pt x="12" y="6585"/>
                  </a:lnTo>
                  <a:lnTo>
                    <a:pt x="0" y="6718"/>
                  </a:lnTo>
                </a:path>
              </a:pathLst>
            </a:custGeom>
            <a:noFill/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043360" y="304920"/>
              <a:ext cx="2643120" cy="5333760"/>
            </a:xfrm>
            <a:custGeom>
              <a:avLst/>
              <a:gdLst/>
              <a:ahLst/>
              <a:rect l="l" t="t" r="r" b="b"/>
              <a:pathLst>
                <a:path w="3330" h="6718">
                  <a:moveTo>
                    <a:pt x="3330" y="0"/>
                  </a:moveTo>
                  <a:lnTo>
                    <a:pt x="3189" y="125"/>
                  </a:lnTo>
                  <a:lnTo>
                    <a:pt x="3037" y="258"/>
                  </a:lnTo>
                  <a:lnTo>
                    <a:pt x="2893" y="393"/>
                  </a:lnTo>
                  <a:lnTo>
                    <a:pt x="2751" y="528"/>
                  </a:lnTo>
                  <a:lnTo>
                    <a:pt x="2615" y="663"/>
                  </a:lnTo>
                  <a:lnTo>
                    <a:pt x="2481" y="796"/>
                  </a:lnTo>
                  <a:lnTo>
                    <a:pt x="2355" y="931"/>
                  </a:lnTo>
                  <a:lnTo>
                    <a:pt x="2231" y="1066"/>
                  </a:lnTo>
                  <a:lnTo>
                    <a:pt x="2111" y="1201"/>
                  </a:lnTo>
                  <a:lnTo>
                    <a:pt x="1998" y="1336"/>
                  </a:lnTo>
                  <a:lnTo>
                    <a:pt x="1887" y="1469"/>
                  </a:lnTo>
                  <a:lnTo>
                    <a:pt x="1780" y="1604"/>
                  </a:lnTo>
                  <a:lnTo>
                    <a:pt x="1680" y="1739"/>
                  </a:lnTo>
                  <a:lnTo>
                    <a:pt x="1583" y="1874"/>
                  </a:lnTo>
                  <a:lnTo>
                    <a:pt x="1489" y="2009"/>
                  </a:lnTo>
                  <a:lnTo>
                    <a:pt x="1399" y="2142"/>
                  </a:lnTo>
                  <a:lnTo>
                    <a:pt x="1313" y="2277"/>
                  </a:lnTo>
                  <a:lnTo>
                    <a:pt x="1232" y="2412"/>
                  </a:lnTo>
                  <a:lnTo>
                    <a:pt x="1154" y="2547"/>
                  </a:lnTo>
                  <a:lnTo>
                    <a:pt x="1079" y="2682"/>
                  </a:lnTo>
                  <a:lnTo>
                    <a:pt x="1009" y="2815"/>
                  </a:lnTo>
                  <a:lnTo>
                    <a:pt x="940" y="2950"/>
                  </a:lnTo>
                  <a:lnTo>
                    <a:pt x="875" y="3085"/>
                  </a:lnTo>
                  <a:lnTo>
                    <a:pt x="815" y="3220"/>
                  </a:lnTo>
                  <a:lnTo>
                    <a:pt x="755" y="3355"/>
                  </a:lnTo>
                  <a:lnTo>
                    <a:pt x="699" y="3488"/>
                  </a:lnTo>
                  <a:lnTo>
                    <a:pt x="647" y="3623"/>
                  </a:lnTo>
                  <a:lnTo>
                    <a:pt x="597" y="3758"/>
                  </a:lnTo>
                  <a:lnTo>
                    <a:pt x="550" y="3893"/>
                  </a:lnTo>
                  <a:lnTo>
                    <a:pt x="505" y="4026"/>
                  </a:lnTo>
                  <a:lnTo>
                    <a:pt x="462" y="4161"/>
                  </a:lnTo>
                  <a:lnTo>
                    <a:pt x="421" y="4296"/>
                  </a:lnTo>
                  <a:lnTo>
                    <a:pt x="384" y="4431"/>
                  </a:lnTo>
                  <a:lnTo>
                    <a:pt x="347" y="4566"/>
                  </a:lnTo>
                  <a:lnTo>
                    <a:pt x="313" y="4699"/>
                  </a:lnTo>
                  <a:lnTo>
                    <a:pt x="282" y="4834"/>
                  </a:lnTo>
                  <a:lnTo>
                    <a:pt x="250" y="4969"/>
                  </a:lnTo>
                  <a:lnTo>
                    <a:pt x="222" y="5104"/>
                  </a:lnTo>
                  <a:lnTo>
                    <a:pt x="196" y="5239"/>
                  </a:lnTo>
                  <a:lnTo>
                    <a:pt x="170" y="5372"/>
                  </a:lnTo>
                  <a:lnTo>
                    <a:pt x="147" y="5507"/>
                  </a:lnTo>
                  <a:lnTo>
                    <a:pt x="125" y="5642"/>
                  </a:lnTo>
                  <a:lnTo>
                    <a:pt x="104" y="5777"/>
                  </a:lnTo>
                  <a:lnTo>
                    <a:pt x="86" y="5912"/>
                  </a:lnTo>
                  <a:lnTo>
                    <a:pt x="68" y="6045"/>
                  </a:lnTo>
                  <a:lnTo>
                    <a:pt x="51" y="6180"/>
                  </a:lnTo>
                  <a:lnTo>
                    <a:pt x="36" y="6315"/>
                  </a:lnTo>
                  <a:lnTo>
                    <a:pt x="23" y="6450"/>
                  </a:lnTo>
                  <a:lnTo>
                    <a:pt x="10" y="6585"/>
                  </a:lnTo>
                  <a:lnTo>
                    <a:pt x="0" y="6718"/>
                  </a:lnTo>
                </a:path>
              </a:pathLst>
            </a:custGeom>
            <a:noFill/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473480" y="689040"/>
              <a:ext cx="2045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fafd00"/>
                  </a:solidFill>
                  <a:latin typeface="Times New Roman"/>
                </a:rPr>
                <a:t>Striped marlin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2819520" y="326880"/>
            <a:ext cx="2085480" cy="5333760"/>
            <a:chOff x="2819520" y="326880"/>
            <a:chExt cx="2085480" cy="5333760"/>
          </a:xfrm>
        </p:grpSpPr>
        <p:grpSp>
          <p:nvGrpSpPr>
            <p:cNvPr id="1153" name=""/>
            <p:cNvGrpSpPr/>
            <p:nvPr/>
          </p:nvGrpSpPr>
          <p:grpSpPr>
            <a:xfrm>
              <a:off x="2819520" y="326880"/>
              <a:ext cx="264960" cy="5333760"/>
              <a:chOff x="2819520" y="326880"/>
              <a:chExt cx="264960" cy="5333760"/>
            </a:xfrm>
          </p:grpSpPr>
          <p:sp>
            <p:nvSpPr>
              <p:cNvPr id="1154" name=""/>
              <p:cNvSpPr/>
              <p:nvPr/>
            </p:nvSpPr>
            <p:spPr>
              <a:xfrm>
                <a:off x="2948040" y="326880"/>
                <a:ext cx="136440" cy="5333760"/>
              </a:xfrm>
              <a:custGeom>
                <a:avLst/>
                <a:gdLst/>
                <a:ahLst/>
                <a:rect l="l" t="t" r="r" b="b"/>
                <a:pathLst>
                  <a:path w="173" h="6718">
                    <a:moveTo>
                      <a:pt x="173" y="0"/>
                    </a:moveTo>
                    <a:lnTo>
                      <a:pt x="163" y="125"/>
                    </a:lnTo>
                    <a:lnTo>
                      <a:pt x="155" y="258"/>
                    </a:lnTo>
                    <a:lnTo>
                      <a:pt x="147" y="393"/>
                    </a:lnTo>
                    <a:lnTo>
                      <a:pt x="138" y="528"/>
                    </a:lnTo>
                    <a:lnTo>
                      <a:pt x="134" y="663"/>
                    </a:lnTo>
                    <a:lnTo>
                      <a:pt x="129" y="796"/>
                    </a:lnTo>
                    <a:lnTo>
                      <a:pt x="125" y="931"/>
                    </a:lnTo>
                    <a:lnTo>
                      <a:pt x="122" y="1066"/>
                    </a:lnTo>
                    <a:lnTo>
                      <a:pt x="120" y="1201"/>
                    </a:lnTo>
                    <a:lnTo>
                      <a:pt x="120" y="1336"/>
                    </a:lnTo>
                    <a:lnTo>
                      <a:pt x="120" y="1469"/>
                    </a:lnTo>
                    <a:lnTo>
                      <a:pt x="120" y="1604"/>
                    </a:lnTo>
                    <a:lnTo>
                      <a:pt x="122" y="1739"/>
                    </a:lnTo>
                    <a:lnTo>
                      <a:pt x="124" y="1874"/>
                    </a:lnTo>
                    <a:lnTo>
                      <a:pt x="125" y="2009"/>
                    </a:lnTo>
                    <a:lnTo>
                      <a:pt x="129" y="2142"/>
                    </a:lnTo>
                    <a:lnTo>
                      <a:pt x="130" y="2277"/>
                    </a:lnTo>
                    <a:lnTo>
                      <a:pt x="132" y="2412"/>
                    </a:lnTo>
                    <a:lnTo>
                      <a:pt x="132" y="2547"/>
                    </a:lnTo>
                    <a:lnTo>
                      <a:pt x="134" y="2682"/>
                    </a:lnTo>
                    <a:lnTo>
                      <a:pt x="134" y="2815"/>
                    </a:lnTo>
                    <a:lnTo>
                      <a:pt x="134" y="2950"/>
                    </a:lnTo>
                    <a:lnTo>
                      <a:pt x="134" y="3085"/>
                    </a:lnTo>
                    <a:lnTo>
                      <a:pt x="132" y="3220"/>
                    </a:lnTo>
                    <a:lnTo>
                      <a:pt x="130" y="3355"/>
                    </a:lnTo>
                    <a:lnTo>
                      <a:pt x="129" y="3488"/>
                    </a:lnTo>
                    <a:lnTo>
                      <a:pt x="127" y="3623"/>
                    </a:lnTo>
                    <a:lnTo>
                      <a:pt x="124" y="3758"/>
                    </a:lnTo>
                    <a:lnTo>
                      <a:pt x="122" y="3893"/>
                    </a:lnTo>
                    <a:lnTo>
                      <a:pt x="119" y="4026"/>
                    </a:lnTo>
                    <a:lnTo>
                      <a:pt x="115" y="4161"/>
                    </a:lnTo>
                    <a:lnTo>
                      <a:pt x="112" y="4296"/>
                    </a:lnTo>
                    <a:lnTo>
                      <a:pt x="107" y="4431"/>
                    </a:lnTo>
                    <a:lnTo>
                      <a:pt x="104" y="4566"/>
                    </a:lnTo>
                    <a:lnTo>
                      <a:pt x="99" y="4699"/>
                    </a:lnTo>
                    <a:lnTo>
                      <a:pt x="94" y="4834"/>
                    </a:lnTo>
                    <a:lnTo>
                      <a:pt x="89" y="4969"/>
                    </a:lnTo>
                    <a:lnTo>
                      <a:pt x="84" y="5104"/>
                    </a:lnTo>
                    <a:lnTo>
                      <a:pt x="79" y="5239"/>
                    </a:lnTo>
                    <a:lnTo>
                      <a:pt x="73" y="5372"/>
                    </a:lnTo>
                    <a:lnTo>
                      <a:pt x="68" y="5507"/>
                    </a:lnTo>
                    <a:lnTo>
                      <a:pt x="61" y="5642"/>
                    </a:lnTo>
                    <a:lnTo>
                      <a:pt x="55" y="5777"/>
                    </a:lnTo>
                    <a:lnTo>
                      <a:pt x="48" y="5912"/>
                    </a:lnTo>
                    <a:lnTo>
                      <a:pt x="41" y="6045"/>
                    </a:lnTo>
                    <a:lnTo>
                      <a:pt x="33" y="6180"/>
                    </a:lnTo>
                    <a:lnTo>
                      <a:pt x="25" y="6315"/>
                    </a:lnTo>
                    <a:lnTo>
                      <a:pt x="18" y="6450"/>
                    </a:lnTo>
                    <a:lnTo>
                      <a:pt x="9" y="6585"/>
                    </a:lnTo>
                    <a:lnTo>
                      <a:pt x="0" y="6718"/>
                    </a:lnTo>
                  </a:path>
                </a:pathLst>
              </a:custGeom>
              <a:noFill/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819520" y="326880"/>
                <a:ext cx="128520" cy="5333760"/>
              </a:xfrm>
              <a:custGeom>
                <a:avLst/>
                <a:gdLst/>
                <a:ahLst/>
                <a:rect l="l" t="t" r="r" b="b"/>
                <a:pathLst>
                  <a:path w="163" h="6718">
                    <a:moveTo>
                      <a:pt x="0" y="0"/>
                    </a:moveTo>
                    <a:lnTo>
                      <a:pt x="20" y="125"/>
                    </a:lnTo>
                    <a:lnTo>
                      <a:pt x="38" y="258"/>
                    </a:lnTo>
                    <a:lnTo>
                      <a:pt x="56" y="393"/>
                    </a:lnTo>
                    <a:lnTo>
                      <a:pt x="72" y="528"/>
                    </a:lnTo>
                    <a:lnTo>
                      <a:pt x="86" y="663"/>
                    </a:lnTo>
                    <a:lnTo>
                      <a:pt x="100" y="796"/>
                    </a:lnTo>
                    <a:lnTo>
                      <a:pt x="112" y="931"/>
                    </a:lnTo>
                    <a:lnTo>
                      <a:pt x="122" y="1066"/>
                    </a:lnTo>
                    <a:lnTo>
                      <a:pt x="130" y="1201"/>
                    </a:lnTo>
                    <a:lnTo>
                      <a:pt x="138" y="1336"/>
                    </a:lnTo>
                    <a:lnTo>
                      <a:pt x="145" y="1469"/>
                    </a:lnTo>
                    <a:lnTo>
                      <a:pt x="150" y="1604"/>
                    </a:lnTo>
                    <a:lnTo>
                      <a:pt x="153" y="1739"/>
                    </a:lnTo>
                    <a:lnTo>
                      <a:pt x="156" y="1874"/>
                    </a:lnTo>
                    <a:lnTo>
                      <a:pt x="158" y="2009"/>
                    </a:lnTo>
                    <a:lnTo>
                      <a:pt x="160" y="2142"/>
                    </a:lnTo>
                    <a:lnTo>
                      <a:pt x="161" y="2277"/>
                    </a:lnTo>
                    <a:lnTo>
                      <a:pt x="163" y="2412"/>
                    </a:lnTo>
                    <a:lnTo>
                      <a:pt x="163" y="2547"/>
                    </a:lnTo>
                    <a:lnTo>
                      <a:pt x="163" y="2682"/>
                    </a:lnTo>
                    <a:lnTo>
                      <a:pt x="163" y="2815"/>
                    </a:lnTo>
                    <a:lnTo>
                      <a:pt x="163" y="2950"/>
                    </a:lnTo>
                    <a:lnTo>
                      <a:pt x="163" y="3085"/>
                    </a:lnTo>
                    <a:lnTo>
                      <a:pt x="161" y="3220"/>
                    </a:lnTo>
                    <a:lnTo>
                      <a:pt x="161" y="3355"/>
                    </a:lnTo>
                    <a:lnTo>
                      <a:pt x="160" y="3488"/>
                    </a:lnTo>
                    <a:lnTo>
                      <a:pt x="158" y="3623"/>
                    </a:lnTo>
                    <a:lnTo>
                      <a:pt x="156" y="3758"/>
                    </a:lnTo>
                    <a:lnTo>
                      <a:pt x="155" y="3893"/>
                    </a:lnTo>
                    <a:lnTo>
                      <a:pt x="153" y="4026"/>
                    </a:lnTo>
                    <a:lnTo>
                      <a:pt x="150" y="4161"/>
                    </a:lnTo>
                    <a:lnTo>
                      <a:pt x="146" y="4296"/>
                    </a:lnTo>
                    <a:lnTo>
                      <a:pt x="143" y="4431"/>
                    </a:lnTo>
                    <a:lnTo>
                      <a:pt x="138" y="4566"/>
                    </a:lnTo>
                    <a:lnTo>
                      <a:pt x="135" y="4699"/>
                    </a:lnTo>
                    <a:lnTo>
                      <a:pt x="130" y="4834"/>
                    </a:lnTo>
                    <a:lnTo>
                      <a:pt x="125" y="4969"/>
                    </a:lnTo>
                    <a:lnTo>
                      <a:pt x="119" y="5104"/>
                    </a:lnTo>
                    <a:lnTo>
                      <a:pt x="112" y="5239"/>
                    </a:lnTo>
                    <a:lnTo>
                      <a:pt x="107" y="5372"/>
                    </a:lnTo>
                    <a:lnTo>
                      <a:pt x="99" y="5507"/>
                    </a:lnTo>
                    <a:lnTo>
                      <a:pt x="92" y="5642"/>
                    </a:lnTo>
                    <a:lnTo>
                      <a:pt x="86" y="5777"/>
                    </a:lnTo>
                    <a:lnTo>
                      <a:pt x="77" y="5912"/>
                    </a:lnTo>
                    <a:lnTo>
                      <a:pt x="69" y="6045"/>
                    </a:lnTo>
                    <a:lnTo>
                      <a:pt x="61" y="6180"/>
                    </a:lnTo>
                    <a:lnTo>
                      <a:pt x="53" y="6315"/>
                    </a:lnTo>
                    <a:lnTo>
                      <a:pt x="43" y="6450"/>
                    </a:lnTo>
                    <a:lnTo>
                      <a:pt x="33" y="6585"/>
                    </a:lnTo>
                    <a:lnTo>
                      <a:pt x="25" y="6718"/>
                    </a:lnTo>
                  </a:path>
                </a:pathLst>
              </a:custGeom>
              <a:noFill/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892600" y="326880"/>
                <a:ext cx="107640" cy="5333760"/>
              </a:xfrm>
              <a:custGeom>
                <a:avLst/>
                <a:gdLst/>
                <a:ahLst/>
                <a:rect l="l" t="t" r="r" b="b"/>
                <a:pathLst>
                  <a:path w="135" h="6718">
                    <a:moveTo>
                      <a:pt x="68" y="0"/>
                    </a:moveTo>
                    <a:lnTo>
                      <a:pt x="74" y="125"/>
                    </a:lnTo>
                    <a:lnTo>
                      <a:pt x="79" y="258"/>
                    </a:lnTo>
                    <a:lnTo>
                      <a:pt x="86" y="393"/>
                    </a:lnTo>
                    <a:lnTo>
                      <a:pt x="91" y="528"/>
                    </a:lnTo>
                    <a:lnTo>
                      <a:pt x="96" y="663"/>
                    </a:lnTo>
                    <a:lnTo>
                      <a:pt x="101" y="796"/>
                    </a:lnTo>
                    <a:lnTo>
                      <a:pt x="104" y="931"/>
                    </a:lnTo>
                    <a:lnTo>
                      <a:pt x="109" y="1066"/>
                    </a:lnTo>
                    <a:lnTo>
                      <a:pt x="112" y="1201"/>
                    </a:lnTo>
                    <a:lnTo>
                      <a:pt x="115" y="1336"/>
                    </a:lnTo>
                    <a:lnTo>
                      <a:pt x="119" y="1469"/>
                    </a:lnTo>
                    <a:lnTo>
                      <a:pt x="122" y="1604"/>
                    </a:lnTo>
                    <a:lnTo>
                      <a:pt x="125" y="1739"/>
                    </a:lnTo>
                    <a:lnTo>
                      <a:pt x="127" y="1874"/>
                    </a:lnTo>
                    <a:lnTo>
                      <a:pt x="130" y="2009"/>
                    </a:lnTo>
                    <a:lnTo>
                      <a:pt x="132" y="2142"/>
                    </a:lnTo>
                    <a:lnTo>
                      <a:pt x="133" y="2277"/>
                    </a:lnTo>
                    <a:lnTo>
                      <a:pt x="133" y="2412"/>
                    </a:lnTo>
                    <a:lnTo>
                      <a:pt x="135" y="2547"/>
                    </a:lnTo>
                    <a:lnTo>
                      <a:pt x="135" y="2682"/>
                    </a:lnTo>
                    <a:lnTo>
                      <a:pt x="135" y="2815"/>
                    </a:lnTo>
                    <a:lnTo>
                      <a:pt x="135" y="2950"/>
                    </a:lnTo>
                    <a:lnTo>
                      <a:pt x="135" y="3085"/>
                    </a:lnTo>
                    <a:lnTo>
                      <a:pt x="135" y="3220"/>
                    </a:lnTo>
                    <a:lnTo>
                      <a:pt x="133" y="3355"/>
                    </a:lnTo>
                    <a:lnTo>
                      <a:pt x="132" y="3488"/>
                    </a:lnTo>
                    <a:lnTo>
                      <a:pt x="130" y="3623"/>
                    </a:lnTo>
                    <a:lnTo>
                      <a:pt x="129" y="3758"/>
                    </a:lnTo>
                    <a:lnTo>
                      <a:pt x="125" y="3893"/>
                    </a:lnTo>
                    <a:lnTo>
                      <a:pt x="124" y="4026"/>
                    </a:lnTo>
                    <a:lnTo>
                      <a:pt x="120" y="4161"/>
                    </a:lnTo>
                    <a:lnTo>
                      <a:pt x="117" y="4296"/>
                    </a:lnTo>
                    <a:lnTo>
                      <a:pt x="112" y="4431"/>
                    </a:lnTo>
                    <a:lnTo>
                      <a:pt x="109" y="4566"/>
                    </a:lnTo>
                    <a:lnTo>
                      <a:pt x="104" y="4699"/>
                    </a:lnTo>
                    <a:lnTo>
                      <a:pt x="99" y="4834"/>
                    </a:lnTo>
                    <a:lnTo>
                      <a:pt x="94" y="4969"/>
                    </a:lnTo>
                    <a:lnTo>
                      <a:pt x="89" y="5104"/>
                    </a:lnTo>
                    <a:lnTo>
                      <a:pt x="84" y="5239"/>
                    </a:lnTo>
                    <a:lnTo>
                      <a:pt x="78" y="5372"/>
                    </a:lnTo>
                    <a:lnTo>
                      <a:pt x="71" y="5507"/>
                    </a:lnTo>
                    <a:lnTo>
                      <a:pt x="64" y="5642"/>
                    </a:lnTo>
                    <a:lnTo>
                      <a:pt x="58" y="5777"/>
                    </a:lnTo>
                    <a:lnTo>
                      <a:pt x="50" y="5912"/>
                    </a:lnTo>
                    <a:lnTo>
                      <a:pt x="43" y="6045"/>
                    </a:lnTo>
                    <a:lnTo>
                      <a:pt x="35" y="6180"/>
                    </a:lnTo>
                    <a:lnTo>
                      <a:pt x="27" y="6315"/>
                    </a:lnTo>
                    <a:lnTo>
                      <a:pt x="17" y="6450"/>
                    </a:lnTo>
                    <a:lnTo>
                      <a:pt x="8" y="6585"/>
                    </a:lnTo>
                    <a:lnTo>
                      <a:pt x="0" y="6718"/>
                    </a:lnTo>
                  </a:path>
                </a:pathLst>
              </a:custGeom>
              <a:noFill/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3374280" y="863280"/>
              <a:ext cx="1530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fafd00"/>
                  </a:solidFill>
                  <a:latin typeface="Times New Roman"/>
                </a:rPr>
                <a:t>Blue shark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1604880" y="304920"/>
            <a:ext cx="3222360" cy="5333760"/>
            <a:chOff x="1604880" y="304920"/>
            <a:chExt cx="3222360" cy="5333760"/>
          </a:xfrm>
        </p:grpSpPr>
        <p:sp>
          <p:nvSpPr>
            <p:cNvPr id="1159" name=""/>
            <p:cNvSpPr/>
            <p:nvPr/>
          </p:nvSpPr>
          <p:spPr>
            <a:xfrm>
              <a:off x="1942920" y="304920"/>
              <a:ext cx="2884320" cy="5333760"/>
            </a:xfrm>
            <a:custGeom>
              <a:avLst/>
              <a:gdLst/>
              <a:ahLst/>
              <a:rect l="l" t="t" r="r" b="b"/>
              <a:pathLst>
                <a:path w="3632" h="6718">
                  <a:moveTo>
                    <a:pt x="0" y="0"/>
                  </a:moveTo>
                  <a:lnTo>
                    <a:pt x="3" y="125"/>
                  </a:lnTo>
                  <a:lnTo>
                    <a:pt x="11" y="258"/>
                  </a:lnTo>
                  <a:lnTo>
                    <a:pt x="24" y="393"/>
                  </a:lnTo>
                  <a:lnTo>
                    <a:pt x="41" y="528"/>
                  </a:lnTo>
                  <a:lnTo>
                    <a:pt x="64" y="663"/>
                  </a:lnTo>
                  <a:lnTo>
                    <a:pt x="93" y="796"/>
                  </a:lnTo>
                  <a:lnTo>
                    <a:pt x="130" y="931"/>
                  </a:lnTo>
                  <a:lnTo>
                    <a:pt x="172" y="1066"/>
                  </a:lnTo>
                  <a:lnTo>
                    <a:pt x="222" y="1201"/>
                  </a:lnTo>
                  <a:lnTo>
                    <a:pt x="279" y="1336"/>
                  </a:lnTo>
                  <a:lnTo>
                    <a:pt x="345" y="1469"/>
                  </a:lnTo>
                  <a:lnTo>
                    <a:pt x="416" y="1604"/>
                  </a:lnTo>
                  <a:lnTo>
                    <a:pt x="495" y="1739"/>
                  </a:lnTo>
                  <a:lnTo>
                    <a:pt x="579" y="1874"/>
                  </a:lnTo>
                  <a:lnTo>
                    <a:pt x="668" y="2009"/>
                  </a:lnTo>
                  <a:lnTo>
                    <a:pt x="761" y="2142"/>
                  </a:lnTo>
                  <a:lnTo>
                    <a:pt x="858" y="2277"/>
                  </a:lnTo>
                  <a:lnTo>
                    <a:pt x="960" y="2412"/>
                  </a:lnTo>
                  <a:lnTo>
                    <a:pt x="1064" y="2547"/>
                  </a:lnTo>
                  <a:lnTo>
                    <a:pt x="1173" y="2682"/>
                  </a:lnTo>
                  <a:lnTo>
                    <a:pt x="1285" y="2815"/>
                  </a:lnTo>
                  <a:lnTo>
                    <a:pt x="1400" y="2950"/>
                  </a:lnTo>
                  <a:lnTo>
                    <a:pt x="1521" y="3085"/>
                  </a:lnTo>
                  <a:lnTo>
                    <a:pt x="1648" y="3220"/>
                  </a:lnTo>
                  <a:lnTo>
                    <a:pt x="1781" y="3355"/>
                  </a:lnTo>
                  <a:lnTo>
                    <a:pt x="1920" y="3488"/>
                  </a:lnTo>
                  <a:lnTo>
                    <a:pt x="2064" y="3623"/>
                  </a:lnTo>
                  <a:lnTo>
                    <a:pt x="2212" y="3758"/>
                  </a:lnTo>
                  <a:lnTo>
                    <a:pt x="2364" y="3893"/>
                  </a:lnTo>
                  <a:lnTo>
                    <a:pt x="2519" y="4026"/>
                  </a:lnTo>
                  <a:lnTo>
                    <a:pt x="2670" y="4161"/>
                  </a:lnTo>
                  <a:lnTo>
                    <a:pt x="2820" y="4296"/>
                  </a:lnTo>
                  <a:lnTo>
                    <a:pt x="2964" y="4431"/>
                  </a:lnTo>
                  <a:lnTo>
                    <a:pt x="3101" y="4566"/>
                  </a:lnTo>
                  <a:lnTo>
                    <a:pt x="3226" y="4699"/>
                  </a:lnTo>
                  <a:lnTo>
                    <a:pt x="3338" y="4834"/>
                  </a:lnTo>
                  <a:lnTo>
                    <a:pt x="3435" y="4969"/>
                  </a:lnTo>
                  <a:lnTo>
                    <a:pt x="3514" y="5104"/>
                  </a:lnTo>
                  <a:lnTo>
                    <a:pt x="3573" y="5239"/>
                  </a:lnTo>
                  <a:lnTo>
                    <a:pt x="3613" y="5372"/>
                  </a:lnTo>
                  <a:lnTo>
                    <a:pt x="3632" y="5507"/>
                  </a:lnTo>
                  <a:lnTo>
                    <a:pt x="3632" y="5642"/>
                  </a:lnTo>
                  <a:lnTo>
                    <a:pt x="3614" y="5777"/>
                  </a:lnTo>
                  <a:lnTo>
                    <a:pt x="3580" y="5912"/>
                  </a:lnTo>
                  <a:lnTo>
                    <a:pt x="3534" y="6045"/>
                  </a:lnTo>
                  <a:lnTo>
                    <a:pt x="3478" y="6180"/>
                  </a:lnTo>
                  <a:lnTo>
                    <a:pt x="3419" y="6315"/>
                  </a:lnTo>
                  <a:lnTo>
                    <a:pt x="3358" y="6450"/>
                  </a:lnTo>
                  <a:lnTo>
                    <a:pt x="3300" y="6585"/>
                  </a:lnTo>
                  <a:lnTo>
                    <a:pt x="3249" y="6718"/>
                  </a:lnTo>
                </a:path>
              </a:pathLst>
            </a:custGeom>
            <a:noFill/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604880" y="304920"/>
              <a:ext cx="1595160" cy="5333760"/>
            </a:xfrm>
            <a:custGeom>
              <a:avLst/>
              <a:gdLst/>
              <a:ahLst/>
              <a:rect l="l" t="t" r="r" b="b"/>
              <a:pathLst>
                <a:path w="2009" h="6718">
                  <a:moveTo>
                    <a:pt x="0" y="0"/>
                  </a:moveTo>
                  <a:lnTo>
                    <a:pt x="28" y="125"/>
                  </a:lnTo>
                  <a:lnTo>
                    <a:pt x="61" y="258"/>
                  </a:lnTo>
                  <a:lnTo>
                    <a:pt x="97" y="393"/>
                  </a:lnTo>
                  <a:lnTo>
                    <a:pt x="139" y="528"/>
                  </a:lnTo>
                  <a:lnTo>
                    <a:pt x="181" y="663"/>
                  </a:lnTo>
                  <a:lnTo>
                    <a:pt x="229" y="796"/>
                  </a:lnTo>
                  <a:lnTo>
                    <a:pt x="277" y="931"/>
                  </a:lnTo>
                  <a:lnTo>
                    <a:pt x="329" y="1066"/>
                  </a:lnTo>
                  <a:lnTo>
                    <a:pt x="382" y="1201"/>
                  </a:lnTo>
                  <a:lnTo>
                    <a:pt x="436" y="1336"/>
                  </a:lnTo>
                  <a:lnTo>
                    <a:pt x="491" y="1469"/>
                  </a:lnTo>
                  <a:lnTo>
                    <a:pt x="548" y="1604"/>
                  </a:lnTo>
                  <a:lnTo>
                    <a:pt x="608" y="1739"/>
                  </a:lnTo>
                  <a:lnTo>
                    <a:pt x="670" y="1874"/>
                  </a:lnTo>
                  <a:lnTo>
                    <a:pt x="736" y="2009"/>
                  </a:lnTo>
                  <a:lnTo>
                    <a:pt x="807" y="2142"/>
                  </a:lnTo>
                  <a:lnTo>
                    <a:pt x="879" y="2277"/>
                  </a:lnTo>
                  <a:lnTo>
                    <a:pt x="956" y="2412"/>
                  </a:lnTo>
                  <a:lnTo>
                    <a:pt x="1037" y="2547"/>
                  </a:lnTo>
                  <a:lnTo>
                    <a:pt x="1119" y="2682"/>
                  </a:lnTo>
                  <a:lnTo>
                    <a:pt x="1205" y="2815"/>
                  </a:lnTo>
                  <a:lnTo>
                    <a:pt x="1290" y="2950"/>
                  </a:lnTo>
                  <a:lnTo>
                    <a:pt x="1374" y="3085"/>
                  </a:lnTo>
                  <a:lnTo>
                    <a:pt x="1458" y="3220"/>
                  </a:lnTo>
                  <a:lnTo>
                    <a:pt x="1537" y="3355"/>
                  </a:lnTo>
                  <a:lnTo>
                    <a:pt x="1613" y="3488"/>
                  </a:lnTo>
                  <a:lnTo>
                    <a:pt x="1682" y="3623"/>
                  </a:lnTo>
                  <a:lnTo>
                    <a:pt x="1746" y="3758"/>
                  </a:lnTo>
                  <a:lnTo>
                    <a:pt x="1802" y="3893"/>
                  </a:lnTo>
                  <a:lnTo>
                    <a:pt x="1853" y="4026"/>
                  </a:lnTo>
                  <a:lnTo>
                    <a:pt x="1896" y="4161"/>
                  </a:lnTo>
                  <a:lnTo>
                    <a:pt x="1932" y="4296"/>
                  </a:lnTo>
                  <a:lnTo>
                    <a:pt x="1962" y="4431"/>
                  </a:lnTo>
                  <a:lnTo>
                    <a:pt x="1983" y="4566"/>
                  </a:lnTo>
                  <a:lnTo>
                    <a:pt x="1999" y="4699"/>
                  </a:lnTo>
                  <a:lnTo>
                    <a:pt x="2008" y="4834"/>
                  </a:lnTo>
                  <a:lnTo>
                    <a:pt x="2009" y="4969"/>
                  </a:lnTo>
                  <a:lnTo>
                    <a:pt x="2004" y="5104"/>
                  </a:lnTo>
                  <a:lnTo>
                    <a:pt x="1991" y="5239"/>
                  </a:lnTo>
                  <a:lnTo>
                    <a:pt x="1972" y="5372"/>
                  </a:lnTo>
                  <a:lnTo>
                    <a:pt x="1944" y="5507"/>
                  </a:lnTo>
                  <a:lnTo>
                    <a:pt x="1907" y="5642"/>
                  </a:lnTo>
                  <a:lnTo>
                    <a:pt x="1863" y="5777"/>
                  </a:lnTo>
                  <a:lnTo>
                    <a:pt x="1807" y="5912"/>
                  </a:lnTo>
                  <a:lnTo>
                    <a:pt x="1740" y="6045"/>
                  </a:lnTo>
                  <a:lnTo>
                    <a:pt x="1662" y="6180"/>
                  </a:lnTo>
                  <a:lnTo>
                    <a:pt x="1573" y="6315"/>
                  </a:lnTo>
                  <a:lnTo>
                    <a:pt x="1471" y="6450"/>
                  </a:lnTo>
                  <a:lnTo>
                    <a:pt x="1359" y="6585"/>
                  </a:lnTo>
                  <a:lnTo>
                    <a:pt x="1238" y="6718"/>
                  </a:lnTo>
                </a:path>
              </a:pathLst>
            </a:custGeom>
            <a:noFill/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720800" y="304920"/>
              <a:ext cx="2131920" cy="5333760"/>
            </a:xfrm>
            <a:custGeom>
              <a:avLst/>
              <a:gdLst/>
              <a:ahLst/>
              <a:rect l="l" t="t" r="r" b="b"/>
              <a:pathLst>
                <a:path w="2685" h="6718">
                  <a:moveTo>
                    <a:pt x="0" y="0"/>
                  </a:moveTo>
                  <a:lnTo>
                    <a:pt x="26" y="125"/>
                  </a:lnTo>
                  <a:lnTo>
                    <a:pt x="56" y="258"/>
                  </a:lnTo>
                  <a:lnTo>
                    <a:pt x="90" y="393"/>
                  </a:lnTo>
                  <a:lnTo>
                    <a:pt x="127" y="528"/>
                  </a:lnTo>
                  <a:lnTo>
                    <a:pt x="164" y="663"/>
                  </a:lnTo>
                  <a:lnTo>
                    <a:pt x="207" y="796"/>
                  </a:lnTo>
                  <a:lnTo>
                    <a:pt x="253" y="931"/>
                  </a:lnTo>
                  <a:lnTo>
                    <a:pt x="303" y="1066"/>
                  </a:lnTo>
                  <a:lnTo>
                    <a:pt x="355" y="1201"/>
                  </a:lnTo>
                  <a:lnTo>
                    <a:pt x="411" y="1336"/>
                  </a:lnTo>
                  <a:lnTo>
                    <a:pt x="472" y="1469"/>
                  </a:lnTo>
                  <a:lnTo>
                    <a:pt x="536" y="1604"/>
                  </a:lnTo>
                  <a:lnTo>
                    <a:pt x="605" y="1739"/>
                  </a:lnTo>
                  <a:lnTo>
                    <a:pt x="678" y="1874"/>
                  </a:lnTo>
                  <a:lnTo>
                    <a:pt x="753" y="2009"/>
                  </a:lnTo>
                  <a:lnTo>
                    <a:pt x="834" y="2142"/>
                  </a:lnTo>
                  <a:lnTo>
                    <a:pt x="918" y="2277"/>
                  </a:lnTo>
                  <a:lnTo>
                    <a:pt x="1007" y="2412"/>
                  </a:lnTo>
                  <a:lnTo>
                    <a:pt x="1099" y="2547"/>
                  </a:lnTo>
                  <a:lnTo>
                    <a:pt x="1193" y="2682"/>
                  </a:lnTo>
                  <a:lnTo>
                    <a:pt x="1291" y="2815"/>
                  </a:lnTo>
                  <a:lnTo>
                    <a:pt x="1390" y="2950"/>
                  </a:lnTo>
                  <a:lnTo>
                    <a:pt x="1492" y="3085"/>
                  </a:lnTo>
                  <a:lnTo>
                    <a:pt x="1594" y="3220"/>
                  </a:lnTo>
                  <a:lnTo>
                    <a:pt x="1698" y="3355"/>
                  </a:lnTo>
                  <a:lnTo>
                    <a:pt x="1801" y="3488"/>
                  </a:lnTo>
                  <a:lnTo>
                    <a:pt x="1903" y="3623"/>
                  </a:lnTo>
                  <a:lnTo>
                    <a:pt x="2002" y="3758"/>
                  </a:lnTo>
                  <a:lnTo>
                    <a:pt x="2099" y="3893"/>
                  </a:lnTo>
                  <a:lnTo>
                    <a:pt x="2193" y="4026"/>
                  </a:lnTo>
                  <a:lnTo>
                    <a:pt x="2280" y="4161"/>
                  </a:lnTo>
                  <a:lnTo>
                    <a:pt x="2363" y="4296"/>
                  </a:lnTo>
                  <a:lnTo>
                    <a:pt x="2438" y="4431"/>
                  </a:lnTo>
                  <a:lnTo>
                    <a:pt x="2504" y="4566"/>
                  </a:lnTo>
                  <a:lnTo>
                    <a:pt x="2563" y="4699"/>
                  </a:lnTo>
                  <a:lnTo>
                    <a:pt x="2609" y="4834"/>
                  </a:lnTo>
                  <a:lnTo>
                    <a:pt x="2647" y="4969"/>
                  </a:lnTo>
                  <a:lnTo>
                    <a:pt x="2672" y="5104"/>
                  </a:lnTo>
                  <a:lnTo>
                    <a:pt x="2685" y="5239"/>
                  </a:lnTo>
                  <a:lnTo>
                    <a:pt x="2685" y="5372"/>
                  </a:lnTo>
                  <a:lnTo>
                    <a:pt x="2673" y="5507"/>
                  </a:lnTo>
                  <a:lnTo>
                    <a:pt x="2647" y="5642"/>
                  </a:lnTo>
                  <a:lnTo>
                    <a:pt x="2608" y="5777"/>
                  </a:lnTo>
                  <a:lnTo>
                    <a:pt x="2555" y="5912"/>
                  </a:lnTo>
                  <a:lnTo>
                    <a:pt x="2491" y="6045"/>
                  </a:lnTo>
                  <a:lnTo>
                    <a:pt x="2415" y="6180"/>
                  </a:lnTo>
                  <a:lnTo>
                    <a:pt x="2328" y="6315"/>
                  </a:lnTo>
                  <a:lnTo>
                    <a:pt x="2229" y="6450"/>
                  </a:lnTo>
                  <a:lnTo>
                    <a:pt x="2124" y="6585"/>
                  </a:lnTo>
                  <a:lnTo>
                    <a:pt x="2009" y="6718"/>
                  </a:lnTo>
                </a:path>
              </a:pathLst>
            </a:custGeom>
            <a:noFill/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788920" y="689040"/>
              <a:ext cx="770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800" spc="-1" strike="noStrike">
                  <a:solidFill>
                    <a:srgbClr val="fafd00"/>
                  </a:solidFill>
                  <a:latin typeface="Times New Roman"/>
                </a:rPr>
                <a:t>Opah</a:t>
              </a:r>
              <a:endParaRPr b="0" lang="en-US" sz="28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5329080" y="333360"/>
            <a:ext cx="381492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Distribution of catches of most species varies with dept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076720" y="2503440"/>
            <a:ext cx="381492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. . . and with time of da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2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0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2560" y="43920"/>
            <a:ext cx="396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4000" y="693360"/>
            <a:ext cx="84596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1) Abundance indices need to be adjusted for: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ak time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wn and dusk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lvl="2" marL="1371600" indent="-45720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pth range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2) Mortality of several species may be greater than indicated by catch records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1"/>
          <a:stretch/>
        </p:blipFill>
        <p:spPr>
          <a:xfrm>
            <a:off x="0" y="4305240"/>
            <a:ext cx="9144000" cy="320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indefinite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indefinite"/>
                                        <p:tgtEl>
                                          <p:spTgt spid="1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indefinite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1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indefinite"/>
                                        <p:tgtEl>
                                          <p:spTgt spid="1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829800"/>
            <a:ext cx="556272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Logistic regression</a:t>
            </a:r>
            <a:endParaRPr b="0" lang="en-US" sz="40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440" y="2355480"/>
            <a:ext cx="71802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fafd00"/>
                </a:solidFill>
                <a:latin typeface="Times New Roman"/>
              </a:rPr>
              <a:t>π</a:t>
            </a:r>
            <a:r>
              <a:rPr b="0" i="1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 the probability of catching a fish: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grpSp>
        <p:nvGrpSpPr>
          <p:cNvPr id="1170" name=""/>
          <p:cNvGrpSpPr/>
          <p:nvPr/>
        </p:nvGrpSpPr>
        <p:grpSpPr>
          <a:xfrm>
            <a:off x="6248160" y="4054680"/>
            <a:ext cx="2718000" cy="1248840"/>
            <a:chOff x="6248160" y="4054680"/>
            <a:chExt cx="2718000" cy="1248840"/>
          </a:xfrm>
        </p:grpSpPr>
        <p:sp>
          <p:nvSpPr>
            <p:cNvPr id="1171" name=""/>
            <p:cNvSpPr/>
            <p:nvPr/>
          </p:nvSpPr>
          <p:spPr>
            <a:xfrm>
              <a:off x="6976800" y="4687920"/>
              <a:ext cx="905040" cy="18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736840" y="434196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afd00"/>
                  </a:solidFill>
                  <a:latin typeface="Times New Roman"/>
                </a:rPr>
                <a:t>h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701840" y="469908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afd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416360" y="405468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afd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360640" y="4341960"/>
              <a:ext cx="258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999920" y="4380120"/>
              <a:ext cx="252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÷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022600" y="475452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ø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022600" y="408780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ö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6851520" y="4380120"/>
              <a:ext cx="203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ç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851520" y="4754520"/>
              <a:ext cx="203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è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749280" y="4087800"/>
              <a:ext cx="3056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æ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71800" y="469908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048080" y="475164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248160" y="4394160"/>
              <a:ext cx="584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log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6922440" y="2745000"/>
            <a:ext cx="2044080" cy="1258560"/>
            <a:chOff x="6922440" y="2745000"/>
            <a:chExt cx="2044080" cy="1258560"/>
          </a:xfrm>
        </p:grpSpPr>
        <p:sp>
          <p:nvSpPr>
            <p:cNvPr id="1186" name=""/>
            <p:cNvSpPr/>
            <p:nvPr/>
          </p:nvSpPr>
          <p:spPr>
            <a:xfrm>
              <a:off x="7706880" y="312408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(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8813520" y="3124080"/>
              <a:ext cx="1530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549920" y="3390840"/>
              <a:ext cx="1247760" cy="180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500320" y="338940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afd00"/>
                  </a:solidFill>
                  <a:latin typeface="Times New Roman"/>
                </a:rPr>
                <a:t>h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224200" y="274500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afd00"/>
                  </a:solidFill>
                  <a:latin typeface="Times New Roman"/>
                </a:rPr>
                <a:t>h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922440" y="304488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afd00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331120" y="3454560"/>
              <a:ext cx="203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afd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054640" y="2809800"/>
              <a:ext cx="203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afd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041680" y="3402000"/>
              <a:ext cx="258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314480" y="3044880"/>
              <a:ext cx="258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738560" y="3454560"/>
              <a:ext cx="229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324000" y="152280"/>
            <a:ext cx="8570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Generalized linear mixed model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85800" y="1539720"/>
            <a:ext cx="68673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afd00"/>
                </a:solidFill>
                <a:latin typeface="Times New Roman"/>
              </a:rPr>
              <a:t>catch </a:t>
            </a:r>
            <a:r>
              <a:rPr b="0" i="1" lang="en-AU" sz="3600" spc="-1" strike="noStrike">
                <a:solidFill>
                  <a:srgbClr val="fafd00"/>
                </a:solidFill>
                <a:latin typeface="Times New Roman"/>
              </a:rPr>
              <a:t>y </a:t>
            </a:r>
            <a:r>
              <a:rPr b="0" lang="en-AU" sz="3600" spc="-1" strike="noStrike">
                <a:solidFill>
                  <a:srgbClr val="fafd00"/>
                </a:solidFill>
                <a:latin typeface="Times New Roman"/>
              </a:rPr>
              <a:t>has a binomial distribution: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129440" y="1539720"/>
            <a:ext cx="18367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600" spc="-1" strike="noStrike">
                <a:solidFill>
                  <a:srgbClr val="fafd00"/>
                </a:solidFill>
                <a:latin typeface="Times New Roman"/>
              </a:rPr>
              <a:t>y~b(n,</a:t>
            </a:r>
            <a:r>
              <a:rPr b="0" i="1" lang="el-GR" sz="3600" spc="-1" strike="noStrike">
                <a:solidFill>
                  <a:srgbClr val="fafd00"/>
                </a:solidFill>
                <a:latin typeface="Times New Roman"/>
              </a:rPr>
              <a:t>π</a:t>
            </a:r>
            <a:r>
              <a:rPr b="0" i="1" lang="en-AU" sz="3600" spc="-1" strike="noStrike">
                <a:solidFill>
                  <a:srgbClr val="fafd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85800" y="4359240"/>
            <a:ext cx="541008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600" spc="-1" strike="noStrike">
                <a:solidFill>
                  <a:srgbClr val="fafd00"/>
                </a:solidFill>
                <a:latin typeface="Times New Roman"/>
              </a:rPr>
              <a:t>η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is the ‘soak time effect’: 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Random</a:t>
            </a: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 effects</a:t>
            </a:r>
            <a:endParaRPr b="0" lang="en-US" sz="40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rations drawn from a larger population of operations</a:t>
            </a: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andom effects in catch rate – soak time relationship for each operation</a:t>
            </a:r>
            <a:br>
              <a:rPr sz="3600"/>
            </a:b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re independent and normally distributed: </a:t>
            </a: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203" name=""/>
          <p:cNvSpPr/>
          <p:nvPr/>
        </p:nvSpPr>
        <p:spPr>
          <a:xfrm>
            <a:off x="41338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4133880" y="4775040"/>
                <a:ext cx="305100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5" name=""/>
          <p:cNvGrpSpPr/>
          <p:nvPr/>
        </p:nvGrpSpPr>
        <p:grpSpPr>
          <a:xfrm>
            <a:off x="1278000" y="5438880"/>
            <a:ext cx="5808600" cy="463320"/>
            <a:chOff x="1278000" y="5438880"/>
            <a:chExt cx="5808600" cy="463320"/>
          </a:xfrm>
        </p:grpSpPr>
        <p:sp>
          <p:nvSpPr>
            <p:cNvPr id="1206" name=""/>
            <p:cNvSpPr/>
            <p:nvPr/>
          </p:nvSpPr>
          <p:spPr>
            <a:xfrm>
              <a:off x="1278000" y="58784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0" y="9"/>
                  </a:moveTo>
                  <a:lnTo>
                    <a:pt x="2" y="15"/>
                  </a:lnTo>
                  <a:lnTo>
                    <a:pt x="25" y="5"/>
                  </a:lnTo>
                  <a:lnTo>
                    <a:pt x="2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51080" y="5850000"/>
              <a:ext cx="36360" cy="2520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0" y="10"/>
                  </a:moveTo>
                  <a:lnTo>
                    <a:pt x="2" y="16"/>
                  </a:lnTo>
                  <a:lnTo>
                    <a:pt x="23" y="8"/>
                  </a:lnTo>
                  <a:lnTo>
                    <a:pt x="23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424160" y="5826240"/>
              <a:ext cx="36360" cy="2196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0" y="8"/>
                  </a:moveTo>
                  <a:lnTo>
                    <a:pt x="0" y="14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496880" y="5796000"/>
              <a:ext cx="36720" cy="23760"/>
            </a:xfrm>
            <a:custGeom>
              <a:avLst/>
              <a:gdLst/>
              <a:ahLst/>
              <a:rect l="l" t="t" r="r" b="b"/>
              <a:pathLst>
                <a:path w="23" h="15">
                  <a:moveTo>
                    <a:pt x="0" y="10"/>
                  </a:moveTo>
                  <a:lnTo>
                    <a:pt x="0" y="15"/>
                  </a:lnTo>
                  <a:lnTo>
                    <a:pt x="23" y="6"/>
                  </a:lnTo>
                  <a:lnTo>
                    <a:pt x="21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569960" y="5772240"/>
              <a:ext cx="3672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7"/>
                  </a:moveTo>
                  <a:lnTo>
                    <a:pt x="0" y="13"/>
                  </a:lnTo>
                  <a:lnTo>
                    <a:pt x="23" y="5"/>
                  </a:lnTo>
                  <a:lnTo>
                    <a:pt x="23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643040" y="5746680"/>
              <a:ext cx="36360" cy="2232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0" y="8"/>
                  </a:moveTo>
                  <a:lnTo>
                    <a:pt x="0" y="14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716120" y="572616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6"/>
                  </a:moveTo>
                  <a:lnTo>
                    <a:pt x="0" y="13"/>
                  </a:lnTo>
                  <a:lnTo>
                    <a:pt x="25" y="6"/>
                  </a:lnTo>
                  <a:lnTo>
                    <a:pt x="25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792440" y="5700600"/>
              <a:ext cx="36360" cy="22320"/>
            </a:xfrm>
            <a:custGeom>
              <a:avLst/>
              <a:gdLst/>
              <a:ahLst/>
              <a:rect l="l" t="t" r="r" b="b"/>
              <a:pathLst>
                <a:path w="23" h="14">
                  <a:moveTo>
                    <a:pt x="0" y="8"/>
                  </a:moveTo>
                  <a:lnTo>
                    <a:pt x="0" y="14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865160" y="5683320"/>
              <a:ext cx="3672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6"/>
                  </a:moveTo>
                  <a:lnTo>
                    <a:pt x="0" y="11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938240" y="5662440"/>
              <a:ext cx="36720" cy="2088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7"/>
                  </a:moveTo>
                  <a:lnTo>
                    <a:pt x="0" y="13"/>
                  </a:lnTo>
                  <a:lnTo>
                    <a:pt x="23" y="7"/>
                  </a:lnTo>
                  <a:lnTo>
                    <a:pt x="23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014560" y="5646600"/>
              <a:ext cx="36360" cy="1584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0" y="4"/>
                  </a:moveTo>
                  <a:lnTo>
                    <a:pt x="0" y="10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090880" y="5626080"/>
              <a:ext cx="36360" cy="2052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0" y="5"/>
                  </a:moveTo>
                  <a:lnTo>
                    <a:pt x="0" y="13"/>
                  </a:lnTo>
                  <a:lnTo>
                    <a:pt x="23" y="5"/>
                  </a:lnTo>
                  <a:lnTo>
                    <a:pt x="23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63600" y="5610240"/>
              <a:ext cx="3672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0" y="6"/>
                  </a:moveTo>
                  <a:lnTo>
                    <a:pt x="0" y="11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239920" y="5594400"/>
              <a:ext cx="3960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6"/>
                  </a:moveTo>
                  <a:lnTo>
                    <a:pt x="0" y="12"/>
                  </a:lnTo>
                  <a:lnTo>
                    <a:pt x="25" y="6"/>
                  </a:lnTo>
                  <a:lnTo>
                    <a:pt x="25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316240" y="5583240"/>
              <a:ext cx="36360" cy="144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0" y="3"/>
                  </a:moveTo>
                  <a:lnTo>
                    <a:pt x="0" y="9"/>
                  </a:lnTo>
                  <a:lnTo>
                    <a:pt x="23" y="5"/>
                  </a:lnTo>
                  <a:lnTo>
                    <a:pt x="23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392200" y="556740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0" y="4"/>
                  </a:moveTo>
                  <a:lnTo>
                    <a:pt x="0" y="10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468520" y="555480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0" y="4"/>
                  </a:moveTo>
                  <a:lnTo>
                    <a:pt x="0" y="10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541600" y="5543640"/>
              <a:ext cx="39600" cy="1404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0" y="4"/>
                  </a:moveTo>
                  <a:lnTo>
                    <a:pt x="0" y="9"/>
                  </a:lnTo>
                  <a:lnTo>
                    <a:pt x="25" y="5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620800" y="5530680"/>
              <a:ext cx="36720" cy="16200"/>
            </a:xfrm>
            <a:custGeom>
              <a:avLst/>
              <a:gdLst/>
              <a:ahLst/>
              <a:rect l="l" t="t" r="r" b="b"/>
              <a:pathLst>
                <a:path w="23" h="10">
                  <a:moveTo>
                    <a:pt x="0" y="4"/>
                  </a:moveTo>
                  <a:lnTo>
                    <a:pt x="0" y="10"/>
                  </a:lnTo>
                  <a:lnTo>
                    <a:pt x="23" y="6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693880" y="5518080"/>
              <a:ext cx="3996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0" y="4"/>
                  </a:moveTo>
                  <a:lnTo>
                    <a:pt x="0" y="12"/>
                  </a:lnTo>
                  <a:lnTo>
                    <a:pt x="25" y="8"/>
                  </a:lnTo>
                  <a:lnTo>
                    <a:pt x="25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733840" y="5438880"/>
              <a:ext cx="4352760" cy="112680"/>
            </a:xfrm>
            <a:custGeom>
              <a:avLst/>
              <a:gdLst/>
              <a:ahLst/>
              <a:rect l="l" t="t" r="r" b="b"/>
              <a:pathLst>
                <a:path w="2742" h="71">
                  <a:moveTo>
                    <a:pt x="0" y="54"/>
                  </a:moveTo>
                  <a:lnTo>
                    <a:pt x="182" y="35"/>
                  </a:lnTo>
                  <a:lnTo>
                    <a:pt x="364" y="18"/>
                  </a:lnTo>
                  <a:lnTo>
                    <a:pt x="548" y="8"/>
                  </a:lnTo>
                  <a:lnTo>
                    <a:pt x="731" y="2"/>
                  </a:lnTo>
                  <a:lnTo>
                    <a:pt x="913" y="0"/>
                  </a:lnTo>
                  <a:lnTo>
                    <a:pt x="1095" y="2"/>
                  </a:lnTo>
                  <a:lnTo>
                    <a:pt x="1280" y="4"/>
                  </a:lnTo>
                  <a:lnTo>
                    <a:pt x="1462" y="10"/>
                  </a:lnTo>
                  <a:lnTo>
                    <a:pt x="1644" y="16"/>
                  </a:lnTo>
                  <a:lnTo>
                    <a:pt x="1828" y="24"/>
                  </a:lnTo>
                  <a:lnTo>
                    <a:pt x="2011" y="31"/>
                  </a:lnTo>
                  <a:lnTo>
                    <a:pt x="2193" y="41"/>
                  </a:lnTo>
                  <a:lnTo>
                    <a:pt x="2375" y="50"/>
                  </a:lnTo>
                  <a:lnTo>
                    <a:pt x="2559" y="62"/>
                  </a:lnTo>
                  <a:lnTo>
                    <a:pt x="2742" y="71"/>
                  </a:lnTo>
                </a:path>
              </a:pathLst>
            </a:custGeom>
            <a:noFill/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1301760" y="3362400"/>
            <a:ext cx="5784840" cy="2463840"/>
            <a:chOff x="1301760" y="3362400"/>
            <a:chExt cx="5784840" cy="2463840"/>
          </a:xfrm>
        </p:grpSpPr>
        <p:sp>
          <p:nvSpPr>
            <p:cNvPr id="1228" name=""/>
            <p:cNvSpPr/>
            <p:nvPr/>
          </p:nvSpPr>
          <p:spPr>
            <a:xfrm>
              <a:off x="2705040" y="356076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0"/>
                  </a:moveTo>
                  <a:lnTo>
                    <a:pt x="2" y="15"/>
                  </a:lnTo>
                  <a:lnTo>
                    <a:pt x="18" y="4"/>
                  </a:lnTo>
                  <a:lnTo>
                    <a:pt x="16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301760" y="5786280"/>
              <a:ext cx="2052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23"/>
                  </a:moveTo>
                  <a:lnTo>
                    <a:pt x="6" y="25"/>
                  </a:lnTo>
                  <a:lnTo>
                    <a:pt x="13" y="4"/>
                  </a:lnTo>
                  <a:lnTo>
                    <a:pt x="10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355760" y="5643720"/>
              <a:ext cx="22320" cy="396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0" y="21"/>
                  </a:moveTo>
                  <a:lnTo>
                    <a:pt x="4" y="25"/>
                  </a:lnTo>
                  <a:lnTo>
                    <a:pt x="14" y="2"/>
                  </a:lnTo>
                  <a:lnTo>
                    <a:pt x="8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407960" y="5497560"/>
              <a:ext cx="22320" cy="396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0" y="23"/>
                  </a:moveTo>
                  <a:lnTo>
                    <a:pt x="6" y="25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460520" y="5351400"/>
              <a:ext cx="20520" cy="42840"/>
            </a:xfrm>
            <a:custGeom>
              <a:avLst/>
              <a:gdLst/>
              <a:ahLst/>
              <a:rect l="l" t="t" r="r" b="b"/>
              <a:pathLst>
                <a:path w="13" h="27">
                  <a:moveTo>
                    <a:pt x="0" y="23"/>
                  </a:moveTo>
                  <a:lnTo>
                    <a:pt x="5" y="27"/>
                  </a:lnTo>
                  <a:lnTo>
                    <a:pt x="13" y="4"/>
                  </a:lnTo>
                  <a:lnTo>
                    <a:pt x="9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539720" y="5138640"/>
              <a:ext cx="2088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23"/>
                  </a:moveTo>
                  <a:lnTo>
                    <a:pt x="5" y="25"/>
                  </a:lnTo>
                  <a:lnTo>
                    <a:pt x="13" y="2"/>
                  </a:lnTo>
                  <a:lnTo>
                    <a:pt x="9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733400" y="4718160"/>
              <a:ext cx="28800" cy="3960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23"/>
                  </a:moveTo>
                  <a:lnTo>
                    <a:pt x="6" y="25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090880" y="412416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9"/>
                  </a:moveTo>
                  <a:lnTo>
                    <a:pt x="4" y="23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328760" y="5713560"/>
              <a:ext cx="22320" cy="42840"/>
            </a:xfrm>
            <a:custGeom>
              <a:avLst/>
              <a:gdLst/>
              <a:ahLst/>
              <a:rect l="l" t="t" r="r" b="b"/>
              <a:pathLst>
                <a:path w="14" h="27">
                  <a:moveTo>
                    <a:pt x="0" y="23"/>
                  </a:moveTo>
                  <a:lnTo>
                    <a:pt x="4" y="27"/>
                  </a:lnTo>
                  <a:lnTo>
                    <a:pt x="14" y="4"/>
                  </a:lnTo>
                  <a:lnTo>
                    <a:pt x="8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380960" y="5570640"/>
              <a:ext cx="2088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23"/>
                  </a:moveTo>
                  <a:lnTo>
                    <a:pt x="6" y="25"/>
                  </a:lnTo>
                  <a:lnTo>
                    <a:pt x="13" y="2"/>
                  </a:lnTo>
                  <a:lnTo>
                    <a:pt x="9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434960" y="5424480"/>
              <a:ext cx="19080" cy="42840"/>
            </a:xfrm>
            <a:custGeom>
              <a:avLst/>
              <a:gdLst/>
              <a:ahLst/>
              <a:rect l="l" t="t" r="r" b="b"/>
              <a:pathLst>
                <a:path w="12" h="27">
                  <a:moveTo>
                    <a:pt x="0" y="25"/>
                  </a:moveTo>
                  <a:lnTo>
                    <a:pt x="4" y="27"/>
                  </a:lnTo>
                  <a:lnTo>
                    <a:pt x="12" y="4"/>
                  </a:lnTo>
                  <a:lnTo>
                    <a:pt x="8" y="0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487520" y="5281560"/>
              <a:ext cx="2052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23"/>
                  </a:moveTo>
                  <a:lnTo>
                    <a:pt x="6" y="25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514520" y="5208480"/>
              <a:ext cx="19080" cy="3996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0" y="23"/>
                  </a:moveTo>
                  <a:lnTo>
                    <a:pt x="6" y="25"/>
                  </a:lnTo>
                  <a:lnTo>
                    <a:pt x="12" y="2"/>
                  </a:lnTo>
                  <a:lnTo>
                    <a:pt x="8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566720" y="5065560"/>
              <a:ext cx="24120" cy="38160"/>
            </a:xfrm>
            <a:custGeom>
              <a:avLst/>
              <a:gdLst/>
              <a:ahLst/>
              <a:rect l="l" t="t" r="r" b="b"/>
              <a:pathLst>
                <a:path w="15" h="24">
                  <a:moveTo>
                    <a:pt x="0" y="23"/>
                  </a:moveTo>
                  <a:lnTo>
                    <a:pt x="6" y="24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600200" y="4994280"/>
              <a:ext cx="23760" cy="3960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23"/>
                  </a:moveTo>
                  <a:lnTo>
                    <a:pt x="6" y="25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633680" y="49276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1"/>
                  </a:moveTo>
                  <a:lnTo>
                    <a:pt x="6" y="23"/>
                  </a:lnTo>
                  <a:lnTo>
                    <a:pt x="17" y="2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666800" y="4857840"/>
              <a:ext cx="25560" cy="36360"/>
            </a:xfrm>
            <a:custGeom>
              <a:avLst/>
              <a:gdLst/>
              <a:ahLst/>
              <a:rect l="l" t="t" r="r" b="b"/>
              <a:pathLst>
                <a:path w="16" h="23">
                  <a:moveTo>
                    <a:pt x="0" y="21"/>
                  </a:moveTo>
                  <a:lnTo>
                    <a:pt x="6" y="23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703520" y="4788000"/>
              <a:ext cx="25200" cy="3960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1"/>
                  </a:moveTo>
                  <a:lnTo>
                    <a:pt x="4" y="25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770120" y="4648320"/>
              <a:ext cx="25200" cy="39600"/>
            </a:xfrm>
            <a:custGeom>
              <a:avLst/>
              <a:gdLst/>
              <a:ahLst/>
              <a:rect l="l" t="t" r="r" b="b"/>
              <a:pathLst>
                <a:path w="16" h="25">
                  <a:moveTo>
                    <a:pt x="0" y="23"/>
                  </a:moveTo>
                  <a:lnTo>
                    <a:pt x="4" y="25"/>
                  </a:lnTo>
                  <a:lnTo>
                    <a:pt x="16" y="4"/>
                  </a:lnTo>
                  <a:lnTo>
                    <a:pt x="10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801800" y="458136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1"/>
                  </a:moveTo>
                  <a:lnTo>
                    <a:pt x="5" y="23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838160" y="4510080"/>
              <a:ext cx="24120" cy="3636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0" y="22"/>
                  </a:moveTo>
                  <a:lnTo>
                    <a:pt x="3" y="23"/>
                  </a:lnTo>
                  <a:lnTo>
                    <a:pt x="15" y="2"/>
                  </a:lnTo>
                  <a:lnTo>
                    <a:pt x="11" y="0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874880" y="4443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9"/>
                  </a:moveTo>
                  <a:lnTo>
                    <a:pt x="3" y="23"/>
                  </a:lnTo>
                  <a:lnTo>
                    <a:pt x="17" y="4"/>
                  </a:lnTo>
                  <a:lnTo>
                    <a:pt x="13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917720" y="437976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1"/>
                  </a:moveTo>
                  <a:lnTo>
                    <a:pt x="3" y="23"/>
                  </a:lnTo>
                  <a:lnTo>
                    <a:pt x="17" y="4"/>
                  </a:lnTo>
                  <a:lnTo>
                    <a:pt x="13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959120" y="4316400"/>
              <a:ext cx="28440" cy="3960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21"/>
                  </a:moveTo>
                  <a:lnTo>
                    <a:pt x="4" y="25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004840" y="425124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0"/>
                  </a:moveTo>
                  <a:lnTo>
                    <a:pt x="4" y="23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048040" y="41878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9"/>
                  </a:moveTo>
                  <a:lnTo>
                    <a:pt x="4" y="23"/>
                  </a:lnTo>
                  <a:lnTo>
                    <a:pt x="17" y="4"/>
                  </a:lnTo>
                  <a:lnTo>
                    <a:pt x="13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133720" y="4071960"/>
              <a:ext cx="20520" cy="252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12"/>
                  </a:moveTo>
                  <a:lnTo>
                    <a:pt x="4" y="16"/>
                  </a:lnTo>
                  <a:lnTo>
                    <a:pt x="13" y="2"/>
                  </a:lnTo>
                  <a:lnTo>
                    <a:pt x="9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181240" y="4005360"/>
              <a:ext cx="34920" cy="331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7"/>
                  </a:moveTo>
                  <a:lnTo>
                    <a:pt x="4" y="21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236680" y="39495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6"/>
                  </a:moveTo>
                  <a:lnTo>
                    <a:pt x="4" y="20"/>
                  </a:lnTo>
                  <a:lnTo>
                    <a:pt x="21" y="4"/>
                  </a:lnTo>
                  <a:lnTo>
                    <a:pt x="17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289240" y="389268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7"/>
                  </a:moveTo>
                  <a:lnTo>
                    <a:pt x="3" y="21"/>
                  </a:lnTo>
                  <a:lnTo>
                    <a:pt x="21" y="4"/>
                  </a:lnTo>
                  <a:lnTo>
                    <a:pt x="17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343240" y="3838680"/>
              <a:ext cx="3024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17"/>
                  </a:moveTo>
                  <a:lnTo>
                    <a:pt x="4" y="21"/>
                  </a:lnTo>
                  <a:lnTo>
                    <a:pt x="19" y="3"/>
                  </a:lnTo>
                  <a:lnTo>
                    <a:pt x="15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395440" y="37828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5"/>
                  </a:moveTo>
                  <a:lnTo>
                    <a:pt x="4" y="19"/>
                  </a:lnTo>
                  <a:lnTo>
                    <a:pt x="21" y="2"/>
                  </a:lnTo>
                  <a:lnTo>
                    <a:pt x="17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452680" y="3733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4"/>
                  </a:moveTo>
                  <a:lnTo>
                    <a:pt x="2" y="18"/>
                  </a:lnTo>
                  <a:lnTo>
                    <a:pt x="21" y="4"/>
                  </a:lnTo>
                  <a:lnTo>
                    <a:pt x="19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514600" y="3689280"/>
              <a:ext cx="36360" cy="3024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0" y="13"/>
                  </a:moveTo>
                  <a:lnTo>
                    <a:pt x="2" y="19"/>
                  </a:lnTo>
                  <a:lnTo>
                    <a:pt x="23" y="5"/>
                  </a:lnTo>
                  <a:lnTo>
                    <a:pt x="21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577960" y="3646440"/>
              <a:ext cx="36720" cy="27000"/>
            </a:xfrm>
            <a:custGeom>
              <a:avLst/>
              <a:gdLst/>
              <a:ahLst/>
              <a:rect l="l" t="t" r="r" b="b"/>
              <a:pathLst>
                <a:path w="23" h="17">
                  <a:moveTo>
                    <a:pt x="0" y="13"/>
                  </a:moveTo>
                  <a:lnTo>
                    <a:pt x="2" y="17"/>
                  </a:lnTo>
                  <a:lnTo>
                    <a:pt x="23" y="3"/>
                  </a:lnTo>
                  <a:lnTo>
                    <a:pt x="21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641680" y="3600360"/>
              <a:ext cx="3312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3"/>
                  </a:moveTo>
                  <a:lnTo>
                    <a:pt x="2" y="19"/>
                  </a:lnTo>
                  <a:lnTo>
                    <a:pt x="21" y="6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733840" y="3362400"/>
              <a:ext cx="4352760" cy="1038240"/>
            </a:xfrm>
            <a:custGeom>
              <a:avLst/>
              <a:gdLst/>
              <a:ahLst/>
              <a:rect l="l" t="t" r="r" b="b"/>
              <a:pathLst>
                <a:path w="2742" h="654">
                  <a:moveTo>
                    <a:pt x="0" y="127"/>
                  </a:moveTo>
                  <a:lnTo>
                    <a:pt x="182" y="50"/>
                  </a:lnTo>
                  <a:lnTo>
                    <a:pt x="364" y="10"/>
                  </a:lnTo>
                  <a:lnTo>
                    <a:pt x="548" y="0"/>
                  </a:lnTo>
                  <a:lnTo>
                    <a:pt x="731" y="16"/>
                  </a:lnTo>
                  <a:lnTo>
                    <a:pt x="913" y="46"/>
                  </a:lnTo>
                  <a:lnTo>
                    <a:pt x="1095" y="90"/>
                  </a:lnTo>
                  <a:lnTo>
                    <a:pt x="1280" y="144"/>
                  </a:lnTo>
                  <a:lnTo>
                    <a:pt x="1462" y="204"/>
                  </a:lnTo>
                  <a:lnTo>
                    <a:pt x="1644" y="267"/>
                  </a:lnTo>
                  <a:lnTo>
                    <a:pt x="1828" y="332"/>
                  </a:lnTo>
                  <a:lnTo>
                    <a:pt x="2011" y="399"/>
                  </a:lnTo>
                  <a:lnTo>
                    <a:pt x="2193" y="464"/>
                  </a:lnTo>
                  <a:lnTo>
                    <a:pt x="2375" y="530"/>
                  </a:lnTo>
                  <a:lnTo>
                    <a:pt x="2559" y="593"/>
                  </a:lnTo>
                  <a:lnTo>
                    <a:pt x="2742" y="654"/>
                  </a:lnTo>
                </a:path>
              </a:pathLst>
            </a:custGeom>
            <a:noFill/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822960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atch is the product of capture and loss rates</a:t>
            </a:r>
            <a:endParaRPr b="0" lang="en-US" sz="40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266" name=""/>
          <p:cNvSpPr/>
          <p:nvPr/>
        </p:nvSpPr>
        <p:spPr>
          <a:xfrm>
            <a:off x="34920" y="7236000"/>
            <a:ext cx="1440" cy="144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1281240" y="5898960"/>
            <a:ext cx="1440" cy="1062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4920" y="7236000"/>
            <a:ext cx="1440" cy="144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2733840" y="5898960"/>
            <a:ext cx="1440" cy="1062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4920" y="7236000"/>
            <a:ext cx="1440" cy="144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4183200" y="5898960"/>
            <a:ext cx="1440" cy="1062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4920" y="7236000"/>
            <a:ext cx="1440" cy="144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5635800" y="5898960"/>
            <a:ext cx="1440" cy="1062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4920" y="7236000"/>
            <a:ext cx="1440" cy="144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7086600" y="5898960"/>
            <a:ext cx="1440" cy="1062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4920" y="7236000"/>
            <a:ext cx="1440" cy="144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4920" y="7236000"/>
            <a:ext cx="1440" cy="144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281240" y="1230480"/>
            <a:ext cx="5805360" cy="1130040"/>
            <a:chOff x="1281240" y="1230480"/>
            <a:chExt cx="5805360" cy="1130040"/>
          </a:xfrm>
        </p:grpSpPr>
        <p:sp>
          <p:nvSpPr>
            <p:cNvPr id="1279" name=""/>
            <p:cNvSpPr/>
            <p:nvPr/>
          </p:nvSpPr>
          <p:spPr>
            <a:xfrm>
              <a:off x="1281240" y="1230480"/>
              <a:ext cx="37800" cy="1584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" y="0"/>
                  </a:moveTo>
                  <a:lnTo>
                    <a:pt x="0" y="6"/>
                  </a:lnTo>
                  <a:lnTo>
                    <a:pt x="24" y="10"/>
                  </a:lnTo>
                  <a:lnTo>
                    <a:pt x="24" y="4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355760" y="1246320"/>
              <a:ext cx="3960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0" y="0"/>
                  </a:moveTo>
                  <a:lnTo>
                    <a:pt x="0" y="6"/>
                  </a:lnTo>
                  <a:lnTo>
                    <a:pt x="23" y="10"/>
                  </a:lnTo>
                  <a:lnTo>
                    <a:pt x="25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430280" y="1262160"/>
              <a:ext cx="4140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1" y="0"/>
                  </a:moveTo>
                  <a:lnTo>
                    <a:pt x="0" y="5"/>
                  </a:lnTo>
                  <a:lnTo>
                    <a:pt x="24" y="11"/>
                  </a:lnTo>
                  <a:lnTo>
                    <a:pt x="26" y="5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508040" y="1276200"/>
              <a:ext cx="36720" cy="190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0"/>
                  </a:moveTo>
                  <a:lnTo>
                    <a:pt x="0" y="8"/>
                  </a:lnTo>
                  <a:lnTo>
                    <a:pt x="23" y="12"/>
                  </a:lnTo>
                  <a:lnTo>
                    <a:pt x="23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581120" y="1292400"/>
              <a:ext cx="39600" cy="172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2" y="0"/>
                  </a:moveTo>
                  <a:lnTo>
                    <a:pt x="0" y="8"/>
                  </a:lnTo>
                  <a:lnTo>
                    <a:pt x="23" y="11"/>
                  </a:lnTo>
                  <a:lnTo>
                    <a:pt x="25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57440" y="1306440"/>
              <a:ext cx="3960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2" y="0"/>
                  </a:moveTo>
                  <a:lnTo>
                    <a:pt x="0" y="8"/>
                  </a:lnTo>
                  <a:lnTo>
                    <a:pt x="25" y="12"/>
                  </a:lnTo>
                  <a:lnTo>
                    <a:pt x="25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733400" y="1325520"/>
              <a:ext cx="3996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0" y="0"/>
                  </a:moveTo>
                  <a:lnTo>
                    <a:pt x="0" y="6"/>
                  </a:lnTo>
                  <a:lnTo>
                    <a:pt x="23" y="10"/>
                  </a:lnTo>
                  <a:lnTo>
                    <a:pt x="25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809720" y="1341360"/>
              <a:ext cx="39600" cy="1764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2" y="0"/>
                  </a:moveTo>
                  <a:lnTo>
                    <a:pt x="0" y="5"/>
                  </a:lnTo>
                  <a:lnTo>
                    <a:pt x="23" y="11"/>
                  </a:lnTo>
                  <a:lnTo>
                    <a:pt x="25" y="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886040" y="1355760"/>
              <a:ext cx="36360" cy="190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0"/>
                  </a:moveTo>
                  <a:lnTo>
                    <a:pt x="0" y="6"/>
                  </a:lnTo>
                  <a:lnTo>
                    <a:pt x="23" y="12"/>
                  </a:lnTo>
                  <a:lnTo>
                    <a:pt x="23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959120" y="1371600"/>
              <a:ext cx="42840" cy="1764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" y="0"/>
                  </a:moveTo>
                  <a:lnTo>
                    <a:pt x="0" y="7"/>
                  </a:lnTo>
                  <a:lnTo>
                    <a:pt x="25" y="11"/>
                  </a:lnTo>
                  <a:lnTo>
                    <a:pt x="27" y="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035080" y="1386000"/>
              <a:ext cx="3996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2" y="0"/>
                  </a:moveTo>
                  <a:lnTo>
                    <a:pt x="0" y="8"/>
                  </a:lnTo>
                  <a:lnTo>
                    <a:pt x="25" y="12"/>
                  </a:lnTo>
                  <a:lnTo>
                    <a:pt x="25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111400" y="1405080"/>
              <a:ext cx="39600" cy="172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0"/>
                  </a:moveTo>
                  <a:lnTo>
                    <a:pt x="0" y="6"/>
                  </a:lnTo>
                  <a:lnTo>
                    <a:pt x="23" y="11"/>
                  </a:lnTo>
                  <a:lnTo>
                    <a:pt x="25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187720" y="1419120"/>
              <a:ext cx="3960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2" y="0"/>
                  </a:moveTo>
                  <a:lnTo>
                    <a:pt x="0" y="6"/>
                  </a:lnTo>
                  <a:lnTo>
                    <a:pt x="23" y="12"/>
                  </a:lnTo>
                  <a:lnTo>
                    <a:pt x="25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263680" y="1434960"/>
              <a:ext cx="36720" cy="1908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0"/>
                  </a:moveTo>
                  <a:lnTo>
                    <a:pt x="0" y="6"/>
                  </a:lnTo>
                  <a:lnTo>
                    <a:pt x="23" y="12"/>
                  </a:lnTo>
                  <a:lnTo>
                    <a:pt x="23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336760" y="1450800"/>
              <a:ext cx="42840" cy="1764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" y="0"/>
                  </a:moveTo>
                  <a:lnTo>
                    <a:pt x="0" y="5"/>
                  </a:lnTo>
                  <a:lnTo>
                    <a:pt x="25" y="11"/>
                  </a:lnTo>
                  <a:lnTo>
                    <a:pt x="27" y="5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413080" y="1465200"/>
              <a:ext cx="30240" cy="1584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2" y="0"/>
                  </a:moveTo>
                  <a:lnTo>
                    <a:pt x="0" y="8"/>
                  </a:lnTo>
                  <a:lnTo>
                    <a:pt x="18" y="10"/>
                  </a:lnTo>
                  <a:lnTo>
                    <a:pt x="19" y="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441520" y="147168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0"/>
                  </a:moveTo>
                  <a:lnTo>
                    <a:pt x="0" y="6"/>
                  </a:lnTo>
                  <a:lnTo>
                    <a:pt x="7" y="8"/>
                  </a:lnTo>
                  <a:lnTo>
                    <a:pt x="7" y="2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89040" y="1481040"/>
              <a:ext cx="39960" cy="1764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0"/>
                  </a:moveTo>
                  <a:lnTo>
                    <a:pt x="0" y="7"/>
                  </a:lnTo>
                  <a:lnTo>
                    <a:pt x="23" y="11"/>
                  </a:lnTo>
                  <a:lnTo>
                    <a:pt x="25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565360" y="1495440"/>
              <a:ext cx="39600" cy="19080"/>
            </a:xfrm>
            <a:custGeom>
              <a:avLst/>
              <a:gdLst/>
              <a:ahLst/>
              <a:rect l="l" t="t" r="r" b="b"/>
              <a:pathLst>
                <a:path w="25" h="12">
                  <a:moveTo>
                    <a:pt x="2" y="0"/>
                  </a:moveTo>
                  <a:lnTo>
                    <a:pt x="0" y="8"/>
                  </a:lnTo>
                  <a:lnTo>
                    <a:pt x="23" y="12"/>
                  </a:lnTo>
                  <a:lnTo>
                    <a:pt x="25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641680" y="1514520"/>
              <a:ext cx="39600" cy="1440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0" y="0"/>
                  </a:moveTo>
                  <a:lnTo>
                    <a:pt x="0" y="6"/>
                  </a:lnTo>
                  <a:lnTo>
                    <a:pt x="23" y="9"/>
                  </a:lnTo>
                  <a:lnTo>
                    <a:pt x="25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714760" y="152892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0"/>
                  </a:moveTo>
                  <a:lnTo>
                    <a:pt x="0" y="6"/>
                  </a:lnTo>
                  <a:lnTo>
                    <a:pt x="12" y="8"/>
                  </a:lnTo>
                  <a:lnTo>
                    <a:pt x="12" y="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438280" y="1474920"/>
              <a:ext cx="3240" cy="936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2" y="0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733840" y="1538280"/>
              <a:ext cx="4352760" cy="822240"/>
            </a:xfrm>
            <a:custGeom>
              <a:avLst/>
              <a:gdLst/>
              <a:ahLst/>
              <a:rect l="l" t="t" r="r" b="b"/>
              <a:pathLst>
                <a:path w="2742" h="518">
                  <a:moveTo>
                    <a:pt x="0" y="0"/>
                  </a:moveTo>
                  <a:lnTo>
                    <a:pt x="182" y="37"/>
                  </a:lnTo>
                  <a:lnTo>
                    <a:pt x="364" y="73"/>
                  </a:lnTo>
                  <a:lnTo>
                    <a:pt x="548" y="110"/>
                  </a:lnTo>
                  <a:lnTo>
                    <a:pt x="731" y="146"/>
                  </a:lnTo>
                  <a:lnTo>
                    <a:pt x="913" y="182"/>
                  </a:lnTo>
                  <a:lnTo>
                    <a:pt x="1095" y="217"/>
                  </a:lnTo>
                  <a:lnTo>
                    <a:pt x="1280" y="252"/>
                  </a:lnTo>
                  <a:lnTo>
                    <a:pt x="1462" y="286"/>
                  </a:lnTo>
                  <a:lnTo>
                    <a:pt x="1644" y="321"/>
                  </a:lnTo>
                  <a:lnTo>
                    <a:pt x="1828" y="355"/>
                  </a:lnTo>
                  <a:lnTo>
                    <a:pt x="2011" y="388"/>
                  </a:lnTo>
                  <a:lnTo>
                    <a:pt x="2193" y="420"/>
                  </a:lnTo>
                  <a:lnTo>
                    <a:pt x="2375" y="455"/>
                  </a:lnTo>
                  <a:lnTo>
                    <a:pt x="2559" y="487"/>
                  </a:lnTo>
                  <a:lnTo>
                    <a:pt x="2742" y="518"/>
                  </a:lnTo>
                </a:path>
              </a:pathLst>
            </a:custGeom>
            <a:noFill/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02" name=""/>
          <p:cNvSpPr/>
          <p:nvPr/>
        </p:nvSpPr>
        <p:spPr>
          <a:xfrm>
            <a:off x="1278000" y="586260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19"/>
                </a:moveTo>
                <a:lnTo>
                  <a:pt x="3" y="23"/>
                </a:lnTo>
                <a:lnTo>
                  <a:pt x="17" y="4"/>
                </a:lnTo>
                <a:lnTo>
                  <a:pt x="13" y="0"/>
                </a:lnTo>
                <a:lnTo>
                  <a:pt x="0" y="19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139840" y="479736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0" y="5"/>
                </a:moveTo>
                <a:lnTo>
                  <a:pt x="1" y="9"/>
                </a:lnTo>
                <a:lnTo>
                  <a:pt x="9" y="4"/>
                </a:lnTo>
                <a:lnTo>
                  <a:pt x="5" y="0"/>
                </a:lnTo>
                <a:lnTo>
                  <a:pt x="0" y="5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147760" y="4778280"/>
            <a:ext cx="2232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0" y="12"/>
                </a:moveTo>
                <a:lnTo>
                  <a:pt x="4" y="17"/>
                </a:lnTo>
                <a:lnTo>
                  <a:pt x="14" y="6"/>
                </a:lnTo>
                <a:lnTo>
                  <a:pt x="12" y="0"/>
                </a:lnTo>
                <a:lnTo>
                  <a:pt x="0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438280" y="45100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4"/>
                </a:moveTo>
                <a:lnTo>
                  <a:pt x="3" y="8"/>
                </a:lnTo>
                <a:lnTo>
                  <a:pt x="5" y="4"/>
                </a:lnTo>
                <a:lnTo>
                  <a:pt x="3" y="0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711520" y="4270320"/>
            <a:ext cx="22320" cy="23760"/>
          </a:xfrm>
          <a:custGeom>
            <a:avLst/>
            <a:gdLst/>
            <a:ahLst/>
            <a:rect l="l" t="t" r="r" b="b"/>
            <a:pathLst>
              <a:path w="14" h="15">
                <a:moveTo>
                  <a:pt x="0" y="9"/>
                </a:moveTo>
                <a:lnTo>
                  <a:pt x="2" y="15"/>
                </a:lnTo>
                <a:lnTo>
                  <a:pt x="14" y="6"/>
                </a:lnTo>
                <a:lnTo>
                  <a:pt x="12" y="0"/>
                </a:lnTo>
                <a:lnTo>
                  <a:pt x="0" y="9"/>
                </a:lnTo>
                <a:lnTo>
                  <a:pt x="0" y="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438280" y="4516560"/>
            <a:ext cx="504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0" y="0"/>
                </a:lnTo>
                <a:lnTo>
                  <a:pt x="3" y="4"/>
                </a:lnTo>
                <a:lnTo>
                  <a:pt x="3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08" name=""/>
          <p:cNvGrpSpPr/>
          <p:nvPr/>
        </p:nvGrpSpPr>
        <p:grpSpPr>
          <a:xfrm>
            <a:off x="1278000" y="3201840"/>
            <a:ext cx="5808600" cy="2697480"/>
            <a:chOff x="1278000" y="3201840"/>
            <a:chExt cx="5808600" cy="2697480"/>
          </a:xfrm>
        </p:grpSpPr>
        <p:sp>
          <p:nvSpPr>
            <p:cNvPr id="1309" name=""/>
            <p:cNvSpPr/>
            <p:nvPr/>
          </p:nvSpPr>
          <p:spPr>
            <a:xfrm>
              <a:off x="1319040" y="5799240"/>
              <a:ext cx="32040" cy="363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0" y="19"/>
                  </a:moveTo>
                  <a:lnTo>
                    <a:pt x="4" y="23"/>
                  </a:lnTo>
                  <a:lnTo>
                    <a:pt x="20" y="4"/>
                  </a:lnTo>
                  <a:lnTo>
                    <a:pt x="16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365120" y="5735520"/>
              <a:ext cx="27000" cy="3816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1"/>
                  </a:moveTo>
                  <a:lnTo>
                    <a:pt x="4" y="24"/>
                  </a:lnTo>
                  <a:lnTo>
                    <a:pt x="17" y="3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407960" y="5673600"/>
              <a:ext cx="30240" cy="367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0" y="19"/>
                  </a:moveTo>
                  <a:lnTo>
                    <a:pt x="4" y="23"/>
                  </a:lnTo>
                  <a:lnTo>
                    <a:pt x="19" y="4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454040" y="561024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9"/>
                  </a:moveTo>
                  <a:lnTo>
                    <a:pt x="4" y="23"/>
                  </a:lnTo>
                  <a:lnTo>
                    <a:pt x="17" y="4"/>
                  </a:lnTo>
                  <a:lnTo>
                    <a:pt x="13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496880" y="554688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21"/>
                  </a:moveTo>
                  <a:lnTo>
                    <a:pt x="4" y="25"/>
                  </a:lnTo>
                  <a:lnTo>
                    <a:pt x="19" y="3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42960" y="548496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9"/>
                  </a:moveTo>
                  <a:lnTo>
                    <a:pt x="3" y="23"/>
                  </a:lnTo>
                  <a:lnTo>
                    <a:pt x="17" y="4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587600" y="5424480"/>
              <a:ext cx="3024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0" y="19"/>
                  </a:moveTo>
                  <a:lnTo>
                    <a:pt x="4" y="23"/>
                  </a:lnTo>
                  <a:lnTo>
                    <a:pt x="19" y="4"/>
                  </a:lnTo>
                  <a:lnTo>
                    <a:pt x="16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36560" y="5364000"/>
              <a:ext cx="30240" cy="367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0" y="19"/>
                  </a:moveTo>
                  <a:lnTo>
                    <a:pt x="4" y="23"/>
                  </a:lnTo>
                  <a:lnTo>
                    <a:pt x="19" y="3"/>
                  </a:lnTo>
                  <a:lnTo>
                    <a:pt x="15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685880" y="5302080"/>
              <a:ext cx="27000" cy="36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19"/>
                  </a:moveTo>
                  <a:lnTo>
                    <a:pt x="4" y="23"/>
                  </a:lnTo>
                  <a:lnTo>
                    <a:pt x="17" y="4"/>
                  </a:lnTo>
                  <a:lnTo>
                    <a:pt x="13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33400" y="524196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19"/>
                  </a:moveTo>
                  <a:lnTo>
                    <a:pt x="4" y="23"/>
                  </a:lnTo>
                  <a:lnTo>
                    <a:pt x="18" y="4"/>
                  </a:lnTo>
                  <a:lnTo>
                    <a:pt x="14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79480" y="5183280"/>
              <a:ext cx="30240" cy="3312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18"/>
                  </a:moveTo>
                  <a:lnTo>
                    <a:pt x="4" y="21"/>
                  </a:lnTo>
                  <a:lnTo>
                    <a:pt x="19" y="4"/>
                  </a:lnTo>
                  <a:lnTo>
                    <a:pt x="16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828800" y="5119560"/>
              <a:ext cx="30240" cy="399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21"/>
                  </a:moveTo>
                  <a:lnTo>
                    <a:pt x="4" y="25"/>
                  </a:lnTo>
                  <a:lnTo>
                    <a:pt x="19" y="4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78120" y="5065560"/>
              <a:ext cx="3312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7"/>
                  </a:moveTo>
                  <a:lnTo>
                    <a:pt x="3" y="21"/>
                  </a:lnTo>
                  <a:lnTo>
                    <a:pt x="21" y="3"/>
                  </a:lnTo>
                  <a:lnTo>
                    <a:pt x="17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928880" y="5006880"/>
              <a:ext cx="33120" cy="3672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19"/>
                  </a:moveTo>
                  <a:lnTo>
                    <a:pt x="4" y="23"/>
                  </a:lnTo>
                  <a:lnTo>
                    <a:pt x="21" y="4"/>
                  </a:lnTo>
                  <a:lnTo>
                    <a:pt x="17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981080" y="4950000"/>
              <a:ext cx="33480" cy="3636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0" y="19"/>
                  </a:moveTo>
                  <a:lnTo>
                    <a:pt x="4" y="23"/>
                  </a:lnTo>
                  <a:lnTo>
                    <a:pt x="21" y="3"/>
                  </a:lnTo>
                  <a:lnTo>
                    <a:pt x="17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031840" y="489420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7"/>
                  </a:moveTo>
                  <a:lnTo>
                    <a:pt x="4" y="21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084400" y="483696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7"/>
                  </a:moveTo>
                  <a:lnTo>
                    <a:pt x="4" y="21"/>
                  </a:lnTo>
                  <a:lnTo>
                    <a:pt x="21" y="4"/>
                  </a:lnTo>
                  <a:lnTo>
                    <a:pt x="17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197080" y="4727520"/>
              <a:ext cx="30240" cy="3348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17"/>
                  </a:moveTo>
                  <a:lnTo>
                    <a:pt x="2" y="21"/>
                  </a:lnTo>
                  <a:lnTo>
                    <a:pt x="19" y="3"/>
                  </a:lnTo>
                  <a:lnTo>
                    <a:pt x="15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249640" y="467208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7"/>
                  </a:moveTo>
                  <a:lnTo>
                    <a:pt x="3" y="21"/>
                  </a:lnTo>
                  <a:lnTo>
                    <a:pt x="21" y="6"/>
                  </a:lnTo>
                  <a:lnTo>
                    <a:pt x="1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306520" y="4618080"/>
              <a:ext cx="3024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0" y="17"/>
                  </a:moveTo>
                  <a:lnTo>
                    <a:pt x="2" y="23"/>
                  </a:lnTo>
                  <a:lnTo>
                    <a:pt x="19" y="5"/>
                  </a:lnTo>
                  <a:lnTo>
                    <a:pt x="15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362320" y="4565520"/>
              <a:ext cx="29880" cy="3348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15"/>
                  </a:moveTo>
                  <a:lnTo>
                    <a:pt x="2" y="21"/>
                  </a:lnTo>
                  <a:lnTo>
                    <a:pt x="19" y="4"/>
                  </a:lnTo>
                  <a:lnTo>
                    <a:pt x="17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416320" y="4516560"/>
              <a:ext cx="27000" cy="284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4"/>
                  </a:moveTo>
                  <a:lnTo>
                    <a:pt x="4" y="18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147760" y="479736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0"/>
                  </a:lnTo>
                  <a:lnTo>
                    <a:pt x="4" y="5"/>
                  </a:lnTo>
                  <a:lnTo>
                    <a:pt x="4" y="5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475000" y="446256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5"/>
                  </a:moveTo>
                  <a:lnTo>
                    <a:pt x="2" y="21"/>
                  </a:lnTo>
                  <a:lnTo>
                    <a:pt x="21" y="5"/>
                  </a:lnTo>
                  <a:lnTo>
                    <a:pt x="19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532240" y="4413240"/>
              <a:ext cx="3312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5"/>
                  </a:moveTo>
                  <a:lnTo>
                    <a:pt x="4" y="19"/>
                  </a:lnTo>
                  <a:lnTo>
                    <a:pt x="21" y="4"/>
                  </a:lnTo>
                  <a:lnTo>
                    <a:pt x="19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592360" y="43610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16"/>
                  </a:moveTo>
                  <a:lnTo>
                    <a:pt x="2" y="22"/>
                  </a:lnTo>
                  <a:lnTo>
                    <a:pt x="22" y="6"/>
                  </a:lnTo>
                  <a:lnTo>
                    <a:pt x="18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651040" y="431316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5"/>
                  </a:moveTo>
                  <a:lnTo>
                    <a:pt x="2" y="19"/>
                  </a:lnTo>
                  <a:lnTo>
                    <a:pt x="21" y="4"/>
                  </a:lnTo>
                  <a:lnTo>
                    <a:pt x="19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733840" y="3201840"/>
              <a:ext cx="4352760" cy="1074960"/>
            </a:xfrm>
            <a:custGeom>
              <a:avLst/>
              <a:gdLst/>
              <a:ahLst/>
              <a:rect l="l" t="t" r="r" b="b"/>
              <a:pathLst>
                <a:path w="2742" h="677">
                  <a:moveTo>
                    <a:pt x="0" y="677"/>
                  </a:moveTo>
                  <a:lnTo>
                    <a:pt x="182" y="542"/>
                  </a:lnTo>
                  <a:lnTo>
                    <a:pt x="364" y="427"/>
                  </a:lnTo>
                  <a:lnTo>
                    <a:pt x="548" y="331"/>
                  </a:lnTo>
                  <a:lnTo>
                    <a:pt x="731" y="249"/>
                  </a:lnTo>
                  <a:lnTo>
                    <a:pt x="913" y="182"/>
                  </a:lnTo>
                  <a:lnTo>
                    <a:pt x="1095" y="128"/>
                  </a:lnTo>
                  <a:lnTo>
                    <a:pt x="1280" y="84"/>
                  </a:lnTo>
                  <a:lnTo>
                    <a:pt x="1462" y="49"/>
                  </a:lnTo>
                  <a:lnTo>
                    <a:pt x="1644" y="25"/>
                  </a:lnTo>
                  <a:lnTo>
                    <a:pt x="1828" y="9"/>
                  </a:lnTo>
                  <a:lnTo>
                    <a:pt x="2011" y="2"/>
                  </a:lnTo>
                  <a:lnTo>
                    <a:pt x="2193" y="0"/>
                  </a:lnTo>
                  <a:lnTo>
                    <a:pt x="2375" y="3"/>
                  </a:lnTo>
                  <a:lnTo>
                    <a:pt x="2559" y="11"/>
                  </a:lnTo>
                  <a:lnTo>
                    <a:pt x="2742" y="25"/>
                  </a:lnTo>
                </a:path>
              </a:pathLst>
            </a:custGeom>
            <a:noFill/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278000" y="5859360"/>
              <a:ext cx="2052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23"/>
                  </a:moveTo>
                  <a:lnTo>
                    <a:pt x="3" y="25"/>
                  </a:lnTo>
                  <a:lnTo>
                    <a:pt x="13" y="2"/>
                  </a:lnTo>
                  <a:lnTo>
                    <a:pt x="7" y="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338" name=""/>
          <p:cNvSpPr/>
          <p:nvPr/>
        </p:nvSpPr>
        <p:spPr>
          <a:xfrm>
            <a:off x="1235160" y="923760"/>
            <a:ext cx="87120" cy="4975560"/>
          </a:xfrm>
          <a:custGeom>
            <a:avLst/>
            <a:gdLst/>
            <a:ahLst/>
            <a:rect l="l" t="t" r="r" b="b"/>
            <a:pathLst>
              <a:path w="55" h="3134">
                <a:moveTo>
                  <a:pt x="29" y="3134"/>
                </a:moveTo>
                <a:lnTo>
                  <a:pt x="29" y="0"/>
                </a:lnTo>
                <a:lnTo>
                  <a:pt x="55" y="27"/>
                </a:lnTo>
                <a:lnTo>
                  <a:pt x="0" y="27"/>
                </a:lnTo>
                <a:lnTo>
                  <a:pt x="29" y="0"/>
                </a:lnTo>
              </a:path>
            </a:pathLst>
          </a:custGeom>
          <a:solidFill>
            <a:srgbClr val="cecece"/>
          </a:solidFill>
          <a:ln w="1260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4920" y="7236000"/>
            <a:ext cx="1440" cy="144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4920" y="7236000"/>
            <a:ext cx="1440" cy="144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281240" y="5899320"/>
            <a:ext cx="5806800" cy="288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959880" y="6021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531040" y="6021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056480" y="6021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680560" y="60213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202400" y="60213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3131640" y="6315120"/>
            <a:ext cx="205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Times New Roman"/>
              </a:rPr>
              <a:t>Soak time (hr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rot="16200000">
            <a:off x="-1352160" y="3219840"/>
            <a:ext cx="4341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Times New Roman"/>
              </a:rPr>
              <a:t>Probability of being on a hook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906560" y="1878120"/>
            <a:ext cx="51134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Times New Roman"/>
              </a:rPr>
              <a:t>No captures after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Times New Roman"/>
              </a:rPr>
              <a:t>deployment e.g. seabird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292520" y="2116080"/>
            <a:ext cx="84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cecece"/>
                </a:solidFill>
                <a:latin typeface="Times New Roman"/>
              </a:rPr>
              <a:t> &lt; 0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484360" y="2708280"/>
            <a:ext cx="45720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Times New Roman"/>
              </a:rPr>
              <a:t>Captures exceed loss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Times New Roman"/>
              </a:rPr>
              <a:t>e.g. blue shark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292520" y="3013200"/>
            <a:ext cx="84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cecece"/>
                </a:solidFill>
                <a:latin typeface="Times New Roman"/>
              </a:rPr>
              <a:t>&gt; 0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289640" y="5300640"/>
            <a:ext cx="84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cecece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292520" y="4165560"/>
            <a:ext cx="8420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cecece"/>
                </a:solidFill>
                <a:latin typeface="Times New Roman"/>
              </a:rPr>
              <a:t>&lt; 0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346560" y="3983040"/>
            <a:ext cx="36734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Times New Roman"/>
              </a:rPr>
              <a:t>Losses eventually exceed captures</a:t>
            </a:r>
            <a:br>
              <a:rPr sz="3200"/>
            </a:br>
            <a:r>
              <a:rPr b="0" lang="en-US" sz="3200" spc="-1" strike="noStrike">
                <a:solidFill>
                  <a:srgbClr val="cecece"/>
                </a:solidFill>
                <a:latin typeface="Times New Roman"/>
              </a:rPr>
              <a:t>e.g. skipjack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305080" y="4902120"/>
            <a:ext cx="45720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Times New Roman"/>
              </a:rPr>
              <a:t>Captures balance losse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Times New Roman"/>
              </a:rPr>
              <a:t>e.g. yellowfin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indefinite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indefinite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indefinite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indefinite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7" name="" descr=""/>
          <p:cNvPicPr/>
          <p:nvPr/>
        </p:nvPicPr>
        <p:blipFill>
          <a:blip r:embed="rId1"/>
          <a:stretch/>
        </p:blipFill>
        <p:spPr>
          <a:xfrm>
            <a:off x="380880" y="552600"/>
            <a:ext cx="8534520" cy="6610320"/>
          </a:xfrm>
          <a:prstGeom prst="rect">
            <a:avLst/>
          </a:prstGeom>
          <a:ln w="0">
            <a:noFill/>
          </a:ln>
        </p:spPr>
      </p:pic>
      <p:sp>
        <p:nvSpPr>
          <p:cNvPr id="1358" name=""/>
          <p:cNvSpPr/>
          <p:nvPr/>
        </p:nvSpPr>
        <p:spPr>
          <a:xfrm>
            <a:off x="2666880" y="53514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porbeagl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516040" y="1084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wordfis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696080" y="14652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oilfis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781680" y="10843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escolar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752840" y="276084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lue shar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oak time effect generally consistent among areas</a:t>
            </a:r>
            <a:endParaRPr b="0" lang="en-US" sz="40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" descr=""/>
          <p:cNvPicPr/>
          <p:nvPr/>
        </p:nvPicPr>
        <p:blipFill>
          <a:blip r:embed="rId1"/>
          <a:stretch/>
        </p:blipFill>
        <p:spPr>
          <a:xfrm>
            <a:off x="-849240" y="-1246320"/>
            <a:ext cx="11131560" cy="11464920"/>
          </a:xfrm>
          <a:prstGeom prst="rect">
            <a:avLst/>
          </a:prstGeom>
          <a:ln w="0">
            <a:noFill/>
          </a:ln>
        </p:spPr>
      </p:pic>
      <p:sp>
        <p:nvSpPr>
          <p:cNvPr id="1365" name=""/>
          <p:cNvSpPr/>
          <p:nvPr/>
        </p:nvSpPr>
        <p:spPr>
          <a:xfrm>
            <a:off x="-181080" y="4294080"/>
            <a:ext cx="9721800" cy="2808360"/>
          </a:xfrm>
          <a:custGeom>
            <a:avLst/>
            <a:gdLst/>
            <a:ahLst/>
            <a:rect l="l" t="t" r="r" b="b"/>
            <a:pathLst>
              <a:path w="6124" h="1769">
                <a:moveTo>
                  <a:pt x="91" y="226"/>
                </a:moveTo>
                <a:lnTo>
                  <a:pt x="1452" y="226"/>
                </a:lnTo>
                <a:lnTo>
                  <a:pt x="2540" y="0"/>
                </a:lnTo>
                <a:lnTo>
                  <a:pt x="3085" y="90"/>
                </a:lnTo>
                <a:lnTo>
                  <a:pt x="3584" y="226"/>
                </a:lnTo>
                <a:lnTo>
                  <a:pt x="4128" y="362"/>
                </a:lnTo>
                <a:lnTo>
                  <a:pt x="4763" y="499"/>
                </a:lnTo>
                <a:lnTo>
                  <a:pt x="5307" y="589"/>
                </a:lnTo>
                <a:lnTo>
                  <a:pt x="5761" y="589"/>
                </a:lnTo>
                <a:lnTo>
                  <a:pt x="6033" y="453"/>
                </a:lnTo>
                <a:lnTo>
                  <a:pt x="6124" y="408"/>
                </a:lnTo>
                <a:lnTo>
                  <a:pt x="6124" y="1769"/>
                </a:lnTo>
                <a:lnTo>
                  <a:pt x="0" y="1769"/>
                </a:lnTo>
                <a:lnTo>
                  <a:pt x="0" y="226"/>
                </a:lnTo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31640" y="6165720"/>
            <a:ext cx="52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Mesopelagic communit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11280" y="5445000"/>
            <a:ext cx="377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wordfis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313080" y="5661000"/>
            <a:ext cx="378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opah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508720" y="5229360"/>
            <a:ext cx="377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bigeye tuna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5320" y="6005520"/>
            <a:ext cx="58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Times New Roman"/>
              </a:rPr>
              <a:t>500m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75320" y="4925880"/>
            <a:ext cx="58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Times New Roman"/>
              </a:rPr>
              <a:t>400m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75320" y="3911760"/>
            <a:ext cx="58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Times New Roman"/>
              </a:rPr>
              <a:t>300m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75320" y="2895480"/>
            <a:ext cx="58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Times New Roman"/>
              </a:rPr>
              <a:t>200m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75320" y="1757520"/>
            <a:ext cx="58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Times New Roman"/>
              </a:rPr>
              <a:t>100m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30200" y="736560"/>
            <a:ext cx="32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Times New Roman"/>
              </a:rPr>
              <a:t>0m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211640" y="44280"/>
            <a:ext cx="47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Epipelagic community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474920" y="1197000"/>
            <a:ext cx="377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striped marlin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753080" y="1844640"/>
            <a:ext cx="377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yellowfin tuna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724360" y="3286080"/>
            <a:ext cx="378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wahoo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34920" y="620640"/>
            <a:ext cx="9289800" cy="6192360"/>
            <a:chOff x="34920" y="620640"/>
            <a:chExt cx="9289800" cy="6192360"/>
          </a:xfrm>
        </p:grpSpPr>
        <p:sp>
          <p:nvSpPr>
            <p:cNvPr id="1381" name=""/>
            <p:cNvSpPr/>
            <p:nvPr/>
          </p:nvSpPr>
          <p:spPr>
            <a:xfrm>
              <a:off x="5196960" y="620640"/>
              <a:ext cx="3966480" cy="5726520"/>
            </a:xfrm>
            <a:custGeom>
              <a:avLst/>
              <a:gdLst/>
              <a:ahLst/>
              <a:rect l="l" t="t" r="r" b="b"/>
              <a:pathLst>
                <a:path w="432" h="720">
                  <a:moveTo>
                    <a:pt x="0" y="720"/>
                  </a:moveTo>
                  <a:cubicBezTo>
                    <a:pt x="239" y="720"/>
                    <a:pt x="432" y="398"/>
                    <a:pt x="432" y="0"/>
                  </a:cubicBezTo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33280" y="757440"/>
              <a:ext cx="4963320" cy="5589720"/>
            </a:xfrm>
            <a:custGeom>
              <a:avLst/>
              <a:gdLst/>
              <a:ahLst/>
              <a:rect l="l" t="t" r="r" b="b"/>
              <a:pathLst>
                <a:path w="540" h="720">
                  <a:moveTo>
                    <a:pt x="540" y="720"/>
                  </a:moveTo>
                  <a:cubicBezTo>
                    <a:pt x="242" y="720"/>
                    <a:pt x="0" y="398"/>
                    <a:pt x="0" y="0"/>
                  </a:cubicBezTo>
                </a:path>
              </a:pathLst>
            </a:custGeom>
            <a:noFill/>
            <a:ln w="255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204440" y="6297120"/>
              <a:ext cx="200160" cy="51588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969280" y="5849280"/>
              <a:ext cx="198360" cy="51408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905480" y="5132160"/>
              <a:ext cx="198360" cy="51588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255680" y="4325400"/>
              <a:ext cx="198360" cy="51588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24680" y="3495960"/>
              <a:ext cx="198000" cy="51588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3720" y="2600280"/>
              <a:ext cx="198360" cy="51588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906760" y="2689560"/>
              <a:ext cx="164880" cy="51408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9071640" y="1615680"/>
              <a:ext cx="160920" cy="51372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9163800" y="910440"/>
              <a:ext cx="160920" cy="51408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8177400" y="4416480"/>
              <a:ext cx="160560" cy="51408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533360" y="5223240"/>
              <a:ext cx="165240" cy="51372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708240" y="5940360"/>
              <a:ext cx="162720" cy="51408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857560" y="6274080"/>
              <a:ext cx="160560" cy="51408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35360" y="1615680"/>
              <a:ext cx="198360" cy="51588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920" y="910440"/>
              <a:ext cx="198360" cy="51588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3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3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3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3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3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3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762120"/>
            <a:ext cx="8610480" cy="228600"/>
          </a:xfrm>
          <a:custGeom>
            <a:avLst/>
            <a:gdLst/>
            <a:ahLst/>
            <a:rect l="l" t="t" r="r" b="b"/>
            <a:pathLst>
              <a:path w="5424" h="144">
                <a:moveTo>
                  <a:pt x="0" y="48"/>
                </a:moveTo>
                <a:cubicBezTo>
                  <a:pt x="88" y="72"/>
                  <a:pt x="176" y="96"/>
                  <a:pt x="240" y="96"/>
                </a:cubicBezTo>
                <a:cubicBezTo>
                  <a:pt x="304" y="96"/>
                  <a:pt x="312" y="48"/>
                  <a:pt x="384" y="48"/>
                </a:cubicBezTo>
                <a:cubicBezTo>
                  <a:pt x="456" y="48"/>
                  <a:pt x="592" y="96"/>
                  <a:pt x="672" y="96"/>
                </a:cubicBezTo>
                <a:cubicBezTo>
                  <a:pt x="752" y="96"/>
                  <a:pt x="784" y="48"/>
                  <a:pt x="864" y="48"/>
                </a:cubicBezTo>
                <a:cubicBezTo>
                  <a:pt x="944" y="48"/>
                  <a:pt x="1088" y="104"/>
                  <a:pt x="1152" y="96"/>
                </a:cubicBezTo>
                <a:cubicBezTo>
                  <a:pt x="1216" y="88"/>
                  <a:pt x="1192" y="0"/>
                  <a:pt x="1248" y="0"/>
                </a:cubicBezTo>
                <a:cubicBezTo>
                  <a:pt x="1304" y="0"/>
                  <a:pt x="1416" y="88"/>
                  <a:pt x="1488" y="96"/>
                </a:cubicBezTo>
                <a:cubicBezTo>
                  <a:pt x="1560" y="104"/>
                  <a:pt x="1608" y="48"/>
                  <a:pt x="1680" y="48"/>
                </a:cubicBezTo>
                <a:cubicBezTo>
                  <a:pt x="1752" y="48"/>
                  <a:pt x="1856" y="104"/>
                  <a:pt x="1920" y="96"/>
                </a:cubicBezTo>
                <a:cubicBezTo>
                  <a:pt x="1984" y="88"/>
                  <a:pt x="2008" y="0"/>
                  <a:pt x="2064" y="0"/>
                </a:cubicBezTo>
                <a:cubicBezTo>
                  <a:pt x="2120" y="0"/>
                  <a:pt x="2192" y="88"/>
                  <a:pt x="2256" y="96"/>
                </a:cubicBezTo>
                <a:cubicBezTo>
                  <a:pt x="2320" y="104"/>
                  <a:pt x="2392" y="48"/>
                  <a:pt x="2448" y="48"/>
                </a:cubicBezTo>
                <a:cubicBezTo>
                  <a:pt x="2504" y="48"/>
                  <a:pt x="2536" y="96"/>
                  <a:pt x="2592" y="96"/>
                </a:cubicBezTo>
                <a:cubicBezTo>
                  <a:pt x="2648" y="96"/>
                  <a:pt x="2712" y="48"/>
                  <a:pt x="2784" y="48"/>
                </a:cubicBezTo>
                <a:cubicBezTo>
                  <a:pt x="2856" y="48"/>
                  <a:pt x="2952" y="96"/>
                  <a:pt x="3024" y="96"/>
                </a:cubicBezTo>
                <a:cubicBezTo>
                  <a:pt x="3096" y="96"/>
                  <a:pt x="3144" y="48"/>
                  <a:pt x="3216" y="48"/>
                </a:cubicBezTo>
                <a:cubicBezTo>
                  <a:pt x="3288" y="48"/>
                  <a:pt x="3384" y="96"/>
                  <a:pt x="3456" y="96"/>
                </a:cubicBezTo>
                <a:cubicBezTo>
                  <a:pt x="3528" y="96"/>
                  <a:pt x="3592" y="56"/>
                  <a:pt x="3648" y="48"/>
                </a:cubicBezTo>
                <a:cubicBezTo>
                  <a:pt x="3704" y="40"/>
                  <a:pt x="3728" y="40"/>
                  <a:pt x="3792" y="48"/>
                </a:cubicBezTo>
                <a:cubicBezTo>
                  <a:pt x="3856" y="56"/>
                  <a:pt x="3960" y="96"/>
                  <a:pt x="4032" y="96"/>
                </a:cubicBezTo>
                <a:cubicBezTo>
                  <a:pt x="4104" y="96"/>
                  <a:pt x="4168" y="48"/>
                  <a:pt x="4224" y="48"/>
                </a:cubicBezTo>
                <a:cubicBezTo>
                  <a:pt x="4280" y="48"/>
                  <a:pt x="4312" y="96"/>
                  <a:pt x="4368" y="96"/>
                </a:cubicBezTo>
                <a:cubicBezTo>
                  <a:pt x="4424" y="96"/>
                  <a:pt x="4488" y="48"/>
                  <a:pt x="4560" y="48"/>
                </a:cubicBezTo>
                <a:cubicBezTo>
                  <a:pt x="4632" y="48"/>
                  <a:pt x="4720" y="96"/>
                  <a:pt x="4800" y="96"/>
                </a:cubicBezTo>
                <a:cubicBezTo>
                  <a:pt x="4880" y="96"/>
                  <a:pt x="4960" y="40"/>
                  <a:pt x="5040" y="48"/>
                </a:cubicBezTo>
                <a:cubicBezTo>
                  <a:pt x="5120" y="56"/>
                  <a:pt x="5216" y="144"/>
                  <a:pt x="5280" y="144"/>
                </a:cubicBezTo>
                <a:cubicBezTo>
                  <a:pt x="5344" y="144"/>
                  <a:pt x="5376" y="64"/>
                  <a:pt x="5424" y="48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-228600" y="380880"/>
            <a:ext cx="8610120" cy="3036240"/>
            <a:chOff x="-228600" y="380880"/>
            <a:chExt cx="8610120" cy="3036240"/>
          </a:xfrm>
        </p:grpSpPr>
        <p:sp>
          <p:nvSpPr>
            <p:cNvPr id="83" name=""/>
            <p:cNvSpPr/>
            <p:nvPr/>
          </p:nvSpPr>
          <p:spPr>
            <a:xfrm>
              <a:off x="4916880" y="1119960"/>
              <a:ext cx="1524240" cy="1954080"/>
            </a:xfrm>
            <a:custGeom>
              <a:avLst/>
              <a:gdLst/>
              <a:ahLst/>
              <a:rect l="l" t="t" r="r" b="b"/>
              <a:pathLst>
                <a:path w="432" h="720">
                  <a:moveTo>
                    <a:pt x="0" y="720"/>
                  </a:moveTo>
                  <a:cubicBezTo>
                    <a:pt x="239" y="720"/>
                    <a:pt x="432" y="398"/>
                    <a:pt x="432" y="0"/>
                  </a:cubicBezTo>
                </a:path>
              </a:pathLst>
            </a:custGeom>
            <a:noFill/>
            <a:ln w="255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09240" y="1166400"/>
              <a:ext cx="1907280" cy="1907280"/>
            </a:xfrm>
            <a:custGeom>
              <a:avLst/>
              <a:gdLst/>
              <a:ahLst/>
              <a:rect l="l" t="t" r="r" b="b"/>
              <a:pathLst>
                <a:path w="540" h="720">
                  <a:moveTo>
                    <a:pt x="540" y="720"/>
                  </a:moveTo>
                  <a:cubicBezTo>
                    <a:pt x="242" y="720"/>
                    <a:pt x="0" y="398"/>
                    <a:pt x="0" y="0"/>
                  </a:cubicBezTo>
                </a:path>
              </a:pathLst>
            </a:custGeom>
            <a:noFill/>
            <a:ln w="255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96160" y="1125720"/>
              <a:ext cx="1524240" cy="1954080"/>
            </a:xfrm>
            <a:custGeom>
              <a:avLst/>
              <a:gdLst/>
              <a:ahLst/>
              <a:rect l="l" t="t" r="r" b="b"/>
              <a:pathLst>
                <a:path w="432" h="720">
                  <a:moveTo>
                    <a:pt x="0" y="720"/>
                  </a:moveTo>
                  <a:cubicBezTo>
                    <a:pt x="239" y="720"/>
                    <a:pt x="432" y="398"/>
                    <a:pt x="432" y="0"/>
                  </a:cubicBezTo>
                </a:path>
              </a:pathLst>
            </a:custGeom>
            <a:noFill/>
            <a:ln w="255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74600" y="1125720"/>
              <a:ext cx="1906920" cy="1907280"/>
            </a:xfrm>
            <a:custGeom>
              <a:avLst/>
              <a:gdLst/>
              <a:ahLst/>
              <a:rect l="l" t="t" r="r" b="b"/>
              <a:pathLst>
                <a:path w="540" h="720">
                  <a:moveTo>
                    <a:pt x="540" y="720"/>
                  </a:moveTo>
                  <a:cubicBezTo>
                    <a:pt x="242" y="720"/>
                    <a:pt x="0" y="398"/>
                    <a:pt x="0" y="0"/>
                  </a:cubicBezTo>
                </a:path>
              </a:pathLst>
            </a:custGeom>
            <a:noFill/>
            <a:ln w="2556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-228600" y="847440"/>
              <a:ext cx="1497600" cy="2569680"/>
              <a:chOff x="-228600" y="847440"/>
              <a:chExt cx="1497600" cy="2569680"/>
            </a:xfrm>
          </p:grpSpPr>
          <p:sp>
            <p:nvSpPr>
              <p:cNvPr id="88" name=""/>
              <p:cNvSpPr/>
              <p:nvPr/>
            </p:nvSpPr>
            <p:spPr>
              <a:xfrm>
                <a:off x="-228600" y="1980360"/>
                <a:ext cx="149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200 m</a:t>
                </a:r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76560" y="2285640"/>
                <a:ext cx="0" cy="113148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6560" y="847440"/>
                <a:ext cx="0" cy="113184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3009240" y="380880"/>
              <a:ext cx="3480480" cy="459720"/>
              <a:chOff x="3009240" y="380880"/>
              <a:chExt cx="3480480" cy="459720"/>
            </a:xfrm>
          </p:grpSpPr>
          <p:sp>
            <p:nvSpPr>
              <p:cNvPr id="92" name=""/>
              <p:cNvSpPr/>
              <p:nvPr/>
            </p:nvSpPr>
            <p:spPr>
              <a:xfrm>
                <a:off x="3992760" y="380880"/>
                <a:ext cx="149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00"/>
                    </a:solidFill>
                    <a:latin typeface="Times New Roman"/>
                  </a:rPr>
                  <a:t>400 m</a:t>
                </a:r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03440" y="552600"/>
                <a:ext cx="128628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09240" y="552600"/>
                <a:ext cx="128592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-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1782720" y="724680"/>
              <a:ext cx="6172920" cy="2627640"/>
              <a:chOff x="1782720" y="724680"/>
              <a:chExt cx="6172920" cy="2627640"/>
            </a:xfrm>
          </p:grpSpPr>
          <p:sp>
            <p:nvSpPr>
              <p:cNvPr id="96" name=""/>
              <p:cNvSpPr/>
              <p:nvPr/>
            </p:nvSpPr>
            <p:spPr>
              <a:xfrm>
                <a:off x="6111360" y="2214360"/>
                <a:ext cx="127800" cy="329400"/>
              </a:xfrm>
              <a:custGeom>
                <a:avLst/>
                <a:gdLst/>
                <a:ahLst/>
                <a:rect l="l" t="t" r="r" b="b"/>
                <a:pathLst>
                  <a:path w="81" h="276">
                    <a:moveTo>
                      <a:pt x="54" y="0"/>
                    </a:moveTo>
                    <a:cubicBezTo>
                      <a:pt x="48" y="84"/>
                      <a:pt x="81" y="258"/>
                      <a:pt x="27" y="276"/>
                    </a:cubicBezTo>
                    <a:cubicBezTo>
                      <a:pt x="22" y="275"/>
                      <a:pt x="16" y="276"/>
                      <a:pt x="12" y="273"/>
                    </a:cubicBezTo>
                    <a:cubicBezTo>
                      <a:pt x="6" y="269"/>
                      <a:pt x="0" y="255"/>
                      <a:pt x="0" y="255"/>
                    </a:cubicBezTo>
                    <a:cubicBezTo>
                      <a:pt x="1" y="251"/>
                      <a:pt x="3" y="243"/>
                      <a:pt x="3" y="243"/>
                    </a:cubicBezTo>
                  </a:path>
                </a:pathLst>
              </a:custGeom>
              <a:noFill/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808960" y="2629800"/>
                <a:ext cx="127440" cy="329400"/>
              </a:xfrm>
              <a:custGeom>
                <a:avLst/>
                <a:gdLst/>
                <a:ahLst/>
                <a:rect l="l" t="t" r="r" b="b"/>
                <a:pathLst>
                  <a:path w="81" h="276">
                    <a:moveTo>
                      <a:pt x="54" y="0"/>
                    </a:moveTo>
                    <a:cubicBezTo>
                      <a:pt x="48" y="84"/>
                      <a:pt x="81" y="258"/>
                      <a:pt x="27" y="276"/>
                    </a:cubicBezTo>
                    <a:cubicBezTo>
                      <a:pt x="22" y="275"/>
                      <a:pt x="16" y="276"/>
                      <a:pt x="12" y="273"/>
                    </a:cubicBezTo>
                    <a:cubicBezTo>
                      <a:pt x="6" y="269"/>
                      <a:pt x="0" y="255"/>
                      <a:pt x="0" y="255"/>
                    </a:cubicBezTo>
                    <a:cubicBezTo>
                      <a:pt x="1" y="251"/>
                      <a:pt x="3" y="243"/>
                      <a:pt x="3" y="243"/>
                    </a:cubicBezTo>
                  </a:path>
                </a:pathLst>
              </a:custGeom>
              <a:noFill/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203080" y="3016800"/>
                <a:ext cx="127800" cy="329400"/>
              </a:xfrm>
              <a:custGeom>
                <a:avLst/>
                <a:gdLst/>
                <a:ahLst/>
                <a:rect l="l" t="t" r="r" b="b"/>
                <a:pathLst>
                  <a:path w="81" h="276">
                    <a:moveTo>
                      <a:pt x="54" y="0"/>
                    </a:moveTo>
                    <a:cubicBezTo>
                      <a:pt x="48" y="84"/>
                      <a:pt x="81" y="258"/>
                      <a:pt x="27" y="276"/>
                    </a:cubicBezTo>
                    <a:cubicBezTo>
                      <a:pt x="22" y="275"/>
                      <a:pt x="16" y="276"/>
                      <a:pt x="12" y="273"/>
                    </a:cubicBezTo>
                    <a:cubicBezTo>
                      <a:pt x="6" y="269"/>
                      <a:pt x="0" y="255"/>
                      <a:pt x="0" y="255"/>
                    </a:cubicBezTo>
                    <a:cubicBezTo>
                      <a:pt x="1" y="251"/>
                      <a:pt x="3" y="243"/>
                      <a:pt x="3" y="243"/>
                    </a:cubicBezTo>
                  </a:path>
                </a:pathLst>
              </a:custGeom>
              <a:noFill/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236040" y="2214360"/>
                <a:ext cx="127440" cy="329400"/>
              </a:xfrm>
              <a:custGeom>
                <a:avLst/>
                <a:gdLst/>
                <a:ahLst/>
                <a:rect l="l" t="t" r="r" b="b"/>
                <a:pathLst>
                  <a:path w="81" h="276">
                    <a:moveTo>
                      <a:pt x="54" y="0"/>
                    </a:moveTo>
                    <a:cubicBezTo>
                      <a:pt x="48" y="84"/>
                      <a:pt x="81" y="258"/>
                      <a:pt x="27" y="276"/>
                    </a:cubicBezTo>
                    <a:cubicBezTo>
                      <a:pt x="22" y="275"/>
                      <a:pt x="16" y="276"/>
                      <a:pt x="12" y="273"/>
                    </a:cubicBezTo>
                    <a:cubicBezTo>
                      <a:pt x="6" y="269"/>
                      <a:pt x="0" y="255"/>
                      <a:pt x="0" y="255"/>
                    </a:cubicBezTo>
                    <a:cubicBezTo>
                      <a:pt x="1" y="251"/>
                      <a:pt x="3" y="243"/>
                      <a:pt x="3" y="243"/>
                    </a:cubicBezTo>
                  </a:path>
                </a:pathLst>
              </a:custGeom>
              <a:noFill/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614400" y="2629800"/>
                <a:ext cx="127800" cy="329400"/>
              </a:xfrm>
              <a:custGeom>
                <a:avLst/>
                <a:gdLst/>
                <a:ahLst/>
                <a:rect l="l" t="t" r="r" b="b"/>
                <a:pathLst>
                  <a:path w="81" h="276">
                    <a:moveTo>
                      <a:pt x="54" y="0"/>
                    </a:moveTo>
                    <a:cubicBezTo>
                      <a:pt x="48" y="84"/>
                      <a:pt x="81" y="258"/>
                      <a:pt x="27" y="276"/>
                    </a:cubicBezTo>
                    <a:cubicBezTo>
                      <a:pt x="22" y="275"/>
                      <a:pt x="16" y="276"/>
                      <a:pt x="12" y="273"/>
                    </a:cubicBezTo>
                    <a:cubicBezTo>
                      <a:pt x="6" y="269"/>
                      <a:pt x="0" y="255"/>
                      <a:pt x="0" y="255"/>
                    </a:cubicBezTo>
                    <a:cubicBezTo>
                      <a:pt x="1" y="251"/>
                      <a:pt x="3" y="243"/>
                      <a:pt x="3" y="243"/>
                    </a:cubicBezTo>
                  </a:path>
                </a:pathLst>
              </a:custGeom>
              <a:noFill/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318920" y="3016800"/>
                <a:ext cx="127800" cy="329400"/>
              </a:xfrm>
              <a:custGeom>
                <a:avLst/>
                <a:gdLst/>
                <a:ahLst/>
                <a:rect l="l" t="t" r="r" b="b"/>
                <a:pathLst>
                  <a:path w="81" h="276">
                    <a:moveTo>
                      <a:pt x="54" y="0"/>
                    </a:moveTo>
                    <a:cubicBezTo>
                      <a:pt x="48" y="84"/>
                      <a:pt x="81" y="258"/>
                      <a:pt x="27" y="276"/>
                    </a:cubicBezTo>
                    <a:cubicBezTo>
                      <a:pt x="22" y="275"/>
                      <a:pt x="16" y="276"/>
                      <a:pt x="12" y="273"/>
                    </a:cubicBezTo>
                    <a:cubicBezTo>
                      <a:pt x="6" y="269"/>
                      <a:pt x="0" y="255"/>
                      <a:pt x="0" y="255"/>
                    </a:cubicBezTo>
                    <a:cubicBezTo>
                      <a:pt x="1" y="251"/>
                      <a:pt x="3" y="243"/>
                      <a:pt x="3" y="243"/>
                    </a:cubicBezTo>
                  </a:path>
                </a:pathLst>
              </a:custGeom>
              <a:noFill/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690640" y="2220120"/>
                <a:ext cx="127440" cy="329400"/>
              </a:xfrm>
              <a:custGeom>
                <a:avLst/>
                <a:gdLst/>
                <a:ahLst/>
                <a:rect l="l" t="t" r="r" b="b"/>
                <a:pathLst>
                  <a:path w="81" h="276">
                    <a:moveTo>
                      <a:pt x="54" y="0"/>
                    </a:moveTo>
                    <a:cubicBezTo>
                      <a:pt x="48" y="84"/>
                      <a:pt x="81" y="258"/>
                      <a:pt x="27" y="276"/>
                    </a:cubicBezTo>
                    <a:cubicBezTo>
                      <a:pt x="22" y="275"/>
                      <a:pt x="16" y="276"/>
                      <a:pt x="12" y="273"/>
                    </a:cubicBezTo>
                    <a:cubicBezTo>
                      <a:pt x="6" y="269"/>
                      <a:pt x="0" y="255"/>
                      <a:pt x="0" y="255"/>
                    </a:cubicBezTo>
                    <a:cubicBezTo>
                      <a:pt x="1" y="251"/>
                      <a:pt x="3" y="243"/>
                      <a:pt x="3" y="243"/>
                    </a:cubicBezTo>
                  </a:path>
                </a:pathLst>
              </a:custGeom>
              <a:noFill/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388240" y="2635920"/>
                <a:ext cx="127440" cy="329400"/>
              </a:xfrm>
              <a:custGeom>
                <a:avLst/>
                <a:gdLst/>
                <a:ahLst/>
                <a:rect l="l" t="t" r="r" b="b"/>
                <a:pathLst>
                  <a:path w="81" h="276">
                    <a:moveTo>
                      <a:pt x="54" y="0"/>
                    </a:moveTo>
                    <a:cubicBezTo>
                      <a:pt x="48" y="84"/>
                      <a:pt x="81" y="258"/>
                      <a:pt x="27" y="276"/>
                    </a:cubicBezTo>
                    <a:cubicBezTo>
                      <a:pt x="22" y="275"/>
                      <a:pt x="16" y="276"/>
                      <a:pt x="12" y="273"/>
                    </a:cubicBezTo>
                    <a:cubicBezTo>
                      <a:pt x="6" y="269"/>
                      <a:pt x="0" y="255"/>
                      <a:pt x="0" y="255"/>
                    </a:cubicBezTo>
                    <a:cubicBezTo>
                      <a:pt x="1" y="251"/>
                      <a:pt x="3" y="243"/>
                      <a:pt x="3" y="243"/>
                    </a:cubicBezTo>
                  </a:path>
                </a:pathLst>
              </a:custGeom>
              <a:noFill/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782720" y="3022920"/>
                <a:ext cx="127440" cy="329400"/>
              </a:xfrm>
              <a:custGeom>
                <a:avLst/>
                <a:gdLst/>
                <a:ahLst/>
                <a:rect l="l" t="t" r="r" b="b"/>
                <a:pathLst>
                  <a:path w="81" h="276">
                    <a:moveTo>
                      <a:pt x="54" y="0"/>
                    </a:moveTo>
                    <a:cubicBezTo>
                      <a:pt x="48" y="84"/>
                      <a:pt x="81" y="258"/>
                      <a:pt x="27" y="276"/>
                    </a:cubicBezTo>
                    <a:cubicBezTo>
                      <a:pt x="22" y="275"/>
                      <a:pt x="16" y="276"/>
                      <a:pt x="12" y="273"/>
                    </a:cubicBezTo>
                    <a:cubicBezTo>
                      <a:pt x="6" y="269"/>
                      <a:pt x="0" y="255"/>
                      <a:pt x="0" y="255"/>
                    </a:cubicBezTo>
                    <a:cubicBezTo>
                      <a:pt x="1" y="251"/>
                      <a:pt x="3" y="243"/>
                      <a:pt x="3" y="243"/>
                    </a:cubicBezTo>
                  </a:path>
                </a:pathLst>
              </a:custGeom>
              <a:noFill/>
              <a:ln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20040" y="844920"/>
                <a:ext cx="0" cy="337680"/>
              </a:xfrm>
              <a:prstGeom prst="line">
                <a:avLst/>
              </a:prstGeom>
              <a:ln w="2556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489720" y="839160"/>
                <a:ext cx="0" cy="337680"/>
              </a:xfrm>
              <a:prstGeom prst="line">
                <a:avLst/>
              </a:prstGeom>
              <a:ln w="2556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946240" y="724680"/>
                <a:ext cx="213840" cy="1623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51120" y="724680"/>
                <a:ext cx="213840" cy="1623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0" anchor="ctr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792120" y="2172600"/>
                <a:ext cx="103680" cy="328320"/>
              </a:xfrm>
              <a:custGeom>
                <a:avLst/>
                <a:gdLst/>
                <a:ahLst/>
                <a:rect l="l" t="t" r="r" b="b"/>
                <a:pathLst>
                  <a:path w="66" h="275">
                    <a:moveTo>
                      <a:pt x="0" y="0"/>
                    </a:moveTo>
                    <a:cubicBezTo>
                      <a:pt x="6" y="76"/>
                      <a:pt x="6" y="152"/>
                      <a:pt x="9" y="228"/>
                    </a:cubicBezTo>
                    <a:cubicBezTo>
                      <a:pt x="10" y="244"/>
                      <a:pt x="27" y="273"/>
                      <a:pt x="27" y="273"/>
                    </a:cubicBezTo>
                    <a:cubicBezTo>
                      <a:pt x="36" y="272"/>
                      <a:pt x="46" y="275"/>
                      <a:pt x="54" y="270"/>
                    </a:cubicBezTo>
                    <a:cubicBezTo>
                      <a:pt x="54" y="270"/>
                      <a:pt x="66" y="240"/>
                      <a:pt x="66" y="237"/>
                    </a:cubicBezTo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170840" y="2615400"/>
                <a:ext cx="103680" cy="328320"/>
              </a:xfrm>
              <a:custGeom>
                <a:avLst/>
                <a:gdLst/>
                <a:ahLst/>
                <a:rect l="l" t="t" r="r" b="b"/>
                <a:pathLst>
                  <a:path w="66" h="275">
                    <a:moveTo>
                      <a:pt x="0" y="0"/>
                    </a:moveTo>
                    <a:cubicBezTo>
                      <a:pt x="6" y="76"/>
                      <a:pt x="6" y="152"/>
                      <a:pt x="9" y="228"/>
                    </a:cubicBezTo>
                    <a:cubicBezTo>
                      <a:pt x="10" y="244"/>
                      <a:pt x="27" y="273"/>
                      <a:pt x="27" y="273"/>
                    </a:cubicBezTo>
                    <a:cubicBezTo>
                      <a:pt x="36" y="272"/>
                      <a:pt x="46" y="275"/>
                      <a:pt x="54" y="270"/>
                    </a:cubicBezTo>
                    <a:cubicBezTo>
                      <a:pt x="54" y="270"/>
                      <a:pt x="66" y="240"/>
                      <a:pt x="66" y="237"/>
                    </a:cubicBezTo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851960" y="2959560"/>
                <a:ext cx="103680" cy="328320"/>
              </a:xfrm>
              <a:custGeom>
                <a:avLst/>
                <a:gdLst/>
                <a:ahLst/>
                <a:rect l="l" t="t" r="r" b="b"/>
                <a:pathLst>
                  <a:path w="66" h="275">
                    <a:moveTo>
                      <a:pt x="0" y="0"/>
                    </a:moveTo>
                    <a:cubicBezTo>
                      <a:pt x="6" y="76"/>
                      <a:pt x="6" y="152"/>
                      <a:pt x="9" y="228"/>
                    </a:cubicBezTo>
                    <a:cubicBezTo>
                      <a:pt x="10" y="244"/>
                      <a:pt x="27" y="273"/>
                      <a:pt x="27" y="273"/>
                    </a:cubicBezTo>
                    <a:cubicBezTo>
                      <a:pt x="36" y="272"/>
                      <a:pt x="46" y="275"/>
                      <a:pt x="54" y="270"/>
                    </a:cubicBezTo>
                    <a:cubicBezTo>
                      <a:pt x="54" y="270"/>
                      <a:pt x="66" y="240"/>
                      <a:pt x="66" y="237"/>
                    </a:cubicBezTo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-228600" y="685800"/>
            <a:ext cx="9051840" cy="5791320"/>
            <a:chOff x="-228600" y="685800"/>
            <a:chExt cx="9051840" cy="5791320"/>
          </a:xfrm>
        </p:grpSpPr>
        <p:grpSp>
          <p:nvGrpSpPr>
            <p:cNvPr id="113" name=""/>
            <p:cNvGrpSpPr/>
            <p:nvPr/>
          </p:nvGrpSpPr>
          <p:grpSpPr>
            <a:xfrm>
              <a:off x="441360" y="1211400"/>
              <a:ext cx="8305200" cy="4883760"/>
              <a:chOff x="441360" y="1211400"/>
              <a:chExt cx="8305200" cy="4883760"/>
            </a:xfrm>
          </p:grpSpPr>
          <p:sp>
            <p:nvSpPr>
              <p:cNvPr id="114" name=""/>
              <p:cNvSpPr/>
              <p:nvPr/>
            </p:nvSpPr>
            <p:spPr>
              <a:xfrm>
                <a:off x="6186600" y="1211400"/>
                <a:ext cx="2559960" cy="4869000"/>
              </a:xfrm>
              <a:custGeom>
                <a:avLst/>
                <a:gdLst/>
                <a:ahLst/>
                <a:rect l="l" t="t" r="r" b="b"/>
                <a:pathLst>
                  <a:path w="432" h="720">
                    <a:moveTo>
                      <a:pt x="0" y="720"/>
                    </a:moveTo>
                    <a:cubicBezTo>
                      <a:pt x="239" y="720"/>
                      <a:pt x="432" y="398"/>
                      <a:pt x="432" y="0"/>
                    </a:cubicBezTo>
                  </a:path>
                </a:pathLst>
              </a:custGeom>
              <a:noFill/>
              <a:ln w="2556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982600" y="1327320"/>
                <a:ext cx="3203640" cy="4753080"/>
              </a:xfrm>
              <a:custGeom>
                <a:avLst/>
                <a:gdLst/>
                <a:ahLst/>
                <a:rect l="l" t="t" r="r" b="b"/>
                <a:pathLst>
                  <a:path w="540" h="720">
                    <a:moveTo>
                      <a:pt x="540" y="720"/>
                    </a:moveTo>
                    <a:cubicBezTo>
                      <a:pt x="242" y="720"/>
                      <a:pt x="0" y="398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1360" y="1226160"/>
                <a:ext cx="2559960" cy="4869000"/>
              </a:xfrm>
              <a:custGeom>
                <a:avLst/>
                <a:gdLst/>
                <a:ahLst/>
                <a:rect l="l" t="t" r="r" b="b"/>
                <a:pathLst>
                  <a:path w="432" h="720">
                    <a:moveTo>
                      <a:pt x="0" y="720"/>
                    </a:moveTo>
                    <a:cubicBezTo>
                      <a:pt x="239" y="720"/>
                      <a:pt x="432" y="398"/>
                      <a:pt x="432" y="0"/>
                    </a:cubicBezTo>
                  </a:path>
                </a:pathLst>
              </a:custGeom>
              <a:noFill/>
              <a:ln w="2556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afd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967120" y="846000"/>
              <a:ext cx="0" cy="44928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747280" y="838080"/>
              <a:ext cx="0" cy="44928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2600" y="685800"/>
              <a:ext cx="215640" cy="2160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607600" y="685800"/>
              <a:ext cx="215640" cy="2160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ctr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-228600" y="3489480"/>
              <a:ext cx="150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500 m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5040" y="914400"/>
              <a:ext cx="0" cy="259092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040" y="3886200"/>
              <a:ext cx="0" cy="2590920"/>
            </a:xfrm>
            <a:prstGeom prst="line">
              <a:avLst/>
            </a:prstGeom>
            <a:ln w="2556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46880" y="6039000"/>
              <a:ext cx="128520" cy="43812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56160" y="5486400"/>
              <a:ext cx="128520" cy="43812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46400" y="4952880"/>
              <a:ext cx="128880" cy="43812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41760" y="4362480"/>
              <a:ext cx="128520" cy="43812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13160" y="3886200"/>
              <a:ext cx="128520" cy="43812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84560" y="3352680"/>
              <a:ext cx="128520" cy="43812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489880" y="3357720"/>
              <a:ext cx="104760" cy="43632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94640" y="2819520"/>
              <a:ext cx="104760" cy="43632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37600" y="3906720"/>
              <a:ext cx="104760" cy="43668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109000" y="4440240"/>
              <a:ext cx="104760" cy="43668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04080" y="4973760"/>
              <a:ext cx="104760" cy="43632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375680" y="5506920"/>
              <a:ext cx="104760" cy="43668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13560" y="6019920"/>
              <a:ext cx="104760" cy="43632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51200" y="2819520"/>
              <a:ext cx="104760" cy="43632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27360" y="3352680"/>
              <a:ext cx="104760" cy="43668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75080" y="3886200"/>
              <a:ext cx="104760" cy="43668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46480" y="4419720"/>
              <a:ext cx="104760" cy="43632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89080" y="4952880"/>
              <a:ext cx="104760" cy="43668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60680" y="5486400"/>
              <a:ext cx="104760" cy="43668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8560" y="6019920"/>
              <a:ext cx="104760" cy="436320"/>
            </a:xfrm>
            <a:custGeom>
              <a:avLst/>
              <a:gdLst/>
              <a:ahLst/>
              <a:rect l="l" t="t" r="r" b="b"/>
              <a:pathLst>
                <a:path w="66" h="275">
                  <a:moveTo>
                    <a:pt x="0" y="0"/>
                  </a:moveTo>
                  <a:cubicBezTo>
                    <a:pt x="6" y="76"/>
                    <a:pt x="6" y="152"/>
                    <a:pt x="9" y="228"/>
                  </a:cubicBezTo>
                  <a:cubicBezTo>
                    <a:pt x="10" y="244"/>
                    <a:pt x="27" y="273"/>
                    <a:pt x="27" y="273"/>
                  </a:cubicBezTo>
                  <a:cubicBezTo>
                    <a:pt x="36" y="272"/>
                    <a:pt x="46" y="275"/>
                    <a:pt x="54" y="270"/>
                  </a:cubicBezTo>
                  <a:cubicBezTo>
                    <a:pt x="54" y="270"/>
                    <a:pt x="66" y="240"/>
                    <a:pt x="66" y="237"/>
                  </a:cubicBezTo>
                </a:path>
              </a:pathLst>
            </a:custGeom>
            <a:noFill/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56040" y="2819520"/>
              <a:ext cx="128520" cy="438120"/>
            </a:xfrm>
            <a:custGeom>
              <a:avLst/>
              <a:gdLst/>
              <a:ahLst/>
              <a:rect l="l" t="t" r="r" b="b"/>
              <a:pathLst>
                <a:path w="81" h="276">
                  <a:moveTo>
                    <a:pt x="54" y="0"/>
                  </a:moveTo>
                  <a:cubicBezTo>
                    <a:pt x="48" y="84"/>
                    <a:pt x="81" y="258"/>
                    <a:pt x="27" y="276"/>
                  </a:cubicBezTo>
                  <a:cubicBezTo>
                    <a:pt x="22" y="275"/>
                    <a:pt x="16" y="276"/>
                    <a:pt x="12" y="273"/>
                  </a:cubicBezTo>
                  <a:cubicBezTo>
                    <a:pt x="6" y="269"/>
                    <a:pt x="0" y="255"/>
                    <a:pt x="0" y="255"/>
                  </a:cubicBezTo>
                  <a:cubicBezTo>
                    <a:pt x="1" y="251"/>
                    <a:pt x="3" y="243"/>
                    <a:pt x="3" y="243"/>
                  </a:cubicBezTo>
                </a:path>
              </a:pathLst>
            </a:custGeom>
            <a:noFill/>
            <a:ln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203280" y="287280"/>
            <a:ext cx="6175800" cy="1159560"/>
            <a:chOff x="3203280" y="287280"/>
            <a:chExt cx="6175800" cy="1159560"/>
          </a:xfrm>
        </p:grpSpPr>
        <p:sp>
          <p:nvSpPr>
            <p:cNvPr id="146" name=""/>
            <p:cNvSpPr/>
            <p:nvPr/>
          </p:nvSpPr>
          <p:spPr>
            <a:xfrm>
              <a:off x="3222720" y="287280"/>
              <a:ext cx="61563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        </a:t>
              </a:r>
              <a:r>
                <a:rPr b="0" lang="en-US" sz="3200" spc="-1" strike="noStrike">
                  <a:solidFill>
                    <a:srgbClr val="c0c0c0"/>
                  </a:solidFill>
                  <a:latin typeface="Times New Roman"/>
                </a:rPr>
                <a:t>1950s</a:t>
              </a:r>
              <a:r>
                <a:rPr b="0" lang="en-US" sz="3200" spc="-1" strike="noStrike">
                  <a:solidFill>
                    <a:srgbClr val="c0c0c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c0c0c0"/>
                  </a:solidFill>
                  <a:latin typeface="Times New Roman"/>
                </a:rPr>
                <a:t>         1990s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03280" y="959040"/>
              <a:ext cx="5487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Depth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25–175 m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 25–500 m</a:t>
              </a: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203640" y="1484280"/>
            <a:ext cx="55515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aw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5%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0%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usk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0%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70%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3280" y="2509920"/>
            <a:ext cx="5487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ak tim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5 h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9 h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bserver data from six fisheries</a:t>
            </a:r>
            <a:endParaRPr b="0" lang="en-US" sz="44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51" name=""/>
          <p:cNvSpPr/>
          <p:nvPr/>
        </p:nvSpPr>
        <p:spPr>
          <a:xfrm>
            <a:off x="4567320" y="2136600"/>
            <a:ext cx="1546200" cy="1419480"/>
          </a:xfrm>
          <a:custGeom>
            <a:avLst/>
            <a:gdLst/>
            <a:ahLst/>
            <a:rect l="l" t="t" r="r" b="b"/>
            <a:pathLst>
              <a:path w="974" h="894">
                <a:moveTo>
                  <a:pt x="151" y="839"/>
                </a:moveTo>
                <a:lnTo>
                  <a:pt x="149" y="841"/>
                </a:lnTo>
                <a:lnTo>
                  <a:pt x="151" y="839"/>
                </a:lnTo>
                <a:lnTo>
                  <a:pt x="151" y="839"/>
                </a:lnTo>
                <a:lnTo>
                  <a:pt x="136" y="823"/>
                </a:lnTo>
                <a:lnTo>
                  <a:pt x="119" y="804"/>
                </a:lnTo>
                <a:lnTo>
                  <a:pt x="119" y="804"/>
                </a:lnTo>
                <a:lnTo>
                  <a:pt x="119" y="804"/>
                </a:lnTo>
                <a:lnTo>
                  <a:pt x="119" y="804"/>
                </a:lnTo>
                <a:lnTo>
                  <a:pt x="93" y="772"/>
                </a:lnTo>
                <a:lnTo>
                  <a:pt x="71" y="738"/>
                </a:lnTo>
                <a:lnTo>
                  <a:pt x="48" y="705"/>
                </a:lnTo>
                <a:lnTo>
                  <a:pt x="32" y="669"/>
                </a:lnTo>
                <a:lnTo>
                  <a:pt x="28" y="669"/>
                </a:lnTo>
                <a:lnTo>
                  <a:pt x="32" y="669"/>
                </a:lnTo>
                <a:lnTo>
                  <a:pt x="32" y="669"/>
                </a:lnTo>
                <a:lnTo>
                  <a:pt x="20" y="643"/>
                </a:lnTo>
                <a:lnTo>
                  <a:pt x="11" y="619"/>
                </a:lnTo>
                <a:lnTo>
                  <a:pt x="11" y="619"/>
                </a:lnTo>
                <a:lnTo>
                  <a:pt x="3" y="581"/>
                </a:lnTo>
                <a:lnTo>
                  <a:pt x="0" y="544"/>
                </a:lnTo>
                <a:lnTo>
                  <a:pt x="0" y="508"/>
                </a:lnTo>
                <a:lnTo>
                  <a:pt x="3" y="473"/>
                </a:lnTo>
                <a:lnTo>
                  <a:pt x="9" y="437"/>
                </a:lnTo>
                <a:lnTo>
                  <a:pt x="17" y="402"/>
                </a:lnTo>
                <a:lnTo>
                  <a:pt x="28" y="368"/>
                </a:lnTo>
                <a:lnTo>
                  <a:pt x="41" y="335"/>
                </a:lnTo>
                <a:lnTo>
                  <a:pt x="41" y="335"/>
                </a:lnTo>
                <a:lnTo>
                  <a:pt x="56" y="301"/>
                </a:lnTo>
                <a:lnTo>
                  <a:pt x="73" y="269"/>
                </a:lnTo>
                <a:lnTo>
                  <a:pt x="73" y="269"/>
                </a:lnTo>
                <a:lnTo>
                  <a:pt x="73" y="269"/>
                </a:lnTo>
                <a:lnTo>
                  <a:pt x="112" y="213"/>
                </a:lnTo>
                <a:lnTo>
                  <a:pt x="112" y="213"/>
                </a:lnTo>
                <a:lnTo>
                  <a:pt x="112" y="213"/>
                </a:lnTo>
                <a:lnTo>
                  <a:pt x="110" y="211"/>
                </a:lnTo>
                <a:lnTo>
                  <a:pt x="112" y="213"/>
                </a:lnTo>
                <a:lnTo>
                  <a:pt x="110" y="211"/>
                </a:lnTo>
                <a:lnTo>
                  <a:pt x="110" y="211"/>
                </a:lnTo>
                <a:lnTo>
                  <a:pt x="110" y="211"/>
                </a:lnTo>
                <a:lnTo>
                  <a:pt x="110" y="211"/>
                </a:lnTo>
                <a:lnTo>
                  <a:pt x="112" y="213"/>
                </a:lnTo>
                <a:lnTo>
                  <a:pt x="112" y="213"/>
                </a:lnTo>
                <a:lnTo>
                  <a:pt x="129" y="189"/>
                </a:lnTo>
                <a:lnTo>
                  <a:pt x="147" y="163"/>
                </a:lnTo>
                <a:lnTo>
                  <a:pt x="168" y="138"/>
                </a:lnTo>
                <a:lnTo>
                  <a:pt x="190" y="114"/>
                </a:lnTo>
                <a:lnTo>
                  <a:pt x="213" y="92"/>
                </a:lnTo>
                <a:lnTo>
                  <a:pt x="239" y="71"/>
                </a:lnTo>
                <a:lnTo>
                  <a:pt x="265" y="50"/>
                </a:lnTo>
                <a:lnTo>
                  <a:pt x="291" y="35"/>
                </a:lnTo>
                <a:lnTo>
                  <a:pt x="291" y="35"/>
                </a:lnTo>
                <a:lnTo>
                  <a:pt x="320" y="20"/>
                </a:lnTo>
                <a:lnTo>
                  <a:pt x="348" y="11"/>
                </a:lnTo>
                <a:lnTo>
                  <a:pt x="377" y="4"/>
                </a:lnTo>
                <a:lnTo>
                  <a:pt x="406" y="0"/>
                </a:lnTo>
                <a:lnTo>
                  <a:pt x="420" y="0"/>
                </a:lnTo>
                <a:lnTo>
                  <a:pt x="435" y="2"/>
                </a:lnTo>
                <a:lnTo>
                  <a:pt x="452" y="4"/>
                </a:lnTo>
                <a:lnTo>
                  <a:pt x="467" y="7"/>
                </a:lnTo>
                <a:lnTo>
                  <a:pt x="482" y="13"/>
                </a:lnTo>
                <a:lnTo>
                  <a:pt x="497" y="19"/>
                </a:lnTo>
                <a:lnTo>
                  <a:pt x="512" y="26"/>
                </a:lnTo>
                <a:lnTo>
                  <a:pt x="527" y="35"/>
                </a:lnTo>
                <a:lnTo>
                  <a:pt x="527" y="35"/>
                </a:lnTo>
                <a:lnTo>
                  <a:pt x="527" y="39"/>
                </a:lnTo>
                <a:lnTo>
                  <a:pt x="527" y="39"/>
                </a:lnTo>
                <a:lnTo>
                  <a:pt x="525" y="58"/>
                </a:lnTo>
                <a:lnTo>
                  <a:pt x="521" y="77"/>
                </a:lnTo>
                <a:lnTo>
                  <a:pt x="514" y="92"/>
                </a:lnTo>
                <a:lnTo>
                  <a:pt x="505" y="106"/>
                </a:lnTo>
                <a:lnTo>
                  <a:pt x="495" y="118"/>
                </a:lnTo>
                <a:lnTo>
                  <a:pt x="482" y="131"/>
                </a:lnTo>
                <a:lnTo>
                  <a:pt x="454" y="153"/>
                </a:lnTo>
                <a:lnTo>
                  <a:pt x="454" y="153"/>
                </a:lnTo>
                <a:lnTo>
                  <a:pt x="426" y="174"/>
                </a:lnTo>
                <a:lnTo>
                  <a:pt x="411" y="185"/>
                </a:lnTo>
                <a:lnTo>
                  <a:pt x="398" y="198"/>
                </a:lnTo>
                <a:lnTo>
                  <a:pt x="387" y="209"/>
                </a:lnTo>
                <a:lnTo>
                  <a:pt x="377" y="224"/>
                </a:lnTo>
                <a:lnTo>
                  <a:pt x="368" y="239"/>
                </a:lnTo>
                <a:lnTo>
                  <a:pt x="363" y="254"/>
                </a:lnTo>
                <a:lnTo>
                  <a:pt x="363" y="254"/>
                </a:lnTo>
                <a:lnTo>
                  <a:pt x="363" y="254"/>
                </a:lnTo>
                <a:lnTo>
                  <a:pt x="359" y="277"/>
                </a:lnTo>
                <a:lnTo>
                  <a:pt x="359" y="297"/>
                </a:lnTo>
                <a:lnTo>
                  <a:pt x="363" y="316"/>
                </a:lnTo>
                <a:lnTo>
                  <a:pt x="368" y="333"/>
                </a:lnTo>
                <a:lnTo>
                  <a:pt x="377" y="350"/>
                </a:lnTo>
                <a:lnTo>
                  <a:pt x="389" y="365"/>
                </a:lnTo>
                <a:lnTo>
                  <a:pt x="402" y="379"/>
                </a:lnTo>
                <a:lnTo>
                  <a:pt x="417" y="391"/>
                </a:lnTo>
                <a:lnTo>
                  <a:pt x="417" y="391"/>
                </a:lnTo>
                <a:lnTo>
                  <a:pt x="434" y="402"/>
                </a:lnTo>
                <a:lnTo>
                  <a:pt x="452" y="409"/>
                </a:lnTo>
                <a:lnTo>
                  <a:pt x="471" y="417"/>
                </a:lnTo>
                <a:lnTo>
                  <a:pt x="492" y="421"/>
                </a:lnTo>
                <a:lnTo>
                  <a:pt x="510" y="422"/>
                </a:lnTo>
                <a:lnTo>
                  <a:pt x="531" y="422"/>
                </a:lnTo>
                <a:lnTo>
                  <a:pt x="550" y="421"/>
                </a:lnTo>
                <a:lnTo>
                  <a:pt x="570" y="417"/>
                </a:lnTo>
                <a:lnTo>
                  <a:pt x="570" y="417"/>
                </a:lnTo>
                <a:lnTo>
                  <a:pt x="570" y="417"/>
                </a:lnTo>
                <a:lnTo>
                  <a:pt x="594" y="408"/>
                </a:lnTo>
                <a:lnTo>
                  <a:pt x="619" y="396"/>
                </a:lnTo>
                <a:lnTo>
                  <a:pt x="641" y="381"/>
                </a:lnTo>
                <a:lnTo>
                  <a:pt x="662" y="366"/>
                </a:lnTo>
                <a:lnTo>
                  <a:pt x="680" y="348"/>
                </a:lnTo>
                <a:lnTo>
                  <a:pt x="699" y="329"/>
                </a:lnTo>
                <a:lnTo>
                  <a:pt x="735" y="292"/>
                </a:lnTo>
                <a:lnTo>
                  <a:pt x="770" y="254"/>
                </a:lnTo>
                <a:lnTo>
                  <a:pt x="789" y="237"/>
                </a:lnTo>
                <a:lnTo>
                  <a:pt x="808" y="222"/>
                </a:lnTo>
                <a:lnTo>
                  <a:pt x="830" y="207"/>
                </a:lnTo>
                <a:lnTo>
                  <a:pt x="852" y="198"/>
                </a:lnTo>
                <a:lnTo>
                  <a:pt x="879" y="189"/>
                </a:lnTo>
                <a:lnTo>
                  <a:pt x="905" y="185"/>
                </a:lnTo>
                <a:lnTo>
                  <a:pt x="905" y="185"/>
                </a:lnTo>
                <a:lnTo>
                  <a:pt x="905" y="185"/>
                </a:lnTo>
                <a:lnTo>
                  <a:pt x="905" y="181"/>
                </a:lnTo>
                <a:lnTo>
                  <a:pt x="905" y="185"/>
                </a:lnTo>
                <a:lnTo>
                  <a:pt x="905" y="181"/>
                </a:lnTo>
                <a:lnTo>
                  <a:pt x="905" y="181"/>
                </a:lnTo>
                <a:lnTo>
                  <a:pt x="905" y="181"/>
                </a:lnTo>
                <a:lnTo>
                  <a:pt x="905" y="185"/>
                </a:lnTo>
                <a:lnTo>
                  <a:pt x="905" y="185"/>
                </a:lnTo>
                <a:lnTo>
                  <a:pt x="920" y="181"/>
                </a:lnTo>
                <a:lnTo>
                  <a:pt x="933" y="176"/>
                </a:lnTo>
                <a:lnTo>
                  <a:pt x="946" y="168"/>
                </a:lnTo>
                <a:lnTo>
                  <a:pt x="955" y="157"/>
                </a:lnTo>
                <a:lnTo>
                  <a:pt x="955" y="157"/>
                </a:lnTo>
                <a:lnTo>
                  <a:pt x="963" y="170"/>
                </a:lnTo>
                <a:lnTo>
                  <a:pt x="963" y="170"/>
                </a:lnTo>
                <a:lnTo>
                  <a:pt x="970" y="191"/>
                </a:lnTo>
                <a:lnTo>
                  <a:pt x="974" y="211"/>
                </a:lnTo>
                <a:lnTo>
                  <a:pt x="974" y="232"/>
                </a:lnTo>
                <a:lnTo>
                  <a:pt x="970" y="252"/>
                </a:lnTo>
                <a:lnTo>
                  <a:pt x="963" y="273"/>
                </a:lnTo>
                <a:lnTo>
                  <a:pt x="952" y="292"/>
                </a:lnTo>
                <a:lnTo>
                  <a:pt x="937" y="307"/>
                </a:lnTo>
                <a:lnTo>
                  <a:pt x="927" y="314"/>
                </a:lnTo>
                <a:lnTo>
                  <a:pt x="918" y="322"/>
                </a:lnTo>
                <a:lnTo>
                  <a:pt x="918" y="322"/>
                </a:lnTo>
                <a:lnTo>
                  <a:pt x="918" y="322"/>
                </a:lnTo>
                <a:lnTo>
                  <a:pt x="858" y="355"/>
                </a:lnTo>
                <a:lnTo>
                  <a:pt x="858" y="355"/>
                </a:lnTo>
                <a:lnTo>
                  <a:pt x="798" y="387"/>
                </a:lnTo>
                <a:lnTo>
                  <a:pt x="798" y="387"/>
                </a:lnTo>
                <a:lnTo>
                  <a:pt x="783" y="394"/>
                </a:lnTo>
                <a:lnTo>
                  <a:pt x="766" y="402"/>
                </a:lnTo>
                <a:lnTo>
                  <a:pt x="738" y="419"/>
                </a:lnTo>
                <a:lnTo>
                  <a:pt x="710" y="437"/>
                </a:lnTo>
                <a:lnTo>
                  <a:pt x="679" y="454"/>
                </a:lnTo>
                <a:lnTo>
                  <a:pt x="680" y="458"/>
                </a:lnTo>
                <a:lnTo>
                  <a:pt x="680" y="458"/>
                </a:lnTo>
                <a:lnTo>
                  <a:pt x="680" y="458"/>
                </a:lnTo>
                <a:lnTo>
                  <a:pt x="679" y="454"/>
                </a:lnTo>
                <a:lnTo>
                  <a:pt x="679" y="454"/>
                </a:lnTo>
                <a:lnTo>
                  <a:pt x="679" y="454"/>
                </a:lnTo>
                <a:lnTo>
                  <a:pt x="679" y="454"/>
                </a:lnTo>
                <a:lnTo>
                  <a:pt x="650" y="473"/>
                </a:lnTo>
                <a:lnTo>
                  <a:pt x="622" y="492"/>
                </a:lnTo>
                <a:lnTo>
                  <a:pt x="622" y="492"/>
                </a:lnTo>
                <a:lnTo>
                  <a:pt x="591" y="518"/>
                </a:lnTo>
                <a:lnTo>
                  <a:pt x="559" y="544"/>
                </a:lnTo>
                <a:lnTo>
                  <a:pt x="531" y="574"/>
                </a:lnTo>
                <a:lnTo>
                  <a:pt x="507" y="604"/>
                </a:lnTo>
                <a:lnTo>
                  <a:pt x="484" y="639"/>
                </a:lnTo>
                <a:lnTo>
                  <a:pt x="473" y="656"/>
                </a:lnTo>
                <a:lnTo>
                  <a:pt x="465" y="675"/>
                </a:lnTo>
                <a:lnTo>
                  <a:pt x="456" y="695"/>
                </a:lnTo>
                <a:lnTo>
                  <a:pt x="450" y="716"/>
                </a:lnTo>
                <a:lnTo>
                  <a:pt x="445" y="737"/>
                </a:lnTo>
                <a:lnTo>
                  <a:pt x="439" y="759"/>
                </a:lnTo>
                <a:lnTo>
                  <a:pt x="439" y="759"/>
                </a:lnTo>
                <a:lnTo>
                  <a:pt x="439" y="759"/>
                </a:lnTo>
                <a:lnTo>
                  <a:pt x="432" y="781"/>
                </a:lnTo>
                <a:lnTo>
                  <a:pt x="422" y="802"/>
                </a:lnTo>
                <a:lnTo>
                  <a:pt x="422" y="802"/>
                </a:lnTo>
                <a:lnTo>
                  <a:pt x="411" y="823"/>
                </a:lnTo>
                <a:lnTo>
                  <a:pt x="398" y="839"/>
                </a:lnTo>
                <a:lnTo>
                  <a:pt x="383" y="854"/>
                </a:lnTo>
                <a:lnTo>
                  <a:pt x="364" y="867"/>
                </a:lnTo>
                <a:lnTo>
                  <a:pt x="364" y="867"/>
                </a:lnTo>
                <a:lnTo>
                  <a:pt x="340" y="879"/>
                </a:lnTo>
                <a:lnTo>
                  <a:pt x="316" y="888"/>
                </a:lnTo>
                <a:lnTo>
                  <a:pt x="293" y="892"/>
                </a:lnTo>
                <a:lnTo>
                  <a:pt x="271" y="894"/>
                </a:lnTo>
                <a:lnTo>
                  <a:pt x="271" y="894"/>
                </a:lnTo>
                <a:lnTo>
                  <a:pt x="254" y="894"/>
                </a:lnTo>
                <a:lnTo>
                  <a:pt x="237" y="890"/>
                </a:lnTo>
                <a:lnTo>
                  <a:pt x="222" y="886"/>
                </a:lnTo>
                <a:lnTo>
                  <a:pt x="207" y="879"/>
                </a:lnTo>
                <a:lnTo>
                  <a:pt x="192" y="871"/>
                </a:lnTo>
                <a:lnTo>
                  <a:pt x="179" y="862"/>
                </a:lnTo>
                <a:lnTo>
                  <a:pt x="164" y="852"/>
                </a:lnTo>
                <a:lnTo>
                  <a:pt x="151" y="839"/>
                </a:lnTo>
                <a:close/>
                <a:moveTo>
                  <a:pt x="443" y="761"/>
                </a:moveTo>
                <a:lnTo>
                  <a:pt x="443" y="761"/>
                </a:lnTo>
                <a:lnTo>
                  <a:pt x="443" y="761"/>
                </a:lnTo>
                <a:lnTo>
                  <a:pt x="443" y="761"/>
                </a:lnTo>
                <a:lnTo>
                  <a:pt x="443" y="761"/>
                </a:lnTo>
                <a:lnTo>
                  <a:pt x="443" y="761"/>
                </a:lnTo>
                <a:lnTo>
                  <a:pt x="443" y="761"/>
                </a:lnTo>
                <a:close/>
                <a:moveTo>
                  <a:pt x="679" y="454"/>
                </a:moveTo>
                <a:lnTo>
                  <a:pt x="680" y="458"/>
                </a:lnTo>
                <a:lnTo>
                  <a:pt x="680" y="458"/>
                </a:lnTo>
                <a:lnTo>
                  <a:pt x="680" y="458"/>
                </a:lnTo>
                <a:lnTo>
                  <a:pt x="679" y="454"/>
                </a:lnTo>
                <a:close/>
                <a:moveTo>
                  <a:pt x="71" y="267"/>
                </a:moveTo>
                <a:lnTo>
                  <a:pt x="71" y="267"/>
                </a:lnTo>
                <a:lnTo>
                  <a:pt x="71" y="267"/>
                </a:lnTo>
                <a:lnTo>
                  <a:pt x="71" y="267"/>
                </a:lnTo>
                <a:lnTo>
                  <a:pt x="71" y="267"/>
                </a:lnTo>
                <a:close/>
              </a:path>
            </a:pathLst>
          </a:custGeom>
          <a:solidFill>
            <a:srgbClr val="9abe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67320" y="2136600"/>
            <a:ext cx="1546200" cy="1419480"/>
          </a:xfrm>
          <a:custGeom>
            <a:avLst/>
            <a:gdLst/>
            <a:ahLst/>
            <a:rect l="l" t="t" r="r" b="b"/>
            <a:pathLst>
              <a:path w="974" h="894">
                <a:moveTo>
                  <a:pt x="151" y="839"/>
                </a:moveTo>
                <a:lnTo>
                  <a:pt x="149" y="841"/>
                </a:lnTo>
                <a:lnTo>
                  <a:pt x="151" y="839"/>
                </a:lnTo>
                <a:lnTo>
                  <a:pt x="151" y="839"/>
                </a:lnTo>
                <a:lnTo>
                  <a:pt x="136" y="823"/>
                </a:lnTo>
                <a:lnTo>
                  <a:pt x="119" y="804"/>
                </a:lnTo>
                <a:lnTo>
                  <a:pt x="119" y="804"/>
                </a:lnTo>
                <a:lnTo>
                  <a:pt x="119" y="804"/>
                </a:lnTo>
                <a:lnTo>
                  <a:pt x="119" y="804"/>
                </a:lnTo>
                <a:lnTo>
                  <a:pt x="93" y="772"/>
                </a:lnTo>
                <a:lnTo>
                  <a:pt x="71" y="738"/>
                </a:lnTo>
                <a:lnTo>
                  <a:pt x="48" y="705"/>
                </a:lnTo>
                <a:lnTo>
                  <a:pt x="32" y="669"/>
                </a:lnTo>
                <a:lnTo>
                  <a:pt x="28" y="669"/>
                </a:lnTo>
                <a:lnTo>
                  <a:pt x="32" y="669"/>
                </a:lnTo>
                <a:lnTo>
                  <a:pt x="32" y="669"/>
                </a:lnTo>
                <a:lnTo>
                  <a:pt x="20" y="643"/>
                </a:lnTo>
                <a:lnTo>
                  <a:pt x="11" y="619"/>
                </a:lnTo>
                <a:lnTo>
                  <a:pt x="11" y="619"/>
                </a:lnTo>
                <a:lnTo>
                  <a:pt x="3" y="581"/>
                </a:lnTo>
                <a:lnTo>
                  <a:pt x="0" y="544"/>
                </a:lnTo>
                <a:lnTo>
                  <a:pt x="0" y="508"/>
                </a:lnTo>
                <a:lnTo>
                  <a:pt x="3" y="473"/>
                </a:lnTo>
                <a:lnTo>
                  <a:pt x="9" y="437"/>
                </a:lnTo>
                <a:lnTo>
                  <a:pt x="17" y="402"/>
                </a:lnTo>
                <a:lnTo>
                  <a:pt x="28" y="368"/>
                </a:lnTo>
                <a:lnTo>
                  <a:pt x="41" y="335"/>
                </a:lnTo>
                <a:lnTo>
                  <a:pt x="41" y="335"/>
                </a:lnTo>
                <a:lnTo>
                  <a:pt x="56" y="301"/>
                </a:lnTo>
                <a:lnTo>
                  <a:pt x="73" y="269"/>
                </a:lnTo>
                <a:lnTo>
                  <a:pt x="73" y="269"/>
                </a:lnTo>
                <a:lnTo>
                  <a:pt x="73" y="269"/>
                </a:lnTo>
                <a:lnTo>
                  <a:pt x="112" y="213"/>
                </a:lnTo>
                <a:lnTo>
                  <a:pt x="112" y="213"/>
                </a:lnTo>
                <a:lnTo>
                  <a:pt x="112" y="213"/>
                </a:lnTo>
                <a:lnTo>
                  <a:pt x="110" y="211"/>
                </a:lnTo>
                <a:lnTo>
                  <a:pt x="112" y="213"/>
                </a:lnTo>
                <a:lnTo>
                  <a:pt x="110" y="211"/>
                </a:lnTo>
                <a:lnTo>
                  <a:pt x="110" y="211"/>
                </a:lnTo>
                <a:lnTo>
                  <a:pt x="110" y="211"/>
                </a:lnTo>
                <a:lnTo>
                  <a:pt x="110" y="211"/>
                </a:lnTo>
                <a:lnTo>
                  <a:pt x="112" y="213"/>
                </a:lnTo>
                <a:lnTo>
                  <a:pt x="112" y="213"/>
                </a:lnTo>
                <a:lnTo>
                  <a:pt x="129" y="189"/>
                </a:lnTo>
                <a:lnTo>
                  <a:pt x="147" y="163"/>
                </a:lnTo>
                <a:lnTo>
                  <a:pt x="168" y="138"/>
                </a:lnTo>
                <a:lnTo>
                  <a:pt x="190" y="114"/>
                </a:lnTo>
                <a:lnTo>
                  <a:pt x="213" y="92"/>
                </a:lnTo>
                <a:lnTo>
                  <a:pt x="239" y="71"/>
                </a:lnTo>
                <a:lnTo>
                  <a:pt x="265" y="50"/>
                </a:lnTo>
                <a:lnTo>
                  <a:pt x="291" y="35"/>
                </a:lnTo>
                <a:lnTo>
                  <a:pt x="291" y="35"/>
                </a:lnTo>
                <a:lnTo>
                  <a:pt x="320" y="20"/>
                </a:lnTo>
                <a:lnTo>
                  <a:pt x="348" y="11"/>
                </a:lnTo>
                <a:lnTo>
                  <a:pt x="377" y="4"/>
                </a:lnTo>
                <a:lnTo>
                  <a:pt x="406" y="0"/>
                </a:lnTo>
                <a:lnTo>
                  <a:pt x="420" y="0"/>
                </a:lnTo>
                <a:lnTo>
                  <a:pt x="435" y="2"/>
                </a:lnTo>
                <a:lnTo>
                  <a:pt x="452" y="4"/>
                </a:lnTo>
                <a:lnTo>
                  <a:pt x="467" y="7"/>
                </a:lnTo>
                <a:lnTo>
                  <a:pt x="482" y="13"/>
                </a:lnTo>
                <a:lnTo>
                  <a:pt x="497" y="19"/>
                </a:lnTo>
                <a:lnTo>
                  <a:pt x="512" y="26"/>
                </a:lnTo>
                <a:lnTo>
                  <a:pt x="527" y="35"/>
                </a:lnTo>
                <a:lnTo>
                  <a:pt x="527" y="35"/>
                </a:lnTo>
                <a:lnTo>
                  <a:pt x="527" y="39"/>
                </a:lnTo>
                <a:lnTo>
                  <a:pt x="527" y="39"/>
                </a:lnTo>
                <a:lnTo>
                  <a:pt x="525" y="58"/>
                </a:lnTo>
                <a:lnTo>
                  <a:pt x="521" y="77"/>
                </a:lnTo>
                <a:lnTo>
                  <a:pt x="514" y="92"/>
                </a:lnTo>
                <a:lnTo>
                  <a:pt x="505" y="106"/>
                </a:lnTo>
                <a:lnTo>
                  <a:pt x="495" y="118"/>
                </a:lnTo>
                <a:lnTo>
                  <a:pt x="482" y="131"/>
                </a:lnTo>
                <a:lnTo>
                  <a:pt x="454" y="153"/>
                </a:lnTo>
                <a:lnTo>
                  <a:pt x="454" y="153"/>
                </a:lnTo>
                <a:lnTo>
                  <a:pt x="426" y="174"/>
                </a:lnTo>
                <a:lnTo>
                  <a:pt x="411" y="185"/>
                </a:lnTo>
                <a:lnTo>
                  <a:pt x="398" y="198"/>
                </a:lnTo>
                <a:lnTo>
                  <a:pt x="387" y="209"/>
                </a:lnTo>
                <a:lnTo>
                  <a:pt x="377" y="224"/>
                </a:lnTo>
                <a:lnTo>
                  <a:pt x="368" y="239"/>
                </a:lnTo>
                <a:lnTo>
                  <a:pt x="363" y="254"/>
                </a:lnTo>
                <a:lnTo>
                  <a:pt x="363" y="254"/>
                </a:lnTo>
                <a:lnTo>
                  <a:pt x="363" y="254"/>
                </a:lnTo>
                <a:lnTo>
                  <a:pt x="359" y="277"/>
                </a:lnTo>
                <a:lnTo>
                  <a:pt x="359" y="297"/>
                </a:lnTo>
                <a:lnTo>
                  <a:pt x="363" y="316"/>
                </a:lnTo>
                <a:lnTo>
                  <a:pt x="368" y="333"/>
                </a:lnTo>
                <a:lnTo>
                  <a:pt x="377" y="350"/>
                </a:lnTo>
                <a:lnTo>
                  <a:pt x="389" y="365"/>
                </a:lnTo>
                <a:lnTo>
                  <a:pt x="402" y="379"/>
                </a:lnTo>
                <a:lnTo>
                  <a:pt x="417" y="391"/>
                </a:lnTo>
                <a:lnTo>
                  <a:pt x="417" y="391"/>
                </a:lnTo>
                <a:lnTo>
                  <a:pt x="434" y="402"/>
                </a:lnTo>
                <a:lnTo>
                  <a:pt x="452" y="409"/>
                </a:lnTo>
                <a:lnTo>
                  <a:pt x="471" y="417"/>
                </a:lnTo>
                <a:lnTo>
                  <a:pt x="492" y="421"/>
                </a:lnTo>
                <a:lnTo>
                  <a:pt x="510" y="422"/>
                </a:lnTo>
                <a:lnTo>
                  <a:pt x="531" y="422"/>
                </a:lnTo>
                <a:lnTo>
                  <a:pt x="550" y="421"/>
                </a:lnTo>
                <a:lnTo>
                  <a:pt x="570" y="417"/>
                </a:lnTo>
                <a:lnTo>
                  <a:pt x="570" y="417"/>
                </a:lnTo>
                <a:lnTo>
                  <a:pt x="570" y="417"/>
                </a:lnTo>
                <a:lnTo>
                  <a:pt x="594" y="408"/>
                </a:lnTo>
                <a:lnTo>
                  <a:pt x="619" y="396"/>
                </a:lnTo>
                <a:lnTo>
                  <a:pt x="641" y="381"/>
                </a:lnTo>
                <a:lnTo>
                  <a:pt x="662" y="366"/>
                </a:lnTo>
                <a:lnTo>
                  <a:pt x="680" y="348"/>
                </a:lnTo>
                <a:lnTo>
                  <a:pt x="699" y="329"/>
                </a:lnTo>
                <a:lnTo>
                  <a:pt x="735" y="292"/>
                </a:lnTo>
                <a:lnTo>
                  <a:pt x="770" y="254"/>
                </a:lnTo>
                <a:lnTo>
                  <a:pt x="789" y="237"/>
                </a:lnTo>
                <a:lnTo>
                  <a:pt x="808" y="222"/>
                </a:lnTo>
                <a:lnTo>
                  <a:pt x="830" y="207"/>
                </a:lnTo>
                <a:lnTo>
                  <a:pt x="852" y="198"/>
                </a:lnTo>
                <a:lnTo>
                  <a:pt x="879" y="189"/>
                </a:lnTo>
                <a:lnTo>
                  <a:pt x="905" y="185"/>
                </a:lnTo>
                <a:lnTo>
                  <a:pt x="905" y="185"/>
                </a:lnTo>
                <a:lnTo>
                  <a:pt x="905" y="185"/>
                </a:lnTo>
                <a:lnTo>
                  <a:pt x="905" y="181"/>
                </a:lnTo>
                <a:lnTo>
                  <a:pt x="905" y="185"/>
                </a:lnTo>
                <a:lnTo>
                  <a:pt x="905" y="181"/>
                </a:lnTo>
                <a:lnTo>
                  <a:pt x="905" y="181"/>
                </a:lnTo>
                <a:lnTo>
                  <a:pt x="905" y="181"/>
                </a:lnTo>
                <a:lnTo>
                  <a:pt x="905" y="185"/>
                </a:lnTo>
                <a:lnTo>
                  <a:pt x="905" y="185"/>
                </a:lnTo>
                <a:lnTo>
                  <a:pt x="920" y="181"/>
                </a:lnTo>
                <a:lnTo>
                  <a:pt x="933" y="176"/>
                </a:lnTo>
                <a:lnTo>
                  <a:pt x="946" y="168"/>
                </a:lnTo>
                <a:lnTo>
                  <a:pt x="955" y="157"/>
                </a:lnTo>
                <a:lnTo>
                  <a:pt x="955" y="157"/>
                </a:lnTo>
                <a:lnTo>
                  <a:pt x="963" y="170"/>
                </a:lnTo>
                <a:lnTo>
                  <a:pt x="963" y="170"/>
                </a:lnTo>
                <a:lnTo>
                  <a:pt x="970" y="191"/>
                </a:lnTo>
                <a:lnTo>
                  <a:pt x="974" y="211"/>
                </a:lnTo>
                <a:lnTo>
                  <a:pt x="974" y="232"/>
                </a:lnTo>
                <a:lnTo>
                  <a:pt x="970" y="252"/>
                </a:lnTo>
                <a:lnTo>
                  <a:pt x="963" y="273"/>
                </a:lnTo>
                <a:lnTo>
                  <a:pt x="952" y="292"/>
                </a:lnTo>
                <a:lnTo>
                  <a:pt x="937" y="307"/>
                </a:lnTo>
                <a:lnTo>
                  <a:pt x="927" y="314"/>
                </a:lnTo>
                <a:lnTo>
                  <a:pt x="918" y="322"/>
                </a:lnTo>
                <a:lnTo>
                  <a:pt x="918" y="322"/>
                </a:lnTo>
                <a:lnTo>
                  <a:pt x="918" y="322"/>
                </a:lnTo>
                <a:lnTo>
                  <a:pt x="858" y="355"/>
                </a:lnTo>
                <a:lnTo>
                  <a:pt x="858" y="355"/>
                </a:lnTo>
                <a:lnTo>
                  <a:pt x="798" y="387"/>
                </a:lnTo>
                <a:lnTo>
                  <a:pt x="798" y="387"/>
                </a:lnTo>
                <a:lnTo>
                  <a:pt x="783" y="394"/>
                </a:lnTo>
                <a:lnTo>
                  <a:pt x="766" y="402"/>
                </a:lnTo>
                <a:lnTo>
                  <a:pt x="738" y="419"/>
                </a:lnTo>
                <a:lnTo>
                  <a:pt x="710" y="437"/>
                </a:lnTo>
                <a:lnTo>
                  <a:pt x="679" y="454"/>
                </a:lnTo>
                <a:lnTo>
                  <a:pt x="680" y="458"/>
                </a:lnTo>
                <a:lnTo>
                  <a:pt x="680" y="458"/>
                </a:lnTo>
                <a:lnTo>
                  <a:pt x="680" y="458"/>
                </a:lnTo>
                <a:lnTo>
                  <a:pt x="679" y="454"/>
                </a:lnTo>
                <a:lnTo>
                  <a:pt x="679" y="454"/>
                </a:lnTo>
                <a:lnTo>
                  <a:pt x="679" y="454"/>
                </a:lnTo>
                <a:lnTo>
                  <a:pt x="679" y="454"/>
                </a:lnTo>
                <a:lnTo>
                  <a:pt x="650" y="473"/>
                </a:lnTo>
                <a:lnTo>
                  <a:pt x="622" y="492"/>
                </a:lnTo>
                <a:lnTo>
                  <a:pt x="622" y="492"/>
                </a:lnTo>
                <a:lnTo>
                  <a:pt x="591" y="518"/>
                </a:lnTo>
                <a:lnTo>
                  <a:pt x="559" y="544"/>
                </a:lnTo>
                <a:lnTo>
                  <a:pt x="531" y="574"/>
                </a:lnTo>
                <a:lnTo>
                  <a:pt x="507" y="604"/>
                </a:lnTo>
                <a:lnTo>
                  <a:pt x="484" y="639"/>
                </a:lnTo>
                <a:lnTo>
                  <a:pt x="473" y="656"/>
                </a:lnTo>
                <a:lnTo>
                  <a:pt x="465" y="675"/>
                </a:lnTo>
                <a:lnTo>
                  <a:pt x="456" y="695"/>
                </a:lnTo>
                <a:lnTo>
                  <a:pt x="450" y="716"/>
                </a:lnTo>
                <a:lnTo>
                  <a:pt x="445" y="737"/>
                </a:lnTo>
                <a:lnTo>
                  <a:pt x="439" y="759"/>
                </a:lnTo>
                <a:lnTo>
                  <a:pt x="439" y="759"/>
                </a:lnTo>
                <a:lnTo>
                  <a:pt x="439" y="759"/>
                </a:lnTo>
                <a:lnTo>
                  <a:pt x="432" y="781"/>
                </a:lnTo>
                <a:lnTo>
                  <a:pt x="422" y="802"/>
                </a:lnTo>
                <a:lnTo>
                  <a:pt x="422" y="802"/>
                </a:lnTo>
                <a:lnTo>
                  <a:pt x="411" y="823"/>
                </a:lnTo>
                <a:lnTo>
                  <a:pt x="398" y="839"/>
                </a:lnTo>
                <a:lnTo>
                  <a:pt x="383" y="854"/>
                </a:lnTo>
                <a:lnTo>
                  <a:pt x="364" y="867"/>
                </a:lnTo>
                <a:lnTo>
                  <a:pt x="364" y="867"/>
                </a:lnTo>
                <a:lnTo>
                  <a:pt x="340" y="879"/>
                </a:lnTo>
                <a:lnTo>
                  <a:pt x="316" y="888"/>
                </a:lnTo>
                <a:lnTo>
                  <a:pt x="293" y="892"/>
                </a:lnTo>
                <a:lnTo>
                  <a:pt x="271" y="894"/>
                </a:lnTo>
                <a:lnTo>
                  <a:pt x="271" y="894"/>
                </a:lnTo>
                <a:lnTo>
                  <a:pt x="254" y="894"/>
                </a:lnTo>
                <a:lnTo>
                  <a:pt x="237" y="890"/>
                </a:lnTo>
                <a:lnTo>
                  <a:pt x="222" y="886"/>
                </a:lnTo>
                <a:lnTo>
                  <a:pt x="207" y="879"/>
                </a:lnTo>
                <a:lnTo>
                  <a:pt x="192" y="871"/>
                </a:lnTo>
                <a:lnTo>
                  <a:pt x="179" y="862"/>
                </a:lnTo>
                <a:lnTo>
                  <a:pt x="164" y="852"/>
                </a:lnTo>
                <a:lnTo>
                  <a:pt x="151" y="83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70400" y="33447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45160" y="2857680"/>
            <a:ext cx="1440" cy="612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0"/>
                </a:move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80000" y="256068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57600" y="2133720"/>
            <a:ext cx="1565280" cy="1430280"/>
          </a:xfrm>
          <a:custGeom>
            <a:avLst/>
            <a:gdLst/>
            <a:ahLst/>
            <a:rect l="l" t="t" r="r" b="b"/>
            <a:pathLst>
              <a:path w="986" h="901">
                <a:moveTo>
                  <a:pt x="153" y="845"/>
                </a:moveTo>
                <a:lnTo>
                  <a:pt x="157" y="841"/>
                </a:lnTo>
                <a:lnTo>
                  <a:pt x="157" y="841"/>
                </a:lnTo>
                <a:lnTo>
                  <a:pt x="180" y="860"/>
                </a:lnTo>
                <a:lnTo>
                  <a:pt x="202" y="875"/>
                </a:lnTo>
                <a:lnTo>
                  <a:pt x="226" y="886"/>
                </a:lnTo>
                <a:lnTo>
                  <a:pt x="240" y="890"/>
                </a:lnTo>
                <a:lnTo>
                  <a:pt x="253" y="894"/>
                </a:lnTo>
                <a:lnTo>
                  <a:pt x="266" y="896"/>
                </a:lnTo>
                <a:lnTo>
                  <a:pt x="279" y="896"/>
                </a:lnTo>
                <a:lnTo>
                  <a:pt x="294" y="896"/>
                </a:lnTo>
                <a:lnTo>
                  <a:pt x="307" y="892"/>
                </a:lnTo>
                <a:lnTo>
                  <a:pt x="324" y="890"/>
                </a:lnTo>
                <a:lnTo>
                  <a:pt x="339" y="884"/>
                </a:lnTo>
                <a:lnTo>
                  <a:pt x="354" y="877"/>
                </a:lnTo>
                <a:lnTo>
                  <a:pt x="370" y="869"/>
                </a:lnTo>
                <a:lnTo>
                  <a:pt x="370" y="869"/>
                </a:lnTo>
                <a:lnTo>
                  <a:pt x="389" y="856"/>
                </a:lnTo>
                <a:lnTo>
                  <a:pt x="404" y="841"/>
                </a:lnTo>
                <a:lnTo>
                  <a:pt x="417" y="825"/>
                </a:lnTo>
                <a:lnTo>
                  <a:pt x="428" y="804"/>
                </a:lnTo>
                <a:lnTo>
                  <a:pt x="428" y="804"/>
                </a:lnTo>
                <a:lnTo>
                  <a:pt x="438" y="783"/>
                </a:lnTo>
                <a:lnTo>
                  <a:pt x="445" y="761"/>
                </a:lnTo>
                <a:lnTo>
                  <a:pt x="445" y="761"/>
                </a:lnTo>
                <a:lnTo>
                  <a:pt x="445" y="761"/>
                </a:lnTo>
                <a:lnTo>
                  <a:pt x="451" y="739"/>
                </a:lnTo>
                <a:lnTo>
                  <a:pt x="456" y="718"/>
                </a:lnTo>
                <a:lnTo>
                  <a:pt x="462" y="697"/>
                </a:lnTo>
                <a:lnTo>
                  <a:pt x="471" y="677"/>
                </a:lnTo>
                <a:lnTo>
                  <a:pt x="479" y="658"/>
                </a:lnTo>
                <a:lnTo>
                  <a:pt x="490" y="641"/>
                </a:lnTo>
                <a:lnTo>
                  <a:pt x="513" y="606"/>
                </a:lnTo>
                <a:lnTo>
                  <a:pt x="537" y="576"/>
                </a:lnTo>
                <a:lnTo>
                  <a:pt x="565" y="546"/>
                </a:lnTo>
                <a:lnTo>
                  <a:pt x="597" y="520"/>
                </a:lnTo>
                <a:lnTo>
                  <a:pt x="628" y="494"/>
                </a:lnTo>
                <a:lnTo>
                  <a:pt x="628" y="494"/>
                </a:lnTo>
                <a:lnTo>
                  <a:pt x="656" y="475"/>
                </a:lnTo>
                <a:lnTo>
                  <a:pt x="685" y="456"/>
                </a:lnTo>
                <a:lnTo>
                  <a:pt x="685" y="456"/>
                </a:lnTo>
                <a:lnTo>
                  <a:pt x="685" y="456"/>
                </a:lnTo>
                <a:lnTo>
                  <a:pt x="686" y="460"/>
                </a:lnTo>
                <a:lnTo>
                  <a:pt x="685" y="456"/>
                </a:lnTo>
                <a:lnTo>
                  <a:pt x="686" y="460"/>
                </a:lnTo>
                <a:lnTo>
                  <a:pt x="685" y="456"/>
                </a:lnTo>
                <a:lnTo>
                  <a:pt x="685" y="456"/>
                </a:lnTo>
                <a:lnTo>
                  <a:pt x="716" y="439"/>
                </a:lnTo>
                <a:lnTo>
                  <a:pt x="744" y="421"/>
                </a:lnTo>
                <a:lnTo>
                  <a:pt x="772" y="404"/>
                </a:lnTo>
                <a:lnTo>
                  <a:pt x="789" y="396"/>
                </a:lnTo>
                <a:lnTo>
                  <a:pt x="804" y="389"/>
                </a:lnTo>
                <a:lnTo>
                  <a:pt x="804" y="389"/>
                </a:lnTo>
                <a:lnTo>
                  <a:pt x="864" y="357"/>
                </a:lnTo>
                <a:lnTo>
                  <a:pt x="864" y="357"/>
                </a:lnTo>
                <a:lnTo>
                  <a:pt x="924" y="324"/>
                </a:lnTo>
                <a:lnTo>
                  <a:pt x="924" y="324"/>
                </a:lnTo>
                <a:lnTo>
                  <a:pt x="924" y="324"/>
                </a:lnTo>
                <a:lnTo>
                  <a:pt x="933" y="316"/>
                </a:lnTo>
                <a:lnTo>
                  <a:pt x="943" y="309"/>
                </a:lnTo>
                <a:lnTo>
                  <a:pt x="958" y="294"/>
                </a:lnTo>
                <a:lnTo>
                  <a:pt x="969" y="275"/>
                </a:lnTo>
                <a:lnTo>
                  <a:pt x="976" y="254"/>
                </a:lnTo>
                <a:lnTo>
                  <a:pt x="980" y="234"/>
                </a:lnTo>
                <a:lnTo>
                  <a:pt x="980" y="213"/>
                </a:lnTo>
                <a:lnTo>
                  <a:pt x="976" y="193"/>
                </a:lnTo>
                <a:lnTo>
                  <a:pt x="969" y="172"/>
                </a:lnTo>
                <a:lnTo>
                  <a:pt x="969" y="172"/>
                </a:lnTo>
                <a:lnTo>
                  <a:pt x="961" y="159"/>
                </a:lnTo>
                <a:lnTo>
                  <a:pt x="961" y="159"/>
                </a:lnTo>
                <a:lnTo>
                  <a:pt x="965" y="155"/>
                </a:lnTo>
                <a:lnTo>
                  <a:pt x="965" y="155"/>
                </a:lnTo>
                <a:lnTo>
                  <a:pt x="974" y="170"/>
                </a:lnTo>
                <a:lnTo>
                  <a:pt x="974" y="170"/>
                </a:lnTo>
                <a:lnTo>
                  <a:pt x="982" y="191"/>
                </a:lnTo>
                <a:lnTo>
                  <a:pt x="986" y="213"/>
                </a:lnTo>
                <a:lnTo>
                  <a:pt x="986" y="234"/>
                </a:lnTo>
                <a:lnTo>
                  <a:pt x="982" y="256"/>
                </a:lnTo>
                <a:lnTo>
                  <a:pt x="974" y="277"/>
                </a:lnTo>
                <a:lnTo>
                  <a:pt x="963" y="295"/>
                </a:lnTo>
                <a:lnTo>
                  <a:pt x="956" y="305"/>
                </a:lnTo>
                <a:lnTo>
                  <a:pt x="946" y="314"/>
                </a:lnTo>
                <a:lnTo>
                  <a:pt x="937" y="322"/>
                </a:lnTo>
                <a:lnTo>
                  <a:pt x="928" y="327"/>
                </a:lnTo>
                <a:lnTo>
                  <a:pt x="928" y="327"/>
                </a:lnTo>
                <a:lnTo>
                  <a:pt x="928" y="327"/>
                </a:lnTo>
                <a:lnTo>
                  <a:pt x="866" y="361"/>
                </a:lnTo>
                <a:lnTo>
                  <a:pt x="866" y="361"/>
                </a:lnTo>
                <a:lnTo>
                  <a:pt x="808" y="395"/>
                </a:lnTo>
                <a:lnTo>
                  <a:pt x="808" y="395"/>
                </a:lnTo>
                <a:lnTo>
                  <a:pt x="808" y="395"/>
                </a:lnTo>
                <a:lnTo>
                  <a:pt x="808" y="395"/>
                </a:lnTo>
                <a:lnTo>
                  <a:pt x="791" y="402"/>
                </a:lnTo>
                <a:lnTo>
                  <a:pt x="776" y="410"/>
                </a:lnTo>
                <a:lnTo>
                  <a:pt x="748" y="426"/>
                </a:lnTo>
                <a:lnTo>
                  <a:pt x="720" y="445"/>
                </a:lnTo>
                <a:lnTo>
                  <a:pt x="688" y="462"/>
                </a:lnTo>
                <a:lnTo>
                  <a:pt x="688" y="462"/>
                </a:lnTo>
                <a:lnTo>
                  <a:pt x="660" y="481"/>
                </a:lnTo>
                <a:lnTo>
                  <a:pt x="632" y="499"/>
                </a:lnTo>
                <a:lnTo>
                  <a:pt x="632" y="499"/>
                </a:lnTo>
                <a:lnTo>
                  <a:pt x="600" y="524"/>
                </a:lnTo>
                <a:lnTo>
                  <a:pt x="569" y="552"/>
                </a:lnTo>
                <a:lnTo>
                  <a:pt x="541" y="580"/>
                </a:lnTo>
                <a:lnTo>
                  <a:pt x="516" y="610"/>
                </a:lnTo>
                <a:lnTo>
                  <a:pt x="494" y="643"/>
                </a:lnTo>
                <a:lnTo>
                  <a:pt x="484" y="662"/>
                </a:lnTo>
                <a:lnTo>
                  <a:pt x="477" y="681"/>
                </a:lnTo>
                <a:lnTo>
                  <a:pt x="468" y="699"/>
                </a:lnTo>
                <a:lnTo>
                  <a:pt x="462" y="720"/>
                </a:lnTo>
                <a:lnTo>
                  <a:pt x="456" y="740"/>
                </a:lnTo>
                <a:lnTo>
                  <a:pt x="451" y="763"/>
                </a:lnTo>
                <a:lnTo>
                  <a:pt x="449" y="763"/>
                </a:lnTo>
                <a:lnTo>
                  <a:pt x="451" y="763"/>
                </a:lnTo>
                <a:lnTo>
                  <a:pt x="449" y="763"/>
                </a:lnTo>
                <a:lnTo>
                  <a:pt x="451" y="763"/>
                </a:lnTo>
                <a:lnTo>
                  <a:pt x="451" y="763"/>
                </a:lnTo>
                <a:lnTo>
                  <a:pt x="451" y="763"/>
                </a:lnTo>
                <a:lnTo>
                  <a:pt x="451" y="763"/>
                </a:lnTo>
                <a:lnTo>
                  <a:pt x="443" y="785"/>
                </a:lnTo>
                <a:lnTo>
                  <a:pt x="434" y="808"/>
                </a:lnTo>
                <a:lnTo>
                  <a:pt x="434" y="808"/>
                </a:lnTo>
                <a:lnTo>
                  <a:pt x="423" y="826"/>
                </a:lnTo>
                <a:lnTo>
                  <a:pt x="410" y="845"/>
                </a:lnTo>
                <a:lnTo>
                  <a:pt x="393" y="860"/>
                </a:lnTo>
                <a:lnTo>
                  <a:pt x="383" y="868"/>
                </a:lnTo>
                <a:lnTo>
                  <a:pt x="374" y="873"/>
                </a:lnTo>
                <a:lnTo>
                  <a:pt x="374" y="873"/>
                </a:lnTo>
                <a:lnTo>
                  <a:pt x="374" y="873"/>
                </a:lnTo>
                <a:lnTo>
                  <a:pt x="348" y="886"/>
                </a:lnTo>
                <a:lnTo>
                  <a:pt x="324" y="896"/>
                </a:lnTo>
                <a:lnTo>
                  <a:pt x="299" y="899"/>
                </a:lnTo>
                <a:lnTo>
                  <a:pt x="277" y="901"/>
                </a:lnTo>
                <a:lnTo>
                  <a:pt x="277" y="901"/>
                </a:lnTo>
                <a:lnTo>
                  <a:pt x="260" y="901"/>
                </a:lnTo>
                <a:lnTo>
                  <a:pt x="243" y="897"/>
                </a:lnTo>
                <a:lnTo>
                  <a:pt x="226" y="894"/>
                </a:lnTo>
                <a:lnTo>
                  <a:pt x="211" y="886"/>
                </a:lnTo>
                <a:lnTo>
                  <a:pt x="196" y="879"/>
                </a:lnTo>
                <a:lnTo>
                  <a:pt x="182" y="869"/>
                </a:lnTo>
                <a:lnTo>
                  <a:pt x="167" y="858"/>
                </a:lnTo>
                <a:lnTo>
                  <a:pt x="153" y="845"/>
                </a:lnTo>
                <a:close/>
                <a:moveTo>
                  <a:pt x="155" y="843"/>
                </a:moveTo>
                <a:lnTo>
                  <a:pt x="157" y="841"/>
                </a:lnTo>
                <a:lnTo>
                  <a:pt x="155" y="843"/>
                </a:lnTo>
                <a:close/>
                <a:moveTo>
                  <a:pt x="971" y="170"/>
                </a:moveTo>
                <a:lnTo>
                  <a:pt x="974" y="170"/>
                </a:lnTo>
                <a:lnTo>
                  <a:pt x="971" y="170"/>
                </a:lnTo>
                <a:close/>
                <a:moveTo>
                  <a:pt x="974" y="170"/>
                </a:moveTo>
                <a:lnTo>
                  <a:pt x="974" y="170"/>
                </a:lnTo>
                <a:close/>
                <a:moveTo>
                  <a:pt x="122" y="810"/>
                </a:moveTo>
                <a:lnTo>
                  <a:pt x="122" y="810"/>
                </a:lnTo>
                <a:lnTo>
                  <a:pt x="122" y="810"/>
                </a:lnTo>
                <a:lnTo>
                  <a:pt x="96" y="778"/>
                </a:lnTo>
                <a:lnTo>
                  <a:pt x="71" y="744"/>
                </a:lnTo>
                <a:lnTo>
                  <a:pt x="51" y="709"/>
                </a:lnTo>
                <a:lnTo>
                  <a:pt x="32" y="673"/>
                </a:lnTo>
                <a:lnTo>
                  <a:pt x="38" y="671"/>
                </a:lnTo>
                <a:lnTo>
                  <a:pt x="38" y="671"/>
                </a:lnTo>
                <a:lnTo>
                  <a:pt x="54" y="707"/>
                </a:lnTo>
                <a:lnTo>
                  <a:pt x="77" y="740"/>
                </a:lnTo>
                <a:lnTo>
                  <a:pt x="99" y="774"/>
                </a:lnTo>
                <a:lnTo>
                  <a:pt x="125" y="806"/>
                </a:lnTo>
                <a:lnTo>
                  <a:pt x="125" y="806"/>
                </a:lnTo>
                <a:lnTo>
                  <a:pt x="125" y="806"/>
                </a:lnTo>
                <a:lnTo>
                  <a:pt x="125" y="806"/>
                </a:lnTo>
                <a:lnTo>
                  <a:pt x="142" y="825"/>
                </a:lnTo>
                <a:lnTo>
                  <a:pt x="157" y="841"/>
                </a:lnTo>
                <a:lnTo>
                  <a:pt x="153" y="845"/>
                </a:lnTo>
                <a:lnTo>
                  <a:pt x="153" y="845"/>
                </a:lnTo>
                <a:lnTo>
                  <a:pt x="137" y="828"/>
                </a:lnTo>
                <a:lnTo>
                  <a:pt x="122" y="810"/>
                </a:lnTo>
                <a:close/>
                <a:moveTo>
                  <a:pt x="11" y="623"/>
                </a:moveTo>
                <a:lnTo>
                  <a:pt x="11" y="623"/>
                </a:lnTo>
                <a:lnTo>
                  <a:pt x="11" y="623"/>
                </a:lnTo>
                <a:lnTo>
                  <a:pt x="11" y="623"/>
                </a:lnTo>
                <a:lnTo>
                  <a:pt x="4" y="585"/>
                </a:lnTo>
                <a:lnTo>
                  <a:pt x="0" y="548"/>
                </a:lnTo>
                <a:lnTo>
                  <a:pt x="0" y="510"/>
                </a:lnTo>
                <a:lnTo>
                  <a:pt x="2" y="475"/>
                </a:lnTo>
                <a:lnTo>
                  <a:pt x="8" y="438"/>
                </a:lnTo>
                <a:lnTo>
                  <a:pt x="17" y="402"/>
                </a:lnTo>
                <a:lnTo>
                  <a:pt x="28" y="368"/>
                </a:lnTo>
                <a:lnTo>
                  <a:pt x="41" y="335"/>
                </a:lnTo>
                <a:lnTo>
                  <a:pt x="47" y="337"/>
                </a:lnTo>
                <a:lnTo>
                  <a:pt x="41" y="335"/>
                </a:lnTo>
                <a:lnTo>
                  <a:pt x="41" y="335"/>
                </a:lnTo>
                <a:lnTo>
                  <a:pt x="56" y="301"/>
                </a:lnTo>
                <a:lnTo>
                  <a:pt x="75" y="267"/>
                </a:lnTo>
                <a:lnTo>
                  <a:pt x="75" y="267"/>
                </a:lnTo>
                <a:lnTo>
                  <a:pt x="75" y="267"/>
                </a:lnTo>
                <a:lnTo>
                  <a:pt x="77" y="269"/>
                </a:lnTo>
                <a:lnTo>
                  <a:pt x="77" y="269"/>
                </a:lnTo>
                <a:lnTo>
                  <a:pt x="75" y="267"/>
                </a:lnTo>
                <a:lnTo>
                  <a:pt x="75" y="267"/>
                </a:lnTo>
                <a:lnTo>
                  <a:pt x="112" y="213"/>
                </a:lnTo>
                <a:lnTo>
                  <a:pt x="112" y="213"/>
                </a:lnTo>
                <a:lnTo>
                  <a:pt x="112" y="213"/>
                </a:lnTo>
                <a:lnTo>
                  <a:pt x="129" y="187"/>
                </a:lnTo>
                <a:lnTo>
                  <a:pt x="148" y="161"/>
                </a:lnTo>
                <a:lnTo>
                  <a:pt x="170" y="137"/>
                </a:lnTo>
                <a:lnTo>
                  <a:pt x="191" y="112"/>
                </a:lnTo>
                <a:lnTo>
                  <a:pt x="215" y="90"/>
                </a:lnTo>
                <a:lnTo>
                  <a:pt x="241" y="67"/>
                </a:lnTo>
                <a:lnTo>
                  <a:pt x="268" y="49"/>
                </a:lnTo>
                <a:lnTo>
                  <a:pt x="294" y="32"/>
                </a:lnTo>
                <a:lnTo>
                  <a:pt x="294" y="32"/>
                </a:lnTo>
                <a:lnTo>
                  <a:pt x="305" y="26"/>
                </a:lnTo>
                <a:lnTo>
                  <a:pt x="305" y="26"/>
                </a:lnTo>
                <a:lnTo>
                  <a:pt x="305" y="26"/>
                </a:lnTo>
                <a:lnTo>
                  <a:pt x="305" y="26"/>
                </a:lnTo>
                <a:lnTo>
                  <a:pt x="305" y="26"/>
                </a:lnTo>
                <a:lnTo>
                  <a:pt x="305" y="26"/>
                </a:lnTo>
                <a:lnTo>
                  <a:pt x="340" y="13"/>
                </a:lnTo>
                <a:lnTo>
                  <a:pt x="376" y="4"/>
                </a:lnTo>
                <a:lnTo>
                  <a:pt x="376" y="4"/>
                </a:lnTo>
                <a:lnTo>
                  <a:pt x="402" y="0"/>
                </a:lnTo>
                <a:lnTo>
                  <a:pt x="434" y="0"/>
                </a:lnTo>
                <a:lnTo>
                  <a:pt x="434" y="0"/>
                </a:lnTo>
                <a:lnTo>
                  <a:pt x="468" y="4"/>
                </a:lnTo>
                <a:lnTo>
                  <a:pt x="483" y="8"/>
                </a:lnTo>
                <a:lnTo>
                  <a:pt x="498" y="13"/>
                </a:lnTo>
                <a:lnTo>
                  <a:pt x="498" y="13"/>
                </a:lnTo>
                <a:lnTo>
                  <a:pt x="498" y="13"/>
                </a:lnTo>
                <a:lnTo>
                  <a:pt x="498" y="13"/>
                </a:lnTo>
                <a:lnTo>
                  <a:pt x="499" y="13"/>
                </a:lnTo>
                <a:lnTo>
                  <a:pt x="499" y="13"/>
                </a:lnTo>
                <a:lnTo>
                  <a:pt x="514" y="19"/>
                </a:lnTo>
                <a:lnTo>
                  <a:pt x="527" y="28"/>
                </a:lnTo>
                <a:lnTo>
                  <a:pt x="527" y="28"/>
                </a:lnTo>
                <a:lnTo>
                  <a:pt x="531" y="32"/>
                </a:lnTo>
                <a:lnTo>
                  <a:pt x="533" y="37"/>
                </a:lnTo>
                <a:lnTo>
                  <a:pt x="533" y="37"/>
                </a:lnTo>
                <a:lnTo>
                  <a:pt x="518" y="28"/>
                </a:lnTo>
                <a:lnTo>
                  <a:pt x="503" y="21"/>
                </a:lnTo>
                <a:lnTo>
                  <a:pt x="488" y="15"/>
                </a:lnTo>
                <a:lnTo>
                  <a:pt x="473" y="9"/>
                </a:lnTo>
                <a:lnTo>
                  <a:pt x="458" y="6"/>
                </a:lnTo>
                <a:lnTo>
                  <a:pt x="441" y="4"/>
                </a:lnTo>
                <a:lnTo>
                  <a:pt x="426" y="2"/>
                </a:lnTo>
                <a:lnTo>
                  <a:pt x="412" y="2"/>
                </a:lnTo>
                <a:lnTo>
                  <a:pt x="383" y="6"/>
                </a:lnTo>
                <a:lnTo>
                  <a:pt x="354" y="13"/>
                </a:lnTo>
                <a:lnTo>
                  <a:pt x="326" y="22"/>
                </a:lnTo>
                <a:lnTo>
                  <a:pt x="297" y="37"/>
                </a:lnTo>
                <a:lnTo>
                  <a:pt x="297" y="37"/>
                </a:lnTo>
                <a:lnTo>
                  <a:pt x="271" y="52"/>
                </a:lnTo>
                <a:lnTo>
                  <a:pt x="245" y="73"/>
                </a:lnTo>
                <a:lnTo>
                  <a:pt x="219" y="94"/>
                </a:lnTo>
                <a:lnTo>
                  <a:pt x="196" y="116"/>
                </a:lnTo>
                <a:lnTo>
                  <a:pt x="174" y="140"/>
                </a:lnTo>
                <a:lnTo>
                  <a:pt x="153" y="165"/>
                </a:lnTo>
                <a:lnTo>
                  <a:pt x="135" y="191"/>
                </a:lnTo>
                <a:lnTo>
                  <a:pt x="118" y="215"/>
                </a:lnTo>
                <a:lnTo>
                  <a:pt x="114" y="213"/>
                </a:lnTo>
                <a:lnTo>
                  <a:pt x="118" y="215"/>
                </a:lnTo>
                <a:lnTo>
                  <a:pt x="116" y="213"/>
                </a:lnTo>
                <a:lnTo>
                  <a:pt x="118" y="215"/>
                </a:lnTo>
                <a:lnTo>
                  <a:pt x="118" y="215"/>
                </a:lnTo>
                <a:lnTo>
                  <a:pt x="118" y="215"/>
                </a:lnTo>
                <a:lnTo>
                  <a:pt x="118" y="215"/>
                </a:lnTo>
                <a:lnTo>
                  <a:pt x="79" y="271"/>
                </a:lnTo>
                <a:lnTo>
                  <a:pt x="79" y="271"/>
                </a:lnTo>
                <a:lnTo>
                  <a:pt x="79" y="271"/>
                </a:lnTo>
                <a:lnTo>
                  <a:pt x="62" y="303"/>
                </a:lnTo>
                <a:lnTo>
                  <a:pt x="47" y="337"/>
                </a:lnTo>
                <a:lnTo>
                  <a:pt x="47" y="337"/>
                </a:lnTo>
                <a:lnTo>
                  <a:pt x="34" y="370"/>
                </a:lnTo>
                <a:lnTo>
                  <a:pt x="23" y="404"/>
                </a:lnTo>
                <a:lnTo>
                  <a:pt x="15" y="439"/>
                </a:lnTo>
                <a:lnTo>
                  <a:pt x="9" y="475"/>
                </a:lnTo>
                <a:lnTo>
                  <a:pt x="6" y="510"/>
                </a:lnTo>
                <a:lnTo>
                  <a:pt x="6" y="546"/>
                </a:lnTo>
                <a:lnTo>
                  <a:pt x="9" y="583"/>
                </a:lnTo>
                <a:lnTo>
                  <a:pt x="17" y="621"/>
                </a:lnTo>
                <a:lnTo>
                  <a:pt x="17" y="621"/>
                </a:lnTo>
                <a:lnTo>
                  <a:pt x="26" y="645"/>
                </a:lnTo>
                <a:lnTo>
                  <a:pt x="38" y="671"/>
                </a:lnTo>
                <a:lnTo>
                  <a:pt x="32" y="673"/>
                </a:lnTo>
                <a:lnTo>
                  <a:pt x="34" y="671"/>
                </a:lnTo>
                <a:lnTo>
                  <a:pt x="32" y="673"/>
                </a:lnTo>
                <a:lnTo>
                  <a:pt x="32" y="673"/>
                </a:lnTo>
                <a:lnTo>
                  <a:pt x="21" y="649"/>
                </a:lnTo>
                <a:lnTo>
                  <a:pt x="11" y="623"/>
                </a:lnTo>
                <a:close/>
                <a:moveTo>
                  <a:pt x="32" y="673"/>
                </a:moveTo>
                <a:lnTo>
                  <a:pt x="32" y="673"/>
                </a:lnTo>
                <a:close/>
              </a:path>
            </a:pathLst>
          </a:custGeom>
          <a:solidFill>
            <a:srgbClr val="9ab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2379600"/>
            <a:ext cx="1322280" cy="1184400"/>
          </a:xfrm>
          <a:custGeom>
            <a:avLst/>
            <a:gdLst/>
            <a:ahLst/>
            <a:rect l="l" t="t" r="r" b="b"/>
            <a:pathLst>
              <a:path w="833" h="746">
                <a:moveTo>
                  <a:pt x="0" y="690"/>
                </a:moveTo>
                <a:lnTo>
                  <a:pt x="4" y="686"/>
                </a:lnTo>
                <a:lnTo>
                  <a:pt x="4" y="686"/>
                </a:lnTo>
                <a:lnTo>
                  <a:pt x="27" y="705"/>
                </a:lnTo>
                <a:lnTo>
                  <a:pt x="49" y="720"/>
                </a:lnTo>
                <a:lnTo>
                  <a:pt x="73" y="731"/>
                </a:lnTo>
                <a:lnTo>
                  <a:pt x="87" y="735"/>
                </a:lnTo>
                <a:lnTo>
                  <a:pt x="100" y="739"/>
                </a:lnTo>
                <a:lnTo>
                  <a:pt x="113" y="741"/>
                </a:lnTo>
                <a:lnTo>
                  <a:pt x="126" y="741"/>
                </a:lnTo>
                <a:lnTo>
                  <a:pt x="141" y="741"/>
                </a:lnTo>
                <a:lnTo>
                  <a:pt x="154" y="737"/>
                </a:lnTo>
                <a:lnTo>
                  <a:pt x="171" y="735"/>
                </a:lnTo>
                <a:lnTo>
                  <a:pt x="186" y="729"/>
                </a:lnTo>
                <a:lnTo>
                  <a:pt x="201" y="722"/>
                </a:lnTo>
                <a:lnTo>
                  <a:pt x="217" y="714"/>
                </a:lnTo>
                <a:lnTo>
                  <a:pt x="217" y="714"/>
                </a:lnTo>
                <a:lnTo>
                  <a:pt x="236" y="701"/>
                </a:lnTo>
                <a:lnTo>
                  <a:pt x="251" y="686"/>
                </a:lnTo>
                <a:lnTo>
                  <a:pt x="264" y="670"/>
                </a:lnTo>
                <a:lnTo>
                  <a:pt x="275" y="649"/>
                </a:lnTo>
                <a:lnTo>
                  <a:pt x="275" y="649"/>
                </a:lnTo>
                <a:lnTo>
                  <a:pt x="285" y="628"/>
                </a:lnTo>
                <a:lnTo>
                  <a:pt x="292" y="606"/>
                </a:lnTo>
                <a:lnTo>
                  <a:pt x="292" y="606"/>
                </a:lnTo>
                <a:lnTo>
                  <a:pt x="292" y="606"/>
                </a:lnTo>
                <a:lnTo>
                  <a:pt x="298" y="584"/>
                </a:lnTo>
                <a:lnTo>
                  <a:pt x="303" y="563"/>
                </a:lnTo>
                <a:lnTo>
                  <a:pt x="309" y="542"/>
                </a:lnTo>
                <a:lnTo>
                  <a:pt x="318" y="522"/>
                </a:lnTo>
                <a:lnTo>
                  <a:pt x="326" y="503"/>
                </a:lnTo>
                <a:lnTo>
                  <a:pt x="337" y="486"/>
                </a:lnTo>
                <a:lnTo>
                  <a:pt x="360" y="451"/>
                </a:lnTo>
                <a:lnTo>
                  <a:pt x="384" y="421"/>
                </a:lnTo>
                <a:lnTo>
                  <a:pt x="412" y="391"/>
                </a:lnTo>
                <a:lnTo>
                  <a:pt x="444" y="365"/>
                </a:lnTo>
                <a:lnTo>
                  <a:pt x="475" y="339"/>
                </a:lnTo>
                <a:lnTo>
                  <a:pt x="475" y="339"/>
                </a:lnTo>
                <a:lnTo>
                  <a:pt x="503" y="320"/>
                </a:lnTo>
                <a:lnTo>
                  <a:pt x="532" y="301"/>
                </a:lnTo>
                <a:lnTo>
                  <a:pt x="532" y="301"/>
                </a:lnTo>
                <a:lnTo>
                  <a:pt x="532" y="301"/>
                </a:lnTo>
                <a:lnTo>
                  <a:pt x="533" y="305"/>
                </a:lnTo>
                <a:lnTo>
                  <a:pt x="532" y="301"/>
                </a:lnTo>
                <a:lnTo>
                  <a:pt x="533" y="305"/>
                </a:lnTo>
                <a:lnTo>
                  <a:pt x="532" y="301"/>
                </a:lnTo>
                <a:lnTo>
                  <a:pt x="532" y="301"/>
                </a:lnTo>
                <a:lnTo>
                  <a:pt x="563" y="284"/>
                </a:lnTo>
                <a:lnTo>
                  <a:pt x="591" y="266"/>
                </a:lnTo>
                <a:lnTo>
                  <a:pt x="619" y="249"/>
                </a:lnTo>
                <a:lnTo>
                  <a:pt x="636" y="241"/>
                </a:lnTo>
                <a:lnTo>
                  <a:pt x="651" y="234"/>
                </a:lnTo>
                <a:lnTo>
                  <a:pt x="651" y="234"/>
                </a:lnTo>
                <a:lnTo>
                  <a:pt x="711" y="202"/>
                </a:lnTo>
                <a:lnTo>
                  <a:pt x="711" y="202"/>
                </a:lnTo>
                <a:lnTo>
                  <a:pt x="771" y="169"/>
                </a:lnTo>
                <a:lnTo>
                  <a:pt x="771" y="169"/>
                </a:lnTo>
                <a:lnTo>
                  <a:pt x="771" y="169"/>
                </a:lnTo>
                <a:lnTo>
                  <a:pt x="780" y="161"/>
                </a:lnTo>
                <a:lnTo>
                  <a:pt x="790" y="154"/>
                </a:lnTo>
                <a:lnTo>
                  <a:pt x="805" y="139"/>
                </a:lnTo>
                <a:lnTo>
                  <a:pt x="816" y="120"/>
                </a:lnTo>
                <a:lnTo>
                  <a:pt x="823" y="99"/>
                </a:lnTo>
                <a:lnTo>
                  <a:pt x="827" y="79"/>
                </a:lnTo>
                <a:lnTo>
                  <a:pt x="827" y="58"/>
                </a:lnTo>
                <a:lnTo>
                  <a:pt x="823" y="38"/>
                </a:lnTo>
                <a:lnTo>
                  <a:pt x="816" y="17"/>
                </a:lnTo>
                <a:lnTo>
                  <a:pt x="816" y="17"/>
                </a:lnTo>
                <a:lnTo>
                  <a:pt x="808" y="4"/>
                </a:lnTo>
                <a:lnTo>
                  <a:pt x="808" y="4"/>
                </a:lnTo>
                <a:lnTo>
                  <a:pt x="812" y="0"/>
                </a:lnTo>
                <a:lnTo>
                  <a:pt x="812" y="0"/>
                </a:lnTo>
                <a:lnTo>
                  <a:pt x="821" y="15"/>
                </a:lnTo>
                <a:lnTo>
                  <a:pt x="821" y="15"/>
                </a:lnTo>
                <a:lnTo>
                  <a:pt x="829" y="36"/>
                </a:lnTo>
                <a:lnTo>
                  <a:pt x="833" y="58"/>
                </a:lnTo>
                <a:lnTo>
                  <a:pt x="833" y="79"/>
                </a:lnTo>
                <a:lnTo>
                  <a:pt x="829" y="101"/>
                </a:lnTo>
                <a:lnTo>
                  <a:pt x="821" y="122"/>
                </a:lnTo>
                <a:lnTo>
                  <a:pt x="810" y="140"/>
                </a:lnTo>
                <a:lnTo>
                  <a:pt x="803" y="150"/>
                </a:lnTo>
                <a:lnTo>
                  <a:pt x="793" y="159"/>
                </a:lnTo>
                <a:lnTo>
                  <a:pt x="784" y="167"/>
                </a:lnTo>
                <a:lnTo>
                  <a:pt x="775" y="172"/>
                </a:lnTo>
                <a:lnTo>
                  <a:pt x="775" y="172"/>
                </a:lnTo>
                <a:lnTo>
                  <a:pt x="775" y="172"/>
                </a:lnTo>
                <a:lnTo>
                  <a:pt x="713" y="206"/>
                </a:lnTo>
                <a:lnTo>
                  <a:pt x="713" y="206"/>
                </a:lnTo>
                <a:lnTo>
                  <a:pt x="655" y="240"/>
                </a:lnTo>
                <a:lnTo>
                  <a:pt x="655" y="240"/>
                </a:lnTo>
                <a:lnTo>
                  <a:pt x="655" y="240"/>
                </a:lnTo>
                <a:lnTo>
                  <a:pt x="655" y="240"/>
                </a:lnTo>
                <a:lnTo>
                  <a:pt x="638" y="247"/>
                </a:lnTo>
                <a:lnTo>
                  <a:pt x="623" y="255"/>
                </a:lnTo>
                <a:lnTo>
                  <a:pt x="595" y="271"/>
                </a:lnTo>
                <a:lnTo>
                  <a:pt x="567" y="290"/>
                </a:lnTo>
                <a:lnTo>
                  <a:pt x="535" y="307"/>
                </a:lnTo>
                <a:lnTo>
                  <a:pt x="535" y="307"/>
                </a:lnTo>
                <a:lnTo>
                  <a:pt x="507" y="326"/>
                </a:lnTo>
                <a:lnTo>
                  <a:pt x="479" y="344"/>
                </a:lnTo>
                <a:lnTo>
                  <a:pt x="479" y="344"/>
                </a:lnTo>
                <a:lnTo>
                  <a:pt x="447" y="369"/>
                </a:lnTo>
                <a:lnTo>
                  <a:pt x="416" y="397"/>
                </a:lnTo>
                <a:lnTo>
                  <a:pt x="388" y="425"/>
                </a:lnTo>
                <a:lnTo>
                  <a:pt x="363" y="455"/>
                </a:lnTo>
                <a:lnTo>
                  <a:pt x="341" y="488"/>
                </a:lnTo>
                <a:lnTo>
                  <a:pt x="331" y="507"/>
                </a:lnTo>
                <a:lnTo>
                  <a:pt x="324" y="526"/>
                </a:lnTo>
                <a:lnTo>
                  <a:pt x="315" y="544"/>
                </a:lnTo>
                <a:lnTo>
                  <a:pt x="309" y="565"/>
                </a:lnTo>
                <a:lnTo>
                  <a:pt x="303" y="585"/>
                </a:lnTo>
                <a:lnTo>
                  <a:pt x="298" y="608"/>
                </a:lnTo>
                <a:lnTo>
                  <a:pt x="296" y="608"/>
                </a:lnTo>
                <a:lnTo>
                  <a:pt x="298" y="608"/>
                </a:lnTo>
                <a:lnTo>
                  <a:pt x="296" y="608"/>
                </a:lnTo>
                <a:lnTo>
                  <a:pt x="298" y="608"/>
                </a:lnTo>
                <a:lnTo>
                  <a:pt x="298" y="608"/>
                </a:lnTo>
                <a:lnTo>
                  <a:pt x="298" y="608"/>
                </a:lnTo>
                <a:lnTo>
                  <a:pt x="298" y="608"/>
                </a:lnTo>
                <a:lnTo>
                  <a:pt x="290" y="630"/>
                </a:lnTo>
                <a:lnTo>
                  <a:pt x="281" y="653"/>
                </a:lnTo>
                <a:lnTo>
                  <a:pt x="281" y="653"/>
                </a:lnTo>
                <a:lnTo>
                  <a:pt x="270" y="671"/>
                </a:lnTo>
                <a:lnTo>
                  <a:pt x="257" y="690"/>
                </a:lnTo>
                <a:lnTo>
                  <a:pt x="240" y="705"/>
                </a:lnTo>
                <a:lnTo>
                  <a:pt x="230" y="713"/>
                </a:lnTo>
                <a:lnTo>
                  <a:pt x="221" y="718"/>
                </a:lnTo>
                <a:lnTo>
                  <a:pt x="221" y="718"/>
                </a:lnTo>
                <a:lnTo>
                  <a:pt x="221" y="718"/>
                </a:lnTo>
                <a:lnTo>
                  <a:pt x="195" y="731"/>
                </a:lnTo>
                <a:lnTo>
                  <a:pt x="171" y="741"/>
                </a:lnTo>
                <a:lnTo>
                  <a:pt x="146" y="744"/>
                </a:lnTo>
                <a:lnTo>
                  <a:pt x="124" y="746"/>
                </a:lnTo>
                <a:lnTo>
                  <a:pt x="124" y="746"/>
                </a:lnTo>
                <a:lnTo>
                  <a:pt x="107" y="746"/>
                </a:lnTo>
                <a:lnTo>
                  <a:pt x="90" y="742"/>
                </a:lnTo>
                <a:lnTo>
                  <a:pt x="73" y="739"/>
                </a:lnTo>
                <a:lnTo>
                  <a:pt x="58" y="731"/>
                </a:lnTo>
                <a:lnTo>
                  <a:pt x="43" y="724"/>
                </a:lnTo>
                <a:lnTo>
                  <a:pt x="29" y="714"/>
                </a:lnTo>
                <a:lnTo>
                  <a:pt x="14" y="703"/>
                </a:lnTo>
                <a:lnTo>
                  <a:pt x="0" y="69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03840" y="34686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0" y="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9120" y="2403360"/>
            <a:ext cx="46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03800" y="240336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08360" y="3198960"/>
            <a:ext cx="198720" cy="276120"/>
          </a:xfrm>
          <a:custGeom>
            <a:avLst/>
            <a:gdLst/>
            <a:ahLst/>
            <a:rect l="l" t="t" r="r" b="b"/>
            <a:pathLst>
              <a:path w="125" h="174">
                <a:moveTo>
                  <a:pt x="90" y="139"/>
                </a:moveTo>
                <a:lnTo>
                  <a:pt x="90" y="139"/>
                </a:lnTo>
                <a:lnTo>
                  <a:pt x="90" y="139"/>
                </a:lnTo>
                <a:lnTo>
                  <a:pt x="64" y="107"/>
                </a:lnTo>
                <a:lnTo>
                  <a:pt x="39" y="73"/>
                </a:lnTo>
                <a:lnTo>
                  <a:pt x="19" y="38"/>
                </a:lnTo>
                <a:lnTo>
                  <a:pt x="0" y="2"/>
                </a:lnTo>
                <a:lnTo>
                  <a:pt x="6" y="0"/>
                </a:lnTo>
                <a:lnTo>
                  <a:pt x="6" y="0"/>
                </a:lnTo>
                <a:lnTo>
                  <a:pt x="22" y="36"/>
                </a:lnTo>
                <a:lnTo>
                  <a:pt x="45" y="69"/>
                </a:lnTo>
                <a:lnTo>
                  <a:pt x="67" y="103"/>
                </a:lnTo>
                <a:lnTo>
                  <a:pt x="93" y="135"/>
                </a:lnTo>
                <a:lnTo>
                  <a:pt x="93" y="135"/>
                </a:lnTo>
                <a:lnTo>
                  <a:pt x="93" y="135"/>
                </a:lnTo>
                <a:lnTo>
                  <a:pt x="93" y="135"/>
                </a:lnTo>
                <a:lnTo>
                  <a:pt x="110" y="154"/>
                </a:lnTo>
                <a:lnTo>
                  <a:pt x="125" y="170"/>
                </a:lnTo>
                <a:lnTo>
                  <a:pt x="121" y="174"/>
                </a:lnTo>
                <a:lnTo>
                  <a:pt x="121" y="174"/>
                </a:lnTo>
                <a:lnTo>
                  <a:pt x="105" y="157"/>
                </a:lnTo>
                <a:lnTo>
                  <a:pt x="90" y="13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57600" y="2133720"/>
            <a:ext cx="846360" cy="1068120"/>
          </a:xfrm>
          <a:custGeom>
            <a:avLst/>
            <a:gdLst/>
            <a:ahLst/>
            <a:rect l="l" t="t" r="r" b="b"/>
            <a:pathLst>
              <a:path w="533" h="673">
                <a:moveTo>
                  <a:pt x="11" y="623"/>
                </a:moveTo>
                <a:lnTo>
                  <a:pt x="11" y="623"/>
                </a:lnTo>
                <a:lnTo>
                  <a:pt x="11" y="623"/>
                </a:lnTo>
                <a:lnTo>
                  <a:pt x="11" y="623"/>
                </a:lnTo>
                <a:lnTo>
                  <a:pt x="4" y="585"/>
                </a:lnTo>
                <a:lnTo>
                  <a:pt x="0" y="548"/>
                </a:lnTo>
                <a:lnTo>
                  <a:pt x="0" y="510"/>
                </a:lnTo>
                <a:lnTo>
                  <a:pt x="2" y="475"/>
                </a:lnTo>
                <a:lnTo>
                  <a:pt x="8" y="438"/>
                </a:lnTo>
                <a:lnTo>
                  <a:pt x="17" y="402"/>
                </a:lnTo>
                <a:lnTo>
                  <a:pt x="28" y="368"/>
                </a:lnTo>
                <a:lnTo>
                  <a:pt x="41" y="335"/>
                </a:lnTo>
                <a:lnTo>
                  <a:pt x="47" y="337"/>
                </a:lnTo>
                <a:lnTo>
                  <a:pt x="41" y="335"/>
                </a:lnTo>
                <a:lnTo>
                  <a:pt x="41" y="335"/>
                </a:lnTo>
                <a:lnTo>
                  <a:pt x="56" y="301"/>
                </a:lnTo>
                <a:lnTo>
                  <a:pt x="75" y="267"/>
                </a:lnTo>
                <a:lnTo>
                  <a:pt x="75" y="267"/>
                </a:lnTo>
                <a:lnTo>
                  <a:pt x="75" y="267"/>
                </a:lnTo>
                <a:lnTo>
                  <a:pt x="77" y="269"/>
                </a:lnTo>
                <a:lnTo>
                  <a:pt x="77" y="269"/>
                </a:lnTo>
                <a:lnTo>
                  <a:pt x="75" y="267"/>
                </a:lnTo>
                <a:lnTo>
                  <a:pt x="75" y="267"/>
                </a:lnTo>
                <a:lnTo>
                  <a:pt x="112" y="213"/>
                </a:lnTo>
                <a:lnTo>
                  <a:pt x="112" y="213"/>
                </a:lnTo>
                <a:lnTo>
                  <a:pt x="112" y="213"/>
                </a:lnTo>
                <a:lnTo>
                  <a:pt x="129" y="187"/>
                </a:lnTo>
                <a:lnTo>
                  <a:pt x="148" y="161"/>
                </a:lnTo>
                <a:lnTo>
                  <a:pt x="170" y="137"/>
                </a:lnTo>
                <a:lnTo>
                  <a:pt x="191" y="112"/>
                </a:lnTo>
                <a:lnTo>
                  <a:pt x="215" y="90"/>
                </a:lnTo>
                <a:lnTo>
                  <a:pt x="241" y="67"/>
                </a:lnTo>
                <a:lnTo>
                  <a:pt x="268" y="49"/>
                </a:lnTo>
                <a:lnTo>
                  <a:pt x="294" y="32"/>
                </a:lnTo>
                <a:lnTo>
                  <a:pt x="294" y="32"/>
                </a:lnTo>
                <a:lnTo>
                  <a:pt x="305" y="26"/>
                </a:lnTo>
                <a:lnTo>
                  <a:pt x="305" y="26"/>
                </a:lnTo>
                <a:lnTo>
                  <a:pt x="305" y="26"/>
                </a:lnTo>
                <a:lnTo>
                  <a:pt x="305" y="26"/>
                </a:lnTo>
                <a:lnTo>
                  <a:pt x="305" y="26"/>
                </a:lnTo>
                <a:lnTo>
                  <a:pt x="305" y="26"/>
                </a:lnTo>
                <a:lnTo>
                  <a:pt x="340" y="13"/>
                </a:lnTo>
                <a:lnTo>
                  <a:pt x="376" y="4"/>
                </a:lnTo>
                <a:lnTo>
                  <a:pt x="376" y="4"/>
                </a:lnTo>
                <a:lnTo>
                  <a:pt x="402" y="0"/>
                </a:lnTo>
                <a:lnTo>
                  <a:pt x="434" y="0"/>
                </a:lnTo>
                <a:lnTo>
                  <a:pt x="434" y="0"/>
                </a:lnTo>
                <a:lnTo>
                  <a:pt x="468" y="4"/>
                </a:lnTo>
                <a:lnTo>
                  <a:pt x="483" y="8"/>
                </a:lnTo>
                <a:lnTo>
                  <a:pt x="498" y="13"/>
                </a:lnTo>
                <a:lnTo>
                  <a:pt x="498" y="13"/>
                </a:lnTo>
                <a:lnTo>
                  <a:pt x="498" y="13"/>
                </a:lnTo>
                <a:lnTo>
                  <a:pt x="498" y="13"/>
                </a:lnTo>
                <a:lnTo>
                  <a:pt x="499" y="13"/>
                </a:lnTo>
                <a:lnTo>
                  <a:pt x="499" y="13"/>
                </a:lnTo>
                <a:lnTo>
                  <a:pt x="514" y="19"/>
                </a:lnTo>
                <a:lnTo>
                  <a:pt x="527" y="28"/>
                </a:lnTo>
                <a:lnTo>
                  <a:pt x="527" y="28"/>
                </a:lnTo>
                <a:lnTo>
                  <a:pt x="531" y="32"/>
                </a:lnTo>
                <a:lnTo>
                  <a:pt x="533" y="37"/>
                </a:lnTo>
                <a:lnTo>
                  <a:pt x="533" y="37"/>
                </a:lnTo>
                <a:lnTo>
                  <a:pt x="518" y="28"/>
                </a:lnTo>
                <a:lnTo>
                  <a:pt x="503" y="21"/>
                </a:lnTo>
                <a:lnTo>
                  <a:pt x="488" y="15"/>
                </a:lnTo>
                <a:lnTo>
                  <a:pt x="473" y="9"/>
                </a:lnTo>
                <a:lnTo>
                  <a:pt x="458" y="6"/>
                </a:lnTo>
                <a:lnTo>
                  <a:pt x="441" y="4"/>
                </a:lnTo>
                <a:lnTo>
                  <a:pt x="426" y="2"/>
                </a:lnTo>
                <a:lnTo>
                  <a:pt x="412" y="2"/>
                </a:lnTo>
                <a:lnTo>
                  <a:pt x="383" y="6"/>
                </a:lnTo>
                <a:lnTo>
                  <a:pt x="354" y="13"/>
                </a:lnTo>
                <a:lnTo>
                  <a:pt x="326" y="22"/>
                </a:lnTo>
                <a:lnTo>
                  <a:pt x="297" y="37"/>
                </a:lnTo>
                <a:lnTo>
                  <a:pt x="297" y="37"/>
                </a:lnTo>
                <a:lnTo>
                  <a:pt x="271" y="52"/>
                </a:lnTo>
                <a:lnTo>
                  <a:pt x="245" y="73"/>
                </a:lnTo>
                <a:lnTo>
                  <a:pt x="219" y="94"/>
                </a:lnTo>
                <a:lnTo>
                  <a:pt x="196" y="116"/>
                </a:lnTo>
                <a:lnTo>
                  <a:pt x="174" y="140"/>
                </a:lnTo>
                <a:lnTo>
                  <a:pt x="153" y="165"/>
                </a:lnTo>
                <a:lnTo>
                  <a:pt x="135" y="191"/>
                </a:lnTo>
                <a:lnTo>
                  <a:pt x="118" y="215"/>
                </a:lnTo>
                <a:lnTo>
                  <a:pt x="114" y="213"/>
                </a:lnTo>
                <a:lnTo>
                  <a:pt x="118" y="215"/>
                </a:lnTo>
                <a:lnTo>
                  <a:pt x="116" y="213"/>
                </a:lnTo>
                <a:lnTo>
                  <a:pt x="118" y="215"/>
                </a:lnTo>
                <a:lnTo>
                  <a:pt x="118" y="215"/>
                </a:lnTo>
                <a:lnTo>
                  <a:pt x="118" y="215"/>
                </a:lnTo>
                <a:lnTo>
                  <a:pt x="118" y="215"/>
                </a:lnTo>
                <a:lnTo>
                  <a:pt x="79" y="271"/>
                </a:lnTo>
                <a:lnTo>
                  <a:pt x="79" y="271"/>
                </a:lnTo>
                <a:lnTo>
                  <a:pt x="79" y="271"/>
                </a:lnTo>
                <a:lnTo>
                  <a:pt x="62" y="303"/>
                </a:lnTo>
                <a:lnTo>
                  <a:pt x="47" y="337"/>
                </a:lnTo>
                <a:lnTo>
                  <a:pt x="47" y="337"/>
                </a:lnTo>
                <a:lnTo>
                  <a:pt x="34" y="370"/>
                </a:lnTo>
                <a:lnTo>
                  <a:pt x="23" y="404"/>
                </a:lnTo>
                <a:lnTo>
                  <a:pt x="15" y="439"/>
                </a:lnTo>
                <a:lnTo>
                  <a:pt x="9" y="475"/>
                </a:lnTo>
                <a:lnTo>
                  <a:pt x="6" y="510"/>
                </a:lnTo>
                <a:lnTo>
                  <a:pt x="6" y="546"/>
                </a:lnTo>
                <a:lnTo>
                  <a:pt x="9" y="583"/>
                </a:lnTo>
                <a:lnTo>
                  <a:pt x="17" y="621"/>
                </a:lnTo>
                <a:lnTo>
                  <a:pt x="17" y="621"/>
                </a:lnTo>
                <a:lnTo>
                  <a:pt x="26" y="645"/>
                </a:lnTo>
                <a:lnTo>
                  <a:pt x="38" y="671"/>
                </a:lnTo>
                <a:lnTo>
                  <a:pt x="32" y="673"/>
                </a:lnTo>
                <a:lnTo>
                  <a:pt x="34" y="671"/>
                </a:lnTo>
                <a:lnTo>
                  <a:pt x="32" y="673"/>
                </a:lnTo>
                <a:lnTo>
                  <a:pt x="32" y="673"/>
                </a:lnTo>
                <a:lnTo>
                  <a:pt x="21" y="649"/>
                </a:lnTo>
                <a:lnTo>
                  <a:pt x="11" y="62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08360" y="320184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63560" y="2962440"/>
            <a:ext cx="3152880" cy="2017440"/>
          </a:xfrm>
          <a:custGeom>
            <a:avLst/>
            <a:gdLst/>
            <a:ahLst/>
            <a:rect l="l" t="t" r="r" b="b"/>
            <a:pathLst>
              <a:path w="1986" h="1271">
                <a:moveTo>
                  <a:pt x="1567" y="1269"/>
                </a:moveTo>
                <a:lnTo>
                  <a:pt x="1567" y="1269"/>
                </a:lnTo>
                <a:lnTo>
                  <a:pt x="1554" y="1267"/>
                </a:lnTo>
                <a:lnTo>
                  <a:pt x="1541" y="1264"/>
                </a:lnTo>
                <a:lnTo>
                  <a:pt x="1528" y="1260"/>
                </a:lnTo>
                <a:lnTo>
                  <a:pt x="1516" y="1254"/>
                </a:lnTo>
                <a:lnTo>
                  <a:pt x="1516" y="1254"/>
                </a:lnTo>
                <a:lnTo>
                  <a:pt x="1505" y="1247"/>
                </a:lnTo>
                <a:lnTo>
                  <a:pt x="1494" y="1237"/>
                </a:lnTo>
                <a:lnTo>
                  <a:pt x="1483" y="1226"/>
                </a:lnTo>
                <a:lnTo>
                  <a:pt x="1472" y="1215"/>
                </a:lnTo>
                <a:lnTo>
                  <a:pt x="1472" y="1215"/>
                </a:lnTo>
                <a:lnTo>
                  <a:pt x="1468" y="1198"/>
                </a:lnTo>
                <a:lnTo>
                  <a:pt x="1464" y="1179"/>
                </a:lnTo>
                <a:lnTo>
                  <a:pt x="1462" y="1161"/>
                </a:lnTo>
                <a:lnTo>
                  <a:pt x="1464" y="1142"/>
                </a:lnTo>
                <a:lnTo>
                  <a:pt x="1466" y="1123"/>
                </a:lnTo>
                <a:lnTo>
                  <a:pt x="1470" y="1103"/>
                </a:lnTo>
                <a:lnTo>
                  <a:pt x="1481" y="1063"/>
                </a:lnTo>
                <a:lnTo>
                  <a:pt x="1503" y="985"/>
                </a:lnTo>
                <a:lnTo>
                  <a:pt x="1511" y="948"/>
                </a:lnTo>
                <a:lnTo>
                  <a:pt x="1515" y="929"/>
                </a:lnTo>
                <a:lnTo>
                  <a:pt x="1515" y="912"/>
                </a:lnTo>
                <a:lnTo>
                  <a:pt x="1515" y="912"/>
                </a:lnTo>
                <a:lnTo>
                  <a:pt x="1515" y="899"/>
                </a:lnTo>
                <a:lnTo>
                  <a:pt x="1511" y="886"/>
                </a:lnTo>
                <a:lnTo>
                  <a:pt x="1507" y="875"/>
                </a:lnTo>
                <a:lnTo>
                  <a:pt x="1502" y="862"/>
                </a:lnTo>
                <a:lnTo>
                  <a:pt x="1502" y="862"/>
                </a:lnTo>
                <a:lnTo>
                  <a:pt x="1502" y="862"/>
                </a:lnTo>
                <a:lnTo>
                  <a:pt x="1500" y="863"/>
                </a:lnTo>
                <a:lnTo>
                  <a:pt x="1500" y="863"/>
                </a:lnTo>
                <a:lnTo>
                  <a:pt x="1500" y="863"/>
                </a:lnTo>
                <a:lnTo>
                  <a:pt x="1500" y="863"/>
                </a:lnTo>
                <a:lnTo>
                  <a:pt x="1502" y="862"/>
                </a:lnTo>
                <a:lnTo>
                  <a:pt x="1502" y="862"/>
                </a:lnTo>
                <a:lnTo>
                  <a:pt x="1490" y="848"/>
                </a:lnTo>
                <a:lnTo>
                  <a:pt x="1477" y="837"/>
                </a:lnTo>
                <a:lnTo>
                  <a:pt x="1462" y="828"/>
                </a:lnTo>
                <a:lnTo>
                  <a:pt x="1445" y="819"/>
                </a:lnTo>
                <a:lnTo>
                  <a:pt x="1430" y="813"/>
                </a:lnTo>
                <a:lnTo>
                  <a:pt x="1414" y="807"/>
                </a:lnTo>
                <a:lnTo>
                  <a:pt x="1395" y="805"/>
                </a:lnTo>
                <a:lnTo>
                  <a:pt x="1376" y="804"/>
                </a:lnTo>
                <a:lnTo>
                  <a:pt x="1376" y="807"/>
                </a:lnTo>
                <a:lnTo>
                  <a:pt x="1376" y="807"/>
                </a:lnTo>
                <a:lnTo>
                  <a:pt x="1376" y="807"/>
                </a:lnTo>
                <a:lnTo>
                  <a:pt x="1376" y="807"/>
                </a:lnTo>
                <a:lnTo>
                  <a:pt x="1376" y="804"/>
                </a:lnTo>
                <a:lnTo>
                  <a:pt x="1376" y="804"/>
                </a:lnTo>
                <a:lnTo>
                  <a:pt x="1376" y="804"/>
                </a:lnTo>
                <a:lnTo>
                  <a:pt x="1376" y="804"/>
                </a:lnTo>
                <a:lnTo>
                  <a:pt x="1359" y="805"/>
                </a:lnTo>
                <a:lnTo>
                  <a:pt x="1343" y="809"/>
                </a:lnTo>
                <a:lnTo>
                  <a:pt x="1326" y="815"/>
                </a:lnTo>
                <a:lnTo>
                  <a:pt x="1311" y="822"/>
                </a:lnTo>
                <a:lnTo>
                  <a:pt x="1313" y="824"/>
                </a:lnTo>
                <a:lnTo>
                  <a:pt x="1311" y="822"/>
                </a:lnTo>
                <a:lnTo>
                  <a:pt x="1311" y="822"/>
                </a:lnTo>
                <a:lnTo>
                  <a:pt x="1290" y="832"/>
                </a:lnTo>
                <a:lnTo>
                  <a:pt x="1270" y="845"/>
                </a:lnTo>
                <a:lnTo>
                  <a:pt x="1229" y="871"/>
                </a:lnTo>
                <a:lnTo>
                  <a:pt x="1229" y="871"/>
                </a:lnTo>
                <a:lnTo>
                  <a:pt x="1232" y="856"/>
                </a:lnTo>
                <a:lnTo>
                  <a:pt x="1236" y="843"/>
                </a:lnTo>
                <a:lnTo>
                  <a:pt x="1236" y="843"/>
                </a:lnTo>
                <a:lnTo>
                  <a:pt x="1247" y="830"/>
                </a:lnTo>
                <a:lnTo>
                  <a:pt x="1260" y="820"/>
                </a:lnTo>
                <a:lnTo>
                  <a:pt x="1273" y="811"/>
                </a:lnTo>
                <a:lnTo>
                  <a:pt x="1285" y="802"/>
                </a:lnTo>
                <a:lnTo>
                  <a:pt x="1298" y="796"/>
                </a:lnTo>
                <a:lnTo>
                  <a:pt x="1311" y="791"/>
                </a:lnTo>
                <a:lnTo>
                  <a:pt x="1324" y="785"/>
                </a:lnTo>
                <a:lnTo>
                  <a:pt x="1335" y="783"/>
                </a:lnTo>
                <a:lnTo>
                  <a:pt x="1361" y="779"/>
                </a:lnTo>
                <a:lnTo>
                  <a:pt x="1389" y="779"/>
                </a:lnTo>
                <a:lnTo>
                  <a:pt x="1416" y="785"/>
                </a:lnTo>
                <a:lnTo>
                  <a:pt x="1444" y="791"/>
                </a:lnTo>
                <a:lnTo>
                  <a:pt x="1444" y="791"/>
                </a:lnTo>
                <a:lnTo>
                  <a:pt x="1470" y="800"/>
                </a:lnTo>
                <a:lnTo>
                  <a:pt x="1498" y="811"/>
                </a:lnTo>
                <a:lnTo>
                  <a:pt x="1556" y="837"/>
                </a:lnTo>
                <a:lnTo>
                  <a:pt x="1614" y="865"/>
                </a:lnTo>
                <a:lnTo>
                  <a:pt x="1642" y="880"/>
                </a:lnTo>
                <a:lnTo>
                  <a:pt x="1672" y="891"/>
                </a:lnTo>
                <a:lnTo>
                  <a:pt x="1672" y="891"/>
                </a:lnTo>
                <a:lnTo>
                  <a:pt x="1705" y="905"/>
                </a:lnTo>
                <a:lnTo>
                  <a:pt x="1737" y="914"/>
                </a:lnTo>
                <a:lnTo>
                  <a:pt x="1739" y="914"/>
                </a:lnTo>
                <a:lnTo>
                  <a:pt x="1739" y="914"/>
                </a:lnTo>
                <a:lnTo>
                  <a:pt x="1739" y="914"/>
                </a:lnTo>
                <a:lnTo>
                  <a:pt x="1849" y="916"/>
                </a:lnTo>
                <a:lnTo>
                  <a:pt x="1905" y="918"/>
                </a:lnTo>
                <a:lnTo>
                  <a:pt x="1960" y="920"/>
                </a:lnTo>
                <a:lnTo>
                  <a:pt x="1960" y="920"/>
                </a:lnTo>
                <a:lnTo>
                  <a:pt x="1986" y="921"/>
                </a:lnTo>
                <a:lnTo>
                  <a:pt x="1986" y="921"/>
                </a:lnTo>
                <a:lnTo>
                  <a:pt x="1986" y="955"/>
                </a:lnTo>
                <a:lnTo>
                  <a:pt x="1982" y="987"/>
                </a:lnTo>
                <a:lnTo>
                  <a:pt x="1980" y="1019"/>
                </a:lnTo>
                <a:lnTo>
                  <a:pt x="1975" y="1050"/>
                </a:lnTo>
                <a:lnTo>
                  <a:pt x="1967" y="1082"/>
                </a:lnTo>
                <a:lnTo>
                  <a:pt x="1956" y="1112"/>
                </a:lnTo>
                <a:lnTo>
                  <a:pt x="1945" y="1142"/>
                </a:lnTo>
                <a:lnTo>
                  <a:pt x="1932" y="1170"/>
                </a:lnTo>
                <a:lnTo>
                  <a:pt x="1932" y="1170"/>
                </a:lnTo>
                <a:lnTo>
                  <a:pt x="1917" y="1183"/>
                </a:lnTo>
                <a:lnTo>
                  <a:pt x="1902" y="1194"/>
                </a:lnTo>
                <a:lnTo>
                  <a:pt x="1887" y="1206"/>
                </a:lnTo>
                <a:lnTo>
                  <a:pt x="1870" y="1215"/>
                </a:lnTo>
                <a:lnTo>
                  <a:pt x="1872" y="1219"/>
                </a:lnTo>
                <a:lnTo>
                  <a:pt x="1870" y="1215"/>
                </a:lnTo>
                <a:lnTo>
                  <a:pt x="1870" y="1215"/>
                </a:lnTo>
                <a:lnTo>
                  <a:pt x="1853" y="1224"/>
                </a:lnTo>
                <a:lnTo>
                  <a:pt x="1836" y="1230"/>
                </a:lnTo>
                <a:lnTo>
                  <a:pt x="1801" y="1243"/>
                </a:lnTo>
                <a:lnTo>
                  <a:pt x="1801" y="1243"/>
                </a:lnTo>
                <a:lnTo>
                  <a:pt x="1775" y="1245"/>
                </a:lnTo>
                <a:lnTo>
                  <a:pt x="1750" y="1249"/>
                </a:lnTo>
                <a:lnTo>
                  <a:pt x="1698" y="1260"/>
                </a:lnTo>
                <a:lnTo>
                  <a:pt x="1647" y="1267"/>
                </a:lnTo>
                <a:lnTo>
                  <a:pt x="1623" y="1271"/>
                </a:lnTo>
                <a:lnTo>
                  <a:pt x="1597" y="1271"/>
                </a:lnTo>
                <a:lnTo>
                  <a:pt x="1597" y="1271"/>
                </a:lnTo>
                <a:lnTo>
                  <a:pt x="1582" y="1271"/>
                </a:lnTo>
                <a:lnTo>
                  <a:pt x="1567" y="1269"/>
                </a:lnTo>
                <a:close/>
                <a:moveTo>
                  <a:pt x="1933" y="1172"/>
                </a:moveTo>
                <a:lnTo>
                  <a:pt x="1933" y="1172"/>
                </a:lnTo>
                <a:lnTo>
                  <a:pt x="1933" y="1172"/>
                </a:lnTo>
                <a:lnTo>
                  <a:pt x="1933" y="1172"/>
                </a:lnTo>
                <a:close/>
                <a:moveTo>
                  <a:pt x="583" y="1043"/>
                </a:moveTo>
                <a:lnTo>
                  <a:pt x="583" y="1043"/>
                </a:lnTo>
                <a:lnTo>
                  <a:pt x="567" y="1032"/>
                </a:lnTo>
                <a:lnTo>
                  <a:pt x="567" y="1032"/>
                </a:lnTo>
                <a:lnTo>
                  <a:pt x="546" y="1013"/>
                </a:lnTo>
                <a:lnTo>
                  <a:pt x="546" y="1013"/>
                </a:lnTo>
                <a:lnTo>
                  <a:pt x="471" y="933"/>
                </a:lnTo>
                <a:lnTo>
                  <a:pt x="434" y="893"/>
                </a:lnTo>
                <a:lnTo>
                  <a:pt x="395" y="854"/>
                </a:lnTo>
                <a:lnTo>
                  <a:pt x="395" y="854"/>
                </a:lnTo>
                <a:lnTo>
                  <a:pt x="366" y="826"/>
                </a:lnTo>
                <a:lnTo>
                  <a:pt x="335" y="802"/>
                </a:lnTo>
                <a:lnTo>
                  <a:pt x="303" y="777"/>
                </a:lnTo>
                <a:lnTo>
                  <a:pt x="267" y="757"/>
                </a:lnTo>
                <a:lnTo>
                  <a:pt x="267" y="757"/>
                </a:lnTo>
                <a:lnTo>
                  <a:pt x="237" y="746"/>
                </a:lnTo>
                <a:lnTo>
                  <a:pt x="208" y="734"/>
                </a:lnTo>
                <a:lnTo>
                  <a:pt x="174" y="725"/>
                </a:lnTo>
                <a:lnTo>
                  <a:pt x="138" y="719"/>
                </a:lnTo>
                <a:lnTo>
                  <a:pt x="138" y="719"/>
                </a:lnTo>
                <a:lnTo>
                  <a:pt x="122" y="716"/>
                </a:lnTo>
                <a:lnTo>
                  <a:pt x="107" y="708"/>
                </a:lnTo>
                <a:lnTo>
                  <a:pt x="93" y="701"/>
                </a:lnTo>
                <a:lnTo>
                  <a:pt x="82" y="691"/>
                </a:lnTo>
                <a:lnTo>
                  <a:pt x="82" y="691"/>
                </a:lnTo>
                <a:lnTo>
                  <a:pt x="65" y="671"/>
                </a:lnTo>
                <a:lnTo>
                  <a:pt x="50" y="650"/>
                </a:lnTo>
                <a:lnTo>
                  <a:pt x="39" y="626"/>
                </a:lnTo>
                <a:lnTo>
                  <a:pt x="28" y="604"/>
                </a:lnTo>
                <a:lnTo>
                  <a:pt x="19" y="577"/>
                </a:lnTo>
                <a:lnTo>
                  <a:pt x="11" y="553"/>
                </a:lnTo>
                <a:lnTo>
                  <a:pt x="6" y="527"/>
                </a:lnTo>
                <a:lnTo>
                  <a:pt x="2" y="501"/>
                </a:lnTo>
                <a:lnTo>
                  <a:pt x="0" y="475"/>
                </a:lnTo>
                <a:lnTo>
                  <a:pt x="2" y="447"/>
                </a:lnTo>
                <a:lnTo>
                  <a:pt x="4" y="420"/>
                </a:lnTo>
                <a:lnTo>
                  <a:pt x="9" y="396"/>
                </a:lnTo>
                <a:lnTo>
                  <a:pt x="17" y="370"/>
                </a:lnTo>
                <a:lnTo>
                  <a:pt x="26" y="346"/>
                </a:lnTo>
                <a:lnTo>
                  <a:pt x="37" y="321"/>
                </a:lnTo>
                <a:lnTo>
                  <a:pt x="50" y="299"/>
                </a:lnTo>
                <a:lnTo>
                  <a:pt x="50" y="299"/>
                </a:lnTo>
                <a:lnTo>
                  <a:pt x="50" y="299"/>
                </a:lnTo>
                <a:lnTo>
                  <a:pt x="62" y="286"/>
                </a:lnTo>
                <a:lnTo>
                  <a:pt x="62" y="286"/>
                </a:lnTo>
                <a:lnTo>
                  <a:pt x="80" y="282"/>
                </a:lnTo>
                <a:lnTo>
                  <a:pt x="97" y="282"/>
                </a:lnTo>
                <a:lnTo>
                  <a:pt x="116" y="284"/>
                </a:lnTo>
                <a:lnTo>
                  <a:pt x="135" y="288"/>
                </a:lnTo>
                <a:lnTo>
                  <a:pt x="136" y="284"/>
                </a:lnTo>
                <a:lnTo>
                  <a:pt x="136" y="284"/>
                </a:lnTo>
                <a:lnTo>
                  <a:pt x="136" y="284"/>
                </a:lnTo>
                <a:lnTo>
                  <a:pt x="135" y="288"/>
                </a:lnTo>
                <a:lnTo>
                  <a:pt x="135" y="288"/>
                </a:lnTo>
                <a:lnTo>
                  <a:pt x="135" y="288"/>
                </a:lnTo>
                <a:lnTo>
                  <a:pt x="135" y="288"/>
                </a:lnTo>
                <a:lnTo>
                  <a:pt x="172" y="295"/>
                </a:lnTo>
                <a:lnTo>
                  <a:pt x="209" y="304"/>
                </a:lnTo>
                <a:lnTo>
                  <a:pt x="209" y="304"/>
                </a:lnTo>
                <a:lnTo>
                  <a:pt x="247" y="318"/>
                </a:lnTo>
                <a:lnTo>
                  <a:pt x="282" y="332"/>
                </a:lnTo>
                <a:lnTo>
                  <a:pt x="318" y="349"/>
                </a:lnTo>
                <a:lnTo>
                  <a:pt x="350" y="370"/>
                </a:lnTo>
                <a:lnTo>
                  <a:pt x="352" y="366"/>
                </a:lnTo>
                <a:lnTo>
                  <a:pt x="350" y="370"/>
                </a:lnTo>
                <a:lnTo>
                  <a:pt x="352" y="370"/>
                </a:lnTo>
                <a:lnTo>
                  <a:pt x="352" y="370"/>
                </a:lnTo>
                <a:lnTo>
                  <a:pt x="352" y="370"/>
                </a:lnTo>
                <a:lnTo>
                  <a:pt x="411" y="390"/>
                </a:lnTo>
                <a:lnTo>
                  <a:pt x="411" y="390"/>
                </a:lnTo>
                <a:lnTo>
                  <a:pt x="456" y="404"/>
                </a:lnTo>
                <a:lnTo>
                  <a:pt x="501" y="415"/>
                </a:lnTo>
                <a:lnTo>
                  <a:pt x="548" y="424"/>
                </a:lnTo>
                <a:lnTo>
                  <a:pt x="596" y="430"/>
                </a:lnTo>
                <a:lnTo>
                  <a:pt x="596" y="430"/>
                </a:lnTo>
                <a:lnTo>
                  <a:pt x="596" y="430"/>
                </a:lnTo>
                <a:lnTo>
                  <a:pt x="596" y="430"/>
                </a:lnTo>
                <a:lnTo>
                  <a:pt x="626" y="432"/>
                </a:lnTo>
                <a:lnTo>
                  <a:pt x="654" y="437"/>
                </a:lnTo>
                <a:lnTo>
                  <a:pt x="654" y="437"/>
                </a:lnTo>
                <a:lnTo>
                  <a:pt x="654" y="437"/>
                </a:lnTo>
                <a:lnTo>
                  <a:pt x="654" y="437"/>
                </a:lnTo>
                <a:lnTo>
                  <a:pt x="686" y="441"/>
                </a:lnTo>
                <a:lnTo>
                  <a:pt x="718" y="448"/>
                </a:lnTo>
                <a:lnTo>
                  <a:pt x="748" y="458"/>
                </a:lnTo>
                <a:lnTo>
                  <a:pt x="776" y="471"/>
                </a:lnTo>
                <a:lnTo>
                  <a:pt x="802" y="486"/>
                </a:lnTo>
                <a:lnTo>
                  <a:pt x="828" y="503"/>
                </a:lnTo>
                <a:lnTo>
                  <a:pt x="851" y="521"/>
                </a:lnTo>
                <a:lnTo>
                  <a:pt x="873" y="542"/>
                </a:lnTo>
                <a:lnTo>
                  <a:pt x="873" y="542"/>
                </a:lnTo>
                <a:lnTo>
                  <a:pt x="892" y="564"/>
                </a:lnTo>
                <a:lnTo>
                  <a:pt x="909" y="589"/>
                </a:lnTo>
                <a:lnTo>
                  <a:pt x="922" y="615"/>
                </a:lnTo>
                <a:lnTo>
                  <a:pt x="933" y="641"/>
                </a:lnTo>
                <a:lnTo>
                  <a:pt x="941" y="671"/>
                </a:lnTo>
                <a:lnTo>
                  <a:pt x="946" y="701"/>
                </a:lnTo>
                <a:lnTo>
                  <a:pt x="946" y="733"/>
                </a:lnTo>
                <a:lnTo>
                  <a:pt x="944" y="764"/>
                </a:lnTo>
                <a:lnTo>
                  <a:pt x="948" y="766"/>
                </a:lnTo>
                <a:lnTo>
                  <a:pt x="944" y="764"/>
                </a:lnTo>
                <a:lnTo>
                  <a:pt x="944" y="766"/>
                </a:lnTo>
                <a:lnTo>
                  <a:pt x="944" y="766"/>
                </a:lnTo>
                <a:lnTo>
                  <a:pt x="944" y="766"/>
                </a:lnTo>
                <a:lnTo>
                  <a:pt x="948" y="798"/>
                </a:lnTo>
                <a:lnTo>
                  <a:pt x="954" y="830"/>
                </a:lnTo>
                <a:lnTo>
                  <a:pt x="954" y="830"/>
                </a:lnTo>
                <a:lnTo>
                  <a:pt x="959" y="850"/>
                </a:lnTo>
                <a:lnTo>
                  <a:pt x="965" y="869"/>
                </a:lnTo>
                <a:lnTo>
                  <a:pt x="972" y="890"/>
                </a:lnTo>
                <a:lnTo>
                  <a:pt x="982" y="908"/>
                </a:lnTo>
                <a:lnTo>
                  <a:pt x="993" y="927"/>
                </a:lnTo>
                <a:lnTo>
                  <a:pt x="1004" y="946"/>
                </a:lnTo>
                <a:lnTo>
                  <a:pt x="1019" y="963"/>
                </a:lnTo>
                <a:lnTo>
                  <a:pt x="1036" y="979"/>
                </a:lnTo>
                <a:lnTo>
                  <a:pt x="1036" y="979"/>
                </a:lnTo>
                <a:lnTo>
                  <a:pt x="997" y="991"/>
                </a:lnTo>
                <a:lnTo>
                  <a:pt x="997" y="991"/>
                </a:lnTo>
                <a:lnTo>
                  <a:pt x="997" y="991"/>
                </a:lnTo>
                <a:lnTo>
                  <a:pt x="997" y="991"/>
                </a:lnTo>
                <a:lnTo>
                  <a:pt x="927" y="1017"/>
                </a:lnTo>
                <a:lnTo>
                  <a:pt x="892" y="1030"/>
                </a:lnTo>
                <a:lnTo>
                  <a:pt x="856" y="1043"/>
                </a:lnTo>
                <a:lnTo>
                  <a:pt x="858" y="1045"/>
                </a:lnTo>
                <a:lnTo>
                  <a:pt x="856" y="1043"/>
                </a:lnTo>
                <a:lnTo>
                  <a:pt x="856" y="1043"/>
                </a:lnTo>
                <a:lnTo>
                  <a:pt x="821" y="1054"/>
                </a:lnTo>
                <a:lnTo>
                  <a:pt x="783" y="1062"/>
                </a:lnTo>
                <a:lnTo>
                  <a:pt x="783" y="1062"/>
                </a:lnTo>
                <a:lnTo>
                  <a:pt x="783" y="1062"/>
                </a:lnTo>
                <a:lnTo>
                  <a:pt x="783" y="1062"/>
                </a:lnTo>
                <a:lnTo>
                  <a:pt x="761" y="1067"/>
                </a:lnTo>
                <a:lnTo>
                  <a:pt x="740" y="1071"/>
                </a:lnTo>
                <a:lnTo>
                  <a:pt x="720" y="1073"/>
                </a:lnTo>
                <a:lnTo>
                  <a:pt x="701" y="1075"/>
                </a:lnTo>
                <a:lnTo>
                  <a:pt x="701" y="1075"/>
                </a:lnTo>
                <a:lnTo>
                  <a:pt x="669" y="1071"/>
                </a:lnTo>
                <a:lnTo>
                  <a:pt x="638" y="1065"/>
                </a:lnTo>
                <a:lnTo>
                  <a:pt x="610" y="1056"/>
                </a:lnTo>
                <a:lnTo>
                  <a:pt x="583" y="1043"/>
                </a:lnTo>
                <a:close/>
                <a:moveTo>
                  <a:pt x="783" y="1062"/>
                </a:moveTo>
                <a:lnTo>
                  <a:pt x="783" y="1065"/>
                </a:lnTo>
                <a:lnTo>
                  <a:pt x="783" y="1065"/>
                </a:lnTo>
                <a:lnTo>
                  <a:pt x="783" y="1065"/>
                </a:lnTo>
                <a:lnTo>
                  <a:pt x="783" y="1065"/>
                </a:lnTo>
                <a:lnTo>
                  <a:pt x="783" y="1062"/>
                </a:lnTo>
                <a:close/>
                <a:moveTo>
                  <a:pt x="1739" y="910"/>
                </a:moveTo>
                <a:lnTo>
                  <a:pt x="1739" y="910"/>
                </a:lnTo>
                <a:lnTo>
                  <a:pt x="1739" y="914"/>
                </a:lnTo>
                <a:lnTo>
                  <a:pt x="1739" y="910"/>
                </a:lnTo>
                <a:close/>
                <a:moveTo>
                  <a:pt x="1232" y="841"/>
                </a:moveTo>
                <a:lnTo>
                  <a:pt x="1232" y="841"/>
                </a:lnTo>
                <a:lnTo>
                  <a:pt x="1232" y="841"/>
                </a:lnTo>
                <a:lnTo>
                  <a:pt x="1232" y="841"/>
                </a:lnTo>
                <a:lnTo>
                  <a:pt x="1232" y="841"/>
                </a:lnTo>
                <a:close/>
                <a:moveTo>
                  <a:pt x="138" y="723"/>
                </a:moveTo>
                <a:lnTo>
                  <a:pt x="138" y="723"/>
                </a:lnTo>
                <a:lnTo>
                  <a:pt x="138" y="723"/>
                </a:lnTo>
                <a:lnTo>
                  <a:pt x="138" y="723"/>
                </a:lnTo>
                <a:close/>
                <a:moveTo>
                  <a:pt x="1702" y="652"/>
                </a:moveTo>
                <a:lnTo>
                  <a:pt x="1702" y="652"/>
                </a:lnTo>
                <a:lnTo>
                  <a:pt x="1636" y="648"/>
                </a:lnTo>
                <a:lnTo>
                  <a:pt x="1634" y="652"/>
                </a:lnTo>
                <a:lnTo>
                  <a:pt x="1636" y="648"/>
                </a:lnTo>
                <a:lnTo>
                  <a:pt x="1636" y="648"/>
                </a:lnTo>
                <a:lnTo>
                  <a:pt x="1578" y="641"/>
                </a:lnTo>
                <a:lnTo>
                  <a:pt x="1520" y="632"/>
                </a:lnTo>
                <a:lnTo>
                  <a:pt x="1462" y="620"/>
                </a:lnTo>
                <a:lnTo>
                  <a:pt x="1408" y="605"/>
                </a:lnTo>
                <a:lnTo>
                  <a:pt x="1352" y="587"/>
                </a:lnTo>
                <a:lnTo>
                  <a:pt x="1300" y="564"/>
                </a:lnTo>
                <a:lnTo>
                  <a:pt x="1272" y="551"/>
                </a:lnTo>
                <a:lnTo>
                  <a:pt x="1247" y="538"/>
                </a:lnTo>
                <a:lnTo>
                  <a:pt x="1221" y="523"/>
                </a:lnTo>
                <a:lnTo>
                  <a:pt x="1197" y="506"/>
                </a:lnTo>
                <a:lnTo>
                  <a:pt x="1197" y="506"/>
                </a:lnTo>
                <a:lnTo>
                  <a:pt x="1197" y="506"/>
                </a:lnTo>
                <a:lnTo>
                  <a:pt x="1182" y="495"/>
                </a:lnTo>
                <a:lnTo>
                  <a:pt x="1171" y="482"/>
                </a:lnTo>
                <a:lnTo>
                  <a:pt x="1159" y="469"/>
                </a:lnTo>
                <a:lnTo>
                  <a:pt x="1148" y="454"/>
                </a:lnTo>
                <a:lnTo>
                  <a:pt x="1146" y="456"/>
                </a:lnTo>
                <a:lnTo>
                  <a:pt x="1148" y="454"/>
                </a:lnTo>
                <a:lnTo>
                  <a:pt x="1148" y="454"/>
                </a:lnTo>
                <a:lnTo>
                  <a:pt x="1139" y="435"/>
                </a:lnTo>
                <a:lnTo>
                  <a:pt x="1139" y="435"/>
                </a:lnTo>
                <a:lnTo>
                  <a:pt x="1178" y="445"/>
                </a:lnTo>
                <a:lnTo>
                  <a:pt x="1178" y="445"/>
                </a:lnTo>
                <a:lnTo>
                  <a:pt x="1195" y="448"/>
                </a:lnTo>
                <a:lnTo>
                  <a:pt x="1214" y="450"/>
                </a:lnTo>
                <a:lnTo>
                  <a:pt x="1232" y="452"/>
                </a:lnTo>
                <a:lnTo>
                  <a:pt x="1251" y="452"/>
                </a:lnTo>
                <a:lnTo>
                  <a:pt x="1251" y="452"/>
                </a:lnTo>
                <a:lnTo>
                  <a:pt x="1266" y="452"/>
                </a:lnTo>
                <a:lnTo>
                  <a:pt x="1281" y="450"/>
                </a:lnTo>
                <a:lnTo>
                  <a:pt x="1294" y="448"/>
                </a:lnTo>
                <a:lnTo>
                  <a:pt x="1307" y="443"/>
                </a:lnTo>
                <a:lnTo>
                  <a:pt x="1307" y="443"/>
                </a:lnTo>
                <a:lnTo>
                  <a:pt x="1318" y="437"/>
                </a:lnTo>
                <a:lnTo>
                  <a:pt x="1331" y="430"/>
                </a:lnTo>
                <a:lnTo>
                  <a:pt x="1341" y="422"/>
                </a:lnTo>
                <a:lnTo>
                  <a:pt x="1352" y="413"/>
                </a:lnTo>
                <a:lnTo>
                  <a:pt x="1352" y="413"/>
                </a:lnTo>
                <a:lnTo>
                  <a:pt x="1350" y="411"/>
                </a:lnTo>
                <a:lnTo>
                  <a:pt x="1350" y="411"/>
                </a:lnTo>
                <a:lnTo>
                  <a:pt x="1350" y="411"/>
                </a:lnTo>
                <a:lnTo>
                  <a:pt x="1350" y="411"/>
                </a:lnTo>
                <a:lnTo>
                  <a:pt x="1352" y="413"/>
                </a:lnTo>
                <a:lnTo>
                  <a:pt x="1352" y="413"/>
                </a:lnTo>
                <a:lnTo>
                  <a:pt x="1367" y="394"/>
                </a:lnTo>
                <a:lnTo>
                  <a:pt x="1380" y="375"/>
                </a:lnTo>
                <a:lnTo>
                  <a:pt x="1391" y="355"/>
                </a:lnTo>
                <a:lnTo>
                  <a:pt x="1399" y="332"/>
                </a:lnTo>
                <a:lnTo>
                  <a:pt x="1404" y="310"/>
                </a:lnTo>
                <a:lnTo>
                  <a:pt x="1404" y="286"/>
                </a:lnTo>
                <a:lnTo>
                  <a:pt x="1402" y="261"/>
                </a:lnTo>
                <a:lnTo>
                  <a:pt x="1395" y="239"/>
                </a:lnTo>
                <a:lnTo>
                  <a:pt x="1395" y="239"/>
                </a:lnTo>
                <a:lnTo>
                  <a:pt x="1406" y="230"/>
                </a:lnTo>
                <a:lnTo>
                  <a:pt x="1416" y="220"/>
                </a:lnTo>
                <a:lnTo>
                  <a:pt x="1423" y="209"/>
                </a:lnTo>
                <a:lnTo>
                  <a:pt x="1429" y="198"/>
                </a:lnTo>
                <a:lnTo>
                  <a:pt x="1432" y="187"/>
                </a:lnTo>
                <a:lnTo>
                  <a:pt x="1434" y="174"/>
                </a:lnTo>
                <a:lnTo>
                  <a:pt x="1434" y="159"/>
                </a:lnTo>
                <a:lnTo>
                  <a:pt x="1430" y="144"/>
                </a:lnTo>
                <a:lnTo>
                  <a:pt x="1430" y="144"/>
                </a:lnTo>
                <a:lnTo>
                  <a:pt x="1430" y="144"/>
                </a:lnTo>
                <a:lnTo>
                  <a:pt x="1427" y="131"/>
                </a:lnTo>
                <a:lnTo>
                  <a:pt x="1419" y="117"/>
                </a:lnTo>
                <a:lnTo>
                  <a:pt x="1414" y="104"/>
                </a:lnTo>
                <a:lnTo>
                  <a:pt x="1404" y="93"/>
                </a:lnTo>
                <a:lnTo>
                  <a:pt x="1395" y="84"/>
                </a:lnTo>
                <a:lnTo>
                  <a:pt x="1386" y="74"/>
                </a:lnTo>
                <a:lnTo>
                  <a:pt x="1374" y="67"/>
                </a:lnTo>
                <a:lnTo>
                  <a:pt x="1363" y="58"/>
                </a:lnTo>
                <a:lnTo>
                  <a:pt x="1339" y="46"/>
                </a:lnTo>
                <a:lnTo>
                  <a:pt x="1311" y="35"/>
                </a:lnTo>
                <a:lnTo>
                  <a:pt x="1281" y="28"/>
                </a:lnTo>
                <a:lnTo>
                  <a:pt x="1249" y="22"/>
                </a:lnTo>
                <a:lnTo>
                  <a:pt x="1249" y="22"/>
                </a:lnTo>
                <a:lnTo>
                  <a:pt x="1257" y="13"/>
                </a:lnTo>
                <a:lnTo>
                  <a:pt x="1257" y="13"/>
                </a:lnTo>
                <a:lnTo>
                  <a:pt x="1266" y="5"/>
                </a:lnTo>
                <a:lnTo>
                  <a:pt x="1275" y="2"/>
                </a:lnTo>
                <a:lnTo>
                  <a:pt x="1286" y="0"/>
                </a:lnTo>
                <a:lnTo>
                  <a:pt x="1296" y="2"/>
                </a:lnTo>
                <a:lnTo>
                  <a:pt x="1296" y="2"/>
                </a:lnTo>
                <a:lnTo>
                  <a:pt x="1359" y="37"/>
                </a:lnTo>
                <a:lnTo>
                  <a:pt x="1423" y="73"/>
                </a:lnTo>
                <a:lnTo>
                  <a:pt x="1425" y="71"/>
                </a:lnTo>
                <a:lnTo>
                  <a:pt x="1423" y="73"/>
                </a:lnTo>
                <a:lnTo>
                  <a:pt x="1423" y="73"/>
                </a:lnTo>
                <a:lnTo>
                  <a:pt x="1466" y="95"/>
                </a:lnTo>
                <a:lnTo>
                  <a:pt x="1466" y="95"/>
                </a:lnTo>
                <a:lnTo>
                  <a:pt x="1466" y="95"/>
                </a:lnTo>
                <a:lnTo>
                  <a:pt x="1492" y="110"/>
                </a:lnTo>
                <a:lnTo>
                  <a:pt x="1522" y="123"/>
                </a:lnTo>
                <a:lnTo>
                  <a:pt x="1554" y="134"/>
                </a:lnTo>
                <a:lnTo>
                  <a:pt x="1588" y="144"/>
                </a:lnTo>
                <a:lnTo>
                  <a:pt x="1655" y="160"/>
                </a:lnTo>
                <a:lnTo>
                  <a:pt x="1722" y="177"/>
                </a:lnTo>
                <a:lnTo>
                  <a:pt x="1722" y="177"/>
                </a:lnTo>
                <a:lnTo>
                  <a:pt x="1754" y="185"/>
                </a:lnTo>
                <a:lnTo>
                  <a:pt x="1782" y="194"/>
                </a:lnTo>
                <a:lnTo>
                  <a:pt x="1808" y="205"/>
                </a:lnTo>
                <a:lnTo>
                  <a:pt x="1831" y="217"/>
                </a:lnTo>
                <a:lnTo>
                  <a:pt x="1849" y="230"/>
                </a:lnTo>
                <a:lnTo>
                  <a:pt x="1859" y="237"/>
                </a:lnTo>
                <a:lnTo>
                  <a:pt x="1864" y="245"/>
                </a:lnTo>
                <a:lnTo>
                  <a:pt x="1870" y="254"/>
                </a:lnTo>
                <a:lnTo>
                  <a:pt x="1874" y="261"/>
                </a:lnTo>
                <a:lnTo>
                  <a:pt x="1877" y="273"/>
                </a:lnTo>
                <a:lnTo>
                  <a:pt x="1877" y="282"/>
                </a:lnTo>
                <a:lnTo>
                  <a:pt x="1881" y="282"/>
                </a:lnTo>
                <a:lnTo>
                  <a:pt x="1877" y="282"/>
                </a:lnTo>
                <a:lnTo>
                  <a:pt x="1877" y="282"/>
                </a:lnTo>
                <a:lnTo>
                  <a:pt x="1877" y="282"/>
                </a:lnTo>
                <a:lnTo>
                  <a:pt x="1879" y="289"/>
                </a:lnTo>
                <a:lnTo>
                  <a:pt x="1877" y="297"/>
                </a:lnTo>
                <a:lnTo>
                  <a:pt x="1872" y="310"/>
                </a:lnTo>
                <a:lnTo>
                  <a:pt x="1864" y="323"/>
                </a:lnTo>
                <a:lnTo>
                  <a:pt x="1851" y="334"/>
                </a:lnTo>
                <a:lnTo>
                  <a:pt x="1836" y="344"/>
                </a:lnTo>
                <a:lnTo>
                  <a:pt x="1818" y="351"/>
                </a:lnTo>
                <a:lnTo>
                  <a:pt x="1799" y="359"/>
                </a:lnTo>
                <a:lnTo>
                  <a:pt x="1776" y="364"/>
                </a:lnTo>
                <a:lnTo>
                  <a:pt x="1776" y="364"/>
                </a:lnTo>
                <a:lnTo>
                  <a:pt x="1752" y="370"/>
                </a:lnTo>
                <a:lnTo>
                  <a:pt x="1728" y="374"/>
                </a:lnTo>
                <a:lnTo>
                  <a:pt x="1677" y="377"/>
                </a:lnTo>
                <a:lnTo>
                  <a:pt x="1629" y="379"/>
                </a:lnTo>
                <a:lnTo>
                  <a:pt x="1586" y="379"/>
                </a:lnTo>
                <a:lnTo>
                  <a:pt x="1582" y="379"/>
                </a:lnTo>
                <a:lnTo>
                  <a:pt x="1582" y="381"/>
                </a:lnTo>
                <a:lnTo>
                  <a:pt x="1582" y="381"/>
                </a:lnTo>
                <a:lnTo>
                  <a:pt x="1580" y="394"/>
                </a:lnTo>
                <a:lnTo>
                  <a:pt x="1578" y="407"/>
                </a:lnTo>
                <a:lnTo>
                  <a:pt x="1578" y="422"/>
                </a:lnTo>
                <a:lnTo>
                  <a:pt x="1580" y="437"/>
                </a:lnTo>
                <a:lnTo>
                  <a:pt x="1580" y="439"/>
                </a:lnTo>
                <a:lnTo>
                  <a:pt x="1580" y="439"/>
                </a:lnTo>
                <a:lnTo>
                  <a:pt x="1580" y="439"/>
                </a:lnTo>
                <a:lnTo>
                  <a:pt x="1614" y="467"/>
                </a:lnTo>
                <a:lnTo>
                  <a:pt x="1631" y="482"/>
                </a:lnTo>
                <a:lnTo>
                  <a:pt x="1647" y="493"/>
                </a:lnTo>
                <a:lnTo>
                  <a:pt x="1647" y="493"/>
                </a:lnTo>
                <a:lnTo>
                  <a:pt x="1649" y="495"/>
                </a:lnTo>
                <a:lnTo>
                  <a:pt x="1649" y="495"/>
                </a:lnTo>
                <a:lnTo>
                  <a:pt x="1681" y="503"/>
                </a:lnTo>
                <a:lnTo>
                  <a:pt x="1717" y="510"/>
                </a:lnTo>
                <a:lnTo>
                  <a:pt x="1717" y="508"/>
                </a:lnTo>
                <a:lnTo>
                  <a:pt x="1717" y="510"/>
                </a:lnTo>
                <a:lnTo>
                  <a:pt x="1717" y="510"/>
                </a:lnTo>
                <a:lnTo>
                  <a:pt x="1717" y="510"/>
                </a:lnTo>
                <a:lnTo>
                  <a:pt x="1717" y="510"/>
                </a:lnTo>
                <a:lnTo>
                  <a:pt x="1782" y="521"/>
                </a:lnTo>
                <a:lnTo>
                  <a:pt x="1818" y="531"/>
                </a:lnTo>
                <a:lnTo>
                  <a:pt x="1849" y="540"/>
                </a:lnTo>
                <a:lnTo>
                  <a:pt x="1866" y="546"/>
                </a:lnTo>
                <a:lnTo>
                  <a:pt x="1881" y="553"/>
                </a:lnTo>
                <a:lnTo>
                  <a:pt x="1894" y="562"/>
                </a:lnTo>
                <a:lnTo>
                  <a:pt x="1905" y="570"/>
                </a:lnTo>
                <a:lnTo>
                  <a:pt x="1917" y="581"/>
                </a:lnTo>
                <a:lnTo>
                  <a:pt x="1926" y="592"/>
                </a:lnTo>
                <a:lnTo>
                  <a:pt x="1933" y="605"/>
                </a:lnTo>
                <a:lnTo>
                  <a:pt x="1937" y="619"/>
                </a:lnTo>
                <a:lnTo>
                  <a:pt x="1937" y="619"/>
                </a:lnTo>
                <a:lnTo>
                  <a:pt x="1937" y="619"/>
                </a:lnTo>
                <a:lnTo>
                  <a:pt x="1950" y="669"/>
                </a:lnTo>
                <a:lnTo>
                  <a:pt x="1950" y="669"/>
                </a:lnTo>
                <a:lnTo>
                  <a:pt x="1890" y="662"/>
                </a:lnTo>
                <a:lnTo>
                  <a:pt x="1829" y="656"/>
                </a:lnTo>
                <a:lnTo>
                  <a:pt x="1765" y="654"/>
                </a:lnTo>
                <a:lnTo>
                  <a:pt x="1702" y="652"/>
                </a:lnTo>
                <a:close/>
                <a:moveTo>
                  <a:pt x="1702" y="656"/>
                </a:moveTo>
                <a:lnTo>
                  <a:pt x="1702" y="656"/>
                </a:lnTo>
                <a:lnTo>
                  <a:pt x="1702" y="656"/>
                </a:lnTo>
                <a:lnTo>
                  <a:pt x="1702" y="656"/>
                </a:lnTo>
                <a:lnTo>
                  <a:pt x="1702" y="656"/>
                </a:lnTo>
                <a:close/>
                <a:moveTo>
                  <a:pt x="1649" y="491"/>
                </a:moveTo>
                <a:lnTo>
                  <a:pt x="1649" y="491"/>
                </a:lnTo>
                <a:lnTo>
                  <a:pt x="1649" y="495"/>
                </a:lnTo>
                <a:lnTo>
                  <a:pt x="1649" y="491"/>
                </a:lnTo>
                <a:close/>
                <a:moveTo>
                  <a:pt x="1180" y="441"/>
                </a:moveTo>
                <a:lnTo>
                  <a:pt x="1180" y="441"/>
                </a:lnTo>
                <a:lnTo>
                  <a:pt x="1180" y="441"/>
                </a:lnTo>
                <a:lnTo>
                  <a:pt x="1180" y="441"/>
                </a:lnTo>
                <a:lnTo>
                  <a:pt x="1180" y="441"/>
                </a:lnTo>
                <a:close/>
                <a:moveTo>
                  <a:pt x="596" y="428"/>
                </a:moveTo>
                <a:lnTo>
                  <a:pt x="596" y="426"/>
                </a:lnTo>
                <a:lnTo>
                  <a:pt x="596" y="430"/>
                </a:lnTo>
                <a:lnTo>
                  <a:pt x="596" y="428"/>
                </a:lnTo>
                <a:close/>
              </a:path>
            </a:pathLst>
          </a:custGeom>
          <a:solidFill>
            <a:srgbClr val="e396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14760" y="4199040"/>
            <a:ext cx="1201680" cy="780840"/>
          </a:xfrm>
          <a:custGeom>
            <a:avLst/>
            <a:gdLst/>
            <a:ahLst/>
            <a:rect l="l" t="t" r="r" b="b"/>
            <a:pathLst>
              <a:path w="757" h="492">
                <a:moveTo>
                  <a:pt x="338" y="490"/>
                </a:moveTo>
                <a:lnTo>
                  <a:pt x="338" y="490"/>
                </a:lnTo>
                <a:lnTo>
                  <a:pt x="325" y="488"/>
                </a:lnTo>
                <a:lnTo>
                  <a:pt x="312" y="485"/>
                </a:lnTo>
                <a:lnTo>
                  <a:pt x="299" y="481"/>
                </a:lnTo>
                <a:lnTo>
                  <a:pt x="287" y="475"/>
                </a:lnTo>
                <a:lnTo>
                  <a:pt x="287" y="475"/>
                </a:lnTo>
                <a:lnTo>
                  <a:pt x="276" y="468"/>
                </a:lnTo>
                <a:lnTo>
                  <a:pt x="265" y="458"/>
                </a:lnTo>
                <a:lnTo>
                  <a:pt x="254" y="447"/>
                </a:lnTo>
                <a:lnTo>
                  <a:pt x="243" y="436"/>
                </a:lnTo>
                <a:lnTo>
                  <a:pt x="243" y="436"/>
                </a:lnTo>
                <a:lnTo>
                  <a:pt x="239" y="419"/>
                </a:lnTo>
                <a:lnTo>
                  <a:pt x="235" y="400"/>
                </a:lnTo>
                <a:lnTo>
                  <a:pt x="233" y="382"/>
                </a:lnTo>
                <a:lnTo>
                  <a:pt x="235" y="363"/>
                </a:lnTo>
                <a:lnTo>
                  <a:pt x="237" y="344"/>
                </a:lnTo>
                <a:lnTo>
                  <a:pt x="241" y="324"/>
                </a:lnTo>
                <a:lnTo>
                  <a:pt x="252" y="284"/>
                </a:lnTo>
                <a:lnTo>
                  <a:pt x="274" y="206"/>
                </a:lnTo>
                <a:lnTo>
                  <a:pt x="282" y="169"/>
                </a:lnTo>
                <a:lnTo>
                  <a:pt x="286" y="150"/>
                </a:lnTo>
                <a:lnTo>
                  <a:pt x="286" y="133"/>
                </a:lnTo>
                <a:lnTo>
                  <a:pt x="286" y="133"/>
                </a:lnTo>
                <a:lnTo>
                  <a:pt x="286" y="120"/>
                </a:lnTo>
                <a:lnTo>
                  <a:pt x="282" y="107"/>
                </a:lnTo>
                <a:lnTo>
                  <a:pt x="278" y="96"/>
                </a:lnTo>
                <a:lnTo>
                  <a:pt x="273" y="83"/>
                </a:lnTo>
                <a:lnTo>
                  <a:pt x="273" y="83"/>
                </a:lnTo>
                <a:lnTo>
                  <a:pt x="273" y="83"/>
                </a:lnTo>
                <a:lnTo>
                  <a:pt x="271" y="84"/>
                </a:lnTo>
                <a:lnTo>
                  <a:pt x="271" y="84"/>
                </a:lnTo>
                <a:lnTo>
                  <a:pt x="271" y="84"/>
                </a:lnTo>
                <a:lnTo>
                  <a:pt x="271" y="84"/>
                </a:lnTo>
                <a:lnTo>
                  <a:pt x="273" y="83"/>
                </a:lnTo>
                <a:lnTo>
                  <a:pt x="273" y="83"/>
                </a:lnTo>
                <a:lnTo>
                  <a:pt x="261" y="69"/>
                </a:lnTo>
                <a:lnTo>
                  <a:pt x="248" y="58"/>
                </a:lnTo>
                <a:lnTo>
                  <a:pt x="233" y="49"/>
                </a:lnTo>
                <a:lnTo>
                  <a:pt x="216" y="40"/>
                </a:lnTo>
                <a:lnTo>
                  <a:pt x="201" y="34"/>
                </a:lnTo>
                <a:lnTo>
                  <a:pt x="185" y="28"/>
                </a:lnTo>
                <a:lnTo>
                  <a:pt x="166" y="26"/>
                </a:lnTo>
                <a:lnTo>
                  <a:pt x="147" y="25"/>
                </a:lnTo>
                <a:lnTo>
                  <a:pt x="147" y="28"/>
                </a:lnTo>
                <a:lnTo>
                  <a:pt x="147" y="28"/>
                </a:lnTo>
                <a:lnTo>
                  <a:pt x="147" y="28"/>
                </a:lnTo>
                <a:lnTo>
                  <a:pt x="147" y="28"/>
                </a:lnTo>
                <a:lnTo>
                  <a:pt x="147" y="25"/>
                </a:lnTo>
                <a:lnTo>
                  <a:pt x="147" y="25"/>
                </a:lnTo>
                <a:lnTo>
                  <a:pt x="147" y="25"/>
                </a:lnTo>
                <a:lnTo>
                  <a:pt x="147" y="25"/>
                </a:lnTo>
                <a:lnTo>
                  <a:pt x="130" y="26"/>
                </a:lnTo>
                <a:lnTo>
                  <a:pt x="114" y="30"/>
                </a:lnTo>
                <a:lnTo>
                  <a:pt x="97" y="36"/>
                </a:lnTo>
                <a:lnTo>
                  <a:pt x="82" y="43"/>
                </a:lnTo>
                <a:lnTo>
                  <a:pt x="84" y="45"/>
                </a:lnTo>
                <a:lnTo>
                  <a:pt x="82" y="43"/>
                </a:lnTo>
                <a:lnTo>
                  <a:pt x="82" y="43"/>
                </a:lnTo>
                <a:lnTo>
                  <a:pt x="61" y="53"/>
                </a:lnTo>
                <a:lnTo>
                  <a:pt x="41" y="66"/>
                </a:lnTo>
                <a:lnTo>
                  <a:pt x="0" y="92"/>
                </a:lnTo>
                <a:lnTo>
                  <a:pt x="0" y="92"/>
                </a:lnTo>
                <a:lnTo>
                  <a:pt x="3" y="77"/>
                </a:lnTo>
                <a:lnTo>
                  <a:pt x="7" y="64"/>
                </a:lnTo>
                <a:lnTo>
                  <a:pt x="7" y="64"/>
                </a:lnTo>
                <a:lnTo>
                  <a:pt x="18" y="51"/>
                </a:lnTo>
                <a:lnTo>
                  <a:pt x="31" y="41"/>
                </a:lnTo>
                <a:lnTo>
                  <a:pt x="44" y="32"/>
                </a:lnTo>
                <a:lnTo>
                  <a:pt x="56" y="23"/>
                </a:lnTo>
                <a:lnTo>
                  <a:pt x="69" y="17"/>
                </a:lnTo>
                <a:lnTo>
                  <a:pt x="82" y="12"/>
                </a:lnTo>
                <a:lnTo>
                  <a:pt x="95" y="6"/>
                </a:lnTo>
                <a:lnTo>
                  <a:pt x="106" y="4"/>
                </a:lnTo>
                <a:lnTo>
                  <a:pt x="132" y="0"/>
                </a:lnTo>
                <a:lnTo>
                  <a:pt x="160" y="0"/>
                </a:lnTo>
                <a:lnTo>
                  <a:pt x="187" y="6"/>
                </a:lnTo>
                <a:lnTo>
                  <a:pt x="215" y="12"/>
                </a:lnTo>
                <a:lnTo>
                  <a:pt x="215" y="12"/>
                </a:lnTo>
                <a:lnTo>
                  <a:pt x="241" y="21"/>
                </a:lnTo>
                <a:lnTo>
                  <a:pt x="269" y="32"/>
                </a:lnTo>
                <a:lnTo>
                  <a:pt x="327" y="58"/>
                </a:lnTo>
                <a:lnTo>
                  <a:pt x="385" y="86"/>
                </a:lnTo>
                <a:lnTo>
                  <a:pt x="413" y="101"/>
                </a:lnTo>
                <a:lnTo>
                  <a:pt x="443" y="112"/>
                </a:lnTo>
                <a:lnTo>
                  <a:pt x="443" y="112"/>
                </a:lnTo>
                <a:lnTo>
                  <a:pt x="476" y="126"/>
                </a:lnTo>
                <a:lnTo>
                  <a:pt x="508" y="135"/>
                </a:lnTo>
                <a:lnTo>
                  <a:pt x="510" y="135"/>
                </a:lnTo>
                <a:lnTo>
                  <a:pt x="510" y="135"/>
                </a:lnTo>
                <a:lnTo>
                  <a:pt x="510" y="135"/>
                </a:lnTo>
                <a:lnTo>
                  <a:pt x="620" y="137"/>
                </a:lnTo>
                <a:lnTo>
                  <a:pt x="676" y="139"/>
                </a:lnTo>
                <a:lnTo>
                  <a:pt x="731" y="141"/>
                </a:lnTo>
                <a:lnTo>
                  <a:pt x="731" y="141"/>
                </a:lnTo>
                <a:lnTo>
                  <a:pt x="757" y="142"/>
                </a:lnTo>
                <a:lnTo>
                  <a:pt x="757" y="142"/>
                </a:lnTo>
                <a:lnTo>
                  <a:pt x="757" y="176"/>
                </a:lnTo>
                <a:lnTo>
                  <a:pt x="753" y="208"/>
                </a:lnTo>
                <a:lnTo>
                  <a:pt x="751" y="240"/>
                </a:lnTo>
                <a:lnTo>
                  <a:pt x="746" y="271"/>
                </a:lnTo>
                <a:lnTo>
                  <a:pt x="738" y="303"/>
                </a:lnTo>
                <a:lnTo>
                  <a:pt x="727" y="333"/>
                </a:lnTo>
                <a:lnTo>
                  <a:pt x="716" y="363"/>
                </a:lnTo>
                <a:lnTo>
                  <a:pt x="703" y="391"/>
                </a:lnTo>
                <a:lnTo>
                  <a:pt x="703" y="391"/>
                </a:lnTo>
                <a:lnTo>
                  <a:pt x="688" y="404"/>
                </a:lnTo>
                <a:lnTo>
                  <a:pt x="673" y="415"/>
                </a:lnTo>
                <a:lnTo>
                  <a:pt x="658" y="427"/>
                </a:lnTo>
                <a:lnTo>
                  <a:pt x="641" y="436"/>
                </a:lnTo>
                <a:lnTo>
                  <a:pt x="643" y="440"/>
                </a:lnTo>
                <a:lnTo>
                  <a:pt x="641" y="436"/>
                </a:lnTo>
                <a:lnTo>
                  <a:pt x="641" y="436"/>
                </a:lnTo>
                <a:lnTo>
                  <a:pt x="624" y="445"/>
                </a:lnTo>
                <a:lnTo>
                  <a:pt x="607" y="451"/>
                </a:lnTo>
                <a:lnTo>
                  <a:pt x="572" y="464"/>
                </a:lnTo>
                <a:lnTo>
                  <a:pt x="572" y="464"/>
                </a:lnTo>
                <a:lnTo>
                  <a:pt x="546" y="466"/>
                </a:lnTo>
                <a:lnTo>
                  <a:pt x="521" y="470"/>
                </a:lnTo>
                <a:lnTo>
                  <a:pt x="469" y="481"/>
                </a:lnTo>
                <a:lnTo>
                  <a:pt x="418" y="488"/>
                </a:lnTo>
                <a:lnTo>
                  <a:pt x="394" y="492"/>
                </a:lnTo>
                <a:lnTo>
                  <a:pt x="368" y="492"/>
                </a:lnTo>
                <a:lnTo>
                  <a:pt x="368" y="492"/>
                </a:lnTo>
                <a:lnTo>
                  <a:pt x="353" y="492"/>
                </a:lnTo>
                <a:lnTo>
                  <a:pt x="338" y="49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32200" y="482292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63560" y="3409920"/>
            <a:ext cx="1644840" cy="1258920"/>
          </a:xfrm>
          <a:custGeom>
            <a:avLst/>
            <a:gdLst/>
            <a:ahLst/>
            <a:rect l="l" t="t" r="r" b="b"/>
            <a:pathLst>
              <a:path w="1036" h="793">
                <a:moveTo>
                  <a:pt x="583" y="761"/>
                </a:moveTo>
                <a:lnTo>
                  <a:pt x="583" y="761"/>
                </a:lnTo>
                <a:lnTo>
                  <a:pt x="567" y="750"/>
                </a:lnTo>
                <a:lnTo>
                  <a:pt x="567" y="750"/>
                </a:lnTo>
                <a:lnTo>
                  <a:pt x="546" y="731"/>
                </a:lnTo>
                <a:lnTo>
                  <a:pt x="546" y="731"/>
                </a:lnTo>
                <a:lnTo>
                  <a:pt x="471" y="651"/>
                </a:lnTo>
                <a:lnTo>
                  <a:pt x="434" y="611"/>
                </a:lnTo>
                <a:lnTo>
                  <a:pt x="395" y="572"/>
                </a:lnTo>
                <a:lnTo>
                  <a:pt x="395" y="572"/>
                </a:lnTo>
                <a:lnTo>
                  <a:pt x="366" y="544"/>
                </a:lnTo>
                <a:lnTo>
                  <a:pt x="335" y="520"/>
                </a:lnTo>
                <a:lnTo>
                  <a:pt x="303" y="495"/>
                </a:lnTo>
                <a:lnTo>
                  <a:pt x="267" y="475"/>
                </a:lnTo>
                <a:lnTo>
                  <a:pt x="267" y="475"/>
                </a:lnTo>
                <a:lnTo>
                  <a:pt x="237" y="464"/>
                </a:lnTo>
                <a:lnTo>
                  <a:pt x="208" y="452"/>
                </a:lnTo>
                <a:lnTo>
                  <a:pt x="174" y="443"/>
                </a:lnTo>
                <a:lnTo>
                  <a:pt x="138" y="437"/>
                </a:lnTo>
                <a:lnTo>
                  <a:pt x="138" y="437"/>
                </a:lnTo>
                <a:lnTo>
                  <a:pt x="122" y="434"/>
                </a:lnTo>
                <a:lnTo>
                  <a:pt x="107" y="426"/>
                </a:lnTo>
                <a:lnTo>
                  <a:pt x="93" y="419"/>
                </a:lnTo>
                <a:lnTo>
                  <a:pt x="82" y="409"/>
                </a:lnTo>
                <a:lnTo>
                  <a:pt x="82" y="409"/>
                </a:lnTo>
                <a:lnTo>
                  <a:pt x="65" y="389"/>
                </a:lnTo>
                <a:lnTo>
                  <a:pt x="50" y="368"/>
                </a:lnTo>
                <a:lnTo>
                  <a:pt x="39" y="344"/>
                </a:lnTo>
                <a:lnTo>
                  <a:pt x="28" y="322"/>
                </a:lnTo>
                <a:lnTo>
                  <a:pt x="19" y="295"/>
                </a:lnTo>
                <a:lnTo>
                  <a:pt x="11" y="271"/>
                </a:lnTo>
                <a:lnTo>
                  <a:pt x="6" y="245"/>
                </a:lnTo>
                <a:lnTo>
                  <a:pt x="2" y="219"/>
                </a:lnTo>
                <a:lnTo>
                  <a:pt x="0" y="193"/>
                </a:lnTo>
                <a:lnTo>
                  <a:pt x="2" y="165"/>
                </a:lnTo>
                <a:lnTo>
                  <a:pt x="4" y="138"/>
                </a:lnTo>
                <a:lnTo>
                  <a:pt x="9" y="114"/>
                </a:lnTo>
                <a:lnTo>
                  <a:pt x="17" y="88"/>
                </a:lnTo>
                <a:lnTo>
                  <a:pt x="26" y="64"/>
                </a:lnTo>
                <a:lnTo>
                  <a:pt x="37" y="39"/>
                </a:lnTo>
                <a:lnTo>
                  <a:pt x="50" y="17"/>
                </a:lnTo>
                <a:lnTo>
                  <a:pt x="50" y="17"/>
                </a:lnTo>
                <a:lnTo>
                  <a:pt x="50" y="17"/>
                </a:lnTo>
                <a:lnTo>
                  <a:pt x="62" y="4"/>
                </a:lnTo>
                <a:lnTo>
                  <a:pt x="62" y="4"/>
                </a:lnTo>
                <a:lnTo>
                  <a:pt x="80" y="0"/>
                </a:lnTo>
                <a:lnTo>
                  <a:pt x="97" y="0"/>
                </a:lnTo>
                <a:lnTo>
                  <a:pt x="116" y="2"/>
                </a:lnTo>
                <a:lnTo>
                  <a:pt x="135" y="6"/>
                </a:lnTo>
                <a:lnTo>
                  <a:pt x="136" y="2"/>
                </a:lnTo>
                <a:lnTo>
                  <a:pt x="136" y="2"/>
                </a:lnTo>
                <a:lnTo>
                  <a:pt x="136" y="2"/>
                </a:lnTo>
                <a:lnTo>
                  <a:pt x="135" y="6"/>
                </a:lnTo>
                <a:lnTo>
                  <a:pt x="135" y="6"/>
                </a:lnTo>
                <a:lnTo>
                  <a:pt x="135" y="6"/>
                </a:lnTo>
                <a:lnTo>
                  <a:pt x="135" y="6"/>
                </a:lnTo>
                <a:lnTo>
                  <a:pt x="172" y="13"/>
                </a:lnTo>
                <a:lnTo>
                  <a:pt x="209" y="22"/>
                </a:lnTo>
                <a:lnTo>
                  <a:pt x="209" y="22"/>
                </a:lnTo>
                <a:lnTo>
                  <a:pt x="247" y="36"/>
                </a:lnTo>
                <a:lnTo>
                  <a:pt x="282" y="50"/>
                </a:lnTo>
                <a:lnTo>
                  <a:pt x="318" y="67"/>
                </a:lnTo>
                <a:lnTo>
                  <a:pt x="350" y="88"/>
                </a:lnTo>
                <a:lnTo>
                  <a:pt x="352" y="84"/>
                </a:lnTo>
                <a:lnTo>
                  <a:pt x="350" y="88"/>
                </a:lnTo>
                <a:lnTo>
                  <a:pt x="352" y="88"/>
                </a:lnTo>
                <a:lnTo>
                  <a:pt x="352" y="88"/>
                </a:lnTo>
                <a:lnTo>
                  <a:pt x="352" y="88"/>
                </a:lnTo>
                <a:lnTo>
                  <a:pt x="411" y="108"/>
                </a:lnTo>
                <a:lnTo>
                  <a:pt x="411" y="108"/>
                </a:lnTo>
                <a:lnTo>
                  <a:pt x="456" y="122"/>
                </a:lnTo>
                <a:lnTo>
                  <a:pt x="501" y="133"/>
                </a:lnTo>
                <a:lnTo>
                  <a:pt x="548" y="142"/>
                </a:lnTo>
                <a:lnTo>
                  <a:pt x="596" y="148"/>
                </a:lnTo>
                <a:lnTo>
                  <a:pt x="596" y="148"/>
                </a:lnTo>
                <a:lnTo>
                  <a:pt x="596" y="148"/>
                </a:lnTo>
                <a:lnTo>
                  <a:pt x="596" y="148"/>
                </a:lnTo>
                <a:lnTo>
                  <a:pt x="626" y="150"/>
                </a:lnTo>
                <a:lnTo>
                  <a:pt x="654" y="155"/>
                </a:lnTo>
                <a:lnTo>
                  <a:pt x="654" y="155"/>
                </a:lnTo>
                <a:lnTo>
                  <a:pt x="654" y="155"/>
                </a:lnTo>
                <a:lnTo>
                  <a:pt x="654" y="155"/>
                </a:lnTo>
                <a:lnTo>
                  <a:pt x="686" y="159"/>
                </a:lnTo>
                <a:lnTo>
                  <a:pt x="718" y="166"/>
                </a:lnTo>
                <a:lnTo>
                  <a:pt x="748" y="176"/>
                </a:lnTo>
                <a:lnTo>
                  <a:pt x="776" y="189"/>
                </a:lnTo>
                <a:lnTo>
                  <a:pt x="802" y="204"/>
                </a:lnTo>
                <a:lnTo>
                  <a:pt x="828" y="221"/>
                </a:lnTo>
                <a:lnTo>
                  <a:pt x="851" y="239"/>
                </a:lnTo>
                <a:lnTo>
                  <a:pt x="873" y="260"/>
                </a:lnTo>
                <a:lnTo>
                  <a:pt x="873" y="260"/>
                </a:lnTo>
                <a:lnTo>
                  <a:pt x="892" y="282"/>
                </a:lnTo>
                <a:lnTo>
                  <a:pt x="909" y="307"/>
                </a:lnTo>
                <a:lnTo>
                  <a:pt x="922" y="333"/>
                </a:lnTo>
                <a:lnTo>
                  <a:pt x="933" y="359"/>
                </a:lnTo>
                <a:lnTo>
                  <a:pt x="941" y="389"/>
                </a:lnTo>
                <a:lnTo>
                  <a:pt x="946" y="419"/>
                </a:lnTo>
                <a:lnTo>
                  <a:pt x="946" y="451"/>
                </a:lnTo>
                <a:lnTo>
                  <a:pt x="944" y="482"/>
                </a:lnTo>
                <a:lnTo>
                  <a:pt x="948" y="484"/>
                </a:lnTo>
                <a:lnTo>
                  <a:pt x="944" y="482"/>
                </a:lnTo>
                <a:lnTo>
                  <a:pt x="944" y="484"/>
                </a:lnTo>
                <a:lnTo>
                  <a:pt x="944" y="484"/>
                </a:lnTo>
                <a:lnTo>
                  <a:pt x="944" y="484"/>
                </a:lnTo>
                <a:lnTo>
                  <a:pt x="948" y="516"/>
                </a:lnTo>
                <a:lnTo>
                  <a:pt x="954" y="548"/>
                </a:lnTo>
                <a:lnTo>
                  <a:pt x="954" y="548"/>
                </a:lnTo>
                <a:lnTo>
                  <a:pt x="959" y="568"/>
                </a:lnTo>
                <a:lnTo>
                  <a:pt x="965" y="587"/>
                </a:lnTo>
                <a:lnTo>
                  <a:pt x="972" y="608"/>
                </a:lnTo>
                <a:lnTo>
                  <a:pt x="982" y="626"/>
                </a:lnTo>
                <a:lnTo>
                  <a:pt x="993" y="645"/>
                </a:lnTo>
                <a:lnTo>
                  <a:pt x="1004" y="664"/>
                </a:lnTo>
                <a:lnTo>
                  <a:pt x="1019" y="681"/>
                </a:lnTo>
                <a:lnTo>
                  <a:pt x="1036" y="697"/>
                </a:lnTo>
                <a:lnTo>
                  <a:pt x="1036" y="697"/>
                </a:lnTo>
                <a:lnTo>
                  <a:pt x="997" y="709"/>
                </a:lnTo>
                <a:lnTo>
                  <a:pt x="997" y="709"/>
                </a:lnTo>
                <a:lnTo>
                  <a:pt x="997" y="709"/>
                </a:lnTo>
                <a:lnTo>
                  <a:pt x="997" y="709"/>
                </a:lnTo>
                <a:lnTo>
                  <a:pt x="927" y="735"/>
                </a:lnTo>
                <a:lnTo>
                  <a:pt x="892" y="748"/>
                </a:lnTo>
                <a:lnTo>
                  <a:pt x="856" y="761"/>
                </a:lnTo>
                <a:lnTo>
                  <a:pt x="858" y="763"/>
                </a:lnTo>
                <a:lnTo>
                  <a:pt x="856" y="761"/>
                </a:lnTo>
                <a:lnTo>
                  <a:pt x="856" y="761"/>
                </a:lnTo>
                <a:lnTo>
                  <a:pt x="821" y="772"/>
                </a:lnTo>
                <a:lnTo>
                  <a:pt x="783" y="780"/>
                </a:lnTo>
                <a:lnTo>
                  <a:pt x="783" y="780"/>
                </a:lnTo>
                <a:lnTo>
                  <a:pt x="783" y="780"/>
                </a:lnTo>
                <a:lnTo>
                  <a:pt x="783" y="780"/>
                </a:lnTo>
                <a:lnTo>
                  <a:pt x="761" y="785"/>
                </a:lnTo>
                <a:lnTo>
                  <a:pt x="740" y="789"/>
                </a:lnTo>
                <a:lnTo>
                  <a:pt x="720" y="791"/>
                </a:lnTo>
                <a:lnTo>
                  <a:pt x="701" y="793"/>
                </a:lnTo>
                <a:lnTo>
                  <a:pt x="701" y="793"/>
                </a:lnTo>
                <a:lnTo>
                  <a:pt x="669" y="789"/>
                </a:lnTo>
                <a:lnTo>
                  <a:pt x="638" y="783"/>
                </a:lnTo>
                <a:lnTo>
                  <a:pt x="610" y="774"/>
                </a:lnTo>
                <a:lnTo>
                  <a:pt x="583" y="7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06640" y="4648320"/>
            <a:ext cx="180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24400" y="4406760"/>
            <a:ext cx="1440" cy="648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0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19440" y="4297320"/>
            <a:ext cx="18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82800" y="41101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71840" y="2962440"/>
            <a:ext cx="1287360" cy="1062000"/>
          </a:xfrm>
          <a:custGeom>
            <a:avLst/>
            <a:gdLst/>
            <a:ahLst/>
            <a:rect l="l" t="t" r="r" b="b"/>
            <a:pathLst>
              <a:path w="811" h="669">
                <a:moveTo>
                  <a:pt x="563" y="652"/>
                </a:moveTo>
                <a:lnTo>
                  <a:pt x="563" y="652"/>
                </a:lnTo>
                <a:lnTo>
                  <a:pt x="497" y="648"/>
                </a:lnTo>
                <a:lnTo>
                  <a:pt x="495" y="652"/>
                </a:lnTo>
                <a:lnTo>
                  <a:pt x="497" y="648"/>
                </a:lnTo>
                <a:lnTo>
                  <a:pt x="497" y="648"/>
                </a:lnTo>
                <a:lnTo>
                  <a:pt x="439" y="641"/>
                </a:lnTo>
                <a:lnTo>
                  <a:pt x="381" y="632"/>
                </a:lnTo>
                <a:lnTo>
                  <a:pt x="323" y="620"/>
                </a:lnTo>
                <a:lnTo>
                  <a:pt x="269" y="605"/>
                </a:lnTo>
                <a:lnTo>
                  <a:pt x="213" y="587"/>
                </a:lnTo>
                <a:lnTo>
                  <a:pt x="161" y="564"/>
                </a:lnTo>
                <a:lnTo>
                  <a:pt x="133" y="551"/>
                </a:lnTo>
                <a:lnTo>
                  <a:pt x="108" y="538"/>
                </a:lnTo>
                <a:lnTo>
                  <a:pt x="82" y="523"/>
                </a:lnTo>
                <a:lnTo>
                  <a:pt x="58" y="506"/>
                </a:lnTo>
                <a:lnTo>
                  <a:pt x="58" y="506"/>
                </a:lnTo>
                <a:lnTo>
                  <a:pt x="58" y="506"/>
                </a:lnTo>
                <a:lnTo>
                  <a:pt x="43" y="495"/>
                </a:lnTo>
                <a:lnTo>
                  <a:pt x="32" y="482"/>
                </a:lnTo>
                <a:lnTo>
                  <a:pt x="20" y="469"/>
                </a:lnTo>
                <a:lnTo>
                  <a:pt x="9" y="454"/>
                </a:lnTo>
                <a:lnTo>
                  <a:pt x="7" y="456"/>
                </a:lnTo>
                <a:lnTo>
                  <a:pt x="9" y="454"/>
                </a:lnTo>
                <a:lnTo>
                  <a:pt x="9" y="454"/>
                </a:lnTo>
                <a:lnTo>
                  <a:pt x="0" y="435"/>
                </a:lnTo>
                <a:lnTo>
                  <a:pt x="0" y="435"/>
                </a:lnTo>
                <a:lnTo>
                  <a:pt x="39" y="445"/>
                </a:lnTo>
                <a:lnTo>
                  <a:pt x="39" y="445"/>
                </a:lnTo>
                <a:lnTo>
                  <a:pt x="56" y="448"/>
                </a:lnTo>
                <a:lnTo>
                  <a:pt x="75" y="450"/>
                </a:lnTo>
                <a:lnTo>
                  <a:pt x="93" y="452"/>
                </a:lnTo>
                <a:lnTo>
                  <a:pt x="112" y="452"/>
                </a:lnTo>
                <a:lnTo>
                  <a:pt x="112" y="452"/>
                </a:lnTo>
                <a:lnTo>
                  <a:pt x="127" y="452"/>
                </a:lnTo>
                <a:lnTo>
                  <a:pt x="142" y="450"/>
                </a:lnTo>
                <a:lnTo>
                  <a:pt x="155" y="448"/>
                </a:lnTo>
                <a:lnTo>
                  <a:pt x="168" y="443"/>
                </a:lnTo>
                <a:lnTo>
                  <a:pt x="168" y="443"/>
                </a:lnTo>
                <a:lnTo>
                  <a:pt x="179" y="437"/>
                </a:lnTo>
                <a:lnTo>
                  <a:pt x="192" y="430"/>
                </a:lnTo>
                <a:lnTo>
                  <a:pt x="202" y="422"/>
                </a:lnTo>
                <a:lnTo>
                  <a:pt x="213" y="413"/>
                </a:lnTo>
                <a:lnTo>
                  <a:pt x="213" y="413"/>
                </a:lnTo>
                <a:lnTo>
                  <a:pt x="211" y="411"/>
                </a:lnTo>
                <a:lnTo>
                  <a:pt x="211" y="411"/>
                </a:lnTo>
                <a:lnTo>
                  <a:pt x="211" y="411"/>
                </a:lnTo>
                <a:lnTo>
                  <a:pt x="211" y="411"/>
                </a:lnTo>
                <a:lnTo>
                  <a:pt x="213" y="413"/>
                </a:lnTo>
                <a:lnTo>
                  <a:pt x="213" y="413"/>
                </a:lnTo>
                <a:lnTo>
                  <a:pt x="228" y="394"/>
                </a:lnTo>
                <a:lnTo>
                  <a:pt x="241" y="375"/>
                </a:lnTo>
                <a:lnTo>
                  <a:pt x="252" y="355"/>
                </a:lnTo>
                <a:lnTo>
                  <a:pt x="260" y="332"/>
                </a:lnTo>
                <a:lnTo>
                  <a:pt x="265" y="310"/>
                </a:lnTo>
                <a:lnTo>
                  <a:pt x="265" y="286"/>
                </a:lnTo>
                <a:lnTo>
                  <a:pt x="263" y="261"/>
                </a:lnTo>
                <a:lnTo>
                  <a:pt x="256" y="239"/>
                </a:lnTo>
                <a:lnTo>
                  <a:pt x="256" y="239"/>
                </a:lnTo>
                <a:lnTo>
                  <a:pt x="267" y="230"/>
                </a:lnTo>
                <a:lnTo>
                  <a:pt x="277" y="220"/>
                </a:lnTo>
                <a:lnTo>
                  <a:pt x="284" y="209"/>
                </a:lnTo>
                <a:lnTo>
                  <a:pt x="290" y="198"/>
                </a:lnTo>
                <a:lnTo>
                  <a:pt x="293" y="187"/>
                </a:lnTo>
                <a:lnTo>
                  <a:pt x="295" y="174"/>
                </a:lnTo>
                <a:lnTo>
                  <a:pt x="295" y="159"/>
                </a:lnTo>
                <a:lnTo>
                  <a:pt x="291" y="144"/>
                </a:lnTo>
                <a:lnTo>
                  <a:pt x="291" y="144"/>
                </a:lnTo>
                <a:lnTo>
                  <a:pt x="291" y="144"/>
                </a:lnTo>
                <a:lnTo>
                  <a:pt x="288" y="131"/>
                </a:lnTo>
                <a:lnTo>
                  <a:pt x="280" y="117"/>
                </a:lnTo>
                <a:lnTo>
                  <a:pt x="275" y="104"/>
                </a:lnTo>
                <a:lnTo>
                  <a:pt x="265" y="93"/>
                </a:lnTo>
                <a:lnTo>
                  <a:pt x="256" y="84"/>
                </a:lnTo>
                <a:lnTo>
                  <a:pt x="247" y="74"/>
                </a:lnTo>
                <a:lnTo>
                  <a:pt x="235" y="67"/>
                </a:lnTo>
                <a:lnTo>
                  <a:pt x="224" y="58"/>
                </a:lnTo>
                <a:lnTo>
                  <a:pt x="200" y="46"/>
                </a:lnTo>
                <a:lnTo>
                  <a:pt x="172" y="35"/>
                </a:lnTo>
                <a:lnTo>
                  <a:pt x="142" y="28"/>
                </a:lnTo>
                <a:lnTo>
                  <a:pt x="110" y="22"/>
                </a:lnTo>
                <a:lnTo>
                  <a:pt x="110" y="22"/>
                </a:lnTo>
                <a:lnTo>
                  <a:pt x="118" y="13"/>
                </a:lnTo>
                <a:lnTo>
                  <a:pt x="118" y="13"/>
                </a:lnTo>
                <a:lnTo>
                  <a:pt x="127" y="5"/>
                </a:lnTo>
                <a:lnTo>
                  <a:pt x="136" y="2"/>
                </a:lnTo>
                <a:lnTo>
                  <a:pt x="147" y="0"/>
                </a:lnTo>
                <a:lnTo>
                  <a:pt x="157" y="2"/>
                </a:lnTo>
                <a:lnTo>
                  <a:pt x="157" y="2"/>
                </a:lnTo>
                <a:lnTo>
                  <a:pt x="220" y="37"/>
                </a:lnTo>
                <a:lnTo>
                  <a:pt x="284" y="73"/>
                </a:lnTo>
                <a:lnTo>
                  <a:pt x="286" y="71"/>
                </a:lnTo>
                <a:lnTo>
                  <a:pt x="284" y="73"/>
                </a:lnTo>
                <a:lnTo>
                  <a:pt x="284" y="73"/>
                </a:lnTo>
                <a:lnTo>
                  <a:pt x="327" y="95"/>
                </a:lnTo>
                <a:lnTo>
                  <a:pt x="327" y="95"/>
                </a:lnTo>
                <a:lnTo>
                  <a:pt x="327" y="95"/>
                </a:lnTo>
                <a:lnTo>
                  <a:pt x="353" y="110"/>
                </a:lnTo>
                <a:lnTo>
                  <a:pt x="383" y="123"/>
                </a:lnTo>
                <a:lnTo>
                  <a:pt x="415" y="134"/>
                </a:lnTo>
                <a:lnTo>
                  <a:pt x="449" y="144"/>
                </a:lnTo>
                <a:lnTo>
                  <a:pt x="516" y="160"/>
                </a:lnTo>
                <a:lnTo>
                  <a:pt x="583" y="177"/>
                </a:lnTo>
                <a:lnTo>
                  <a:pt x="583" y="177"/>
                </a:lnTo>
                <a:lnTo>
                  <a:pt x="615" y="185"/>
                </a:lnTo>
                <a:lnTo>
                  <a:pt x="643" y="194"/>
                </a:lnTo>
                <a:lnTo>
                  <a:pt x="669" y="205"/>
                </a:lnTo>
                <a:lnTo>
                  <a:pt x="692" y="217"/>
                </a:lnTo>
                <a:lnTo>
                  <a:pt x="710" y="230"/>
                </a:lnTo>
                <a:lnTo>
                  <a:pt x="720" y="237"/>
                </a:lnTo>
                <a:lnTo>
                  <a:pt x="725" y="245"/>
                </a:lnTo>
                <a:lnTo>
                  <a:pt x="731" y="254"/>
                </a:lnTo>
                <a:lnTo>
                  <a:pt x="735" y="261"/>
                </a:lnTo>
                <a:lnTo>
                  <a:pt x="738" y="273"/>
                </a:lnTo>
                <a:lnTo>
                  <a:pt x="738" y="282"/>
                </a:lnTo>
                <a:lnTo>
                  <a:pt x="742" y="282"/>
                </a:lnTo>
                <a:lnTo>
                  <a:pt x="738" y="282"/>
                </a:lnTo>
                <a:lnTo>
                  <a:pt x="738" y="282"/>
                </a:lnTo>
                <a:lnTo>
                  <a:pt x="738" y="282"/>
                </a:lnTo>
                <a:lnTo>
                  <a:pt x="740" y="289"/>
                </a:lnTo>
                <a:lnTo>
                  <a:pt x="738" y="297"/>
                </a:lnTo>
                <a:lnTo>
                  <a:pt x="733" y="310"/>
                </a:lnTo>
                <a:lnTo>
                  <a:pt x="725" y="323"/>
                </a:lnTo>
                <a:lnTo>
                  <a:pt x="712" y="334"/>
                </a:lnTo>
                <a:lnTo>
                  <a:pt x="697" y="344"/>
                </a:lnTo>
                <a:lnTo>
                  <a:pt x="679" y="351"/>
                </a:lnTo>
                <a:lnTo>
                  <a:pt x="660" y="359"/>
                </a:lnTo>
                <a:lnTo>
                  <a:pt x="637" y="364"/>
                </a:lnTo>
                <a:lnTo>
                  <a:pt x="637" y="364"/>
                </a:lnTo>
                <a:lnTo>
                  <a:pt x="613" y="370"/>
                </a:lnTo>
                <a:lnTo>
                  <a:pt x="589" y="374"/>
                </a:lnTo>
                <a:lnTo>
                  <a:pt x="538" y="377"/>
                </a:lnTo>
                <a:lnTo>
                  <a:pt x="490" y="379"/>
                </a:lnTo>
                <a:lnTo>
                  <a:pt x="447" y="379"/>
                </a:lnTo>
                <a:lnTo>
                  <a:pt x="443" y="379"/>
                </a:lnTo>
                <a:lnTo>
                  <a:pt x="443" y="381"/>
                </a:lnTo>
                <a:lnTo>
                  <a:pt x="443" y="381"/>
                </a:lnTo>
                <a:lnTo>
                  <a:pt x="441" y="394"/>
                </a:lnTo>
                <a:lnTo>
                  <a:pt x="439" y="407"/>
                </a:lnTo>
                <a:lnTo>
                  <a:pt x="439" y="422"/>
                </a:lnTo>
                <a:lnTo>
                  <a:pt x="441" y="437"/>
                </a:lnTo>
                <a:lnTo>
                  <a:pt x="441" y="439"/>
                </a:lnTo>
                <a:lnTo>
                  <a:pt x="441" y="439"/>
                </a:lnTo>
                <a:lnTo>
                  <a:pt x="441" y="439"/>
                </a:lnTo>
                <a:lnTo>
                  <a:pt x="475" y="467"/>
                </a:lnTo>
                <a:lnTo>
                  <a:pt x="492" y="482"/>
                </a:lnTo>
                <a:lnTo>
                  <a:pt x="508" y="493"/>
                </a:lnTo>
                <a:lnTo>
                  <a:pt x="508" y="493"/>
                </a:lnTo>
                <a:lnTo>
                  <a:pt x="510" y="495"/>
                </a:lnTo>
                <a:lnTo>
                  <a:pt x="510" y="495"/>
                </a:lnTo>
                <a:lnTo>
                  <a:pt x="542" y="503"/>
                </a:lnTo>
                <a:lnTo>
                  <a:pt x="578" y="510"/>
                </a:lnTo>
                <a:lnTo>
                  <a:pt x="578" y="508"/>
                </a:lnTo>
                <a:lnTo>
                  <a:pt x="578" y="510"/>
                </a:lnTo>
                <a:lnTo>
                  <a:pt x="578" y="510"/>
                </a:lnTo>
                <a:lnTo>
                  <a:pt x="578" y="510"/>
                </a:lnTo>
                <a:lnTo>
                  <a:pt x="578" y="510"/>
                </a:lnTo>
                <a:lnTo>
                  <a:pt x="643" y="521"/>
                </a:lnTo>
                <a:lnTo>
                  <a:pt x="679" y="531"/>
                </a:lnTo>
                <a:lnTo>
                  <a:pt x="710" y="540"/>
                </a:lnTo>
                <a:lnTo>
                  <a:pt x="727" y="546"/>
                </a:lnTo>
                <a:lnTo>
                  <a:pt x="742" y="553"/>
                </a:lnTo>
                <a:lnTo>
                  <a:pt x="755" y="562"/>
                </a:lnTo>
                <a:lnTo>
                  <a:pt x="766" y="570"/>
                </a:lnTo>
                <a:lnTo>
                  <a:pt x="778" y="581"/>
                </a:lnTo>
                <a:lnTo>
                  <a:pt x="787" y="592"/>
                </a:lnTo>
                <a:lnTo>
                  <a:pt x="794" y="605"/>
                </a:lnTo>
                <a:lnTo>
                  <a:pt x="798" y="619"/>
                </a:lnTo>
                <a:lnTo>
                  <a:pt x="798" y="619"/>
                </a:lnTo>
                <a:lnTo>
                  <a:pt x="798" y="619"/>
                </a:lnTo>
                <a:lnTo>
                  <a:pt x="811" y="669"/>
                </a:lnTo>
                <a:lnTo>
                  <a:pt x="811" y="669"/>
                </a:lnTo>
                <a:lnTo>
                  <a:pt x="751" y="662"/>
                </a:lnTo>
                <a:lnTo>
                  <a:pt x="690" y="656"/>
                </a:lnTo>
                <a:lnTo>
                  <a:pt x="626" y="654"/>
                </a:lnTo>
                <a:lnTo>
                  <a:pt x="563" y="65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65720" y="400356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81480" y="3741840"/>
            <a:ext cx="144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0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37000" y="366228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10000" y="3638520"/>
            <a:ext cx="1440" cy="648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2"/>
                </a:moveTo>
                <a:lnTo>
                  <a:pt x="0" y="0"/>
                </a:lnTo>
                <a:lnTo>
                  <a:pt x="0" y="4"/>
                </a:lnTo>
                <a:lnTo>
                  <a:pt x="0" y="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54200" y="2952720"/>
            <a:ext cx="3170160" cy="2038320"/>
          </a:xfrm>
          <a:custGeom>
            <a:avLst/>
            <a:gdLst/>
            <a:ahLst/>
            <a:rect l="l" t="t" r="r" b="b"/>
            <a:pathLst>
              <a:path w="1997" h="1284">
                <a:moveTo>
                  <a:pt x="1573" y="1281"/>
                </a:moveTo>
                <a:lnTo>
                  <a:pt x="1573" y="1279"/>
                </a:lnTo>
                <a:lnTo>
                  <a:pt x="1573" y="1281"/>
                </a:lnTo>
                <a:lnTo>
                  <a:pt x="1573" y="1281"/>
                </a:lnTo>
                <a:lnTo>
                  <a:pt x="1558" y="1279"/>
                </a:lnTo>
                <a:lnTo>
                  <a:pt x="1545" y="1275"/>
                </a:lnTo>
                <a:lnTo>
                  <a:pt x="1532" y="1271"/>
                </a:lnTo>
                <a:lnTo>
                  <a:pt x="1519" y="1264"/>
                </a:lnTo>
                <a:lnTo>
                  <a:pt x="1521" y="1262"/>
                </a:lnTo>
                <a:lnTo>
                  <a:pt x="1519" y="1264"/>
                </a:lnTo>
                <a:lnTo>
                  <a:pt x="1519" y="1264"/>
                </a:lnTo>
                <a:lnTo>
                  <a:pt x="1508" y="1256"/>
                </a:lnTo>
                <a:lnTo>
                  <a:pt x="1496" y="1247"/>
                </a:lnTo>
                <a:lnTo>
                  <a:pt x="1485" y="1238"/>
                </a:lnTo>
                <a:lnTo>
                  <a:pt x="1474" y="1225"/>
                </a:lnTo>
                <a:lnTo>
                  <a:pt x="1474" y="1225"/>
                </a:lnTo>
                <a:lnTo>
                  <a:pt x="1474" y="1223"/>
                </a:lnTo>
                <a:lnTo>
                  <a:pt x="1476" y="1223"/>
                </a:lnTo>
                <a:lnTo>
                  <a:pt x="1474" y="1223"/>
                </a:lnTo>
                <a:lnTo>
                  <a:pt x="1474" y="1223"/>
                </a:lnTo>
                <a:lnTo>
                  <a:pt x="1468" y="1206"/>
                </a:lnTo>
                <a:lnTo>
                  <a:pt x="1465" y="1187"/>
                </a:lnTo>
                <a:lnTo>
                  <a:pt x="1463" y="1167"/>
                </a:lnTo>
                <a:lnTo>
                  <a:pt x="1465" y="1148"/>
                </a:lnTo>
                <a:lnTo>
                  <a:pt x="1466" y="1127"/>
                </a:lnTo>
                <a:lnTo>
                  <a:pt x="1470" y="1109"/>
                </a:lnTo>
                <a:lnTo>
                  <a:pt x="1481" y="1068"/>
                </a:lnTo>
                <a:lnTo>
                  <a:pt x="1504" y="989"/>
                </a:lnTo>
                <a:lnTo>
                  <a:pt x="1511" y="952"/>
                </a:lnTo>
                <a:lnTo>
                  <a:pt x="1513" y="935"/>
                </a:lnTo>
                <a:lnTo>
                  <a:pt x="1515" y="918"/>
                </a:lnTo>
                <a:lnTo>
                  <a:pt x="1515" y="918"/>
                </a:lnTo>
                <a:lnTo>
                  <a:pt x="1513" y="905"/>
                </a:lnTo>
                <a:lnTo>
                  <a:pt x="1511" y="894"/>
                </a:lnTo>
                <a:lnTo>
                  <a:pt x="1508" y="883"/>
                </a:lnTo>
                <a:lnTo>
                  <a:pt x="1504" y="871"/>
                </a:lnTo>
                <a:lnTo>
                  <a:pt x="1504" y="871"/>
                </a:lnTo>
                <a:lnTo>
                  <a:pt x="1491" y="858"/>
                </a:lnTo>
                <a:lnTo>
                  <a:pt x="1479" y="847"/>
                </a:lnTo>
                <a:lnTo>
                  <a:pt x="1465" y="838"/>
                </a:lnTo>
                <a:lnTo>
                  <a:pt x="1450" y="830"/>
                </a:lnTo>
                <a:lnTo>
                  <a:pt x="1435" y="823"/>
                </a:lnTo>
                <a:lnTo>
                  <a:pt x="1418" y="819"/>
                </a:lnTo>
                <a:lnTo>
                  <a:pt x="1401" y="817"/>
                </a:lnTo>
                <a:lnTo>
                  <a:pt x="1382" y="815"/>
                </a:lnTo>
                <a:lnTo>
                  <a:pt x="1382" y="815"/>
                </a:lnTo>
                <a:lnTo>
                  <a:pt x="1382" y="815"/>
                </a:lnTo>
                <a:lnTo>
                  <a:pt x="1367" y="817"/>
                </a:lnTo>
                <a:lnTo>
                  <a:pt x="1350" y="821"/>
                </a:lnTo>
                <a:lnTo>
                  <a:pt x="1335" y="826"/>
                </a:lnTo>
                <a:lnTo>
                  <a:pt x="1319" y="834"/>
                </a:lnTo>
                <a:lnTo>
                  <a:pt x="1317" y="828"/>
                </a:lnTo>
                <a:lnTo>
                  <a:pt x="1317" y="828"/>
                </a:lnTo>
                <a:lnTo>
                  <a:pt x="1332" y="821"/>
                </a:lnTo>
                <a:lnTo>
                  <a:pt x="1349" y="815"/>
                </a:lnTo>
                <a:lnTo>
                  <a:pt x="1365" y="811"/>
                </a:lnTo>
                <a:lnTo>
                  <a:pt x="1382" y="810"/>
                </a:lnTo>
                <a:lnTo>
                  <a:pt x="1382" y="810"/>
                </a:lnTo>
                <a:lnTo>
                  <a:pt x="1382" y="810"/>
                </a:lnTo>
                <a:lnTo>
                  <a:pt x="1382" y="813"/>
                </a:lnTo>
                <a:lnTo>
                  <a:pt x="1382" y="813"/>
                </a:lnTo>
                <a:lnTo>
                  <a:pt x="1382" y="810"/>
                </a:lnTo>
                <a:lnTo>
                  <a:pt x="1382" y="810"/>
                </a:lnTo>
                <a:lnTo>
                  <a:pt x="1401" y="811"/>
                </a:lnTo>
                <a:lnTo>
                  <a:pt x="1420" y="813"/>
                </a:lnTo>
                <a:lnTo>
                  <a:pt x="1436" y="819"/>
                </a:lnTo>
                <a:lnTo>
                  <a:pt x="1451" y="825"/>
                </a:lnTo>
                <a:lnTo>
                  <a:pt x="1468" y="834"/>
                </a:lnTo>
                <a:lnTo>
                  <a:pt x="1483" y="843"/>
                </a:lnTo>
                <a:lnTo>
                  <a:pt x="1496" y="854"/>
                </a:lnTo>
                <a:lnTo>
                  <a:pt x="1508" y="868"/>
                </a:lnTo>
                <a:lnTo>
                  <a:pt x="1506" y="869"/>
                </a:lnTo>
                <a:lnTo>
                  <a:pt x="1506" y="869"/>
                </a:lnTo>
                <a:lnTo>
                  <a:pt x="1508" y="868"/>
                </a:lnTo>
                <a:lnTo>
                  <a:pt x="1508" y="868"/>
                </a:lnTo>
                <a:lnTo>
                  <a:pt x="1508" y="868"/>
                </a:lnTo>
                <a:lnTo>
                  <a:pt x="1508" y="868"/>
                </a:lnTo>
                <a:lnTo>
                  <a:pt x="1513" y="881"/>
                </a:lnTo>
                <a:lnTo>
                  <a:pt x="1517" y="892"/>
                </a:lnTo>
                <a:lnTo>
                  <a:pt x="1521" y="905"/>
                </a:lnTo>
                <a:lnTo>
                  <a:pt x="1521" y="918"/>
                </a:lnTo>
                <a:lnTo>
                  <a:pt x="1521" y="918"/>
                </a:lnTo>
                <a:lnTo>
                  <a:pt x="1521" y="935"/>
                </a:lnTo>
                <a:lnTo>
                  <a:pt x="1517" y="954"/>
                </a:lnTo>
                <a:lnTo>
                  <a:pt x="1509" y="991"/>
                </a:lnTo>
                <a:lnTo>
                  <a:pt x="1487" y="1069"/>
                </a:lnTo>
                <a:lnTo>
                  <a:pt x="1476" y="1109"/>
                </a:lnTo>
                <a:lnTo>
                  <a:pt x="1472" y="1129"/>
                </a:lnTo>
                <a:lnTo>
                  <a:pt x="1470" y="1148"/>
                </a:lnTo>
                <a:lnTo>
                  <a:pt x="1468" y="1167"/>
                </a:lnTo>
                <a:lnTo>
                  <a:pt x="1470" y="1185"/>
                </a:lnTo>
                <a:lnTo>
                  <a:pt x="1474" y="1204"/>
                </a:lnTo>
                <a:lnTo>
                  <a:pt x="1478" y="1221"/>
                </a:lnTo>
                <a:lnTo>
                  <a:pt x="1478" y="1221"/>
                </a:lnTo>
                <a:lnTo>
                  <a:pt x="1489" y="1232"/>
                </a:lnTo>
                <a:lnTo>
                  <a:pt x="1500" y="1243"/>
                </a:lnTo>
                <a:lnTo>
                  <a:pt x="1511" y="1253"/>
                </a:lnTo>
                <a:lnTo>
                  <a:pt x="1522" y="1260"/>
                </a:lnTo>
                <a:lnTo>
                  <a:pt x="1522" y="1260"/>
                </a:lnTo>
                <a:lnTo>
                  <a:pt x="1534" y="1266"/>
                </a:lnTo>
                <a:lnTo>
                  <a:pt x="1547" y="1270"/>
                </a:lnTo>
                <a:lnTo>
                  <a:pt x="1560" y="1273"/>
                </a:lnTo>
                <a:lnTo>
                  <a:pt x="1573" y="1275"/>
                </a:lnTo>
                <a:lnTo>
                  <a:pt x="1573" y="1275"/>
                </a:lnTo>
                <a:lnTo>
                  <a:pt x="1601" y="1277"/>
                </a:lnTo>
                <a:lnTo>
                  <a:pt x="1629" y="1277"/>
                </a:lnTo>
                <a:lnTo>
                  <a:pt x="1659" y="1273"/>
                </a:lnTo>
                <a:lnTo>
                  <a:pt x="1687" y="1268"/>
                </a:lnTo>
                <a:lnTo>
                  <a:pt x="1747" y="1256"/>
                </a:lnTo>
                <a:lnTo>
                  <a:pt x="1777" y="1251"/>
                </a:lnTo>
                <a:lnTo>
                  <a:pt x="1807" y="1249"/>
                </a:lnTo>
                <a:lnTo>
                  <a:pt x="1807" y="1249"/>
                </a:lnTo>
                <a:lnTo>
                  <a:pt x="1842" y="1236"/>
                </a:lnTo>
                <a:lnTo>
                  <a:pt x="1859" y="1230"/>
                </a:lnTo>
                <a:lnTo>
                  <a:pt x="1876" y="1221"/>
                </a:lnTo>
                <a:lnTo>
                  <a:pt x="1880" y="1227"/>
                </a:lnTo>
                <a:lnTo>
                  <a:pt x="1880" y="1227"/>
                </a:lnTo>
                <a:lnTo>
                  <a:pt x="1863" y="1236"/>
                </a:lnTo>
                <a:lnTo>
                  <a:pt x="1844" y="1241"/>
                </a:lnTo>
                <a:lnTo>
                  <a:pt x="1807" y="1255"/>
                </a:lnTo>
                <a:lnTo>
                  <a:pt x="1807" y="1255"/>
                </a:lnTo>
                <a:lnTo>
                  <a:pt x="1807" y="1255"/>
                </a:lnTo>
                <a:lnTo>
                  <a:pt x="1807" y="1255"/>
                </a:lnTo>
                <a:lnTo>
                  <a:pt x="1782" y="1256"/>
                </a:lnTo>
                <a:lnTo>
                  <a:pt x="1756" y="1260"/>
                </a:lnTo>
                <a:lnTo>
                  <a:pt x="1706" y="1271"/>
                </a:lnTo>
                <a:lnTo>
                  <a:pt x="1653" y="1281"/>
                </a:lnTo>
                <a:lnTo>
                  <a:pt x="1629" y="1283"/>
                </a:lnTo>
                <a:lnTo>
                  <a:pt x="1603" y="1284"/>
                </a:lnTo>
                <a:lnTo>
                  <a:pt x="1603" y="1284"/>
                </a:lnTo>
                <a:lnTo>
                  <a:pt x="1588" y="1283"/>
                </a:lnTo>
                <a:lnTo>
                  <a:pt x="1573" y="1281"/>
                </a:lnTo>
                <a:close/>
                <a:moveTo>
                  <a:pt x="1807" y="1255"/>
                </a:moveTo>
                <a:lnTo>
                  <a:pt x="1807" y="1251"/>
                </a:lnTo>
                <a:lnTo>
                  <a:pt x="1807" y="1251"/>
                </a:lnTo>
                <a:lnTo>
                  <a:pt x="1807" y="1255"/>
                </a:lnTo>
                <a:close/>
                <a:moveTo>
                  <a:pt x="1515" y="918"/>
                </a:moveTo>
                <a:lnTo>
                  <a:pt x="1517" y="918"/>
                </a:lnTo>
                <a:lnTo>
                  <a:pt x="1515" y="918"/>
                </a:lnTo>
                <a:close/>
                <a:moveTo>
                  <a:pt x="1876" y="1221"/>
                </a:moveTo>
                <a:lnTo>
                  <a:pt x="1876" y="1221"/>
                </a:lnTo>
                <a:lnTo>
                  <a:pt x="1893" y="1212"/>
                </a:lnTo>
                <a:lnTo>
                  <a:pt x="1908" y="1200"/>
                </a:lnTo>
                <a:lnTo>
                  <a:pt x="1923" y="1189"/>
                </a:lnTo>
                <a:lnTo>
                  <a:pt x="1938" y="1176"/>
                </a:lnTo>
                <a:lnTo>
                  <a:pt x="1938" y="1176"/>
                </a:lnTo>
                <a:lnTo>
                  <a:pt x="1951" y="1148"/>
                </a:lnTo>
                <a:lnTo>
                  <a:pt x="1962" y="1118"/>
                </a:lnTo>
                <a:lnTo>
                  <a:pt x="1973" y="1088"/>
                </a:lnTo>
                <a:lnTo>
                  <a:pt x="1981" y="1056"/>
                </a:lnTo>
                <a:lnTo>
                  <a:pt x="1986" y="1025"/>
                </a:lnTo>
                <a:lnTo>
                  <a:pt x="1988" y="993"/>
                </a:lnTo>
                <a:lnTo>
                  <a:pt x="1992" y="961"/>
                </a:lnTo>
                <a:lnTo>
                  <a:pt x="1992" y="927"/>
                </a:lnTo>
                <a:lnTo>
                  <a:pt x="1992" y="927"/>
                </a:lnTo>
                <a:lnTo>
                  <a:pt x="1997" y="929"/>
                </a:lnTo>
                <a:lnTo>
                  <a:pt x="1997" y="929"/>
                </a:lnTo>
                <a:lnTo>
                  <a:pt x="1997" y="961"/>
                </a:lnTo>
                <a:lnTo>
                  <a:pt x="1996" y="995"/>
                </a:lnTo>
                <a:lnTo>
                  <a:pt x="1992" y="1026"/>
                </a:lnTo>
                <a:lnTo>
                  <a:pt x="1986" y="1058"/>
                </a:lnTo>
                <a:lnTo>
                  <a:pt x="1979" y="1090"/>
                </a:lnTo>
                <a:lnTo>
                  <a:pt x="1968" y="1120"/>
                </a:lnTo>
                <a:lnTo>
                  <a:pt x="1956" y="1150"/>
                </a:lnTo>
                <a:lnTo>
                  <a:pt x="1941" y="1180"/>
                </a:lnTo>
                <a:lnTo>
                  <a:pt x="1939" y="1178"/>
                </a:lnTo>
                <a:lnTo>
                  <a:pt x="1939" y="1178"/>
                </a:lnTo>
                <a:lnTo>
                  <a:pt x="1941" y="1180"/>
                </a:lnTo>
                <a:lnTo>
                  <a:pt x="1941" y="1180"/>
                </a:lnTo>
                <a:lnTo>
                  <a:pt x="1941" y="1180"/>
                </a:lnTo>
                <a:lnTo>
                  <a:pt x="1941" y="1180"/>
                </a:lnTo>
                <a:lnTo>
                  <a:pt x="1926" y="1193"/>
                </a:lnTo>
                <a:lnTo>
                  <a:pt x="1911" y="1206"/>
                </a:lnTo>
                <a:lnTo>
                  <a:pt x="1896" y="1217"/>
                </a:lnTo>
                <a:lnTo>
                  <a:pt x="1880" y="1227"/>
                </a:lnTo>
                <a:lnTo>
                  <a:pt x="1876" y="1221"/>
                </a:lnTo>
                <a:close/>
                <a:moveTo>
                  <a:pt x="593" y="1056"/>
                </a:moveTo>
                <a:lnTo>
                  <a:pt x="593" y="1056"/>
                </a:lnTo>
                <a:lnTo>
                  <a:pt x="573" y="1038"/>
                </a:lnTo>
                <a:lnTo>
                  <a:pt x="573" y="1038"/>
                </a:lnTo>
                <a:lnTo>
                  <a:pt x="589" y="1049"/>
                </a:lnTo>
                <a:lnTo>
                  <a:pt x="589" y="1049"/>
                </a:lnTo>
                <a:lnTo>
                  <a:pt x="610" y="1058"/>
                </a:lnTo>
                <a:lnTo>
                  <a:pt x="632" y="1068"/>
                </a:lnTo>
                <a:lnTo>
                  <a:pt x="655" y="1075"/>
                </a:lnTo>
                <a:lnTo>
                  <a:pt x="679" y="1079"/>
                </a:lnTo>
                <a:lnTo>
                  <a:pt x="703" y="1081"/>
                </a:lnTo>
                <a:lnTo>
                  <a:pt x="731" y="1079"/>
                </a:lnTo>
                <a:lnTo>
                  <a:pt x="760" y="1075"/>
                </a:lnTo>
                <a:lnTo>
                  <a:pt x="789" y="1068"/>
                </a:lnTo>
                <a:lnTo>
                  <a:pt x="789" y="1068"/>
                </a:lnTo>
                <a:lnTo>
                  <a:pt x="789" y="1068"/>
                </a:lnTo>
                <a:lnTo>
                  <a:pt x="789" y="1068"/>
                </a:lnTo>
                <a:lnTo>
                  <a:pt x="827" y="1060"/>
                </a:lnTo>
                <a:lnTo>
                  <a:pt x="862" y="1049"/>
                </a:lnTo>
                <a:lnTo>
                  <a:pt x="864" y="1055"/>
                </a:lnTo>
                <a:lnTo>
                  <a:pt x="864" y="1055"/>
                </a:lnTo>
                <a:lnTo>
                  <a:pt x="827" y="1066"/>
                </a:lnTo>
                <a:lnTo>
                  <a:pt x="791" y="1073"/>
                </a:lnTo>
                <a:lnTo>
                  <a:pt x="791" y="1073"/>
                </a:lnTo>
                <a:lnTo>
                  <a:pt x="769" y="1079"/>
                </a:lnTo>
                <a:lnTo>
                  <a:pt x="746" y="1083"/>
                </a:lnTo>
                <a:lnTo>
                  <a:pt x="728" y="1084"/>
                </a:lnTo>
                <a:lnTo>
                  <a:pt x="707" y="1086"/>
                </a:lnTo>
                <a:lnTo>
                  <a:pt x="707" y="1086"/>
                </a:lnTo>
                <a:lnTo>
                  <a:pt x="675" y="1084"/>
                </a:lnTo>
                <a:lnTo>
                  <a:pt x="647" y="1079"/>
                </a:lnTo>
                <a:lnTo>
                  <a:pt x="619" y="1069"/>
                </a:lnTo>
                <a:lnTo>
                  <a:pt x="593" y="1056"/>
                </a:lnTo>
                <a:close/>
                <a:moveTo>
                  <a:pt x="789" y="1071"/>
                </a:moveTo>
                <a:lnTo>
                  <a:pt x="789" y="1071"/>
                </a:lnTo>
                <a:lnTo>
                  <a:pt x="789" y="1068"/>
                </a:lnTo>
                <a:lnTo>
                  <a:pt x="789" y="1071"/>
                </a:lnTo>
                <a:lnTo>
                  <a:pt x="789" y="1071"/>
                </a:lnTo>
                <a:close/>
                <a:moveTo>
                  <a:pt x="588" y="1051"/>
                </a:moveTo>
                <a:lnTo>
                  <a:pt x="589" y="1049"/>
                </a:lnTo>
                <a:lnTo>
                  <a:pt x="588" y="1051"/>
                </a:lnTo>
                <a:close/>
                <a:moveTo>
                  <a:pt x="589" y="1049"/>
                </a:moveTo>
                <a:lnTo>
                  <a:pt x="589" y="1049"/>
                </a:lnTo>
                <a:close/>
                <a:moveTo>
                  <a:pt x="862" y="1049"/>
                </a:moveTo>
                <a:lnTo>
                  <a:pt x="862" y="1049"/>
                </a:lnTo>
                <a:lnTo>
                  <a:pt x="898" y="1036"/>
                </a:lnTo>
                <a:lnTo>
                  <a:pt x="933" y="1023"/>
                </a:lnTo>
                <a:lnTo>
                  <a:pt x="1003" y="997"/>
                </a:lnTo>
                <a:lnTo>
                  <a:pt x="1003" y="997"/>
                </a:lnTo>
                <a:lnTo>
                  <a:pt x="1003" y="997"/>
                </a:lnTo>
                <a:lnTo>
                  <a:pt x="1003" y="997"/>
                </a:lnTo>
                <a:lnTo>
                  <a:pt x="1042" y="985"/>
                </a:lnTo>
                <a:lnTo>
                  <a:pt x="1042" y="985"/>
                </a:lnTo>
                <a:lnTo>
                  <a:pt x="1046" y="991"/>
                </a:lnTo>
                <a:lnTo>
                  <a:pt x="1046" y="991"/>
                </a:lnTo>
                <a:lnTo>
                  <a:pt x="1005" y="1002"/>
                </a:lnTo>
                <a:lnTo>
                  <a:pt x="1005" y="1002"/>
                </a:lnTo>
                <a:lnTo>
                  <a:pt x="1005" y="1002"/>
                </a:lnTo>
                <a:lnTo>
                  <a:pt x="935" y="1028"/>
                </a:lnTo>
                <a:lnTo>
                  <a:pt x="900" y="1041"/>
                </a:lnTo>
                <a:lnTo>
                  <a:pt x="864" y="1055"/>
                </a:lnTo>
                <a:lnTo>
                  <a:pt x="862" y="1049"/>
                </a:lnTo>
                <a:close/>
                <a:moveTo>
                  <a:pt x="1235" y="877"/>
                </a:moveTo>
                <a:lnTo>
                  <a:pt x="1235" y="877"/>
                </a:lnTo>
                <a:lnTo>
                  <a:pt x="1276" y="851"/>
                </a:lnTo>
                <a:lnTo>
                  <a:pt x="1296" y="838"/>
                </a:lnTo>
                <a:lnTo>
                  <a:pt x="1317" y="828"/>
                </a:lnTo>
                <a:lnTo>
                  <a:pt x="1319" y="834"/>
                </a:lnTo>
                <a:lnTo>
                  <a:pt x="1319" y="834"/>
                </a:lnTo>
                <a:lnTo>
                  <a:pt x="1298" y="845"/>
                </a:lnTo>
                <a:lnTo>
                  <a:pt x="1276" y="856"/>
                </a:lnTo>
                <a:lnTo>
                  <a:pt x="1235" y="884"/>
                </a:lnTo>
                <a:lnTo>
                  <a:pt x="1235" y="884"/>
                </a:lnTo>
                <a:lnTo>
                  <a:pt x="1235" y="877"/>
                </a:lnTo>
                <a:close/>
                <a:moveTo>
                  <a:pt x="270" y="768"/>
                </a:moveTo>
                <a:lnTo>
                  <a:pt x="271" y="767"/>
                </a:lnTo>
                <a:lnTo>
                  <a:pt x="270" y="768"/>
                </a:lnTo>
                <a:lnTo>
                  <a:pt x="270" y="768"/>
                </a:lnTo>
                <a:lnTo>
                  <a:pt x="245" y="757"/>
                </a:lnTo>
                <a:lnTo>
                  <a:pt x="245" y="757"/>
                </a:lnTo>
                <a:lnTo>
                  <a:pt x="212" y="746"/>
                </a:lnTo>
                <a:lnTo>
                  <a:pt x="212" y="746"/>
                </a:lnTo>
                <a:lnTo>
                  <a:pt x="185" y="739"/>
                </a:lnTo>
                <a:lnTo>
                  <a:pt x="159" y="733"/>
                </a:lnTo>
                <a:lnTo>
                  <a:pt x="159" y="733"/>
                </a:lnTo>
                <a:lnTo>
                  <a:pt x="159" y="735"/>
                </a:lnTo>
                <a:lnTo>
                  <a:pt x="159" y="735"/>
                </a:lnTo>
                <a:lnTo>
                  <a:pt x="159" y="733"/>
                </a:lnTo>
                <a:lnTo>
                  <a:pt x="159" y="733"/>
                </a:lnTo>
                <a:lnTo>
                  <a:pt x="150" y="733"/>
                </a:lnTo>
                <a:lnTo>
                  <a:pt x="150" y="733"/>
                </a:lnTo>
                <a:lnTo>
                  <a:pt x="144" y="733"/>
                </a:lnTo>
                <a:lnTo>
                  <a:pt x="144" y="733"/>
                </a:lnTo>
                <a:lnTo>
                  <a:pt x="144" y="733"/>
                </a:lnTo>
                <a:lnTo>
                  <a:pt x="144" y="729"/>
                </a:lnTo>
                <a:lnTo>
                  <a:pt x="144" y="729"/>
                </a:lnTo>
                <a:lnTo>
                  <a:pt x="144" y="733"/>
                </a:lnTo>
                <a:lnTo>
                  <a:pt x="144" y="733"/>
                </a:lnTo>
                <a:lnTo>
                  <a:pt x="126" y="727"/>
                </a:lnTo>
                <a:lnTo>
                  <a:pt x="111" y="720"/>
                </a:lnTo>
                <a:lnTo>
                  <a:pt x="96" y="711"/>
                </a:lnTo>
                <a:lnTo>
                  <a:pt x="85" y="701"/>
                </a:lnTo>
                <a:lnTo>
                  <a:pt x="83" y="701"/>
                </a:lnTo>
                <a:lnTo>
                  <a:pt x="83" y="701"/>
                </a:lnTo>
                <a:lnTo>
                  <a:pt x="86" y="699"/>
                </a:lnTo>
                <a:lnTo>
                  <a:pt x="86" y="699"/>
                </a:lnTo>
                <a:lnTo>
                  <a:pt x="83" y="701"/>
                </a:lnTo>
                <a:lnTo>
                  <a:pt x="83" y="701"/>
                </a:lnTo>
                <a:lnTo>
                  <a:pt x="68" y="681"/>
                </a:lnTo>
                <a:lnTo>
                  <a:pt x="53" y="658"/>
                </a:lnTo>
                <a:lnTo>
                  <a:pt x="40" y="636"/>
                </a:lnTo>
                <a:lnTo>
                  <a:pt x="28" y="611"/>
                </a:lnTo>
                <a:lnTo>
                  <a:pt x="19" y="585"/>
                </a:lnTo>
                <a:lnTo>
                  <a:pt x="12" y="561"/>
                </a:lnTo>
                <a:lnTo>
                  <a:pt x="6" y="533"/>
                </a:lnTo>
                <a:lnTo>
                  <a:pt x="2" y="507"/>
                </a:lnTo>
                <a:lnTo>
                  <a:pt x="0" y="481"/>
                </a:lnTo>
                <a:lnTo>
                  <a:pt x="2" y="453"/>
                </a:lnTo>
                <a:lnTo>
                  <a:pt x="4" y="426"/>
                </a:lnTo>
                <a:lnTo>
                  <a:pt x="10" y="400"/>
                </a:lnTo>
                <a:lnTo>
                  <a:pt x="17" y="374"/>
                </a:lnTo>
                <a:lnTo>
                  <a:pt x="27" y="350"/>
                </a:lnTo>
                <a:lnTo>
                  <a:pt x="38" y="325"/>
                </a:lnTo>
                <a:lnTo>
                  <a:pt x="53" y="301"/>
                </a:lnTo>
                <a:lnTo>
                  <a:pt x="53" y="301"/>
                </a:lnTo>
                <a:lnTo>
                  <a:pt x="53" y="301"/>
                </a:lnTo>
                <a:lnTo>
                  <a:pt x="53" y="301"/>
                </a:lnTo>
                <a:lnTo>
                  <a:pt x="58" y="294"/>
                </a:lnTo>
                <a:lnTo>
                  <a:pt x="58" y="294"/>
                </a:lnTo>
                <a:lnTo>
                  <a:pt x="68" y="292"/>
                </a:lnTo>
                <a:lnTo>
                  <a:pt x="68" y="292"/>
                </a:lnTo>
                <a:lnTo>
                  <a:pt x="56" y="305"/>
                </a:lnTo>
                <a:lnTo>
                  <a:pt x="56" y="305"/>
                </a:lnTo>
                <a:lnTo>
                  <a:pt x="56" y="305"/>
                </a:lnTo>
                <a:lnTo>
                  <a:pt x="43" y="327"/>
                </a:lnTo>
                <a:lnTo>
                  <a:pt x="32" y="352"/>
                </a:lnTo>
                <a:lnTo>
                  <a:pt x="23" y="376"/>
                </a:lnTo>
                <a:lnTo>
                  <a:pt x="15" y="402"/>
                </a:lnTo>
                <a:lnTo>
                  <a:pt x="10" y="426"/>
                </a:lnTo>
                <a:lnTo>
                  <a:pt x="8" y="453"/>
                </a:lnTo>
                <a:lnTo>
                  <a:pt x="6" y="481"/>
                </a:lnTo>
                <a:lnTo>
                  <a:pt x="8" y="507"/>
                </a:lnTo>
                <a:lnTo>
                  <a:pt x="12" y="533"/>
                </a:lnTo>
                <a:lnTo>
                  <a:pt x="17" y="559"/>
                </a:lnTo>
                <a:lnTo>
                  <a:pt x="25" y="583"/>
                </a:lnTo>
                <a:lnTo>
                  <a:pt x="34" y="610"/>
                </a:lnTo>
                <a:lnTo>
                  <a:pt x="45" y="632"/>
                </a:lnTo>
                <a:lnTo>
                  <a:pt x="56" y="656"/>
                </a:lnTo>
                <a:lnTo>
                  <a:pt x="71" y="677"/>
                </a:lnTo>
                <a:lnTo>
                  <a:pt x="88" y="697"/>
                </a:lnTo>
                <a:lnTo>
                  <a:pt x="88" y="697"/>
                </a:lnTo>
                <a:lnTo>
                  <a:pt x="99" y="707"/>
                </a:lnTo>
                <a:lnTo>
                  <a:pt x="113" y="714"/>
                </a:lnTo>
                <a:lnTo>
                  <a:pt x="128" y="722"/>
                </a:lnTo>
                <a:lnTo>
                  <a:pt x="144" y="725"/>
                </a:lnTo>
                <a:lnTo>
                  <a:pt x="144" y="725"/>
                </a:lnTo>
                <a:lnTo>
                  <a:pt x="180" y="731"/>
                </a:lnTo>
                <a:lnTo>
                  <a:pt x="214" y="740"/>
                </a:lnTo>
                <a:lnTo>
                  <a:pt x="243" y="752"/>
                </a:lnTo>
                <a:lnTo>
                  <a:pt x="273" y="763"/>
                </a:lnTo>
                <a:lnTo>
                  <a:pt x="273" y="763"/>
                </a:lnTo>
                <a:lnTo>
                  <a:pt x="309" y="783"/>
                </a:lnTo>
                <a:lnTo>
                  <a:pt x="341" y="808"/>
                </a:lnTo>
                <a:lnTo>
                  <a:pt x="372" y="832"/>
                </a:lnTo>
                <a:lnTo>
                  <a:pt x="401" y="860"/>
                </a:lnTo>
                <a:lnTo>
                  <a:pt x="401" y="860"/>
                </a:lnTo>
                <a:lnTo>
                  <a:pt x="371" y="834"/>
                </a:lnTo>
                <a:lnTo>
                  <a:pt x="339" y="810"/>
                </a:lnTo>
                <a:lnTo>
                  <a:pt x="305" y="787"/>
                </a:lnTo>
                <a:lnTo>
                  <a:pt x="270" y="768"/>
                </a:lnTo>
                <a:close/>
                <a:moveTo>
                  <a:pt x="55" y="303"/>
                </a:moveTo>
                <a:lnTo>
                  <a:pt x="55" y="303"/>
                </a:lnTo>
                <a:lnTo>
                  <a:pt x="53" y="301"/>
                </a:lnTo>
                <a:lnTo>
                  <a:pt x="55" y="303"/>
                </a:lnTo>
                <a:close/>
                <a:moveTo>
                  <a:pt x="1956" y="675"/>
                </a:moveTo>
                <a:lnTo>
                  <a:pt x="1956" y="675"/>
                </a:lnTo>
                <a:lnTo>
                  <a:pt x="1943" y="625"/>
                </a:lnTo>
                <a:lnTo>
                  <a:pt x="1943" y="625"/>
                </a:lnTo>
                <a:lnTo>
                  <a:pt x="1943" y="625"/>
                </a:lnTo>
                <a:lnTo>
                  <a:pt x="1939" y="611"/>
                </a:lnTo>
                <a:lnTo>
                  <a:pt x="1932" y="598"/>
                </a:lnTo>
                <a:lnTo>
                  <a:pt x="1923" y="587"/>
                </a:lnTo>
                <a:lnTo>
                  <a:pt x="1911" y="576"/>
                </a:lnTo>
                <a:lnTo>
                  <a:pt x="1900" y="568"/>
                </a:lnTo>
                <a:lnTo>
                  <a:pt x="1887" y="559"/>
                </a:lnTo>
                <a:lnTo>
                  <a:pt x="1872" y="552"/>
                </a:lnTo>
                <a:lnTo>
                  <a:pt x="1855" y="546"/>
                </a:lnTo>
                <a:lnTo>
                  <a:pt x="1824" y="537"/>
                </a:lnTo>
                <a:lnTo>
                  <a:pt x="1788" y="527"/>
                </a:lnTo>
                <a:lnTo>
                  <a:pt x="1723" y="516"/>
                </a:lnTo>
                <a:lnTo>
                  <a:pt x="1723" y="516"/>
                </a:lnTo>
                <a:lnTo>
                  <a:pt x="1723" y="516"/>
                </a:lnTo>
                <a:lnTo>
                  <a:pt x="1723" y="514"/>
                </a:lnTo>
                <a:lnTo>
                  <a:pt x="1723" y="516"/>
                </a:lnTo>
                <a:lnTo>
                  <a:pt x="1723" y="516"/>
                </a:lnTo>
                <a:lnTo>
                  <a:pt x="1687" y="509"/>
                </a:lnTo>
                <a:lnTo>
                  <a:pt x="1655" y="501"/>
                </a:lnTo>
                <a:lnTo>
                  <a:pt x="1653" y="499"/>
                </a:lnTo>
                <a:lnTo>
                  <a:pt x="1653" y="499"/>
                </a:lnTo>
                <a:lnTo>
                  <a:pt x="1653" y="499"/>
                </a:lnTo>
                <a:lnTo>
                  <a:pt x="1637" y="488"/>
                </a:lnTo>
                <a:lnTo>
                  <a:pt x="1620" y="473"/>
                </a:lnTo>
                <a:lnTo>
                  <a:pt x="1586" y="445"/>
                </a:lnTo>
                <a:lnTo>
                  <a:pt x="1586" y="445"/>
                </a:lnTo>
                <a:lnTo>
                  <a:pt x="1586" y="443"/>
                </a:lnTo>
                <a:lnTo>
                  <a:pt x="1586" y="443"/>
                </a:lnTo>
                <a:lnTo>
                  <a:pt x="1584" y="428"/>
                </a:lnTo>
                <a:lnTo>
                  <a:pt x="1584" y="413"/>
                </a:lnTo>
                <a:lnTo>
                  <a:pt x="1586" y="400"/>
                </a:lnTo>
                <a:lnTo>
                  <a:pt x="1588" y="387"/>
                </a:lnTo>
                <a:lnTo>
                  <a:pt x="1588" y="385"/>
                </a:lnTo>
                <a:lnTo>
                  <a:pt x="1592" y="385"/>
                </a:lnTo>
                <a:lnTo>
                  <a:pt x="1592" y="385"/>
                </a:lnTo>
                <a:lnTo>
                  <a:pt x="1635" y="385"/>
                </a:lnTo>
                <a:lnTo>
                  <a:pt x="1683" y="383"/>
                </a:lnTo>
                <a:lnTo>
                  <a:pt x="1734" y="380"/>
                </a:lnTo>
                <a:lnTo>
                  <a:pt x="1758" y="376"/>
                </a:lnTo>
                <a:lnTo>
                  <a:pt x="1782" y="370"/>
                </a:lnTo>
                <a:lnTo>
                  <a:pt x="1782" y="370"/>
                </a:lnTo>
                <a:lnTo>
                  <a:pt x="1805" y="365"/>
                </a:lnTo>
                <a:lnTo>
                  <a:pt x="1824" y="357"/>
                </a:lnTo>
                <a:lnTo>
                  <a:pt x="1842" y="350"/>
                </a:lnTo>
                <a:lnTo>
                  <a:pt x="1857" y="340"/>
                </a:lnTo>
                <a:lnTo>
                  <a:pt x="1870" y="329"/>
                </a:lnTo>
                <a:lnTo>
                  <a:pt x="1878" y="316"/>
                </a:lnTo>
                <a:lnTo>
                  <a:pt x="1883" y="303"/>
                </a:lnTo>
                <a:lnTo>
                  <a:pt x="1885" y="295"/>
                </a:lnTo>
                <a:lnTo>
                  <a:pt x="1883" y="288"/>
                </a:lnTo>
                <a:lnTo>
                  <a:pt x="1883" y="288"/>
                </a:lnTo>
                <a:lnTo>
                  <a:pt x="1887" y="288"/>
                </a:lnTo>
                <a:lnTo>
                  <a:pt x="1883" y="288"/>
                </a:lnTo>
                <a:lnTo>
                  <a:pt x="1883" y="288"/>
                </a:lnTo>
                <a:lnTo>
                  <a:pt x="1883" y="279"/>
                </a:lnTo>
                <a:lnTo>
                  <a:pt x="1880" y="267"/>
                </a:lnTo>
                <a:lnTo>
                  <a:pt x="1876" y="260"/>
                </a:lnTo>
                <a:lnTo>
                  <a:pt x="1870" y="251"/>
                </a:lnTo>
                <a:lnTo>
                  <a:pt x="1865" y="243"/>
                </a:lnTo>
                <a:lnTo>
                  <a:pt x="1855" y="236"/>
                </a:lnTo>
                <a:lnTo>
                  <a:pt x="1837" y="223"/>
                </a:lnTo>
                <a:lnTo>
                  <a:pt x="1814" y="211"/>
                </a:lnTo>
                <a:lnTo>
                  <a:pt x="1788" y="200"/>
                </a:lnTo>
                <a:lnTo>
                  <a:pt x="1760" y="191"/>
                </a:lnTo>
                <a:lnTo>
                  <a:pt x="1728" y="183"/>
                </a:lnTo>
                <a:lnTo>
                  <a:pt x="1728" y="183"/>
                </a:lnTo>
                <a:lnTo>
                  <a:pt x="1661" y="166"/>
                </a:lnTo>
                <a:lnTo>
                  <a:pt x="1594" y="150"/>
                </a:lnTo>
                <a:lnTo>
                  <a:pt x="1560" y="140"/>
                </a:lnTo>
                <a:lnTo>
                  <a:pt x="1528" y="129"/>
                </a:lnTo>
                <a:lnTo>
                  <a:pt x="1498" y="116"/>
                </a:lnTo>
                <a:lnTo>
                  <a:pt x="1472" y="101"/>
                </a:lnTo>
                <a:lnTo>
                  <a:pt x="1472" y="101"/>
                </a:lnTo>
                <a:lnTo>
                  <a:pt x="1472" y="101"/>
                </a:lnTo>
                <a:lnTo>
                  <a:pt x="1429" y="79"/>
                </a:lnTo>
                <a:lnTo>
                  <a:pt x="1431" y="77"/>
                </a:lnTo>
                <a:lnTo>
                  <a:pt x="1429" y="79"/>
                </a:lnTo>
                <a:lnTo>
                  <a:pt x="1433" y="73"/>
                </a:lnTo>
                <a:lnTo>
                  <a:pt x="1433" y="73"/>
                </a:lnTo>
                <a:lnTo>
                  <a:pt x="1474" y="95"/>
                </a:lnTo>
                <a:lnTo>
                  <a:pt x="1474" y="99"/>
                </a:lnTo>
                <a:lnTo>
                  <a:pt x="1474" y="95"/>
                </a:lnTo>
                <a:lnTo>
                  <a:pt x="1474" y="95"/>
                </a:lnTo>
                <a:lnTo>
                  <a:pt x="1474" y="95"/>
                </a:lnTo>
                <a:lnTo>
                  <a:pt x="1474" y="95"/>
                </a:lnTo>
                <a:lnTo>
                  <a:pt x="1502" y="110"/>
                </a:lnTo>
                <a:lnTo>
                  <a:pt x="1532" y="123"/>
                </a:lnTo>
                <a:lnTo>
                  <a:pt x="1562" y="135"/>
                </a:lnTo>
                <a:lnTo>
                  <a:pt x="1595" y="144"/>
                </a:lnTo>
                <a:lnTo>
                  <a:pt x="1663" y="161"/>
                </a:lnTo>
                <a:lnTo>
                  <a:pt x="1730" y="178"/>
                </a:lnTo>
                <a:lnTo>
                  <a:pt x="1730" y="178"/>
                </a:lnTo>
                <a:lnTo>
                  <a:pt x="1760" y="185"/>
                </a:lnTo>
                <a:lnTo>
                  <a:pt x="1790" y="195"/>
                </a:lnTo>
                <a:lnTo>
                  <a:pt x="1816" y="206"/>
                </a:lnTo>
                <a:lnTo>
                  <a:pt x="1840" y="217"/>
                </a:lnTo>
                <a:lnTo>
                  <a:pt x="1859" y="232"/>
                </a:lnTo>
                <a:lnTo>
                  <a:pt x="1868" y="239"/>
                </a:lnTo>
                <a:lnTo>
                  <a:pt x="1876" y="247"/>
                </a:lnTo>
                <a:lnTo>
                  <a:pt x="1882" y="256"/>
                </a:lnTo>
                <a:lnTo>
                  <a:pt x="1885" y="266"/>
                </a:lnTo>
                <a:lnTo>
                  <a:pt x="1889" y="277"/>
                </a:lnTo>
                <a:lnTo>
                  <a:pt x="1891" y="288"/>
                </a:lnTo>
                <a:lnTo>
                  <a:pt x="1891" y="288"/>
                </a:lnTo>
                <a:lnTo>
                  <a:pt x="1891" y="288"/>
                </a:lnTo>
                <a:lnTo>
                  <a:pt x="1891" y="297"/>
                </a:lnTo>
                <a:lnTo>
                  <a:pt x="1889" y="305"/>
                </a:lnTo>
                <a:lnTo>
                  <a:pt x="1887" y="312"/>
                </a:lnTo>
                <a:lnTo>
                  <a:pt x="1883" y="320"/>
                </a:lnTo>
                <a:lnTo>
                  <a:pt x="1874" y="333"/>
                </a:lnTo>
                <a:lnTo>
                  <a:pt x="1861" y="344"/>
                </a:lnTo>
                <a:lnTo>
                  <a:pt x="1846" y="355"/>
                </a:lnTo>
                <a:lnTo>
                  <a:pt x="1827" y="363"/>
                </a:lnTo>
                <a:lnTo>
                  <a:pt x="1807" y="370"/>
                </a:lnTo>
                <a:lnTo>
                  <a:pt x="1784" y="376"/>
                </a:lnTo>
                <a:lnTo>
                  <a:pt x="1784" y="376"/>
                </a:lnTo>
                <a:lnTo>
                  <a:pt x="1760" y="381"/>
                </a:lnTo>
                <a:lnTo>
                  <a:pt x="1736" y="385"/>
                </a:lnTo>
                <a:lnTo>
                  <a:pt x="1685" y="391"/>
                </a:lnTo>
                <a:lnTo>
                  <a:pt x="1637" y="393"/>
                </a:lnTo>
                <a:lnTo>
                  <a:pt x="1594" y="391"/>
                </a:lnTo>
                <a:lnTo>
                  <a:pt x="1594" y="391"/>
                </a:lnTo>
                <a:lnTo>
                  <a:pt x="1592" y="402"/>
                </a:lnTo>
                <a:lnTo>
                  <a:pt x="1590" y="415"/>
                </a:lnTo>
                <a:lnTo>
                  <a:pt x="1592" y="441"/>
                </a:lnTo>
                <a:lnTo>
                  <a:pt x="1592" y="441"/>
                </a:lnTo>
                <a:lnTo>
                  <a:pt x="1623" y="469"/>
                </a:lnTo>
                <a:lnTo>
                  <a:pt x="1640" y="482"/>
                </a:lnTo>
                <a:lnTo>
                  <a:pt x="1657" y="496"/>
                </a:lnTo>
                <a:lnTo>
                  <a:pt x="1657" y="496"/>
                </a:lnTo>
                <a:lnTo>
                  <a:pt x="1689" y="503"/>
                </a:lnTo>
                <a:lnTo>
                  <a:pt x="1723" y="510"/>
                </a:lnTo>
                <a:lnTo>
                  <a:pt x="1723" y="510"/>
                </a:lnTo>
                <a:lnTo>
                  <a:pt x="1723" y="510"/>
                </a:lnTo>
                <a:lnTo>
                  <a:pt x="1790" y="522"/>
                </a:lnTo>
                <a:lnTo>
                  <a:pt x="1825" y="531"/>
                </a:lnTo>
                <a:lnTo>
                  <a:pt x="1859" y="540"/>
                </a:lnTo>
                <a:lnTo>
                  <a:pt x="1874" y="548"/>
                </a:lnTo>
                <a:lnTo>
                  <a:pt x="1889" y="553"/>
                </a:lnTo>
                <a:lnTo>
                  <a:pt x="1904" y="563"/>
                </a:lnTo>
                <a:lnTo>
                  <a:pt x="1915" y="572"/>
                </a:lnTo>
                <a:lnTo>
                  <a:pt x="1926" y="583"/>
                </a:lnTo>
                <a:lnTo>
                  <a:pt x="1936" y="595"/>
                </a:lnTo>
                <a:lnTo>
                  <a:pt x="1945" y="610"/>
                </a:lnTo>
                <a:lnTo>
                  <a:pt x="1951" y="625"/>
                </a:lnTo>
                <a:lnTo>
                  <a:pt x="1951" y="625"/>
                </a:lnTo>
                <a:lnTo>
                  <a:pt x="1962" y="677"/>
                </a:lnTo>
                <a:lnTo>
                  <a:pt x="1962" y="677"/>
                </a:lnTo>
                <a:lnTo>
                  <a:pt x="1956" y="675"/>
                </a:lnTo>
                <a:close/>
                <a:moveTo>
                  <a:pt x="1951" y="625"/>
                </a:moveTo>
                <a:lnTo>
                  <a:pt x="1951" y="625"/>
                </a:lnTo>
                <a:close/>
                <a:moveTo>
                  <a:pt x="1655" y="501"/>
                </a:moveTo>
                <a:lnTo>
                  <a:pt x="1655" y="497"/>
                </a:lnTo>
                <a:lnTo>
                  <a:pt x="1655" y="497"/>
                </a:lnTo>
                <a:lnTo>
                  <a:pt x="1655" y="501"/>
                </a:lnTo>
                <a:close/>
                <a:moveTo>
                  <a:pt x="1184" y="451"/>
                </a:moveTo>
                <a:lnTo>
                  <a:pt x="1184" y="451"/>
                </a:lnTo>
                <a:lnTo>
                  <a:pt x="1145" y="441"/>
                </a:lnTo>
                <a:lnTo>
                  <a:pt x="1145" y="441"/>
                </a:lnTo>
                <a:lnTo>
                  <a:pt x="1141" y="434"/>
                </a:lnTo>
                <a:lnTo>
                  <a:pt x="1141" y="434"/>
                </a:lnTo>
                <a:lnTo>
                  <a:pt x="1186" y="445"/>
                </a:lnTo>
                <a:lnTo>
                  <a:pt x="1186" y="447"/>
                </a:lnTo>
                <a:lnTo>
                  <a:pt x="1186" y="447"/>
                </a:lnTo>
                <a:lnTo>
                  <a:pt x="1186" y="445"/>
                </a:lnTo>
                <a:lnTo>
                  <a:pt x="1186" y="445"/>
                </a:lnTo>
                <a:lnTo>
                  <a:pt x="1186" y="445"/>
                </a:lnTo>
                <a:lnTo>
                  <a:pt x="1186" y="445"/>
                </a:lnTo>
                <a:lnTo>
                  <a:pt x="1203" y="449"/>
                </a:lnTo>
                <a:lnTo>
                  <a:pt x="1221" y="451"/>
                </a:lnTo>
                <a:lnTo>
                  <a:pt x="1238" y="453"/>
                </a:lnTo>
                <a:lnTo>
                  <a:pt x="1257" y="453"/>
                </a:lnTo>
                <a:lnTo>
                  <a:pt x="1257" y="453"/>
                </a:lnTo>
                <a:lnTo>
                  <a:pt x="1259" y="453"/>
                </a:lnTo>
                <a:lnTo>
                  <a:pt x="1259" y="453"/>
                </a:lnTo>
                <a:lnTo>
                  <a:pt x="1272" y="453"/>
                </a:lnTo>
                <a:lnTo>
                  <a:pt x="1285" y="451"/>
                </a:lnTo>
                <a:lnTo>
                  <a:pt x="1298" y="447"/>
                </a:lnTo>
                <a:lnTo>
                  <a:pt x="1309" y="443"/>
                </a:lnTo>
                <a:lnTo>
                  <a:pt x="1309" y="443"/>
                </a:lnTo>
                <a:lnTo>
                  <a:pt x="1322" y="438"/>
                </a:lnTo>
                <a:lnTo>
                  <a:pt x="1334" y="432"/>
                </a:lnTo>
                <a:lnTo>
                  <a:pt x="1343" y="423"/>
                </a:lnTo>
                <a:lnTo>
                  <a:pt x="1354" y="415"/>
                </a:lnTo>
                <a:lnTo>
                  <a:pt x="1354" y="415"/>
                </a:lnTo>
                <a:lnTo>
                  <a:pt x="1354" y="415"/>
                </a:lnTo>
                <a:lnTo>
                  <a:pt x="1369" y="396"/>
                </a:lnTo>
                <a:lnTo>
                  <a:pt x="1382" y="378"/>
                </a:lnTo>
                <a:lnTo>
                  <a:pt x="1392" y="359"/>
                </a:lnTo>
                <a:lnTo>
                  <a:pt x="1399" y="338"/>
                </a:lnTo>
                <a:lnTo>
                  <a:pt x="1403" y="316"/>
                </a:lnTo>
                <a:lnTo>
                  <a:pt x="1405" y="294"/>
                </a:lnTo>
                <a:lnTo>
                  <a:pt x="1403" y="271"/>
                </a:lnTo>
                <a:lnTo>
                  <a:pt x="1397" y="247"/>
                </a:lnTo>
                <a:lnTo>
                  <a:pt x="1397" y="247"/>
                </a:lnTo>
                <a:lnTo>
                  <a:pt x="1401" y="245"/>
                </a:lnTo>
                <a:lnTo>
                  <a:pt x="1401" y="245"/>
                </a:lnTo>
                <a:lnTo>
                  <a:pt x="1408" y="267"/>
                </a:lnTo>
                <a:lnTo>
                  <a:pt x="1410" y="292"/>
                </a:lnTo>
                <a:lnTo>
                  <a:pt x="1410" y="316"/>
                </a:lnTo>
                <a:lnTo>
                  <a:pt x="1405" y="338"/>
                </a:lnTo>
                <a:lnTo>
                  <a:pt x="1397" y="361"/>
                </a:lnTo>
                <a:lnTo>
                  <a:pt x="1386" y="381"/>
                </a:lnTo>
                <a:lnTo>
                  <a:pt x="1373" y="400"/>
                </a:lnTo>
                <a:lnTo>
                  <a:pt x="1358" y="419"/>
                </a:lnTo>
                <a:lnTo>
                  <a:pt x="1356" y="415"/>
                </a:lnTo>
                <a:lnTo>
                  <a:pt x="1356" y="417"/>
                </a:lnTo>
                <a:lnTo>
                  <a:pt x="1358" y="419"/>
                </a:lnTo>
                <a:lnTo>
                  <a:pt x="1358" y="419"/>
                </a:lnTo>
                <a:lnTo>
                  <a:pt x="1358" y="419"/>
                </a:lnTo>
                <a:lnTo>
                  <a:pt x="1347" y="428"/>
                </a:lnTo>
                <a:lnTo>
                  <a:pt x="1337" y="436"/>
                </a:lnTo>
                <a:lnTo>
                  <a:pt x="1324" y="443"/>
                </a:lnTo>
                <a:lnTo>
                  <a:pt x="1313" y="449"/>
                </a:lnTo>
                <a:lnTo>
                  <a:pt x="1313" y="449"/>
                </a:lnTo>
                <a:lnTo>
                  <a:pt x="1300" y="454"/>
                </a:lnTo>
                <a:lnTo>
                  <a:pt x="1287" y="456"/>
                </a:lnTo>
                <a:lnTo>
                  <a:pt x="1272" y="458"/>
                </a:lnTo>
                <a:lnTo>
                  <a:pt x="1257" y="458"/>
                </a:lnTo>
                <a:lnTo>
                  <a:pt x="1257" y="458"/>
                </a:lnTo>
                <a:lnTo>
                  <a:pt x="1244" y="458"/>
                </a:lnTo>
                <a:lnTo>
                  <a:pt x="1244" y="458"/>
                </a:lnTo>
                <a:lnTo>
                  <a:pt x="1229" y="458"/>
                </a:lnTo>
                <a:lnTo>
                  <a:pt x="1214" y="456"/>
                </a:lnTo>
                <a:lnTo>
                  <a:pt x="1184" y="451"/>
                </a:lnTo>
                <a:close/>
                <a:moveTo>
                  <a:pt x="1302" y="8"/>
                </a:moveTo>
                <a:lnTo>
                  <a:pt x="1302" y="8"/>
                </a:lnTo>
                <a:lnTo>
                  <a:pt x="1292" y="6"/>
                </a:lnTo>
                <a:lnTo>
                  <a:pt x="1281" y="8"/>
                </a:lnTo>
                <a:lnTo>
                  <a:pt x="1272" y="11"/>
                </a:lnTo>
                <a:lnTo>
                  <a:pt x="1263" y="19"/>
                </a:lnTo>
                <a:lnTo>
                  <a:pt x="1263" y="19"/>
                </a:lnTo>
                <a:lnTo>
                  <a:pt x="1255" y="28"/>
                </a:lnTo>
                <a:lnTo>
                  <a:pt x="1255" y="28"/>
                </a:lnTo>
                <a:lnTo>
                  <a:pt x="1249" y="26"/>
                </a:lnTo>
                <a:lnTo>
                  <a:pt x="1249" y="26"/>
                </a:lnTo>
                <a:lnTo>
                  <a:pt x="1257" y="15"/>
                </a:lnTo>
                <a:lnTo>
                  <a:pt x="1257" y="15"/>
                </a:lnTo>
                <a:lnTo>
                  <a:pt x="1257" y="15"/>
                </a:lnTo>
                <a:lnTo>
                  <a:pt x="1259" y="17"/>
                </a:lnTo>
                <a:lnTo>
                  <a:pt x="1259" y="17"/>
                </a:lnTo>
                <a:lnTo>
                  <a:pt x="1257" y="15"/>
                </a:lnTo>
                <a:lnTo>
                  <a:pt x="1257" y="15"/>
                </a:lnTo>
                <a:lnTo>
                  <a:pt x="1268" y="8"/>
                </a:lnTo>
                <a:lnTo>
                  <a:pt x="1279" y="2"/>
                </a:lnTo>
                <a:lnTo>
                  <a:pt x="1292" y="0"/>
                </a:lnTo>
                <a:lnTo>
                  <a:pt x="1304" y="2"/>
                </a:lnTo>
                <a:lnTo>
                  <a:pt x="1304" y="4"/>
                </a:lnTo>
                <a:lnTo>
                  <a:pt x="1304" y="4"/>
                </a:lnTo>
                <a:lnTo>
                  <a:pt x="1304" y="2"/>
                </a:lnTo>
                <a:lnTo>
                  <a:pt x="1306" y="2"/>
                </a:lnTo>
                <a:lnTo>
                  <a:pt x="1306" y="2"/>
                </a:lnTo>
                <a:lnTo>
                  <a:pt x="1306" y="2"/>
                </a:lnTo>
                <a:lnTo>
                  <a:pt x="1369" y="37"/>
                </a:lnTo>
                <a:lnTo>
                  <a:pt x="1433" y="73"/>
                </a:lnTo>
                <a:lnTo>
                  <a:pt x="1429" y="79"/>
                </a:lnTo>
                <a:lnTo>
                  <a:pt x="1429" y="79"/>
                </a:lnTo>
                <a:lnTo>
                  <a:pt x="1365" y="43"/>
                </a:lnTo>
                <a:lnTo>
                  <a:pt x="1302" y="8"/>
                </a:lnTo>
                <a:close/>
              </a:path>
            </a:pathLst>
          </a:custGeom>
          <a:solidFill>
            <a:srgbClr val="e699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45080" y="4238640"/>
            <a:ext cx="893520" cy="752400"/>
          </a:xfrm>
          <a:custGeom>
            <a:avLst/>
            <a:gdLst/>
            <a:ahLst/>
            <a:rect l="l" t="t" r="r" b="b"/>
            <a:pathLst>
              <a:path w="563" h="474">
                <a:moveTo>
                  <a:pt x="256" y="471"/>
                </a:moveTo>
                <a:lnTo>
                  <a:pt x="256" y="469"/>
                </a:lnTo>
                <a:lnTo>
                  <a:pt x="256" y="471"/>
                </a:lnTo>
                <a:lnTo>
                  <a:pt x="256" y="471"/>
                </a:lnTo>
                <a:lnTo>
                  <a:pt x="241" y="469"/>
                </a:lnTo>
                <a:lnTo>
                  <a:pt x="228" y="465"/>
                </a:lnTo>
                <a:lnTo>
                  <a:pt x="215" y="461"/>
                </a:lnTo>
                <a:lnTo>
                  <a:pt x="202" y="454"/>
                </a:lnTo>
                <a:lnTo>
                  <a:pt x="204" y="452"/>
                </a:lnTo>
                <a:lnTo>
                  <a:pt x="202" y="454"/>
                </a:lnTo>
                <a:lnTo>
                  <a:pt x="202" y="454"/>
                </a:lnTo>
                <a:lnTo>
                  <a:pt x="191" y="446"/>
                </a:lnTo>
                <a:lnTo>
                  <a:pt x="179" y="437"/>
                </a:lnTo>
                <a:lnTo>
                  <a:pt x="168" y="428"/>
                </a:lnTo>
                <a:lnTo>
                  <a:pt x="157" y="415"/>
                </a:lnTo>
                <a:lnTo>
                  <a:pt x="157" y="415"/>
                </a:lnTo>
                <a:lnTo>
                  <a:pt x="157" y="413"/>
                </a:lnTo>
                <a:lnTo>
                  <a:pt x="159" y="413"/>
                </a:lnTo>
                <a:lnTo>
                  <a:pt x="157" y="413"/>
                </a:lnTo>
                <a:lnTo>
                  <a:pt x="157" y="413"/>
                </a:lnTo>
                <a:lnTo>
                  <a:pt x="151" y="396"/>
                </a:lnTo>
                <a:lnTo>
                  <a:pt x="148" y="377"/>
                </a:lnTo>
                <a:lnTo>
                  <a:pt x="146" y="357"/>
                </a:lnTo>
                <a:lnTo>
                  <a:pt x="148" y="338"/>
                </a:lnTo>
                <a:lnTo>
                  <a:pt x="149" y="317"/>
                </a:lnTo>
                <a:lnTo>
                  <a:pt x="153" y="299"/>
                </a:lnTo>
                <a:lnTo>
                  <a:pt x="164" y="258"/>
                </a:lnTo>
                <a:lnTo>
                  <a:pt x="187" y="179"/>
                </a:lnTo>
                <a:lnTo>
                  <a:pt x="194" y="142"/>
                </a:lnTo>
                <a:lnTo>
                  <a:pt x="196" y="125"/>
                </a:lnTo>
                <a:lnTo>
                  <a:pt x="198" y="108"/>
                </a:lnTo>
                <a:lnTo>
                  <a:pt x="198" y="108"/>
                </a:lnTo>
                <a:lnTo>
                  <a:pt x="196" y="95"/>
                </a:lnTo>
                <a:lnTo>
                  <a:pt x="194" y="84"/>
                </a:lnTo>
                <a:lnTo>
                  <a:pt x="191" y="73"/>
                </a:lnTo>
                <a:lnTo>
                  <a:pt x="187" y="61"/>
                </a:lnTo>
                <a:lnTo>
                  <a:pt x="187" y="61"/>
                </a:lnTo>
                <a:lnTo>
                  <a:pt x="174" y="48"/>
                </a:lnTo>
                <a:lnTo>
                  <a:pt x="162" y="37"/>
                </a:lnTo>
                <a:lnTo>
                  <a:pt x="148" y="28"/>
                </a:lnTo>
                <a:lnTo>
                  <a:pt x="133" y="20"/>
                </a:lnTo>
                <a:lnTo>
                  <a:pt x="118" y="13"/>
                </a:lnTo>
                <a:lnTo>
                  <a:pt x="101" y="9"/>
                </a:lnTo>
                <a:lnTo>
                  <a:pt x="84" y="7"/>
                </a:lnTo>
                <a:lnTo>
                  <a:pt x="65" y="5"/>
                </a:lnTo>
                <a:lnTo>
                  <a:pt x="65" y="5"/>
                </a:lnTo>
                <a:lnTo>
                  <a:pt x="65" y="5"/>
                </a:lnTo>
                <a:lnTo>
                  <a:pt x="50" y="7"/>
                </a:lnTo>
                <a:lnTo>
                  <a:pt x="33" y="11"/>
                </a:lnTo>
                <a:lnTo>
                  <a:pt x="18" y="16"/>
                </a:lnTo>
                <a:lnTo>
                  <a:pt x="2" y="24"/>
                </a:lnTo>
                <a:lnTo>
                  <a:pt x="0" y="18"/>
                </a:lnTo>
                <a:lnTo>
                  <a:pt x="0" y="18"/>
                </a:lnTo>
                <a:lnTo>
                  <a:pt x="15" y="11"/>
                </a:lnTo>
                <a:lnTo>
                  <a:pt x="32" y="5"/>
                </a:lnTo>
                <a:lnTo>
                  <a:pt x="48" y="1"/>
                </a:lnTo>
                <a:lnTo>
                  <a:pt x="65" y="0"/>
                </a:lnTo>
                <a:lnTo>
                  <a:pt x="65" y="0"/>
                </a:lnTo>
                <a:lnTo>
                  <a:pt x="65" y="0"/>
                </a:lnTo>
                <a:lnTo>
                  <a:pt x="65" y="3"/>
                </a:lnTo>
                <a:lnTo>
                  <a:pt x="65" y="3"/>
                </a:lnTo>
                <a:lnTo>
                  <a:pt x="65" y="0"/>
                </a:lnTo>
                <a:lnTo>
                  <a:pt x="65" y="0"/>
                </a:lnTo>
                <a:lnTo>
                  <a:pt x="84" y="1"/>
                </a:lnTo>
                <a:lnTo>
                  <a:pt x="103" y="3"/>
                </a:lnTo>
                <a:lnTo>
                  <a:pt x="119" y="9"/>
                </a:lnTo>
                <a:lnTo>
                  <a:pt x="134" y="15"/>
                </a:lnTo>
                <a:lnTo>
                  <a:pt x="151" y="24"/>
                </a:lnTo>
                <a:lnTo>
                  <a:pt x="166" y="33"/>
                </a:lnTo>
                <a:lnTo>
                  <a:pt x="179" y="44"/>
                </a:lnTo>
                <a:lnTo>
                  <a:pt x="191" y="58"/>
                </a:lnTo>
                <a:lnTo>
                  <a:pt x="189" y="59"/>
                </a:lnTo>
                <a:lnTo>
                  <a:pt x="189" y="59"/>
                </a:lnTo>
                <a:lnTo>
                  <a:pt x="191" y="58"/>
                </a:lnTo>
                <a:lnTo>
                  <a:pt x="191" y="58"/>
                </a:lnTo>
                <a:lnTo>
                  <a:pt x="191" y="58"/>
                </a:lnTo>
                <a:lnTo>
                  <a:pt x="191" y="58"/>
                </a:lnTo>
                <a:lnTo>
                  <a:pt x="196" y="71"/>
                </a:lnTo>
                <a:lnTo>
                  <a:pt x="200" y="82"/>
                </a:lnTo>
                <a:lnTo>
                  <a:pt x="204" y="95"/>
                </a:lnTo>
                <a:lnTo>
                  <a:pt x="204" y="108"/>
                </a:lnTo>
                <a:lnTo>
                  <a:pt x="204" y="108"/>
                </a:lnTo>
                <a:lnTo>
                  <a:pt x="204" y="125"/>
                </a:lnTo>
                <a:lnTo>
                  <a:pt x="200" y="144"/>
                </a:lnTo>
                <a:lnTo>
                  <a:pt x="192" y="181"/>
                </a:lnTo>
                <a:lnTo>
                  <a:pt x="170" y="259"/>
                </a:lnTo>
                <a:lnTo>
                  <a:pt x="159" y="299"/>
                </a:lnTo>
                <a:lnTo>
                  <a:pt x="155" y="319"/>
                </a:lnTo>
                <a:lnTo>
                  <a:pt x="153" y="338"/>
                </a:lnTo>
                <a:lnTo>
                  <a:pt x="151" y="357"/>
                </a:lnTo>
                <a:lnTo>
                  <a:pt x="153" y="375"/>
                </a:lnTo>
                <a:lnTo>
                  <a:pt x="157" y="394"/>
                </a:lnTo>
                <a:lnTo>
                  <a:pt x="161" y="411"/>
                </a:lnTo>
                <a:lnTo>
                  <a:pt x="161" y="411"/>
                </a:lnTo>
                <a:lnTo>
                  <a:pt x="172" y="422"/>
                </a:lnTo>
                <a:lnTo>
                  <a:pt x="183" y="433"/>
                </a:lnTo>
                <a:lnTo>
                  <a:pt x="194" y="443"/>
                </a:lnTo>
                <a:lnTo>
                  <a:pt x="205" y="450"/>
                </a:lnTo>
                <a:lnTo>
                  <a:pt x="205" y="450"/>
                </a:lnTo>
                <a:lnTo>
                  <a:pt x="217" y="456"/>
                </a:lnTo>
                <a:lnTo>
                  <a:pt x="230" y="460"/>
                </a:lnTo>
                <a:lnTo>
                  <a:pt x="243" y="463"/>
                </a:lnTo>
                <a:lnTo>
                  <a:pt x="256" y="465"/>
                </a:lnTo>
                <a:lnTo>
                  <a:pt x="256" y="465"/>
                </a:lnTo>
                <a:lnTo>
                  <a:pt x="284" y="467"/>
                </a:lnTo>
                <a:lnTo>
                  <a:pt x="312" y="467"/>
                </a:lnTo>
                <a:lnTo>
                  <a:pt x="342" y="463"/>
                </a:lnTo>
                <a:lnTo>
                  <a:pt x="370" y="458"/>
                </a:lnTo>
                <a:lnTo>
                  <a:pt x="430" y="446"/>
                </a:lnTo>
                <a:lnTo>
                  <a:pt x="460" y="441"/>
                </a:lnTo>
                <a:lnTo>
                  <a:pt x="490" y="439"/>
                </a:lnTo>
                <a:lnTo>
                  <a:pt x="490" y="439"/>
                </a:lnTo>
                <a:lnTo>
                  <a:pt x="525" y="426"/>
                </a:lnTo>
                <a:lnTo>
                  <a:pt x="542" y="420"/>
                </a:lnTo>
                <a:lnTo>
                  <a:pt x="559" y="411"/>
                </a:lnTo>
                <a:lnTo>
                  <a:pt x="563" y="417"/>
                </a:lnTo>
                <a:lnTo>
                  <a:pt x="563" y="417"/>
                </a:lnTo>
                <a:lnTo>
                  <a:pt x="546" y="426"/>
                </a:lnTo>
                <a:lnTo>
                  <a:pt x="527" y="431"/>
                </a:lnTo>
                <a:lnTo>
                  <a:pt x="490" y="445"/>
                </a:lnTo>
                <a:lnTo>
                  <a:pt x="490" y="445"/>
                </a:lnTo>
                <a:lnTo>
                  <a:pt x="490" y="445"/>
                </a:lnTo>
                <a:lnTo>
                  <a:pt x="490" y="445"/>
                </a:lnTo>
                <a:lnTo>
                  <a:pt x="465" y="446"/>
                </a:lnTo>
                <a:lnTo>
                  <a:pt x="439" y="450"/>
                </a:lnTo>
                <a:lnTo>
                  <a:pt x="389" y="461"/>
                </a:lnTo>
                <a:lnTo>
                  <a:pt x="336" y="471"/>
                </a:lnTo>
                <a:lnTo>
                  <a:pt x="312" y="473"/>
                </a:lnTo>
                <a:lnTo>
                  <a:pt x="286" y="474"/>
                </a:lnTo>
                <a:lnTo>
                  <a:pt x="286" y="474"/>
                </a:lnTo>
                <a:lnTo>
                  <a:pt x="271" y="473"/>
                </a:lnTo>
                <a:lnTo>
                  <a:pt x="256" y="47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22680" y="493884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59360" y="4410000"/>
            <a:ext cx="2880" cy="180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32480" y="4424400"/>
            <a:ext cx="191880" cy="476280"/>
          </a:xfrm>
          <a:custGeom>
            <a:avLst/>
            <a:gdLst/>
            <a:ahLst/>
            <a:rect l="l" t="t" r="r" b="b"/>
            <a:pathLst>
              <a:path w="121" h="300">
                <a:moveTo>
                  <a:pt x="0" y="294"/>
                </a:moveTo>
                <a:lnTo>
                  <a:pt x="0" y="294"/>
                </a:lnTo>
                <a:lnTo>
                  <a:pt x="17" y="285"/>
                </a:lnTo>
                <a:lnTo>
                  <a:pt x="32" y="273"/>
                </a:lnTo>
                <a:lnTo>
                  <a:pt x="47" y="262"/>
                </a:lnTo>
                <a:lnTo>
                  <a:pt x="62" y="249"/>
                </a:lnTo>
                <a:lnTo>
                  <a:pt x="62" y="249"/>
                </a:lnTo>
                <a:lnTo>
                  <a:pt x="75" y="221"/>
                </a:lnTo>
                <a:lnTo>
                  <a:pt x="86" y="191"/>
                </a:lnTo>
                <a:lnTo>
                  <a:pt x="97" y="161"/>
                </a:lnTo>
                <a:lnTo>
                  <a:pt x="105" y="129"/>
                </a:lnTo>
                <a:lnTo>
                  <a:pt x="110" y="98"/>
                </a:lnTo>
                <a:lnTo>
                  <a:pt x="112" y="66"/>
                </a:lnTo>
                <a:lnTo>
                  <a:pt x="116" y="34"/>
                </a:lnTo>
                <a:lnTo>
                  <a:pt x="116" y="0"/>
                </a:lnTo>
                <a:lnTo>
                  <a:pt x="116" y="0"/>
                </a:lnTo>
                <a:lnTo>
                  <a:pt x="121" y="2"/>
                </a:lnTo>
                <a:lnTo>
                  <a:pt x="121" y="2"/>
                </a:lnTo>
                <a:lnTo>
                  <a:pt x="121" y="34"/>
                </a:lnTo>
                <a:lnTo>
                  <a:pt x="120" y="68"/>
                </a:lnTo>
                <a:lnTo>
                  <a:pt x="116" y="99"/>
                </a:lnTo>
                <a:lnTo>
                  <a:pt x="110" y="131"/>
                </a:lnTo>
                <a:lnTo>
                  <a:pt x="103" y="163"/>
                </a:lnTo>
                <a:lnTo>
                  <a:pt x="92" y="193"/>
                </a:lnTo>
                <a:lnTo>
                  <a:pt x="80" y="223"/>
                </a:lnTo>
                <a:lnTo>
                  <a:pt x="65" y="253"/>
                </a:lnTo>
                <a:lnTo>
                  <a:pt x="63" y="251"/>
                </a:lnTo>
                <a:lnTo>
                  <a:pt x="63" y="251"/>
                </a:lnTo>
                <a:lnTo>
                  <a:pt x="65" y="253"/>
                </a:lnTo>
                <a:lnTo>
                  <a:pt x="65" y="253"/>
                </a:lnTo>
                <a:lnTo>
                  <a:pt x="65" y="253"/>
                </a:lnTo>
                <a:lnTo>
                  <a:pt x="65" y="253"/>
                </a:lnTo>
                <a:lnTo>
                  <a:pt x="50" y="266"/>
                </a:lnTo>
                <a:lnTo>
                  <a:pt x="35" y="279"/>
                </a:lnTo>
                <a:lnTo>
                  <a:pt x="20" y="290"/>
                </a:lnTo>
                <a:lnTo>
                  <a:pt x="4" y="300"/>
                </a:lnTo>
                <a:lnTo>
                  <a:pt x="0" y="29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63920" y="4600440"/>
            <a:ext cx="461880" cy="76320"/>
          </a:xfrm>
          <a:custGeom>
            <a:avLst/>
            <a:gdLst/>
            <a:ahLst/>
            <a:rect l="l" t="t" r="r" b="b"/>
            <a:pathLst>
              <a:path w="291" h="48">
                <a:moveTo>
                  <a:pt x="20" y="18"/>
                </a:moveTo>
                <a:lnTo>
                  <a:pt x="20" y="18"/>
                </a:lnTo>
                <a:lnTo>
                  <a:pt x="0" y="0"/>
                </a:lnTo>
                <a:lnTo>
                  <a:pt x="0" y="0"/>
                </a:lnTo>
                <a:lnTo>
                  <a:pt x="16" y="11"/>
                </a:lnTo>
                <a:lnTo>
                  <a:pt x="16" y="11"/>
                </a:lnTo>
                <a:lnTo>
                  <a:pt x="37" y="20"/>
                </a:lnTo>
                <a:lnTo>
                  <a:pt x="59" y="30"/>
                </a:lnTo>
                <a:lnTo>
                  <a:pt x="82" y="37"/>
                </a:lnTo>
                <a:lnTo>
                  <a:pt x="106" y="41"/>
                </a:lnTo>
                <a:lnTo>
                  <a:pt x="130" y="43"/>
                </a:lnTo>
                <a:lnTo>
                  <a:pt x="158" y="41"/>
                </a:lnTo>
                <a:lnTo>
                  <a:pt x="187" y="37"/>
                </a:lnTo>
                <a:lnTo>
                  <a:pt x="216" y="30"/>
                </a:lnTo>
                <a:lnTo>
                  <a:pt x="216" y="30"/>
                </a:lnTo>
                <a:lnTo>
                  <a:pt x="216" y="30"/>
                </a:lnTo>
                <a:lnTo>
                  <a:pt x="216" y="30"/>
                </a:lnTo>
                <a:lnTo>
                  <a:pt x="254" y="22"/>
                </a:lnTo>
                <a:lnTo>
                  <a:pt x="289" y="11"/>
                </a:lnTo>
                <a:lnTo>
                  <a:pt x="291" y="17"/>
                </a:lnTo>
                <a:lnTo>
                  <a:pt x="291" y="17"/>
                </a:lnTo>
                <a:lnTo>
                  <a:pt x="254" y="28"/>
                </a:lnTo>
                <a:lnTo>
                  <a:pt x="218" y="35"/>
                </a:lnTo>
                <a:lnTo>
                  <a:pt x="218" y="35"/>
                </a:lnTo>
                <a:lnTo>
                  <a:pt x="196" y="41"/>
                </a:lnTo>
                <a:lnTo>
                  <a:pt x="173" y="45"/>
                </a:lnTo>
                <a:lnTo>
                  <a:pt x="155" y="46"/>
                </a:lnTo>
                <a:lnTo>
                  <a:pt x="134" y="48"/>
                </a:lnTo>
                <a:lnTo>
                  <a:pt x="134" y="48"/>
                </a:lnTo>
                <a:lnTo>
                  <a:pt x="102" y="46"/>
                </a:lnTo>
                <a:lnTo>
                  <a:pt x="74" y="41"/>
                </a:lnTo>
                <a:lnTo>
                  <a:pt x="46" y="31"/>
                </a:lnTo>
                <a:lnTo>
                  <a:pt x="20" y="1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06640" y="4648320"/>
            <a:ext cx="180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3"/>
                </a:ln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87680" y="461808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0"/>
                </a:lnTo>
                <a:lnTo>
                  <a:pt x="0" y="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89120" y="46180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22560" y="4516560"/>
            <a:ext cx="292320" cy="110880"/>
          </a:xfrm>
          <a:custGeom>
            <a:avLst/>
            <a:gdLst/>
            <a:ahLst/>
            <a:rect l="l" t="t" r="r" b="b"/>
            <a:pathLst>
              <a:path w="184" h="70">
                <a:moveTo>
                  <a:pt x="0" y="64"/>
                </a:moveTo>
                <a:lnTo>
                  <a:pt x="0" y="64"/>
                </a:lnTo>
                <a:lnTo>
                  <a:pt x="36" y="51"/>
                </a:lnTo>
                <a:lnTo>
                  <a:pt x="71" y="38"/>
                </a:lnTo>
                <a:lnTo>
                  <a:pt x="141" y="12"/>
                </a:lnTo>
                <a:lnTo>
                  <a:pt x="141" y="12"/>
                </a:lnTo>
                <a:lnTo>
                  <a:pt x="141" y="12"/>
                </a:lnTo>
                <a:lnTo>
                  <a:pt x="141" y="12"/>
                </a:lnTo>
                <a:lnTo>
                  <a:pt x="180" y="0"/>
                </a:lnTo>
                <a:lnTo>
                  <a:pt x="180" y="0"/>
                </a:lnTo>
                <a:lnTo>
                  <a:pt x="184" y="6"/>
                </a:lnTo>
                <a:lnTo>
                  <a:pt x="184" y="6"/>
                </a:lnTo>
                <a:lnTo>
                  <a:pt x="143" y="17"/>
                </a:lnTo>
                <a:lnTo>
                  <a:pt x="143" y="17"/>
                </a:lnTo>
                <a:lnTo>
                  <a:pt x="143" y="17"/>
                </a:lnTo>
                <a:lnTo>
                  <a:pt x="73" y="43"/>
                </a:lnTo>
                <a:lnTo>
                  <a:pt x="38" y="56"/>
                </a:lnTo>
                <a:lnTo>
                  <a:pt x="2" y="70"/>
                </a:lnTo>
                <a:lnTo>
                  <a:pt x="0" y="6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14760" y="4267080"/>
            <a:ext cx="133200" cy="88920"/>
          </a:xfrm>
          <a:custGeom>
            <a:avLst/>
            <a:gdLst/>
            <a:ahLst/>
            <a:rect l="l" t="t" r="r" b="b"/>
            <a:pathLst>
              <a:path w="84" h="56">
                <a:moveTo>
                  <a:pt x="0" y="49"/>
                </a:moveTo>
                <a:lnTo>
                  <a:pt x="0" y="49"/>
                </a:lnTo>
                <a:lnTo>
                  <a:pt x="41" y="23"/>
                </a:lnTo>
                <a:lnTo>
                  <a:pt x="61" y="10"/>
                </a:lnTo>
                <a:lnTo>
                  <a:pt x="82" y="0"/>
                </a:lnTo>
                <a:lnTo>
                  <a:pt x="84" y="6"/>
                </a:lnTo>
                <a:lnTo>
                  <a:pt x="84" y="6"/>
                </a:lnTo>
                <a:lnTo>
                  <a:pt x="63" y="17"/>
                </a:lnTo>
                <a:lnTo>
                  <a:pt x="41" y="28"/>
                </a:lnTo>
                <a:lnTo>
                  <a:pt x="0" y="56"/>
                </a:lnTo>
                <a:lnTo>
                  <a:pt x="0" y="56"/>
                </a:lnTo>
                <a:lnTo>
                  <a:pt x="0" y="4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54200" y="3416400"/>
            <a:ext cx="636480" cy="901440"/>
          </a:xfrm>
          <a:custGeom>
            <a:avLst/>
            <a:gdLst/>
            <a:ahLst/>
            <a:rect l="l" t="t" r="r" b="b"/>
            <a:pathLst>
              <a:path w="401" h="568">
                <a:moveTo>
                  <a:pt x="270" y="476"/>
                </a:moveTo>
                <a:lnTo>
                  <a:pt x="271" y="475"/>
                </a:lnTo>
                <a:lnTo>
                  <a:pt x="270" y="476"/>
                </a:lnTo>
                <a:lnTo>
                  <a:pt x="270" y="476"/>
                </a:lnTo>
                <a:lnTo>
                  <a:pt x="245" y="465"/>
                </a:lnTo>
                <a:lnTo>
                  <a:pt x="245" y="465"/>
                </a:lnTo>
                <a:lnTo>
                  <a:pt x="212" y="454"/>
                </a:lnTo>
                <a:lnTo>
                  <a:pt x="212" y="454"/>
                </a:lnTo>
                <a:lnTo>
                  <a:pt x="185" y="447"/>
                </a:lnTo>
                <a:lnTo>
                  <a:pt x="159" y="441"/>
                </a:lnTo>
                <a:lnTo>
                  <a:pt x="159" y="441"/>
                </a:lnTo>
                <a:lnTo>
                  <a:pt x="159" y="443"/>
                </a:lnTo>
                <a:lnTo>
                  <a:pt x="159" y="443"/>
                </a:lnTo>
                <a:lnTo>
                  <a:pt x="159" y="441"/>
                </a:lnTo>
                <a:lnTo>
                  <a:pt x="159" y="441"/>
                </a:lnTo>
                <a:lnTo>
                  <a:pt x="150" y="441"/>
                </a:lnTo>
                <a:lnTo>
                  <a:pt x="150" y="441"/>
                </a:lnTo>
                <a:lnTo>
                  <a:pt x="144" y="441"/>
                </a:lnTo>
                <a:lnTo>
                  <a:pt x="144" y="441"/>
                </a:lnTo>
                <a:lnTo>
                  <a:pt x="144" y="441"/>
                </a:lnTo>
                <a:lnTo>
                  <a:pt x="144" y="437"/>
                </a:lnTo>
                <a:lnTo>
                  <a:pt x="144" y="437"/>
                </a:lnTo>
                <a:lnTo>
                  <a:pt x="144" y="441"/>
                </a:lnTo>
                <a:lnTo>
                  <a:pt x="144" y="441"/>
                </a:lnTo>
                <a:lnTo>
                  <a:pt x="126" y="435"/>
                </a:lnTo>
                <a:lnTo>
                  <a:pt x="111" y="428"/>
                </a:lnTo>
                <a:lnTo>
                  <a:pt x="96" y="419"/>
                </a:lnTo>
                <a:lnTo>
                  <a:pt x="85" y="409"/>
                </a:lnTo>
                <a:lnTo>
                  <a:pt x="83" y="409"/>
                </a:lnTo>
                <a:lnTo>
                  <a:pt x="83" y="409"/>
                </a:lnTo>
                <a:lnTo>
                  <a:pt x="86" y="407"/>
                </a:lnTo>
                <a:lnTo>
                  <a:pt x="86" y="407"/>
                </a:lnTo>
                <a:lnTo>
                  <a:pt x="83" y="409"/>
                </a:lnTo>
                <a:lnTo>
                  <a:pt x="83" y="409"/>
                </a:lnTo>
                <a:lnTo>
                  <a:pt x="68" y="389"/>
                </a:lnTo>
                <a:lnTo>
                  <a:pt x="53" y="366"/>
                </a:lnTo>
                <a:lnTo>
                  <a:pt x="40" y="344"/>
                </a:lnTo>
                <a:lnTo>
                  <a:pt x="28" y="319"/>
                </a:lnTo>
                <a:lnTo>
                  <a:pt x="19" y="293"/>
                </a:lnTo>
                <a:lnTo>
                  <a:pt x="12" y="269"/>
                </a:lnTo>
                <a:lnTo>
                  <a:pt x="6" y="241"/>
                </a:lnTo>
                <a:lnTo>
                  <a:pt x="2" y="215"/>
                </a:lnTo>
                <a:lnTo>
                  <a:pt x="0" y="189"/>
                </a:lnTo>
                <a:lnTo>
                  <a:pt x="2" y="161"/>
                </a:lnTo>
                <a:lnTo>
                  <a:pt x="4" y="134"/>
                </a:lnTo>
                <a:lnTo>
                  <a:pt x="10" y="108"/>
                </a:lnTo>
                <a:lnTo>
                  <a:pt x="17" y="82"/>
                </a:lnTo>
                <a:lnTo>
                  <a:pt x="27" y="58"/>
                </a:lnTo>
                <a:lnTo>
                  <a:pt x="38" y="33"/>
                </a:lnTo>
                <a:lnTo>
                  <a:pt x="53" y="9"/>
                </a:lnTo>
                <a:lnTo>
                  <a:pt x="53" y="9"/>
                </a:lnTo>
                <a:lnTo>
                  <a:pt x="53" y="9"/>
                </a:lnTo>
                <a:lnTo>
                  <a:pt x="53" y="9"/>
                </a:lnTo>
                <a:lnTo>
                  <a:pt x="58" y="2"/>
                </a:lnTo>
                <a:lnTo>
                  <a:pt x="58" y="2"/>
                </a:lnTo>
                <a:lnTo>
                  <a:pt x="68" y="0"/>
                </a:lnTo>
                <a:lnTo>
                  <a:pt x="68" y="0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43" y="35"/>
                </a:lnTo>
                <a:lnTo>
                  <a:pt x="32" y="60"/>
                </a:lnTo>
                <a:lnTo>
                  <a:pt x="23" y="84"/>
                </a:lnTo>
                <a:lnTo>
                  <a:pt x="15" y="110"/>
                </a:lnTo>
                <a:lnTo>
                  <a:pt x="10" y="134"/>
                </a:lnTo>
                <a:lnTo>
                  <a:pt x="8" y="161"/>
                </a:lnTo>
                <a:lnTo>
                  <a:pt x="6" y="189"/>
                </a:lnTo>
                <a:lnTo>
                  <a:pt x="8" y="215"/>
                </a:lnTo>
                <a:lnTo>
                  <a:pt x="12" y="241"/>
                </a:lnTo>
                <a:lnTo>
                  <a:pt x="17" y="267"/>
                </a:lnTo>
                <a:lnTo>
                  <a:pt x="25" y="291"/>
                </a:lnTo>
                <a:lnTo>
                  <a:pt x="34" y="318"/>
                </a:lnTo>
                <a:lnTo>
                  <a:pt x="45" y="340"/>
                </a:lnTo>
                <a:lnTo>
                  <a:pt x="56" y="364"/>
                </a:lnTo>
                <a:lnTo>
                  <a:pt x="71" y="385"/>
                </a:lnTo>
                <a:lnTo>
                  <a:pt x="88" y="405"/>
                </a:lnTo>
                <a:lnTo>
                  <a:pt x="88" y="405"/>
                </a:lnTo>
                <a:lnTo>
                  <a:pt x="99" y="415"/>
                </a:lnTo>
                <a:lnTo>
                  <a:pt x="113" y="422"/>
                </a:lnTo>
                <a:lnTo>
                  <a:pt x="128" y="430"/>
                </a:lnTo>
                <a:lnTo>
                  <a:pt x="144" y="433"/>
                </a:lnTo>
                <a:lnTo>
                  <a:pt x="144" y="433"/>
                </a:lnTo>
                <a:lnTo>
                  <a:pt x="180" y="439"/>
                </a:lnTo>
                <a:lnTo>
                  <a:pt x="214" y="448"/>
                </a:lnTo>
                <a:lnTo>
                  <a:pt x="243" y="460"/>
                </a:lnTo>
                <a:lnTo>
                  <a:pt x="273" y="471"/>
                </a:lnTo>
                <a:lnTo>
                  <a:pt x="273" y="471"/>
                </a:lnTo>
                <a:lnTo>
                  <a:pt x="309" y="491"/>
                </a:lnTo>
                <a:lnTo>
                  <a:pt x="341" y="516"/>
                </a:lnTo>
                <a:lnTo>
                  <a:pt x="372" y="540"/>
                </a:lnTo>
                <a:lnTo>
                  <a:pt x="401" y="568"/>
                </a:lnTo>
                <a:lnTo>
                  <a:pt x="401" y="568"/>
                </a:lnTo>
                <a:lnTo>
                  <a:pt x="371" y="542"/>
                </a:lnTo>
                <a:lnTo>
                  <a:pt x="339" y="518"/>
                </a:lnTo>
                <a:lnTo>
                  <a:pt x="305" y="495"/>
                </a:lnTo>
                <a:lnTo>
                  <a:pt x="270" y="47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38440" y="343044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2" y="2"/>
                </a:lnTo>
                <a:lnTo>
                  <a:pt x="0" y="0"/>
                </a:lnTo>
                <a:lnTo>
                  <a:pt x="2" y="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22560" y="3068640"/>
            <a:ext cx="846360" cy="958680"/>
          </a:xfrm>
          <a:custGeom>
            <a:avLst/>
            <a:gdLst/>
            <a:ahLst/>
            <a:rect l="l" t="t" r="r" b="b"/>
            <a:pathLst>
              <a:path w="533" h="604">
                <a:moveTo>
                  <a:pt x="527" y="602"/>
                </a:moveTo>
                <a:lnTo>
                  <a:pt x="527" y="602"/>
                </a:lnTo>
                <a:lnTo>
                  <a:pt x="514" y="552"/>
                </a:lnTo>
                <a:lnTo>
                  <a:pt x="514" y="552"/>
                </a:lnTo>
                <a:lnTo>
                  <a:pt x="514" y="552"/>
                </a:lnTo>
                <a:lnTo>
                  <a:pt x="510" y="538"/>
                </a:lnTo>
                <a:lnTo>
                  <a:pt x="503" y="525"/>
                </a:lnTo>
                <a:lnTo>
                  <a:pt x="494" y="514"/>
                </a:lnTo>
                <a:lnTo>
                  <a:pt x="482" y="503"/>
                </a:lnTo>
                <a:lnTo>
                  <a:pt x="471" y="495"/>
                </a:lnTo>
                <a:lnTo>
                  <a:pt x="458" y="486"/>
                </a:lnTo>
                <a:lnTo>
                  <a:pt x="443" y="479"/>
                </a:lnTo>
                <a:lnTo>
                  <a:pt x="426" y="473"/>
                </a:lnTo>
                <a:lnTo>
                  <a:pt x="395" y="464"/>
                </a:lnTo>
                <a:lnTo>
                  <a:pt x="359" y="454"/>
                </a:lnTo>
                <a:lnTo>
                  <a:pt x="294" y="443"/>
                </a:lnTo>
                <a:lnTo>
                  <a:pt x="294" y="443"/>
                </a:lnTo>
                <a:lnTo>
                  <a:pt x="294" y="443"/>
                </a:lnTo>
                <a:lnTo>
                  <a:pt x="294" y="441"/>
                </a:lnTo>
                <a:lnTo>
                  <a:pt x="294" y="443"/>
                </a:lnTo>
                <a:lnTo>
                  <a:pt x="294" y="443"/>
                </a:lnTo>
                <a:lnTo>
                  <a:pt x="258" y="436"/>
                </a:lnTo>
                <a:lnTo>
                  <a:pt x="226" y="428"/>
                </a:lnTo>
                <a:lnTo>
                  <a:pt x="224" y="426"/>
                </a:lnTo>
                <a:lnTo>
                  <a:pt x="224" y="426"/>
                </a:lnTo>
                <a:lnTo>
                  <a:pt x="224" y="426"/>
                </a:lnTo>
                <a:lnTo>
                  <a:pt x="208" y="415"/>
                </a:lnTo>
                <a:lnTo>
                  <a:pt x="191" y="400"/>
                </a:lnTo>
                <a:lnTo>
                  <a:pt x="157" y="372"/>
                </a:lnTo>
                <a:lnTo>
                  <a:pt x="157" y="372"/>
                </a:lnTo>
                <a:lnTo>
                  <a:pt x="157" y="370"/>
                </a:lnTo>
                <a:lnTo>
                  <a:pt x="157" y="370"/>
                </a:lnTo>
                <a:lnTo>
                  <a:pt x="155" y="355"/>
                </a:lnTo>
                <a:lnTo>
                  <a:pt x="155" y="340"/>
                </a:lnTo>
                <a:lnTo>
                  <a:pt x="157" y="327"/>
                </a:lnTo>
                <a:lnTo>
                  <a:pt x="159" y="314"/>
                </a:lnTo>
                <a:lnTo>
                  <a:pt x="159" y="312"/>
                </a:lnTo>
                <a:lnTo>
                  <a:pt x="163" y="312"/>
                </a:lnTo>
                <a:lnTo>
                  <a:pt x="163" y="312"/>
                </a:lnTo>
                <a:lnTo>
                  <a:pt x="206" y="312"/>
                </a:lnTo>
                <a:lnTo>
                  <a:pt x="254" y="310"/>
                </a:lnTo>
                <a:lnTo>
                  <a:pt x="305" y="307"/>
                </a:lnTo>
                <a:lnTo>
                  <a:pt x="329" y="303"/>
                </a:lnTo>
                <a:lnTo>
                  <a:pt x="353" y="297"/>
                </a:lnTo>
                <a:lnTo>
                  <a:pt x="353" y="297"/>
                </a:lnTo>
                <a:lnTo>
                  <a:pt x="376" y="292"/>
                </a:lnTo>
                <a:lnTo>
                  <a:pt x="395" y="284"/>
                </a:lnTo>
                <a:lnTo>
                  <a:pt x="413" y="277"/>
                </a:lnTo>
                <a:lnTo>
                  <a:pt x="428" y="267"/>
                </a:lnTo>
                <a:lnTo>
                  <a:pt x="441" y="256"/>
                </a:lnTo>
                <a:lnTo>
                  <a:pt x="449" y="243"/>
                </a:lnTo>
                <a:lnTo>
                  <a:pt x="454" y="230"/>
                </a:lnTo>
                <a:lnTo>
                  <a:pt x="456" y="222"/>
                </a:lnTo>
                <a:lnTo>
                  <a:pt x="454" y="215"/>
                </a:lnTo>
                <a:lnTo>
                  <a:pt x="454" y="215"/>
                </a:lnTo>
                <a:lnTo>
                  <a:pt x="458" y="215"/>
                </a:lnTo>
                <a:lnTo>
                  <a:pt x="454" y="215"/>
                </a:lnTo>
                <a:lnTo>
                  <a:pt x="454" y="215"/>
                </a:lnTo>
                <a:lnTo>
                  <a:pt x="454" y="206"/>
                </a:lnTo>
                <a:lnTo>
                  <a:pt x="451" y="194"/>
                </a:lnTo>
                <a:lnTo>
                  <a:pt x="447" y="187"/>
                </a:lnTo>
                <a:lnTo>
                  <a:pt x="441" y="178"/>
                </a:lnTo>
                <a:lnTo>
                  <a:pt x="436" y="170"/>
                </a:lnTo>
                <a:lnTo>
                  <a:pt x="426" y="163"/>
                </a:lnTo>
                <a:lnTo>
                  <a:pt x="408" y="150"/>
                </a:lnTo>
                <a:lnTo>
                  <a:pt x="385" y="138"/>
                </a:lnTo>
                <a:lnTo>
                  <a:pt x="359" y="127"/>
                </a:lnTo>
                <a:lnTo>
                  <a:pt x="331" y="118"/>
                </a:lnTo>
                <a:lnTo>
                  <a:pt x="299" y="110"/>
                </a:lnTo>
                <a:lnTo>
                  <a:pt x="299" y="110"/>
                </a:lnTo>
                <a:lnTo>
                  <a:pt x="232" y="93"/>
                </a:lnTo>
                <a:lnTo>
                  <a:pt x="165" y="77"/>
                </a:lnTo>
                <a:lnTo>
                  <a:pt x="131" y="67"/>
                </a:lnTo>
                <a:lnTo>
                  <a:pt x="99" y="56"/>
                </a:lnTo>
                <a:lnTo>
                  <a:pt x="69" y="43"/>
                </a:lnTo>
                <a:lnTo>
                  <a:pt x="43" y="28"/>
                </a:lnTo>
                <a:lnTo>
                  <a:pt x="43" y="28"/>
                </a:lnTo>
                <a:lnTo>
                  <a:pt x="43" y="28"/>
                </a:lnTo>
                <a:lnTo>
                  <a:pt x="0" y="6"/>
                </a:lnTo>
                <a:lnTo>
                  <a:pt x="2" y="4"/>
                </a:lnTo>
                <a:lnTo>
                  <a:pt x="0" y="6"/>
                </a:lnTo>
                <a:lnTo>
                  <a:pt x="4" y="0"/>
                </a:lnTo>
                <a:lnTo>
                  <a:pt x="4" y="0"/>
                </a:lnTo>
                <a:lnTo>
                  <a:pt x="45" y="22"/>
                </a:lnTo>
                <a:lnTo>
                  <a:pt x="45" y="26"/>
                </a:lnTo>
                <a:lnTo>
                  <a:pt x="45" y="22"/>
                </a:lnTo>
                <a:lnTo>
                  <a:pt x="45" y="22"/>
                </a:lnTo>
                <a:lnTo>
                  <a:pt x="45" y="22"/>
                </a:lnTo>
                <a:lnTo>
                  <a:pt x="45" y="22"/>
                </a:lnTo>
                <a:lnTo>
                  <a:pt x="73" y="37"/>
                </a:lnTo>
                <a:lnTo>
                  <a:pt x="103" y="50"/>
                </a:lnTo>
                <a:lnTo>
                  <a:pt x="133" y="62"/>
                </a:lnTo>
                <a:lnTo>
                  <a:pt x="166" y="71"/>
                </a:lnTo>
                <a:lnTo>
                  <a:pt x="234" y="88"/>
                </a:lnTo>
                <a:lnTo>
                  <a:pt x="301" y="105"/>
                </a:lnTo>
                <a:lnTo>
                  <a:pt x="301" y="105"/>
                </a:lnTo>
                <a:lnTo>
                  <a:pt x="331" y="112"/>
                </a:lnTo>
                <a:lnTo>
                  <a:pt x="361" y="122"/>
                </a:lnTo>
                <a:lnTo>
                  <a:pt x="387" y="133"/>
                </a:lnTo>
                <a:lnTo>
                  <a:pt x="411" y="144"/>
                </a:lnTo>
                <a:lnTo>
                  <a:pt x="430" y="159"/>
                </a:lnTo>
                <a:lnTo>
                  <a:pt x="439" y="166"/>
                </a:lnTo>
                <a:lnTo>
                  <a:pt x="447" y="174"/>
                </a:lnTo>
                <a:lnTo>
                  <a:pt x="453" y="183"/>
                </a:lnTo>
                <a:lnTo>
                  <a:pt x="456" y="193"/>
                </a:lnTo>
                <a:lnTo>
                  <a:pt x="460" y="204"/>
                </a:lnTo>
                <a:lnTo>
                  <a:pt x="462" y="215"/>
                </a:lnTo>
                <a:lnTo>
                  <a:pt x="462" y="215"/>
                </a:lnTo>
                <a:lnTo>
                  <a:pt x="462" y="215"/>
                </a:lnTo>
                <a:lnTo>
                  <a:pt x="462" y="224"/>
                </a:lnTo>
                <a:lnTo>
                  <a:pt x="460" y="232"/>
                </a:lnTo>
                <a:lnTo>
                  <a:pt x="458" y="239"/>
                </a:lnTo>
                <a:lnTo>
                  <a:pt x="454" y="247"/>
                </a:lnTo>
                <a:lnTo>
                  <a:pt x="445" y="260"/>
                </a:lnTo>
                <a:lnTo>
                  <a:pt x="432" y="271"/>
                </a:lnTo>
                <a:lnTo>
                  <a:pt x="417" y="282"/>
                </a:lnTo>
                <a:lnTo>
                  <a:pt x="398" y="290"/>
                </a:lnTo>
                <a:lnTo>
                  <a:pt x="378" y="297"/>
                </a:lnTo>
                <a:lnTo>
                  <a:pt x="355" y="303"/>
                </a:lnTo>
                <a:lnTo>
                  <a:pt x="355" y="303"/>
                </a:lnTo>
                <a:lnTo>
                  <a:pt x="331" y="308"/>
                </a:lnTo>
                <a:lnTo>
                  <a:pt x="307" y="312"/>
                </a:lnTo>
                <a:lnTo>
                  <a:pt x="256" y="318"/>
                </a:lnTo>
                <a:lnTo>
                  <a:pt x="208" y="320"/>
                </a:lnTo>
                <a:lnTo>
                  <a:pt x="165" y="318"/>
                </a:lnTo>
                <a:lnTo>
                  <a:pt x="165" y="318"/>
                </a:lnTo>
                <a:lnTo>
                  <a:pt x="163" y="329"/>
                </a:lnTo>
                <a:lnTo>
                  <a:pt x="161" y="342"/>
                </a:lnTo>
                <a:lnTo>
                  <a:pt x="163" y="368"/>
                </a:lnTo>
                <a:lnTo>
                  <a:pt x="163" y="368"/>
                </a:lnTo>
                <a:lnTo>
                  <a:pt x="194" y="396"/>
                </a:lnTo>
                <a:lnTo>
                  <a:pt x="211" y="409"/>
                </a:lnTo>
                <a:lnTo>
                  <a:pt x="228" y="423"/>
                </a:lnTo>
                <a:lnTo>
                  <a:pt x="228" y="423"/>
                </a:lnTo>
                <a:lnTo>
                  <a:pt x="260" y="430"/>
                </a:lnTo>
                <a:lnTo>
                  <a:pt x="294" y="437"/>
                </a:lnTo>
                <a:lnTo>
                  <a:pt x="294" y="437"/>
                </a:lnTo>
                <a:lnTo>
                  <a:pt x="294" y="437"/>
                </a:lnTo>
                <a:lnTo>
                  <a:pt x="361" y="449"/>
                </a:lnTo>
                <a:lnTo>
                  <a:pt x="396" y="458"/>
                </a:lnTo>
                <a:lnTo>
                  <a:pt x="430" y="467"/>
                </a:lnTo>
                <a:lnTo>
                  <a:pt x="445" y="475"/>
                </a:lnTo>
                <a:lnTo>
                  <a:pt x="460" y="480"/>
                </a:lnTo>
                <a:lnTo>
                  <a:pt x="475" y="490"/>
                </a:lnTo>
                <a:lnTo>
                  <a:pt x="486" y="499"/>
                </a:lnTo>
                <a:lnTo>
                  <a:pt x="497" y="510"/>
                </a:lnTo>
                <a:lnTo>
                  <a:pt x="507" y="522"/>
                </a:lnTo>
                <a:lnTo>
                  <a:pt x="516" y="537"/>
                </a:lnTo>
                <a:lnTo>
                  <a:pt x="522" y="552"/>
                </a:lnTo>
                <a:lnTo>
                  <a:pt x="522" y="552"/>
                </a:lnTo>
                <a:lnTo>
                  <a:pt x="533" y="604"/>
                </a:lnTo>
                <a:lnTo>
                  <a:pt x="533" y="604"/>
                </a:lnTo>
                <a:lnTo>
                  <a:pt x="527" y="60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51280" y="394488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81480" y="3741840"/>
            <a:ext cx="144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65360" y="3341520"/>
            <a:ext cx="427320" cy="338400"/>
          </a:xfrm>
          <a:custGeom>
            <a:avLst/>
            <a:gdLst/>
            <a:ahLst/>
            <a:rect l="l" t="t" r="r" b="b"/>
            <a:pathLst>
              <a:path w="269" h="213">
                <a:moveTo>
                  <a:pt x="43" y="206"/>
                </a:moveTo>
                <a:lnTo>
                  <a:pt x="43" y="206"/>
                </a:lnTo>
                <a:lnTo>
                  <a:pt x="4" y="196"/>
                </a:lnTo>
                <a:lnTo>
                  <a:pt x="4" y="196"/>
                </a:lnTo>
                <a:lnTo>
                  <a:pt x="0" y="189"/>
                </a:lnTo>
                <a:lnTo>
                  <a:pt x="0" y="189"/>
                </a:lnTo>
                <a:lnTo>
                  <a:pt x="45" y="200"/>
                </a:lnTo>
                <a:lnTo>
                  <a:pt x="45" y="202"/>
                </a:lnTo>
                <a:lnTo>
                  <a:pt x="45" y="202"/>
                </a:lnTo>
                <a:lnTo>
                  <a:pt x="45" y="200"/>
                </a:lnTo>
                <a:lnTo>
                  <a:pt x="45" y="200"/>
                </a:lnTo>
                <a:lnTo>
                  <a:pt x="45" y="200"/>
                </a:lnTo>
                <a:lnTo>
                  <a:pt x="45" y="200"/>
                </a:lnTo>
                <a:lnTo>
                  <a:pt x="62" y="204"/>
                </a:lnTo>
                <a:lnTo>
                  <a:pt x="80" y="206"/>
                </a:lnTo>
                <a:lnTo>
                  <a:pt x="97" y="208"/>
                </a:lnTo>
                <a:lnTo>
                  <a:pt x="116" y="208"/>
                </a:lnTo>
                <a:lnTo>
                  <a:pt x="116" y="208"/>
                </a:lnTo>
                <a:lnTo>
                  <a:pt x="118" y="208"/>
                </a:lnTo>
                <a:lnTo>
                  <a:pt x="118" y="208"/>
                </a:lnTo>
                <a:lnTo>
                  <a:pt x="131" y="208"/>
                </a:lnTo>
                <a:lnTo>
                  <a:pt x="144" y="206"/>
                </a:lnTo>
                <a:lnTo>
                  <a:pt x="157" y="202"/>
                </a:lnTo>
                <a:lnTo>
                  <a:pt x="168" y="198"/>
                </a:lnTo>
                <a:lnTo>
                  <a:pt x="168" y="198"/>
                </a:lnTo>
                <a:lnTo>
                  <a:pt x="181" y="193"/>
                </a:lnTo>
                <a:lnTo>
                  <a:pt x="193" y="187"/>
                </a:lnTo>
                <a:lnTo>
                  <a:pt x="202" y="178"/>
                </a:lnTo>
                <a:lnTo>
                  <a:pt x="213" y="170"/>
                </a:lnTo>
                <a:lnTo>
                  <a:pt x="213" y="170"/>
                </a:lnTo>
                <a:lnTo>
                  <a:pt x="213" y="170"/>
                </a:lnTo>
                <a:lnTo>
                  <a:pt x="228" y="151"/>
                </a:lnTo>
                <a:lnTo>
                  <a:pt x="241" y="133"/>
                </a:lnTo>
                <a:lnTo>
                  <a:pt x="251" y="114"/>
                </a:lnTo>
                <a:lnTo>
                  <a:pt x="258" y="93"/>
                </a:lnTo>
                <a:lnTo>
                  <a:pt x="262" y="71"/>
                </a:lnTo>
                <a:lnTo>
                  <a:pt x="264" y="49"/>
                </a:lnTo>
                <a:lnTo>
                  <a:pt x="262" y="26"/>
                </a:lnTo>
                <a:lnTo>
                  <a:pt x="256" y="2"/>
                </a:lnTo>
                <a:lnTo>
                  <a:pt x="256" y="2"/>
                </a:lnTo>
                <a:lnTo>
                  <a:pt x="260" y="0"/>
                </a:lnTo>
                <a:lnTo>
                  <a:pt x="260" y="0"/>
                </a:lnTo>
                <a:lnTo>
                  <a:pt x="267" y="22"/>
                </a:lnTo>
                <a:lnTo>
                  <a:pt x="269" y="47"/>
                </a:lnTo>
                <a:lnTo>
                  <a:pt x="269" y="71"/>
                </a:lnTo>
                <a:lnTo>
                  <a:pt x="264" y="93"/>
                </a:lnTo>
                <a:lnTo>
                  <a:pt x="256" y="116"/>
                </a:lnTo>
                <a:lnTo>
                  <a:pt x="245" y="136"/>
                </a:lnTo>
                <a:lnTo>
                  <a:pt x="232" y="155"/>
                </a:lnTo>
                <a:lnTo>
                  <a:pt x="217" y="174"/>
                </a:lnTo>
                <a:lnTo>
                  <a:pt x="215" y="170"/>
                </a:lnTo>
                <a:lnTo>
                  <a:pt x="215" y="172"/>
                </a:lnTo>
                <a:lnTo>
                  <a:pt x="217" y="174"/>
                </a:lnTo>
                <a:lnTo>
                  <a:pt x="217" y="174"/>
                </a:lnTo>
                <a:lnTo>
                  <a:pt x="217" y="174"/>
                </a:lnTo>
                <a:lnTo>
                  <a:pt x="206" y="183"/>
                </a:lnTo>
                <a:lnTo>
                  <a:pt x="196" y="191"/>
                </a:lnTo>
                <a:lnTo>
                  <a:pt x="183" y="198"/>
                </a:lnTo>
                <a:lnTo>
                  <a:pt x="172" y="204"/>
                </a:lnTo>
                <a:lnTo>
                  <a:pt x="172" y="204"/>
                </a:lnTo>
                <a:lnTo>
                  <a:pt x="159" y="209"/>
                </a:lnTo>
                <a:lnTo>
                  <a:pt x="146" y="211"/>
                </a:lnTo>
                <a:lnTo>
                  <a:pt x="131" y="213"/>
                </a:lnTo>
                <a:lnTo>
                  <a:pt x="116" y="213"/>
                </a:lnTo>
                <a:lnTo>
                  <a:pt x="116" y="213"/>
                </a:lnTo>
                <a:lnTo>
                  <a:pt x="103" y="213"/>
                </a:lnTo>
                <a:lnTo>
                  <a:pt x="103" y="213"/>
                </a:lnTo>
                <a:lnTo>
                  <a:pt x="88" y="213"/>
                </a:lnTo>
                <a:lnTo>
                  <a:pt x="73" y="211"/>
                </a:lnTo>
                <a:lnTo>
                  <a:pt x="43" y="20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37080" y="2952720"/>
            <a:ext cx="291960" cy="125280"/>
          </a:xfrm>
          <a:custGeom>
            <a:avLst/>
            <a:gdLst/>
            <a:ahLst/>
            <a:rect l="l" t="t" r="r" b="b"/>
            <a:pathLst>
              <a:path w="184" h="79">
                <a:moveTo>
                  <a:pt x="53" y="8"/>
                </a:moveTo>
                <a:lnTo>
                  <a:pt x="53" y="8"/>
                </a:lnTo>
                <a:lnTo>
                  <a:pt x="43" y="6"/>
                </a:lnTo>
                <a:lnTo>
                  <a:pt x="32" y="8"/>
                </a:lnTo>
                <a:lnTo>
                  <a:pt x="23" y="11"/>
                </a:lnTo>
                <a:lnTo>
                  <a:pt x="14" y="19"/>
                </a:lnTo>
                <a:lnTo>
                  <a:pt x="14" y="19"/>
                </a:lnTo>
                <a:lnTo>
                  <a:pt x="6" y="28"/>
                </a:lnTo>
                <a:lnTo>
                  <a:pt x="6" y="28"/>
                </a:lnTo>
                <a:lnTo>
                  <a:pt x="0" y="26"/>
                </a:lnTo>
                <a:lnTo>
                  <a:pt x="0" y="26"/>
                </a:lnTo>
                <a:lnTo>
                  <a:pt x="8" y="15"/>
                </a:lnTo>
                <a:lnTo>
                  <a:pt x="8" y="15"/>
                </a:lnTo>
                <a:lnTo>
                  <a:pt x="8" y="15"/>
                </a:lnTo>
                <a:lnTo>
                  <a:pt x="10" y="17"/>
                </a:lnTo>
                <a:lnTo>
                  <a:pt x="10" y="17"/>
                </a:lnTo>
                <a:lnTo>
                  <a:pt x="8" y="15"/>
                </a:lnTo>
                <a:lnTo>
                  <a:pt x="8" y="15"/>
                </a:lnTo>
                <a:lnTo>
                  <a:pt x="19" y="8"/>
                </a:lnTo>
                <a:lnTo>
                  <a:pt x="30" y="2"/>
                </a:lnTo>
                <a:lnTo>
                  <a:pt x="43" y="0"/>
                </a:lnTo>
                <a:lnTo>
                  <a:pt x="55" y="2"/>
                </a:lnTo>
                <a:lnTo>
                  <a:pt x="55" y="4"/>
                </a:lnTo>
                <a:lnTo>
                  <a:pt x="55" y="4"/>
                </a:lnTo>
                <a:lnTo>
                  <a:pt x="55" y="2"/>
                </a:lnTo>
                <a:lnTo>
                  <a:pt x="57" y="2"/>
                </a:lnTo>
                <a:lnTo>
                  <a:pt x="57" y="2"/>
                </a:lnTo>
                <a:lnTo>
                  <a:pt x="57" y="2"/>
                </a:lnTo>
                <a:lnTo>
                  <a:pt x="120" y="37"/>
                </a:lnTo>
                <a:lnTo>
                  <a:pt x="184" y="73"/>
                </a:lnTo>
                <a:lnTo>
                  <a:pt x="180" y="79"/>
                </a:lnTo>
                <a:lnTo>
                  <a:pt x="180" y="79"/>
                </a:lnTo>
                <a:lnTo>
                  <a:pt x="116" y="43"/>
                </a:lnTo>
                <a:lnTo>
                  <a:pt x="53" y="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9920" y="2560680"/>
            <a:ext cx="5221440" cy="2214360"/>
          </a:xfrm>
          <a:custGeom>
            <a:avLst/>
            <a:gdLst/>
            <a:ahLst/>
            <a:rect l="l" t="t" r="r" b="b"/>
            <a:pathLst>
              <a:path w="3289" h="1395">
                <a:moveTo>
                  <a:pt x="3069" y="1393"/>
                </a:moveTo>
                <a:lnTo>
                  <a:pt x="3069" y="1393"/>
                </a:lnTo>
                <a:lnTo>
                  <a:pt x="3044" y="1388"/>
                </a:lnTo>
                <a:lnTo>
                  <a:pt x="3020" y="1382"/>
                </a:lnTo>
                <a:lnTo>
                  <a:pt x="2996" y="1373"/>
                </a:lnTo>
                <a:lnTo>
                  <a:pt x="2975" y="1363"/>
                </a:lnTo>
                <a:lnTo>
                  <a:pt x="2975" y="1363"/>
                </a:lnTo>
                <a:lnTo>
                  <a:pt x="2975" y="1363"/>
                </a:lnTo>
                <a:lnTo>
                  <a:pt x="2973" y="1367"/>
                </a:lnTo>
                <a:lnTo>
                  <a:pt x="2973" y="1367"/>
                </a:lnTo>
                <a:lnTo>
                  <a:pt x="2975" y="1363"/>
                </a:lnTo>
                <a:lnTo>
                  <a:pt x="2975" y="1363"/>
                </a:lnTo>
                <a:lnTo>
                  <a:pt x="2938" y="1348"/>
                </a:lnTo>
                <a:lnTo>
                  <a:pt x="2938" y="1348"/>
                </a:lnTo>
                <a:lnTo>
                  <a:pt x="2928" y="1339"/>
                </a:lnTo>
                <a:lnTo>
                  <a:pt x="2928" y="1339"/>
                </a:lnTo>
                <a:lnTo>
                  <a:pt x="2925" y="1337"/>
                </a:lnTo>
                <a:lnTo>
                  <a:pt x="2919" y="1335"/>
                </a:lnTo>
                <a:lnTo>
                  <a:pt x="2913" y="1335"/>
                </a:lnTo>
                <a:lnTo>
                  <a:pt x="2906" y="1337"/>
                </a:lnTo>
                <a:lnTo>
                  <a:pt x="2908" y="1341"/>
                </a:lnTo>
                <a:lnTo>
                  <a:pt x="2908" y="1341"/>
                </a:lnTo>
                <a:lnTo>
                  <a:pt x="2906" y="1337"/>
                </a:lnTo>
                <a:lnTo>
                  <a:pt x="2898" y="1341"/>
                </a:lnTo>
                <a:lnTo>
                  <a:pt x="2906" y="1345"/>
                </a:lnTo>
                <a:lnTo>
                  <a:pt x="2906" y="1345"/>
                </a:lnTo>
                <a:lnTo>
                  <a:pt x="2925" y="1352"/>
                </a:lnTo>
                <a:lnTo>
                  <a:pt x="2925" y="1352"/>
                </a:lnTo>
                <a:lnTo>
                  <a:pt x="2900" y="1350"/>
                </a:lnTo>
                <a:lnTo>
                  <a:pt x="2876" y="1346"/>
                </a:lnTo>
                <a:lnTo>
                  <a:pt x="2876" y="1346"/>
                </a:lnTo>
                <a:lnTo>
                  <a:pt x="2839" y="1337"/>
                </a:lnTo>
                <a:lnTo>
                  <a:pt x="2801" y="1326"/>
                </a:lnTo>
                <a:lnTo>
                  <a:pt x="2766" y="1311"/>
                </a:lnTo>
                <a:lnTo>
                  <a:pt x="2728" y="1294"/>
                </a:lnTo>
                <a:lnTo>
                  <a:pt x="2657" y="1257"/>
                </a:lnTo>
                <a:lnTo>
                  <a:pt x="2586" y="1219"/>
                </a:lnTo>
                <a:lnTo>
                  <a:pt x="2586" y="1219"/>
                </a:lnTo>
                <a:lnTo>
                  <a:pt x="2584" y="1219"/>
                </a:lnTo>
                <a:lnTo>
                  <a:pt x="2584" y="1221"/>
                </a:lnTo>
                <a:lnTo>
                  <a:pt x="2584" y="1223"/>
                </a:lnTo>
                <a:lnTo>
                  <a:pt x="2584" y="1219"/>
                </a:lnTo>
                <a:lnTo>
                  <a:pt x="2584" y="1219"/>
                </a:lnTo>
                <a:lnTo>
                  <a:pt x="2556" y="1206"/>
                </a:lnTo>
                <a:lnTo>
                  <a:pt x="2528" y="1197"/>
                </a:lnTo>
                <a:lnTo>
                  <a:pt x="2528" y="1197"/>
                </a:lnTo>
                <a:lnTo>
                  <a:pt x="2500" y="1187"/>
                </a:lnTo>
                <a:lnTo>
                  <a:pt x="2470" y="1180"/>
                </a:lnTo>
                <a:lnTo>
                  <a:pt x="2438" y="1176"/>
                </a:lnTo>
                <a:lnTo>
                  <a:pt x="2407" y="1173"/>
                </a:lnTo>
                <a:lnTo>
                  <a:pt x="2407" y="1173"/>
                </a:lnTo>
                <a:lnTo>
                  <a:pt x="2407" y="1173"/>
                </a:lnTo>
                <a:lnTo>
                  <a:pt x="2365" y="1169"/>
                </a:lnTo>
                <a:lnTo>
                  <a:pt x="2365" y="1169"/>
                </a:lnTo>
                <a:lnTo>
                  <a:pt x="2362" y="1109"/>
                </a:lnTo>
                <a:lnTo>
                  <a:pt x="2354" y="1049"/>
                </a:lnTo>
                <a:lnTo>
                  <a:pt x="2345" y="989"/>
                </a:lnTo>
                <a:lnTo>
                  <a:pt x="2332" y="931"/>
                </a:lnTo>
                <a:lnTo>
                  <a:pt x="2332" y="931"/>
                </a:lnTo>
                <a:lnTo>
                  <a:pt x="2371" y="939"/>
                </a:lnTo>
                <a:lnTo>
                  <a:pt x="2410" y="946"/>
                </a:lnTo>
                <a:lnTo>
                  <a:pt x="2450" y="956"/>
                </a:lnTo>
                <a:lnTo>
                  <a:pt x="2489" y="965"/>
                </a:lnTo>
                <a:lnTo>
                  <a:pt x="2491" y="961"/>
                </a:lnTo>
                <a:lnTo>
                  <a:pt x="2489" y="965"/>
                </a:lnTo>
                <a:lnTo>
                  <a:pt x="2489" y="965"/>
                </a:lnTo>
                <a:lnTo>
                  <a:pt x="2545" y="982"/>
                </a:lnTo>
                <a:lnTo>
                  <a:pt x="2545" y="982"/>
                </a:lnTo>
                <a:lnTo>
                  <a:pt x="2580" y="1010"/>
                </a:lnTo>
                <a:lnTo>
                  <a:pt x="2618" y="1032"/>
                </a:lnTo>
                <a:lnTo>
                  <a:pt x="2655" y="1051"/>
                </a:lnTo>
                <a:lnTo>
                  <a:pt x="2691" y="1064"/>
                </a:lnTo>
                <a:lnTo>
                  <a:pt x="2693" y="1060"/>
                </a:lnTo>
                <a:lnTo>
                  <a:pt x="2691" y="1064"/>
                </a:lnTo>
                <a:lnTo>
                  <a:pt x="2691" y="1064"/>
                </a:lnTo>
                <a:lnTo>
                  <a:pt x="2715" y="1072"/>
                </a:lnTo>
                <a:lnTo>
                  <a:pt x="2739" y="1077"/>
                </a:lnTo>
                <a:lnTo>
                  <a:pt x="2739" y="1077"/>
                </a:lnTo>
                <a:lnTo>
                  <a:pt x="2771" y="1083"/>
                </a:lnTo>
                <a:lnTo>
                  <a:pt x="2803" y="1085"/>
                </a:lnTo>
                <a:lnTo>
                  <a:pt x="2833" y="1085"/>
                </a:lnTo>
                <a:lnTo>
                  <a:pt x="2863" y="1081"/>
                </a:lnTo>
                <a:lnTo>
                  <a:pt x="2863" y="1081"/>
                </a:lnTo>
                <a:lnTo>
                  <a:pt x="2891" y="1075"/>
                </a:lnTo>
                <a:lnTo>
                  <a:pt x="2921" y="1066"/>
                </a:lnTo>
                <a:lnTo>
                  <a:pt x="2921" y="1066"/>
                </a:lnTo>
                <a:lnTo>
                  <a:pt x="2921" y="1066"/>
                </a:lnTo>
                <a:lnTo>
                  <a:pt x="2921" y="1066"/>
                </a:lnTo>
                <a:lnTo>
                  <a:pt x="2938" y="1058"/>
                </a:lnTo>
                <a:lnTo>
                  <a:pt x="2954" y="1055"/>
                </a:lnTo>
                <a:lnTo>
                  <a:pt x="2969" y="1051"/>
                </a:lnTo>
                <a:lnTo>
                  <a:pt x="2983" y="1047"/>
                </a:lnTo>
                <a:lnTo>
                  <a:pt x="2983" y="1047"/>
                </a:lnTo>
                <a:lnTo>
                  <a:pt x="2983" y="1047"/>
                </a:lnTo>
                <a:lnTo>
                  <a:pt x="2983" y="1047"/>
                </a:lnTo>
                <a:lnTo>
                  <a:pt x="3052" y="1001"/>
                </a:lnTo>
                <a:lnTo>
                  <a:pt x="3087" y="978"/>
                </a:lnTo>
                <a:lnTo>
                  <a:pt x="3123" y="959"/>
                </a:lnTo>
                <a:lnTo>
                  <a:pt x="3141" y="952"/>
                </a:lnTo>
                <a:lnTo>
                  <a:pt x="3160" y="946"/>
                </a:lnTo>
                <a:lnTo>
                  <a:pt x="3179" y="943"/>
                </a:lnTo>
                <a:lnTo>
                  <a:pt x="3198" y="939"/>
                </a:lnTo>
                <a:lnTo>
                  <a:pt x="3216" y="939"/>
                </a:lnTo>
                <a:lnTo>
                  <a:pt x="3237" y="941"/>
                </a:lnTo>
                <a:lnTo>
                  <a:pt x="3257" y="944"/>
                </a:lnTo>
                <a:lnTo>
                  <a:pt x="3276" y="952"/>
                </a:lnTo>
                <a:lnTo>
                  <a:pt x="3276" y="952"/>
                </a:lnTo>
                <a:lnTo>
                  <a:pt x="3284" y="976"/>
                </a:lnTo>
                <a:lnTo>
                  <a:pt x="3287" y="997"/>
                </a:lnTo>
                <a:lnTo>
                  <a:pt x="3287" y="997"/>
                </a:lnTo>
                <a:lnTo>
                  <a:pt x="3289" y="1012"/>
                </a:lnTo>
                <a:lnTo>
                  <a:pt x="3289" y="1012"/>
                </a:lnTo>
                <a:lnTo>
                  <a:pt x="3289" y="1015"/>
                </a:lnTo>
                <a:lnTo>
                  <a:pt x="3289" y="1015"/>
                </a:lnTo>
                <a:lnTo>
                  <a:pt x="3267" y="1025"/>
                </a:lnTo>
                <a:lnTo>
                  <a:pt x="3248" y="1036"/>
                </a:lnTo>
                <a:lnTo>
                  <a:pt x="3233" y="1049"/>
                </a:lnTo>
                <a:lnTo>
                  <a:pt x="3220" y="1066"/>
                </a:lnTo>
                <a:lnTo>
                  <a:pt x="3209" y="1083"/>
                </a:lnTo>
                <a:lnTo>
                  <a:pt x="3201" y="1101"/>
                </a:lnTo>
                <a:lnTo>
                  <a:pt x="3194" y="1122"/>
                </a:lnTo>
                <a:lnTo>
                  <a:pt x="3188" y="1143"/>
                </a:lnTo>
                <a:lnTo>
                  <a:pt x="3186" y="1163"/>
                </a:lnTo>
                <a:lnTo>
                  <a:pt x="3183" y="1186"/>
                </a:lnTo>
                <a:lnTo>
                  <a:pt x="3179" y="1230"/>
                </a:lnTo>
                <a:lnTo>
                  <a:pt x="3177" y="1273"/>
                </a:lnTo>
                <a:lnTo>
                  <a:pt x="3173" y="1315"/>
                </a:lnTo>
                <a:lnTo>
                  <a:pt x="3173" y="1315"/>
                </a:lnTo>
                <a:lnTo>
                  <a:pt x="3173" y="1315"/>
                </a:lnTo>
                <a:lnTo>
                  <a:pt x="3171" y="1331"/>
                </a:lnTo>
                <a:lnTo>
                  <a:pt x="3168" y="1348"/>
                </a:lnTo>
                <a:lnTo>
                  <a:pt x="3162" y="1363"/>
                </a:lnTo>
                <a:lnTo>
                  <a:pt x="3155" y="1378"/>
                </a:lnTo>
                <a:lnTo>
                  <a:pt x="3155" y="1378"/>
                </a:lnTo>
                <a:lnTo>
                  <a:pt x="3143" y="1386"/>
                </a:lnTo>
                <a:lnTo>
                  <a:pt x="3128" y="1391"/>
                </a:lnTo>
                <a:lnTo>
                  <a:pt x="3113" y="1393"/>
                </a:lnTo>
                <a:lnTo>
                  <a:pt x="3097" y="1395"/>
                </a:lnTo>
                <a:lnTo>
                  <a:pt x="3097" y="1395"/>
                </a:lnTo>
                <a:lnTo>
                  <a:pt x="3069" y="1393"/>
                </a:lnTo>
                <a:close/>
                <a:moveTo>
                  <a:pt x="1535" y="1316"/>
                </a:moveTo>
                <a:lnTo>
                  <a:pt x="1535" y="1316"/>
                </a:lnTo>
                <a:lnTo>
                  <a:pt x="1507" y="1300"/>
                </a:lnTo>
                <a:lnTo>
                  <a:pt x="1479" y="1279"/>
                </a:lnTo>
                <a:lnTo>
                  <a:pt x="1429" y="1240"/>
                </a:lnTo>
                <a:lnTo>
                  <a:pt x="1429" y="1240"/>
                </a:lnTo>
                <a:lnTo>
                  <a:pt x="1429" y="1240"/>
                </a:lnTo>
                <a:lnTo>
                  <a:pt x="1423" y="1234"/>
                </a:lnTo>
                <a:lnTo>
                  <a:pt x="1423" y="1234"/>
                </a:lnTo>
                <a:lnTo>
                  <a:pt x="1438" y="1229"/>
                </a:lnTo>
                <a:lnTo>
                  <a:pt x="1438" y="1229"/>
                </a:lnTo>
                <a:lnTo>
                  <a:pt x="1438" y="1229"/>
                </a:lnTo>
                <a:lnTo>
                  <a:pt x="1455" y="1221"/>
                </a:lnTo>
                <a:lnTo>
                  <a:pt x="1472" y="1214"/>
                </a:lnTo>
                <a:lnTo>
                  <a:pt x="1505" y="1197"/>
                </a:lnTo>
                <a:lnTo>
                  <a:pt x="1503" y="1193"/>
                </a:lnTo>
                <a:lnTo>
                  <a:pt x="1505" y="1197"/>
                </a:lnTo>
                <a:lnTo>
                  <a:pt x="1505" y="1197"/>
                </a:lnTo>
                <a:lnTo>
                  <a:pt x="1537" y="1176"/>
                </a:lnTo>
                <a:lnTo>
                  <a:pt x="1569" y="1154"/>
                </a:lnTo>
                <a:lnTo>
                  <a:pt x="1569" y="1154"/>
                </a:lnTo>
                <a:lnTo>
                  <a:pt x="1569" y="1154"/>
                </a:lnTo>
                <a:lnTo>
                  <a:pt x="1595" y="1137"/>
                </a:lnTo>
                <a:lnTo>
                  <a:pt x="1595" y="1137"/>
                </a:lnTo>
                <a:lnTo>
                  <a:pt x="1595" y="1146"/>
                </a:lnTo>
                <a:lnTo>
                  <a:pt x="1599" y="1146"/>
                </a:lnTo>
                <a:lnTo>
                  <a:pt x="1595" y="1146"/>
                </a:lnTo>
                <a:lnTo>
                  <a:pt x="1595" y="1146"/>
                </a:lnTo>
                <a:lnTo>
                  <a:pt x="1595" y="1146"/>
                </a:lnTo>
                <a:lnTo>
                  <a:pt x="1595" y="1146"/>
                </a:lnTo>
                <a:lnTo>
                  <a:pt x="1601" y="1167"/>
                </a:lnTo>
                <a:lnTo>
                  <a:pt x="1606" y="1187"/>
                </a:lnTo>
                <a:lnTo>
                  <a:pt x="1621" y="1227"/>
                </a:lnTo>
                <a:lnTo>
                  <a:pt x="1625" y="1227"/>
                </a:lnTo>
                <a:lnTo>
                  <a:pt x="1621" y="1227"/>
                </a:lnTo>
                <a:lnTo>
                  <a:pt x="1621" y="1227"/>
                </a:lnTo>
                <a:lnTo>
                  <a:pt x="1629" y="1247"/>
                </a:lnTo>
                <a:lnTo>
                  <a:pt x="1631" y="1264"/>
                </a:lnTo>
                <a:lnTo>
                  <a:pt x="1631" y="1279"/>
                </a:lnTo>
                <a:lnTo>
                  <a:pt x="1629" y="1287"/>
                </a:lnTo>
                <a:lnTo>
                  <a:pt x="1625" y="1294"/>
                </a:lnTo>
                <a:lnTo>
                  <a:pt x="1629" y="1296"/>
                </a:lnTo>
                <a:lnTo>
                  <a:pt x="1625" y="1294"/>
                </a:lnTo>
                <a:lnTo>
                  <a:pt x="1625" y="1294"/>
                </a:lnTo>
                <a:lnTo>
                  <a:pt x="1625" y="1294"/>
                </a:lnTo>
                <a:lnTo>
                  <a:pt x="1625" y="1294"/>
                </a:lnTo>
                <a:lnTo>
                  <a:pt x="1616" y="1309"/>
                </a:lnTo>
                <a:lnTo>
                  <a:pt x="1604" y="1320"/>
                </a:lnTo>
                <a:lnTo>
                  <a:pt x="1599" y="1324"/>
                </a:lnTo>
                <a:lnTo>
                  <a:pt x="1591" y="1326"/>
                </a:lnTo>
                <a:lnTo>
                  <a:pt x="1578" y="1328"/>
                </a:lnTo>
                <a:lnTo>
                  <a:pt x="1578" y="1328"/>
                </a:lnTo>
                <a:lnTo>
                  <a:pt x="1569" y="1328"/>
                </a:lnTo>
                <a:lnTo>
                  <a:pt x="1558" y="1326"/>
                </a:lnTo>
                <a:lnTo>
                  <a:pt x="1535" y="1316"/>
                </a:lnTo>
                <a:close/>
                <a:moveTo>
                  <a:pt x="1567" y="1152"/>
                </a:moveTo>
                <a:lnTo>
                  <a:pt x="1567" y="1152"/>
                </a:lnTo>
                <a:lnTo>
                  <a:pt x="1569" y="1152"/>
                </a:lnTo>
                <a:lnTo>
                  <a:pt x="1567" y="1152"/>
                </a:lnTo>
                <a:close/>
                <a:moveTo>
                  <a:pt x="1496" y="681"/>
                </a:moveTo>
                <a:lnTo>
                  <a:pt x="1498" y="677"/>
                </a:lnTo>
                <a:lnTo>
                  <a:pt x="1498" y="677"/>
                </a:lnTo>
                <a:lnTo>
                  <a:pt x="1440" y="662"/>
                </a:lnTo>
                <a:lnTo>
                  <a:pt x="1412" y="653"/>
                </a:lnTo>
                <a:lnTo>
                  <a:pt x="1384" y="647"/>
                </a:lnTo>
                <a:lnTo>
                  <a:pt x="1356" y="642"/>
                </a:lnTo>
                <a:lnTo>
                  <a:pt x="1328" y="638"/>
                </a:lnTo>
                <a:lnTo>
                  <a:pt x="1298" y="638"/>
                </a:lnTo>
                <a:lnTo>
                  <a:pt x="1268" y="640"/>
                </a:lnTo>
                <a:lnTo>
                  <a:pt x="1268" y="643"/>
                </a:lnTo>
                <a:lnTo>
                  <a:pt x="1268" y="643"/>
                </a:lnTo>
                <a:lnTo>
                  <a:pt x="1268" y="640"/>
                </a:lnTo>
                <a:lnTo>
                  <a:pt x="1268" y="640"/>
                </a:lnTo>
                <a:lnTo>
                  <a:pt x="1268" y="640"/>
                </a:lnTo>
                <a:lnTo>
                  <a:pt x="1268" y="640"/>
                </a:lnTo>
                <a:lnTo>
                  <a:pt x="1193" y="657"/>
                </a:lnTo>
                <a:lnTo>
                  <a:pt x="1193" y="657"/>
                </a:lnTo>
                <a:lnTo>
                  <a:pt x="1156" y="662"/>
                </a:lnTo>
                <a:lnTo>
                  <a:pt x="1118" y="668"/>
                </a:lnTo>
                <a:lnTo>
                  <a:pt x="1083" y="670"/>
                </a:lnTo>
                <a:lnTo>
                  <a:pt x="1066" y="668"/>
                </a:lnTo>
                <a:lnTo>
                  <a:pt x="1051" y="666"/>
                </a:lnTo>
                <a:lnTo>
                  <a:pt x="1051" y="666"/>
                </a:lnTo>
                <a:lnTo>
                  <a:pt x="1036" y="662"/>
                </a:lnTo>
                <a:lnTo>
                  <a:pt x="1023" y="657"/>
                </a:lnTo>
                <a:lnTo>
                  <a:pt x="1012" y="649"/>
                </a:lnTo>
                <a:lnTo>
                  <a:pt x="1000" y="640"/>
                </a:lnTo>
                <a:lnTo>
                  <a:pt x="991" y="628"/>
                </a:lnTo>
                <a:lnTo>
                  <a:pt x="982" y="614"/>
                </a:lnTo>
                <a:lnTo>
                  <a:pt x="976" y="599"/>
                </a:lnTo>
                <a:lnTo>
                  <a:pt x="972" y="580"/>
                </a:lnTo>
                <a:lnTo>
                  <a:pt x="972" y="580"/>
                </a:lnTo>
                <a:lnTo>
                  <a:pt x="972" y="580"/>
                </a:lnTo>
                <a:lnTo>
                  <a:pt x="972" y="565"/>
                </a:lnTo>
                <a:lnTo>
                  <a:pt x="976" y="552"/>
                </a:lnTo>
                <a:lnTo>
                  <a:pt x="982" y="539"/>
                </a:lnTo>
                <a:lnTo>
                  <a:pt x="989" y="528"/>
                </a:lnTo>
                <a:lnTo>
                  <a:pt x="1008" y="503"/>
                </a:lnTo>
                <a:lnTo>
                  <a:pt x="1028" y="479"/>
                </a:lnTo>
                <a:lnTo>
                  <a:pt x="1028" y="479"/>
                </a:lnTo>
                <a:lnTo>
                  <a:pt x="1036" y="468"/>
                </a:lnTo>
                <a:lnTo>
                  <a:pt x="1043" y="456"/>
                </a:lnTo>
                <a:lnTo>
                  <a:pt x="1049" y="443"/>
                </a:lnTo>
                <a:lnTo>
                  <a:pt x="1051" y="428"/>
                </a:lnTo>
                <a:lnTo>
                  <a:pt x="1051" y="415"/>
                </a:lnTo>
                <a:lnTo>
                  <a:pt x="1045" y="400"/>
                </a:lnTo>
                <a:lnTo>
                  <a:pt x="1036" y="384"/>
                </a:lnTo>
                <a:lnTo>
                  <a:pt x="1021" y="367"/>
                </a:lnTo>
                <a:lnTo>
                  <a:pt x="1021" y="367"/>
                </a:lnTo>
                <a:lnTo>
                  <a:pt x="1021" y="367"/>
                </a:lnTo>
                <a:lnTo>
                  <a:pt x="1010" y="356"/>
                </a:lnTo>
                <a:lnTo>
                  <a:pt x="999" y="346"/>
                </a:lnTo>
                <a:lnTo>
                  <a:pt x="985" y="339"/>
                </a:lnTo>
                <a:lnTo>
                  <a:pt x="972" y="331"/>
                </a:lnTo>
                <a:lnTo>
                  <a:pt x="972" y="331"/>
                </a:lnTo>
                <a:lnTo>
                  <a:pt x="950" y="324"/>
                </a:lnTo>
                <a:lnTo>
                  <a:pt x="927" y="320"/>
                </a:lnTo>
                <a:lnTo>
                  <a:pt x="903" y="318"/>
                </a:lnTo>
                <a:lnTo>
                  <a:pt x="879" y="318"/>
                </a:lnTo>
                <a:lnTo>
                  <a:pt x="853" y="322"/>
                </a:lnTo>
                <a:lnTo>
                  <a:pt x="826" y="327"/>
                </a:lnTo>
                <a:lnTo>
                  <a:pt x="798" y="335"/>
                </a:lnTo>
                <a:lnTo>
                  <a:pt x="772" y="344"/>
                </a:lnTo>
                <a:lnTo>
                  <a:pt x="772" y="344"/>
                </a:lnTo>
                <a:lnTo>
                  <a:pt x="737" y="357"/>
                </a:lnTo>
                <a:lnTo>
                  <a:pt x="701" y="374"/>
                </a:lnTo>
                <a:lnTo>
                  <a:pt x="701" y="374"/>
                </a:lnTo>
                <a:lnTo>
                  <a:pt x="630" y="404"/>
                </a:lnTo>
                <a:lnTo>
                  <a:pt x="595" y="421"/>
                </a:lnTo>
                <a:lnTo>
                  <a:pt x="561" y="438"/>
                </a:lnTo>
                <a:lnTo>
                  <a:pt x="527" y="456"/>
                </a:lnTo>
                <a:lnTo>
                  <a:pt x="494" y="477"/>
                </a:lnTo>
                <a:lnTo>
                  <a:pt x="464" y="501"/>
                </a:lnTo>
                <a:lnTo>
                  <a:pt x="449" y="516"/>
                </a:lnTo>
                <a:lnTo>
                  <a:pt x="434" y="531"/>
                </a:lnTo>
                <a:lnTo>
                  <a:pt x="434" y="531"/>
                </a:lnTo>
                <a:lnTo>
                  <a:pt x="415" y="535"/>
                </a:lnTo>
                <a:lnTo>
                  <a:pt x="395" y="542"/>
                </a:lnTo>
                <a:lnTo>
                  <a:pt x="376" y="550"/>
                </a:lnTo>
                <a:lnTo>
                  <a:pt x="357" y="557"/>
                </a:lnTo>
                <a:lnTo>
                  <a:pt x="322" y="578"/>
                </a:lnTo>
                <a:lnTo>
                  <a:pt x="286" y="599"/>
                </a:lnTo>
                <a:lnTo>
                  <a:pt x="252" y="619"/>
                </a:lnTo>
                <a:lnTo>
                  <a:pt x="219" y="638"/>
                </a:lnTo>
                <a:lnTo>
                  <a:pt x="202" y="645"/>
                </a:lnTo>
                <a:lnTo>
                  <a:pt x="187" y="651"/>
                </a:lnTo>
                <a:lnTo>
                  <a:pt x="170" y="655"/>
                </a:lnTo>
                <a:lnTo>
                  <a:pt x="155" y="657"/>
                </a:lnTo>
                <a:lnTo>
                  <a:pt x="155" y="657"/>
                </a:lnTo>
                <a:lnTo>
                  <a:pt x="155" y="657"/>
                </a:lnTo>
                <a:lnTo>
                  <a:pt x="144" y="657"/>
                </a:lnTo>
                <a:lnTo>
                  <a:pt x="133" y="655"/>
                </a:lnTo>
                <a:lnTo>
                  <a:pt x="122" y="653"/>
                </a:lnTo>
                <a:lnTo>
                  <a:pt x="110" y="649"/>
                </a:lnTo>
                <a:lnTo>
                  <a:pt x="99" y="643"/>
                </a:lnTo>
                <a:lnTo>
                  <a:pt x="90" y="638"/>
                </a:lnTo>
                <a:lnTo>
                  <a:pt x="71" y="623"/>
                </a:lnTo>
                <a:lnTo>
                  <a:pt x="56" y="602"/>
                </a:lnTo>
                <a:lnTo>
                  <a:pt x="41" y="580"/>
                </a:lnTo>
                <a:lnTo>
                  <a:pt x="28" y="556"/>
                </a:lnTo>
                <a:lnTo>
                  <a:pt x="19" y="529"/>
                </a:lnTo>
                <a:lnTo>
                  <a:pt x="19" y="529"/>
                </a:lnTo>
                <a:lnTo>
                  <a:pt x="9" y="499"/>
                </a:lnTo>
                <a:lnTo>
                  <a:pt x="4" y="470"/>
                </a:lnTo>
                <a:lnTo>
                  <a:pt x="0" y="440"/>
                </a:lnTo>
                <a:lnTo>
                  <a:pt x="0" y="408"/>
                </a:lnTo>
                <a:lnTo>
                  <a:pt x="2" y="378"/>
                </a:lnTo>
                <a:lnTo>
                  <a:pt x="6" y="348"/>
                </a:lnTo>
                <a:lnTo>
                  <a:pt x="11" y="320"/>
                </a:lnTo>
                <a:lnTo>
                  <a:pt x="21" y="294"/>
                </a:lnTo>
                <a:lnTo>
                  <a:pt x="21" y="294"/>
                </a:lnTo>
                <a:lnTo>
                  <a:pt x="21" y="294"/>
                </a:lnTo>
                <a:lnTo>
                  <a:pt x="36" y="264"/>
                </a:lnTo>
                <a:lnTo>
                  <a:pt x="52" y="236"/>
                </a:lnTo>
                <a:lnTo>
                  <a:pt x="52" y="236"/>
                </a:lnTo>
                <a:lnTo>
                  <a:pt x="52" y="236"/>
                </a:lnTo>
                <a:lnTo>
                  <a:pt x="52" y="236"/>
                </a:lnTo>
                <a:lnTo>
                  <a:pt x="73" y="206"/>
                </a:lnTo>
                <a:lnTo>
                  <a:pt x="92" y="178"/>
                </a:lnTo>
                <a:lnTo>
                  <a:pt x="92" y="178"/>
                </a:lnTo>
                <a:lnTo>
                  <a:pt x="92" y="178"/>
                </a:lnTo>
                <a:lnTo>
                  <a:pt x="116" y="152"/>
                </a:lnTo>
                <a:lnTo>
                  <a:pt x="142" y="127"/>
                </a:lnTo>
                <a:lnTo>
                  <a:pt x="142" y="127"/>
                </a:lnTo>
                <a:lnTo>
                  <a:pt x="176" y="99"/>
                </a:lnTo>
                <a:lnTo>
                  <a:pt x="211" y="75"/>
                </a:lnTo>
                <a:lnTo>
                  <a:pt x="249" y="56"/>
                </a:lnTo>
                <a:lnTo>
                  <a:pt x="288" y="38"/>
                </a:lnTo>
                <a:lnTo>
                  <a:pt x="327" y="25"/>
                </a:lnTo>
                <a:lnTo>
                  <a:pt x="368" y="15"/>
                </a:lnTo>
                <a:lnTo>
                  <a:pt x="411" y="8"/>
                </a:lnTo>
                <a:lnTo>
                  <a:pt x="454" y="2"/>
                </a:lnTo>
                <a:lnTo>
                  <a:pt x="454" y="2"/>
                </a:lnTo>
                <a:lnTo>
                  <a:pt x="496" y="2"/>
                </a:lnTo>
                <a:lnTo>
                  <a:pt x="537" y="2"/>
                </a:lnTo>
                <a:lnTo>
                  <a:pt x="537" y="2"/>
                </a:lnTo>
                <a:lnTo>
                  <a:pt x="537" y="2"/>
                </a:lnTo>
                <a:lnTo>
                  <a:pt x="537" y="0"/>
                </a:lnTo>
                <a:lnTo>
                  <a:pt x="537" y="0"/>
                </a:lnTo>
                <a:lnTo>
                  <a:pt x="537" y="2"/>
                </a:lnTo>
                <a:lnTo>
                  <a:pt x="537" y="2"/>
                </a:lnTo>
                <a:lnTo>
                  <a:pt x="589" y="2"/>
                </a:lnTo>
                <a:lnTo>
                  <a:pt x="589" y="2"/>
                </a:lnTo>
                <a:lnTo>
                  <a:pt x="638" y="6"/>
                </a:lnTo>
                <a:lnTo>
                  <a:pt x="638" y="6"/>
                </a:lnTo>
                <a:lnTo>
                  <a:pt x="638" y="6"/>
                </a:lnTo>
                <a:lnTo>
                  <a:pt x="638" y="6"/>
                </a:lnTo>
                <a:lnTo>
                  <a:pt x="709" y="11"/>
                </a:lnTo>
                <a:lnTo>
                  <a:pt x="742" y="17"/>
                </a:lnTo>
                <a:lnTo>
                  <a:pt x="778" y="23"/>
                </a:lnTo>
                <a:lnTo>
                  <a:pt x="810" y="30"/>
                </a:lnTo>
                <a:lnTo>
                  <a:pt x="841" y="41"/>
                </a:lnTo>
                <a:lnTo>
                  <a:pt x="873" y="55"/>
                </a:lnTo>
                <a:lnTo>
                  <a:pt x="901" y="71"/>
                </a:lnTo>
                <a:lnTo>
                  <a:pt x="903" y="69"/>
                </a:lnTo>
                <a:lnTo>
                  <a:pt x="903" y="69"/>
                </a:lnTo>
                <a:lnTo>
                  <a:pt x="903" y="69"/>
                </a:lnTo>
                <a:lnTo>
                  <a:pt x="903" y="69"/>
                </a:lnTo>
                <a:lnTo>
                  <a:pt x="903" y="69"/>
                </a:lnTo>
                <a:lnTo>
                  <a:pt x="901" y="71"/>
                </a:lnTo>
                <a:lnTo>
                  <a:pt x="901" y="71"/>
                </a:lnTo>
                <a:lnTo>
                  <a:pt x="950" y="111"/>
                </a:lnTo>
                <a:lnTo>
                  <a:pt x="999" y="148"/>
                </a:lnTo>
                <a:lnTo>
                  <a:pt x="1047" y="187"/>
                </a:lnTo>
                <a:lnTo>
                  <a:pt x="1071" y="204"/>
                </a:lnTo>
                <a:lnTo>
                  <a:pt x="1098" y="221"/>
                </a:lnTo>
                <a:lnTo>
                  <a:pt x="1122" y="238"/>
                </a:lnTo>
                <a:lnTo>
                  <a:pt x="1148" y="251"/>
                </a:lnTo>
                <a:lnTo>
                  <a:pt x="1176" y="262"/>
                </a:lnTo>
                <a:lnTo>
                  <a:pt x="1204" y="271"/>
                </a:lnTo>
                <a:lnTo>
                  <a:pt x="1232" y="279"/>
                </a:lnTo>
                <a:lnTo>
                  <a:pt x="1262" y="283"/>
                </a:lnTo>
                <a:lnTo>
                  <a:pt x="1294" y="284"/>
                </a:lnTo>
                <a:lnTo>
                  <a:pt x="1326" y="283"/>
                </a:lnTo>
                <a:lnTo>
                  <a:pt x="1326" y="283"/>
                </a:lnTo>
                <a:lnTo>
                  <a:pt x="1326" y="283"/>
                </a:lnTo>
                <a:lnTo>
                  <a:pt x="1376" y="275"/>
                </a:lnTo>
                <a:lnTo>
                  <a:pt x="1376" y="275"/>
                </a:lnTo>
                <a:lnTo>
                  <a:pt x="1376" y="275"/>
                </a:lnTo>
                <a:lnTo>
                  <a:pt x="1430" y="273"/>
                </a:lnTo>
                <a:lnTo>
                  <a:pt x="1430" y="273"/>
                </a:lnTo>
                <a:lnTo>
                  <a:pt x="1520" y="273"/>
                </a:lnTo>
                <a:lnTo>
                  <a:pt x="1567" y="277"/>
                </a:lnTo>
                <a:lnTo>
                  <a:pt x="1614" y="281"/>
                </a:lnTo>
                <a:lnTo>
                  <a:pt x="1614" y="281"/>
                </a:lnTo>
                <a:lnTo>
                  <a:pt x="1610" y="292"/>
                </a:lnTo>
                <a:lnTo>
                  <a:pt x="1608" y="301"/>
                </a:lnTo>
                <a:lnTo>
                  <a:pt x="1608" y="311"/>
                </a:lnTo>
                <a:lnTo>
                  <a:pt x="1610" y="320"/>
                </a:lnTo>
                <a:lnTo>
                  <a:pt x="1610" y="320"/>
                </a:lnTo>
                <a:lnTo>
                  <a:pt x="1610" y="322"/>
                </a:lnTo>
                <a:lnTo>
                  <a:pt x="1610" y="322"/>
                </a:lnTo>
                <a:lnTo>
                  <a:pt x="1638" y="342"/>
                </a:lnTo>
                <a:lnTo>
                  <a:pt x="1668" y="367"/>
                </a:lnTo>
                <a:lnTo>
                  <a:pt x="1668" y="367"/>
                </a:lnTo>
                <a:lnTo>
                  <a:pt x="1694" y="393"/>
                </a:lnTo>
                <a:lnTo>
                  <a:pt x="1720" y="419"/>
                </a:lnTo>
                <a:lnTo>
                  <a:pt x="1720" y="419"/>
                </a:lnTo>
                <a:lnTo>
                  <a:pt x="1720" y="419"/>
                </a:lnTo>
                <a:lnTo>
                  <a:pt x="1743" y="453"/>
                </a:lnTo>
                <a:lnTo>
                  <a:pt x="1752" y="468"/>
                </a:lnTo>
                <a:lnTo>
                  <a:pt x="1761" y="486"/>
                </a:lnTo>
                <a:lnTo>
                  <a:pt x="1761" y="486"/>
                </a:lnTo>
                <a:lnTo>
                  <a:pt x="1761" y="488"/>
                </a:lnTo>
                <a:lnTo>
                  <a:pt x="1761" y="488"/>
                </a:lnTo>
                <a:lnTo>
                  <a:pt x="1737" y="501"/>
                </a:lnTo>
                <a:lnTo>
                  <a:pt x="1737" y="501"/>
                </a:lnTo>
                <a:lnTo>
                  <a:pt x="1700" y="518"/>
                </a:lnTo>
                <a:lnTo>
                  <a:pt x="1662" y="533"/>
                </a:lnTo>
                <a:lnTo>
                  <a:pt x="1625" y="546"/>
                </a:lnTo>
                <a:lnTo>
                  <a:pt x="1589" y="559"/>
                </a:lnTo>
                <a:lnTo>
                  <a:pt x="1589" y="559"/>
                </a:lnTo>
                <a:lnTo>
                  <a:pt x="1589" y="559"/>
                </a:lnTo>
                <a:lnTo>
                  <a:pt x="1589" y="559"/>
                </a:lnTo>
                <a:lnTo>
                  <a:pt x="1574" y="567"/>
                </a:lnTo>
                <a:lnTo>
                  <a:pt x="1560" y="574"/>
                </a:lnTo>
                <a:lnTo>
                  <a:pt x="1528" y="589"/>
                </a:lnTo>
                <a:lnTo>
                  <a:pt x="1513" y="597"/>
                </a:lnTo>
                <a:lnTo>
                  <a:pt x="1502" y="608"/>
                </a:lnTo>
                <a:lnTo>
                  <a:pt x="1498" y="614"/>
                </a:lnTo>
                <a:lnTo>
                  <a:pt x="1494" y="621"/>
                </a:lnTo>
                <a:lnTo>
                  <a:pt x="1492" y="628"/>
                </a:lnTo>
                <a:lnTo>
                  <a:pt x="1490" y="638"/>
                </a:lnTo>
                <a:lnTo>
                  <a:pt x="1494" y="638"/>
                </a:lnTo>
                <a:lnTo>
                  <a:pt x="1494" y="638"/>
                </a:lnTo>
                <a:lnTo>
                  <a:pt x="1494" y="638"/>
                </a:lnTo>
                <a:lnTo>
                  <a:pt x="1490" y="638"/>
                </a:lnTo>
                <a:lnTo>
                  <a:pt x="1494" y="638"/>
                </a:lnTo>
                <a:lnTo>
                  <a:pt x="1490" y="638"/>
                </a:lnTo>
                <a:lnTo>
                  <a:pt x="1490" y="638"/>
                </a:lnTo>
                <a:lnTo>
                  <a:pt x="1490" y="638"/>
                </a:lnTo>
                <a:lnTo>
                  <a:pt x="1490" y="638"/>
                </a:lnTo>
                <a:lnTo>
                  <a:pt x="1494" y="658"/>
                </a:lnTo>
                <a:lnTo>
                  <a:pt x="1502" y="679"/>
                </a:lnTo>
                <a:lnTo>
                  <a:pt x="1502" y="679"/>
                </a:lnTo>
                <a:lnTo>
                  <a:pt x="1498" y="677"/>
                </a:lnTo>
                <a:lnTo>
                  <a:pt x="1496" y="681"/>
                </a:lnTo>
                <a:lnTo>
                  <a:pt x="1496" y="681"/>
                </a:lnTo>
                <a:close/>
                <a:moveTo>
                  <a:pt x="1763" y="485"/>
                </a:moveTo>
                <a:lnTo>
                  <a:pt x="1763" y="485"/>
                </a:lnTo>
                <a:lnTo>
                  <a:pt x="1763" y="485"/>
                </a:lnTo>
                <a:lnTo>
                  <a:pt x="1761" y="486"/>
                </a:lnTo>
                <a:lnTo>
                  <a:pt x="1763" y="485"/>
                </a:lnTo>
                <a:close/>
                <a:moveTo>
                  <a:pt x="1722" y="417"/>
                </a:moveTo>
                <a:lnTo>
                  <a:pt x="1722" y="417"/>
                </a:lnTo>
                <a:lnTo>
                  <a:pt x="1722" y="417"/>
                </a:lnTo>
                <a:lnTo>
                  <a:pt x="1722" y="417"/>
                </a:lnTo>
                <a:lnTo>
                  <a:pt x="1722" y="417"/>
                </a:lnTo>
                <a:close/>
                <a:moveTo>
                  <a:pt x="701" y="374"/>
                </a:moveTo>
                <a:lnTo>
                  <a:pt x="701" y="376"/>
                </a:lnTo>
                <a:lnTo>
                  <a:pt x="701" y="376"/>
                </a:lnTo>
                <a:lnTo>
                  <a:pt x="701" y="376"/>
                </a:lnTo>
                <a:lnTo>
                  <a:pt x="701" y="374"/>
                </a:lnTo>
                <a:close/>
                <a:moveTo>
                  <a:pt x="1019" y="369"/>
                </a:moveTo>
                <a:lnTo>
                  <a:pt x="1019" y="369"/>
                </a:lnTo>
                <a:lnTo>
                  <a:pt x="1019" y="369"/>
                </a:lnTo>
                <a:lnTo>
                  <a:pt x="1019" y="369"/>
                </a:lnTo>
                <a:lnTo>
                  <a:pt x="1019" y="369"/>
                </a:lnTo>
                <a:lnTo>
                  <a:pt x="1019" y="369"/>
                </a:lnTo>
                <a:close/>
                <a:moveTo>
                  <a:pt x="772" y="344"/>
                </a:moveTo>
                <a:lnTo>
                  <a:pt x="772" y="346"/>
                </a:lnTo>
                <a:lnTo>
                  <a:pt x="772" y="346"/>
                </a:lnTo>
                <a:lnTo>
                  <a:pt x="772" y="346"/>
                </a:lnTo>
                <a:lnTo>
                  <a:pt x="772" y="344"/>
                </a:lnTo>
                <a:close/>
                <a:moveTo>
                  <a:pt x="1612" y="318"/>
                </a:moveTo>
                <a:lnTo>
                  <a:pt x="1612" y="318"/>
                </a:lnTo>
                <a:lnTo>
                  <a:pt x="1610" y="322"/>
                </a:lnTo>
                <a:lnTo>
                  <a:pt x="1612" y="318"/>
                </a:lnTo>
                <a:close/>
              </a:path>
            </a:pathLst>
          </a:custGeom>
          <a:solidFill>
            <a:srgbClr val="f0c6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72160" y="4038480"/>
            <a:ext cx="1519200" cy="736560"/>
          </a:xfrm>
          <a:custGeom>
            <a:avLst/>
            <a:gdLst/>
            <a:ahLst/>
            <a:rect l="l" t="t" r="r" b="b"/>
            <a:pathLst>
              <a:path w="957" h="464">
                <a:moveTo>
                  <a:pt x="737" y="462"/>
                </a:moveTo>
                <a:lnTo>
                  <a:pt x="737" y="462"/>
                </a:lnTo>
                <a:lnTo>
                  <a:pt x="712" y="457"/>
                </a:lnTo>
                <a:lnTo>
                  <a:pt x="688" y="451"/>
                </a:lnTo>
                <a:lnTo>
                  <a:pt x="664" y="442"/>
                </a:lnTo>
                <a:lnTo>
                  <a:pt x="643" y="432"/>
                </a:lnTo>
                <a:lnTo>
                  <a:pt x="643" y="432"/>
                </a:lnTo>
                <a:lnTo>
                  <a:pt x="643" y="432"/>
                </a:lnTo>
                <a:lnTo>
                  <a:pt x="641" y="436"/>
                </a:lnTo>
                <a:lnTo>
                  <a:pt x="641" y="436"/>
                </a:lnTo>
                <a:lnTo>
                  <a:pt x="643" y="432"/>
                </a:lnTo>
                <a:lnTo>
                  <a:pt x="643" y="432"/>
                </a:lnTo>
                <a:lnTo>
                  <a:pt x="606" y="417"/>
                </a:lnTo>
                <a:lnTo>
                  <a:pt x="606" y="417"/>
                </a:lnTo>
                <a:lnTo>
                  <a:pt x="596" y="408"/>
                </a:lnTo>
                <a:lnTo>
                  <a:pt x="596" y="408"/>
                </a:lnTo>
                <a:lnTo>
                  <a:pt x="593" y="406"/>
                </a:lnTo>
                <a:lnTo>
                  <a:pt x="587" y="404"/>
                </a:lnTo>
                <a:lnTo>
                  <a:pt x="581" y="404"/>
                </a:lnTo>
                <a:lnTo>
                  <a:pt x="574" y="406"/>
                </a:lnTo>
                <a:lnTo>
                  <a:pt x="576" y="410"/>
                </a:lnTo>
                <a:lnTo>
                  <a:pt x="576" y="410"/>
                </a:lnTo>
                <a:lnTo>
                  <a:pt x="574" y="406"/>
                </a:lnTo>
                <a:lnTo>
                  <a:pt x="566" y="410"/>
                </a:lnTo>
                <a:lnTo>
                  <a:pt x="574" y="414"/>
                </a:lnTo>
                <a:lnTo>
                  <a:pt x="574" y="414"/>
                </a:lnTo>
                <a:lnTo>
                  <a:pt x="593" y="421"/>
                </a:lnTo>
                <a:lnTo>
                  <a:pt x="593" y="421"/>
                </a:lnTo>
                <a:lnTo>
                  <a:pt x="568" y="419"/>
                </a:lnTo>
                <a:lnTo>
                  <a:pt x="544" y="415"/>
                </a:lnTo>
                <a:lnTo>
                  <a:pt x="544" y="415"/>
                </a:lnTo>
                <a:lnTo>
                  <a:pt x="507" y="406"/>
                </a:lnTo>
                <a:lnTo>
                  <a:pt x="469" y="395"/>
                </a:lnTo>
                <a:lnTo>
                  <a:pt x="434" y="380"/>
                </a:lnTo>
                <a:lnTo>
                  <a:pt x="396" y="363"/>
                </a:lnTo>
                <a:lnTo>
                  <a:pt x="325" y="326"/>
                </a:lnTo>
                <a:lnTo>
                  <a:pt x="254" y="288"/>
                </a:lnTo>
                <a:lnTo>
                  <a:pt x="254" y="288"/>
                </a:lnTo>
                <a:lnTo>
                  <a:pt x="252" y="288"/>
                </a:lnTo>
                <a:lnTo>
                  <a:pt x="252" y="290"/>
                </a:lnTo>
                <a:lnTo>
                  <a:pt x="252" y="292"/>
                </a:lnTo>
                <a:lnTo>
                  <a:pt x="252" y="288"/>
                </a:lnTo>
                <a:lnTo>
                  <a:pt x="252" y="288"/>
                </a:lnTo>
                <a:lnTo>
                  <a:pt x="224" y="275"/>
                </a:lnTo>
                <a:lnTo>
                  <a:pt x="196" y="266"/>
                </a:lnTo>
                <a:lnTo>
                  <a:pt x="196" y="266"/>
                </a:lnTo>
                <a:lnTo>
                  <a:pt x="168" y="256"/>
                </a:lnTo>
                <a:lnTo>
                  <a:pt x="138" y="249"/>
                </a:lnTo>
                <a:lnTo>
                  <a:pt x="106" y="245"/>
                </a:lnTo>
                <a:lnTo>
                  <a:pt x="75" y="242"/>
                </a:lnTo>
                <a:lnTo>
                  <a:pt x="75" y="242"/>
                </a:lnTo>
                <a:lnTo>
                  <a:pt x="75" y="242"/>
                </a:lnTo>
                <a:lnTo>
                  <a:pt x="33" y="238"/>
                </a:lnTo>
                <a:lnTo>
                  <a:pt x="33" y="238"/>
                </a:lnTo>
                <a:lnTo>
                  <a:pt x="30" y="178"/>
                </a:lnTo>
                <a:lnTo>
                  <a:pt x="22" y="118"/>
                </a:lnTo>
                <a:lnTo>
                  <a:pt x="13" y="58"/>
                </a:lnTo>
                <a:lnTo>
                  <a:pt x="0" y="0"/>
                </a:lnTo>
                <a:lnTo>
                  <a:pt x="0" y="0"/>
                </a:lnTo>
                <a:lnTo>
                  <a:pt x="39" y="8"/>
                </a:lnTo>
                <a:lnTo>
                  <a:pt x="78" y="15"/>
                </a:lnTo>
                <a:lnTo>
                  <a:pt x="118" y="25"/>
                </a:lnTo>
                <a:lnTo>
                  <a:pt x="157" y="34"/>
                </a:lnTo>
                <a:lnTo>
                  <a:pt x="159" y="30"/>
                </a:lnTo>
                <a:lnTo>
                  <a:pt x="157" y="34"/>
                </a:lnTo>
                <a:lnTo>
                  <a:pt x="157" y="34"/>
                </a:lnTo>
                <a:lnTo>
                  <a:pt x="213" y="51"/>
                </a:lnTo>
                <a:lnTo>
                  <a:pt x="213" y="51"/>
                </a:lnTo>
                <a:lnTo>
                  <a:pt x="248" y="79"/>
                </a:lnTo>
                <a:lnTo>
                  <a:pt x="286" y="101"/>
                </a:lnTo>
                <a:lnTo>
                  <a:pt x="323" y="120"/>
                </a:lnTo>
                <a:lnTo>
                  <a:pt x="359" y="133"/>
                </a:lnTo>
                <a:lnTo>
                  <a:pt x="361" y="129"/>
                </a:lnTo>
                <a:lnTo>
                  <a:pt x="359" y="133"/>
                </a:lnTo>
                <a:lnTo>
                  <a:pt x="359" y="133"/>
                </a:lnTo>
                <a:lnTo>
                  <a:pt x="383" y="141"/>
                </a:lnTo>
                <a:lnTo>
                  <a:pt x="407" y="146"/>
                </a:lnTo>
                <a:lnTo>
                  <a:pt x="407" y="146"/>
                </a:lnTo>
                <a:lnTo>
                  <a:pt x="439" y="152"/>
                </a:lnTo>
                <a:lnTo>
                  <a:pt x="471" y="154"/>
                </a:lnTo>
                <a:lnTo>
                  <a:pt x="501" y="154"/>
                </a:lnTo>
                <a:lnTo>
                  <a:pt x="531" y="150"/>
                </a:lnTo>
                <a:lnTo>
                  <a:pt x="531" y="150"/>
                </a:lnTo>
                <a:lnTo>
                  <a:pt x="559" y="144"/>
                </a:lnTo>
                <a:lnTo>
                  <a:pt x="589" y="135"/>
                </a:lnTo>
                <a:lnTo>
                  <a:pt x="589" y="135"/>
                </a:lnTo>
                <a:lnTo>
                  <a:pt x="589" y="135"/>
                </a:lnTo>
                <a:lnTo>
                  <a:pt x="589" y="135"/>
                </a:lnTo>
                <a:lnTo>
                  <a:pt x="606" y="127"/>
                </a:lnTo>
                <a:lnTo>
                  <a:pt x="622" y="124"/>
                </a:lnTo>
                <a:lnTo>
                  <a:pt x="637" y="120"/>
                </a:lnTo>
                <a:lnTo>
                  <a:pt x="651" y="116"/>
                </a:lnTo>
                <a:lnTo>
                  <a:pt x="651" y="116"/>
                </a:lnTo>
                <a:lnTo>
                  <a:pt x="651" y="116"/>
                </a:lnTo>
                <a:lnTo>
                  <a:pt x="651" y="116"/>
                </a:lnTo>
                <a:lnTo>
                  <a:pt x="720" y="70"/>
                </a:lnTo>
                <a:lnTo>
                  <a:pt x="755" y="47"/>
                </a:lnTo>
                <a:lnTo>
                  <a:pt x="791" y="28"/>
                </a:lnTo>
                <a:lnTo>
                  <a:pt x="809" y="21"/>
                </a:lnTo>
                <a:lnTo>
                  <a:pt x="828" y="15"/>
                </a:lnTo>
                <a:lnTo>
                  <a:pt x="847" y="12"/>
                </a:lnTo>
                <a:lnTo>
                  <a:pt x="866" y="8"/>
                </a:lnTo>
                <a:lnTo>
                  <a:pt x="884" y="8"/>
                </a:lnTo>
                <a:lnTo>
                  <a:pt x="905" y="10"/>
                </a:lnTo>
                <a:lnTo>
                  <a:pt x="925" y="13"/>
                </a:lnTo>
                <a:lnTo>
                  <a:pt x="944" y="21"/>
                </a:lnTo>
                <a:lnTo>
                  <a:pt x="944" y="21"/>
                </a:lnTo>
                <a:lnTo>
                  <a:pt x="952" y="45"/>
                </a:lnTo>
                <a:lnTo>
                  <a:pt x="955" y="66"/>
                </a:lnTo>
                <a:lnTo>
                  <a:pt x="955" y="66"/>
                </a:lnTo>
                <a:lnTo>
                  <a:pt x="957" y="81"/>
                </a:lnTo>
                <a:lnTo>
                  <a:pt x="957" y="81"/>
                </a:lnTo>
                <a:lnTo>
                  <a:pt x="957" y="84"/>
                </a:lnTo>
                <a:lnTo>
                  <a:pt x="957" y="84"/>
                </a:lnTo>
                <a:lnTo>
                  <a:pt x="935" y="94"/>
                </a:lnTo>
                <a:lnTo>
                  <a:pt x="916" y="105"/>
                </a:lnTo>
                <a:lnTo>
                  <a:pt x="901" y="118"/>
                </a:lnTo>
                <a:lnTo>
                  <a:pt x="888" y="135"/>
                </a:lnTo>
                <a:lnTo>
                  <a:pt x="877" y="152"/>
                </a:lnTo>
                <a:lnTo>
                  <a:pt x="869" y="170"/>
                </a:lnTo>
                <a:lnTo>
                  <a:pt x="862" y="191"/>
                </a:lnTo>
                <a:lnTo>
                  <a:pt x="856" y="212"/>
                </a:lnTo>
                <a:lnTo>
                  <a:pt x="854" y="232"/>
                </a:lnTo>
                <a:lnTo>
                  <a:pt x="851" y="255"/>
                </a:lnTo>
                <a:lnTo>
                  <a:pt x="847" y="299"/>
                </a:lnTo>
                <a:lnTo>
                  <a:pt x="845" y="342"/>
                </a:lnTo>
                <a:lnTo>
                  <a:pt x="841" y="384"/>
                </a:lnTo>
                <a:lnTo>
                  <a:pt x="841" y="384"/>
                </a:lnTo>
                <a:lnTo>
                  <a:pt x="841" y="384"/>
                </a:lnTo>
                <a:lnTo>
                  <a:pt x="839" y="400"/>
                </a:lnTo>
                <a:lnTo>
                  <a:pt x="836" y="417"/>
                </a:lnTo>
                <a:lnTo>
                  <a:pt x="830" y="432"/>
                </a:lnTo>
                <a:lnTo>
                  <a:pt x="823" y="447"/>
                </a:lnTo>
                <a:lnTo>
                  <a:pt x="823" y="447"/>
                </a:lnTo>
                <a:lnTo>
                  <a:pt x="811" y="455"/>
                </a:lnTo>
                <a:lnTo>
                  <a:pt x="796" y="460"/>
                </a:lnTo>
                <a:lnTo>
                  <a:pt x="781" y="462"/>
                </a:lnTo>
                <a:lnTo>
                  <a:pt x="765" y="464"/>
                </a:lnTo>
                <a:lnTo>
                  <a:pt x="765" y="464"/>
                </a:lnTo>
                <a:lnTo>
                  <a:pt x="737" y="46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28920" y="4365720"/>
            <a:ext cx="330120" cy="303120"/>
          </a:xfrm>
          <a:custGeom>
            <a:avLst/>
            <a:gdLst/>
            <a:ahLst/>
            <a:rect l="l" t="t" r="r" b="b"/>
            <a:pathLst>
              <a:path w="208" h="191">
                <a:moveTo>
                  <a:pt x="112" y="179"/>
                </a:moveTo>
                <a:lnTo>
                  <a:pt x="112" y="179"/>
                </a:lnTo>
                <a:lnTo>
                  <a:pt x="84" y="163"/>
                </a:lnTo>
                <a:lnTo>
                  <a:pt x="56" y="142"/>
                </a:lnTo>
                <a:lnTo>
                  <a:pt x="6" y="103"/>
                </a:lnTo>
                <a:lnTo>
                  <a:pt x="6" y="103"/>
                </a:lnTo>
                <a:lnTo>
                  <a:pt x="6" y="103"/>
                </a:lnTo>
                <a:lnTo>
                  <a:pt x="0" y="97"/>
                </a:lnTo>
                <a:lnTo>
                  <a:pt x="0" y="97"/>
                </a:lnTo>
                <a:lnTo>
                  <a:pt x="15" y="92"/>
                </a:lnTo>
                <a:lnTo>
                  <a:pt x="15" y="92"/>
                </a:lnTo>
                <a:lnTo>
                  <a:pt x="15" y="92"/>
                </a:lnTo>
                <a:lnTo>
                  <a:pt x="32" y="84"/>
                </a:lnTo>
                <a:lnTo>
                  <a:pt x="49" y="77"/>
                </a:lnTo>
                <a:lnTo>
                  <a:pt x="82" y="60"/>
                </a:lnTo>
                <a:lnTo>
                  <a:pt x="80" y="56"/>
                </a:lnTo>
                <a:lnTo>
                  <a:pt x="82" y="60"/>
                </a:lnTo>
                <a:lnTo>
                  <a:pt x="82" y="60"/>
                </a:lnTo>
                <a:lnTo>
                  <a:pt x="114" y="39"/>
                </a:lnTo>
                <a:lnTo>
                  <a:pt x="146" y="17"/>
                </a:lnTo>
                <a:lnTo>
                  <a:pt x="146" y="17"/>
                </a:lnTo>
                <a:lnTo>
                  <a:pt x="146" y="17"/>
                </a:lnTo>
                <a:lnTo>
                  <a:pt x="172" y="0"/>
                </a:lnTo>
                <a:lnTo>
                  <a:pt x="172" y="0"/>
                </a:lnTo>
                <a:lnTo>
                  <a:pt x="172" y="9"/>
                </a:lnTo>
                <a:lnTo>
                  <a:pt x="176" y="9"/>
                </a:lnTo>
                <a:lnTo>
                  <a:pt x="172" y="9"/>
                </a:lnTo>
                <a:lnTo>
                  <a:pt x="172" y="9"/>
                </a:lnTo>
                <a:lnTo>
                  <a:pt x="172" y="9"/>
                </a:lnTo>
                <a:lnTo>
                  <a:pt x="172" y="9"/>
                </a:lnTo>
                <a:lnTo>
                  <a:pt x="178" y="30"/>
                </a:lnTo>
                <a:lnTo>
                  <a:pt x="183" y="50"/>
                </a:lnTo>
                <a:lnTo>
                  <a:pt x="198" y="90"/>
                </a:lnTo>
                <a:lnTo>
                  <a:pt x="202" y="90"/>
                </a:lnTo>
                <a:lnTo>
                  <a:pt x="198" y="90"/>
                </a:lnTo>
                <a:lnTo>
                  <a:pt x="198" y="90"/>
                </a:lnTo>
                <a:lnTo>
                  <a:pt x="206" y="110"/>
                </a:lnTo>
                <a:lnTo>
                  <a:pt x="208" y="127"/>
                </a:lnTo>
                <a:lnTo>
                  <a:pt x="208" y="142"/>
                </a:lnTo>
                <a:lnTo>
                  <a:pt x="206" y="150"/>
                </a:lnTo>
                <a:lnTo>
                  <a:pt x="202" y="157"/>
                </a:lnTo>
                <a:lnTo>
                  <a:pt x="206" y="159"/>
                </a:lnTo>
                <a:lnTo>
                  <a:pt x="202" y="157"/>
                </a:lnTo>
                <a:lnTo>
                  <a:pt x="202" y="157"/>
                </a:lnTo>
                <a:lnTo>
                  <a:pt x="202" y="157"/>
                </a:lnTo>
                <a:lnTo>
                  <a:pt x="202" y="157"/>
                </a:lnTo>
                <a:lnTo>
                  <a:pt x="193" y="172"/>
                </a:lnTo>
                <a:lnTo>
                  <a:pt x="181" y="183"/>
                </a:lnTo>
                <a:lnTo>
                  <a:pt x="176" y="187"/>
                </a:lnTo>
                <a:lnTo>
                  <a:pt x="168" y="189"/>
                </a:lnTo>
                <a:lnTo>
                  <a:pt x="155" y="191"/>
                </a:lnTo>
                <a:lnTo>
                  <a:pt x="155" y="191"/>
                </a:lnTo>
                <a:lnTo>
                  <a:pt x="146" y="191"/>
                </a:lnTo>
                <a:lnTo>
                  <a:pt x="135" y="189"/>
                </a:lnTo>
                <a:lnTo>
                  <a:pt x="112" y="17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57520" y="4389480"/>
            <a:ext cx="324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9920" y="2560680"/>
            <a:ext cx="2795760" cy="1081080"/>
          </a:xfrm>
          <a:custGeom>
            <a:avLst/>
            <a:gdLst/>
            <a:ahLst/>
            <a:rect l="l" t="t" r="r" b="b"/>
            <a:pathLst>
              <a:path w="1761" h="681">
                <a:moveTo>
                  <a:pt x="1496" y="681"/>
                </a:moveTo>
                <a:lnTo>
                  <a:pt x="1498" y="677"/>
                </a:lnTo>
                <a:lnTo>
                  <a:pt x="1498" y="677"/>
                </a:lnTo>
                <a:lnTo>
                  <a:pt x="1440" y="662"/>
                </a:lnTo>
                <a:lnTo>
                  <a:pt x="1412" y="653"/>
                </a:lnTo>
                <a:lnTo>
                  <a:pt x="1384" y="647"/>
                </a:lnTo>
                <a:lnTo>
                  <a:pt x="1356" y="642"/>
                </a:lnTo>
                <a:lnTo>
                  <a:pt x="1328" y="638"/>
                </a:lnTo>
                <a:lnTo>
                  <a:pt x="1298" y="638"/>
                </a:lnTo>
                <a:lnTo>
                  <a:pt x="1268" y="640"/>
                </a:lnTo>
                <a:lnTo>
                  <a:pt x="1268" y="643"/>
                </a:lnTo>
                <a:lnTo>
                  <a:pt x="1268" y="643"/>
                </a:lnTo>
                <a:lnTo>
                  <a:pt x="1268" y="640"/>
                </a:lnTo>
                <a:lnTo>
                  <a:pt x="1268" y="640"/>
                </a:lnTo>
                <a:lnTo>
                  <a:pt x="1268" y="640"/>
                </a:lnTo>
                <a:lnTo>
                  <a:pt x="1268" y="640"/>
                </a:lnTo>
                <a:lnTo>
                  <a:pt x="1193" y="657"/>
                </a:lnTo>
                <a:lnTo>
                  <a:pt x="1193" y="657"/>
                </a:lnTo>
                <a:lnTo>
                  <a:pt x="1156" y="662"/>
                </a:lnTo>
                <a:lnTo>
                  <a:pt x="1118" y="668"/>
                </a:lnTo>
                <a:lnTo>
                  <a:pt x="1083" y="670"/>
                </a:lnTo>
                <a:lnTo>
                  <a:pt x="1066" y="668"/>
                </a:lnTo>
                <a:lnTo>
                  <a:pt x="1051" y="666"/>
                </a:lnTo>
                <a:lnTo>
                  <a:pt x="1051" y="666"/>
                </a:lnTo>
                <a:lnTo>
                  <a:pt x="1036" y="662"/>
                </a:lnTo>
                <a:lnTo>
                  <a:pt x="1023" y="657"/>
                </a:lnTo>
                <a:lnTo>
                  <a:pt x="1012" y="649"/>
                </a:lnTo>
                <a:lnTo>
                  <a:pt x="1000" y="640"/>
                </a:lnTo>
                <a:lnTo>
                  <a:pt x="991" y="628"/>
                </a:lnTo>
                <a:lnTo>
                  <a:pt x="982" y="614"/>
                </a:lnTo>
                <a:lnTo>
                  <a:pt x="976" y="599"/>
                </a:lnTo>
                <a:lnTo>
                  <a:pt x="972" y="580"/>
                </a:lnTo>
                <a:lnTo>
                  <a:pt x="972" y="580"/>
                </a:lnTo>
                <a:lnTo>
                  <a:pt x="972" y="580"/>
                </a:lnTo>
                <a:lnTo>
                  <a:pt x="972" y="565"/>
                </a:lnTo>
                <a:lnTo>
                  <a:pt x="976" y="552"/>
                </a:lnTo>
                <a:lnTo>
                  <a:pt x="982" y="539"/>
                </a:lnTo>
                <a:lnTo>
                  <a:pt x="989" y="528"/>
                </a:lnTo>
                <a:lnTo>
                  <a:pt x="1008" y="503"/>
                </a:lnTo>
                <a:lnTo>
                  <a:pt x="1028" y="479"/>
                </a:lnTo>
                <a:lnTo>
                  <a:pt x="1028" y="479"/>
                </a:lnTo>
                <a:lnTo>
                  <a:pt x="1036" y="468"/>
                </a:lnTo>
                <a:lnTo>
                  <a:pt x="1043" y="456"/>
                </a:lnTo>
                <a:lnTo>
                  <a:pt x="1049" y="443"/>
                </a:lnTo>
                <a:lnTo>
                  <a:pt x="1051" y="428"/>
                </a:lnTo>
                <a:lnTo>
                  <a:pt x="1051" y="415"/>
                </a:lnTo>
                <a:lnTo>
                  <a:pt x="1045" y="400"/>
                </a:lnTo>
                <a:lnTo>
                  <a:pt x="1036" y="384"/>
                </a:lnTo>
                <a:lnTo>
                  <a:pt x="1021" y="367"/>
                </a:lnTo>
                <a:lnTo>
                  <a:pt x="1021" y="367"/>
                </a:lnTo>
                <a:lnTo>
                  <a:pt x="1021" y="367"/>
                </a:lnTo>
                <a:lnTo>
                  <a:pt x="1010" y="356"/>
                </a:lnTo>
                <a:lnTo>
                  <a:pt x="999" y="346"/>
                </a:lnTo>
                <a:lnTo>
                  <a:pt x="985" y="339"/>
                </a:lnTo>
                <a:lnTo>
                  <a:pt x="972" y="331"/>
                </a:lnTo>
                <a:lnTo>
                  <a:pt x="972" y="331"/>
                </a:lnTo>
                <a:lnTo>
                  <a:pt x="950" y="324"/>
                </a:lnTo>
                <a:lnTo>
                  <a:pt x="927" y="320"/>
                </a:lnTo>
                <a:lnTo>
                  <a:pt x="903" y="318"/>
                </a:lnTo>
                <a:lnTo>
                  <a:pt x="879" y="318"/>
                </a:lnTo>
                <a:lnTo>
                  <a:pt x="853" y="322"/>
                </a:lnTo>
                <a:lnTo>
                  <a:pt x="826" y="327"/>
                </a:lnTo>
                <a:lnTo>
                  <a:pt x="798" y="335"/>
                </a:lnTo>
                <a:lnTo>
                  <a:pt x="772" y="344"/>
                </a:lnTo>
                <a:lnTo>
                  <a:pt x="772" y="344"/>
                </a:lnTo>
                <a:lnTo>
                  <a:pt x="737" y="357"/>
                </a:lnTo>
                <a:lnTo>
                  <a:pt x="701" y="374"/>
                </a:lnTo>
                <a:lnTo>
                  <a:pt x="701" y="374"/>
                </a:lnTo>
                <a:lnTo>
                  <a:pt x="630" y="404"/>
                </a:lnTo>
                <a:lnTo>
                  <a:pt x="595" y="421"/>
                </a:lnTo>
                <a:lnTo>
                  <a:pt x="561" y="438"/>
                </a:lnTo>
                <a:lnTo>
                  <a:pt x="527" y="456"/>
                </a:lnTo>
                <a:lnTo>
                  <a:pt x="494" y="477"/>
                </a:lnTo>
                <a:lnTo>
                  <a:pt x="464" y="501"/>
                </a:lnTo>
                <a:lnTo>
                  <a:pt x="449" y="516"/>
                </a:lnTo>
                <a:lnTo>
                  <a:pt x="434" y="531"/>
                </a:lnTo>
                <a:lnTo>
                  <a:pt x="434" y="531"/>
                </a:lnTo>
                <a:lnTo>
                  <a:pt x="415" y="535"/>
                </a:lnTo>
                <a:lnTo>
                  <a:pt x="395" y="542"/>
                </a:lnTo>
                <a:lnTo>
                  <a:pt x="376" y="550"/>
                </a:lnTo>
                <a:lnTo>
                  <a:pt x="357" y="557"/>
                </a:lnTo>
                <a:lnTo>
                  <a:pt x="322" y="578"/>
                </a:lnTo>
                <a:lnTo>
                  <a:pt x="286" y="599"/>
                </a:lnTo>
                <a:lnTo>
                  <a:pt x="252" y="619"/>
                </a:lnTo>
                <a:lnTo>
                  <a:pt x="219" y="638"/>
                </a:lnTo>
                <a:lnTo>
                  <a:pt x="202" y="645"/>
                </a:lnTo>
                <a:lnTo>
                  <a:pt x="187" y="651"/>
                </a:lnTo>
                <a:lnTo>
                  <a:pt x="170" y="655"/>
                </a:lnTo>
                <a:lnTo>
                  <a:pt x="155" y="657"/>
                </a:lnTo>
                <a:lnTo>
                  <a:pt x="155" y="657"/>
                </a:lnTo>
                <a:lnTo>
                  <a:pt x="155" y="657"/>
                </a:lnTo>
                <a:lnTo>
                  <a:pt x="144" y="657"/>
                </a:lnTo>
                <a:lnTo>
                  <a:pt x="133" y="655"/>
                </a:lnTo>
                <a:lnTo>
                  <a:pt x="122" y="653"/>
                </a:lnTo>
                <a:lnTo>
                  <a:pt x="110" y="649"/>
                </a:lnTo>
                <a:lnTo>
                  <a:pt x="99" y="643"/>
                </a:lnTo>
                <a:lnTo>
                  <a:pt x="90" y="638"/>
                </a:lnTo>
                <a:lnTo>
                  <a:pt x="71" y="623"/>
                </a:lnTo>
                <a:lnTo>
                  <a:pt x="56" y="602"/>
                </a:lnTo>
                <a:lnTo>
                  <a:pt x="41" y="580"/>
                </a:lnTo>
                <a:lnTo>
                  <a:pt x="28" y="556"/>
                </a:lnTo>
                <a:lnTo>
                  <a:pt x="19" y="529"/>
                </a:lnTo>
                <a:lnTo>
                  <a:pt x="19" y="529"/>
                </a:lnTo>
                <a:lnTo>
                  <a:pt x="9" y="499"/>
                </a:lnTo>
                <a:lnTo>
                  <a:pt x="4" y="470"/>
                </a:lnTo>
                <a:lnTo>
                  <a:pt x="0" y="440"/>
                </a:lnTo>
                <a:lnTo>
                  <a:pt x="0" y="408"/>
                </a:lnTo>
                <a:lnTo>
                  <a:pt x="2" y="378"/>
                </a:lnTo>
                <a:lnTo>
                  <a:pt x="6" y="348"/>
                </a:lnTo>
                <a:lnTo>
                  <a:pt x="11" y="320"/>
                </a:lnTo>
                <a:lnTo>
                  <a:pt x="21" y="294"/>
                </a:lnTo>
                <a:lnTo>
                  <a:pt x="21" y="294"/>
                </a:lnTo>
                <a:lnTo>
                  <a:pt x="21" y="294"/>
                </a:lnTo>
                <a:lnTo>
                  <a:pt x="36" y="264"/>
                </a:lnTo>
                <a:lnTo>
                  <a:pt x="52" y="236"/>
                </a:lnTo>
                <a:lnTo>
                  <a:pt x="52" y="236"/>
                </a:lnTo>
                <a:lnTo>
                  <a:pt x="52" y="236"/>
                </a:lnTo>
                <a:lnTo>
                  <a:pt x="52" y="236"/>
                </a:lnTo>
                <a:lnTo>
                  <a:pt x="73" y="206"/>
                </a:lnTo>
                <a:lnTo>
                  <a:pt x="92" y="178"/>
                </a:lnTo>
                <a:lnTo>
                  <a:pt x="92" y="178"/>
                </a:lnTo>
                <a:lnTo>
                  <a:pt x="92" y="178"/>
                </a:lnTo>
                <a:lnTo>
                  <a:pt x="116" y="152"/>
                </a:lnTo>
                <a:lnTo>
                  <a:pt x="142" y="127"/>
                </a:lnTo>
                <a:lnTo>
                  <a:pt x="142" y="127"/>
                </a:lnTo>
                <a:lnTo>
                  <a:pt x="176" y="99"/>
                </a:lnTo>
                <a:lnTo>
                  <a:pt x="211" y="75"/>
                </a:lnTo>
                <a:lnTo>
                  <a:pt x="249" y="56"/>
                </a:lnTo>
                <a:lnTo>
                  <a:pt x="288" y="38"/>
                </a:lnTo>
                <a:lnTo>
                  <a:pt x="327" y="25"/>
                </a:lnTo>
                <a:lnTo>
                  <a:pt x="368" y="15"/>
                </a:lnTo>
                <a:lnTo>
                  <a:pt x="411" y="8"/>
                </a:lnTo>
                <a:lnTo>
                  <a:pt x="454" y="2"/>
                </a:lnTo>
                <a:lnTo>
                  <a:pt x="454" y="2"/>
                </a:lnTo>
                <a:lnTo>
                  <a:pt x="496" y="2"/>
                </a:lnTo>
                <a:lnTo>
                  <a:pt x="537" y="2"/>
                </a:lnTo>
                <a:lnTo>
                  <a:pt x="537" y="2"/>
                </a:lnTo>
                <a:lnTo>
                  <a:pt x="537" y="2"/>
                </a:lnTo>
                <a:lnTo>
                  <a:pt x="537" y="0"/>
                </a:lnTo>
                <a:lnTo>
                  <a:pt x="537" y="0"/>
                </a:lnTo>
                <a:lnTo>
                  <a:pt x="537" y="2"/>
                </a:lnTo>
                <a:lnTo>
                  <a:pt x="537" y="2"/>
                </a:lnTo>
                <a:lnTo>
                  <a:pt x="589" y="2"/>
                </a:lnTo>
                <a:lnTo>
                  <a:pt x="589" y="2"/>
                </a:lnTo>
                <a:lnTo>
                  <a:pt x="638" y="6"/>
                </a:lnTo>
                <a:lnTo>
                  <a:pt x="638" y="6"/>
                </a:lnTo>
                <a:lnTo>
                  <a:pt x="638" y="6"/>
                </a:lnTo>
                <a:lnTo>
                  <a:pt x="638" y="6"/>
                </a:lnTo>
                <a:lnTo>
                  <a:pt x="709" y="11"/>
                </a:lnTo>
                <a:lnTo>
                  <a:pt x="742" y="17"/>
                </a:lnTo>
                <a:lnTo>
                  <a:pt x="778" y="23"/>
                </a:lnTo>
                <a:lnTo>
                  <a:pt x="810" y="30"/>
                </a:lnTo>
                <a:lnTo>
                  <a:pt x="841" y="41"/>
                </a:lnTo>
                <a:lnTo>
                  <a:pt x="873" y="55"/>
                </a:lnTo>
                <a:lnTo>
                  <a:pt x="901" y="71"/>
                </a:lnTo>
                <a:lnTo>
                  <a:pt x="903" y="69"/>
                </a:lnTo>
                <a:lnTo>
                  <a:pt x="903" y="69"/>
                </a:lnTo>
                <a:lnTo>
                  <a:pt x="903" y="69"/>
                </a:lnTo>
                <a:lnTo>
                  <a:pt x="903" y="69"/>
                </a:lnTo>
                <a:lnTo>
                  <a:pt x="903" y="69"/>
                </a:lnTo>
                <a:lnTo>
                  <a:pt x="901" y="71"/>
                </a:lnTo>
                <a:lnTo>
                  <a:pt x="901" y="71"/>
                </a:lnTo>
                <a:lnTo>
                  <a:pt x="950" y="111"/>
                </a:lnTo>
                <a:lnTo>
                  <a:pt x="999" y="148"/>
                </a:lnTo>
                <a:lnTo>
                  <a:pt x="1047" y="187"/>
                </a:lnTo>
                <a:lnTo>
                  <a:pt x="1071" y="204"/>
                </a:lnTo>
                <a:lnTo>
                  <a:pt x="1098" y="221"/>
                </a:lnTo>
                <a:lnTo>
                  <a:pt x="1122" y="238"/>
                </a:lnTo>
                <a:lnTo>
                  <a:pt x="1148" y="251"/>
                </a:lnTo>
                <a:lnTo>
                  <a:pt x="1176" y="262"/>
                </a:lnTo>
                <a:lnTo>
                  <a:pt x="1204" y="271"/>
                </a:lnTo>
                <a:lnTo>
                  <a:pt x="1232" y="279"/>
                </a:lnTo>
                <a:lnTo>
                  <a:pt x="1262" y="283"/>
                </a:lnTo>
                <a:lnTo>
                  <a:pt x="1294" y="284"/>
                </a:lnTo>
                <a:lnTo>
                  <a:pt x="1326" y="283"/>
                </a:lnTo>
                <a:lnTo>
                  <a:pt x="1326" y="283"/>
                </a:lnTo>
                <a:lnTo>
                  <a:pt x="1326" y="283"/>
                </a:lnTo>
                <a:lnTo>
                  <a:pt x="1376" y="275"/>
                </a:lnTo>
                <a:lnTo>
                  <a:pt x="1376" y="275"/>
                </a:lnTo>
                <a:lnTo>
                  <a:pt x="1376" y="275"/>
                </a:lnTo>
                <a:lnTo>
                  <a:pt x="1430" y="273"/>
                </a:lnTo>
                <a:lnTo>
                  <a:pt x="1430" y="273"/>
                </a:lnTo>
                <a:lnTo>
                  <a:pt x="1520" y="273"/>
                </a:lnTo>
                <a:lnTo>
                  <a:pt x="1567" y="277"/>
                </a:lnTo>
                <a:lnTo>
                  <a:pt x="1614" y="281"/>
                </a:lnTo>
                <a:lnTo>
                  <a:pt x="1614" y="281"/>
                </a:lnTo>
                <a:lnTo>
                  <a:pt x="1610" y="292"/>
                </a:lnTo>
                <a:lnTo>
                  <a:pt x="1608" y="301"/>
                </a:lnTo>
                <a:lnTo>
                  <a:pt x="1608" y="311"/>
                </a:lnTo>
                <a:lnTo>
                  <a:pt x="1610" y="320"/>
                </a:lnTo>
                <a:lnTo>
                  <a:pt x="1610" y="320"/>
                </a:lnTo>
                <a:lnTo>
                  <a:pt x="1610" y="322"/>
                </a:lnTo>
                <a:lnTo>
                  <a:pt x="1610" y="322"/>
                </a:lnTo>
                <a:lnTo>
                  <a:pt x="1638" y="342"/>
                </a:lnTo>
                <a:lnTo>
                  <a:pt x="1668" y="367"/>
                </a:lnTo>
                <a:lnTo>
                  <a:pt x="1668" y="367"/>
                </a:lnTo>
                <a:lnTo>
                  <a:pt x="1694" y="393"/>
                </a:lnTo>
                <a:lnTo>
                  <a:pt x="1720" y="419"/>
                </a:lnTo>
                <a:lnTo>
                  <a:pt x="1720" y="419"/>
                </a:lnTo>
                <a:lnTo>
                  <a:pt x="1720" y="419"/>
                </a:lnTo>
                <a:lnTo>
                  <a:pt x="1743" y="453"/>
                </a:lnTo>
                <a:lnTo>
                  <a:pt x="1752" y="468"/>
                </a:lnTo>
                <a:lnTo>
                  <a:pt x="1761" y="486"/>
                </a:lnTo>
                <a:lnTo>
                  <a:pt x="1761" y="486"/>
                </a:lnTo>
                <a:lnTo>
                  <a:pt x="1761" y="488"/>
                </a:lnTo>
                <a:lnTo>
                  <a:pt x="1761" y="488"/>
                </a:lnTo>
                <a:lnTo>
                  <a:pt x="1737" y="501"/>
                </a:lnTo>
                <a:lnTo>
                  <a:pt x="1737" y="501"/>
                </a:lnTo>
                <a:lnTo>
                  <a:pt x="1700" y="518"/>
                </a:lnTo>
                <a:lnTo>
                  <a:pt x="1662" y="533"/>
                </a:lnTo>
                <a:lnTo>
                  <a:pt x="1625" y="546"/>
                </a:lnTo>
                <a:lnTo>
                  <a:pt x="1589" y="559"/>
                </a:lnTo>
                <a:lnTo>
                  <a:pt x="1589" y="559"/>
                </a:lnTo>
                <a:lnTo>
                  <a:pt x="1589" y="559"/>
                </a:lnTo>
                <a:lnTo>
                  <a:pt x="1589" y="559"/>
                </a:lnTo>
                <a:lnTo>
                  <a:pt x="1574" y="567"/>
                </a:lnTo>
                <a:lnTo>
                  <a:pt x="1560" y="574"/>
                </a:lnTo>
                <a:lnTo>
                  <a:pt x="1528" y="589"/>
                </a:lnTo>
                <a:lnTo>
                  <a:pt x="1513" y="597"/>
                </a:lnTo>
                <a:lnTo>
                  <a:pt x="1502" y="608"/>
                </a:lnTo>
                <a:lnTo>
                  <a:pt x="1498" y="614"/>
                </a:lnTo>
                <a:lnTo>
                  <a:pt x="1494" y="621"/>
                </a:lnTo>
                <a:lnTo>
                  <a:pt x="1492" y="628"/>
                </a:lnTo>
                <a:lnTo>
                  <a:pt x="1490" y="638"/>
                </a:lnTo>
                <a:lnTo>
                  <a:pt x="1494" y="638"/>
                </a:lnTo>
                <a:lnTo>
                  <a:pt x="1494" y="638"/>
                </a:lnTo>
                <a:lnTo>
                  <a:pt x="1494" y="638"/>
                </a:lnTo>
                <a:lnTo>
                  <a:pt x="1490" y="638"/>
                </a:lnTo>
                <a:lnTo>
                  <a:pt x="1494" y="638"/>
                </a:lnTo>
                <a:lnTo>
                  <a:pt x="1490" y="638"/>
                </a:lnTo>
                <a:lnTo>
                  <a:pt x="1490" y="638"/>
                </a:lnTo>
                <a:lnTo>
                  <a:pt x="1490" y="638"/>
                </a:lnTo>
                <a:lnTo>
                  <a:pt x="1490" y="638"/>
                </a:lnTo>
                <a:lnTo>
                  <a:pt x="1494" y="658"/>
                </a:lnTo>
                <a:lnTo>
                  <a:pt x="1502" y="679"/>
                </a:lnTo>
                <a:lnTo>
                  <a:pt x="1502" y="679"/>
                </a:lnTo>
                <a:lnTo>
                  <a:pt x="1498" y="677"/>
                </a:lnTo>
                <a:lnTo>
                  <a:pt x="1496" y="681"/>
                </a:lnTo>
                <a:lnTo>
                  <a:pt x="1496" y="68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65680" y="333072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0" y="1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3760" y="322272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82680" y="315432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87760" y="31464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95360" y="3106800"/>
            <a:ext cx="180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25920" y="306540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2" y="0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73360" y="3009960"/>
            <a:ext cx="3043080" cy="1503360"/>
          </a:xfrm>
          <a:custGeom>
            <a:avLst/>
            <a:gdLst/>
            <a:ahLst/>
            <a:rect l="l" t="t" r="r" b="b"/>
            <a:pathLst>
              <a:path w="1917" h="947">
                <a:moveTo>
                  <a:pt x="892" y="798"/>
                </a:moveTo>
                <a:lnTo>
                  <a:pt x="892" y="798"/>
                </a:lnTo>
                <a:lnTo>
                  <a:pt x="887" y="766"/>
                </a:lnTo>
                <a:lnTo>
                  <a:pt x="883" y="736"/>
                </a:lnTo>
                <a:lnTo>
                  <a:pt x="883" y="736"/>
                </a:lnTo>
                <a:lnTo>
                  <a:pt x="885" y="703"/>
                </a:lnTo>
                <a:lnTo>
                  <a:pt x="883" y="671"/>
                </a:lnTo>
                <a:lnTo>
                  <a:pt x="879" y="639"/>
                </a:lnTo>
                <a:lnTo>
                  <a:pt x="872" y="609"/>
                </a:lnTo>
                <a:lnTo>
                  <a:pt x="860" y="581"/>
                </a:lnTo>
                <a:lnTo>
                  <a:pt x="845" y="555"/>
                </a:lnTo>
                <a:lnTo>
                  <a:pt x="829" y="529"/>
                </a:lnTo>
                <a:lnTo>
                  <a:pt x="810" y="506"/>
                </a:lnTo>
                <a:lnTo>
                  <a:pt x="810" y="506"/>
                </a:lnTo>
                <a:lnTo>
                  <a:pt x="787" y="486"/>
                </a:lnTo>
                <a:lnTo>
                  <a:pt x="763" y="467"/>
                </a:lnTo>
                <a:lnTo>
                  <a:pt x="737" y="448"/>
                </a:lnTo>
                <a:lnTo>
                  <a:pt x="711" y="435"/>
                </a:lnTo>
                <a:lnTo>
                  <a:pt x="681" y="422"/>
                </a:lnTo>
                <a:lnTo>
                  <a:pt x="651" y="411"/>
                </a:lnTo>
                <a:lnTo>
                  <a:pt x="619" y="403"/>
                </a:lnTo>
                <a:lnTo>
                  <a:pt x="587" y="400"/>
                </a:lnTo>
                <a:lnTo>
                  <a:pt x="587" y="400"/>
                </a:lnTo>
                <a:lnTo>
                  <a:pt x="587" y="400"/>
                </a:lnTo>
                <a:lnTo>
                  <a:pt x="557" y="394"/>
                </a:lnTo>
                <a:lnTo>
                  <a:pt x="527" y="392"/>
                </a:lnTo>
                <a:lnTo>
                  <a:pt x="527" y="392"/>
                </a:lnTo>
                <a:lnTo>
                  <a:pt x="527" y="392"/>
                </a:lnTo>
                <a:lnTo>
                  <a:pt x="481" y="387"/>
                </a:lnTo>
                <a:lnTo>
                  <a:pt x="434" y="377"/>
                </a:lnTo>
                <a:lnTo>
                  <a:pt x="389" y="366"/>
                </a:lnTo>
                <a:lnTo>
                  <a:pt x="344" y="353"/>
                </a:lnTo>
                <a:lnTo>
                  <a:pt x="344" y="353"/>
                </a:lnTo>
                <a:lnTo>
                  <a:pt x="284" y="332"/>
                </a:lnTo>
                <a:lnTo>
                  <a:pt x="284" y="332"/>
                </a:lnTo>
                <a:lnTo>
                  <a:pt x="251" y="314"/>
                </a:lnTo>
                <a:lnTo>
                  <a:pt x="217" y="295"/>
                </a:lnTo>
                <a:lnTo>
                  <a:pt x="180" y="280"/>
                </a:lnTo>
                <a:lnTo>
                  <a:pt x="144" y="267"/>
                </a:lnTo>
                <a:lnTo>
                  <a:pt x="144" y="267"/>
                </a:lnTo>
                <a:lnTo>
                  <a:pt x="105" y="258"/>
                </a:lnTo>
                <a:lnTo>
                  <a:pt x="67" y="250"/>
                </a:lnTo>
                <a:lnTo>
                  <a:pt x="67" y="250"/>
                </a:lnTo>
                <a:lnTo>
                  <a:pt x="51" y="246"/>
                </a:lnTo>
                <a:lnTo>
                  <a:pt x="34" y="245"/>
                </a:lnTo>
                <a:lnTo>
                  <a:pt x="17" y="245"/>
                </a:lnTo>
                <a:lnTo>
                  <a:pt x="0" y="246"/>
                </a:lnTo>
                <a:lnTo>
                  <a:pt x="0" y="246"/>
                </a:lnTo>
                <a:lnTo>
                  <a:pt x="13" y="233"/>
                </a:lnTo>
                <a:lnTo>
                  <a:pt x="28" y="220"/>
                </a:lnTo>
                <a:lnTo>
                  <a:pt x="58" y="196"/>
                </a:lnTo>
                <a:lnTo>
                  <a:pt x="90" y="175"/>
                </a:lnTo>
                <a:lnTo>
                  <a:pt x="124" y="159"/>
                </a:lnTo>
                <a:lnTo>
                  <a:pt x="157" y="142"/>
                </a:lnTo>
                <a:lnTo>
                  <a:pt x="191" y="127"/>
                </a:lnTo>
                <a:lnTo>
                  <a:pt x="260" y="97"/>
                </a:lnTo>
                <a:lnTo>
                  <a:pt x="260" y="97"/>
                </a:lnTo>
                <a:lnTo>
                  <a:pt x="258" y="93"/>
                </a:lnTo>
                <a:lnTo>
                  <a:pt x="260" y="97"/>
                </a:lnTo>
                <a:lnTo>
                  <a:pt x="258" y="93"/>
                </a:lnTo>
                <a:lnTo>
                  <a:pt x="258" y="93"/>
                </a:lnTo>
                <a:lnTo>
                  <a:pt x="258" y="93"/>
                </a:lnTo>
                <a:lnTo>
                  <a:pt x="260" y="97"/>
                </a:lnTo>
                <a:lnTo>
                  <a:pt x="260" y="97"/>
                </a:lnTo>
                <a:lnTo>
                  <a:pt x="296" y="80"/>
                </a:lnTo>
                <a:lnTo>
                  <a:pt x="331" y="67"/>
                </a:lnTo>
                <a:lnTo>
                  <a:pt x="331" y="67"/>
                </a:lnTo>
                <a:lnTo>
                  <a:pt x="329" y="63"/>
                </a:lnTo>
                <a:lnTo>
                  <a:pt x="331" y="67"/>
                </a:lnTo>
                <a:lnTo>
                  <a:pt x="329" y="63"/>
                </a:lnTo>
                <a:lnTo>
                  <a:pt x="329" y="63"/>
                </a:lnTo>
                <a:lnTo>
                  <a:pt x="329" y="63"/>
                </a:lnTo>
                <a:lnTo>
                  <a:pt x="331" y="67"/>
                </a:lnTo>
                <a:lnTo>
                  <a:pt x="331" y="67"/>
                </a:lnTo>
                <a:lnTo>
                  <a:pt x="357" y="58"/>
                </a:lnTo>
                <a:lnTo>
                  <a:pt x="383" y="50"/>
                </a:lnTo>
                <a:lnTo>
                  <a:pt x="410" y="44"/>
                </a:lnTo>
                <a:lnTo>
                  <a:pt x="436" y="43"/>
                </a:lnTo>
                <a:lnTo>
                  <a:pt x="460" y="41"/>
                </a:lnTo>
                <a:lnTo>
                  <a:pt x="484" y="43"/>
                </a:lnTo>
                <a:lnTo>
                  <a:pt x="507" y="46"/>
                </a:lnTo>
                <a:lnTo>
                  <a:pt x="527" y="54"/>
                </a:lnTo>
                <a:lnTo>
                  <a:pt x="527" y="50"/>
                </a:lnTo>
                <a:lnTo>
                  <a:pt x="527" y="54"/>
                </a:lnTo>
                <a:lnTo>
                  <a:pt x="527" y="54"/>
                </a:lnTo>
                <a:lnTo>
                  <a:pt x="541" y="59"/>
                </a:lnTo>
                <a:lnTo>
                  <a:pt x="552" y="67"/>
                </a:lnTo>
                <a:lnTo>
                  <a:pt x="563" y="76"/>
                </a:lnTo>
                <a:lnTo>
                  <a:pt x="574" y="87"/>
                </a:lnTo>
                <a:lnTo>
                  <a:pt x="576" y="86"/>
                </a:lnTo>
                <a:lnTo>
                  <a:pt x="576" y="86"/>
                </a:lnTo>
                <a:lnTo>
                  <a:pt x="576" y="86"/>
                </a:lnTo>
                <a:lnTo>
                  <a:pt x="574" y="87"/>
                </a:lnTo>
                <a:lnTo>
                  <a:pt x="574" y="87"/>
                </a:lnTo>
                <a:lnTo>
                  <a:pt x="574" y="87"/>
                </a:lnTo>
                <a:lnTo>
                  <a:pt x="574" y="87"/>
                </a:lnTo>
                <a:lnTo>
                  <a:pt x="587" y="104"/>
                </a:lnTo>
                <a:lnTo>
                  <a:pt x="597" y="119"/>
                </a:lnTo>
                <a:lnTo>
                  <a:pt x="602" y="132"/>
                </a:lnTo>
                <a:lnTo>
                  <a:pt x="602" y="145"/>
                </a:lnTo>
                <a:lnTo>
                  <a:pt x="600" y="159"/>
                </a:lnTo>
                <a:lnTo>
                  <a:pt x="595" y="170"/>
                </a:lnTo>
                <a:lnTo>
                  <a:pt x="589" y="181"/>
                </a:lnTo>
                <a:lnTo>
                  <a:pt x="580" y="192"/>
                </a:lnTo>
                <a:lnTo>
                  <a:pt x="580" y="192"/>
                </a:lnTo>
                <a:lnTo>
                  <a:pt x="561" y="216"/>
                </a:lnTo>
                <a:lnTo>
                  <a:pt x="541" y="241"/>
                </a:lnTo>
                <a:lnTo>
                  <a:pt x="533" y="254"/>
                </a:lnTo>
                <a:lnTo>
                  <a:pt x="527" y="267"/>
                </a:lnTo>
                <a:lnTo>
                  <a:pt x="524" y="282"/>
                </a:lnTo>
                <a:lnTo>
                  <a:pt x="522" y="297"/>
                </a:lnTo>
                <a:lnTo>
                  <a:pt x="526" y="297"/>
                </a:lnTo>
                <a:lnTo>
                  <a:pt x="526" y="297"/>
                </a:lnTo>
                <a:lnTo>
                  <a:pt x="522" y="297"/>
                </a:lnTo>
                <a:lnTo>
                  <a:pt x="522" y="297"/>
                </a:lnTo>
                <a:lnTo>
                  <a:pt x="522" y="297"/>
                </a:lnTo>
                <a:lnTo>
                  <a:pt x="522" y="297"/>
                </a:lnTo>
                <a:lnTo>
                  <a:pt x="527" y="317"/>
                </a:lnTo>
                <a:lnTo>
                  <a:pt x="535" y="334"/>
                </a:lnTo>
                <a:lnTo>
                  <a:pt x="542" y="349"/>
                </a:lnTo>
                <a:lnTo>
                  <a:pt x="554" y="360"/>
                </a:lnTo>
                <a:lnTo>
                  <a:pt x="565" y="370"/>
                </a:lnTo>
                <a:lnTo>
                  <a:pt x="578" y="377"/>
                </a:lnTo>
                <a:lnTo>
                  <a:pt x="591" y="385"/>
                </a:lnTo>
                <a:lnTo>
                  <a:pt x="606" y="388"/>
                </a:lnTo>
                <a:lnTo>
                  <a:pt x="606" y="388"/>
                </a:lnTo>
                <a:lnTo>
                  <a:pt x="623" y="390"/>
                </a:lnTo>
                <a:lnTo>
                  <a:pt x="640" y="392"/>
                </a:lnTo>
                <a:lnTo>
                  <a:pt x="675" y="390"/>
                </a:lnTo>
                <a:lnTo>
                  <a:pt x="713" y="385"/>
                </a:lnTo>
                <a:lnTo>
                  <a:pt x="752" y="379"/>
                </a:lnTo>
                <a:lnTo>
                  <a:pt x="752" y="379"/>
                </a:lnTo>
                <a:lnTo>
                  <a:pt x="827" y="362"/>
                </a:lnTo>
                <a:lnTo>
                  <a:pt x="827" y="362"/>
                </a:lnTo>
                <a:lnTo>
                  <a:pt x="827" y="362"/>
                </a:lnTo>
                <a:lnTo>
                  <a:pt x="855" y="360"/>
                </a:lnTo>
                <a:lnTo>
                  <a:pt x="885" y="360"/>
                </a:lnTo>
                <a:lnTo>
                  <a:pt x="913" y="364"/>
                </a:lnTo>
                <a:lnTo>
                  <a:pt x="941" y="370"/>
                </a:lnTo>
                <a:lnTo>
                  <a:pt x="969" y="375"/>
                </a:lnTo>
                <a:lnTo>
                  <a:pt x="997" y="385"/>
                </a:lnTo>
                <a:lnTo>
                  <a:pt x="1053" y="402"/>
                </a:lnTo>
                <a:lnTo>
                  <a:pt x="1053" y="402"/>
                </a:lnTo>
                <a:lnTo>
                  <a:pt x="1060" y="403"/>
                </a:lnTo>
                <a:lnTo>
                  <a:pt x="1060" y="403"/>
                </a:lnTo>
                <a:lnTo>
                  <a:pt x="1066" y="417"/>
                </a:lnTo>
                <a:lnTo>
                  <a:pt x="1073" y="428"/>
                </a:lnTo>
                <a:lnTo>
                  <a:pt x="1077" y="426"/>
                </a:lnTo>
                <a:lnTo>
                  <a:pt x="1073" y="428"/>
                </a:lnTo>
                <a:lnTo>
                  <a:pt x="1073" y="428"/>
                </a:lnTo>
                <a:lnTo>
                  <a:pt x="1083" y="443"/>
                </a:lnTo>
                <a:lnTo>
                  <a:pt x="1096" y="458"/>
                </a:lnTo>
                <a:lnTo>
                  <a:pt x="1109" y="471"/>
                </a:lnTo>
                <a:lnTo>
                  <a:pt x="1122" y="482"/>
                </a:lnTo>
                <a:lnTo>
                  <a:pt x="1124" y="480"/>
                </a:lnTo>
                <a:lnTo>
                  <a:pt x="1124" y="480"/>
                </a:lnTo>
                <a:lnTo>
                  <a:pt x="1122" y="482"/>
                </a:lnTo>
                <a:lnTo>
                  <a:pt x="1122" y="482"/>
                </a:lnTo>
                <a:lnTo>
                  <a:pt x="1122" y="482"/>
                </a:lnTo>
                <a:lnTo>
                  <a:pt x="1122" y="482"/>
                </a:lnTo>
                <a:lnTo>
                  <a:pt x="1148" y="499"/>
                </a:lnTo>
                <a:lnTo>
                  <a:pt x="1174" y="514"/>
                </a:lnTo>
                <a:lnTo>
                  <a:pt x="1201" y="529"/>
                </a:lnTo>
                <a:lnTo>
                  <a:pt x="1227" y="542"/>
                </a:lnTo>
                <a:lnTo>
                  <a:pt x="1281" y="564"/>
                </a:lnTo>
                <a:lnTo>
                  <a:pt x="1335" y="583"/>
                </a:lnTo>
                <a:lnTo>
                  <a:pt x="1393" y="598"/>
                </a:lnTo>
                <a:lnTo>
                  <a:pt x="1449" y="609"/>
                </a:lnTo>
                <a:lnTo>
                  <a:pt x="1507" y="618"/>
                </a:lnTo>
                <a:lnTo>
                  <a:pt x="1565" y="626"/>
                </a:lnTo>
                <a:lnTo>
                  <a:pt x="1565" y="626"/>
                </a:lnTo>
                <a:lnTo>
                  <a:pt x="1633" y="630"/>
                </a:lnTo>
                <a:lnTo>
                  <a:pt x="1633" y="630"/>
                </a:lnTo>
                <a:lnTo>
                  <a:pt x="1633" y="630"/>
                </a:lnTo>
                <a:lnTo>
                  <a:pt x="1633" y="626"/>
                </a:lnTo>
                <a:lnTo>
                  <a:pt x="1633" y="626"/>
                </a:lnTo>
                <a:lnTo>
                  <a:pt x="1633" y="626"/>
                </a:lnTo>
                <a:lnTo>
                  <a:pt x="1633" y="626"/>
                </a:lnTo>
                <a:lnTo>
                  <a:pt x="1633" y="630"/>
                </a:lnTo>
                <a:lnTo>
                  <a:pt x="1633" y="630"/>
                </a:lnTo>
                <a:lnTo>
                  <a:pt x="1698" y="632"/>
                </a:lnTo>
                <a:lnTo>
                  <a:pt x="1760" y="633"/>
                </a:lnTo>
                <a:lnTo>
                  <a:pt x="1821" y="639"/>
                </a:lnTo>
                <a:lnTo>
                  <a:pt x="1883" y="646"/>
                </a:lnTo>
                <a:lnTo>
                  <a:pt x="1883" y="646"/>
                </a:lnTo>
                <a:lnTo>
                  <a:pt x="1894" y="706"/>
                </a:lnTo>
                <a:lnTo>
                  <a:pt x="1906" y="764"/>
                </a:lnTo>
                <a:lnTo>
                  <a:pt x="1913" y="824"/>
                </a:lnTo>
                <a:lnTo>
                  <a:pt x="1917" y="884"/>
                </a:lnTo>
                <a:lnTo>
                  <a:pt x="1917" y="884"/>
                </a:lnTo>
                <a:lnTo>
                  <a:pt x="1891" y="882"/>
                </a:lnTo>
                <a:lnTo>
                  <a:pt x="1891" y="882"/>
                </a:lnTo>
                <a:lnTo>
                  <a:pt x="1836" y="880"/>
                </a:lnTo>
                <a:lnTo>
                  <a:pt x="1780" y="878"/>
                </a:lnTo>
                <a:lnTo>
                  <a:pt x="1670" y="876"/>
                </a:lnTo>
                <a:lnTo>
                  <a:pt x="1670" y="876"/>
                </a:lnTo>
                <a:lnTo>
                  <a:pt x="1638" y="867"/>
                </a:lnTo>
                <a:lnTo>
                  <a:pt x="1605" y="856"/>
                </a:lnTo>
                <a:lnTo>
                  <a:pt x="1605" y="856"/>
                </a:lnTo>
                <a:lnTo>
                  <a:pt x="1577" y="843"/>
                </a:lnTo>
                <a:lnTo>
                  <a:pt x="1547" y="830"/>
                </a:lnTo>
                <a:lnTo>
                  <a:pt x="1490" y="802"/>
                </a:lnTo>
                <a:lnTo>
                  <a:pt x="1433" y="775"/>
                </a:lnTo>
                <a:lnTo>
                  <a:pt x="1404" y="764"/>
                </a:lnTo>
                <a:lnTo>
                  <a:pt x="1376" y="753"/>
                </a:lnTo>
                <a:lnTo>
                  <a:pt x="1376" y="753"/>
                </a:lnTo>
                <a:lnTo>
                  <a:pt x="1348" y="747"/>
                </a:lnTo>
                <a:lnTo>
                  <a:pt x="1320" y="742"/>
                </a:lnTo>
                <a:lnTo>
                  <a:pt x="1292" y="742"/>
                </a:lnTo>
                <a:lnTo>
                  <a:pt x="1266" y="746"/>
                </a:lnTo>
                <a:lnTo>
                  <a:pt x="1251" y="749"/>
                </a:lnTo>
                <a:lnTo>
                  <a:pt x="1238" y="753"/>
                </a:lnTo>
                <a:lnTo>
                  <a:pt x="1225" y="759"/>
                </a:lnTo>
                <a:lnTo>
                  <a:pt x="1212" y="766"/>
                </a:lnTo>
                <a:lnTo>
                  <a:pt x="1199" y="774"/>
                </a:lnTo>
                <a:lnTo>
                  <a:pt x="1186" y="785"/>
                </a:lnTo>
                <a:lnTo>
                  <a:pt x="1173" y="796"/>
                </a:lnTo>
                <a:lnTo>
                  <a:pt x="1161" y="807"/>
                </a:lnTo>
                <a:lnTo>
                  <a:pt x="1163" y="811"/>
                </a:lnTo>
                <a:lnTo>
                  <a:pt x="1161" y="807"/>
                </a:lnTo>
                <a:lnTo>
                  <a:pt x="1160" y="809"/>
                </a:lnTo>
                <a:lnTo>
                  <a:pt x="1160" y="809"/>
                </a:lnTo>
                <a:lnTo>
                  <a:pt x="1160" y="809"/>
                </a:lnTo>
                <a:lnTo>
                  <a:pt x="1158" y="818"/>
                </a:lnTo>
                <a:lnTo>
                  <a:pt x="1154" y="828"/>
                </a:lnTo>
                <a:lnTo>
                  <a:pt x="1152" y="847"/>
                </a:lnTo>
                <a:lnTo>
                  <a:pt x="1152" y="847"/>
                </a:lnTo>
                <a:lnTo>
                  <a:pt x="1124" y="867"/>
                </a:lnTo>
                <a:lnTo>
                  <a:pt x="1124" y="869"/>
                </a:lnTo>
                <a:lnTo>
                  <a:pt x="1124" y="869"/>
                </a:lnTo>
                <a:lnTo>
                  <a:pt x="1124" y="869"/>
                </a:lnTo>
                <a:lnTo>
                  <a:pt x="1124" y="867"/>
                </a:lnTo>
                <a:lnTo>
                  <a:pt x="1124" y="867"/>
                </a:lnTo>
                <a:lnTo>
                  <a:pt x="1124" y="867"/>
                </a:lnTo>
                <a:lnTo>
                  <a:pt x="1124" y="867"/>
                </a:lnTo>
                <a:lnTo>
                  <a:pt x="1092" y="888"/>
                </a:lnTo>
                <a:lnTo>
                  <a:pt x="1060" y="908"/>
                </a:lnTo>
                <a:lnTo>
                  <a:pt x="1060" y="908"/>
                </a:lnTo>
                <a:lnTo>
                  <a:pt x="1027" y="927"/>
                </a:lnTo>
                <a:lnTo>
                  <a:pt x="993" y="940"/>
                </a:lnTo>
                <a:lnTo>
                  <a:pt x="995" y="942"/>
                </a:lnTo>
                <a:lnTo>
                  <a:pt x="995" y="942"/>
                </a:lnTo>
                <a:lnTo>
                  <a:pt x="993" y="940"/>
                </a:lnTo>
                <a:lnTo>
                  <a:pt x="993" y="940"/>
                </a:lnTo>
                <a:lnTo>
                  <a:pt x="993" y="940"/>
                </a:lnTo>
                <a:lnTo>
                  <a:pt x="974" y="947"/>
                </a:lnTo>
                <a:lnTo>
                  <a:pt x="974" y="947"/>
                </a:lnTo>
                <a:lnTo>
                  <a:pt x="958" y="931"/>
                </a:lnTo>
                <a:lnTo>
                  <a:pt x="943" y="914"/>
                </a:lnTo>
                <a:lnTo>
                  <a:pt x="931" y="895"/>
                </a:lnTo>
                <a:lnTo>
                  <a:pt x="920" y="876"/>
                </a:lnTo>
                <a:lnTo>
                  <a:pt x="911" y="858"/>
                </a:lnTo>
                <a:lnTo>
                  <a:pt x="903" y="839"/>
                </a:lnTo>
                <a:lnTo>
                  <a:pt x="898" y="818"/>
                </a:lnTo>
                <a:lnTo>
                  <a:pt x="892" y="798"/>
                </a:lnTo>
                <a:close/>
                <a:moveTo>
                  <a:pt x="825" y="360"/>
                </a:moveTo>
                <a:lnTo>
                  <a:pt x="825" y="360"/>
                </a:lnTo>
                <a:lnTo>
                  <a:pt x="825" y="360"/>
                </a:lnTo>
                <a:lnTo>
                  <a:pt x="825" y="360"/>
                </a:lnTo>
                <a:close/>
                <a:moveTo>
                  <a:pt x="1320" y="202"/>
                </a:moveTo>
                <a:lnTo>
                  <a:pt x="1324" y="200"/>
                </a:lnTo>
                <a:lnTo>
                  <a:pt x="1324" y="200"/>
                </a:lnTo>
                <a:lnTo>
                  <a:pt x="1315" y="183"/>
                </a:lnTo>
                <a:lnTo>
                  <a:pt x="1305" y="166"/>
                </a:lnTo>
                <a:lnTo>
                  <a:pt x="1281" y="132"/>
                </a:lnTo>
                <a:lnTo>
                  <a:pt x="1281" y="132"/>
                </a:lnTo>
                <a:lnTo>
                  <a:pt x="1281" y="132"/>
                </a:lnTo>
                <a:lnTo>
                  <a:pt x="1281" y="132"/>
                </a:lnTo>
                <a:lnTo>
                  <a:pt x="1255" y="104"/>
                </a:lnTo>
                <a:lnTo>
                  <a:pt x="1229" y="80"/>
                </a:lnTo>
                <a:lnTo>
                  <a:pt x="1229" y="80"/>
                </a:lnTo>
                <a:lnTo>
                  <a:pt x="1201" y="56"/>
                </a:lnTo>
                <a:lnTo>
                  <a:pt x="1171" y="33"/>
                </a:lnTo>
                <a:lnTo>
                  <a:pt x="1171" y="33"/>
                </a:lnTo>
                <a:lnTo>
                  <a:pt x="1171" y="26"/>
                </a:lnTo>
                <a:lnTo>
                  <a:pt x="1171" y="18"/>
                </a:lnTo>
                <a:lnTo>
                  <a:pt x="1173" y="9"/>
                </a:lnTo>
                <a:lnTo>
                  <a:pt x="1176" y="0"/>
                </a:lnTo>
                <a:lnTo>
                  <a:pt x="1176" y="0"/>
                </a:lnTo>
                <a:lnTo>
                  <a:pt x="1208" y="5"/>
                </a:lnTo>
                <a:lnTo>
                  <a:pt x="1238" y="13"/>
                </a:lnTo>
                <a:lnTo>
                  <a:pt x="1264" y="22"/>
                </a:lnTo>
                <a:lnTo>
                  <a:pt x="1290" y="35"/>
                </a:lnTo>
                <a:lnTo>
                  <a:pt x="1311" y="50"/>
                </a:lnTo>
                <a:lnTo>
                  <a:pt x="1322" y="59"/>
                </a:lnTo>
                <a:lnTo>
                  <a:pt x="1330" y="69"/>
                </a:lnTo>
                <a:lnTo>
                  <a:pt x="1337" y="78"/>
                </a:lnTo>
                <a:lnTo>
                  <a:pt x="1345" y="89"/>
                </a:lnTo>
                <a:lnTo>
                  <a:pt x="1350" y="102"/>
                </a:lnTo>
                <a:lnTo>
                  <a:pt x="1354" y="116"/>
                </a:lnTo>
                <a:lnTo>
                  <a:pt x="1354" y="116"/>
                </a:lnTo>
                <a:lnTo>
                  <a:pt x="1358" y="130"/>
                </a:lnTo>
                <a:lnTo>
                  <a:pt x="1358" y="142"/>
                </a:lnTo>
                <a:lnTo>
                  <a:pt x="1356" y="155"/>
                </a:lnTo>
                <a:lnTo>
                  <a:pt x="1354" y="164"/>
                </a:lnTo>
                <a:lnTo>
                  <a:pt x="1348" y="175"/>
                </a:lnTo>
                <a:lnTo>
                  <a:pt x="1341" y="185"/>
                </a:lnTo>
                <a:lnTo>
                  <a:pt x="1333" y="192"/>
                </a:lnTo>
                <a:lnTo>
                  <a:pt x="1324" y="202"/>
                </a:lnTo>
                <a:lnTo>
                  <a:pt x="1324" y="202"/>
                </a:lnTo>
                <a:lnTo>
                  <a:pt x="1324" y="200"/>
                </a:lnTo>
                <a:lnTo>
                  <a:pt x="1324" y="200"/>
                </a:lnTo>
                <a:lnTo>
                  <a:pt x="1322" y="202"/>
                </a:lnTo>
                <a:lnTo>
                  <a:pt x="1320" y="202"/>
                </a:lnTo>
                <a:lnTo>
                  <a:pt x="1320" y="202"/>
                </a:lnTo>
                <a:lnTo>
                  <a:pt x="1320" y="202"/>
                </a:lnTo>
                <a:close/>
                <a:moveTo>
                  <a:pt x="1279" y="134"/>
                </a:moveTo>
                <a:lnTo>
                  <a:pt x="1279" y="134"/>
                </a:lnTo>
                <a:lnTo>
                  <a:pt x="1281" y="132"/>
                </a:lnTo>
                <a:lnTo>
                  <a:pt x="1279" y="134"/>
                </a:lnTo>
                <a:lnTo>
                  <a:pt x="1279" y="134"/>
                </a:lnTo>
                <a:lnTo>
                  <a:pt x="1279" y="134"/>
                </a:lnTo>
                <a:close/>
              </a:path>
            </a:pathLst>
          </a:custGeom>
          <a:solidFill>
            <a:srgbClr val="db7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73360" y="3075120"/>
            <a:ext cx="3043080" cy="1438200"/>
          </a:xfrm>
          <a:custGeom>
            <a:avLst/>
            <a:gdLst/>
            <a:ahLst/>
            <a:rect l="l" t="t" r="r" b="b"/>
            <a:pathLst>
              <a:path w="1917" h="906">
                <a:moveTo>
                  <a:pt x="892" y="757"/>
                </a:moveTo>
                <a:lnTo>
                  <a:pt x="892" y="757"/>
                </a:lnTo>
                <a:lnTo>
                  <a:pt x="887" y="725"/>
                </a:lnTo>
                <a:lnTo>
                  <a:pt x="883" y="695"/>
                </a:lnTo>
                <a:lnTo>
                  <a:pt x="883" y="695"/>
                </a:lnTo>
                <a:lnTo>
                  <a:pt x="885" y="662"/>
                </a:lnTo>
                <a:lnTo>
                  <a:pt x="883" y="630"/>
                </a:lnTo>
                <a:lnTo>
                  <a:pt x="879" y="598"/>
                </a:lnTo>
                <a:lnTo>
                  <a:pt x="872" y="568"/>
                </a:lnTo>
                <a:lnTo>
                  <a:pt x="860" y="540"/>
                </a:lnTo>
                <a:lnTo>
                  <a:pt x="845" y="514"/>
                </a:lnTo>
                <a:lnTo>
                  <a:pt x="829" y="488"/>
                </a:lnTo>
                <a:lnTo>
                  <a:pt x="810" y="465"/>
                </a:lnTo>
                <a:lnTo>
                  <a:pt x="810" y="465"/>
                </a:lnTo>
                <a:lnTo>
                  <a:pt x="787" y="445"/>
                </a:lnTo>
                <a:lnTo>
                  <a:pt x="763" y="426"/>
                </a:lnTo>
                <a:lnTo>
                  <a:pt x="737" y="407"/>
                </a:lnTo>
                <a:lnTo>
                  <a:pt x="711" y="394"/>
                </a:lnTo>
                <a:lnTo>
                  <a:pt x="681" y="381"/>
                </a:lnTo>
                <a:lnTo>
                  <a:pt x="651" y="370"/>
                </a:lnTo>
                <a:lnTo>
                  <a:pt x="619" y="362"/>
                </a:lnTo>
                <a:lnTo>
                  <a:pt x="587" y="359"/>
                </a:lnTo>
                <a:lnTo>
                  <a:pt x="587" y="359"/>
                </a:lnTo>
                <a:lnTo>
                  <a:pt x="587" y="359"/>
                </a:lnTo>
                <a:lnTo>
                  <a:pt x="557" y="353"/>
                </a:lnTo>
                <a:lnTo>
                  <a:pt x="527" y="351"/>
                </a:lnTo>
                <a:lnTo>
                  <a:pt x="527" y="351"/>
                </a:lnTo>
                <a:lnTo>
                  <a:pt x="527" y="351"/>
                </a:lnTo>
                <a:lnTo>
                  <a:pt x="481" y="346"/>
                </a:lnTo>
                <a:lnTo>
                  <a:pt x="434" y="336"/>
                </a:lnTo>
                <a:lnTo>
                  <a:pt x="389" y="325"/>
                </a:lnTo>
                <a:lnTo>
                  <a:pt x="344" y="312"/>
                </a:lnTo>
                <a:lnTo>
                  <a:pt x="344" y="312"/>
                </a:lnTo>
                <a:lnTo>
                  <a:pt x="284" y="291"/>
                </a:lnTo>
                <a:lnTo>
                  <a:pt x="284" y="291"/>
                </a:lnTo>
                <a:lnTo>
                  <a:pt x="251" y="273"/>
                </a:lnTo>
                <a:lnTo>
                  <a:pt x="217" y="254"/>
                </a:lnTo>
                <a:lnTo>
                  <a:pt x="180" y="239"/>
                </a:lnTo>
                <a:lnTo>
                  <a:pt x="144" y="226"/>
                </a:lnTo>
                <a:lnTo>
                  <a:pt x="144" y="226"/>
                </a:lnTo>
                <a:lnTo>
                  <a:pt x="105" y="217"/>
                </a:lnTo>
                <a:lnTo>
                  <a:pt x="67" y="209"/>
                </a:lnTo>
                <a:lnTo>
                  <a:pt x="67" y="209"/>
                </a:lnTo>
                <a:lnTo>
                  <a:pt x="51" y="205"/>
                </a:lnTo>
                <a:lnTo>
                  <a:pt x="34" y="204"/>
                </a:lnTo>
                <a:lnTo>
                  <a:pt x="17" y="204"/>
                </a:lnTo>
                <a:lnTo>
                  <a:pt x="0" y="205"/>
                </a:lnTo>
                <a:lnTo>
                  <a:pt x="0" y="205"/>
                </a:lnTo>
                <a:lnTo>
                  <a:pt x="13" y="192"/>
                </a:lnTo>
                <a:lnTo>
                  <a:pt x="28" y="179"/>
                </a:lnTo>
                <a:lnTo>
                  <a:pt x="58" y="155"/>
                </a:lnTo>
                <a:lnTo>
                  <a:pt x="90" y="134"/>
                </a:lnTo>
                <a:lnTo>
                  <a:pt x="124" y="118"/>
                </a:lnTo>
                <a:lnTo>
                  <a:pt x="157" y="101"/>
                </a:lnTo>
                <a:lnTo>
                  <a:pt x="191" y="86"/>
                </a:lnTo>
                <a:lnTo>
                  <a:pt x="260" y="56"/>
                </a:lnTo>
                <a:lnTo>
                  <a:pt x="260" y="56"/>
                </a:lnTo>
                <a:lnTo>
                  <a:pt x="258" y="52"/>
                </a:lnTo>
                <a:lnTo>
                  <a:pt x="260" y="56"/>
                </a:lnTo>
                <a:lnTo>
                  <a:pt x="258" y="52"/>
                </a:lnTo>
                <a:lnTo>
                  <a:pt x="258" y="52"/>
                </a:lnTo>
                <a:lnTo>
                  <a:pt x="258" y="52"/>
                </a:lnTo>
                <a:lnTo>
                  <a:pt x="260" y="56"/>
                </a:lnTo>
                <a:lnTo>
                  <a:pt x="260" y="56"/>
                </a:lnTo>
                <a:lnTo>
                  <a:pt x="296" y="39"/>
                </a:lnTo>
                <a:lnTo>
                  <a:pt x="331" y="26"/>
                </a:lnTo>
                <a:lnTo>
                  <a:pt x="331" y="26"/>
                </a:lnTo>
                <a:lnTo>
                  <a:pt x="329" y="22"/>
                </a:lnTo>
                <a:lnTo>
                  <a:pt x="331" y="26"/>
                </a:lnTo>
                <a:lnTo>
                  <a:pt x="329" y="22"/>
                </a:lnTo>
                <a:lnTo>
                  <a:pt x="329" y="22"/>
                </a:lnTo>
                <a:lnTo>
                  <a:pt x="329" y="22"/>
                </a:lnTo>
                <a:lnTo>
                  <a:pt x="331" y="26"/>
                </a:lnTo>
                <a:lnTo>
                  <a:pt x="331" y="26"/>
                </a:lnTo>
                <a:lnTo>
                  <a:pt x="357" y="17"/>
                </a:lnTo>
                <a:lnTo>
                  <a:pt x="383" y="9"/>
                </a:lnTo>
                <a:lnTo>
                  <a:pt x="410" y="3"/>
                </a:lnTo>
                <a:lnTo>
                  <a:pt x="436" y="2"/>
                </a:lnTo>
                <a:lnTo>
                  <a:pt x="460" y="0"/>
                </a:lnTo>
                <a:lnTo>
                  <a:pt x="484" y="2"/>
                </a:lnTo>
                <a:lnTo>
                  <a:pt x="507" y="5"/>
                </a:lnTo>
                <a:lnTo>
                  <a:pt x="527" y="13"/>
                </a:lnTo>
                <a:lnTo>
                  <a:pt x="527" y="9"/>
                </a:lnTo>
                <a:lnTo>
                  <a:pt x="527" y="13"/>
                </a:lnTo>
                <a:lnTo>
                  <a:pt x="527" y="13"/>
                </a:lnTo>
                <a:lnTo>
                  <a:pt x="541" y="18"/>
                </a:lnTo>
                <a:lnTo>
                  <a:pt x="552" y="26"/>
                </a:lnTo>
                <a:lnTo>
                  <a:pt x="563" y="35"/>
                </a:lnTo>
                <a:lnTo>
                  <a:pt x="574" y="46"/>
                </a:lnTo>
                <a:lnTo>
                  <a:pt x="576" y="45"/>
                </a:lnTo>
                <a:lnTo>
                  <a:pt x="576" y="45"/>
                </a:lnTo>
                <a:lnTo>
                  <a:pt x="576" y="45"/>
                </a:lnTo>
                <a:lnTo>
                  <a:pt x="574" y="46"/>
                </a:lnTo>
                <a:lnTo>
                  <a:pt x="574" y="46"/>
                </a:lnTo>
                <a:lnTo>
                  <a:pt x="574" y="46"/>
                </a:lnTo>
                <a:lnTo>
                  <a:pt x="574" y="46"/>
                </a:lnTo>
                <a:lnTo>
                  <a:pt x="587" y="63"/>
                </a:lnTo>
                <a:lnTo>
                  <a:pt x="597" y="78"/>
                </a:lnTo>
                <a:lnTo>
                  <a:pt x="602" y="91"/>
                </a:lnTo>
                <a:lnTo>
                  <a:pt x="602" y="104"/>
                </a:lnTo>
                <a:lnTo>
                  <a:pt x="600" y="118"/>
                </a:lnTo>
                <a:lnTo>
                  <a:pt x="595" y="129"/>
                </a:lnTo>
                <a:lnTo>
                  <a:pt x="589" y="140"/>
                </a:lnTo>
                <a:lnTo>
                  <a:pt x="580" y="151"/>
                </a:lnTo>
                <a:lnTo>
                  <a:pt x="580" y="151"/>
                </a:lnTo>
                <a:lnTo>
                  <a:pt x="561" y="175"/>
                </a:lnTo>
                <a:lnTo>
                  <a:pt x="541" y="200"/>
                </a:lnTo>
                <a:lnTo>
                  <a:pt x="533" y="213"/>
                </a:lnTo>
                <a:lnTo>
                  <a:pt x="527" y="226"/>
                </a:lnTo>
                <a:lnTo>
                  <a:pt x="524" y="241"/>
                </a:lnTo>
                <a:lnTo>
                  <a:pt x="522" y="256"/>
                </a:lnTo>
                <a:lnTo>
                  <a:pt x="526" y="256"/>
                </a:lnTo>
                <a:lnTo>
                  <a:pt x="526" y="256"/>
                </a:lnTo>
                <a:lnTo>
                  <a:pt x="522" y="256"/>
                </a:lnTo>
                <a:lnTo>
                  <a:pt x="522" y="256"/>
                </a:lnTo>
                <a:lnTo>
                  <a:pt x="522" y="256"/>
                </a:lnTo>
                <a:lnTo>
                  <a:pt x="522" y="256"/>
                </a:lnTo>
                <a:lnTo>
                  <a:pt x="527" y="276"/>
                </a:lnTo>
                <a:lnTo>
                  <a:pt x="535" y="293"/>
                </a:lnTo>
                <a:lnTo>
                  <a:pt x="542" y="308"/>
                </a:lnTo>
                <a:lnTo>
                  <a:pt x="554" y="319"/>
                </a:lnTo>
                <a:lnTo>
                  <a:pt x="565" y="329"/>
                </a:lnTo>
                <a:lnTo>
                  <a:pt x="578" y="336"/>
                </a:lnTo>
                <a:lnTo>
                  <a:pt x="591" y="344"/>
                </a:lnTo>
                <a:lnTo>
                  <a:pt x="606" y="347"/>
                </a:lnTo>
                <a:lnTo>
                  <a:pt x="606" y="347"/>
                </a:lnTo>
                <a:lnTo>
                  <a:pt x="623" y="349"/>
                </a:lnTo>
                <a:lnTo>
                  <a:pt x="640" y="351"/>
                </a:lnTo>
                <a:lnTo>
                  <a:pt x="675" y="349"/>
                </a:lnTo>
                <a:lnTo>
                  <a:pt x="713" y="344"/>
                </a:lnTo>
                <a:lnTo>
                  <a:pt x="752" y="338"/>
                </a:lnTo>
                <a:lnTo>
                  <a:pt x="752" y="338"/>
                </a:lnTo>
                <a:lnTo>
                  <a:pt x="827" y="321"/>
                </a:lnTo>
                <a:lnTo>
                  <a:pt x="827" y="321"/>
                </a:lnTo>
                <a:lnTo>
                  <a:pt x="827" y="321"/>
                </a:lnTo>
                <a:lnTo>
                  <a:pt x="855" y="319"/>
                </a:lnTo>
                <a:lnTo>
                  <a:pt x="885" y="319"/>
                </a:lnTo>
                <a:lnTo>
                  <a:pt x="913" y="323"/>
                </a:lnTo>
                <a:lnTo>
                  <a:pt x="941" y="329"/>
                </a:lnTo>
                <a:lnTo>
                  <a:pt x="969" y="334"/>
                </a:lnTo>
                <a:lnTo>
                  <a:pt x="997" y="344"/>
                </a:lnTo>
                <a:lnTo>
                  <a:pt x="1053" y="361"/>
                </a:lnTo>
                <a:lnTo>
                  <a:pt x="1053" y="361"/>
                </a:lnTo>
                <a:lnTo>
                  <a:pt x="1060" y="362"/>
                </a:lnTo>
                <a:lnTo>
                  <a:pt x="1060" y="362"/>
                </a:lnTo>
                <a:lnTo>
                  <a:pt x="1066" y="376"/>
                </a:lnTo>
                <a:lnTo>
                  <a:pt x="1073" y="387"/>
                </a:lnTo>
                <a:lnTo>
                  <a:pt x="1077" y="385"/>
                </a:lnTo>
                <a:lnTo>
                  <a:pt x="1073" y="387"/>
                </a:lnTo>
                <a:lnTo>
                  <a:pt x="1073" y="387"/>
                </a:lnTo>
                <a:lnTo>
                  <a:pt x="1083" y="402"/>
                </a:lnTo>
                <a:lnTo>
                  <a:pt x="1096" y="417"/>
                </a:lnTo>
                <a:lnTo>
                  <a:pt x="1109" y="430"/>
                </a:lnTo>
                <a:lnTo>
                  <a:pt x="1122" y="441"/>
                </a:lnTo>
                <a:lnTo>
                  <a:pt x="1124" y="439"/>
                </a:lnTo>
                <a:lnTo>
                  <a:pt x="1124" y="439"/>
                </a:lnTo>
                <a:lnTo>
                  <a:pt x="1122" y="441"/>
                </a:lnTo>
                <a:lnTo>
                  <a:pt x="1122" y="441"/>
                </a:lnTo>
                <a:lnTo>
                  <a:pt x="1122" y="441"/>
                </a:lnTo>
                <a:lnTo>
                  <a:pt x="1122" y="441"/>
                </a:lnTo>
                <a:lnTo>
                  <a:pt x="1148" y="458"/>
                </a:lnTo>
                <a:lnTo>
                  <a:pt x="1174" y="473"/>
                </a:lnTo>
                <a:lnTo>
                  <a:pt x="1201" y="488"/>
                </a:lnTo>
                <a:lnTo>
                  <a:pt x="1227" y="501"/>
                </a:lnTo>
                <a:lnTo>
                  <a:pt x="1281" y="523"/>
                </a:lnTo>
                <a:lnTo>
                  <a:pt x="1335" y="542"/>
                </a:lnTo>
                <a:lnTo>
                  <a:pt x="1393" y="557"/>
                </a:lnTo>
                <a:lnTo>
                  <a:pt x="1449" y="568"/>
                </a:lnTo>
                <a:lnTo>
                  <a:pt x="1507" y="577"/>
                </a:lnTo>
                <a:lnTo>
                  <a:pt x="1565" y="585"/>
                </a:lnTo>
                <a:lnTo>
                  <a:pt x="1565" y="585"/>
                </a:lnTo>
                <a:lnTo>
                  <a:pt x="1633" y="589"/>
                </a:lnTo>
                <a:lnTo>
                  <a:pt x="1633" y="589"/>
                </a:lnTo>
                <a:lnTo>
                  <a:pt x="1633" y="589"/>
                </a:lnTo>
                <a:lnTo>
                  <a:pt x="1633" y="585"/>
                </a:lnTo>
                <a:lnTo>
                  <a:pt x="1633" y="585"/>
                </a:lnTo>
                <a:lnTo>
                  <a:pt x="1633" y="585"/>
                </a:lnTo>
                <a:lnTo>
                  <a:pt x="1633" y="585"/>
                </a:lnTo>
                <a:lnTo>
                  <a:pt x="1633" y="589"/>
                </a:lnTo>
                <a:lnTo>
                  <a:pt x="1633" y="589"/>
                </a:lnTo>
                <a:lnTo>
                  <a:pt x="1698" y="591"/>
                </a:lnTo>
                <a:lnTo>
                  <a:pt x="1760" y="592"/>
                </a:lnTo>
                <a:lnTo>
                  <a:pt x="1821" y="598"/>
                </a:lnTo>
                <a:lnTo>
                  <a:pt x="1883" y="605"/>
                </a:lnTo>
                <a:lnTo>
                  <a:pt x="1883" y="605"/>
                </a:lnTo>
                <a:lnTo>
                  <a:pt x="1894" y="665"/>
                </a:lnTo>
                <a:lnTo>
                  <a:pt x="1906" y="723"/>
                </a:lnTo>
                <a:lnTo>
                  <a:pt x="1913" y="783"/>
                </a:lnTo>
                <a:lnTo>
                  <a:pt x="1917" y="843"/>
                </a:lnTo>
                <a:lnTo>
                  <a:pt x="1917" y="843"/>
                </a:lnTo>
                <a:lnTo>
                  <a:pt x="1891" y="841"/>
                </a:lnTo>
                <a:lnTo>
                  <a:pt x="1891" y="841"/>
                </a:lnTo>
                <a:lnTo>
                  <a:pt x="1836" y="839"/>
                </a:lnTo>
                <a:lnTo>
                  <a:pt x="1780" y="837"/>
                </a:lnTo>
                <a:lnTo>
                  <a:pt x="1670" y="835"/>
                </a:lnTo>
                <a:lnTo>
                  <a:pt x="1670" y="835"/>
                </a:lnTo>
                <a:lnTo>
                  <a:pt x="1638" y="826"/>
                </a:lnTo>
                <a:lnTo>
                  <a:pt x="1605" y="815"/>
                </a:lnTo>
                <a:lnTo>
                  <a:pt x="1605" y="815"/>
                </a:lnTo>
                <a:lnTo>
                  <a:pt x="1577" y="802"/>
                </a:lnTo>
                <a:lnTo>
                  <a:pt x="1547" y="789"/>
                </a:lnTo>
                <a:lnTo>
                  <a:pt x="1490" y="761"/>
                </a:lnTo>
                <a:lnTo>
                  <a:pt x="1433" y="734"/>
                </a:lnTo>
                <a:lnTo>
                  <a:pt x="1404" y="723"/>
                </a:lnTo>
                <a:lnTo>
                  <a:pt x="1376" y="712"/>
                </a:lnTo>
                <a:lnTo>
                  <a:pt x="1376" y="712"/>
                </a:lnTo>
                <a:lnTo>
                  <a:pt x="1348" y="706"/>
                </a:lnTo>
                <a:lnTo>
                  <a:pt x="1320" y="701"/>
                </a:lnTo>
                <a:lnTo>
                  <a:pt x="1292" y="701"/>
                </a:lnTo>
                <a:lnTo>
                  <a:pt x="1266" y="705"/>
                </a:lnTo>
                <a:lnTo>
                  <a:pt x="1251" y="708"/>
                </a:lnTo>
                <a:lnTo>
                  <a:pt x="1238" y="712"/>
                </a:lnTo>
                <a:lnTo>
                  <a:pt x="1225" y="718"/>
                </a:lnTo>
                <a:lnTo>
                  <a:pt x="1212" y="725"/>
                </a:lnTo>
                <a:lnTo>
                  <a:pt x="1199" y="733"/>
                </a:lnTo>
                <a:lnTo>
                  <a:pt x="1186" y="744"/>
                </a:lnTo>
                <a:lnTo>
                  <a:pt x="1173" y="755"/>
                </a:lnTo>
                <a:lnTo>
                  <a:pt x="1161" y="766"/>
                </a:lnTo>
                <a:lnTo>
                  <a:pt x="1163" y="770"/>
                </a:lnTo>
                <a:lnTo>
                  <a:pt x="1161" y="766"/>
                </a:lnTo>
                <a:lnTo>
                  <a:pt x="1160" y="768"/>
                </a:lnTo>
                <a:lnTo>
                  <a:pt x="1160" y="768"/>
                </a:lnTo>
                <a:lnTo>
                  <a:pt x="1160" y="768"/>
                </a:lnTo>
                <a:lnTo>
                  <a:pt x="1158" y="777"/>
                </a:lnTo>
                <a:lnTo>
                  <a:pt x="1154" y="787"/>
                </a:lnTo>
                <a:lnTo>
                  <a:pt x="1152" y="806"/>
                </a:lnTo>
                <a:lnTo>
                  <a:pt x="1152" y="806"/>
                </a:lnTo>
                <a:lnTo>
                  <a:pt x="1124" y="826"/>
                </a:lnTo>
                <a:lnTo>
                  <a:pt x="1124" y="828"/>
                </a:lnTo>
                <a:lnTo>
                  <a:pt x="1124" y="828"/>
                </a:lnTo>
                <a:lnTo>
                  <a:pt x="1124" y="828"/>
                </a:lnTo>
                <a:lnTo>
                  <a:pt x="1124" y="826"/>
                </a:lnTo>
                <a:lnTo>
                  <a:pt x="1124" y="826"/>
                </a:lnTo>
                <a:lnTo>
                  <a:pt x="1124" y="826"/>
                </a:lnTo>
                <a:lnTo>
                  <a:pt x="1124" y="826"/>
                </a:lnTo>
                <a:lnTo>
                  <a:pt x="1092" y="847"/>
                </a:lnTo>
                <a:lnTo>
                  <a:pt x="1060" y="867"/>
                </a:lnTo>
                <a:lnTo>
                  <a:pt x="1060" y="867"/>
                </a:lnTo>
                <a:lnTo>
                  <a:pt x="1027" y="886"/>
                </a:lnTo>
                <a:lnTo>
                  <a:pt x="993" y="899"/>
                </a:lnTo>
                <a:lnTo>
                  <a:pt x="995" y="901"/>
                </a:lnTo>
                <a:lnTo>
                  <a:pt x="995" y="901"/>
                </a:lnTo>
                <a:lnTo>
                  <a:pt x="993" y="899"/>
                </a:lnTo>
                <a:lnTo>
                  <a:pt x="993" y="899"/>
                </a:lnTo>
                <a:lnTo>
                  <a:pt x="993" y="899"/>
                </a:lnTo>
                <a:lnTo>
                  <a:pt x="974" y="906"/>
                </a:lnTo>
                <a:lnTo>
                  <a:pt x="974" y="906"/>
                </a:lnTo>
                <a:lnTo>
                  <a:pt x="958" y="890"/>
                </a:lnTo>
                <a:lnTo>
                  <a:pt x="943" y="873"/>
                </a:lnTo>
                <a:lnTo>
                  <a:pt x="931" y="854"/>
                </a:lnTo>
                <a:lnTo>
                  <a:pt x="920" y="835"/>
                </a:lnTo>
                <a:lnTo>
                  <a:pt x="911" y="817"/>
                </a:lnTo>
                <a:lnTo>
                  <a:pt x="903" y="798"/>
                </a:lnTo>
                <a:lnTo>
                  <a:pt x="898" y="777"/>
                </a:lnTo>
                <a:lnTo>
                  <a:pt x="892" y="757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83040" y="358128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32040" y="3009960"/>
            <a:ext cx="297000" cy="320760"/>
          </a:xfrm>
          <a:custGeom>
            <a:avLst/>
            <a:gdLst/>
            <a:ahLst/>
            <a:rect l="l" t="t" r="r" b="b"/>
            <a:pathLst>
              <a:path w="187" h="202">
                <a:moveTo>
                  <a:pt x="149" y="202"/>
                </a:moveTo>
                <a:lnTo>
                  <a:pt x="153" y="200"/>
                </a:lnTo>
                <a:lnTo>
                  <a:pt x="153" y="200"/>
                </a:lnTo>
                <a:lnTo>
                  <a:pt x="144" y="183"/>
                </a:lnTo>
                <a:lnTo>
                  <a:pt x="134" y="166"/>
                </a:lnTo>
                <a:lnTo>
                  <a:pt x="110" y="132"/>
                </a:lnTo>
                <a:lnTo>
                  <a:pt x="110" y="132"/>
                </a:lnTo>
                <a:lnTo>
                  <a:pt x="110" y="132"/>
                </a:lnTo>
                <a:lnTo>
                  <a:pt x="110" y="132"/>
                </a:lnTo>
                <a:lnTo>
                  <a:pt x="84" y="104"/>
                </a:lnTo>
                <a:lnTo>
                  <a:pt x="58" y="80"/>
                </a:lnTo>
                <a:lnTo>
                  <a:pt x="58" y="80"/>
                </a:lnTo>
                <a:lnTo>
                  <a:pt x="30" y="56"/>
                </a:lnTo>
                <a:lnTo>
                  <a:pt x="0" y="33"/>
                </a:lnTo>
                <a:lnTo>
                  <a:pt x="0" y="33"/>
                </a:lnTo>
                <a:lnTo>
                  <a:pt x="0" y="26"/>
                </a:lnTo>
                <a:lnTo>
                  <a:pt x="0" y="18"/>
                </a:lnTo>
                <a:lnTo>
                  <a:pt x="2" y="9"/>
                </a:lnTo>
                <a:lnTo>
                  <a:pt x="5" y="0"/>
                </a:lnTo>
                <a:lnTo>
                  <a:pt x="5" y="0"/>
                </a:lnTo>
                <a:lnTo>
                  <a:pt x="37" y="5"/>
                </a:lnTo>
                <a:lnTo>
                  <a:pt x="67" y="13"/>
                </a:lnTo>
                <a:lnTo>
                  <a:pt x="93" y="22"/>
                </a:lnTo>
                <a:lnTo>
                  <a:pt x="119" y="35"/>
                </a:lnTo>
                <a:lnTo>
                  <a:pt x="140" y="50"/>
                </a:lnTo>
                <a:lnTo>
                  <a:pt x="151" y="59"/>
                </a:lnTo>
                <a:lnTo>
                  <a:pt x="159" y="69"/>
                </a:lnTo>
                <a:lnTo>
                  <a:pt x="166" y="78"/>
                </a:lnTo>
                <a:lnTo>
                  <a:pt x="174" y="89"/>
                </a:lnTo>
                <a:lnTo>
                  <a:pt x="179" y="102"/>
                </a:lnTo>
                <a:lnTo>
                  <a:pt x="183" y="116"/>
                </a:lnTo>
                <a:lnTo>
                  <a:pt x="183" y="116"/>
                </a:lnTo>
                <a:lnTo>
                  <a:pt x="187" y="130"/>
                </a:lnTo>
                <a:lnTo>
                  <a:pt x="187" y="142"/>
                </a:lnTo>
                <a:lnTo>
                  <a:pt x="185" y="155"/>
                </a:lnTo>
                <a:lnTo>
                  <a:pt x="183" y="164"/>
                </a:lnTo>
                <a:lnTo>
                  <a:pt x="177" y="175"/>
                </a:lnTo>
                <a:lnTo>
                  <a:pt x="170" y="185"/>
                </a:lnTo>
                <a:lnTo>
                  <a:pt x="162" y="192"/>
                </a:lnTo>
                <a:lnTo>
                  <a:pt x="153" y="202"/>
                </a:lnTo>
                <a:lnTo>
                  <a:pt x="153" y="202"/>
                </a:lnTo>
                <a:lnTo>
                  <a:pt x="153" y="200"/>
                </a:lnTo>
                <a:lnTo>
                  <a:pt x="153" y="200"/>
                </a:lnTo>
                <a:lnTo>
                  <a:pt x="151" y="202"/>
                </a:lnTo>
                <a:lnTo>
                  <a:pt x="149" y="202"/>
                </a:lnTo>
                <a:lnTo>
                  <a:pt x="149" y="202"/>
                </a:lnTo>
                <a:lnTo>
                  <a:pt x="149" y="20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3760" y="32194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0" y="2"/>
                </a:lnTo>
                <a:lnTo>
                  <a:pt x="2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58960" y="3006720"/>
            <a:ext cx="3065400" cy="1512720"/>
          </a:xfrm>
          <a:custGeom>
            <a:avLst/>
            <a:gdLst/>
            <a:ahLst/>
            <a:rect l="l" t="t" r="r" b="b"/>
            <a:pathLst>
              <a:path w="1931" h="953">
                <a:moveTo>
                  <a:pt x="983" y="949"/>
                </a:moveTo>
                <a:lnTo>
                  <a:pt x="983" y="949"/>
                </a:lnTo>
                <a:lnTo>
                  <a:pt x="1002" y="942"/>
                </a:lnTo>
                <a:lnTo>
                  <a:pt x="1002" y="942"/>
                </a:lnTo>
                <a:lnTo>
                  <a:pt x="1004" y="944"/>
                </a:lnTo>
                <a:lnTo>
                  <a:pt x="1004" y="944"/>
                </a:lnTo>
                <a:lnTo>
                  <a:pt x="1002" y="942"/>
                </a:lnTo>
                <a:lnTo>
                  <a:pt x="1002" y="942"/>
                </a:lnTo>
                <a:lnTo>
                  <a:pt x="1036" y="929"/>
                </a:lnTo>
                <a:lnTo>
                  <a:pt x="1069" y="910"/>
                </a:lnTo>
                <a:lnTo>
                  <a:pt x="1069" y="910"/>
                </a:lnTo>
                <a:lnTo>
                  <a:pt x="1101" y="890"/>
                </a:lnTo>
                <a:lnTo>
                  <a:pt x="1133" y="869"/>
                </a:lnTo>
                <a:lnTo>
                  <a:pt x="1133" y="869"/>
                </a:lnTo>
                <a:lnTo>
                  <a:pt x="1133" y="869"/>
                </a:lnTo>
                <a:lnTo>
                  <a:pt x="1133" y="871"/>
                </a:lnTo>
                <a:lnTo>
                  <a:pt x="1135" y="871"/>
                </a:lnTo>
                <a:lnTo>
                  <a:pt x="1133" y="869"/>
                </a:lnTo>
                <a:lnTo>
                  <a:pt x="1133" y="869"/>
                </a:lnTo>
                <a:lnTo>
                  <a:pt x="1161" y="849"/>
                </a:lnTo>
                <a:lnTo>
                  <a:pt x="1161" y="849"/>
                </a:lnTo>
                <a:lnTo>
                  <a:pt x="1161" y="856"/>
                </a:lnTo>
                <a:lnTo>
                  <a:pt x="1161" y="856"/>
                </a:lnTo>
                <a:lnTo>
                  <a:pt x="1135" y="873"/>
                </a:lnTo>
                <a:lnTo>
                  <a:pt x="1135" y="873"/>
                </a:lnTo>
                <a:lnTo>
                  <a:pt x="1135" y="873"/>
                </a:lnTo>
                <a:lnTo>
                  <a:pt x="1103" y="895"/>
                </a:lnTo>
                <a:lnTo>
                  <a:pt x="1071" y="916"/>
                </a:lnTo>
                <a:lnTo>
                  <a:pt x="1069" y="910"/>
                </a:lnTo>
                <a:lnTo>
                  <a:pt x="1071" y="916"/>
                </a:lnTo>
                <a:lnTo>
                  <a:pt x="1071" y="916"/>
                </a:lnTo>
                <a:lnTo>
                  <a:pt x="1038" y="933"/>
                </a:lnTo>
                <a:lnTo>
                  <a:pt x="1021" y="940"/>
                </a:lnTo>
                <a:lnTo>
                  <a:pt x="1004" y="948"/>
                </a:lnTo>
                <a:lnTo>
                  <a:pt x="1004" y="948"/>
                </a:lnTo>
                <a:lnTo>
                  <a:pt x="1004" y="948"/>
                </a:lnTo>
                <a:lnTo>
                  <a:pt x="989" y="953"/>
                </a:lnTo>
                <a:lnTo>
                  <a:pt x="989" y="953"/>
                </a:lnTo>
                <a:lnTo>
                  <a:pt x="983" y="949"/>
                </a:lnTo>
                <a:close/>
                <a:moveTo>
                  <a:pt x="1926" y="886"/>
                </a:moveTo>
                <a:lnTo>
                  <a:pt x="1926" y="886"/>
                </a:lnTo>
                <a:lnTo>
                  <a:pt x="1922" y="826"/>
                </a:lnTo>
                <a:lnTo>
                  <a:pt x="1915" y="766"/>
                </a:lnTo>
                <a:lnTo>
                  <a:pt x="1903" y="708"/>
                </a:lnTo>
                <a:lnTo>
                  <a:pt x="1892" y="648"/>
                </a:lnTo>
                <a:lnTo>
                  <a:pt x="1892" y="648"/>
                </a:lnTo>
                <a:lnTo>
                  <a:pt x="1898" y="650"/>
                </a:lnTo>
                <a:lnTo>
                  <a:pt x="1898" y="650"/>
                </a:lnTo>
                <a:lnTo>
                  <a:pt x="1911" y="708"/>
                </a:lnTo>
                <a:lnTo>
                  <a:pt x="1920" y="768"/>
                </a:lnTo>
                <a:lnTo>
                  <a:pt x="1928" y="828"/>
                </a:lnTo>
                <a:lnTo>
                  <a:pt x="1931" y="888"/>
                </a:lnTo>
                <a:lnTo>
                  <a:pt x="1931" y="888"/>
                </a:lnTo>
                <a:lnTo>
                  <a:pt x="1926" y="886"/>
                </a:lnTo>
                <a:close/>
                <a:moveTo>
                  <a:pt x="1062" y="404"/>
                </a:moveTo>
                <a:lnTo>
                  <a:pt x="1064" y="396"/>
                </a:lnTo>
                <a:lnTo>
                  <a:pt x="1064" y="396"/>
                </a:lnTo>
                <a:lnTo>
                  <a:pt x="1068" y="398"/>
                </a:lnTo>
                <a:lnTo>
                  <a:pt x="1068" y="398"/>
                </a:lnTo>
                <a:lnTo>
                  <a:pt x="1069" y="405"/>
                </a:lnTo>
                <a:lnTo>
                  <a:pt x="1069" y="405"/>
                </a:lnTo>
                <a:lnTo>
                  <a:pt x="1062" y="404"/>
                </a:lnTo>
                <a:close/>
                <a:moveTo>
                  <a:pt x="836" y="364"/>
                </a:moveTo>
                <a:lnTo>
                  <a:pt x="836" y="364"/>
                </a:lnTo>
                <a:lnTo>
                  <a:pt x="836" y="364"/>
                </a:lnTo>
                <a:lnTo>
                  <a:pt x="761" y="381"/>
                </a:lnTo>
                <a:lnTo>
                  <a:pt x="761" y="381"/>
                </a:lnTo>
                <a:lnTo>
                  <a:pt x="722" y="387"/>
                </a:lnTo>
                <a:lnTo>
                  <a:pt x="684" y="392"/>
                </a:lnTo>
                <a:lnTo>
                  <a:pt x="649" y="394"/>
                </a:lnTo>
                <a:lnTo>
                  <a:pt x="632" y="392"/>
                </a:lnTo>
                <a:lnTo>
                  <a:pt x="615" y="390"/>
                </a:lnTo>
                <a:lnTo>
                  <a:pt x="615" y="390"/>
                </a:lnTo>
                <a:lnTo>
                  <a:pt x="600" y="387"/>
                </a:lnTo>
                <a:lnTo>
                  <a:pt x="587" y="379"/>
                </a:lnTo>
                <a:lnTo>
                  <a:pt x="574" y="372"/>
                </a:lnTo>
                <a:lnTo>
                  <a:pt x="563" y="362"/>
                </a:lnTo>
                <a:lnTo>
                  <a:pt x="551" y="351"/>
                </a:lnTo>
                <a:lnTo>
                  <a:pt x="544" y="336"/>
                </a:lnTo>
                <a:lnTo>
                  <a:pt x="536" y="319"/>
                </a:lnTo>
                <a:lnTo>
                  <a:pt x="531" y="299"/>
                </a:lnTo>
                <a:lnTo>
                  <a:pt x="531" y="299"/>
                </a:lnTo>
                <a:lnTo>
                  <a:pt x="531" y="299"/>
                </a:lnTo>
                <a:lnTo>
                  <a:pt x="535" y="299"/>
                </a:lnTo>
                <a:lnTo>
                  <a:pt x="535" y="299"/>
                </a:lnTo>
                <a:lnTo>
                  <a:pt x="531" y="299"/>
                </a:lnTo>
                <a:lnTo>
                  <a:pt x="531" y="299"/>
                </a:lnTo>
                <a:lnTo>
                  <a:pt x="533" y="284"/>
                </a:lnTo>
                <a:lnTo>
                  <a:pt x="536" y="269"/>
                </a:lnTo>
                <a:lnTo>
                  <a:pt x="542" y="256"/>
                </a:lnTo>
                <a:lnTo>
                  <a:pt x="550" y="243"/>
                </a:lnTo>
                <a:lnTo>
                  <a:pt x="570" y="218"/>
                </a:lnTo>
                <a:lnTo>
                  <a:pt x="589" y="194"/>
                </a:lnTo>
                <a:lnTo>
                  <a:pt x="589" y="194"/>
                </a:lnTo>
                <a:lnTo>
                  <a:pt x="598" y="183"/>
                </a:lnTo>
                <a:lnTo>
                  <a:pt x="604" y="172"/>
                </a:lnTo>
                <a:lnTo>
                  <a:pt x="609" y="161"/>
                </a:lnTo>
                <a:lnTo>
                  <a:pt x="611" y="147"/>
                </a:lnTo>
                <a:lnTo>
                  <a:pt x="611" y="134"/>
                </a:lnTo>
                <a:lnTo>
                  <a:pt x="606" y="121"/>
                </a:lnTo>
                <a:lnTo>
                  <a:pt x="596" y="106"/>
                </a:lnTo>
                <a:lnTo>
                  <a:pt x="583" y="89"/>
                </a:lnTo>
                <a:lnTo>
                  <a:pt x="583" y="89"/>
                </a:lnTo>
                <a:lnTo>
                  <a:pt x="583" y="89"/>
                </a:lnTo>
                <a:lnTo>
                  <a:pt x="585" y="88"/>
                </a:lnTo>
                <a:lnTo>
                  <a:pt x="585" y="88"/>
                </a:lnTo>
                <a:lnTo>
                  <a:pt x="583" y="89"/>
                </a:lnTo>
                <a:lnTo>
                  <a:pt x="583" y="89"/>
                </a:lnTo>
                <a:lnTo>
                  <a:pt x="572" y="78"/>
                </a:lnTo>
                <a:lnTo>
                  <a:pt x="561" y="69"/>
                </a:lnTo>
                <a:lnTo>
                  <a:pt x="550" y="61"/>
                </a:lnTo>
                <a:lnTo>
                  <a:pt x="536" y="56"/>
                </a:lnTo>
                <a:lnTo>
                  <a:pt x="538" y="50"/>
                </a:lnTo>
                <a:lnTo>
                  <a:pt x="538" y="50"/>
                </a:lnTo>
                <a:lnTo>
                  <a:pt x="551" y="58"/>
                </a:lnTo>
                <a:lnTo>
                  <a:pt x="565" y="65"/>
                </a:lnTo>
                <a:lnTo>
                  <a:pt x="576" y="75"/>
                </a:lnTo>
                <a:lnTo>
                  <a:pt x="587" y="86"/>
                </a:lnTo>
                <a:lnTo>
                  <a:pt x="587" y="86"/>
                </a:lnTo>
                <a:lnTo>
                  <a:pt x="587" y="86"/>
                </a:lnTo>
                <a:lnTo>
                  <a:pt x="602" y="103"/>
                </a:lnTo>
                <a:lnTo>
                  <a:pt x="611" y="119"/>
                </a:lnTo>
                <a:lnTo>
                  <a:pt x="617" y="134"/>
                </a:lnTo>
                <a:lnTo>
                  <a:pt x="617" y="147"/>
                </a:lnTo>
                <a:lnTo>
                  <a:pt x="615" y="162"/>
                </a:lnTo>
                <a:lnTo>
                  <a:pt x="609" y="175"/>
                </a:lnTo>
                <a:lnTo>
                  <a:pt x="602" y="187"/>
                </a:lnTo>
                <a:lnTo>
                  <a:pt x="594" y="198"/>
                </a:lnTo>
                <a:lnTo>
                  <a:pt x="594" y="198"/>
                </a:lnTo>
                <a:lnTo>
                  <a:pt x="574" y="222"/>
                </a:lnTo>
                <a:lnTo>
                  <a:pt x="555" y="247"/>
                </a:lnTo>
                <a:lnTo>
                  <a:pt x="548" y="258"/>
                </a:lnTo>
                <a:lnTo>
                  <a:pt x="542" y="271"/>
                </a:lnTo>
                <a:lnTo>
                  <a:pt x="538" y="284"/>
                </a:lnTo>
                <a:lnTo>
                  <a:pt x="538" y="299"/>
                </a:lnTo>
                <a:lnTo>
                  <a:pt x="538" y="299"/>
                </a:lnTo>
                <a:lnTo>
                  <a:pt x="538" y="299"/>
                </a:lnTo>
                <a:lnTo>
                  <a:pt x="542" y="318"/>
                </a:lnTo>
                <a:lnTo>
                  <a:pt x="548" y="333"/>
                </a:lnTo>
                <a:lnTo>
                  <a:pt x="557" y="347"/>
                </a:lnTo>
                <a:lnTo>
                  <a:pt x="566" y="359"/>
                </a:lnTo>
                <a:lnTo>
                  <a:pt x="578" y="368"/>
                </a:lnTo>
                <a:lnTo>
                  <a:pt x="589" y="376"/>
                </a:lnTo>
                <a:lnTo>
                  <a:pt x="602" y="381"/>
                </a:lnTo>
                <a:lnTo>
                  <a:pt x="617" y="385"/>
                </a:lnTo>
                <a:lnTo>
                  <a:pt x="617" y="385"/>
                </a:lnTo>
                <a:lnTo>
                  <a:pt x="632" y="387"/>
                </a:lnTo>
                <a:lnTo>
                  <a:pt x="649" y="389"/>
                </a:lnTo>
                <a:lnTo>
                  <a:pt x="684" y="387"/>
                </a:lnTo>
                <a:lnTo>
                  <a:pt x="722" y="381"/>
                </a:lnTo>
                <a:lnTo>
                  <a:pt x="759" y="376"/>
                </a:lnTo>
                <a:lnTo>
                  <a:pt x="759" y="376"/>
                </a:lnTo>
                <a:lnTo>
                  <a:pt x="834" y="359"/>
                </a:lnTo>
                <a:lnTo>
                  <a:pt x="834" y="359"/>
                </a:lnTo>
                <a:lnTo>
                  <a:pt x="834" y="359"/>
                </a:lnTo>
                <a:lnTo>
                  <a:pt x="834" y="362"/>
                </a:lnTo>
                <a:lnTo>
                  <a:pt x="834" y="362"/>
                </a:lnTo>
                <a:lnTo>
                  <a:pt x="834" y="359"/>
                </a:lnTo>
                <a:lnTo>
                  <a:pt x="834" y="359"/>
                </a:lnTo>
                <a:lnTo>
                  <a:pt x="864" y="357"/>
                </a:lnTo>
                <a:lnTo>
                  <a:pt x="894" y="357"/>
                </a:lnTo>
                <a:lnTo>
                  <a:pt x="922" y="361"/>
                </a:lnTo>
                <a:lnTo>
                  <a:pt x="950" y="366"/>
                </a:lnTo>
                <a:lnTo>
                  <a:pt x="978" y="372"/>
                </a:lnTo>
                <a:lnTo>
                  <a:pt x="1006" y="381"/>
                </a:lnTo>
                <a:lnTo>
                  <a:pt x="1064" y="396"/>
                </a:lnTo>
                <a:lnTo>
                  <a:pt x="1062" y="404"/>
                </a:lnTo>
                <a:lnTo>
                  <a:pt x="1062" y="400"/>
                </a:lnTo>
                <a:lnTo>
                  <a:pt x="1062" y="404"/>
                </a:lnTo>
                <a:lnTo>
                  <a:pt x="1062" y="404"/>
                </a:lnTo>
                <a:lnTo>
                  <a:pt x="1006" y="387"/>
                </a:lnTo>
                <a:lnTo>
                  <a:pt x="978" y="377"/>
                </a:lnTo>
                <a:lnTo>
                  <a:pt x="950" y="372"/>
                </a:lnTo>
                <a:lnTo>
                  <a:pt x="922" y="366"/>
                </a:lnTo>
                <a:lnTo>
                  <a:pt x="894" y="362"/>
                </a:lnTo>
                <a:lnTo>
                  <a:pt x="864" y="362"/>
                </a:lnTo>
                <a:lnTo>
                  <a:pt x="836" y="364"/>
                </a:lnTo>
                <a:close/>
                <a:moveTo>
                  <a:pt x="1062" y="404"/>
                </a:moveTo>
                <a:lnTo>
                  <a:pt x="1062" y="404"/>
                </a:lnTo>
                <a:close/>
                <a:moveTo>
                  <a:pt x="267" y="93"/>
                </a:moveTo>
                <a:lnTo>
                  <a:pt x="267" y="93"/>
                </a:lnTo>
                <a:lnTo>
                  <a:pt x="303" y="76"/>
                </a:lnTo>
                <a:lnTo>
                  <a:pt x="338" y="63"/>
                </a:lnTo>
                <a:lnTo>
                  <a:pt x="338" y="63"/>
                </a:lnTo>
                <a:lnTo>
                  <a:pt x="364" y="54"/>
                </a:lnTo>
                <a:lnTo>
                  <a:pt x="392" y="46"/>
                </a:lnTo>
                <a:lnTo>
                  <a:pt x="419" y="41"/>
                </a:lnTo>
                <a:lnTo>
                  <a:pt x="445" y="37"/>
                </a:lnTo>
                <a:lnTo>
                  <a:pt x="469" y="37"/>
                </a:lnTo>
                <a:lnTo>
                  <a:pt x="493" y="39"/>
                </a:lnTo>
                <a:lnTo>
                  <a:pt x="516" y="43"/>
                </a:lnTo>
                <a:lnTo>
                  <a:pt x="538" y="50"/>
                </a:lnTo>
                <a:lnTo>
                  <a:pt x="536" y="52"/>
                </a:lnTo>
                <a:lnTo>
                  <a:pt x="538" y="50"/>
                </a:lnTo>
                <a:lnTo>
                  <a:pt x="536" y="56"/>
                </a:lnTo>
                <a:lnTo>
                  <a:pt x="536" y="56"/>
                </a:lnTo>
                <a:lnTo>
                  <a:pt x="516" y="48"/>
                </a:lnTo>
                <a:lnTo>
                  <a:pt x="493" y="45"/>
                </a:lnTo>
                <a:lnTo>
                  <a:pt x="469" y="43"/>
                </a:lnTo>
                <a:lnTo>
                  <a:pt x="445" y="45"/>
                </a:lnTo>
                <a:lnTo>
                  <a:pt x="419" y="46"/>
                </a:lnTo>
                <a:lnTo>
                  <a:pt x="392" y="52"/>
                </a:lnTo>
                <a:lnTo>
                  <a:pt x="366" y="60"/>
                </a:lnTo>
                <a:lnTo>
                  <a:pt x="340" y="69"/>
                </a:lnTo>
                <a:lnTo>
                  <a:pt x="338" y="63"/>
                </a:lnTo>
                <a:lnTo>
                  <a:pt x="340" y="69"/>
                </a:lnTo>
                <a:lnTo>
                  <a:pt x="338" y="65"/>
                </a:lnTo>
                <a:lnTo>
                  <a:pt x="340" y="69"/>
                </a:lnTo>
                <a:lnTo>
                  <a:pt x="340" y="69"/>
                </a:lnTo>
                <a:lnTo>
                  <a:pt x="340" y="69"/>
                </a:lnTo>
                <a:lnTo>
                  <a:pt x="305" y="82"/>
                </a:lnTo>
                <a:lnTo>
                  <a:pt x="269" y="99"/>
                </a:lnTo>
                <a:lnTo>
                  <a:pt x="267" y="93"/>
                </a:lnTo>
                <a:lnTo>
                  <a:pt x="269" y="99"/>
                </a:lnTo>
                <a:lnTo>
                  <a:pt x="267" y="95"/>
                </a:lnTo>
                <a:lnTo>
                  <a:pt x="269" y="99"/>
                </a:lnTo>
                <a:lnTo>
                  <a:pt x="269" y="99"/>
                </a:lnTo>
                <a:lnTo>
                  <a:pt x="269" y="99"/>
                </a:lnTo>
                <a:lnTo>
                  <a:pt x="200" y="129"/>
                </a:lnTo>
                <a:lnTo>
                  <a:pt x="166" y="144"/>
                </a:lnTo>
                <a:lnTo>
                  <a:pt x="133" y="161"/>
                </a:lnTo>
                <a:lnTo>
                  <a:pt x="99" y="177"/>
                </a:lnTo>
                <a:lnTo>
                  <a:pt x="67" y="198"/>
                </a:lnTo>
                <a:lnTo>
                  <a:pt x="37" y="222"/>
                </a:lnTo>
                <a:lnTo>
                  <a:pt x="22" y="235"/>
                </a:lnTo>
                <a:lnTo>
                  <a:pt x="9" y="248"/>
                </a:lnTo>
                <a:lnTo>
                  <a:pt x="9" y="248"/>
                </a:lnTo>
                <a:lnTo>
                  <a:pt x="0" y="250"/>
                </a:lnTo>
                <a:lnTo>
                  <a:pt x="0" y="250"/>
                </a:lnTo>
                <a:lnTo>
                  <a:pt x="15" y="235"/>
                </a:lnTo>
                <a:lnTo>
                  <a:pt x="30" y="220"/>
                </a:lnTo>
                <a:lnTo>
                  <a:pt x="60" y="196"/>
                </a:lnTo>
                <a:lnTo>
                  <a:pt x="93" y="175"/>
                </a:lnTo>
                <a:lnTo>
                  <a:pt x="127" y="157"/>
                </a:lnTo>
                <a:lnTo>
                  <a:pt x="161" y="140"/>
                </a:lnTo>
                <a:lnTo>
                  <a:pt x="196" y="123"/>
                </a:lnTo>
                <a:lnTo>
                  <a:pt x="267" y="93"/>
                </a:lnTo>
                <a:close/>
                <a:moveTo>
                  <a:pt x="1327" y="205"/>
                </a:moveTo>
                <a:lnTo>
                  <a:pt x="1327" y="205"/>
                </a:lnTo>
                <a:lnTo>
                  <a:pt x="1318" y="187"/>
                </a:lnTo>
                <a:lnTo>
                  <a:pt x="1309" y="172"/>
                </a:lnTo>
                <a:lnTo>
                  <a:pt x="1286" y="138"/>
                </a:lnTo>
                <a:lnTo>
                  <a:pt x="1286" y="138"/>
                </a:lnTo>
                <a:lnTo>
                  <a:pt x="1286" y="138"/>
                </a:lnTo>
                <a:lnTo>
                  <a:pt x="1260" y="112"/>
                </a:lnTo>
                <a:lnTo>
                  <a:pt x="1234" y="86"/>
                </a:lnTo>
                <a:lnTo>
                  <a:pt x="1236" y="84"/>
                </a:lnTo>
                <a:lnTo>
                  <a:pt x="1234" y="86"/>
                </a:lnTo>
                <a:lnTo>
                  <a:pt x="1234" y="86"/>
                </a:lnTo>
                <a:lnTo>
                  <a:pt x="1204" y="61"/>
                </a:lnTo>
                <a:lnTo>
                  <a:pt x="1176" y="41"/>
                </a:lnTo>
                <a:lnTo>
                  <a:pt x="1176" y="39"/>
                </a:lnTo>
                <a:lnTo>
                  <a:pt x="1176" y="39"/>
                </a:lnTo>
                <a:lnTo>
                  <a:pt x="1176" y="39"/>
                </a:lnTo>
                <a:lnTo>
                  <a:pt x="1174" y="30"/>
                </a:lnTo>
                <a:lnTo>
                  <a:pt x="1174" y="20"/>
                </a:lnTo>
                <a:lnTo>
                  <a:pt x="1176" y="11"/>
                </a:lnTo>
                <a:lnTo>
                  <a:pt x="1180" y="0"/>
                </a:lnTo>
                <a:lnTo>
                  <a:pt x="1180" y="0"/>
                </a:lnTo>
                <a:lnTo>
                  <a:pt x="1185" y="2"/>
                </a:lnTo>
                <a:lnTo>
                  <a:pt x="1185" y="2"/>
                </a:lnTo>
                <a:lnTo>
                  <a:pt x="1182" y="11"/>
                </a:lnTo>
                <a:lnTo>
                  <a:pt x="1180" y="20"/>
                </a:lnTo>
                <a:lnTo>
                  <a:pt x="1180" y="28"/>
                </a:lnTo>
                <a:lnTo>
                  <a:pt x="1180" y="35"/>
                </a:lnTo>
                <a:lnTo>
                  <a:pt x="1180" y="35"/>
                </a:lnTo>
                <a:lnTo>
                  <a:pt x="1210" y="58"/>
                </a:lnTo>
                <a:lnTo>
                  <a:pt x="1238" y="82"/>
                </a:lnTo>
                <a:lnTo>
                  <a:pt x="1238" y="82"/>
                </a:lnTo>
                <a:lnTo>
                  <a:pt x="1264" y="106"/>
                </a:lnTo>
                <a:lnTo>
                  <a:pt x="1290" y="134"/>
                </a:lnTo>
                <a:lnTo>
                  <a:pt x="1290" y="134"/>
                </a:lnTo>
                <a:lnTo>
                  <a:pt x="1290" y="134"/>
                </a:lnTo>
                <a:lnTo>
                  <a:pt x="1290" y="134"/>
                </a:lnTo>
                <a:lnTo>
                  <a:pt x="1314" y="168"/>
                </a:lnTo>
                <a:lnTo>
                  <a:pt x="1324" y="185"/>
                </a:lnTo>
                <a:lnTo>
                  <a:pt x="1333" y="202"/>
                </a:lnTo>
                <a:lnTo>
                  <a:pt x="1327" y="205"/>
                </a:lnTo>
                <a:lnTo>
                  <a:pt x="1331" y="204"/>
                </a:lnTo>
                <a:lnTo>
                  <a:pt x="1333" y="202"/>
                </a:lnTo>
                <a:lnTo>
                  <a:pt x="1333" y="202"/>
                </a:lnTo>
                <a:lnTo>
                  <a:pt x="1333" y="202"/>
                </a:lnTo>
                <a:lnTo>
                  <a:pt x="1333" y="204"/>
                </a:lnTo>
                <a:lnTo>
                  <a:pt x="1333" y="204"/>
                </a:lnTo>
                <a:lnTo>
                  <a:pt x="1327" y="207"/>
                </a:lnTo>
                <a:lnTo>
                  <a:pt x="1327" y="207"/>
                </a:lnTo>
                <a:lnTo>
                  <a:pt x="1327" y="205"/>
                </a:lnTo>
                <a:close/>
                <a:moveTo>
                  <a:pt x="1288" y="136"/>
                </a:moveTo>
                <a:lnTo>
                  <a:pt x="1290" y="134"/>
                </a:lnTo>
                <a:lnTo>
                  <a:pt x="1288" y="136"/>
                </a:lnTo>
                <a:lnTo>
                  <a:pt x="1288" y="136"/>
                </a:lnTo>
                <a:lnTo>
                  <a:pt x="1288" y="136"/>
                </a:lnTo>
                <a:close/>
                <a:moveTo>
                  <a:pt x="1176" y="41"/>
                </a:moveTo>
                <a:lnTo>
                  <a:pt x="1178" y="37"/>
                </a:lnTo>
                <a:lnTo>
                  <a:pt x="1178" y="37"/>
                </a:lnTo>
                <a:lnTo>
                  <a:pt x="1176" y="41"/>
                </a:lnTo>
                <a:close/>
              </a:path>
            </a:pathLst>
          </a:custGeom>
          <a:solidFill>
            <a:srgbClr val="dd7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19560" y="4354560"/>
            <a:ext cx="282600" cy="164880"/>
          </a:xfrm>
          <a:custGeom>
            <a:avLst/>
            <a:gdLst/>
            <a:ahLst/>
            <a:rect l="l" t="t" r="r" b="b"/>
            <a:pathLst>
              <a:path w="178" h="104">
                <a:moveTo>
                  <a:pt x="0" y="100"/>
                </a:moveTo>
                <a:lnTo>
                  <a:pt x="0" y="100"/>
                </a:lnTo>
                <a:lnTo>
                  <a:pt x="19" y="93"/>
                </a:lnTo>
                <a:lnTo>
                  <a:pt x="19" y="93"/>
                </a:lnTo>
                <a:lnTo>
                  <a:pt x="21" y="95"/>
                </a:lnTo>
                <a:lnTo>
                  <a:pt x="21" y="95"/>
                </a:lnTo>
                <a:lnTo>
                  <a:pt x="19" y="93"/>
                </a:lnTo>
                <a:lnTo>
                  <a:pt x="19" y="93"/>
                </a:lnTo>
                <a:lnTo>
                  <a:pt x="53" y="80"/>
                </a:lnTo>
                <a:lnTo>
                  <a:pt x="86" y="61"/>
                </a:lnTo>
                <a:lnTo>
                  <a:pt x="86" y="61"/>
                </a:lnTo>
                <a:lnTo>
                  <a:pt x="118" y="41"/>
                </a:lnTo>
                <a:lnTo>
                  <a:pt x="150" y="20"/>
                </a:lnTo>
                <a:lnTo>
                  <a:pt x="150" y="20"/>
                </a:lnTo>
                <a:lnTo>
                  <a:pt x="150" y="20"/>
                </a:lnTo>
                <a:lnTo>
                  <a:pt x="150" y="22"/>
                </a:lnTo>
                <a:lnTo>
                  <a:pt x="152" y="22"/>
                </a:lnTo>
                <a:lnTo>
                  <a:pt x="150" y="20"/>
                </a:lnTo>
                <a:lnTo>
                  <a:pt x="150" y="20"/>
                </a:lnTo>
                <a:lnTo>
                  <a:pt x="178" y="0"/>
                </a:lnTo>
                <a:lnTo>
                  <a:pt x="178" y="0"/>
                </a:lnTo>
                <a:lnTo>
                  <a:pt x="178" y="7"/>
                </a:lnTo>
                <a:lnTo>
                  <a:pt x="178" y="7"/>
                </a:lnTo>
                <a:lnTo>
                  <a:pt x="152" y="24"/>
                </a:lnTo>
                <a:lnTo>
                  <a:pt x="152" y="24"/>
                </a:lnTo>
                <a:lnTo>
                  <a:pt x="152" y="24"/>
                </a:lnTo>
                <a:lnTo>
                  <a:pt x="120" y="46"/>
                </a:lnTo>
                <a:lnTo>
                  <a:pt x="88" y="67"/>
                </a:lnTo>
                <a:lnTo>
                  <a:pt x="86" y="61"/>
                </a:lnTo>
                <a:lnTo>
                  <a:pt x="88" y="67"/>
                </a:lnTo>
                <a:lnTo>
                  <a:pt x="88" y="67"/>
                </a:lnTo>
                <a:lnTo>
                  <a:pt x="55" y="84"/>
                </a:lnTo>
                <a:lnTo>
                  <a:pt x="38" y="91"/>
                </a:lnTo>
                <a:lnTo>
                  <a:pt x="21" y="99"/>
                </a:lnTo>
                <a:lnTo>
                  <a:pt x="21" y="99"/>
                </a:lnTo>
                <a:lnTo>
                  <a:pt x="21" y="99"/>
                </a:lnTo>
                <a:lnTo>
                  <a:pt x="6" y="104"/>
                </a:lnTo>
                <a:lnTo>
                  <a:pt x="6" y="104"/>
                </a:lnTo>
                <a:lnTo>
                  <a:pt x="0" y="10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62440" y="4035600"/>
            <a:ext cx="61920" cy="380880"/>
          </a:xfrm>
          <a:custGeom>
            <a:avLst/>
            <a:gdLst/>
            <a:ahLst/>
            <a:rect l="l" t="t" r="r" b="b"/>
            <a:pathLst>
              <a:path w="39" h="240">
                <a:moveTo>
                  <a:pt x="34" y="238"/>
                </a:moveTo>
                <a:lnTo>
                  <a:pt x="34" y="238"/>
                </a:lnTo>
                <a:lnTo>
                  <a:pt x="30" y="178"/>
                </a:lnTo>
                <a:lnTo>
                  <a:pt x="23" y="118"/>
                </a:lnTo>
                <a:lnTo>
                  <a:pt x="11" y="60"/>
                </a:lnTo>
                <a:lnTo>
                  <a:pt x="0" y="0"/>
                </a:lnTo>
                <a:lnTo>
                  <a:pt x="0" y="0"/>
                </a:lnTo>
                <a:lnTo>
                  <a:pt x="6" y="2"/>
                </a:lnTo>
                <a:lnTo>
                  <a:pt x="6" y="2"/>
                </a:lnTo>
                <a:lnTo>
                  <a:pt x="19" y="60"/>
                </a:lnTo>
                <a:lnTo>
                  <a:pt x="28" y="120"/>
                </a:lnTo>
                <a:lnTo>
                  <a:pt x="36" y="180"/>
                </a:lnTo>
                <a:lnTo>
                  <a:pt x="39" y="240"/>
                </a:lnTo>
                <a:lnTo>
                  <a:pt x="39" y="240"/>
                </a:lnTo>
                <a:lnTo>
                  <a:pt x="34" y="23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44840" y="3635280"/>
            <a:ext cx="11160" cy="14400"/>
          </a:xfrm>
          <a:custGeom>
            <a:avLst/>
            <a:gdLst/>
            <a:ahLst/>
            <a:rect l="l" t="t" r="r" b="b"/>
            <a:pathLst>
              <a:path w="7" h="9">
                <a:moveTo>
                  <a:pt x="0" y="8"/>
                </a:moveTo>
                <a:lnTo>
                  <a:pt x="2" y="0"/>
                </a:lnTo>
                <a:lnTo>
                  <a:pt x="2" y="0"/>
                </a:lnTo>
                <a:lnTo>
                  <a:pt x="6" y="2"/>
                </a:lnTo>
                <a:lnTo>
                  <a:pt x="6" y="2"/>
                </a:lnTo>
                <a:lnTo>
                  <a:pt x="7" y="9"/>
                </a:lnTo>
                <a:lnTo>
                  <a:pt x="7" y="9"/>
                </a:lnTo>
                <a:lnTo>
                  <a:pt x="0" y="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02080" y="3086280"/>
            <a:ext cx="846000" cy="561960"/>
          </a:xfrm>
          <a:custGeom>
            <a:avLst/>
            <a:gdLst/>
            <a:ahLst/>
            <a:rect l="l" t="t" r="r" b="b"/>
            <a:pathLst>
              <a:path w="533" h="354">
                <a:moveTo>
                  <a:pt x="305" y="314"/>
                </a:moveTo>
                <a:lnTo>
                  <a:pt x="305" y="314"/>
                </a:lnTo>
                <a:lnTo>
                  <a:pt x="305" y="314"/>
                </a:lnTo>
                <a:lnTo>
                  <a:pt x="230" y="331"/>
                </a:lnTo>
                <a:lnTo>
                  <a:pt x="230" y="331"/>
                </a:lnTo>
                <a:lnTo>
                  <a:pt x="191" y="337"/>
                </a:lnTo>
                <a:lnTo>
                  <a:pt x="153" y="342"/>
                </a:lnTo>
                <a:lnTo>
                  <a:pt x="118" y="344"/>
                </a:lnTo>
                <a:lnTo>
                  <a:pt x="101" y="342"/>
                </a:lnTo>
                <a:lnTo>
                  <a:pt x="84" y="340"/>
                </a:lnTo>
                <a:lnTo>
                  <a:pt x="84" y="340"/>
                </a:lnTo>
                <a:lnTo>
                  <a:pt x="69" y="337"/>
                </a:lnTo>
                <a:lnTo>
                  <a:pt x="56" y="329"/>
                </a:lnTo>
                <a:lnTo>
                  <a:pt x="43" y="322"/>
                </a:lnTo>
                <a:lnTo>
                  <a:pt x="32" y="312"/>
                </a:lnTo>
                <a:lnTo>
                  <a:pt x="20" y="301"/>
                </a:lnTo>
                <a:lnTo>
                  <a:pt x="13" y="286"/>
                </a:lnTo>
                <a:lnTo>
                  <a:pt x="5" y="269"/>
                </a:lnTo>
                <a:lnTo>
                  <a:pt x="0" y="249"/>
                </a:lnTo>
                <a:lnTo>
                  <a:pt x="0" y="249"/>
                </a:lnTo>
                <a:lnTo>
                  <a:pt x="0" y="249"/>
                </a:lnTo>
                <a:lnTo>
                  <a:pt x="4" y="249"/>
                </a:lnTo>
                <a:lnTo>
                  <a:pt x="4" y="249"/>
                </a:lnTo>
                <a:lnTo>
                  <a:pt x="0" y="249"/>
                </a:lnTo>
                <a:lnTo>
                  <a:pt x="0" y="249"/>
                </a:lnTo>
                <a:lnTo>
                  <a:pt x="2" y="234"/>
                </a:lnTo>
                <a:lnTo>
                  <a:pt x="5" y="219"/>
                </a:lnTo>
                <a:lnTo>
                  <a:pt x="11" y="206"/>
                </a:lnTo>
                <a:lnTo>
                  <a:pt x="19" y="193"/>
                </a:lnTo>
                <a:lnTo>
                  <a:pt x="39" y="168"/>
                </a:lnTo>
                <a:lnTo>
                  <a:pt x="58" y="144"/>
                </a:lnTo>
                <a:lnTo>
                  <a:pt x="58" y="144"/>
                </a:lnTo>
                <a:lnTo>
                  <a:pt x="67" y="133"/>
                </a:lnTo>
                <a:lnTo>
                  <a:pt x="73" y="122"/>
                </a:lnTo>
                <a:lnTo>
                  <a:pt x="78" y="111"/>
                </a:lnTo>
                <a:lnTo>
                  <a:pt x="80" y="97"/>
                </a:lnTo>
                <a:lnTo>
                  <a:pt x="80" y="84"/>
                </a:lnTo>
                <a:lnTo>
                  <a:pt x="75" y="71"/>
                </a:lnTo>
                <a:lnTo>
                  <a:pt x="65" y="56"/>
                </a:lnTo>
                <a:lnTo>
                  <a:pt x="52" y="39"/>
                </a:lnTo>
                <a:lnTo>
                  <a:pt x="52" y="39"/>
                </a:lnTo>
                <a:lnTo>
                  <a:pt x="52" y="39"/>
                </a:lnTo>
                <a:lnTo>
                  <a:pt x="54" y="38"/>
                </a:lnTo>
                <a:lnTo>
                  <a:pt x="54" y="38"/>
                </a:lnTo>
                <a:lnTo>
                  <a:pt x="52" y="39"/>
                </a:lnTo>
                <a:lnTo>
                  <a:pt x="52" y="39"/>
                </a:lnTo>
                <a:lnTo>
                  <a:pt x="41" y="28"/>
                </a:lnTo>
                <a:lnTo>
                  <a:pt x="30" y="19"/>
                </a:lnTo>
                <a:lnTo>
                  <a:pt x="19" y="11"/>
                </a:lnTo>
                <a:lnTo>
                  <a:pt x="5" y="6"/>
                </a:lnTo>
                <a:lnTo>
                  <a:pt x="7" y="0"/>
                </a:lnTo>
                <a:lnTo>
                  <a:pt x="7" y="0"/>
                </a:lnTo>
                <a:lnTo>
                  <a:pt x="20" y="8"/>
                </a:lnTo>
                <a:lnTo>
                  <a:pt x="34" y="15"/>
                </a:lnTo>
                <a:lnTo>
                  <a:pt x="45" y="25"/>
                </a:lnTo>
                <a:lnTo>
                  <a:pt x="56" y="36"/>
                </a:lnTo>
                <a:lnTo>
                  <a:pt x="56" y="36"/>
                </a:lnTo>
                <a:lnTo>
                  <a:pt x="56" y="36"/>
                </a:lnTo>
                <a:lnTo>
                  <a:pt x="71" y="53"/>
                </a:lnTo>
                <a:lnTo>
                  <a:pt x="80" y="69"/>
                </a:lnTo>
                <a:lnTo>
                  <a:pt x="86" y="84"/>
                </a:lnTo>
                <a:lnTo>
                  <a:pt x="86" y="97"/>
                </a:lnTo>
                <a:lnTo>
                  <a:pt x="84" y="112"/>
                </a:lnTo>
                <a:lnTo>
                  <a:pt x="78" y="125"/>
                </a:lnTo>
                <a:lnTo>
                  <a:pt x="71" y="137"/>
                </a:lnTo>
                <a:lnTo>
                  <a:pt x="63" y="148"/>
                </a:lnTo>
                <a:lnTo>
                  <a:pt x="63" y="148"/>
                </a:lnTo>
                <a:lnTo>
                  <a:pt x="43" y="172"/>
                </a:lnTo>
                <a:lnTo>
                  <a:pt x="24" y="197"/>
                </a:lnTo>
                <a:lnTo>
                  <a:pt x="17" y="208"/>
                </a:lnTo>
                <a:lnTo>
                  <a:pt x="11" y="221"/>
                </a:lnTo>
                <a:lnTo>
                  <a:pt x="7" y="234"/>
                </a:lnTo>
                <a:lnTo>
                  <a:pt x="7" y="249"/>
                </a:lnTo>
                <a:lnTo>
                  <a:pt x="7" y="249"/>
                </a:lnTo>
                <a:lnTo>
                  <a:pt x="7" y="249"/>
                </a:lnTo>
                <a:lnTo>
                  <a:pt x="11" y="268"/>
                </a:lnTo>
                <a:lnTo>
                  <a:pt x="17" y="283"/>
                </a:lnTo>
                <a:lnTo>
                  <a:pt x="26" y="297"/>
                </a:lnTo>
                <a:lnTo>
                  <a:pt x="35" y="309"/>
                </a:lnTo>
                <a:lnTo>
                  <a:pt x="47" y="318"/>
                </a:lnTo>
                <a:lnTo>
                  <a:pt x="58" y="326"/>
                </a:lnTo>
                <a:lnTo>
                  <a:pt x="71" y="331"/>
                </a:lnTo>
                <a:lnTo>
                  <a:pt x="86" y="335"/>
                </a:lnTo>
                <a:lnTo>
                  <a:pt x="86" y="335"/>
                </a:lnTo>
                <a:lnTo>
                  <a:pt x="101" y="337"/>
                </a:lnTo>
                <a:lnTo>
                  <a:pt x="118" y="339"/>
                </a:lnTo>
                <a:lnTo>
                  <a:pt x="153" y="337"/>
                </a:lnTo>
                <a:lnTo>
                  <a:pt x="191" y="331"/>
                </a:lnTo>
                <a:lnTo>
                  <a:pt x="228" y="326"/>
                </a:lnTo>
                <a:lnTo>
                  <a:pt x="228" y="326"/>
                </a:lnTo>
                <a:lnTo>
                  <a:pt x="303" y="309"/>
                </a:lnTo>
                <a:lnTo>
                  <a:pt x="303" y="309"/>
                </a:lnTo>
                <a:lnTo>
                  <a:pt x="303" y="309"/>
                </a:lnTo>
                <a:lnTo>
                  <a:pt x="303" y="312"/>
                </a:lnTo>
                <a:lnTo>
                  <a:pt x="303" y="312"/>
                </a:lnTo>
                <a:lnTo>
                  <a:pt x="303" y="309"/>
                </a:lnTo>
                <a:lnTo>
                  <a:pt x="303" y="309"/>
                </a:lnTo>
                <a:lnTo>
                  <a:pt x="333" y="307"/>
                </a:lnTo>
                <a:lnTo>
                  <a:pt x="363" y="307"/>
                </a:lnTo>
                <a:lnTo>
                  <a:pt x="391" y="311"/>
                </a:lnTo>
                <a:lnTo>
                  <a:pt x="419" y="316"/>
                </a:lnTo>
                <a:lnTo>
                  <a:pt x="447" y="322"/>
                </a:lnTo>
                <a:lnTo>
                  <a:pt x="475" y="331"/>
                </a:lnTo>
                <a:lnTo>
                  <a:pt x="533" y="346"/>
                </a:lnTo>
                <a:lnTo>
                  <a:pt x="531" y="354"/>
                </a:lnTo>
                <a:lnTo>
                  <a:pt x="531" y="350"/>
                </a:lnTo>
                <a:lnTo>
                  <a:pt x="531" y="354"/>
                </a:lnTo>
                <a:lnTo>
                  <a:pt x="531" y="354"/>
                </a:lnTo>
                <a:lnTo>
                  <a:pt x="475" y="337"/>
                </a:lnTo>
                <a:lnTo>
                  <a:pt x="447" y="327"/>
                </a:lnTo>
                <a:lnTo>
                  <a:pt x="419" y="322"/>
                </a:lnTo>
                <a:lnTo>
                  <a:pt x="391" y="316"/>
                </a:lnTo>
                <a:lnTo>
                  <a:pt x="363" y="312"/>
                </a:lnTo>
                <a:lnTo>
                  <a:pt x="333" y="312"/>
                </a:lnTo>
                <a:lnTo>
                  <a:pt x="305" y="31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44840" y="364824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58960" y="3065400"/>
            <a:ext cx="853920" cy="338040"/>
          </a:xfrm>
          <a:custGeom>
            <a:avLst/>
            <a:gdLst/>
            <a:ahLst/>
            <a:rect l="l" t="t" r="r" b="b"/>
            <a:pathLst>
              <a:path w="538" h="213">
                <a:moveTo>
                  <a:pt x="267" y="56"/>
                </a:moveTo>
                <a:lnTo>
                  <a:pt x="267" y="56"/>
                </a:lnTo>
                <a:lnTo>
                  <a:pt x="303" y="39"/>
                </a:lnTo>
                <a:lnTo>
                  <a:pt x="338" y="26"/>
                </a:lnTo>
                <a:lnTo>
                  <a:pt x="338" y="26"/>
                </a:lnTo>
                <a:lnTo>
                  <a:pt x="364" y="17"/>
                </a:lnTo>
                <a:lnTo>
                  <a:pt x="392" y="9"/>
                </a:lnTo>
                <a:lnTo>
                  <a:pt x="419" y="4"/>
                </a:lnTo>
                <a:lnTo>
                  <a:pt x="445" y="0"/>
                </a:lnTo>
                <a:lnTo>
                  <a:pt x="469" y="0"/>
                </a:lnTo>
                <a:lnTo>
                  <a:pt x="493" y="2"/>
                </a:lnTo>
                <a:lnTo>
                  <a:pt x="516" y="6"/>
                </a:lnTo>
                <a:lnTo>
                  <a:pt x="538" y="13"/>
                </a:lnTo>
                <a:lnTo>
                  <a:pt x="536" y="15"/>
                </a:lnTo>
                <a:lnTo>
                  <a:pt x="538" y="13"/>
                </a:lnTo>
                <a:lnTo>
                  <a:pt x="536" y="19"/>
                </a:lnTo>
                <a:lnTo>
                  <a:pt x="536" y="19"/>
                </a:lnTo>
                <a:lnTo>
                  <a:pt x="516" y="11"/>
                </a:lnTo>
                <a:lnTo>
                  <a:pt x="493" y="8"/>
                </a:lnTo>
                <a:lnTo>
                  <a:pt x="469" y="6"/>
                </a:lnTo>
                <a:lnTo>
                  <a:pt x="445" y="8"/>
                </a:lnTo>
                <a:lnTo>
                  <a:pt x="419" y="9"/>
                </a:lnTo>
                <a:lnTo>
                  <a:pt x="392" y="15"/>
                </a:lnTo>
                <a:lnTo>
                  <a:pt x="366" y="23"/>
                </a:lnTo>
                <a:lnTo>
                  <a:pt x="340" y="32"/>
                </a:lnTo>
                <a:lnTo>
                  <a:pt x="338" y="26"/>
                </a:lnTo>
                <a:lnTo>
                  <a:pt x="340" y="32"/>
                </a:lnTo>
                <a:lnTo>
                  <a:pt x="338" y="28"/>
                </a:lnTo>
                <a:lnTo>
                  <a:pt x="340" y="32"/>
                </a:lnTo>
                <a:lnTo>
                  <a:pt x="340" y="32"/>
                </a:lnTo>
                <a:lnTo>
                  <a:pt x="340" y="32"/>
                </a:lnTo>
                <a:lnTo>
                  <a:pt x="305" y="45"/>
                </a:lnTo>
                <a:lnTo>
                  <a:pt x="269" y="62"/>
                </a:lnTo>
                <a:lnTo>
                  <a:pt x="267" y="56"/>
                </a:lnTo>
                <a:lnTo>
                  <a:pt x="269" y="62"/>
                </a:lnTo>
                <a:lnTo>
                  <a:pt x="267" y="58"/>
                </a:lnTo>
                <a:lnTo>
                  <a:pt x="269" y="62"/>
                </a:lnTo>
                <a:lnTo>
                  <a:pt x="269" y="62"/>
                </a:lnTo>
                <a:lnTo>
                  <a:pt x="269" y="62"/>
                </a:lnTo>
                <a:lnTo>
                  <a:pt x="200" y="92"/>
                </a:lnTo>
                <a:lnTo>
                  <a:pt x="166" y="107"/>
                </a:lnTo>
                <a:lnTo>
                  <a:pt x="133" y="124"/>
                </a:lnTo>
                <a:lnTo>
                  <a:pt x="99" y="140"/>
                </a:lnTo>
                <a:lnTo>
                  <a:pt x="67" y="161"/>
                </a:lnTo>
                <a:lnTo>
                  <a:pt x="37" y="185"/>
                </a:lnTo>
                <a:lnTo>
                  <a:pt x="22" y="198"/>
                </a:lnTo>
                <a:lnTo>
                  <a:pt x="9" y="211"/>
                </a:lnTo>
                <a:lnTo>
                  <a:pt x="9" y="211"/>
                </a:lnTo>
                <a:lnTo>
                  <a:pt x="0" y="213"/>
                </a:lnTo>
                <a:lnTo>
                  <a:pt x="0" y="213"/>
                </a:lnTo>
                <a:lnTo>
                  <a:pt x="15" y="198"/>
                </a:lnTo>
                <a:lnTo>
                  <a:pt x="30" y="183"/>
                </a:lnTo>
                <a:lnTo>
                  <a:pt x="60" y="159"/>
                </a:lnTo>
                <a:lnTo>
                  <a:pt x="93" y="138"/>
                </a:lnTo>
                <a:lnTo>
                  <a:pt x="127" y="120"/>
                </a:lnTo>
                <a:lnTo>
                  <a:pt x="161" y="103"/>
                </a:lnTo>
                <a:lnTo>
                  <a:pt x="196" y="86"/>
                </a:lnTo>
                <a:lnTo>
                  <a:pt x="267" y="5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22680" y="3006720"/>
            <a:ext cx="252360" cy="328680"/>
          </a:xfrm>
          <a:custGeom>
            <a:avLst/>
            <a:gdLst/>
            <a:ahLst/>
            <a:rect l="l" t="t" r="r" b="b"/>
            <a:pathLst>
              <a:path w="159" h="207">
                <a:moveTo>
                  <a:pt x="153" y="205"/>
                </a:moveTo>
                <a:lnTo>
                  <a:pt x="153" y="205"/>
                </a:lnTo>
                <a:lnTo>
                  <a:pt x="144" y="187"/>
                </a:lnTo>
                <a:lnTo>
                  <a:pt x="135" y="172"/>
                </a:lnTo>
                <a:lnTo>
                  <a:pt x="112" y="138"/>
                </a:lnTo>
                <a:lnTo>
                  <a:pt x="112" y="138"/>
                </a:lnTo>
                <a:lnTo>
                  <a:pt x="112" y="138"/>
                </a:lnTo>
                <a:lnTo>
                  <a:pt x="86" y="112"/>
                </a:lnTo>
                <a:lnTo>
                  <a:pt x="60" y="86"/>
                </a:lnTo>
                <a:lnTo>
                  <a:pt x="62" y="84"/>
                </a:lnTo>
                <a:lnTo>
                  <a:pt x="60" y="86"/>
                </a:lnTo>
                <a:lnTo>
                  <a:pt x="60" y="86"/>
                </a:lnTo>
                <a:lnTo>
                  <a:pt x="30" y="61"/>
                </a:lnTo>
                <a:lnTo>
                  <a:pt x="2" y="41"/>
                </a:lnTo>
                <a:lnTo>
                  <a:pt x="2" y="39"/>
                </a:lnTo>
                <a:lnTo>
                  <a:pt x="2" y="39"/>
                </a:lnTo>
                <a:lnTo>
                  <a:pt x="2" y="39"/>
                </a:lnTo>
                <a:lnTo>
                  <a:pt x="0" y="30"/>
                </a:lnTo>
                <a:lnTo>
                  <a:pt x="0" y="20"/>
                </a:lnTo>
                <a:lnTo>
                  <a:pt x="2" y="11"/>
                </a:lnTo>
                <a:lnTo>
                  <a:pt x="6" y="0"/>
                </a:lnTo>
                <a:lnTo>
                  <a:pt x="6" y="0"/>
                </a:lnTo>
                <a:lnTo>
                  <a:pt x="11" y="2"/>
                </a:lnTo>
                <a:lnTo>
                  <a:pt x="11" y="2"/>
                </a:lnTo>
                <a:lnTo>
                  <a:pt x="8" y="11"/>
                </a:lnTo>
                <a:lnTo>
                  <a:pt x="6" y="20"/>
                </a:lnTo>
                <a:lnTo>
                  <a:pt x="6" y="28"/>
                </a:lnTo>
                <a:lnTo>
                  <a:pt x="6" y="35"/>
                </a:lnTo>
                <a:lnTo>
                  <a:pt x="6" y="35"/>
                </a:lnTo>
                <a:lnTo>
                  <a:pt x="36" y="58"/>
                </a:lnTo>
                <a:lnTo>
                  <a:pt x="64" y="82"/>
                </a:lnTo>
                <a:lnTo>
                  <a:pt x="64" y="82"/>
                </a:lnTo>
                <a:lnTo>
                  <a:pt x="90" y="106"/>
                </a:lnTo>
                <a:lnTo>
                  <a:pt x="116" y="134"/>
                </a:lnTo>
                <a:lnTo>
                  <a:pt x="116" y="134"/>
                </a:lnTo>
                <a:lnTo>
                  <a:pt x="116" y="134"/>
                </a:lnTo>
                <a:lnTo>
                  <a:pt x="116" y="134"/>
                </a:lnTo>
                <a:lnTo>
                  <a:pt x="140" y="168"/>
                </a:lnTo>
                <a:lnTo>
                  <a:pt x="150" y="185"/>
                </a:lnTo>
                <a:lnTo>
                  <a:pt x="159" y="202"/>
                </a:lnTo>
                <a:lnTo>
                  <a:pt x="153" y="205"/>
                </a:lnTo>
                <a:lnTo>
                  <a:pt x="157" y="204"/>
                </a:lnTo>
                <a:lnTo>
                  <a:pt x="159" y="202"/>
                </a:lnTo>
                <a:lnTo>
                  <a:pt x="159" y="202"/>
                </a:lnTo>
                <a:lnTo>
                  <a:pt x="159" y="202"/>
                </a:lnTo>
                <a:lnTo>
                  <a:pt x="159" y="204"/>
                </a:lnTo>
                <a:lnTo>
                  <a:pt x="159" y="204"/>
                </a:lnTo>
                <a:lnTo>
                  <a:pt x="153" y="207"/>
                </a:lnTo>
                <a:lnTo>
                  <a:pt x="153" y="207"/>
                </a:lnTo>
                <a:lnTo>
                  <a:pt x="153" y="20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3760" y="321948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25920" y="306540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lnTo>
                  <a:pt x="2" y="0"/>
                </a:lnTo>
                <a:lnTo>
                  <a:pt x="2" y="0"/>
                </a:lnTo>
                <a:lnTo>
                  <a:pt x="0" y="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83280" y="4649760"/>
            <a:ext cx="30240" cy="101520"/>
          </a:xfrm>
          <a:custGeom>
            <a:avLst/>
            <a:gdLst/>
            <a:ahLst/>
            <a:rect l="l" t="t" r="r" b="b"/>
            <a:pathLst>
              <a:path w="19" h="64">
                <a:moveTo>
                  <a:pt x="0" y="64"/>
                </a:move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lnTo>
                  <a:pt x="0" y="64"/>
                </a:lnTo>
                <a:close/>
                <a:moveTo>
                  <a:pt x="19" y="0"/>
                </a:moveTo>
                <a:lnTo>
                  <a:pt x="19" y="0"/>
                </a:lnTo>
                <a:lnTo>
                  <a:pt x="19" y="0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f0c6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83280" y="475128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13520" y="464976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14760" y="42940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0" y="0"/>
                </a:lnTo>
                <a:close/>
              </a:path>
            </a:pathLst>
          </a:custGeom>
          <a:solidFill>
            <a:srgbClr val="db7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14760" y="42940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0"/>
                </a:move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16160" y="3608280"/>
            <a:ext cx="4489200" cy="655920"/>
          </a:xfrm>
          <a:custGeom>
            <a:avLst/>
            <a:gdLst/>
            <a:ahLst/>
            <a:rect l="l" t="t" r="r" b="b"/>
            <a:pathLst>
              <a:path w="2828" h="413">
                <a:moveTo>
                  <a:pt x="2584" y="413"/>
                </a:moveTo>
                <a:lnTo>
                  <a:pt x="2584" y="413"/>
                </a:lnTo>
                <a:lnTo>
                  <a:pt x="2584" y="413"/>
                </a:lnTo>
                <a:lnTo>
                  <a:pt x="2584" y="413"/>
                </a:lnTo>
                <a:close/>
                <a:moveTo>
                  <a:pt x="2764" y="402"/>
                </a:moveTo>
                <a:lnTo>
                  <a:pt x="2764" y="402"/>
                </a:lnTo>
                <a:lnTo>
                  <a:pt x="2766" y="406"/>
                </a:lnTo>
                <a:lnTo>
                  <a:pt x="2764" y="402"/>
                </a:lnTo>
                <a:close/>
                <a:moveTo>
                  <a:pt x="2826" y="384"/>
                </a:moveTo>
                <a:lnTo>
                  <a:pt x="2826" y="384"/>
                </a:lnTo>
                <a:lnTo>
                  <a:pt x="2826" y="384"/>
                </a:lnTo>
                <a:lnTo>
                  <a:pt x="2828" y="387"/>
                </a:lnTo>
                <a:lnTo>
                  <a:pt x="2826" y="384"/>
                </a:lnTo>
                <a:close/>
                <a:moveTo>
                  <a:pt x="2392" y="320"/>
                </a:moveTo>
                <a:lnTo>
                  <a:pt x="2392" y="320"/>
                </a:lnTo>
                <a:lnTo>
                  <a:pt x="2392" y="320"/>
                </a:lnTo>
                <a:lnTo>
                  <a:pt x="2392" y="320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0c6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18000" y="426420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03840" y="424656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0" y="0"/>
                </a:lnTo>
                <a:lnTo>
                  <a:pt x="2" y="4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2480" y="421812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13440" y="411624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16160" y="360828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79560" y="34131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b7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79560" y="34131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96920" y="2563920"/>
            <a:ext cx="2243160" cy="460440"/>
          </a:xfrm>
          <a:custGeom>
            <a:avLst/>
            <a:gdLst/>
            <a:ahLst/>
            <a:rect l="l" t="t" r="r" b="b"/>
            <a:pathLst>
              <a:path w="1413" h="290">
                <a:moveTo>
                  <a:pt x="0" y="290"/>
                </a:moveTo>
                <a:lnTo>
                  <a:pt x="0" y="290"/>
                </a:lnTo>
                <a:lnTo>
                  <a:pt x="0" y="290"/>
                </a:lnTo>
                <a:lnTo>
                  <a:pt x="0" y="290"/>
                </a:lnTo>
                <a:lnTo>
                  <a:pt x="0" y="290"/>
                </a:lnTo>
                <a:close/>
                <a:moveTo>
                  <a:pt x="1413" y="268"/>
                </a:moveTo>
                <a:lnTo>
                  <a:pt x="1413" y="268"/>
                </a:lnTo>
                <a:lnTo>
                  <a:pt x="1413" y="268"/>
                </a:lnTo>
                <a:lnTo>
                  <a:pt x="1413" y="268"/>
                </a:lnTo>
                <a:lnTo>
                  <a:pt x="1413" y="268"/>
                </a:lnTo>
                <a:lnTo>
                  <a:pt x="1413" y="268"/>
                </a:lnTo>
                <a:close/>
                <a:moveTo>
                  <a:pt x="73" y="174"/>
                </a:moveTo>
                <a:lnTo>
                  <a:pt x="73" y="174"/>
                </a:lnTo>
                <a:lnTo>
                  <a:pt x="73" y="174"/>
                </a:lnTo>
                <a:lnTo>
                  <a:pt x="73" y="174"/>
                </a:lnTo>
                <a:lnTo>
                  <a:pt x="73" y="174"/>
                </a:lnTo>
                <a:close/>
                <a:moveTo>
                  <a:pt x="621" y="0"/>
                </a:moveTo>
                <a:lnTo>
                  <a:pt x="621" y="0"/>
                </a:lnTo>
                <a:lnTo>
                  <a:pt x="621" y="0"/>
                </a:lnTo>
                <a:lnTo>
                  <a:pt x="621" y="0"/>
                </a:lnTo>
                <a:lnTo>
                  <a:pt x="621" y="4"/>
                </a:lnTo>
                <a:lnTo>
                  <a:pt x="621" y="0"/>
                </a:lnTo>
                <a:close/>
              </a:path>
            </a:pathLst>
          </a:custGeom>
          <a:solidFill>
            <a:srgbClr val="f0c6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96920" y="3024360"/>
            <a:ext cx="18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40080" y="29894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2840" y="284004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82960" y="2563920"/>
            <a:ext cx="144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24360" y="4038480"/>
            <a:ext cx="1479600" cy="747720"/>
          </a:xfrm>
          <a:custGeom>
            <a:avLst/>
            <a:gdLst/>
            <a:ahLst/>
            <a:rect l="l" t="t" r="r" b="b"/>
            <a:pathLst>
              <a:path w="932" h="471">
                <a:moveTo>
                  <a:pt x="704" y="470"/>
                </a:moveTo>
                <a:lnTo>
                  <a:pt x="704" y="470"/>
                </a:lnTo>
                <a:lnTo>
                  <a:pt x="677" y="464"/>
                </a:lnTo>
                <a:lnTo>
                  <a:pt x="651" y="457"/>
                </a:lnTo>
                <a:lnTo>
                  <a:pt x="629" y="449"/>
                </a:lnTo>
                <a:lnTo>
                  <a:pt x="606" y="440"/>
                </a:lnTo>
                <a:lnTo>
                  <a:pt x="606" y="440"/>
                </a:lnTo>
                <a:lnTo>
                  <a:pt x="606" y="440"/>
                </a:lnTo>
                <a:lnTo>
                  <a:pt x="578" y="428"/>
                </a:lnTo>
                <a:lnTo>
                  <a:pt x="573" y="428"/>
                </a:lnTo>
                <a:lnTo>
                  <a:pt x="573" y="427"/>
                </a:lnTo>
                <a:lnTo>
                  <a:pt x="573" y="428"/>
                </a:lnTo>
                <a:lnTo>
                  <a:pt x="573" y="428"/>
                </a:lnTo>
                <a:lnTo>
                  <a:pt x="541" y="427"/>
                </a:lnTo>
                <a:lnTo>
                  <a:pt x="509" y="423"/>
                </a:lnTo>
                <a:lnTo>
                  <a:pt x="511" y="419"/>
                </a:lnTo>
                <a:lnTo>
                  <a:pt x="509" y="423"/>
                </a:lnTo>
                <a:lnTo>
                  <a:pt x="509" y="423"/>
                </a:lnTo>
                <a:lnTo>
                  <a:pt x="472" y="414"/>
                </a:lnTo>
                <a:lnTo>
                  <a:pt x="434" y="400"/>
                </a:lnTo>
                <a:lnTo>
                  <a:pt x="397" y="385"/>
                </a:lnTo>
                <a:lnTo>
                  <a:pt x="361" y="369"/>
                </a:lnTo>
                <a:lnTo>
                  <a:pt x="288" y="333"/>
                </a:lnTo>
                <a:lnTo>
                  <a:pt x="217" y="294"/>
                </a:lnTo>
                <a:lnTo>
                  <a:pt x="217" y="294"/>
                </a:lnTo>
                <a:lnTo>
                  <a:pt x="189" y="283"/>
                </a:lnTo>
                <a:lnTo>
                  <a:pt x="161" y="273"/>
                </a:lnTo>
                <a:lnTo>
                  <a:pt x="163" y="270"/>
                </a:lnTo>
                <a:lnTo>
                  <a:pt x="161" y="273"/>
                </a:lnTo>
                <a:lnTo>
                  <a:pt x="161" y="273"/>
                </a:lnTo>
                <a:lnTo>
                  <a:pt x="133" y="264"/>
                </a:lnTo>
                <a:lnTo>
                  <a:pt x="103" y="256"/>
                </a:lnTo>
                <a:lnTo>
                  <a:pt x="73" y="253"/>
                </a:lnTo>
                <a:lnTo>
                  <a:pt x="42" y="249"/>
                </a:lnTo>
                <a:lnTo>
                  <a:pt x="42" y="249"/>
                </a:lnTo>
                <a:lnTo>
                  <a:pt x="42" y="249"/>
                </a:lnTo>
                <a:lnTo>
                  <a:pt x="42" y="245"/>
                </a:lnTo>
                <a:lnTo>
                  <a:pt x="42" y="249"/>
                </a:lnTo>
                <a:lnTo>
                  <a:pt x="42" y="249"/>
                </a:lnTo>
                <a:lnTo>
                  <a:pt x="0" y="245"/>
                </a:lnTo>
                <a:lnTo>
                  <a:pt x="0" y="245"/>
                </a:lnTo>
                <a:lnTo>
                  <a:pt x="0" y="238"/>
                </a:lnTo>
                <a:lnTo>
                  <a:pt x="0" y="238"/>
                </a:lnTo>
                <a:lnTo>
                  <a:pt x="42" y="242"/>
                </a:lnTo>
                <a:lnTo>
                  <a:pt x="42" y="242"/>
                </a:lnTo>
                <a:lnTo>
                  <a:pt x="42" y="242"/>
                </a:lnTo>
                <a:lnTo>
                  <a:pt x="73" y="245"/>
                </a:lnTo>
                <a:lnTo>
                  <a:pt x="105" y="249"/>
                </a:lnTo>
                <a:lnTo>
                  <a:pt x="135" y="256"/>
                </a:lnTo>
                <a:lnTo>
                  <a:pt x="163" y="266"/>
                </a:lnTo>
                <a:lnTo>
                  <a:pt x="163" y="266"/>
                </a:lnTo>
                <a:lnTo>
                  <a:pt x="191" y="275"/>
                </a:lnTo>
                <a:lnTo>
                  <a:pt x="219" y="288"/>
                </a:lnTo>
                <a:lnTo>
                  <a:pt x="219" y="292"/>
                </a:lnTo>
                <a:lnTo>
                  <a:pt x="219" y="290"/>
                </a:lnTo>
                <a:lnTo>
                  <a:pt x="219" y="288"/>
                </a:lnTo>
                <a:lnTo>
                  <a:pt x="221" y="288"/>
                </a:lnTo>
                <a:lnTo>
                  <a:pt x="221" y="288"/>
                </a:lnTo>
                <a:lnTo>
                  <a:pt x="221" y="288"/>
                </a:lnTo>
                <a:lnTo>
                  <a:pt x="292" y="326"/>
                </a:lnTo>
                <a:lnTo>
                  <a:pt x="363" y="363"/>
                </a:lnTo>
                <a:lnTo>
                  <a:pt x="401" y="380"/>
                </a:lnTo>
                <a:lnTo>
                  <a:pt x="436" y="395"/>
                </a:lnTo>
                <a:lnTo>
                  <a:pt x="474" y="406"/>
                </a:lnTo>
                <a:lnTo>
                  <a:pt x="511" y="415"/>
                </a:lnTo>
                <a:lnTo>
                  <a:pt x="511" y="415"/>
                </a:lnTo>
                <a:lnTo>
                  <a:pt x="535" y="419"/>
                </a:lnTo>
                <a:lnTo>
                  <a:pt x="560" y="421"/>
                </a:lnTo>
                <a:lnTo>
                  <a:pt x="560" y="421"/>
                </a:lnTo>
                <a:lnTo>
                  <a:pt x="541" y="414"/>
                </a:lnTo>
                <a:lnTo>
                  <a:pt x="533" y="410"/>
                </a:lnTo>
                <a:lnTo>
                  <a:pt x="541" y="406"/>
                </a:lnTo>
                <a:lnTo>
                  <a:pt x="543" y="410"/>
                </a:lnTo>
                <a:lnTo>
                  <a:pt x="543" y="410"/>
                </a:lnTo>
                <a:lnTo>
                  <a:pt x="541" y="406"/>
                </a:lnTo>
                <a:lnTo>
                  <a:pt x="541" y="406"/>
                </a:lnTo>
                <a:lnTo>
                  <a:pt x="548" y="404"/>
                </a:lnTo>
                <a:lnTo>
                  <a:pt x="554" y="404"/>
                </a:lnTo>
                <a:lnTo>
                  <a:pt x="560" y="406"/>
                </a:lnTo>
                <a:lnTo>
                  <a:pt x="563" y="408"/>
                </a:lnTo>
                <a:lnTo>
                  <a:pt x="563" y="408"/>
                </a:lnTo>
                <a:lnTo>
                  <a:pt x="573" y="417"/>
                </a:lnTo>
                <a:lnTo>
                  <a:pt x="573" y="417"/>
                </a:lnTo>
                <a:lnTo>
                  <a:pt x="610" y="432"/>
                </a:lnTo>
                <a:lnTo>
                  <a:pt x="608" y="436"/>
                </a:lnTo>
                <a:lnTo>
                  <a:pt x="608" y="436"/>
                </a:lnTo>
                <a:lnTo>
                  <a:pt x="610" y="432"/>
                </a:lnTo>
                <a:lnTo>
                  <a:pt x="610" y="432"/>
                </a:lnTo>
                <a:lnTo>
                  <a:pt x="610" y="432"/>
                </a:lnTo>
                <a:lnTo>
                  <a:pt x="610" y="432"/>
                </a:lnTo>
                <a:lnTo>
                  <a:pt x="631" y="442"/>
                </a:lnTo>
                <a:lnTo>
                  <a:pt x="655" y="451"/>
                </a:lnTo>
                <a:lnTo>
                  <a:pt x="679" y="457"/>
                </a:lnTo>
                <a:lnTo>
                  <a:pt x="704" y="462"/>
                </a:lnTo>
                <a:lnTo>
                  <a:pt x="704" y="462"/>
                </a:lnTo>
                <a:lnTo>
                  <a:pt x="730" y="464"/>
                </a:lnTo>
                <a:lnTo>
                  <a:pt x="752" y="462"/>
                </a:lnTo>
                <a:lnTo>
                  <a:pt x="763" y="460"/>
                </a:lnTo>
                <a:lnTo>
                  <a:pt x="773" y="457"/>
                </a:lnTo>
                <a:lnTo>
                  <a:pt x="782" y="453"/>
                </a:lnTo>
                <a:lnTo>
                  <a:pt x="790" y="447"/>
                </a:lnTo>
                <a:lnTo>
                  <a:pt x="790" y="447"/>
                </a:lnTo>
                <a:lnTo>
                  <a:pt x="797" y="432"/>
                </a:lnTo>
                <a:lnTo>
                  <a:pt x="803" y="417"/>
                </a:lnTo>
                <a:lnTo>
                  <a:pt x="806" y="400"/>
                </a:lnTo>
                <a:lnTo>
                  <a:pt x="808" y="384"/>
                </a:lnTo>
                <a:lnTo>
                  <a:pt x="808" y="384"/>
                </a:lnTo>
                <a:lnTo>
                  <a:pt x="808" y="384"/>
                </a:lnTo>
                <a:lnTo>
                  <a:pt x="812" y="342"/>
                </a:lnTo>
                <a:lnTo>
                  <a:pt x="814" y="299"/>
                </a:lnTo>
                <a:lnTo>
                  <a:pt x="818" y="255"/>
                </a:lnTo>
                <a:lnTo>
                  <a:pt x="821" y="232"/>
                </a:lnTo>
                <a:lnTo>
                  <a:pt x="823" y="212"/>
                </a:lnTo>
                <a:lnTo>
                  <a:pt x="829" y="191"/>
                </a:lnTo>
                <a:lnTo>
                  <a:pt x="836" y="170"/>
                </a:lnTo>
                <a:lnTo>
                  <a:pt x="844" y="152"/>
                </a:lnTo>
                <a:lnTo>
                  <a:pt x="855" y="135"/>
                </a:lnTo>
                <a:lnTo>
                  <a:pt x="868" y="118"/>
                </a:lnTo>
                <a:lnTo>
                  <a:pt x="883" y="105"/>
                </a:lnTo>
                <a:lnTo>
                  <a:pt x="902" y="94"/>
                </a:lnTo>
                <a:lnTo>
                  <a:pt x="924" y="84"/>
                </a:lnTo>
                <a:lnTo>
                  <a:pt x="924" y="84"/>
                </a:lnTo>
                <a:lnTo>
                  <a:pt x="924" y="81"/>
                </a:lnTo>
                <a:lnTo>
                  <a:pt x="924" y="81"/>
                </a:lnTo>
                <a:lnTo>
                  <a:pt x="922" y="66"/>
                </a:lnTo>
                <a:lnTo>
                  <a:pt x="922" y="66"/>
                </a:lnTo>
                <a:lnTo>
                  <a:pt x="919" y="45"/>
                </a:lnTo>
                <a:lnTo>
                  <a:pt x="911" y="21"/>
                </a:lnTo>
                <a:lnTo>
                  <a:pt x="911" y="21"/>
                </a:lnTo>
                <a:lnTo>
                  <a:pt x="892" y="13"/>
                </a:lnTo>
                <a:lnTo>
                  <a:pt x="872" y="10"/>
                </a:lnTo>
                <a:lnTo>
                  <a:pt x="851" y="8"/>
                </a:lnTo>
                <a:lnTo>
                  <a:pt x="833" y="8"/>
                </a:lnTo>
                <a:lnTo>
                  <a:pt x="814" y="12"/>
                </a:lnTo>
                <a:lnTo>
                  <a:pt x="795" y="15"/>
                </a:lnTo>
                <a:lnTo>
                  <a:pt x="776" y="21"/>
                </a:lnTo>
                <a:lnTo>
                  <a:pt x="758" y="28"/>
                </a:lnTo>
                <a:lnTo>
                  <a:pt x="722" y="47"/>
                </a:lnTo>
                <a:lnTo>
                  <a:pt x="687" y="70"/>
                </a:lnTo>
                <a:lnTo>
                  <a:pt x="618" y="116"/>
                </a:lnTo>
                <a:lnTo>
                  <a:pt x="618" y="116"/>
                </a:lnTo>
                <a:lnTo>
                  <a:pt x="618" y="116"/>
                </a:lnTo>
                <a:lnTo>
                  <a:pt x="618" y="116"/>
                </a:lnTo>
                <a:lnTo>
                  <a:pt x="604" y="120"/>
                </a:lnTo>
                <a:lnTo>
                  <a:pt x="589" y="124"/>
                </a:lnTo>
                <a:lnTo>
                  <a:pt x="573" y="127"/>
                </a:lnTo>
                <a:lnTo>
                  <a:pt x="556" y="135"/>
                </a:lnTo>
                <a:lnTo>
                  <a:pt x="556" y="135"/>
                </a:lnTo>
                <a:lnTo>
                  <a:pt x="556" y="135"/>
                </a:lnTo>
                <a:lnTo>
                  <a:pt x="556" y="135"/>
                </a:lnTo>
                <a:lnTo>
                  <a:pt x="526" y="144"/>
                </a:lnTo>
                <a:lnTo>
                  <a:pt x="498" y="150"/>
                </a:lnTo>
                <a:lnTo>
                  <a:pt x="498" y="150"/>
                </a:lnTo>
                <a:lnTo>
                  <a:pt x="468" y="154"/>
                </a:lnTo>
                <a:lnTo>
                  <a:pt x="438" y="154"/>
                </a:lnTo>
                <a:lnTo>
                  <a:pt x="406" y="152"/>
                </a:lnTo>
                <a:lnTo>
                  <a:pt x="374" y="146"/>
                </a:lnTo>
                <a:lnTo>
                  <a:pt x="374" y="146"/>
                </a:lnTo>
                <a:lnTo>
                  <a:pt x="350" y="141"/>
                </a:lnTo>
                <a:lnTo>
                  <a:pt x="326" y="133"/>
                </a:lnTo>
                <a:lnTo>
                  <a:pt x="328" y="129"/>
                </a:lnTo>
                <a:lnTo>
                  <a:pt x="326" y="133"/>
                </a:lnTo>
                <a:lnTo>
                  <a:pt x="328" y="126"/>
                </a:lnTo>
                <a:lnTo>
                  <a:pt x="328" y="126"/>
                </a:lnTo>
                <a:lnTo>
                  <a:pt x="352" y="133"/>
                </a:lnTo>
                <a:lnTo>
                  <a:pt x="374" y="139"/>
                </a:lnTo>
                <a:lnTo>
                  <a:pt x="374" y="139"/>
                </a:lnTo>
                <a:lnTo>
                  <a:pt x="374" y="139"/>
                </a:lnTo>
                <a:lnTo>
                  <a:pt x="374" y="139"/>
                </a:lnTo>
                <a:lnTo>
                  <a:pt x="406" y="144"/>
                </a:lnTo>
                <a:lnTo>
                  <a:pt x="438" y="146"/>
                </a:lnTo>
                <a:lnTo>
                  <a:pt x="468" y="146"/>
                </a:lnTo>
                <a:lnTo>
                  <a:pt x="496" y="142"/>
                </a:lnTo>
                <a:lnTo>
                  <a:pt x="496" y="142"/>
                </a:lnTo>
                <a:lnTo>
                  <a:pt x="524" y="137"/>
                </a:lnTo>
                <a:lnTo>
                  <a:pt x="552" y="127"/>
                </a:lnTo>
                <a:lnTo>
                  <a:pt x="552" y="127"/>
                </a:lnTo>
                <a:lnTo>
                  <a:pt x="552" y="127"/>
                </a:lnTo>
                <a:lnTo>
                  <a:pt x="571" y="120"/>
                </a:lnTo>
                <a:lnTo>
                  <a:pt x="588" y="116"/>
                </a:lnTo>
                <a:lnTo>
                  <a:pt x="603" y="114"/>
                </a:lnTo>
                <a:lnTo>
                  <a:pt x="614" y="109"/>
                </a:lnTo>
                <a:lnTo>
                  <a:pt x="614" y="109"/>
                </a:lnTo>
                <a:lnTo>
                  <a:pt x="683" y="62"/>
                </a:lnTo>
                <a:lnTo>
                  <a:pt x="718" y="40"/>
                </a:lnTo>
                <a:lnTo>
                  <a:pt x="737" y="30"/>
                </a:lnTo>
                <a:lnTo>
                  <a:pt x="756" y="21"/>
                </a:lnTo>
                <a:lnTo>
                  <a:pt x="775" y="13"/>
                </a:lnTo>
                <a:lnTo>
                  <a:pt x="793" y="8"/>
                </a:lnTo>
                <a:lnTo>
                  <a:pt x="814" y="4"/>
                </a:lnTo>
                <a:lnTo>
                  <a:pt x="833" y="0"/>
                </a:lnTo>
                <a:lnTo>
                  <a:pt x="853" y="0"/>
                </a:lnTo>
                <a:lnTo>
                  <a:pt x="874" y="2"/>
                </a:lnTo>
                <a:lnTo>
                  <a:pt x="894" y="8"/>
                </a:lnTo>
                <a:lnTo>
                  <a:pt x="917" y="15"/>
                </a:lnTo>
                <a:lnTo>
                  <a:pt x="915" y="19"/>
                </a:lnTo>
                <a:lnTo>
                  <a:pt x="917" y="15"/>
                </a:lnTo>
                <a:lnTo>
                  <a:pt x="919" y="15"/>
                </a:lnTo>
                <a:lnTo>
                  <a:pt x="919" y="17"/>
                </a:lnTo>
                <a:lnTo>
                  <a:pt x="919" y="17"/>
                </a:lnTo>
                <a:lnTo>
                  <a:pt x="926" y="41"/>
                </a:lnTo>
                <a:lnTo>
                  <a:pt x="930" y="64"/>
                </a:lnTo>
                <a:lnTo>
                  <a:pt x="932" y="86"/>
                </a:lnTo>
                <a:lnTo>
                  <a:pt x="932" y="88"/>
                </a:lnTo>
                <a:lnTo>
                  <a:pt x="930" y="90"/>
                </a:lnTo>
                <a:lnTo>
                  <a:pt x="930" y="90"/>
                </a:lnTo>
                <a:lnTo>
                  <a:pt x="909" y="98"/>
                </a:lnTo>
                <a:lnTo>
                  <a:pt x="891" y="109"/>
                </a:lnTo>
                <a:lnTo>
                  <a:pt x="876" y="122"/>
                </a:lnTo>
                <a:lnTo>
                  <a:pt x="862" y="137"/>
                </a:lnTo>
                <a:lnTo>
                  <a:pt x="851" y="154"/>
                </a:lnTo>
                <a:lnTo>
                  <a:pt x="844" y="172"/>
                </a:lnTo>
                <a:lnTo>
                  <a:pt x="836" y="191"/>
                </a:lnTo>
                <a:lnTo>
                  <a:pt x="833" y="212"/>
                </a:lnTo>
                <a:lnTo>
                  <a:pt x="829" y="232"/>
                </a:lnTo>
                <a:lnTo>
                  <a:pt x="825" y="255"/>
                </a:lnTo>
                <a:lnTo>
                  <a:pt x="821" y="299"/>
                </a:lnTo>
                <a:lnTo>
                  <a:pt x="819" y="342"/>
                </a:lnTo>
                <a:lnTo>
                  <a:pt x="816" y="385"/>
                </a:lnTo>
                <a:lnTo>
                  <a:pt x="812" y="385"/>
                </a:lnTo>
                <a:lnTo>
                  <a:pt x="812" y="385"/>
                </a:lnTo>
                <a:lnTo>
                  <a:pt x="816" y="385"/>
                </a:lnTo>
                <a:lnTo>
                  <a:pt x="816" y="385"/>
                </a:lnTo>
                <a:lnTo>
                  <a:pt x="816" y="385"/>
                </a:lnTo>
                <a:lnTo>
                  <a:pt x="816" y="385"/>
                </a:lnTo>
                <a:lnTo>
                  <a:pt x="814" y="402"/>
                </a:lnTo>
                <a:lnTo>
                  <a:pt x="808" y="419"/>
                </a:lnTo>
                <a:lnTo>
                  <a:pt x="805" y="436"/>
                </a:lnTo>
                <a:lnTo>
                  <a:pt x="797" y="451"/>
                </a:lnTo>
                <a:lnTo>
                  <a:pt x="793" y="449"/>
                </a:lnTo>
                <a:lnTo>
                  <a:pt x="793" y="449"/>
                </a:lnTo>
                <a:lnTo>
                  <a:pt x="797" y="451"/>
                </a:lnTo>
                <a:lnTo>
                  <a:pt x="797" y="453"/>
                </a:lnTo>
                <a:lnTo>
                  <a:pt x="795" y="453"/>
                </a:lnTo>
                <a:lnTo>
                  <a:pt x="795" y="453"/>
                </a:lnTo>
                <a:lnTo>
                  <a:pt x="782" y="460"/>
                </a:lnTo>
                <a:lnTo>
                  <a:pt x="767" y="466"/>
                </a:lnTo>
                <a:lnTo>
                  <a:pt x="750" y="470"/>
                </a:lnTo>
                <a:lnTo>
                  <a:pt x="732" y="471"/>
                </a:lnTo>
                <a:lnTo>
                  <a:pt x="732" y="471"/>
                </a:lnTo>
                <a:lnTo>
                  <a:pt x="704" y="470"/>
                </a:lnTo>
                <a:close/>
                <a:moveTo>
                  <a:pt x="704" y="466"/>
                </a:moveTo>
                <a:lnTo>
                  <a:pt x="704" y="462"/>
                </a:lnTo>
                <a:lnTo>
                  <a:pt x="704" y="466"/>
                </a:lnTo>
                <a:close/>
                <a:moveTo>
                  <a:pt x="374" y="142"/>
                </a:moveTo>
                <a:lnTo>
                  <a:pt x="374" y="139"/>
                </a:lnTo>
                <a:lnTo>
                  <a:pt x="374" y="142"/>
                </a:lnTo>
                <a:lnTo>
                  <a:pt x="374" y="142"/>
                </a:lnTo>
                <a:lnTo>
                  <a:pt x="374" y="142"/>
                </a:lnTo>
                <a:close/>
                <a:moveTo>
                  <a:pt x="556" y="135"/>
                </a:moveTo>
                <a:lnTo>
                  <a:pt x="554" y="131"/>
                </a:lnTo>
                <a:lnTo>
                  <a:pt x="554" y="131"/>
                </a:lnTo>
                <a:lnTo>
                  <a:pt x="556" y="135"/>
                </a:lnTo>
                <a:close/>
                <a:moveTo>
                  <a:pt x="618" y="116"/>
                </a:moveTo>
                <a:lnTo>
                  <a:pt x="616" y="113"/>
                </a:lnTo>
                <a:lnTo>
                  <a:pt x="616" y="113"/>
                </a:lnTo>
                <a:lnTo>
                  <a:pt x="616" y="113"/>
                </a:lnTo>
                <a:lnTo>
                  <a:pt x="618" y="116"/>
                </a:lnTo>
                <a:close/>
                <a:moveTo>
                  <a:pt x="915" y="19"/>
                </a:moveTo>
                <a:lnTo>
                  <a:pt x="915" y="19"/>
                </a:lnTo>
                <a:close/>
              </a:path>
            </a:pathLst>
          </a:custGeom>
          <a:solidFill>
            <a:srgbClr val="f1c8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24360" y="4038480"/>
            <a:ext cx="1479600" cy="747720"/>
          </a:xfrm>
          <a:custGeom>
            <a:avLst/>
            <a:gdLst/>
            <a:ahLst/>
            <a:rect l="l" t="t" r="r" b="b"/>
            <a:pathLst>
              <a:path w="932" h="471">
                <a:moveTo>
                  <a:pt x="704" y="470"/>
                </a:moveTo>
                <a:lnTo>
                  <a:pt x="704" y="470"/>
                </a:lnTo>
                <a:lnTo>
                  <a:pt x="677" y="464"/>
                </a:lnTo>
                <a:lnTo>
                  <a:pt x="651" y="457"/>
                </a:lnTo>
                <a:lnTo>
                  <a:pt x="629" y="449"/>
                </a:lnTo>
                <a:lnTo>
                  <a:pt x="606" y="440"/>
                </a:lnTo>
                <a:lnTo>
                  <a:pt x="606" y="440"/>
                </a:lnTo>
                <a:lnTo>
                  <a:pt x="606" y="440"/>
                </a:lnTo>
                <a:lnTo>
                  <a:pt x="578" y="428"/>
                </a:lnTo>
                <a:lnTo>
                  <a:pt x="573" y="428"/>
                </a:lnTo>
                <a:lnTo>
                  <a:pt x="573" y="427"/>
                </a:lnTo>
                <a:lnTo>
                  <a:pt x="573" y="428"/>
                </a:lnTo>
                <a:lnTo>
                  <a:pt x="573" y="428"/>
                </a:lnTo>
                <a:lnTo>
                  <a:pt x="541" y="427"/>
                </a:lnTo>
                <a:lnTo>
                  <a:pt x="509" y="423"/>
                </a:lnTo>
                <a:lnTo>
                  <a:pt x="511" y="419"/>
                </a:lnTo>
                <a:lnTo>
                  <a:pt x="509" y="423"/>
                </a:lnTo>
                <a:lnTo>
                  <a:pt x="509" y="423"/>
                </a:lnTo>
                <a:lnTo>
                  <a:pt x="472" y="414"/>
                </a:lnTo>
                <a:lnTo>
                  <a:pt x="434" y="400"/>
                </a:lnTo>
                <a:lnTo>
                  <a:pt x="397" y="385"/>
                </a:lnTo>
                <a:lnTo>
                  <a:pt x="361" y="369"/>
                </a:lnTo>
                <a:lnTo>
                  <a:pt x="288" y="333"/>
                </a:lnTo>
                <a:lnTo>
                  <a:pt x="217" y="294"/>
                </a:lnTo>
                <a:lnTo>
                  <a:pt x="217" y="294"/>
                </a:lnTo>
                <a:lnTo>
                  <a:pt x="189" y="283"/>
                </a:lnTo>
                <a:lnTo>
                  <a:pt x="161" y="273"/>
                </a:lnTo>
                <a:lnTo>
                  <a:pt x="163" y="270"/>
                </a:lnTo>
                <a:lnTo>
                  <a:pt x="161" y="273"/>
                </a:lnTo>
                <a:lnTo>
                  <a:pt x="161" y="273"/>
                </a:lnTo>
                <a:lnTo>
                  <a:pt x="133" y="264"/>
                </a:lnTo>
                <a:lnTo>
                  <a:pt x="103" y="256"/>
                </a:lnTo>
                <a:lnTo>
                  <a:pt x="73" y="253"/>
                </a:lnTo>
                <a:lnTo>
                  <a:pt x="42" y="249"/>
                </a:lnTo>
                <a:lnTo>
                  <a:pt x="42" y="249"/>
                </a:lnTo>
                <a:lnTo>
                  <a:pt x="42" y="249"/>
                </a:lnTo>
                <a:lnTo>
                  <a:pt x="42" y="245"/>
                </a:lnTo>
                <a:lnTo>
                  <a:pt x="42" y="249"/>
                </a:lnTo>
                <a:lnTo>
                  <a:pt x="42" y="249"/>
                </a:lnTo>
                <a:lnTo>
                  <a:pt x="0" y="245"/>
                </a:lnTo>
                <a:lnTo>
                  <a:pt x="0" y="245"/>
                </a:lnTo>
                <a:lnTo>
                  <a:pt x="0" y="238"/>
                </a:lnTo>
                <a:lnTo>
                  <a:pt x="0" y="238"/>
                </a:lnTo>
                <a:lnTo>
                  <a:pt x="42" y="242"/>
                </a:lnTo>
                <a:lnTo>
                  <a:pt x="42" y="242"/>
                </a:lnTo>
                <a:lnTo>
                  <a:pt x="42" y="242"/>
                </a:lnTo>
                <a:lnTo>
                  <a:pt x="73" y="245"/>
                </a:lnTo>
                <a:lnTo>
                  <a:pt x="105" y="249"/>
                </a:lnTo>
                <a:lnTo>
                  <a:pt x="135" y="256"/>
                </a:lnTo>
                <a:lnTo>
                  <a:pt x="163" y="266"/>
                </a:lnTo>
                <a:lnTo>
                  <a:pt x="163" y="266"/>
                </a:lnTo>
                <a:lnTo>
                  <a:pt x="191" y="275"/>
                </a:lnTo>
                <a:lnTo>
                  <a:pt x="219" y="288"/>
                </a:lnTo>
                <a:lnTo>
                  <a:pt x="219" y="292"/>
                </a:lnTo>
                <a:lnTo>
                  <a:pt x="219" y="290"/>
                </a:lnTo>
                <a:lnTo>
                  <a:pt x="219" y="288"/>
                </a:lnTo>
                <a:lnTo>
                  <a:pt x="221" y="288"/>
                </a:lnTo>
                <a:lnTo>
                  <a:pt x="221" y="288"/>
                </a:lnTo>
                <a:lnTo>
                  <a:pt x="221" y="288"/>
                </a:lnTo>
                <a:lnTo>
                  <a:pt x="292" y="326"/>
                </a:lnTo>
                <a:lnTo>
                  <a:pt x="363" y="363"/>
                </a:lnTo>
                <a:lnTo>
                  <a:pt x="401" y="380"/>
                </a:lnTo>
                <a:lnTo>
                  <a:pt x="436" y="395"/>
                </a:lnTo>
                <a:lnTo>
                  <a:pt x="474" y="406"/>
                </a:lnTo>
                <a:lnTo>
                  <a:pt x="511" y="415"/>
                </a:lnTo>
                <a:lnTo>
                  <a:pt x="511" y="415"/>
                </a:lnTo>
                <a:lnTo>
                  <a:pt x="535" y="419"/>
                </a:lnTo>
                <a:lnTo>
                  <a:pt x="560" y="421"/>
                </a:lnTo>
                <a:lnTo>
                  <a:pt x="560" y="421"/>
                </a:lnTo>
                <a:lnTo>
                  <a:pt x="541" y="414"/>
                </a:lnTo>
                <a:lnTo>
                  <a:pt x="533" y="410"/>
                </a:lnTo>
                <a:lnTo>
                  <a:pt x="541" y="406"/>
                </a:lnTo>
                <a:lnTo>
                  <a:pt x="543" y="410"/>
                </a:lnTo>
                <a:lnTo>
                  <a:pt x="543" y="410"/>
                </a:lnTo>
                <a:lnTo>
                  <a:pt x="541" y="406"/>
                </a:lnTo>
                <a:lnTo>
                  <a:pt x="541" y="406"/>
                </a:lnTo>
                <a:lnTo>
                  <a:pt x="548" y="404"/>
                </a:lnTo>
                <a:lnTo>
                  <a:pt x="554" y="404"/>
                </a:lnTo>
                <a:lnTo>
                  <a:pt x="560" y="406"/>
                </a:lnTo>
                <a:lnTo>
                  <a:pt x="563" y="408"/>
                </a:lnTo>
                <a:lnTo>
                  <a:pt x="563" y="408"/>
                </a:lnTo>
                <a:lnTo>
                  <a:pt x="573" y="417"/>
                </a:lnTo>
                <a:lnTo>
                  <a:pt x="573" y="417"/>
                </a:lnTo>
                <a:lnTo>
                  <a:pt x="610" y="432"/>
                </a:lnTo>
                <a:lnTo>
                  <a:pt x="608" y="436"/>
                </a:lnTo>
                <a:lnTo>
                  <a:pt x="608" y="436"/>
                </a:lnTo>
                <a:lnTo>
                  <a:pt x="610" y="432"/>
                </a:lnTo>
                <a:lnTo>
                  <a:pt x="610" y="432"/>
                </a:lnTo>
                <a:lnTo>
                  <a:pt x="610" y="432"/>
                </a:lnTo>
                <a:lnTo>
                  <a:pt x="610" y="432"/>
                </a:lnTo>
                <a:lnTo>
                  <a:pt x="631" y="442"/>
                </a:lnTo>
                <a:lnTo>
                  <a:pt x="655" y="451"/>
                </a:lnTo>
                <a:lnTo>
                  <a:pt x="679" y="457"/>
                </a:lnTo>
                <a:lnTo>
                  <a:pt x="704" y="462"/>
                </a:lnTo>
                <a:lnTo>
                  <a:pt x="704" y="462"/>
                </a:lnTo>
                <a:lnTo>
                  <a:pt x="730" y="464"/>
                </a:lnTo>
                <a:lnTo>
                  <a:pt x="752" y="462"/>
                </a:lnTo>
                <a:lnTo>
                  <a:pt x="763" y="460"/>
                </a:lnTo>
                <a:lnTo>
                  <a:pt x="773" y="457"/>
                </a:lnTo>
                <a:lnTo>
                  <a:pt x="782" y="453"/>
                </a:lnTo>
                <a:lnTo>
                  <a:pt x="790" y="447"/>
                </a:lnTo>
                <a:lnTo>
                  <a:pt x="790" y="447"/>
                </a:lnTo>
                <a:lnTo>
                  <a:pt x="797" y="432"/>
                </a:lnTo>
                <a:lnTo>
                  <a:pt x="803" y="417"/>
                </a:lnTo>
                <a:lnTo>
                  <a:pt x="806" y="400"/>
                </a:lnTo>
                <a:lnTo>
                  <a:pt x="808" y="384"/>
                </a:lnTo>
                <a:lnTo>
                  <a:pt x="808" y="384"/>
                </a:lnTo>
                <a:lnTo>
                  <a:pt x="808" y="384"/>
                </a:lnTo>
                <a:lnTo>
                  <a:pt x="812" y="342"/>
                </a:lnTo>
                <a:lnTo>
                  <a:pt x="814" y="299"/>
                </a:lnTo>
                <a:lnTo>
                  <a:pt x="818" y="255"/>
                </a:lnTo>
                <a:lnTo>
                  <a:pt x="821" y="232"/>
                </a:lnTo>
                <a:lnTo>
                  <a:pt x="823" y="212"/>
                </a:lnTo>
                <a:lnTo>
                  <a:pt x="829" y="191"/>
                </a:lnTo>
                <a:lnTo>
                  <a:pt x="836" y="170"/>
                </a:lnTo>
                <a:lnTo>
                  <a:pt x="844" y="152"/>
                </a:lnTo>
                <a:lnTo>
                  <a:pt x="855" y="135"/>
                </a:lnTo>
                <a:lnTo>
                  <a:pt x="868" y="118"/>
                </a:lnTo>
                <a:lnTo>
                  <a:pt x="883" y="105"/>
                </a:lnTo>
                <a:lnTo>
                  <a:pt x="902" y="94"/>
                </a:lnTo>
                <a:lnTo>
                  <a:pt x="924" y="84"/>
                </a:lnTo>
                <a:lnTo>
                  <a:pt x="924" y="84"/>
                </a:lnTo>
                <a:lnTo>
                  <a:pt x="924" y="81"/>
                </a:lnTo>
                <a:lnTo>
                  <a:pt x="924" y="81"/>
                </a:lnTo>
                <a:lnTo>
                  <a:pt x="922" y="66"/>
                </a:lnTo>
                <a:lnTo>
                  <a:pt x="922" y="66"/>
                </a:lnTo>
                <a:lnTo>
                  <a:pt x="919" y="45"/>
                </a:lnTo>
                <a:lnTo>
                  <a:pt x="911" y="21"/>
                </a:lnTo>
                <a:lnTo>
                  <a:pt x="911" y="21"/>
                </a:lnTo>
                <a:lnTo>
                  <a:pt x="892" y="13"/>
                </a:lnTo>
                <a:lnTo>
                  <a:pt x="872" y="10"/>
                </a:lnTo>
                <a:lnTo>
                  <a:pt x="851" y="8"/>
                </a:lnTo>
                <a:lnTo>
                  <a:pt x="833" y="8"/>
                </a:lnTo>
                <a:lnTo>
                  <a:pt x="814" y="12"/>
                </a:lnTo>
                <a:lnTo>
                  <a:pt x="795" y="15"/>
                </a:lnTo>
                <a:lnTo>
                  <a:pt x="776" y="21"/>
                </a:lnTo>
                <a:lnTo>
                  <a:pt x="758" y="28"/>
                </a:lnTo>
                <a:lnTo>
                  <a:pt x="722" y="47"/>
                </a:lnTo>
                <a:lnTo>
                  <a:pt x="687" y="70"/>
                </a:lnTo>
                <a:lnTo>
                  <a:pt x="618" y="116"/>
                </a:lnTo>
                <a:lnTo>
                  <a:pt x="618" y="116"/>
                </a:lnTo>
                <a:lnTo>
                  <a:pt x="618" y="116"/>
                </a:lnTo>
                <a:lnTo>
                  <a:pt x="618" y="116"/>
                </a:lnTo>
                <a:lnTo>
                  <a:pt x="604" y="120"/>
                </a:lnTo>
                <a:lnTo>
                  <a:pt x="589" y="124"/>
                </a:lnTo>
                <a:lnTo>
                  <a:pt x="573" y="127"/>
                </a:lnTo>
                <a:lnTo>
                  <a:pt x="556" y="135"/>
                </a:lnTo>
                <a:lnTo>
                  <a:pt x="556" y="135"/>
                </a:lnTo>
                <a:lnTo>
                  <a:pt x="556" y="135"/>
                </a:lnTo>
                <a:lnTo>
                  <a:pt x="556" y="135"/>
                </a:lnTo>
                <a:lnTo>
                  <a:pt x="526" y="144"/>
                </a:lnTo>
                <a:lnTo>
                  <a:pt x="498" y="150"/>
                </a:lnTo>
                <a:lnTo>
                  <a:pt x="498" y="150"/>
                </a:lnTo>
                <a:lnTo>
                  <a:pt x="468" y="154"/>
                </a:lnTo>
                <a:lnTo>
                  <a:pt x="438" y="154"/>
                </a:lnTo>
                <a:lnTo>
                  <a:pt x="406" y="152"/>
                </a:lnTo>
                <a:lnTo>
                  <a:pt x="374" y="146"/>
                </a:lnTo>
                <a:lnTo>
                  <a:pt x="374" y="146"/>
                </a:lnTo>
                <a:lnTo>
                  <a:pt x="350" y="141"/>
                </a:lnTo>
                <a:lnTo>
                  <a:pt x="326" y="133"/>
                </a:lnTo>
                <a:lnTo>
                  <a:pt x="328" y="129"/>
                </a:lnTo>
                <a:lnTo>
                  <a:pt x="326" y="133"/>
                </a:lnTo>
                <a:lnTo>
                  <a:pt x="328" y="126"/>
                </a:lnTo>
                <a:lnTo>
                  <a:pt x="328" y="126"/>
                </a:lnTo>
                <a:lnTo>
                  <a:pt x="352" y="133"/>
                </a:lnTo>
                <a:lnTo>
                  <a:pt x="374" y="139"/>
                </a:lnTo>
                <a:lnTo>
                  <a:pt x="374" y="139"/>
                </a:lnTo>
                <a:lnTo>
                  <a:pt x="374" y="139"/>
                </a:lnTo>
                <a:lnTo>
                  <a:pt x="374" y="139"/>
                </a:lnTo>
                <a:lnTo>
                  <a:pt x="406" y="144"/>
                </a:lnTo>
                <a:lnTo>
                  <a:pt x="438" y="146"/>
                </a:lnTo>
                <a:lnTo>
                  <a:pt x="468" y="146"/>
                </a:lnTo>
                <a:lnTo>
                  <a:pt x="496" y="142"/>
                </a:lnTo>
                <a:lnTo>
                  <a:pt x="496" y="142"/>
                </a:lnTo>
                <a:lnTo>
                  <a:pt x="524" y="137"/>
                </a:lnTo>
                <a:lnTo>
                  <a:pt x="552" y="127"/>
                </a:lnTo>
                <a:lnTo>
                  <a:pt x="552" y="127"/>
                </a:lnTo>
                <a:lnTo>
                  <a:pt x="552" y="127"/>
                </a:lnTo>
                <a:lnTo>
                  <a:pt x="571" y="120"/>
                </a:lnTo>
                <a:lnTo>
                  <a:pt x="588" y="116"/>
                </a:lnTo>
                <a:lnTo>
                  <a:pt x="603" y="114"/>
                </a:lnTo>
                <a:lnTo>
                  <a:pt x="614" y="109"/>
                </a:lnTo>
                <a:lnTo>
                  <a:pt x="614" y="109"/>
                </a:lnTo>
                <a:lnTo>
                  <a:pt x="683" y="62"/>
                </a:lnTo>
                <a:lnTo>
                  <a:pt x="718" y="40"/>
                </a:lnTo>
                <a:lnTo>
                  <a:pt x="737" y="30"/>
                </a:lnTo>
                <a:lnTo>
                  <a:pt x="756" y="21"/>
                </a:lnTo>
                <a:lnTo>
                  <a:pt x="775" y="13"/>
                </a:lnTo>
                <a:lnTo>
                  <a:pt x="793" y="8"/>
                </a:lnTo>
                <a:lnTo>
                  <a:pt x="814" y="4"/>
                </a:lnTo>
                <a:lnTo>
                  <a:pt x="833" y="0"/>
                </a:lnTo>
                <a:lnTo>
                  <a:pt x="853" y="0"/>
                </a:lnTo>
                <a:lnTo>
                  <a:pt x="874" y="2"/>
                </a:lnTo>
                <a:lnTo>
                  <a:pt x="894" y="8"/>
                </a:lnTo>
                <a:lnTo>
                  <a:pt x="917" y="15"/>
                </a:lnTo>
                <a:lnTo>
                  <a:pt x="915" y="19"/>
                </a:lnTo>
                <a:lnTo>
                  <a:pt x="917" y="15"/>
                </a:lnTo>
                <a:lnTo>
                  <a:pt x="919" y="15"/>
                </a:lnTo>
                <a:lnTo>
                  <a:pt x="919" y="17"/>
                </a:lnTo>
                <a:lnTo>
                  <a:pt x="919" y="17"/>
                </a:lnTo>
                <a:lnTo>
                  <a:pt x="926" y="41"/>
                </a:lnTo>
                <a:lnTo>
                  <a:pt x="930" y="64"/>
                </a:lnTo>
                <a:lnTo>
                  <a:pt x="932" y="86"/>
                </a:lnTo>
                <a:lnTo>
                  <a:pt x="932" y="88"/>
                </a:lnTo>
                <a:lnTo>
                  <a:pt x="930" y="90"/>
                </a:lnTo>
                <a:lnTo>
                  <a:pt x="930" y="90"/>
                </a:lnTo>
                <a:lnTo>
                  <a:pt x="909" y="98"/>
                </a:lnTo>
                <a:lnTo>
                  <a:pt x="891" y="109"/>
                </a:lnTo>
                <a:lnTo>
                  <a:pt x="876" y="122"/>
                </a:lnTo>
                <a:lnTo>
                  <a:pt x="862" y="137"/>
                </a:lnTo>
                <a:lnTo>
                  <a:pt x="851" y="154"/>
                </a:lnTo>
                <a:lnTo>
                  <a:pt x="844" y="172"/>
                </a:lnTo>
                <a:lnTo>
                  <a:pt x="836" y="191"/>
                </a:lnTo>
                <a:lnTo>
                  <a:pt x="833" y="212"/>
                </a:lnTo>
                <a:lnTo>
                  <a:pt x="829" y="232"/>
                </a:lnTo>
                <a:lnTo>
                  <a:pt x="825" y="255"/>
                </a:lnTo>
                <a:lnTo>
                  <a:pt x="821" y="299"/>
                </a:lnTo>
                <a:lnTo>
                  <a:pt x="819" y="342"/>
                </a:lnTo>
                <a:lnTo>
                  <a:pt x="816" y="385"/>
                </a:lnTo>
                <a:lnTo>
                  <a:pt x="812" y="385"/>
                </a:lnTo>
                <a:lnTo>
                  <a:pt x="812" y="385"/>
                </a:lnTo>
                <a:lnTo>
                  <a:pt x="816" y="385"/>
                </a:lnTo>
                <a:lnTo>
                  <a:pt x="816" y="385"/>
                </a:lnTo>
                <a:lnTo>
                  <a:pt x="816" y="385"/>
                </a:lnTo>
                <a:lnTo>
                  <a:pt x="816" y="385"/>
                </a:lnTo>
                <a:lnTo>
                  <a:pt x="814" y="402"/>
                </a:lnTo>
                <a:lnTo>
                  <a:pt x="808" y="419"/>
                </a:lnTo>
                <a:lnTo>
                  <a:pt x="805" y="436"/>
                </a:lnTo>
                <a:lnTo>
                  <a:pt x="797" y="451"/>
                </a:lnTo>
                <a:lnTo>
                  <a:pt x="793" y="449"/>
                </a:lnTo>
                <a:lnTo>
                  <a:pt x="793" y="449"/>
                </a:lnTo>
                <a:lnTo>
                  <a:pt x="797" y="451"/>
                </a:lnTo>
                <a:lnTo>
                  <a:pt x="797" y="453"/>
                </a:lnTo>
                <a:lnTo>
                  <a:pt x="795" y="453"/>
                </a:lnTo>
                <a:lnTo>
                  <a:pt x="795" y="453"/>
                </a:lnTo>
                <a:lnTo>
                  <a:pt x="782" y="460"/>
                </a:lnTo>
                <a:lnTo>
                  <a:pt x="767" y="466"/>
                </a:lnTo>
                <a:lnTo>
                  <a:pt x="750" y="470"/>
                </a:lnTo>
                <a:lnTo>
                  <a:pt x="732" y="471"/>
                </a:lnTo>
                <a:lnTo>
                  <a:pt x="732" y="471"/>
                </a:lnTo>
                <a:lnTo>
                  <a:pt x="704" y="47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42160" y="4772160"/>
            <a:ext cx="144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8000" y="4259160"/>
            <a:ext cx="180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03840" y="424656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4"/>
                </a:moveTo>
                <a:lnTo>
                  <a:pt x="0" y="0"/>
                </a:lnTo>
                <a:lnTo>
                  <a:pt x="0" y="0"/>
                </a:lnTo>
                <a:lnTo>
                  <a:pt x="2" y="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02480" y="421812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76960" y="406872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02160" y="4187880"/>
            <a:ext cx="1214280" cy="236520"/>
          </a:xfrm>
          <a:custGeom>
            <a:avLst/>
            <a:gdLst/>
            <a:ahLst/>
            <a:rect l="l" t="t" r="r" b="b"/>
            <a:pathLst>
              <a:path w="765" h="149">
                <a:moveTo>
                  <a:pt x="739" y="148"/>
                </a:moveTo>
                <a:lnTo>
                  <a:pt x="739" y="148"/>
                </a:lnTo>
                <a:lnTo>
                  <a:pt x="684" y="146"/>
                </a:lnTo>
                <a:lnTo>
                  <a:pt x="628" y="144"/>
                </a:lnTo>
                <a:lnTo>
                  <a:pt x="518" y="142"/>
                </a:lnTo>
                <a:lnTo>
                  <a:pt x="518" y="142"/>
                </a:lnTo>
                <a:lnTo>
                  <a:pt x="516" y="142"/>
                </a:lnTo>
                <a:lnTo>
                  <a:pt x="516" y="142"/>
                </a:lnTo>
                <a:lnTo>
                  <a:pt x="484" y="133"/>
                </a:lnTo>
                <a:lnTo>
                  <a:pt x="451" y="119"/>
                </a:lnTo>
                <a:lnTo>
                  <a:pt x="451" y="119"/>
                </a:lnTo>
                <a:lnTo>
                  <a:pt x="421" y="108"/>
                </a:lnTo>
                <a:lnTo>
                  <a:pt x="393" y="93"/>
                </a:lnTo>
                <a:lnTo>
                  <a:pt x="335" y="65"/>
                </a:lnTo>
                <a:lnTo>
                  <a:pt x="277" y="39"/>
                </a:lnTo>
                <a:lnTo>
                  <a:pt x="249" y="28"/>
                </a:lnTo>
                <a:lnTo>
                  <a:pt x="223" y="19"/>
                </a:lnTo>
                <a:lnTo>
                  <a:pt x="223" y="19"/>
                </a:lnTo>
                <a:lnTo>
                  <a:pt x="195" y="13"/>
                </a:lnTo>
                <a:lnTo>
                  <a:pt x="168" y="7"/>
                </a:lnTo>
                <a:lnTo>
                  <a:pt x="140" y="7"/>
                </a:lnTo>
                <a:lnTo>
                  <a:pt x="114" y="11"/>
                </a:lnTo>
                <a:lnTo>
                  <a:pt x="103" y="13"/>
                </a:lnTo>
                <a:lnTo>
                  <a:pt x="90" y="19"/>
                </a:lnTo>
                <a:lnTo>
                  <a:pt x="77" y="24"/>
                </a:lnTo>
                <a:lnTo>
                  <a:pt x="64" y="30"/>
                </a:lnTo>
                <a:lnTo>
                  <a:pt x="52" y="39"/>
                </a:lnTo>
                <a:lnTo>
                  <a:pt x="39" y="48"/>
                </a:lnTo>
                <a:lnTo>
                  <a:pt x="26" y="58"/>
                </a:lnTo>
                <a:lnTo>
                  <a:pt x="15" y="71"/>
                </a:lnTo>
                <a:lnTo>
                  <a:pt x="15" y="71"/>
                </a:lnTo>
                <a:lnTo>
                  <a:pt x="11" y="84"/>
                </a:lnTo>
                <a:lnTo>
                  <a:pt x="8" y="99"/>
                </a:lnTo>
                <a:lnTo>
                  <a:pt x="8" y="99"/>
                </a:lnTo>
                <a:lnTo>
                  <a:pt x="0" y="105"/>
                </a:lnTo>
                <a:lnTo>
                  <a:pt x="0" y="105"/>
                </a:lnTo>
                <a:lnTo>
                  <a:pt x="2" y="86"/>
                </a:lnTo>
                <a:lnTo>
                  <a:pt x="6" y="76"/>
                </a:lnTo>
                <a:lnTo>
                  <a:pt x="8" y="67"/>
                </a:lnTo>
                <a:lnTo>
                  <a:pt x="8" y="67"/>
                </a:lnTo>
                <a:lnTo>
                  <a:pt x="9" y="65"/>
                </a:lnTo>
                <a:lnTo>
                  <a:pt x="11" y="69"/>
                </a:lnTo>
                <a:lnTo>
                  <a:pt x="8" y="67"/>
                </a:lnTo>
                <a:lnTo>
                  <a:pt x="11" y="69"/>
                </a:lnTo>
                <a:lnTo>
                  <a:pt x="9" y="65"/>
                </a:lnTo>
                <a:lnTo>
                  <a:pt x="9" y="65"/>
                </a:lnTo>
                <a:lnTo>
                  <a:pt x="21" y="54"/>
                </a:lnTo>
                <a:lnTo>
                  <a:pt x="34" y="43"/>
                </a:lnTo>
                <a:lnTo>
                  <a:pt x="47" y="32"/>
                </a:lnTo>
                <a:lnTo>
                  <a:pt x="60" y="24"/>
                </a:lnTo>
                <a:lnTo>
                  <a:pt x="73" y="17"/>
                </a:lnTo>
                <a:lnTo>
                  <a:pt x="86" y="11"/>
                </a:lnTo>
                <a:lnTo>
                  <a:pt x="99" y="7"/>
                </a:lnTo>
                <a:lnTo>
                  <a:pt x="114" y="4"/>
                </a:lnTo>
                <a:lnTo>
                  <a:pt x="140" y="0"/>
                </a:lnTo>
                <a:lnTo>
                  <a:pt x="168" y="0"/>
                </a:lnTo>
                <a:lnTo>
                  <a:pt x="196" y="5"/>
                </a:lnTo>
                <a:lnTo>
                  <a:pt x="224" y="11"/>
                </a:lnTo>
                <a:lnTo>
                  <a:pt x="224" y="11"/>
                </a:lnTo>
                <a:lnTo>
                  <a:pt x="252" y="22"/>
                </a:lnTo>
                <a:lnTo>
                  <a:pt x="281" y="33"/>
                </a:lnTo>
                <a:lnTo>
                  <a:pt x="338" y="60"/>
                </a:lnTo>
                <a:lnTo>
                  <a:pt x="395" y="88"/>
                </a:lnTo>
                <a:lnTo>
                  <a:pt x="425" y="101"/>
                </a:lnTo>
                <a:lnTo>
                  <a:pt x="453" y="114"/>
                </a:lnTo>
                <a:lnTo>
                  <a:pt x="453" y="114"/>
                </a:lnTo>
                <a:lnTo>
                  <a:pt x="486" y="125"/>
                </a:lnTo>
                <a:lnTo>
                  <a:pt x="518" y="134"/>
                </a:lnTo>
                <a:lnTo>
                  <a:pt x="518" y="134"/>
                </a:lnTo>
                <a:lnTo>
                  <a:pt x="628" y="136"/>
                </a:lnTo>
                <a:lnTo>
                  <a:pt x="684" y="138"/>
                </a:lnTo>
                <a:lnTo>
                  <a:pt x="739" y="140"/>
                </a:lnTo>
                <a:lnTo>
                  <a:pt x="739" y="140"/>
                </a:lnTo>
                <a:lnTo>
                  <a:pt x="765" y="142"/>
                </a:lnTo>
                <a:lnTo>
                  <a:pt x="765" y="142"/>
                </a:lnTo>
                <a:lnTo>
                  <a:pt x="765" y="149"/>
                </a:lnTo>
                <a:lnTo>
                  <a:pt x="765" y="149"/>
                </a:lnTo>
                <a:lnTo>
                  <a:pt x="739" y="148"/>
                </a:lnTo>
                <a:close/>
                <a:moveTo>
                  <a:pt x="739" y="148"/>
                </a:moveTo>
                <a:lnTo>
                  <a:pt x="739" y="144"/>
                </a:lnTo>
                <a:lnTo>
                  <a:pt x="739" y="148"/>
                </a:lnTo>
                <a:close/>
                <a:moveTo>
                  <a:pt x="518" y="142"/>
                </a:moveTo>
                <a:lnTo>
                  <a:pt x="518" y="138"/>
                </a:lnTo>
                <a:lnTo>
                  <a:pt x="518" y="138"/>
                </a:lnTo>
                <a:lnTo>
                  <a:pt x="518" y="142"/>
                </a:lnTo>
                <a:close/>
                <a:moveTo>
                  <a:pt x="451" y="119"/>
                </a:moveTo>
                <a:lnTo>
                  <a:pt x="451" y="116"/>
                </a:lnTo>
                <a:lnTo>
                  <a:pt x="451" y="119"/>
                </a:lnTo>
                <a:close/>
              </a:path>
            </a:pathLst>
          </a:custGeom>
          <a:solidFill>
            <a:srgbClr val="dc7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02160" y="4187880"/>
            <a:ext cx="1214280" cy="236520"/>
          </a:xfrm>
          <a:custGeom>
            <a:avLst/>
            <a:gdLst/>
            <a:ahLst/>
            <a:rect l="l" t="t" r="r" b="b"/>
            <a:pathLst>
              <a:path w="765" h="149">
                <a:moveTo>
                  <a:pt x="739" y="148"/>
                </a:moveTo>
                <a:lnTo>
                  <a:pt x="739" y="148"/>
                </a:lnTo>
                <a:lnTo>
                  <a:pt x="684" y="146"/>
                </a:lnTo>
                <a:lnTo>
                  <a:pt x="628" y="144"/>
                </a:lnTo>
                <a:lnTo>
                  <a:pt x="518" y="142"/>
                </a:lnTo>
                <a:lnTo>
                  <a:pt x="518" y="142"/>
                </a:lnTo>
                <a:lnTo>
                  <a:pt x="516" y="142"/>
                </a:lnTo>
                <a:lnTo>
                  <a:pt x="516" y="142"/>
                </a:lnTo>
                <a:lnTo>
                  <a:pt x="484" y="133"/>
                </a:lnTo>
                <a:lnTo>
                  <a:pt x="451" y="119"/>
                </a:lnTo>
                <a:lnTo>
                  <a:pt x="451" y="119"/>
                </a:lnTo>
                <a:lnTo>
                  <a:pt x="421" y="108"/>
                </a:lnTo>
                <a:lnTo>
                  <a:pt x="393" y="93"/>
                </a:lnTo>
                <a:lnTo>
                  <a:pt x="335" y="65"/>
                </a:lnTo>
                <a:lnTo>
                  <a:pt x="277" y="39"/>
                </a:lnTo>
                <a:lnTo>
                  <a:pt x="249" y="28"/>
                </a:lnTo>
                <a:lnTo>
                  <a:pt x="223" y="19"/>
                </a:lnTo>
                <a:lnTo>
                  <a:pt x="223" y="19"/>
                </a:lnTo>
                <a:lnTo>
                  <a:pt x="195" y="13"/>
                </a:lnTo>
                <a:lnTo>
                  <a:pt x="168" y="7"/>
                </a:lnTo>
                <a:lnTo>
                  <a:pt x="140" y="7"/>
                </a:lnTo>
                <a:lnTo>
                  <a:pt x="114" y="11"/>
                </a:lnTo>
                <a:lnTo>
                  <a:pt x="103" y="13"/>
                </a:lnTo>
                <a:lnTo>
                  <a:pt x="90" y="19"/>
                </a:lnTo>
                <a:lnTo>
                  <a:pt x="77" y="24"/>
                </a:lnTo>
                <a:lnTo>
                  <a:pt x="64" y="30"/>
                </a:lnTo>
                <a:lnTo>
                  <a:pt x="52" y="39"/>
                </a:lnTo>
                <a:lnTo>
                  <a:pt x="39" y="48"/>
                </a:lnTo>
                <a:lnTo>
                  <a:pt x="26" y="58"/>
                </a:lnTo>
                <a:lnTo>
                  <a:pt x="15" y="71"/>
                </a:lnTo>
                <a:lnTo>
                  <a:pt x="15" y="71"/>
                </a:lnTo>
                <a:lnTo>
                  <a:pt x="11" y="84"/>
                </a:lnTo>
                <a:lnTo>
                  <a:pt x="8" y="99"/>
                </a:lnTo>
                <a:lnTo>
                  <a:pt x="8" y="99"/>
                </a:lnTo>
                <a:lnTo>
                  <a:pt x="0" y="105"/>
                </a:lnTo>
                <a:lnTo>
                  <a:pt x="0" y="105"/>
                </a:lnTo>
                <a:lnTo>
                  <a:pt x="2" y="86"/>
                </a:lnTo>
                <a:lnTo>
                  <a:pt x="6" y="76"/>
                </a:lnTo>
                <a:lnTo>
                  <a:pt x="8" y="67"/>
                </a:lnTo>
                <a:lnTo>
                  <a:pt x="8" y="67"/>
                </a:lnTo>
                <a:lnTo>
                  <a:pt x="9" y="65"/>
                </a:lnTo>
                <a:lnTo>
                  <a:pt x="11" y="69"/>
                </a:lnTo>
                <a:lnTo>
                  <a:pt x="8" y="67"/>
                </a:lnTo>
                <a:lnTo>
                  <a:pt x="11" y="69"/>
                </a:lnTo>
                <a:lnTo>
                  <a:pt x="9" y="65"/>
                </a:lnTo>
                <a:lnTo>
                  <a:pt x="9" y="65"/>
                </a:lnTo>
                <a:lnTo>
                  <a:pt x="21" y="54"/>
                </a:lnTo>
                <a:lnTo>
                  <a:pt x="34" y="43"/>
                </a:lnTo>
                <a:lnTo>
                  <a:pt x="47" y="32"/>
                </a:lnTo>
                <a:lnTo>
                  <a:pt x="60" y="24"/>
                </a:lnTo>
                <a:lnTo>
                  <a:pt x="73" y="17"/>
                </a:lnTo>
                <a:lnTo>
                  <a:pt x="86" y="11"/>
                </a:lnTo>
                <a:lnTo>
                  <a:pt x="99" y="7"/>
                </a:lnTo>
                <a:lnTo>
                  <a:pt x="114" y="4"/>
                </a:lnTo>
                <a:lnTo>
                  <a:pt x="140" y="0"/>
                </a:lnTo>
                <a:lnTo>
                  <a:pt x="168" y="0"/>
                </a:lnTo>
                <a:lnTo>
                  <a:pt x="196" y="5"/>
                </a:lnTo>
                <a:lnTo>
                  <a:pt x="224" y="11"/>
                </a:lnTo>
                <a:lnTo>
                  <a:pt x="224" y="11"/>
                </a:lnTo>
                <a:lnTo>
                  <a:pt x="252" y="22"/>
                </a:lnTo>
                <a:lnTo>
                  <a:pt x="281" y="33"/>
                </a:lnTo>
                <a:lnTo>
                  <a:pt x="338" y="60"/>
                </a:lnTo>
                <a:lnTo>
                  <a:pt x="395" y="88"/>
                </a:lnTo>
                <a:lnTo>
                  <a:pt x="425" y="101"/>
                </a:lnTo>
                <a:lnTo>
                  <a:pt x="453" y="114"/>
                </a:lnTo>
                <a:lnTo>
                  <a:pt x="453" y="114"/>
                </a:lnTo>
                <a:lnTo>
                  <a:pt x="486" y="125"/>
                </a:lnTo>
                <a:lnTo>
                  <a:pt x="518" y="134"/>
                </a:lnTo>
                <a:lnTo>
                  <a:pt x="518" y="134"/>
                </a:lnTo>
                <a:lnTo>
                  <a:pt x="628" y="136"/>
                </a:lnTo>
                <a:lnTo>
                  <a:pt x="684" y="138"/>
                </a:lnTo>
                <a:lnTo>
                  <a:pt x="739" y="140"/>
                </a:lnTo>
                <a:lnTo>
                  <a:pt x="739" y="140"/>
                </a:lnTo>
                <a:lnTo>
                  <a:pt x="765" y="142"/>
                </a:lnTo>
                <a:lnTo>
                  <a:pt x="765" y="142"/>
                </a:lnTo>
                <a:lnTo>
                  <a:pt x="765" y="149"/>
                </a:lnTo>
                <a:lnTo>
                  <a:pt x="765" y="149"/>
                </a:lnTo>
                <a:lnTo>
                  <a:pt x="739" y="14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75040" y="441648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24400" y="4406760"/>
            <a:ext cx="1440" cy="648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0"/>
                </a:lnTo>
                <a:lnTo>
                  <a:pt x="0" y="0"/>
                </a:lnTo>
                <a:lnTo>
                  <a:pt x="0" y="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17840" y="4371840"/>
            <a:ext cx="180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16440" y="4413240"/>
            <a:ext cx="7920" cy="1440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7"/>
                </a:move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5" y="2"/>
                </a:lnTo>
                <a:lnTo>
                  <a:pt x="5" y="2"/>
                </a:lnTo>
                <a:lnTo>
                  <a:pt x="5" y="9"/>
                </a:lnTo>
                <a:lnTo>
                  <a:pt x="5" y="9"/>
                </a:lnTo>
                <a:lnTo>
                  <a:pt x="0" y="7"/>
                </a:lnTo>
                <a:close/>
              </a:path>
            </a:pathLst>
          </a:custGeom>
          <a:solidFill>
            <a:srgbClr val="dd7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16440" y="4413240"/>
            <a:ext cx="7920" cy="14400"/>
          </a:xfrm>
          <a:custGeom>
            <a:avLst/>
            <a:gdLst/>
            <a:ahLst/>
            <a:rect l="l" t="t" r="r" b="b"/>
            <a:pathLst>
              <a:path w="5" h="9">
                <a:moveTo>
                  <a:pt x="0" y="7"/>
                </a:move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5" y="2"/>
                </a:lnTo>
                <a:lnTo>
                  <a:pt x="5" y="2"/>
                </a:lnTo>
                <a:lnTo>
                  <a:pt x="5" y="9"/>
                </a:lnTo>
                <a:lnTo>
                  <a:pt x="5" y="9"/>
                </a:lnTo>
                <a:lnTo>
                  <a:pt x="0" y="7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14880" y="4505400"/>
            <a:ext cx="2317680" cy="204840"/>
          </a:xfrm>
          <a:custGeom>
            <a:avLst/>
            <a:gdLst/>
            <a:ahLst/>
            <a:rect l="l" t="t" r="r" b="b"/>
            <a:pathLst>
              <a:path w="1460" h="129">
                <a:moveTo>
                  <a:pt x="1460" y="129"/>
                </a:moveTo>
                <a:lnTo>
                  <a:pt x="1460" y="129"/>
                </a:lnTo>
                <a:close/>
                <a:moveTo>
                  <a:pt x="117" y="99"/>
                </a:moveTo>
                <a:lnTo>
                  <a:pt x="117" y="99"/>
                </a:lnTo>
                <a:lnTo>
                  <a:pt x="89" y="82"/>
                </a:lnTo>
                <a:lnTo>
                  <a:pt x="61" y="62"/>
                </a:lnTo>
                <a:lnTo>
                  <a:pt x="11" y="20"/>
                </a:lnTo>
                <a:lnTo>
                  <a:pt x="11" y="20"/>
                </a:lnTo>
                <a:lnTo>
                  <a:pt x="11" y="20"/>
                </a:lnTo>
                <a:lnTo>
                  <a:pt x="11" y="20"/>
                </a:lnTo>
                <a:lnTo>
                  <a:pt x="0" y="13"/>
                </a:lnTo>
                <a:lnTo>
                  <a:pt x="0" y="13"/>
                </a:lnTo>
                <a:lnTo>
                  <a:pt x="9" y="9"/>
                </a:lnTo>
                <a:lnTo>
                  <a:pt x="9" y="9"/>
                </a:lnTo>
                <a:lnTo>
                  <a:pt x="15" y="15"/>
                </a:lnTo>
                <a:lnTo>
                  <a:pt x="15" y="15"/>
                </a:lnTo>
                <a:lnTo>
                  <a:pt x="15" y="15"/>
                </a:lnTo>
                <a:lnTo>
                  <a:pt x="65" y="54"/>
                </a:lnTo>
                <a:lnTo>
                  <a:pt x="93" y="75"/>
                </a:lnTo>
                <a:lnTo>
                  <a:pt x="121" y="91"/>
                </a:lnTo>
                <a:lnTo>
                  <a:pt x="121" y="91"/>
                </a:lnTo>
                <a:lnTo>
                  <a:pt x="134" y="97"/>
                </a:lnTo>
                <a:lnTo>
                  <a:pt x="147" y="101"/>
                </a:lnTo>
                <a:lnTo>
                  <a:pt x="160" y="103"/>
                </a:lnTo>
                <a:lnTo>
                  <a:pt x="172" y="103"/>
                </a:lnTo>
                <a:lnTo>
                  <a:pt x="183" y="99"/>
                </a:lnTo>
                <a:lnTo>
                  <a:pt x="194" y="93"/>
                </a:lnTo>
                <a:lnTo>
                  <a:pt x="203" y="82"/>
                </a:lnTo>
                <a:lnTo>
                  <a:pt x="211" y="69"/>
                </a:lnTo>
                <a:lnTo>
                  <a:pt x="211" y="69"/>
                </a:lnTo>
                <a:lnTo>
                  <a:pt x="211" y="69"/>
                </a:lnTo>
                <a:lnTo>
                  <a:pt x="215" y="71"/>
                </a:lnTo>
                <a:lnTo>
                  <a:pt x="211" y="69"/>
                </a:lnTo>
                <a:lnTo>
                  <a:pt x="211" y="69"/>
                </a:lnTo>
                <a:lnTo>
                  <a:pt x="215" y="62"/>
                </a:lnTo>
                <a:lnTo>
                  <a:pt x="217" y="54"/>
                </a:lnTo>
                <a:lnTo>
                  <a:pt x="217" y="39"/>
                </a:lnTo>
                <a:lnTo>
                  <a:pt x="215" y="22"/>
                </a:lnTo>
                <a:lnTo>
                  <a:pt x="207" y="2"/>
                </a:lnTo>
                <a:lnTo>
                  <a:pt x="215" y="0"/>
                </a:lnTo>
                <a:lnTo>
                  <a:pt x="215" y="0"/>
                </a:lnTo>
                <a:lnTo>
                  <a:pt x="220" y="20"/>
                </a:lnTo>
                <a:lnTo>
                  <a:pt x="224" y="39"/>
                </a:lnTo>
                <a:lnTo>
                  <a:pt x="224" y="47"/>
                </a:lnTo>
                <a:lnTo>
                  <a:pt x="224" y="56"/>
                </a:lnTo>
                <a:lnTo>
                  <a:pt x="222" y="65"/>
                </a:lnTo>
                <a:lnTo>
                  <a:pt x="218" y="73"/>
                </a:lnTo>
                <a:lnTo>
                  <a:pt x="218" y="73"/>
                </a:lnTo>
                <a:lnTo>
                  <a:pt x="218" y="73"/>
                </a:lnTo>
                <a:lnTo>
                  <a:pt x="209" y="88"/>
                </a:lnTo>
                <a:lnTo>
                  <a:pt x="198" y="99"/>
                </a:lnTo>
                <a:lnTo>
                  <a:pt x="187" y="106"/>
                </a:lnTo>
                <a:lnTo>
                  <a:pt x="174" y="110"/>
                </a:lnTo>
                <a:lnTo>
                  <a:pt x="174" y="110"/>
                </a:lnTo>
                <a:lnTo>
                  <a:pt x="164" y="110"/>
                </a:lnTo>
                <a:lnTo>
                  <a:pt x="164" y="110"/>
                </a:lnTo>
                <a:lnTo>
                  <a:pt x="153" y="110"/>
                </a:lnTo>
                <a:lnTo>
                  <a:pt x="142" y="108"/>
                </a:lnTo>
                <a:lnTo>
                  <a:pt x="131" y="103"/>
                </a:lnTo>
                <a:lnTo>
                  <a:pt x="117" y="99"/>
                </a:lnTo>
                <a:close/>
                <a:moveTo>
                  <a:pt x="11" y="20"/>
                </a:moveTo>
                <a:lnTo>
                  <a:pt x="13" y="19"/>
                </a:lnTo>
                <a:lnTo>
                  <a:pt x="13" y="19"/>
                </a:lnTo>
                <a:lnTo>
                  <a:pt x="11" y="20"/>
                </a:lnTo>
                <a:close/>
              </a:path>
            </a:pathLst>
          </a:custGeom>
          <a:solidFill>
            <a:srgbClr val="f1c8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2560" y="47102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14880" y="4505400"/>
            <a:ext cx="355320" cy="174600"/>
          </a:xfrm>
          <a:custGeom>
            <a:avLst/>
            <a:gdLst/>
            <a:ahLst/>
            <a:rect l="l" t="t" r="r" b="b"/>
            <a:pathLst>
              <a:path w="224" h="110">
                <a:moveTo>
                  <a:pt x="117" y="99"/>
                </a:moveTo>
                <a:lnTo>
                  <a:pt x="117" y="99"/>
                </a:lnTo>
                <a:lnTo>
                  <a:pt x="89" y="82"/>
                </a:lnTo>
                <a:lnTo>
                  <a:pt x="61" y="62"/>
                </a:lnTo>
                <a:lnTo>
                  <a:pt x="11" y="20"/>
                </a:lnTo>
                <a:lnTo>
                  <a:pt x="11" y="20"/>
                </a:lnTo>
                <a:lnTo>
                  <a:pt x="11" y="20"/>
                </a:lnTo>
                <a:lnTo>
                  <a:pt x="11" y="20"/>
                </a:lnTo>
                <a:lnTo>
                  <a:pt x="0" y="13"/>
                </a:lnTo>
                <a:lnTo>
                  <a:pt x="0" y="13"/>
                </a:lnTo>
                <a:lnTo>
                  <a:pt x="9" y="9"/>
                </a:lnTo>
                <a:lnTo>
                  <a:pt x="9" y="9"/>
                </a:lnTo>
                <a:lnTo>
                  <a:pt x="15" y="15"/>
                </a:lnTo>
                <a:lnTo>
                  <a:pt x="15" y="15"/>
                </a:lnTo>
                <a:lnTo>
                  <a:pt x="15" y="15"/>
                </a:lnTo>
                <a:lnTo>
                  <a:pt x="65" y="54"/>
                </a:lnTo>
                <a:lnTo>
                  <a:pt x="93" y="75"/>
                </a:lnTo>
                <a:lnTo>
                  <a:pt x="121" y="91"/>
                </a:lnTo>
                <a:lnTo>
                  <a:pt x="121" y="91"/>
                </a:lnTo>
                <a:lnTo>
                  <a:pt x="134" y="97"/>
                </a:lnTo>
                <a:lnTo>
                  <a:pt x="147" y="101"/>
                </a:lnTo>
                <a:lnTo>
                  <a:pt x="160" y="103"/>
                </a:lnTo>
                <a:lnTo>
                  <a:pt x="172" y="103"/>
                </a:lnTo>
                <a:lnTo>
                  <a:pt x="183" y="99"/>
                </a:lnTo>
                <a:lnTo>
                  <a:pt x="194" y="93"/>
                </a:lnTo>
                <a:lnTo>
                  <a:pt x="203" y="82"/>
                </a:lnTo>
                <a:lnTo>
                  <a:pt x="211" y="69"/>
                </a:lnTo>
                <a:lnTo>
                  <a:pt x="211" y="69"/>
                </a:lnTo>
                <a:lnTo>
                  <a:pt x="211" y="69"/>
                </a:lnTo>
                <a:lnTo>
                  <a:pt x="215" y="71"/>
                </a:lnTo>
                <a:lnTo>
                  <a:pt x="211" y="69"/>
                </a:lnTo>
                <a:lnTo>
                  <a:pt x="211" y="69"/>
                </a:lnTo>
                <a:lnTo>
                  <a:pt x="215" y="62"/>
                </a:lnTo>
                <a:lnTo>
                  <a:pt x="217" y="54"/>
                </a:lnTo>
                <a:lnTo>
                  <a:pt x="217" y="39"/>
                </a:lnTo>
                <a:lnTo>
                  <a:pt x="215" y="22"/>
                </a:lnTo>
                <a:lnTo>
                  <a:pt x="207" y="2"/>
                </a:lnTo>
                <a:lnTo>
                  <a:pt x="215" y="0"/>
                </a:lnTo>
                <a:lnTo>
                  <a:pt x="215" y="0"/>
                </a:lnTo>
                <a:lnTo>
                  <a:pt x="220" y="20"/>
                </a:lnTo>
                <a:lnTo>
                  <a:pt x="224" y="39"/>
                </a:lnTo>
                <a:lnTo>
                  <a:pt x="224" y="47"/>
                </a:lnTo>
                <a:lnTo>
                  <a:pt x="224" y="56"/>
                </a:lnTo>
                <a:lnTo>
                  <a:pt x="222" y="65"/>
                </a:lnTo>
                <a:lnTo>
                  <a:pt x="218" y="73"/>
                </a:lnTo>
                <a:lnTo>
                  <a:pt x="218" y="73"/>
                </a:lnTo>
                <a:lnTo>
                  <a:pt x="218" y="73"/>
                </a:lnTo>
                <a:lnTo>
                  <a:pt x="209" y="88"/>
                </a:lnTo>
                <a:lnTo>
                  <a:pt x="198" y="99"/>
                </a:lnTo>
                <a:lnTo>
                  <a:pt x="187" y="106"/>
                </a:lnTo>
                <a:lnTo>
                  <a:pt x="174" y="110"/>
                </a:lnTo>
                <a:lnTo>
                  <a:pt x="174" y="110"/>
                </a:lnTo>
                <a:lnTo>
                  <a:pt x="164" y="110"/>
                </a:lnTo>
                <a:lnTo>
                  <a:pt x="164" y="110"/>
                </a:lnTo>
                <a:lnTo>
                  <a:pt x="153" y="110"/>
                </a:lnTo>
                <a:lnTo>
                  <a:pt x="142" y="108"/>
                </a:lnTo>
                <a:lnTo>
                  <a:pt x="131" y="103"/>
                </a:lnTo>
                <a:lnTo>
                  <a:pt x="117" y="9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32160" y="453564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2" y="0"/>
                </a:lnTo>
                <a:lnTo>
                  <a:pt x="2" y="0"/>
                </a:lnTo>
                <a:lnTo>
                  <a:pt x="0" y="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62200" y="3398760"/>
            <a:ext cx="1557360" cy="1117800"/>
          </a:xfrm>
          <a:custGeom>
            <a:avLst/>
            <a:gdLst/>
            <a:ahLst/>
            <a:rect l="l" t="t" r="r" b="b"/>
            <a:pathLst>
              <a:path w="981" h="704">
                <a:moveTo>
                  <a:pt x="892" y="555"/>
                </a:moveTo>
                <a:lnTo>
                  <a:pt x="895" y="553"/>
                </a:lnTo>
                <a:lnTo>
                  <a:pt x="892" y="555"/>
                </a:lnTo>
                <a:lnTo>
                  <a:pt x="892" y="555"/>
                </a:lnTo>
                <a:lnTo>
                  <a:pt x="886" y="523"/>
                </a:lnTo>
                <a:lnTo>
                  <a:pt x="882" y="491"/>
                </a:lnTo>
                <a:lnTo>
                  <a:pt x="882" y="491"/>
                </a:lnTo>
                <a:lnTo>
                  <a:pt x="882" y="489"/>
                </a:lnTo>
                <a:lnTo>
                  <a:pt x="886" y="491"/>
                </a:lnTo>
                <a:lnTo>
                  <a:pt x="882" y="489"/>
                </a:lnTo>
                <a:lnTo>
                  <a:pt x="882" y="489"/>
                </a:lnTo>
                <a:lnTo>
                  <a:pt x="884" y="458"/>
                </a:lnTo>
                <a:lnTo>
                  <a:pt x="884" y="426"/>
                </a:lnTo>
                <a:lnTo>
                  <a:pt x="879" y="396"/>
                </a:lnTo>
                <a:lnTo>
                  <a:pt x="871" y="366"/>
                </a:lnTo>
                <a:lnTo>
                  <a:pt x="860" y="340"/>
                </a:lnTo>
                <a:lnTo>
                  <a:pt x="847" y="314"/>
                </a:lnTo>
                <a:lnTo>
                  <a:pt x="830" y="289"/>
                </a:lnTo>
                <a:lnTo>
                  <a:pt x="811" y="267"/>
                </a:lnTo>
                <a:lnTo>
                  <a:pt x="811" y="267"/>
                </a:lnTo>
                <a:lnTo>
                  <a:pt x="789" y="246"/>
                </a:lnTo>
                <a:lnTo>
                  <a:pt x="766" y="228"/>
                </a:lnTo>
                <a:lnTo>
                  <a:pt x="740" y="211"/>
                </a:lnTo>
                <a:lnTo>
                  <a:pt x="714" y="196"/>
                </a:lnTo>
                <a:lnTo>
                  <a:pt x="686" y="183"/>
                </a:lnTo>
                <a:lnTo>
                  <a:pt x="656" y="173"/>
                </a:lnTo>
                <a:lnTo>
                  <a:pt x="624" y="166"/>
                </a:lnTo>
                <a:lnTo>
                  <a:pt x="592" y="162"/>
                </a:lnTo>
                <a:lnTo>
                  <a:pt x="592" y="162"/>
                </a:lnTo>
                <a:lnTo>
                  <a:pt x="592" y="162"/>
                </a:lnTo>
                <a:lnTo>
                  <a:pt x="592" y="162"/>
                </a:lnTo>
                <a:lnTo>
                  <a:pt x="564" y="157"/>
                </a:lnTo>
                <a:lnTo>
                  <a:pt x="534" y="155"/>
                </a:lnTo>
                <a:lnTo>
                  <a:pt x="534" y="155"/>
                </a:lnTo>
                <a:lnTo>
                  <a:pt x="534" y="155"/>
                </a:lnTo>
                <a:lnTo>
                  <a:pt x="534" y="155"/>
                </a:lnTo>
                <a:lnTo>
                  <a:pt x="486" y="149"/>
                </a:lnTo>
                <a:lnTo>
                  <a:pt x="439" y="140"/>
                </a:lnTo>
                <a:lnTo>
                  <a:pt x="394" y="129"/>
                </a:lnTo>
                <a:lnTo>
                  <a:pt x="349" y="115"/>
                </a:lnTo>
                <a:lnTo>
                  <a:pt x="349" y="115"/>
                </a:lnTo>
                <a:lnTo>
                  <a:pt x="290" y="95"/>
                </a:lnTo>
                <a:lnTo>
                  <a:pt x="290" y="95"/>
                </a:lnTo>
                <a:lnTo>
                  <a:pt x="288" y="95"/>
                </a:lnTo>
                <a:lnTo>
                  <a:pt x="290" y="91"/>
                </a:lnTo>
                <a:lnTo>
                  <a:pt x="288" y="95"/>
                </a:lnTo>
                <a:lnTo>
                  <a:pt x="288" y="95"/>
                </a:lnTo>
                <a:lnTo>
                  <a:pt x="256" y="74"/>
                </a:lnTo>
                <a:lnTo>
                  <a:pt x="220" y="57"/>
                </a:lnTo>
                <a:lnTo>
                  <a:pt x="185" y="43"/>
                </a:lnTo>
                <a:lnTo>
                  <a:pt x="147" y="29"/>
                </a:lnTo>
                <a:lnTo>
                  <a:pt x="147" y="29"/>
                </a:lnTo>
                <a:lnTo>
                  <a:pt x="110" y="20"/>
                </a:lnTo>
                <a:lnTo>
                  <a:pt x="73" y="13"/>
                </a:lnTo>
                <a:lnTo>
                  <a:pt x="73" y="13"/>
                </a:lnTo>
                <a:lnTo>
                  <a:pt x="73" y="13"/>
                </a:lnTo>
                <a:lnTo>
                  <a:pt x="74" y="9"/>
                </a:lnTo>
                <a:lnTo>
                  <a:pt x="74" y="9"/>
                </a:lnTo>
                <a:lnTo>
                  <a:pt x="73" y="13"/>
                </a:lnTo>
                <a:lnTo>
                  <a:pt x="73" y="13"/>
                </a:lnTo>
                <a:lnTo>
                  <a:pt x="54" y="9"/>
                </a:lnTo>
                <a:lnTo>
                  <a:pt x="35" y="7"/>
                </a:lnTo>
                <a:lnTo>
                  <a:pt x="18" y="7"/>
                </a:lnTo>
                <a:lnTo>
                  <a:pt x="0" y="11"/>
                </a:lnTo>
                <a:lnTo>
                  <a:pt x="0" y="11"/>
                </a:lnTo>
                <a:lnTo>
                  <a:pt x="7" y="1"/>
                </a:lnTo>
                <a:lnTo>
                  <a:pt x="7" y="1"/>
                </a:lnTo>
                <a:lnTo>
                  <a:pt x="24" y="0"/>
                </a:lnTo>
                <a:lnTo>
                  <a:pt x="41" y="0"/>
                </a:lnTo>
                <a:lnTo>
                  <a:pt x="58" y="1"/>
                </a:lnTo>
                <a:lnTo>
                  <a:pt x="74" y="5"/>
                </a:lnTo>
                <a:lnTo>
                  <a:pt x="74" y="5"/>
                </a:lnTo>
                <a:lnTo>
                  <a:pt x="112" y="13"/>
                </a:lnTo>
                <a:lnTo>
                  <a:pt x="151" y="22"/>
                </a:lnTo>
                <a:lnTo>
                  <a:pt x="151" y="22"/>
                </a:lnTo>
                <a:lnTo>
                  <a:pt x="187" y="35"/>
                </a:lnTo>
                <a:lnTo>
                  <a:pt x="224" y="50"/>
                </a:lnTo>
                <a:lnTo>
                  <a:pt x="258" y="69"/>
                </a:lnTo>
                <a:lnTo>
                  <a:pt x="291" y="87"/>
                </a:lnTo>
                <a:lnTo>
                  <a:pt x="291" y="87"/>
                </a:lnTo>
                <a:lnTo>
                  <a:pt x="351" y="108"/>
                </a:lnTo>
                <a:lnTo>
                  <a:pt x="351" y="108"/>
                </a:lnTo>
                <a:lnTo>
                  <a:pt x="396" y="121"/>
                </a:lnTo>
                <a:lnTo>
                  <a:pt x="441" y="132"/>
                </a:lnTo>
                <a:lnTo>
                  <a:pt x="488" y="142"/>
                </a:lnTo>
                <a:lnTo>
                  <a:pt x="534" y="147"/>
                </a:lnTo>
                <a:lnTo>
                  <a:pt x="534" y="147"/>
                </a:lnTo>
                <a:lnTo>
                  <a:pt x="534" y="147"/>
                </a:lnTo>
                <a:lnTo>
                  <a:pt x="564" y="149"/>
                </a:lnTo>
                <a:lnTo>
                  <a:pt x="594" y="155"/>
                </a:lnTo>
                <a:lnTo>
                  <a:pt x="594" y="155"/>
                </a:lnTo>
                <a:lnTo>
                  <a:pt x="594" y="155"/>
                </a:lnTo>
                <a:lnTo>
                  <a:pt x="626" y="158"/>
                </a:lnTo>
                <a:lnTo>
                  <a:pt x="658" y="166"/>
                </a:lnTo>
                <a:lnTo>
                  <a:pt x="688" y="177"/>
                </a:lnTo>
                <a:lnTo>
                  <a:pt x="718" y="190"/>
                </a:lnTo>
                <a:lnTo>
                  <a:pt x="744" y="203"/>
                </a:lnTo>
                <a:lnTo>
                  <a:pt x="770" y="222"/>
                </a:lnTo>
                <a:lnTo>
                  <a:pt x="794" y="241"/>
                </a:lnTo>
                <a:lnTo>
                  <a:pt x="817" y="261"/>
                </a:lnTo>
                <a:lnTo>
                  <a:pt x="817" y="261"/>
                </a:lnTo>
                <a:lnTo>
                  <a:pt x="836" y="284"/>
                </a:lnTo>
                <a:lnTo>
                  <a:pt x="852" y="310"/>
                </a:lnTo>
                <a:lnTo>
                  <a:pt x="867" y="336"/>
                </a:lnTo>
                <a:lnTo>
                  <a:pt x="879" y="364"/>
                </a:lnTo>
                <a:lnTo>
                  <a:pt x="886" y="394"/>
                </a:lnTo>
                <a:lnTo>
                  <a:pt x="890" y="426"/>
                </a:lnTo>
                <a:lnTo>
                  <a:pt x="892" y="458"/>
                </a:lnTo>
                <a:lnTo>
                  <a:pt x="890" y="491"/>
                </a:lnTo>
                <a:lnTo>
                  <a:pt x="890" y="491"/>
                </a:lnTo>
                <a:lnTo>
                  <a:pt x="894" y="521"/>
                </a:lnTo>
                <a:lnTo>
                  <a:pt x="899" y="553"/>
                </a:lnTo>
                <a:lnTo>
                  <a:pt x="899" y="553"/>
                </a:lnTo>
                <a:lnTo>
                  <a:pt x="905" y="573"/>
                </a:lnTo>
                <a:lnTo>
                  <a:pt x="910" y="594"/>
                </a:lnTo>
                <a:lnTo>
                  <a:pt x="918" y="613"/>
                </a:lnTo>
                <a:lnTo>
                  <a:pt x="927" y="631"/>
                </a:lnTo>
                <a:lnTo>
                  <a:pt x="938" y="650"/>
                </a:lnTo>
                <a:lnTo>
                  <a:pt x="950" y="669"/>
                </a:lnTo>
                <a:lnTo>
                  <a:pt x="965" y="686"/>
                </a:lnTo>
                <a:lnTo>
                  <a:pt x="981" y="702"/>
                </a:lnTo>
                <a:lnTo>
                  <a:pt x="981" y="702"/>
                </a:lnTo>
                <a:lnTo>
                  <a:pt x="974" y="704"/>
                </a:lnTo>
                <a:lnTo>
                  <a:pt x="974" y="704"/>
                </a:lnTo>
                <a:lnTo>
                  <a:pt x="957" y="688"/>
                </a:lnTo>
                <a:lnTo>
                  <a:pt x="942" y="671"/>
                </a:lnTo>
                <a:lnTo>
                  <a:pt x="931" y="652"/>
                </a:lnTo>
                <a:lnTo>
                  <a:pt x="920" y="633"/>
                </a:lnTo>
                <a:lnTo>
                  <a:pt x="910" y="615"/>
                </a:lnTo>
                <a:lnTo>
                  <a:pt x="903" y="594"/>
                </a:lnTo>
                <a:lnTo>
                  <a:pt x="897" y="575"/>
                </a:lnTo>
                <a:lnTo>
                  <a:pt x="892" y="555"/>
                </a:lnTo>
                <a:close/>
                <a:moveTo>
                  <a:pt x="534" y="155"/>
                </a:moveTo>
                <a:lnTo>
                  <a:pt x="534" y="151"/>
                </a:lnTo>
                <a:lnTo>
                  <a:pt x="534" y="153"/>
                </a:lnTo>
                <a:lnTo>
                  <a:pt x="534" y="155"/>
                </a:lnTo>
                <a:close/>
                <a:moveTo>
                  <a:pt x="349" y="115"/>
                </a:moveTo>
                <a:lnTo>
                  <a:pt x="349" y="112"/>
                </a:lnTo>
                <a:lnTo>
                  <a:pt x="349" y="115"/>
                </a:lnTo>
                <a:close/>
                <a:moveTo>
                  <a:pt x="147" y="29"/>
                </a:moveTo>
                <a:lnTo>
                  <a:pt x="149" y="26"/>
                </a:lnTo>
                <a:lnTo>
                  <a:pt x="147" y="29"/>
                </a:lnTo>
                <a:close/>
              </a:path>
            </a:pathLst>
          </a:custGeom>
          <a:solidFill>
            <a:srgbClr val="dc7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62200" y="3398760"/>
            <a:ext cx="1557360" cy="1117800"/>
          </a:xfrm>
          <a:custGeom>
            <a:avLst/>
            <a:gdLst/>
            <a:ahLst/>
            <a:rect l="l" t="t" r="r" b="b"/>
            <a:pathLst>
              <a:path w="981" h="704">
                <a:moveTo>
                  <a:pt x="892" y="555"/>
                </a:moveTo>
                <a:lnTo>
                  <a:pt x="895" y="553"/>
                </a:lnTo>
                <a:lnTo>
                  <a:pt x="892" y="555"/>
                </a:lnTo>
                <a:lnTo>
                  <a:pt x="892" y="555"/>
                </a:lnTo>
                <a:lnTo>
                  <a:pt x="886" y="523"/>
                </a:lnTo>
                <a:lnTo>
                  <a:pt x="882" y="491"/>
                </a:lnTo>
                <a:lnTo>
                  <a:pt x="882" y="491"/>
                </a:lnTo>
                <a:lnTo>
                  <a:pt x="882" y="489"/>
                </a:lnTo>
                <a:lnTo>
                  <a:pt x="886" y="491"/>
                </a:lnTo>
                <a:lnTo>
                  <a:pt x="882" y="489"/>
                </a:lnTo>
                <a:lnTo>
                  <a:pt x="882" y="489"/>
                </a:lnTo>
                <a:lnTo>
                  <a:pt x="884" y="458"/>
                </a:lnTo>
                <a:lnTo>
                  <a:pt x="884" y="426"/>
                </a:lnTo>
                <a:lnTo>
                  <a:pt x="879" y="396"/>
                </a:lnTo>
                <a:lnTo>
                  <a:pt x="871" y="366"/>
                </a:lnTo>
                <a:lnTo>
                  <a:pt x="860" y="340"/>
                </a:lnTo>
                <a:lnTo>
                  <a:pt x="847" y="314"/>
                </a:lnTo>
                <a:lnTo>
                  <a:pt x="830" y="289"/>
                </a:lnTo>
                <a:lnTo>
                  <a:pt x="811" y="267"/>
                </a:lnTo>
                <a:lnTo>
                  <a:pt x="811" y="267"/>
                </a:lnTo>
                <a:lnTo>
                  <a:pt x="789" y="246"/>
                </a:lnTo>
                <a:lnTo>
                  <a:pt x="766" y="228"/>
                </a:lnTo>
                <a:lnTo>
                  <a:pt x="740" y="211"/>
                </a:lnTo>
                <a:lnTo>
                  <a:pt x="714" y="196"/>
                </a:lnTo>
                <a:lnTo>
                  <a:pt x="686" y="183"/>
                </a:lnTo>
                <a:lnTo>
                  <a:pt x="656" y="173"/>
                </a:lnTo>
                <a:lnTo>
                  <a:pt x="624" y="166"/>
                </a:lnTo>
                <a:lnTo>
                  <a:pt x="592" y="162"/>
                </a:lnTo>
                <a:lnTo>
                  <a:pt x="592" y="162"/>
                </a:lnTo>
                <a:lnTo>
                  <a:pt x="592" y="162"/>
                </a:lnTo>
                <a:lnTo>
                  <a:pt x="592" y="162"/>
                </a:lnTo>
                <a:lnTo>
                  <a:pt x="564" y="157"/>
                </a:lnTo>
                <a:lnTo>
                  <a:pt x="534" y="155"/>
                </a:lnTo>
                <a:lnTo>
                  <a:pt x="534" y="155"/>
                </a:lnTo>
                <a:lnTo>
                  <a:pt x="534" y="155"/>
                </a:lnTo>
                <a:lnTo>
                  <a:pt x="534" y="155"/>
                </a:lnTo>
                <a:lnTo>
                  <a:pt x="486" y="149"/>
                </a:lnTo>
                <a:lnTo>
                  <a:pt x="439" y="140"/>
                </a:lnTo>
                <a:lnTo>
                  <a:pt x="394" y="129"/>
                </a:lnTo>
                <a:lnTo>
                  <a:pt x="349" y="115"/>
                </a:lnTo>
                <a:lnTo>
                  <a:pt x="349" y="115"/>
                </a:lnTo>
                <a:lnTo>
                  <a:pt x="290" y="95"/>
                </a:lnTo>
                <a:lnTo>
                  <a:pt x="290" y="95"/>
                </a:lnTo>
                <a:lnTo>
                  <a:pt x="288" y="95"/>
                </a:lnTo>
                <a:lnTo>
                  <a:pt x="290" y="91"/>
                </a:lnTo>
                <a:lnTo>
                  <a:pt x="288" y="95"/>
                </a:lnTo>
                <a:lnTo>
                  <a:pt x="288" y="95"/>
                </a:lnTo>
                <a:lnTo>
                  <a:pt x="256" y="74"/>
                </a:lnTo>
                <a:lnTo>
                  <a:pt x="220" y="57"/>
                </a:lnTo>
                <a:lnTo>
                  <a:pt x="185" y="43"/>
                </a:lnTo>
                <a:lnTo>
                  <a:pt x="147" y="29"/>
                </a:lnTo>
                <a:lnTo>
                  <a:pt x="147" y="29"/>
                </a:lnTo>
                <a:lnTo>
                  <a:pt x="110" y="20"/>
                </a:lnTo>
                <a:lnTo>
                  <a:pt x="73" y="13"/>
                </a:lnTo>
                <a:lnTo>
                  <a:pt x="73" y="13"/>
                </a:lnTo>
                <a:lnTo>
                  <a:pt x="73" y="13"/>
                </a:lnTo>
                <a:lnTo>
                  <a:pt x="74" y="9"/>
                </a:lnTo>
                <a:lnTo>
                  <a:pt x="74" y="9"/>
                </a:lnTo>
                <a:lnTo>
                  <a:pt x="73" y="13"/>
                </a:lnTo>
                <a:lnTo>
                  <a:pt x="73" y="13"/>
                </a:lnTo>
                <a:lnTo>
                  <a:pt x="54" y="9"/>
                </a:lnTo>
                <a:lnTo>
                  <a:pt x="35" y="7"/>
                </a:lnTo>
                <a:lnTo>
                  <a:pt x="18" y="7"/>
                </a:lnTo>
                <a:lnTo>
                  <a:pt x="0" y="11"/>
                </a:lnTo>
                <a:lnTo>
                  <a:pt x="0" y="11"/>
                </a:lnTo>
                <a:lnTo>
                  <a:pt x="7" y="1"/>
                </a:lnTo>
                <a:lnTo>
                  <a:pt x="7" y="1"/>
                </a:lnTo>
                <a:lnTo>
                  <a:pt x="24" y="0"/>
                </a:lnTo>
                <a:lnTo>
                  <a:pt x="41" y="0"/>
                </a:lnTo>
                <a:lnTo>
                  <a:pt x="58" y="1"/>
                </a:lnTo>
                <a:lnTo>
                  <a:pt x="74" y="5"/>
                </a:lnTo>
                <a:lnTo>
                  <a:pt x="74" y="5"/>
                </a:lnTo>
                <a:lnTo>
                  <a:pt x="112" y="13"/>
                </a:lnTo>
                <a:lnTo>
                  <a:pt x="151" y="22"/>
                </a:lnTo>
                <a:lnTo>
                  <a:pt x="151" y="22"/>
                </a:lnTo>
                <a:lnTo>
                  <a:pt x="187" y="35"/>
                </a:lnTo>
                <a:lnTo>
                  <a:pt x="224" y="50"/>
                </a:lnTo>
                <a:lnTo>
                  <a:pt x="258" y="69"/>
                </a:lnTo>
                <a:lnTo>
                  <a:pt x="291" y="87"/>
                </a:lnTo>
                <a:lnTo>
                  <a:pt x="291" y="87"/>
                </a:lnTo>
                <a:lnTo>
                  <a:pt x="351" y="108"/>
                </a:lnTo>
                <a:lnTo>
                  <a:pt x="351" y="108"/>
                </a:lnTo>
                <a:lnTo>
                  <a:pt x="396" y="121"/>
                </a:lnTo>
                <a:lnTo>
                  <a:pt x="441" y="132"/>
                </a:lnTo>
                <a:lnTo>
                  <a:pt x="488" y="142"/>
                </a:lnTo>
                <a:lnTo>
                  <a:pt x="534" y="147"/>
                </a:lnTo>
                <a:lnTo>
                  <a:pt x="534" y="147"/>
                </a:lnTo>
                <a:lnTo>
                  <a:pt x="534" y="147"/>
                </a:lnTo>
                <a:lnTo>
                  <a:pt x="564" y="149"/>
                </a:lnTo>
                <a:lnTo>
                  <a:pt x="594" y="155"/>
                </a:lnTo>
                <a:lnTo>
                  <a:pt x="594" y="155"/>
                </a:lnTo>
                <a:lnTo>
                  <a:pt x="594" y="155"/>
                </a:lnTo>
                <a:lnTo>
                  <a:pt x="626" y="158"/>
                </a:lnTo>
                <a:lnTo>
                  <a:pt x="658" y="166"/>
                </a:lnTo>
                <a:lnTo>
                  <a:pt x="688" y="177"/>
                </a:lnTo>
                <a:lnTo>
                  <a:pt x="718" y="190"/>
                </a:lnTo>
                <a:lnTo>
                  <a:pt x="744" y="203"/>
                </a:lnTo>
                <a:lnTo>
                  <a:pt x="770" y="222"/>
                </a:lnTo>
                <a:lnTo>
                  <a:pt x="794" y="241"/>
                </a:lnTo>
                <a:lnTo>
                  <a:pt x="817" y="261"/>
                </a:lnTo>
                <a:lnTo>
                  <a:pt x="817" y="261"/>
                </a:lnTo>
                <a:lnTo>
                  <a:pt x="836" y="284"/>
                </a:lnTo>
                <a:lnTo>
                  <a:pt x="852" y="310"/>
                </a:lnTo>
                <a:lnTo>
                  <a:pt x="867" y="336"/>
                </a:lnTo>
                <a:lnTo>
                  <a:pt x="879" y="364"/>
                </a:lnTo>
                <a:lnTo>
                  <a:pt x="886" y="394"/>
                </a:lnTo>
                <a:lnTo>
                  <a:pt x="890" y="426"/>
                </a:lnTo>
                <a:lnTo>
                  <a:pt x="892" y="458"/>
                </a:lnTo>
                <a:lnTo>
                  <a:pt x="890" y="491"/>
                </a:lnTo>
                <a:lnTo>
                  <a:pt x="890" y="491"/>
                </a:lnTo>
                <a:lnTo>
                  <a:pt x="894" y="521"/>
                </a:lnTo>
                <a:lnTo>
                  <a:pt x="899" y="553"/>
                </a:lnTo>
                <a:lnTo>
                  <a:pt x="899" y="553"/>
                </a:lnTo>
                <a:lnTo>
                  <a:pt x="905" y="573"/>
                </a:lnTo>
                <a:lnTo>
                  <a:pt x="910" y="594"/>
                </a:lnTo>
                <a:lnTo>
                  <a:pt x="918" y="613"/>
                </a:lnTo>
                <a:lnTo>
                  <a:pt x="927" y="631"/>
                </a:lnTo>
                <a:lnTo>
                  <a:pt x="938" y="650"/>
                </a:lnTo>
                <a:lnTo>
                  <a:pt x="950" y="669"/>
                </a:lnTo>
                <a:lnTo>
                  <a:pt x="965" y="686"/>
                </a:lnTo>
                <a:lnTo>
                  <a:pt x="981" y="702"/>
                </a:lnTo>
                <a:lnTo>
                  <a:pt x="981" y="702"/>
                </a:lnTo>
                <a:lnTo>
                  <a:pt x="974" y="704"/>
                </a:lnTo>
                <a:lnTo>
                  <a:pt x="974" y="704"/>
                </a:lnTo>
                <a:lnTo>
                  <a:pt x="957" y="688"/>
                </a:lnTo>
                <a:lnTo>
                  <a:pt x="942" y="671"/>
                </a:lnTo>
                <a:lnTo>
                  <a:pt x="931" y="652"/>
                </a:lnTo>
                <a:lnTo>
                  <a:pt x="920" y="633"/>
                </a:lnTo>
                <a:lnTo>
                  <a:pt x="910" y="615"/>
                </a:lnTo>
                <a:lnTo>
                  <a:pt x="903" y="594"/>
                </a:lnTo>
                <a:lnTo>
                  <a:pt x="897" y="575"/>
                </a:lnTo>
                <a:lnTo>
                  <a:pt x="892" y="55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10000" y="3638520"/>
            <a:ext cx="1440" cy="648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16240" y="357660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95480" y="344016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2" y="0"/>
                </a:lnTo>
                <a:lnTo>
                  <a:pt x="0" y="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08400" y="4513320"/>
            <a:ext cx="20520" cy="12600"/>
          </a:xfrm>
          <a:custGeom>
            <a:avLst/>
            <a:gdLst/>
            <a:ahLst/>
            <a:rect l="l" t="t" r="r" b="b"/>
            <a:pathLst>
              <a:path w="13" h="8">
                <a:moveTo>
                  <a:pt x="0" y="2"/>
                </a:moveTo>
                <a:lnTo>
                  <a:pt x="0" y="2"/>
                </a:lnTo>
                <a:lnTo>
                  <a:pt x="7" y="0"/>
                </a:lnTo>
                <a:lnTo>
                  <a:pt x="7" y="0"/>
                </a:lnTo>
                <a:lnTo>
                  <a:pt x="13" y="4"/>
                </a:lnTo>
                <a:lnTo>
                  <a:pt x="13" y="4"/>
                </a:lnTo>
                <a:lnTo>
                  <a:pt x="4" y="8"/>
                </a:lnTo>
                <a:lnTo>
                  <a:pt x="4" y="8"/>
                </a:lnTo>
                <a:lnTo>
                  <a:pt x="0" y="2"/>
                </a:lnTo>
                <a:close/>
              </a:path>
            </a:pathLst>
          </a:custGeom>
          <a:solidFill>
            <a:srgbClr val="dd7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08400" y="4513320"/>
            <a:ext cx="20520" cy="12600"/>
          </a:xfrm>
          <a:custGeom>
            <a:avLst/>
            <a:gdLst/>
            <a:ahLst/>
            <a:rect l="l" t="t" r="r" b="b"/>
            <a:pathLst>
              <a:path w="13" h="8">
                <a:moveTo>
                  <a:pt x="0" y="2"/>
                </a:moveTo>
                <a:lnTo>
                  <a:pt x="0" y="2"/>
                </a:lnTo>
                <a:lnTo>
                  <a:pt x="7" y="0"/>
                </a:lnTo>
                <a:lnTo>
                  <a:pt x="7" y="0"/>
                </a:lnTo>
                <a:lnTo>
                  <a:pt x="13" y="4"/>
                </a:lnTo>
                <a:lnTo>
                  <a:pt x="13" y="4"/>
                </a:lnTo>
                <a:lnTo>
                  <a:pt x="4" y="8"/>
                </a:lnTo>
                <a:lnTo>
                  <a:pt x="4" y="8"/>
                </a:lnTo>
                <a:lnTo>
                  <a:pt x="0" y="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79960" y="447192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79960" y="447192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78080" y="4280040"/>
            <a:ext cx="1596960" cy="142560"/>
          </a:xfrm>
          <a:custGeom>
            <a:avLst/>
            <a:gdLst/>
            <a:ahLst/>
            <a:rect l="l" t="t" r="r" b="b"/>
            <a:pathLst>
              <a:path w="1006" h="90">
                <a:moveTo>
                  <a:pt x="1006" y="90"/>
                </a:moveTo>
                <a:lnTo>
                  <a:pt x="1006" y="90"/>
                </a:lnTo>
                <a:close/>
                <a:moveTo>
                  <a:pt x="718" y="61"/>
                </a:moveTo>
                <a:lnTo>
                  <a:pt x="718" y="6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dc7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75040" y="442260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17840" y="4376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78080" y="428004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35480" y="3335400"/>
            <a:ext cx="436320" cy="306360"/>
          </a:xfrm>
          <a:custGeom>
            <a:avLst/>
            <a:gdLst/>
            <a:ahLst/>
            <a:rect l="l" t="t" r="r" b="b"/>
            <a:pathLst>
              <a:path w="275" h="193">
                <a:moveTo>
                  <a:pt x="12" y="191"/>
                </a:moveTo>
                <a:lnTo>
                  <a:pt x="12" y="191"/>
                </a:lnTo>
                <a:lnTo>
                  <a:pt x="4" y="170"/>
                </a:lnTo>
                <a:lnTo>
                  <a:pt x="0" y="150"/>
                </a:lnTo>
                <a:lnTo>
                  <a:pt x="0" y="150"/>
                </a:lnTo>
                <a:lnTo>
                  <a:pt x="0" y="150"/>
                </a:lnTo>
                <a:lnTo>
                  <a:pt x="4" y="150"/>
                </a:lnTo>
                <a:lnTo>
                  <a:pt x="0" y="150"/>
                </a:lnTo>
                <a:lnTo>
                  <a:pt x="4" y="150"/>
                </a:lnTo>
                <a:lnTo>
                  <a:pt x="0" y="150"/>
                </a:lnTo>
                <a:lnTo>
                  <a:pt x="0" y="150"/>
                </a:lnTo>
                <a:lnTo>
                  <a:pt x="2" y="140"/>
                </a:lnTo>
                <a:lnTo>
                  <a:pt x="4" y="133"/>
                </a:lnTo>
                <a:lnTo>
                  <a:pt x="8" y="126"/>
                </a:lnTo>
                <a:lnTo>
                  <a:pt x="12" y="120"/>
                </a:lnTo>
                <a:lnTo>
                  <a:pt x="23" y="109"/>
                </a:lnTo>
                <a:lnTo>
                  <a:pt x="38" y="101"/>
                </a:lnTo>
                <a:lnTo>
                  <a:pt x="70" y="86"/>
                </a:lnTo>
                <a:lnTo>
                  <a:pt x="84" y="79"/>
                </a:lnTo>
                <a:lnTo>
                  <a:pt x="99" y="71"/>
                </a:lnTo>
                <a:lnTo>
                  <a:pt x="99" y="71"/>
                </a:lnTo>
                <a:lnTo>
                  <a:pt x="99" y="71"/>
                </a:lnTo>
                <a:lnTo>
                  <a:pt x="99" y="71"/>
                </a:lnTo>
                <a:lnTo>
                  <a:pt x="135" y="58"/>
                </a:lnTo>
                <a:lnTo>
                  <a:pt x="172" y="45"/>
                </a:lnTo>
                <a:lnTo>
                  <a:pt x="210" y="30"/>
                </a:lnTo>
                <a:lnTo>
                  <a:pt x="247" y="13"/>
                </a:lnTo>
                <a:lnTo>
                  <a:pt x="247" y="13"/>
                </a:lnTo>
                <a:lnTo>
                  <a:pt x="271" y="0"/>
                </a:lnTo>
                <a:lnTo>
                  <a:pt x="271" y="0"/>
                </a:lnTo>
                <a:lnTo>
                  <a:pt x="275" y="6"/>
                </a:lnTo>
                <a:lnTo>
                  <a:pt x="275" y="6"/>
                </a:lnTo>
                <a:lnTo>
                  <a:pt x="251" y="21"/>
                </a:lnTo>
                <a:lnTo>
                  <a:pt x="251" y="21"/>
                </a:lnTo>
                <a:lnTo>
                  <a:pt x="213" y="38"/>
                </a:lnTo>
                <a:lnTo>
                  <a:pt x="174" y="51"/>
                </a:lnTo>
                <a:lnTo>
                  <a:pt x="137" y="64"/>
                </a:lnTo>
                <a:lnTo>
                  <a:pt x="103" y="79"/>
                </a:lnTo>
                <a:lnTo>
                  <a:pt x="103" y="79"/>
                </a:lnTo>
                <a:lnTo>
                  <a:pt x="88" y="86"/>
                </a:lnTo>
                <a:lnTo>
                  <a:pt x="71" y="94"/>
                </a:lnTo>
                <a:lnTo>
                  <a:pt x="41" y="107"/>
                </a:lnTo>
                <a:lnTo>
                  <a:pt x="28" y="114"/>
                </a:lnTo>
                <a:lnTo>
                  <a:pt x="17" y="124"/>
                </a:lnTo>
                <a:lnTo>
                  <a:pt x="13" y="129"/>
                </a:lnTo>
                <a:lnTo>
                  <a:pt x="10" y="135"/>
                </a:lnTo>
                <a:lnTo>
                  <a:pt x="8" y="142"/>
                </a:lnTo>
                <a:lnTo>
                  <a:pt x="8" y="150"/>
                </a:lnTo>
                <a:lnTo>
                  <a:pt x="8" y="150"/>
                </a:lnTo>
                <a:lnTo>
                  <a:pt x="13" y="172"/>
                </a:lnTo>
                <a:lnTo>
                  <a:pt x="19" y="193"/>
                </a:lnTo>
                <a:lnTo>
                  <a:pt x="19" y="193"/>
                </a:lnTo>
                <a:lnTo>
                  <a:pt x="12" y="191"/>
                </a:lnTo>
                <a:close/>
              </a:path>
            </a:pathLst>
          </a:custGeom>
          <a:solidFill>
            <a:srgbClr val="f1c8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35480" y="3335400"/>
            <a:ext cx="436320" cy="306360"/>
          </a:xfrm>
          <a:custGeom>
            <a:avLst/>
            <a:gdLst/>
            <a:ahLst/>
            <a:rect l="l" t="t" r="r" b="b"/>
            <a:pathLst>
              <a:path w="275" h="193">
                <a:moveTo>
                  <a:pt x="12" y="191"/>
                </a:moveTo>
                <a:lnTo>
                  <a:pt x="12" y="191"/>
                </a:lnTo>
                <a:lnTo>
                  <a:pt x="4" y="170"/>
                </a:lnTo>
                <a:lnTo>
                  <a:pt x="0" y="150"/>
                </a:lnTo>
                <a:lnTo>
                  <a:pt x="0" y="150"/>
                </a:lnTo>
                <a:lnTo>
                  <a:pt x="0" y="150"/>
                </a:lnTo>
                <a:lnTo>
                  <a:pt x="4" y="150"/>
                </a:lnTo>
                <a:lnTo>
                  <a:pt x="0" y="150"/>
                </a:lnTo>
                <a:lnTo>
                  <a:pt x="4" y="150"/>
                </a:lnTo>
                <a:lnTo>
                  <a:pt x="0" y="150"/>
                </a:lnTo>
                <a:lnTo>
                  <a:pt x="0" y="150"/>
                </a:lnTo>
                <a:lnTo>
                  <a:pt x="2" y="140"/>
                </a:lnTo>
                <a:lnTo>
                  <a:pt x="4" y="133"/>
                </a:lnTo>
                <a:lnTo>
                  <a:pt x="8" y="126"/>
                </a:lnTo>
                <a:lnTo>
                  <a:pt x="12" y="120"/>
                </a:lnTo>
                <a:lnTo>
                  <a:pt x="23" y="109"/>
                </a:lnTo>
                <a:lnTo>
                  <a:pt x="38" y="101"/>
                </a:lnTo>
                <a:lnTo>
                  <a:pt x="70" y="86"/>
                </a:lnTo>
                <a:lnTo>
                  <a:pt x="84" y="79"/>
                </a:lnTo>
                <a:lnTo>
                  <a:pt x="99" y="71"/>
                </a:lnTo>
                <a:lnTo>
                  <a:pt x="99" y="71"/>
                </a:lnTo>
                <a:lnTo>
                  <a:pt x="99" y="71"/>
                </a:lnTo>
                <a:lnTo>
                  <a:pt x="99" y="71"/>
                </a:lnTo>
                <a:lnTo>
                  <a:pt x="135" y="58"/>
                </a:lnTo>
                <a:lnTo>
                  <a:pt x="172" y="45"/>
                </a:lnTo>
                <a:lnTo>
                  <a:pt x="210" y="30"/>
                </a:lnTo>
                <a:lnTo>
                  <a:pt x="247" y="13"/>
                </a:lnTo>
                <a:lnTo>
                  <a:pt x="247" y="13"/>
                </a:lnTo>
                <a:lnTo>
                  <a:pt x="271" y="0"/>
                </a:lnTo>
                <a:lnTo>
                  <a:pt x="271" y="0"/>
                </a:lnTo>
                <a:lnTo>
                  <a:pt x="275" y="6"/>
                </a:lnTo>
                <a:lnTo>
                  <a:pt x="275" y="6"/>
                </a:lnTo>
                <a:lnTo>
                  <a:pt x="251" y="21"/>
                </a:lnTo>
                <a:lnTo>
                  <a:pt x="251" y="21"/>
                </a:lnTo>
                <a:lnTo>
                  <a:pt x="213" y="38"/>
                </a:lnTo>
                <a:lnTo>
                  <a:pt x="174" y="51"/>
                </a:lnTo>
                <a:lnTo>
                  <a:pt x="137" y="64"/>
                </a:lnTo>
                <a:lnTo>
                  <a:pt x="103" y="79"/>
                </a:lnTo>
                <a:lnTo>
                  <a:pt x="103" y="79"/>
                </a:lnTo>
                <a:lnTo>
                  <a:pt x="88" y="86"/>
                </a:lnTo>
                <a:lnTo>
                  <a:pt x="71" y="94"/>
                </a:lnTo>
                <a:lnTo>
                  <a:pt x="41" y="107"/>
                </a:lnTo>
                <a:lnTo>
                  <a:pt x="28" y="114"/>
                </a:lnTo>
                <a:lnTo>
                  <a:pt x="17" y="124"/>
                </a:lnTo>
                <a:lnTo>
                  <a:pt x="13" y="129"/>
                </a:lnTo>
                <a:lnTo>
                  <a:pt x="10" y="135"/>
                </a:lnTo>
                <a:lnTo>
                  <a:pt x="8" y="142"/>
                </a:lnTo>
                <a:lnTo>
                  <a:pt x="8" y="150"/>
                </a:lnTo>
                <a:lnTo>
                  <a:pt x="8" y="150"/>
                </a:lnTo>
                <a:lnTo>
                  <a:pt x="13" y="172"/>
                </a:lnTo>
                <a:lnTo>
                  <a:pt x="19" y="193"/>
                </a:lnTo>
                <a:lnTo>
                  <a:pt x="19" y="193"/>
                </a:lnTo>
                <a:lnTo>
                  <a:pt x="12" y="19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39960" y="2997360"/>
            <a:ext cx="300240" cy="344160"/>
          </a:xfrm>
          <a:custGeom>
            <a:avLst/>
            <a:gdLst/>
            <a:ahLst/>
            <a:rect l="l" t="t" r="r" b="b"/>
            <a:pathLst>
              <a:path w="189" h="217">
                <a:moveTo>
                  <a:pt x="148" y="210"/>
                </a:moveTo>
                <a:lnTo>
                  <a:pt x="148" y="210"/>
                </a:lnTo>
                <a:lnTo>
                  <a:pt x="157" y="200"/>
                </a:lnTo>
                <a:lnTo>
                  <a:pt x="165" y="193"/>
                </a:lnTo>
                <a:lnTo>
                  <a:pt x="172" y="183"/>
                </a:lnTo>
                <a:lnTo>
                  <a:pt x="178" y="172"/>
                </a:lnTo>
                <a:lnTo>
                  <a:pt x="180" y="163"/>
                </a:lnTo>
                <a:lnTo>
                  <a:pt x="182" y="150"/>
                </a:lnTo>
                <a:lnTo>
                  <a:pt x="182" y="138"/>
                </a:lnTo>
                <a:lnTo>
                  <a:pt x="178" y="124"/>
                </a:lnTo>
                <a:lnTo>
                  <a:pt x="182" y="124"/>
                </a:lnTo>
                <a:lnTo>
                  <a:pt x="178" y="124"/>
                </a:lnTo>
                <a:lnTo>
                  <a:pt x="178" y="124"/>
                </a:lnTo>
                <a:lnTo>
                  <a:pt x="174" y="110"/>
                </a:lnTo>
                <a:lnTo>
                  <a:pt x="169" y="97"/>
                </a:lnTo>
                <a:lnTo>
                  <a:pt x="161" y="86"/>
                </a:lnTo>
                <a:lnTo>
                  <a:pt x="154" y="77"/>
                </a:lnTo>
                <a:lnTo>
                  <a:pt x="146" y="67"/>
                </a:lnTo>
                <a:lnTo>
                  <a:pt x="135" y="58"/>
                </a:lnTo>
                <a:lnTo>
                  <a:pt x="114" y="43"/>
                </a:lnTo>
                <a:lnTo>
                  <a:pt x="88" y="30"/>
                </a:lnTo>
                <a:lnTo>
                  <a:pt x="62" y="21"/>
                </a:lnTo>
                <a:lnTo>
                  <a:pt x="32" y="13"/>
                </a:lnTo>
                <a:lnTo>
                  <a:pt x="0" y="8"/>
                </a:lnTo>
                <a:lnTo>
                  <a:pt x="0" y="8"/>
                </a:lnTo>
                <a:lnTo>
                  <a:pt x="4" y="0"/>
                </a:lnTo>
                <a:lnTo>
                  <a:pt x="4" y="0"/>
                </a:lnTo>
                <a:lnTo>
                  <a:pt x="36" y="6"/>
                </a:lnTo>
                <a:lnTo>
                  <a:pt x="66" y="13"/>
                </a:lnTo>
                <a:lnTo>
                  <a:pt x="94" y="24"/>
                </a:lnTo>
                <a:lnTo>
                  <a:pt x="118" y="36"/>
                </a:lnTo>
                <a:lnTo>
                  <a:pt x="129" y="45"/>
                </a:lnTo>
                <a:lnTo>
                  <a:pt x="141" y="52"/>
                </a:lnTo>
                <a:lnTo>
                  <a:pt x="150" y="62"/>
                </a:lnTo>
                <a:lnTo>
                  <a:pt x="159" y="71"/>
                </a:lnTo>
                <a:lnTo>
                  <a:pt x="169" y="82"/>
                </a:lnTo>
                <a:lnTo>
                  <a:pt x="174" y="95"/>
                </a:lnTo>
                <a:lnTo>
                  <a:pt x="182" y="109"/>
                </a:lnTo>
                <a:lnTo>
                  <a:pt x="185" y="122"/>
                </a:lnTo>
                <a:lnTo>
                  <a:pt x="185" y="122"/>
                </a:lnTo>
                <a:lnTo>
                  <a:pt x="185" y="122"/>
                </a:lnTo>
                <a:lnTo>
                  <a:pt x="189" y="137"/>
                </a:lnTo>
                <a:lnTo>
                  <a:pt x="189" y="152"/>
                </a:lnTo>
                <a:lnTo>
                  <a:pt x="187" y="165"/>
                </a:lnTo>
                <a:lnTo>
                  <a:pt x="184" y="176"/>
                </a:lnTo>
                <a:lnTo>
                  <a:pt x="178" y="187"/>
                </a:lnTo>
                <a:lnTo>
                  <a:pt x="171" y="198"/>
                </a:lnTo>
                <a:lnTo>
                  <a:pt x="161" y="208"/>
                </a:lnTo>
                <a:lnTo>
                  <a:pt x="150" y="217"/>
                </a:lnTo>
                <a:lnTo>
                  <a:pt x="150" y="217"/>
                </a:lnTo>
                <a:lnTo>
                  <a:pt x="148" y="210"/>
                </a:lnTo>
                <a:close/>
              </a:path>
            </a:pathLst>
          </a:custGeom>
          <a:solidFill>
            <a:srgbClr val="dc7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39960" y="2997360"/>
            <a:ext cx="300240" cy="344160"/>
          </a:xfrm>
          <a:custGeom>
            <a:avLst/>
            <a:gdLst/>
            <a:ahLst/>
            <a:rect l="l" t="t" r="r" b="b"/>
            <a:pathLst>
              <a:path w="189" h="217">
                <a:moveTo>
                  <a:pt x="148" y="210"/>
                </a:moveTo>
                <a:lnTo>
                  <a:pt x="148" y="210"/>
                </a:lnTo>
                <a:lnTo>
                  <a:pt x="157" y="200"/>
                </a:lnTo>
                <a:lnTo>
                  <a:pt x="165" y="193"/>
                </a:lnTo>
                <a:lnTo>
                  <a:pt x="172" y="183"/>
                </a:lnTo>
                <a:lnTo>
                  <a:pt x="178" y="172"/>
                </a:lnTo>
                <a:lnTo>
                  <a:pt x="180" y="163"/>
                </a:lnTo>
                <a:lnTo>
                  <a:pt x="182" y="150"/>
                </a:lnTo>
                <a:lnTo>
                  <a:pt x="182" y="138"/>
                </a:lnTo>
                <a:lnTo>
                  <a:pt x="178" y="124"/>
                </a:lnTo>
                <a:lnTo>
                  <a:pt x="182" y="124"/>
                </a:lnTo>
                <a:lnTo>
                  <a:pt x="178" y="124"/>
                </a:lnTo>
                <a:lnTo>
                  <a:pt x="178" y="124"/>
                </a:lnTo>
                <a:lnTo>
                  <a:pt x="174" y="110"/>
                </a:lnTo>
                <a:lnTo>
                  <a:pt x="169" y="97"/>
                </a:lnTo>
                <a:lnTo>
                  <a:pt x="161" y="86"/>
                </a:lnTo>
                <a:lnTo>
                  <a:pt x="154" y="77"/>
                </a:lnTo>
                <a:lnTo>
                  <a:pt x="146" y="67"/>
                </a:lnTo>
                <a:lnTo>
                  <a:pt x="135" y="58"/>
                </a:lnTo>
                <a:lnTo>
                  <a:pt x="114" y="43"/>
                </a:lnTo>
                <a:lnTo>
                  <a:pt x="88" y="30"/>
                </a:lnTo>
                <a:lnTo>
                  <a:pt x="62" y="21"/>
                </a:lnTo>
                <a:lnTo>
                  <a:pt x="32" y="13"/>
                </a:lnTo>
                <a:lnTo>
                  <a:pt x="0" y="8"/>
                </a:lnTo>
                <a:lnTo>
                  <a:pt x="0" y="8"/>
                </a:lnTo>
                <a:lnTo>
                  <a:pt x="4" y="0"/>
                </a:lnTo>
                <a:lnTo>
                  <a:pt x="4" y="0"/>
                </a:lnTo>
                <a:lnTo>
                  <a:pt x="36" y="6"/>
                </a:lnTo>
                <a:lnTo>
                  <a:pt x="66" y="13"/>
                </a:lnTo>
                <a:lnTo>
                  <a:pt x="94" y="24"/>
                </a:lnTo>
                <a:lnTo>
                  <a:pt x="118" y="36"/>
                </a:lnTo>
                <a:lnTo>
                  <a:pt x="129" y="45"/>
                </a:lnTo>
                <a:lnTo>
                  <a:pt x="141" y="52"/>
                </a:lnTo>
                <a:lnTo>
                  <a:pt x="150" y="62"/>
                </a:lnTo>
                <a:lnTo>
                  <a:pt x="159" y="71"/>
                </a:lnTo>
                <a:lnTo>
                  <a:pt x="169" y="82"/>
                </a:lnTo>
                <a:lnTo>
                  <a:pt x="174" y="95"/>
                </a:lnTo>
                <a:lnTo>
                  <a:pt x="182" y="109"/>
                </a:lnTo>
                <a:lnTo>
                  <a:pt x="185" y="122"/>
                </a:lnTo>
                <a:lnTo>
                  <a:pt x="185" y="122"/>
                </a:lnTo>
                <a:lnTo>
                  <a:pt x="185" y="122"/>
                </a:lnTo>
                <a:lnTo>
                  <a:pt x="189" y="137"/>
                </a:lnTo>
                <a:lnTo>
                  <a:pt x="189" y="152"/>
                </a:lnTo>
                <a:lnTo>
                  <a:pt x="187" y="165"/>
                </a:lnTo>
                <a:lnTo>
                  <a:pt x="184" y="176"/>
                </a:lnTo>
                <a:lnTo>
                  <a:pt x="178" y="187"/>
                </a:lnTo>
                <a:lnTo>
                  <a:pt x="171" y="198"/>
                </a:lnTo>
                <a:lnTo>
                  <a:pt x="161" y="208"/>
                </a:lnTo>
                <a:lnTo>
                  <a:pt x="150" y="217"/>
                </a:lnTo>
                <a:lnTo>
                  <a:pt x="150" y="217"/>
                </a:lnTo>
                <a:lnTo>
                  <a:pt x="148" y="21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54560" y="3330720"/>
            <a:ext cx="423720" cy="322200"/>
          </a:xfrm>
          <a:custGeom>
            <a:avLst/>
            <a:gdLst/>
            <a:ahLst/>
            <a:rect l="l" t="t" r="r" b="b"/>
            <a:pathLst>
              <a:path w="267" h="203">
                <a:moveTo>
                  <a:pt x="1" y="201"/>
                </a:moveTo>
                <a:lnTo>
                  <a:pt x="1" y="201"/>
                </a:lnTo>
                <a:lnTo>
                  <a:pt x="0" y="194"/>
                </a:lnTo>
                <a:lnTo>
                  <a:pt x="0" y="194"/>
                </a:lnTo>
                <a:lnTo>
                  <a:pt x="7" y="196"/>
                </a:lnTo>
                <a:lnTo>
                  <a:pt x="7" y="196"/>
                </a:lnTo>
                <a:lnTo>
                  <a:pt x="11" y="203"/>
                </a:lnTo>
                <a:lnTo>
                  <a:pt x="11" y="203"/>
                </a:lnTo>
                <a:lnTo>
                  <a:pt x="1" y="201"/>
                </a:lnTo>
                <a:close/>
                <a:moveTo>
                  <a:pt x="259" y="3"/>
                </a:moveTo>
                <a:lnTo>
                  <a:pt x="259" y="3"/>
                </a:lnTo>
                <a:lnTo>
                  <a:pt x="265" y="0"/>
                </a:lnTo>
                <a:lnTo>
                  <a:pt x="265" y="0"/>
                </a:lnTo>
                <a:lnTo>
                  <a:pt x="267" y="7"/>
                </a:lnTo>
                <a:lnTo>
                  <a:pt x="267" y="7"/>
                </a:lnTo>
                <a:lnTo>
                  <a:pt x="263" y="9"/>
                </a:lnTo>
                <a:lnTo>
                  <a:pt x="263" y="9"/>
                </a:lnTo>
                <a:lnTo>
                  <a:pt x="259" y="3"/>
                </a:lnTo>
                <a:close/>
              </a:path>
            </a:pathLst>
          </a:custGeom>
          <a:solidFill>
            <a:srgbClr val="dd7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54560" y="3638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" y="7"/>
                </a:moveTo>
                <a:lnTo>
                  <a:pt x="1" y="7"/>
                </a:lnTo>
                <a:lnTo>
                  <a:pt x="0" y="0"/>
                </a:lnTo>
                <a:lnTo>
                  <a:pt x="0" y="0"/>
                </a:lnTo>
                <a:lnTo>
                  <a:pt x="7" y="2"/>
                </a:lnTo>
                <a:lnTo>
                  <a:pt x="7" y="2"/>
                </a:lnTo>
                <a:lnTo>
                  <a:pt x="11" y="9"/>
                </a:lnTo>
                <a:lnTo>
                  <a:pt x="11" y="9"/>
                </a:lnTo>
                <a:lnTo>
                  <a:pt x="1" y="7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65680" y="3330720"/>
            <a:ext cx="12600" cy="14040"/>
          </a:xfrm>
          <a:custGeom>
            <a:avLst/>
            <a:gdLst/>
            <a:ahLst/>
            <a:rect l="l" t="t" r="r" b="b"/>
            <a:pathLst>
              <a:path w="8" h="9">
                <a:moveTo>
                  <a:pt x="0" y="3"/>
                </a:moveTo>
                <a:lnTo>
                  <a:pt x="0" y="3"/>
                </a:lnTo>
                <a:lnTo>
                  <a:pt x="6" y="0"/>
                </a:lnTo>
                <a:lnTo>
                  <a:pt x="6" y="0"/>
                </a:lnTo>
                <a:lnTo>
                  <a:pt x="8" y="7"/>
                </a:lnTo>
                <a:lnTo>
                  <a:pt x="8" y="7"/>
                </a:lnTo>
                <a:lnTo>
                  <a:pt x="4" y="9"/>
                </a:lnTo>
                <a:lnTo>
                  <a:pt x="4" y="9"/>
                </a:lnTo>
                <a:lnTo>
                  <a:pt x="0" y="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57320" y="2552760"/>
            <a:ext cx="947520" cy="1062000"/>
          </a:xfrm>
          <a:custGeom>
            <a:avLst/>
            <a:gdLst/>
            <a:ahLst/>
            <a:rect l="l" t="t" r="r" b="b"/>
            <a:pathLst>
              <a:path w="597" h="669">
                <a:moveTo>
                  <a:pt x="19" y="536"/>
                </a:moveTo>
                <a:lnTo>
                  <a:pt x="19" y="536"/>
                </a:lnTo>
                <a:lnTo>
                  <a:pt x="12" y="506"/>
                </a:lnTo>
                <a:lnTo>
                  <a:pt x="4" y="476"/>
                </a:lnTo>
                <a:lnTo>
                  <a:pt x="2" y="445"/>
                </a:lnTo>
                <a:lnTo>
                  <a:pt x="0" y="413"/>
                </a:lnTo>
                <a:lnTo>
                  <a:pt x="2" y="381"/>
                </a:lnTo>
                <a:lnTo>
                  <a:pt x="6" y="351"/>
                </a:lnTo>
                <a:lnTo>
                  <a:pt x="12" y="323"/>
                </a:lnTo>
                <a:lnTo>
                  <a:pt x="21" y="295"/>
                </a:lnTo>
                <a:lnTo>
                  <a:pt x="21" y="295"/>
                </a:lnTo>
                <a:lnTo>
                  <a:pt x="21" y="295"/>
                </a:lnTo>
                <a:lnTo>
                  <a:pt x="25" y="297"/>
                </a:lnTo>
                <a:lnTo>
                  <a:pt x="25" y="297"/>
                </a:lnTo>
                <a:lnTo>
                  <a:pt x="21" y="295"/>
                </a:lnTo>
                <a:lnTo>
                  <a:pt x="21" y="295"/>
                </a:lnTo>
                <a:lnTo>
                  <a:pt x="36" y="265"/>
                </a:lnTo>
                <a:lnTo>
                  <a:pt x="55" y="237"/>
                </a:lnTo>
                <a:lnTo>
                  <a:pt x="55" y="237"/>
                </a:lnTo>
                <a:lnTo>
                  <a:pt x="55" y="237"/>
                </a:lnTo>
                <a:lnTo>
                  <a:pt x="73" y="207"/>
                </a:lnTo>
                <a:lnTo>
                  <a:pt x="94" y="179"/>
                </a:lnTo>
                <a:lnTo>
                  <a:pt x="94" y="179"/>
                </a:lnTo>
                <a:lnTo>
                  <a:pt x="94" y="179"/>
                </a:lnTo>
                <a:lnTo>
                  <a:pt x="94" y="179"/>
                </a:lnTo>
                <a:lnTo>
                  <a:pt x="118" y="151"/>
                </a:lnTo>
                <a:lnTo>
                  <a:pt x="144" y="127"/>
                </a:lnTo>
                <a:lnTo>
                  <a:pt x="144" y="127"/>
                </a:lnTo>
                <a:lnTo>
                  <a:pt x="178" y="99"/>
                </a:lnTo>
                <a:lnTo>
                  <a:pt x="216" y="74"/>
                </a:lnTo>
                <a:lnTo>
                  <a:pt x="253" y="54"/>
                </a:lnTo>
                <a:lnTo>
                  <a:pt x="292" y="37"/>
                </a:lnTo>
                <a:lnTo>
                  <a:pt x="333" y="22"/>
                </a:lnTo>
                <a:lnTo>
                  <a:pt x="374" y="13"/>
                </a:lnTo>
                <a:lnTo>
                  <a:pt x="417" y="5"/>
                </a:lnTo>
                <a:lnTo>
                  <a:pt x="461" y="0"/>
                </a:lnTo>
                <a:lnTo>
                  <a:pt x="461" y="0"/>
                </a:lnTo>
                <a:lnTo>
                  <a:pt x="504" y="0"/>
                </a:lnTo>
                <a:lnTo>
                  <a:pt x="545" y="0"/>
                </a:lnTo>
                <a:lnTo>
                  <a:pt x="545" y="0"/>
                </a:lnTo>
                <a:lnTo>
                  <a:pt x="597" y="0"/>
                </a:lnTo>
                <a:lnTo>
                  <a:pt x="597" y="7"/>
                </a:lnTo>
                <a:lnTo>
                  <a:pt x="597" y="3"/>
                </a:lnTo>
                <a:lnTo>
                  <a:pt x="597" y="7"/>
                </a:lnTo>
                <a:lnTo>
                  <a:pt x="597" y="7"/>
                </a:lnTo>
                <a:lnTo>
                  <a:pt x="545" y="7"/>
                </a:lnTo>
                <a:lnTo>
                  <a:pt x="545" y="5"/>
                </a:lnTo>
                <a:lnTo>
                  <a:pt x="545" y="5"/>
                </a:lnTo>
                <a:lnTo>
                  <a:pt x="545" y="7"/>
                </a:lnTo>
                <a:lnTo>
                  <a:pt x="545" y="7"/>
                </a:lnTo>
                <a:lnTo>
                  <a:pt x="545" y="7"/>
                </a:lnTo>
                <a:lnTo>
                  <a:pt x="545" y="7"/>
                </a:lnTo>
                <a:lnTo>
                  <a:pt x="504" y="7"/>
                </a:lnTo>
                <a:lnTo>
                  <a:pt x="462" y="7"/>
                </a:lnTo>
                <a:lnTo>
                  <a:pt x="462" y="7"/>
                </a:lnTo>
                <a:lnTo>
                  <a:pt x="419" y="13"/>
                </a:lnTo>
                <a:lnTo>
                  <a:pt x="376" y="20"/>
                </a:lnTo>
                <a:lnTo>
                  <a:pt x="335" y="30"/>
                </a:lnTo>
                <a:lnTo>
                  <a:pt x="296" y="43"/>
                </a:lnTo>
                <a:lnTo>
                  <a:pt x="257" y="61"/>
                </a:lnTo>
                <a:lnTo>
                  <a:pt x="219" y="80"/>
                </a:lnTo>
                <a:lnTo>
                  <a:pt x="184" y="104"/>
                </a:lnTo>
                <a:lnTo>
                  <a:pt x="150" y="132"/>
                </a:lnTo>
                <a:lnTo>
                  <a:pt x="150" y="132"/>
                </a:lnTo>
                <a:lnTo>
                  <a:pt x="124" y="157"/>
                </a:lnTo>
                <a:lnTo>
                  <a:pt x="100" y="183"/>
                </a:lnTo>
                <a:lnTo>
                  <a:pt x="100" y="183"/>
                </a:lnTo>
                <a:lnTo>
                  <a:pt x="100" y="183"/>
                </a:lnTo>
                <a:lnTo>
                  <a:pt x="81" y="211"/>
                </a:lnTo>
                <a:lnTo>
                  <a:pt x="60" y="241"/>
                </a:lnTo>
                <a:lnTo>
                  <a:pt x="60" y="241"/>
                </a:lnTo>
                <a:lnTo>
                  <a:pt x="60" y="241"/>
                </a:lnTo>
                <a:lnTo>
                  <a:pt x="60" y="241"/>
                </a:lnTo>
                <a:lnTo>
                  <a:pt x="44" y="269"/>
                </a:lnTo>
                <a:lnTo>
                  <a:pt x="29" y="299"/>
                </a:lnTo>
                <a:lnTo>
                  <a:pt x="29" y="299"/>
                </a:lnTo>
                <a:lnTo>
                  <a:pt x="29" y="299"/>
                </a:lnTo>
                <a:lnTo>
                  <a:pt x="19" y="325"/>
                </a:lnTo>
                <a:lnTo>
                  <a:pt x="14" y="353"/>
                </a:lnTo>
                <a:lnTo>
                  <a:pt x="10" y="383"/>
                </a:lnTo>
                <a:lnTo>
                  <a:pt x="8" y="413"/>
                </a:lnTo>
                <a:lnTo>
                  <a:pt x="8" y="445"/>
                </a:lnTo>
                <a:lnTo>
                  <a:pt x="12" y="475"/>
                </a:lnTo>
                <a:lnTo>
                  <a:pt x="17" y="504"/>
                </a:lnTo>
                <a:lnTo>
                  <a:pt x="27" y="534"/>
                </a:lnTo>
                <a:lnTo>
                  <a:pt x="27" y="534"/>
                </a:lnTo>
                <a:lnTo>
                  <a:pt x="36" y="561"/>
                </a:lnTo>
                <a:lnTo>
                  <a:pt x="49" y="585"/>
                </a:lnTo>
                <a:lnTo>
                  <a:pt x="64" y="607"/>
                </a:lnTo>
                <a:lnTo>
                  <a:pt x="79" y="628"/>
                </a:lnTo>
                <a:lnTo>
                  <a:pt x="98" y="643"/>
                </a:lnTo>
                <a:lnTo>
                  <a:pt x="107" y="648"/>
                </a:lnTo>
                <a:lnTo>
                  <a:pt x="118" y="654"/>
                </a:lnTo>
                <a:lnTo>
                  <a:pt x="130" y="658"/>
                </a:lnTo>
                <a:lnTo>
                  <a:pt x="141" y="660"/>
                </a:lnTo>
                <a:lnTo>
                  <a:pt x="152" y="662"/>
                </a:lnTo>
                <a:lnTo>
                  <a:pt x="163" y="662"/>
                </a:lnTo>
                <a:lnTo>
                  <a:pt x="163" y="662"/>
                </a:lnTo>
                <a:lnTo>
                  <a:pt x="163" y="662"/>
                </a:lnTo>
                <a:lnTo>
                  <a:pt x="178" y="660"/>
                </a:lnTo>
                <a:lnTo>
                  <a:pt x="195" y="656"/>
                </a:lnTo>
                <a:lnTo>
                  <a:pt x="210" y="650"/>
                </a:lnTo>
                <a:lnTo>
                  <a:pt x="227" y="643"/>
                </a:lnTo>
                <a:lnTo>
                  <a:pt x="260" y="624"/>
                </a:lnTo>
                <a:lnTo>
                  <a:pt x="294" y="604"/>
                </a:lnTo>
                <a:lnTo>
                  <a:pt x="330" y="583"/>
                </a:lnTo>
                <a:lnTo>
                  <a:pt x="365" y="562"/>
                </a:lnTo>
                <a:lnTo>
                  <a:pt x="384" y="555"/>
                </a:lnTo>
                <a:lnTo>
                  <a:pt x="403" y="547"/>
                </a:lnTo>
                <a:lnTo>
                  <a:pt x="423" y="540"/>
                </a:lnTo>
                <a:lnTo>
                  <a:pt x="442" y="536"/>
                </a:lnTo>
                <a:lnTo>
                  <a:pt x="442" y="536"/>
                </a:lnTo>
                <a:lnTo>
                  <a:pt x="434" y="546"/>
                </a:lnTo>
                <a:lnTo>
                  <a:pt x="434" y="546"/>
                </a:lnTo>
                <a:lnTo>
                  <a:pt x="416" y="551"/>
                </a:lnTo>
                <a:lnTo>
                  <a:pt x="399" y="557"/>
                </a:lnTo>
                <a:lnTo>
                  <a:pt x="363" y="574"/>
                </a:lnTo>
                <a:lnTo>
                  <a:pt x="328" y="592"/>
                </a:lnTo>
                <a:lnTo>
                  <a:pt x="294" y="613"/>
                </a:lnTo>
                <a:lnTo>
                  <a:pt x="260" y="633"/>
                </a:lnTo>
                <a:lnTo>
                  <a:pt x="229" y="650"/>
                </a:lnTo>
                <a:lnTo>
                  <a:pt x="212" y="656"/>
                </a:lnTo>
                <a:lnTo>
                  <a:pt x="195" y="662"/>
                </a:lnTo>
                <a:lnTo>
                  <a:pt x="180" y="667"/>
                </a:lnTo>
                <a:lnTo>
                  <a:pt x="163" y="669"/>
                </a:lnTo>
                <a:lnTo>
                  <a:pt x="163" y="665"/>
                </a:lnTo>
                <a:lnTo>
                  <a:pt x="163" y="665"/>
                </a:lnTo>
                <a:lnTo>
                  <a:pt x="163" y="669"/>
                </a:lnTo>
                <a:lnTo>
                  <a:pt x="163" y="669"/>
                </a:lnTo>
                <a:lnTo>
                  <a:pt x="163" y="669"/>
                </a:lnTo>
                <a:lnTo>
                  <a:pt x="158" y="669"/>
                </a:lnTo>
                <a:lnTo>
                  <a:pt x="158" y="669"/>
                </a:lnTo>
                <a:lnTo>
                  <a:pt x="144" y="669"/>
                </a:lnTo>
                <a:lnTo>
                  <a:pt x="133" y="665"/>
                </a:lnTo>
                <a:lnTo>
                  <a:pt x="122" y="663"/>
                </a:lnTo>
                <a:lnTo>
                  <a:pt x="111" y="658"/>
                </a:lnTo>
                <a:lnTo>
                  <a:pt x="101" y="652"/>
                </a:lnTo>
                <a:lnTo>
                  <a:pt x="90" y="647"/>
                </a:lnTo>
                <a:lnTo>
                  <a:pt x="72" y="630"/>
                </a:lnTo>
                <a:lnTo>
                  <a:pt x="57" y="611"/>
                </a:lnTo>
                <a:lnTo>
                  <a:pt x="42" y="589"/>
                </a:lnTo>
                <a:lnTo>
                  <a:pt x="29" y="562"/>
                </a:lnTo>
                <a:lnTo>
                  <a:pt x="19" y="536"/>
                </a:lnTo>
                <a:close/>
                <a:moveTo>
                  <a:pt x="98" y="181"/>
                </a:moveTo>
                <a:lnTo>
                  <a:pt x="98" y="181"/>
                </a:lnTo>
                <a:lnTo>
                  <a:pt x="94" y="179"/>
                </a:lnTo>
                <a:lnTo>
                  <a:pt x="98" y="181"/>
                </a:lnTo>
                <a:lnTo>
                  <a:pt x="98" y="181"/>
                </a:lnTo>
                <a:close/>
              </a:path>
            </a:pathLst>
          </a:custGeom>
          <a:solidFill>
            <a:srgbClr val="f1c8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57320" y="2552760"/>
            <a:ext cx="947520" cy="1062000"/>
          </a:xfrm>
          <a:custGeom>
            <a:avLst/>
            <a:gdLst/>
            <a:ahLst/>
            <a:rect l="l" t="t" r="r" b="b"/>
            <a:pathLst>
              <a:path w="597" h="669">
                <a:moveTo>
                  <a:pt x="19" y="536"/>
                </a:moveTo>
                <a:lnTo>
                  <a:pt x="19" y="536"/>
                </a:lnTo>
                <a:lnTo>
                  <a:pt x="12" y="506"/>
                </a:lnTo>
                <a:lnTo>
                  <a:pt x="4" y="476"/>
                </a:lnTo>
                <a:lnTo>
                  <a:pt x="2" y="445"/>
                </a:lnTo>
                <a:lnTo>
                  <a:pt x="0" y="413"/>
                </a:lnTo>
                <a:lnTo>
                  <a:pt x="2" y="381"/>
                </a:lnTo>
                <a:lnTo>
                  <a:pt x="6" y="351"/>
                </a:lnTo>
                <a:lnTo>
                  <a:pt x="12" y="323"/>
                </a:lnTo>
                <a:lnTo>
                  <a:pt x="21" y="295"/>
                </a:lnTo>
                <a:lnTo>
                  <a:pt x="21" y="295"/>
                </a:lnTo>
                <a:lnTo>
                  <a:pt x="21" y="295"/>
                </a:lnTo>
                <a:lnTo>
                  <a:pt x="25" y="297"/>
                </a:lnTo>
                <a:lnTo>
                  <a:pt x="25" y="297"/>
                </a:lnTo>
                <a:lnTo>
                  <a:pt x="21" y="295"/>
                </a:lnTo>
                <a:lnTo>
                  <a:pt x="21" y="295"/>
                </a:lnTo>
                <a:lnTo>
                  <a:pt x="36" y="265"/>
                </a:lnTo>
                <a:lnTo>
                  <a:pt x="55" y="237"/>
                </a:lnTo>
                <a:lnTo>
                  <a:pt x="55" y="237"/>
                </a:lnTo>
                <a:lnTo>
                  <a:pt x="55" y="237"/>
                </a:lnTo>
                <a:lnTo>
                  <a:pt x="73" y="207"/>
                </a:lnTo>
                <a:lnTo>
                  <a:pt x="94" y="179"/>
                </a:lnTo>
                <a:lnTo>
                  <a:pt x="94" y="179"/>
                </a:lnTo>
                <a:lnTo>
                  <a:pt x="94" y="179"/>
                </a:lnTo>
                <a:lnTo>
                  <a:pt x="94" y="179"/>
                </a:lnTo>
                <a:lnTo>
                  <a:pt x="118" y="151"/>
                </a:lnTo>
                <a:lnTo>
                  <a:pt x="144" y="127"/>
                </a:lnTo>
                <a:lnTo>
                  <a:pt x="144" y="127"/>
                </a:lnTo>
                <a:lnTo>
                  <a:pt x="178" y="99"/>
                </a:lnTo>
                <a:lnTo>
                  <a:pt x="216" y="74"/>
                </a:lnTo>
                <a:lnTo>
                  <a:pt x="253" y="54"/>
                </a:lnTo>
                <a:lnTo>
                  <a:pt x="292" y="37"/>
                </a:lnTo>
                <a:lnTo>
                  <a:pt x="333" y="22"/>
                </a:lnTo>
                <a:lnTo>
                  <a:pt x="374" y="13"/>
                </a:lnTo>
                <a:lnTo>
                  <a:pt x="417" y="5"/>
                </a:lnTo>
                <a:lnTo>
                  <a:pt x="461" y="0"/>
                </a:lnTo>
                <a:lnTo>
                  <a:pt x="461" y="0"/>
                </a:lnTo>
                <a:lnTo>
                  <a:pt x="504" y="0"/>
                </a:lnTo>
                <a:lnTo>
                  <a:pt x="545" y="0"/>
                </a:lnTo>
                <a:lnTo>
                  <a:pt x="545" y="0"/>
                </a:lnTo>
                <a:lnTo>
                  <a:pt x="597" y="0"/>
                </a:lnTo>
                <a:lnTo>
                  <a:pt x="597" y="7"/>
                </a:lnTo>
                <a:lnTo>
                  <a:pt x="597" y="3"/>
                </a:lnTo>
                <a:lnTo>
                  <a:pt x="597" y="7"/>
                </a:lnTo>
                <a:lnTo>
                  <a:pt x="597" y="7"/>
                </a:lnTo>
                <a:lnTo>
                  <a:pt x="545" y="7"/>
                </a:lnTo>
                <a:lnTo>
                  <a:pt x="545" y="5"/>
                </a:lnTo>
                <a:lnTo>
                  <a:pt x="545" y="5"/>
                </a:lnTo>
                <a:lnTo>
                  <a:pt x="545" y="7"/>
                </a:lnTo>
                <a:lnTo>
                  <a:pt x="545" y="7"/>
                </a:lnTo>
                <a:lnTo>
                  <a:pt x="545" y="7"/>
                </a:lnTo>
                <a:lnTo>
                  <a:pt x="545" y="7"/>
                </a:lnTo>
                <a:lnTo>
                  <a:pt x="504" y="7"/>
                </a:lnTo>
                <a:lnTo>
                  <a:pt x="462" y="7"/>
                </a:lnTo>
                <a:lnTo>
                  <a:pt x="462" y="7"/>
                </a:lnTo>
                <a:lnTo>
                  <a:pt x="419" y="13"/>
                </a:lnTo>
                <a:lnTo>
                  <a:pt x="376" y="20"/>
                </a:lnTo>
                <a:lnTo>
                  <a:pt x="335" y="30"/>
                </a:lnTo>
                <a:lnTo>
                  <a:pt x="296" y="43"/>
                </a:lnTo>
                <a:lnTo>
                  <a:pt x="257" y="61"/>
                </a:lnTo>
                <a:lnTo>
                  <a:pt x="219" y="80"/>
                </a:lnTo>
                <a:lnTo>
                  <a:pt x="184" y="104"/>
                </a:lnTo>
                <a:lnTo>
                  <a:pt x="150" y="132"/>
                </a:lnTo>
                <a:lnTo>
                  <a:pt x="150" y="132"/>
                </a:lnTo>
                <a:lnTo>
                  <a:pt x="124" y="157"/>
                </a:lnTo>
                <a:lnTo>
                  <a:pt x="100" y="183"/>
                </a:lnTo>
                <a:lnTo>
                  <a:pt x="100" y="183"/>
                </a:lnTo>
                <a:lnTo>
                  <a:pt x="100" y="183"/>
                </a:lnTo>
                <a:lnTo>
                  <a:pt x="81" y="211"/>
                </a:lnTo>
                <a:lnTo>
                  <a:pt x="60" y="241"/>
                </a:lnTo>
                <a:lnTo>
                  <a:pt x="60" y="241"/>
                </a:lnTo>
                <a:lnTo>
                  <a:pt x="60" y="241"/>
                </a:lnTo>
                <a:lnTo>
                  <a:pt x="60" y="241"/>
                </a:lnTo>
                <a:lnTo>
                  <a:pt x="44" y="269"/>
                </a:lnTo>
                <a:lnTo>
                  <a:pt x="29" y="299"/>
                </a:lnTo>
                <a:lnTo>
                  <a:pt x="29" y="299"/>
                </a:lnTo>
                <a:lnTo>
                  <a:pt x="29" y="299"/>
                </a:lnTo>
                <a:lnTo>
                  <a:pt x="19" y="325"/>
                </a:lnTo>
                <a:lnTo>
                  <a:pt x="14" y="353"/>
                </a:lnTo>
                <a:lnTo>
                  <a:pt x="10" y="383"/>
                </a:lnTo>
                <a:lnTo>
                  <a:pt x="8" y="413"/>
                </a:lnTo>
                <a:lnTo>
                  <a:pt x="8" y="445"/>
                </a:lnTo>
                <a:lnTo>
                  <a:pt x="12" y="475"/>
                </a:lnTo>
                <a:lnTo>
                  <a:pt x="17" y="504"/>
                </a:lnTo>
                <a:lnTo>
                  <a:pt x="27" y="534"/>
                </a:lnTo>
                <a:lnTo>
                  <a:pt x="27" y="534"/>
                </a:lnTo>
                <a:lnTo>
                  <a:pt x="36" y="561"/>
                </a:lnTo>
                <a:lnTo>
                  <a:pt x="49" y="585"/>
                </a:lnTo>
                <a:lnTo>
                  <a:pt x="64" y="607"/>
                </a:lnTo>
                <a:lnTo>
                  <a:pt x="79" y="628"/>
                </a:lnTo>
                <a:lnTo>
                  <a:pt x="98" y="643"/>
                </a:lnTo>
                <a:lnTo>
                  <a:pt x="107" y="648"/>
                </a:lnTo>
                <a:lnTo>
                  <a:pt x="118" y="654"/>
                </a:lnTo>
                <a:lnTo>
                  <a:pt x="130" y="658"/>
                </a:lnTo>
                <a:lnTo>
                  <a:pt x="141" y="660"/>
                </a:lnTo>
                <a:lnTo>
                  <a:pt x="152" y="662"/>
                </a:lnTo>
                <a:lnTo>
                  <a:pt x="163" y="662"/>
                </a:lnTo>
                <a:lnTo>
                  <a:pt x="163" y="662"/>
                </a:lnTo>
                <a:lnTo>
                  <a:pt x="163" y="662"/>
                </a:lnTo>
                <a:lnTo>
                  <a:pt x="178" y="660"/>
                </a:lnTo>
                <a:lnTo>
                  <a:pt x="195" y="656"/>
                </a:lnTo>
                <a:lnTo>
                  <a:pt x="210" y="650"/>
                </a:lnTo>
                <a:lnTo>
                  <a:pt x="227" y="643"/>
                </a:lnTo>
                <a:lnTo>
                  <a:pt x="260" y="624"/>
                </a:lnTo>
                <a:lnTo>
                  <a:pt x="294" y="604"/>
                </a:lnTo>
                <a:lnTo>
                  <a:pt x="330" y="583"/>
                </a:lnTo>
                <a:lnTo>
                  <a:pt x="365" y="562"/>
                </a:lnTo>
                <a:lnTo>
                  <a:pt x="384" y="555"/>
                </a:lnTo>
                <a:lnTo>
                  <a:pt x="403" y="547"/>
                </a:lnTo>
                <a:lnTo>
                  <a:pt x="423" y="540"/>
                </a:lnTo>
                <a:lnTo>
                  <a:pt x="442" y="536"/>
                </a:lnTo>
                <a:lnTo>
                  <a:pt x="442" y="536"/>
                </a:lnTo>
                <a:lnTo>
                  <a:pt x="434" y="546"/>
                </a:lnTo>
                <a:lnTo>
                  <a:pt x="434" y="546"/>
                </a:lnTo>
                <a:lnTo>
                  <a:pt x="416" y="551"/>
                </a:lnTo>
                <a:lnTo>
                  <a:pt x="399" y="557"/>
                </a:lnTo>
                <a:lnTo>
                  <a:pt x="363" y="574"/>
                </a:lnTo>
                <a:lnTo>
                  <a:pt x="328" y="592"/>
                </a:lnTo>
                <a:lnTo>
                  <a:pt x="294" y="613"/>
                </a:lnTo>
                <a:lnTo>
                  <a:pt x="260" y="633"/>
                </a:lnTo>
                <a:lnTo>
                  <a:pt x="229" y="650"/>
                </a:lnTo>
                <a:lnTo>
                  <a:pt x="212" y="656"/>
                </a:lnTo>
                <a:lnTo>
                  <a:pt x="195" y="662"/>
                </a:lnTo>
                <a:lnTo>
                  <a:pt x="180" y="667"/>
                </a:lnTo>
                <a:lnTo>
                  <a:pt x="163" y="669"/>
                </a:lnTo>
                <a:lnTo>
                  <a:pt x="163" y="665"/>
                </a:lnTo>
                <a:lnTo>
                  <a:pt x="163" y="665"/>
                </a:lnTo>
                <a:lnTo>
                  <a:pt x="163" y="669"/>
                </a:lnTo>
                <a:lnTo>
                  <a:pt x="163" y="669"/>
                </a:lnTo>
                <a:lnTo>
                  <a:pt x="163" y="669"/>
                </a:lnTo>
                <a:lnTo>
                  <a:pt x="158" y="669"/>
                </a:lnTo>
                <a:lnTo>
                  <a:pt x="158" y="669"/>
                </a:lnTo>
                <a:lnTo>
                  <a:pt x="144" y="669"/>
                </a:lnTo>
                <a:lnTo>
                  <a:pt x="133" y="665"/>
                </a:lnTo>
                <a:lnTo>
                  <a:pt x="122" y="663"/>
                </a:lnTo>
                <a:lnTo>
                  <a:pt x="111" y="658"/>
                </a:lnTo>
                <a:lnTo>
                  <a:pt x="101" y="652"/>
                </a:lnTo>
                <a:lnTo>
                  <a:pt x="90" y="647"/>
                </a:lnTo>
                <a:lnTo>
                  <a:pt x="72" y="630"/>
                </a:lnTo>
                <a:lnTo>
                  <a:pt x="57" y="611"/>
                </a:lnTo>
                <a:lnTo>
                  <a:pt x="42" y="589"/>
                </a:lnTo>
                <a:lnTo>
                  <a:pt x="29" y="562"/>
                </a:lnTo>
                <a:lnTo>
                  <a:pt x="19" y="53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06360" y="283680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2"/>
                </a:moveTo>
                <a:lnTo>
                  <a:pt x="4" y="2"/>
                </a:lnTo>
                <a:lnTo>
                  <a:pt x="0" y="0"/>
                </a:lnTo>
                <a:lnTo>
                  <a:pt x="4" y="2"/>
                </a:lnTo>
                <a:lnTo>
                  <a:pt x="4" y="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46360" y="3400560"/>
            <a:ext cx="27000" cy="19080"/>
          </a:xfrm>
          <a:custGeom>
            <a:avLst/>
            <a:gdLst/>
            <a:ahLst/>
            <a:rect l="l" t="t" r="r" b="b"/>
            <a:pathLst>
              <a:path w="17" h="12">
                <a:moveTo>
                  <a:pt x="8" y="2"/>
                </a:moveTo>
                <a:lnTo>
                  <a:pt x="8" y="2"/>
                </a:lnTo>
                <a:lnTo>
                  <a:pt x="17" y="0"/>
                </a:lnTo>
                <a:lnTo>
                  <a:pt x="17" y="0"/>
                </a:lnTo>
                <a:lnTo>
                  <a:pt x="10" y="10"/>
                </a:lnTo>
                <a:lnTo>
                  <a:pt x="10" y="10"/>
                </a:lnTo>
                <a:lnTo>
                  <a:pt x="0" y="12"/>
                </a:lnTo>
                <a:lnTo>
                  <a:pt x="0" y="12"/>
                </a:lnTo>
                <a:lnTo>
                  <a:pt x="8" y="2"/>
                </a:lnTo>
                <a:close/>
              </a:path>
            </a:pathLst>
          </a:custGeom>
          <a:solidFill>
            <a:srgbClr val="dd7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46360" y="3400560"/>
            <a:ext cx="27000" cy="19080"/>
          </a:xfrm>
          <a:custGeom>
            <a:avLst/>
            <a:gdLst/>
            <a:ahLst/>
            <a:rect l="l" t="t" r="r" b="b"/>
            <a:pathLst>
              <a:path w="17" h="12">
                <a:moveTo>
                  <a:pt x="8" y="2"/>
                </a:moveTo>
                <a:lnTo>
                  <a:pt x="8" y="2"/>
                </a:lnTo>
                <a:lnTo>
                  <a:pt x="17" y="0"/>
                </a:lnTo>
                <a:lnTo>
                  <a:pt x="17" y="0"/>
                </a:lnTo>
                <a:lnTo>
                  <a:pt x="10" y="10"/>
                </a:lnTo>
                <a:lnTo>
                  <a:pt x="10" y="10"/>
                </a:lnTo>
                <a:lnTo>
                  <a:pt x="0" y="12"/>
                </a:lnTo>
                <a:lnTo>
                  <a:pt x="0" y="12"/>
                </a:lnTo>
                <a:lnTo>
                  <a:pt x="8" y="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95480" y="3444840"/>
            <a:ext cx="320760" cy="136440"/>
          </a:xfrm>
          <a:custGeom>
            <a:avLst/>
            <a:gdLst/>
            <a:ahLst/>
            <a:rect l="l" t="t" r="r" b="b"/>
            <a:pathLst>
              <a:path w="202" h="86">
                <a:moveTo>
                  <a:pt x="202" y="86"/>
                </a:moveTo>
                <a:lnTo>
                  <a:pt x="202" y="86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dc7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16240" y="35812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95480" y="344484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602160" y="4356000"/>
            <a:ext cx="54000" cy="152640"/>
          </a:xfrm>
          <a:custGeom>
            <a:avLst/>
            <a:gdLst/>
            <a:ahLst/>
            <a:rect l="l" t="t" r="r" b="b"/>
            <a:pathLst>
              <a:path w="34" h="96">
                <a:moveTo>
                  <a:pt x="0" y="15"/>
                </a:moveTo>
                <a:lnTo>
                  <a:pt x="0" y="15"/>
                </a:lnTo>
                <a:lnTo>
                  <a:pt x="0" y="15"/>
                </a:lnTo>
                <a:lnTo>
                  <a:pt x="4" y="15"/>
                </a:lnTo>
                <a:lnTo>
                  <a:pt x="0" y="15"/>
                </a:lnTo>
                <a:lnTo>
                  <a:pt x="0" y="15"/>
                </a:lnTo>
                <a:lnTo>
                  <a:pt x="0" y="6"/>
                </a:lnTo>
                <a:lnTo>
                  <a:pt x="0" y="6"/>
                </a:lnTo>
                <a:lnTo>
                  <a:pt x="8" y="0"/>
                </a:lnTo>
                <a:lnTo>
                  <a:pt x="8" y="0"/>
                </a:lnTo>
                <a:lnTo>
                  <a:pt x="8" y="15"/>
                </a:lnTo>
                <a:lnTo>
                  <a:pt x="8" y="15"/>
                </a:lnTo>
                <a:lnTo>
                  <a:pt x="8" y="15"/>
                </a:lnTo>
                <a:lnTo>
                  <a:pt x="11" y="34"/>
                </a:lnTo>
                <a:lnTo>
                  <a:pt x="19" y="55"/>
                </a:lnTo>
                <a:lnTo>
                  <a:pt x="34" y="94"/>
                </a:lnTo>
                <a:lnTo>
                  <a:pt x="30" y="96"/>
                </a:lnTo>
                <a:lnTo>
                  <a:pt x="34" y="94"/>
                </a:lnTo>
                <a:lnTo>
                  <a:pt x="26" y="96"/>
                </a:lnTo>
                <a:lnTo>
                  <a:pt x="26" y="96"/>
                </a:lnTo>
                <a:lnTo>
                  <a:pt x="11" y="56"/>
                </a:lnTo>
                <a:lnTo>
                  <a:pt x="6" y="36"/>
                </a:lnTo>
                <a:lnTo>
                  <a:pt x="0" y="15"/>
                </a:lnTo>
                <a:close/>
              </a:path>
            </a:pathLst>
          </a:custGeom>
          <a:solidFill>
            <a:srgbClr val="f1c8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02160" y="4356000"/>
            <a:ext cx="54000" cy="152640"/>
          </a:xfrm>
          <a:custGeom>
            <a:avLst/>
            <a:gdLst/>
            <a:ahLst/>
            <a:rect l="l" t="t" r="r" b="b"/>
            <a:pathLst>
              <a:path w="34" h="96">
                <a:moveTo>
                  <a:pt x="0" y="15"/>
                </a:moveTo>
                <a:lnTo>
                  <a:pt x="0" y="15"/>
                </a:lnTo>
                <a:lnTo>
                  <a:pt x="0" y="15"/>
                </a:lnTo>
                <a:lnTo>
                  <a:pt x="4" y="15"/>
                </a:lnTo>
                <a:lnTo>
                  <a:pt x="0" y="15"/>
                </a:lnTo>
                <a:lnTo>
                  <a:pt x="0" y="15"/>
                </a:lnTo>
                <a:lnTo>
                  <a:pt x="0" y="6"/>
                </a:lnTo>
                <a:lnTo>
                  <a:pt x="0" y="6"/>
                </a:lnTo>
                <a:lnTo>
                  <a:pt x="8" y="0"/>
                </a:lnTo>
                <a:lnTo>
                  <a:pt x="8" y="0"/>
                </a:lnTo>
                <a:lnTo>
                  <a:pt x="8" y="15"/>
                </a:lnTo>
                <a:lnTo>
                  <a:pt x="8" y="15"/>
                </a:lnTo>
                <a:lnTo>
                  <a:pt x="8" y="15"/>
                </a:lnTo>
                <a:lnTo>
                  <a:pt x="11" y="34"/>
                </a:lnTo>
                <a:lnTo>
                  <a:pt x="19" y="55"/>
                </a:lnTo>
                <a:lnTo>
                  <a:pt x="34" y="94"/>
                </a:lnTo>
                <a:lnTo>
                  <a:pt x="30" y="96"/>
                </a:lnTo>
                <a:lnTo>
                  <a:pt x="34" y="94"/>
                </a:lnTo>
                <a:lnTo>
                  <a:pt x="26" y="96"/>
                </a:lnTo>
                <a:lnTo>
                  <a:pt x="26" y="96"/>
                </a:lnTo>
                <a:lnTo>
                  <a:pt x="11" y="56"/>
                </a:lnTo>
                <a:lnTo>
                  <a:pt x="6" y="36"/>
                </a:lnTo>
                <a:lnTo>
                  <a:pt x="0" y="1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02160" y="4344840"/>
            <a:ext cx="12600" cy="20880"/>
          </a:xfrm>
          <a:custGeom>
            <a:avLst/>
            <a:gdLst/>
            <a:ahLst/>
            <a:rect l="l" t="t" r="r" b="b"/>
            <a:pathLst>
              <a:path w="8" h="13">
                <a:moveTo>
                  <a:pt x="0" y="6"/>
                </a:moveTo>
                <a:lnTo>
                  <a:pt x="0" y="6"/>
                </a:lnTo>
                <a:lnTo>
                  <a:pt x="8" y="0"/>
                </a:lnTo>
                <a:lnTo>
                  <a:pt x="8" y="0"/>
                </a:lnTo>
                <a:lnTo>
                  <a:pt x="8" y="7"/>
                </a:lnTo>
                <a:lnTo>
                  <a:pt x="8" y="7"/>
                </a:lnTo>
                <a:lnTo>
                  <a:pt x="0" y="13"/>
                </a:lnTo>
                <a:lnTo>
                  <a:pt x="0" y="13"/>
                </a:lnTo>
                <a:lnTo>
                  <a:pt x="0" y="6"/>
                </a:lnTo>
                <a:close/>
              </a:path>
            </a:pathLst>
          </a:custGeom>
          <a:solidFill>
            <a:srgbClr val="dd7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02160" y="4344840"/>
            <a:ext cx="12600" cy="20880"/>
          </a:xfrm>
          <a:custGeom>
            <a:avLst/>
            <a:gdLst/>
            <a:ahLst/>
            <a:rect l="l" t="t" r="r" b="b"/>
            <a:pathLst>
              <a:path w="8" h="13">
                <a:moveTo>
                  <a:pt x="0" y="6"/>
                </a:moveTo>
                <a:lnTo>
                  <a:pt x="0" y="6"/>
                </a:lnTo>
                <a:lnTo>
                  <a:pt x="8" y="0"/>
                </a:lnTo>
                <a:lnTo>
                  <a:pt x="8" y="0"/>
                </a:lnTo>
                <a:lnTo>
                  <a:pt x="8" y="7"/>
                </a:lnTo>
                <a:lnTo>
                  <a:pt x="8" y="7"/>
                </a:lnTo>
                <a:lnTo>
                  <a:pt x="0" y="13"/>
                </a:lnTo>
                <a:lnTo>
                  <a:pt x="0" y="13"/>
                </a:lnTo>
                <a:lnTo>
                  <a:pt x="0" y="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68920" y="4027320"/>
            <a:ext cx="576360" cy="222480"/>
          </a:xfrm>
          <a:custGeom>
            <a:avLst/>
            <a:gdLst/>
            <a:ahLst/>
            <a:rect l="l" t="t" r="r" b="b"/>
            <a:pathLst>
              <a:path w="363" h="140">
                <a:moveTo>
                  <a:pt x="361" y="140"/>
                </a:moveTo>
                <a:lnTo>
                  <a:pt x="361" y="140"/>
                </a:lnTo>
                <a:close/>
                <a:moveTo>
                  <a:pt x="215" y="58"/>
                </a:moveTo>
                <a:lnTo>
                  <a:pt x="215" y="58"/>
                </a:lnTo>
                <a:lnTo>
                  <a:pt x="159" y="41"/>
                </a:lnTo>
                <a:lnTo>
                  <a:pt x="161" y="34"/>
                </a:lnTo>
                <a:lnTo>
                  <a:pt x="161" y="34"/>
                </a:lnTo>
                <a:lnTo>
                  <a:pt x="217" y="52"/>
                </a:lnTo>
                <a:lnTo>
                  <a:pt x="219" y="52"/>
                </a:lnTo>
                <a:lnTo>
                  <a:pt x="219" y="52"/>
                </a:lnTo>
                <a:lnTo>
                  <a:pt x="219" y="52"/>
                </a:lnTo>
                <a:lnTo>
                  <a:pt x="254" y="78"/>
                </a:lnTo>
                <a:lnTo>
                  <a:pt x="292" y="101"/>
                </a:lnTo>
                <a:lnTo>
                  <a:pt x="327" y="120"/>
                </a:lnTo>
                <a:lnTo>
                  <a:pt x="363" y="133"/>
                </a:lnTo>
                <a:lnTo>
                  <a:pt x="361" y="140"/>
                </a:lnTo>
                <a:lnTo>
                  <a:pt x="361" y="140"/>
                </a:lnTo>
                <a:lnTo>
                  <a:pt x="325" y="127"/>
                </a:lnTo>
                <a:lnTo>
                  <a:pt x="288" y="108"/>
                </a:lnTo>
                <a:lnTo>
                  <a:pt x="250" y="86"/>
                </a:lnTo>
                <a:lnTo>
                  <a:pt x="215" y="58"/>
                </a:lnTo>
                <a:close/>
                <a:moveTo>
                  <a:pt x="217" y="56"/>
                </a:moveTo>
                <a:lnTo>
                  <a:pt x="219" y="52"/>
                </a:lnTo>
                <a:lnTo>
                  <a:pt x="217" y="54"/>
                </a:lnTo>
                <a:lnTo>
                  <a:pt x="217" y="56"/>
                </a:lnTo>
                <a:lnTo>
                  <a:pt x="217" y="56"/>
                </a:lnTo>
                <a:close/>
                <a:moveTo>
                  <a:pt x="161" y="37"/>
                </a:moveTo>
                <a:lnTo>
                  <a:pt x="161" y="34"/>
                </a:lnTo>
                <a:lnTo>
                  <a:pt x="161" y="37"/>
                </a:lnTo>
                <a:close/>
                <a:moveTo>
                  <a:pt x="2" y="7"/>
                </a:moveTo>
                <a:lnTo>
                  <a:pt x="2" y="7"/>
                </a:lnTo>
                <a:lnTo>
                  <a:pt x="0" y="0"/>
                </a:lnTo>
                <a:lnTo>
                  <a:pt x="0" y="0"/>
                </a:lnTo>
                <a:lnTo>
                  <a:pt x="41" y="5"/>
                </a:lnTo>
                <a:lnTo>
                  <a:pt x="82" y="15"/>
                </a:lnTo>
                <a:lnTo>
                  <a:pt x="121" y="24"/>
                </a:lnTo>
                <a:lnTo>
                  <a:pt x="161" y="34"/>
                </a:lnTo>
                <a:lnTo>
                  <a:pt x="159" y="41"/>
                </a:lnTo>
                <a:lnTo>
                  <a:pt x="159" y="41"/>
                </a:lnTo>
                <a:lnTo>
                  <a:pt x="120" y="32"/>
                </a:lnTo>
                <a:lnTo>
                  <a:pt x="80" y="22"/>
                </a:lnTo>
                <a:lnTo>
                  <a:pt x="41" y="15"/>
                </a:lnTo>
                <a:lnTo>
                  <a:pt x="2" y="7"/>
                </a:lnTo>
                <a:close/>
              </a:path>
            </a:pathLst>
          </a:custGeom>
          <a:solidFill>
            <a:srgbClr val="f1c8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42040" y="42498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1280" y="4081320"/>
            <a:ext cx="324000" cy="168480"/>
          </a:xfrm>
          <a:custGeom>
            <a:avLst/>
            <a:gdLst/>
            <a:ahLst/>
            <a:rect l="l" t="t" r="r" b="b"/>
            <a:pathLst>
              <a:path w="204" h="106">
                <a:moveTo>
                  <a:pt x="56" y="24"/>
                </a:moveTo>
                <a:lnTo>
                  <a:pt x="56" y="24"/>
                </a:lnTo>
                <a:lnTo>
                  <a:pt x="0" y="7"/>
                </a:lnTo>
                <a:lnTo>
                  <a:pt x="2" y="0"/>
                </a:lnTo>
                <a:lnTo>
                  <a:pt x="2" y="0"/>
                </a:lnTo>
                <a:lnTo>
                  <a:pt x="58" y="18"/>
                </a:lnTo>
                <a:lnTo>
                  <a:pt x="60" y="18"/>
                </a:lnTo>
                <a:lnTo>
                  <a:pt x="60" y="18"/>
                </a:lnTo>
                <a:lnTo>
                  <a:pt x="60" y="18"/>
                </a:lnTo>
                <a:lnTo>
                  <a:pt x="95" y="44"/>
                </a:lnTo>
                <a:lnTo>
                  <a:pt x="133" y="67"/>
                </a:lnTo>
                <a:lnTo>
                  <a:pt x="168" y="86"/>
                </a:lnTo>
                <a:lnTo>
                  <a:pt x="204" y="99"/>
                </a:lnTo>
                <a:lnTo>
                  <a:pt x="202" y="106"/>
                </a:lnTo>
                <a:lnTo>
                  <a:pt x="202" y="106"/>
                </a:lnTo>
                <a:lnTo>
                  <a:pt x="166" y="93"/>
                </a:lnTo>
                <a:lnTo>
                  <a:pt x="129" y="74"/>
                </a:lnTo>
                <a:lnTo>
                  <a:pt x="91" y="52"/>
                </a:lnTo>
                <a:lnTo>
                  <a:pt x="56" y="2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13440" y="4110120"/>
            <a:ext cx="3240" cy="612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lnTo>
                  <a:pt x="2" y="0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24520" y="4081320"/>
            <a:ext cx="144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68920" y="4027320"/>
            <a:ext cx="255600" cy="65160"/>
          </a:xfrm>
          <a:custGeom>
            <a:avLst/>
            <a:gdLst/>
            <a:ahLst/>
            <a:rect l="l" t="t" r="r" b="b"/>
            <a:pathLst>
              <a:path w="161" h="41">
                <a:moveTo>
                  <a:pt x="2" y="7"/>
                </a:moveTo>
                <a:lnTo>
                  <a:pt x="2" y="7"/>
                </a:lnTo>
                <a:lnTo>
                  <a:pt x="0" y="0"/>
                </a:lnTo>
                <a:lnTo>
                  <a:pt x="0" y="0"/>
                </a:lnTo>
                <a:lnTo>
                  <a:pt x="41" y="5"/>
                </a:lnTo>
                <a:lnTo>
                  <a:pt x="82" y="15"/>
                </a:lnTo>
                <a:lnTo>
                  <a:pt x="121" y="24"/>
                </a:lnTo>
                <a:lnTo>
                  <a:pt x="161" y="34"/>
                </a:lnTo>
                <a:lnTo>
                  <a:pt x="159" y="41"/>
                </a:lnTo>
                <a:lnTo>
                  <a:pt x="159" y="41"/>
                </a:lnTo>
                <a:lnTo>
                  <a:pt x="120" y="32"/>
                </a:lnTo>
                <a:lnTo>
                  <a:pt x="80" y="22"/>
                </a:lnTo>
                <a:lnTo>
                  <a:pt x="41" y="15"/>
                </a:lnTo>
                <a:lnTo>
                  <a:pt x="2" y="7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257720" y="3990960"/>
            <a:ext cx="504720" cy="44640"/>
          </a:xfrm>
          <a:custGeom>
            <a:avLst/>
            <a:gdLst/>
            <a:ahLst/>
            <a:rect l="l" t="t" r="r" b="b"/>
            <a:pathLst>
              <a:path w="318" h="28">
                <a:moveTo>
                  <a:pt x="68" y="12"/>
                </a:moveTo>
                <a:lnTo>
                  <a:pt x="68" y="8"/>
                </a:lnTo>
                <a:lnTo>
                  <a:pt x="68" y="8"/>
                </a:lnTo>
                <a:lnTo>
                  <a:pt x="68" y="12"/>
                </a:lnTo>
                <a:lnTo>
                  <a:pt x="68" y="12"/>
                </a:lnTo>
                <a:lnTo>
                  <a:pt x="68" y="12"/>
                </a:lnTo>
                <a:lnTo>
                  <a:pt x="68" y="12"/>
                </a:lnTo>
                <a:lnTo>
                  <a:pt x="0" y="8"/>
                </a:lnTo>
                <a:lnTo>
                  <a:pt x="2" y="0"/>
                </a:lnTo>
                <a:lnTo>
                  <a:pt x="2" y="0"/>
                </a:lnTo>
                <a:lnTo>
                  <a:pt x="68" y="4"/>
                </a:lnTo>
                <a:lnTo>
                  <a:pt x="68" y="4"/>
                </a:lnTo>
                <a:lnTo>
                  <a:pt x="131" y="6"/>
                </a:lnTo>
                <a:lnTo>
                  <a:pt x="195" y="8"/>
                </a:lnTo>
                <a:lnTo>
                  <a:pt x="256" y="14"/>
                </a:lnTo>
                <a:lnTo>
                  <a:pt x="316" y="21"/>
                </a:lnTo>
                <a:lnTo>
                  <a:pt x="316" y="21"/>
                </a:lnTo>
                <a:lnTo>
                  <a:pt x="318" y="28"/>
                </a:lnTo>
                <a:lnTo>
                  <a:pt x="318" y="28"/>
                </a:lnTo>
                <a:lnTo>
                  <a:pt x="256" y="21"/>
                </a:lnTo>
                <a:lnTo>
                  <a:pt x="195" y="15"/>
                </a:lnTo>
                <a:lnTo>
                  <a:pt x="133" y="14"/>
                </a:lnTo>
                <a:lnTo>
                  <a:pt x="68" y="12"/>
                </a:lnTo>
                <a:close/>
              </a:path>
            </a:pathLst>
          </a:custGeom>
          <a:solidFill>
            <a:srgbClr val="dc7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57720" y="3990960"/>
            <a:ext cx="504720" cy="44640"/>
          </a:xfrm>
          <a:custGeom>
            <a:avLst/>
            <a:gdLst/>
            <a:ahLst/>
            <a:rect l="l" t="t" r="r" b="b"/>
            <a:pathLst>
              <a:path w="318" h="28">
                <a:moveTo>
                  <a:pt x="68" y="12"/>
                </a:moveTo>
                <a:lnTo>
                  <a:pt x="68" y="8"/>
                </a:lnTo>
                <a:lnTo>
                  <a:pt x="68" y="8"/>
                </a:lnTo>
                <a:lnTo>
                  <a:pt x="68" y="12"/>
                </a:lnTo>
                <a:lnTo>
                  <a:pt x="68" y="12"/>
                </a:lnTo>
                <a:lnTo>
                  <a:pt x="68" y="12"/>
                </a:lnTo>
                <a:lnTo>
                  <a:pt x="68" y="12"/>
                </a:lnTo>
                <a:lnTo>
                  <a:pt x="0" y="8"/>
                </a:lnTo>
                <a:lnTo>
                  <a:pt x="2" y="0"/>
                </a:lnTo>
                <a:lnTo>
                  <a:pt x="2" y="0"/>
                </a:lnTo>
                <a:lnTo>
                  <a:pt x="68" y="4"/>
                </a:lnTo>
                <a:lnTo>
                  <a:pt x="68" y="4"/>
                </a:lnTo>
                <a:lnTo>
                  <a:pt x="131" y="6"/>
                </a:lnTo>
                <a:lnTo>
                  <a:pt x="195" y="8"/>
                </a:lnTo>
                <a:lnTo>
                  <a:pt x="256" y="14"/>
                </a:lnTo>
                <a:lnTo>
                  <a:pt x="316" y="21"/>
                </a:lnTo>
                <a:lnTo>
                  <a:pt x="316" y="21"/>
                </a:lnTo>
                <a:lnTo>
                  <a:pt x="318" y="28"/>
                </a:lnTo>
                <a:lnTo>
                  <a:pt x="318" y="28"/>
                </a:lnTo>
                <a:lnTo>
                  <a:pt x="256" y="21"/>
                </a:lnTo>
                <a:lnTo>
                  <a:pt x="195" y="15"/>
                </a:lnTo>
                <a:lnTo>
                  <a:pt x="133" y="14"/>
                </a:lnTo>
                <a:lnTo>
                  <a:pt x="68" y="1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59200" y="4024440"/>
            <a:ext cx="12960" cy="14040"/>
          </a:xfrm>
          <a:custGeom>
            <a:avLst/>
            <a:gdLst/>
            <a:ahLst/>
            <a:rect l="l" t="t" r="r" b="b"/>
            <a:pathLst>
              <a:path w="8" h="9">
                <a:moveTo>
                  <a:pt x="2" y="7"/>
                </a:moveTo>
                <a:lnTo>
                  <a:pt x="2" y="7"/>
                </a:lnTo>
                <a:lnTo>
                  <a:pt x="0" y="0"/>
                </a:lnTo>
                <a:lnTo>
                  <a:pt x="0" y="0"/>
                </a:lnTo>
                <a:lnTo>
                  <a:pt x="6" y="2"/>
                </a:lnTo>
                <a:lnTo>
                  <a:pt x="6" y="2"/>
                </a:lnTo>
                <a:lnTo>
                  <a:pt x="8" y="9"/>
                </a:lnTo>
                <a:lnTo>
                  <a:pt x="8" y="9"/>
                </a:lnTo>
                <a:lnTo>
                  <a:pt x="2" y="7"/>
                </a:lnTo>
                <a:close/>
              </a:path>
            </a:pathLst>
          </a:custGeom>
          <a:solidFill>
            <a:srgbClr val="dd7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59200" y="4024440"/>
            <a:ext cx="12960" cy="14040"/>
          </a:xfrm>
          <a:custGeom>
            <a:avLst/>
            <a:gdLst/>
            <a:ahLst/>
            <a:rect l="l" t="t" r="r" b="b"/>
            <a:pathLst>
              <a:path w="8" h="9">
                <a:moveTo>
                  <a:pt x="2" y="7"/>
                </a:moveTo>
                <a:lnTo>
                  <a:pt x="2" y="7"/>
                </a:lnTo>
                <a:lnTo>
                  <a:pt x="0" y="0"/>
                </a:lnTo>
                <a:lnTo>
                  <a:pt x="0" y="0"/>
                </a:lnTo>
                <a:lnTo>
                  <a:pt x="6" y="2"/>
                </a:lnTo>
                <a:lnTo>
                  <a:pt x="6" y="2"/>
                </a:lnTo>
                <a:lnTo>
                  <a:pt x="8" y="9"/>
                </a:lnTo>
                <a:lnTo>
                  <a:pt x="8" y="9"/>
                </a:lnTo>
                <a:lnTo>
                  <a:pt x="2" y="7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56000" y="3649680"/>
            <a:ext cx="804960" cy="353880"/>
          </a:xfrm>
          <a:custGeom>
            <a:avLst/>
            <a:gdLst/>
            <a:ahLst/>
            <a:rect l="l" t="t" r="r" b="b"/>
            <a:pathLst>
              <a:path w="507" h="223">
                <a:moveTo>
                  <a:pt x="62" y="79"/>
                </a:moveTo>
                <a:lnTo>
                  <a:pt x="62" y="79"/>
                </a:lnTo>
                <a:lnTo>
                  <a:pt x="62" y="79"/>
                </a:lnTo>
                <a:lnTo>
                  <a:pt x="64" y="77"/>
                </a:lnTo>
                <a:lnTo>
                  <a:pt x="64" y="77"/>
                </a:lnTo>
                <a:lnTo>
                  <a:pt x="62" y="79"/>
                </a:lnTo>
                <a:lnTo>
                  <a:pt x="62" y="79"/>
                </a:lnTo>
                <a:lnTo>
                  <a:pt x="49" y="68"/>
                </a:lnTo>
                <a:lnTo>
                  <a:pt x="36" y="55"/>
                </a:lnTo>
                <a:lnTo>
                  <a:pt x="23" y="40"/>
                </a:lnTo>
                <a:lnTo>
                  <a:pt x="13" y="25"/>
                </a:lnTo>
                <a:lnTo>
                  <a:pt x="19" y="21"/>
                </a:lnTo>
                <a:lnTo>
                  <a:pt x="19" y="21"/>
                </a:lnTo>
                <a:lnTo>
                  <a:pt x="30" y="36"/>
                </a:lnTo>
                <a:lnTo>
                  <a:pt x="42" y="49"/>
                </a:lnTo>
                <a:lnTo>
                  <a:pt x="53" y="62"/>
                </a:lnTo>
                <a:lnTo>
                  <a:pt x="68" y="73"/>
                </a:lnTo>
                <a:lnTo>
                  <a:pt x="68" y="73"/>
                </a:lnTo>
                <a:lnTo>
                  <a:pt x="68" y="73"/>
                </a:lnTo>
                <a:lnTo>
                  <a:pt x="92" y="90"/>
                </a:lnTo>
                <a:lnTo>
                  <a:pt x="118" y="105"/>
                </a:lnTo>
                <a:lnTo>
                  <a:pt x="143" y="118"/>
                </a:lnTo>
                <a:lnTo>
                  <a:pt x="171" y="131"/>
                </a:lnTo>
                <a:lnTo>
                  <a:pt x="223" y="154"/>
                </a:lnTo>
                <a:lnTo>
                  <a:pt x="279" y="172"/>
                </a:lnTo>
                <a:lnTo>
                  <a:pt x="333" y="187"/>
                </a:lnTo>
                <a:lnTo>
                  <a:pt x="391" y="199"/>
                </a:lnTo>
                <a:lnTo>
                  <a:pt x="449" y="208"/>
                </a:lnTo>
                <a:lnTo>
                  <a:pt x="507" y="215"/>
                </a:lnTo>
                <a:lnTo>
                  <a:pt x="505" y="223"/>
                </a:lnTo>
                <a:lnTo>
                  <a:pt x="505" y="219"/>
                </a:lnTo>
                <a:lnTo>
                  <a:pt x="505" y="223"/>
                </a:lnTo>
                <a:lnTo>
                  <a:pt x="505" y="223"/>
                </a:lnTo>
                <a:lnTo>
                  <a:pt x="447" y="215"/>
                </a:lnTo>
                <a:lnTo>
                  <a:pt x="389" y="206"/>
                </a:lnTo>
                <a:lnTo>
                  <a:pt x="333" y="195"/>
                </a:lnTo>
                <a:lnTo>
                  <a:pt x="275" y="180"/>
                </a:lnTo>
                <a:lnTo>
                  <a:pt x="221" y="161"/>
                </a:lnTo>
                <a:lnTo>
                  <a:pt x="167" y="139"/>
                </a:lnTo>
                <a:lnTo>
                  <a:pt x="141" y="126"/>
                </a:lnTo>
                <a:lnTo>
                  <a:pt x="114" y="111"/>
                </a:lnTo>
                <a:lnTo>
                  <a:pt x="88" y="96"/>
                </a:lnTo>
                <a:lnTo>
                  <a:pt x="62" y="79"/>
                </a:lnTo>
                <a:close/>
                <a:moveTo>
                  <a:pt x="17" y="23"/>
                </a:moveTo>
                <a:lnTo>
                  <a:pt x="19" y="21"/>
                </a:lnTo>
                <a:lnTo>
                  <a:pt x="17" y="23"/>
                </a:lnTo>
                <a:close/>
                <a:moveTo>
                  <a:pt x="505" y="223"/>
                </a:moveTo>
                <a:lnTo>
                  <a:pt x="505" y="223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10" y="2"/>
                </a:lnTo>
                <a:lnTo>
                  <a:pt x="10" y="2"/>
                </a:lnTo>
                <a:lnTo>
                  <a:pt x="19" y="21"/>
                </a:lnTo>
                <a:lnTo>
                  <a:pt x="13" y="25"/>
                </a:lnTo>
                <a:lnTo>
                  <a:pt x="13" y="25"/>
                </a:lnTo>
                <a:lnTo>
                  <a:pt x="6" y="14"/>
                </a:lnTo>
                <a:lnTo>
                  <a:pt x="0" y="0"/>
                </a:lnTo>
                <a:close/>
              </a:path>
            </a:pathLst>
          </a:custGeom>
          <a:solidFill>
            <a:srgbClr val="dc7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76520" y="3683160"/>
            <a:ext cx="784440" cy="320400"/>
          </a:xfrm>
          <a:custGeom>
            <a:avLst/>
            <a:gdLst/>
            <a:ahLst/>
            <a:rect l="l" t="t" r="r" b="b"/>
            <a:pathLst>
              <a:path w="494" h="202">
                <a:moveTo>
                  <a:pt x="49" y="58"/>
                </a:moveTo>
                <a:lnTo>
                  <a:pt x="49" y="58"/>
                </a:lnTo>
                <a:lnTo>
                  <a:pt x="49" y="58"/>
                </a:lnTo>
                <a:lnTo>
                  <a:pt x="51" y="56"/>
                </a:lnTo>
                <a:lnTo>
                  <a:pt x="51" y="56"/>
                </a:lnTo>
                <a:lnTo>
                  <a:pt x="49" y="58"/>
                </a:lnTo>
                <a:lnTo>
                  <a:pt x="49" y="58"/>
                </a:lnTo>
                <a:lnTo>
                  <a:pt x="36" y="47"/>
                </a:lnTo>
                <a:lnTo>
                  <a:pt x="23" y="34"/>
                </a:lnTo>
                <a:lnTo>
                  <a:pt x="10" y="19"/>
                </a:lnTo>
                <a:lnTo>
                  <a:pt x="0" y="4"/>
                </a:lnTo>
                <a:lnTo>
                  <a:pt x="6" y="0"/>
                </a:lnTo>
                <a:lnTo>
                  <a:pt x="6" y="0"/>
                </a:lnTo>
                <a:lnTo>
                  <a:pt x="17" y="15"/>
                </a:lnTo>
                <a:lnTo>
                  <a:pt x="29" y="28"/>
                </a:lnTo>
                <a:lnTo>
                  <a:pt x="40" y="41"/>
                </a:lnTo>
                <a:lnTo>
                  <a:pt x="55" y="52"/>
                </a:lnTo>
                <a:lnTo>
                  <a:pt x="55" y="52"/>
                </a:lnTo>
                <a:lnTo>
                  <a:pt x="55" y="52"/>
                </a:lnTo>
                <a:lnTo>
                  <a:pt x="79" y="69"/>
                </a:lnTo>
                <a:lnTo>
                  <a:pt x="105" y="84"/>
                </a:lnTo>
                <a:lnTo>
                  <a:pt x="130" y="97"/>
                </a:lnTo>
                <a:lnTo>
                  <a:pt x="158" y="110"/>
                </a:lnTo>
                <a:lnTo>
                  <a:pt x="210" y="133"/>
                </a:lnTo>
                <a:lnTo>
                  <a:pt x="266" y="151"/>
                </a:lnTo>
                <a:lnTo>
                  <a:pt x="320" y="166"/>
                </a:lnTo>
                <a:lnTo>
                  <a:pt x="378" y="178"/>
                </a:lnTo>
                <a:lnTo>
                  <a:pt x="436" y="187"/>
                </a:lnTo>
                <a:lnTo>
                  <a:pt x="494" y="194"/>
                </a:lnTo>
                <a:lnTo>
                  <a:pt x="492" y="202"/>
                </a:lnTo>
                <a:lnTo>
                  <a:pt x="492" y="198"/>
                </a:lnTo>
                <a:lnTo>
                  <a:pt x="492" y="202"/>
                </a:lnTo>
                <a:lnTo>
                  <a:pt x="492" y="202"/>
                </a:lnTo>
                <a:lnTo>
                  <a:pt x="434" y="194"/>
                </a:lnTo>
                <a:lnTo>
                  <a:pt x="376" y="185"/>
                </a:lnTo>
                <a:lnTo>
                  <a:pt x="320" y="174"/>
                </a:lnTo>
                <a:lnTo>
                  <a:pt x="262" y="159"/>
                </a:lnTo>
                <a:lnTo>
                  <a:pt x="208" y="140"/>
                </a:lnTo>
                <a:lnTo>
                  <a:pt x="154" y="118"/>
                </a:lnTo>
                <a:lnTo>
                  <a:pt x="128" y="105"/>
                </a:lnTo>
                <a:lnTo>
                  <a:pt x="101" y="90"/>
                </a:lnTo>
                <a:lnTo>
                  <a:pt x="75" y="75"/>
                </a:lnTo>
                <a:lnTo>
                  <a:pt x="49" y="5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83000" y="368316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0" y="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57720" y="40035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56000" y="3649680"/>
            <a:ext cx="30240" cy="39600"/>
          </a:xfrm>
          <a:custGeom>
            <a:avLst/>
            <a:gdLst/>
            <a:ahLst/>
            <a:rect l="l" t="t" r="r" b="b"/>
            <a:pathLst>
              <a:path w="19" h="25">
                <a:moveTo>
                  <a:pt x="0" y="0"/>
                </a:moveTo>
                <a:lnTo>
                  <a:pt x="0" y="0"/>
                </a:lnTo>
                <a:lnTo>
                  <a:pt x="10" y="2"/>
                </a:lnTo>
                <a:lnTo>
                  <a:pt x="10" y="2"/>
                </a:lnTo>
                <a:lnTo>
                  <a:pt x="19" y="21"/>
                </a:lnTo>
                <a:lnTo>
                  <a:pt x="13" y="25"/>
                </a:lnTo>
                <a:lnTo>
                  <a:pt x="13" y="25"/>
                </a:lnTo>
                <a:lnTo>
                  <a:pt x="6" y="14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00200" y="2665440"/>
            <a:ext cx="1136880" cy="345960"/>
          </a:xfrm>
          <a:custGeom>
            <a:avLst/>
            <a:gdLst/>
            <a:ahLst/>
            <a:rect l="l" t="t" r="r" b="b"/>
            <a:pathLst>
              <a:path w="716" h="218">
                <a:moveTo>
                  <a:pt x="0" y="5"/>
                </a:moveTo>
                <a:lnTo>
                  <a:pt x="4" y="0"/>
                </a:lnTo>
                <a:lnTo>
                  <a:pt x="2" y="3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55" y="37"/>
                </a:lnTo>
                <a:lnTo>
                  <a:pt x="103" y="76"/>
                </a:lnTo>
                <a:lnTo>
                  <a:pt x="152" y="116"/>
                </a:lnTo>
                <a:lnTo>
                  <a:pt x="176" y="132"/>
                </a:lnTo>
                <a:lnTo>
                  <a:pt x="200" y="149"/>
                </a:lnTo>
                <a:lnTo>
                  <a:pt x="225" y="164"/>
                </a:lnTo>
                <a:lnTo>
                  <a:pt x="251" y="177"/>
                </a:lnTo>
                <a:lnTo>
                  <a:pt x="277" y="190"/>
                </a:lnTo>
                <a:lnTo>
                  <a:pt x="305" y="200"/>
                </a:lnTo>
                <a:lnTo>
                  <a:pt x="333" y="205"/>
                </a:lnTo>
                <a:lnTo>
                  <a:pt x="363" y="209"/>
                </a:lnTo>
                <a:lnTo>
                  <a:pt x="393" y="211"/>
                </a:lnTo>
                <a:lnTo>
                  <a:pt x="425" y="209"/>
                </a:lnTo>
                <a:lnTo>
                  <a:pt x="425" y="209"/>
                </a:lnTo>
                <a:lnTo>
                  <a:pt x="425" y="209"/>
                </a:lnTo>
                <a:lnTo>
                  <a:pt x="425" y="209"/>
                </a:lnTo>
                <a:lnTo>
                  <a:pt x="473" y="202"/>
                </a:lnTo>
                <a:lnTo>
                  <a:pt x="473" y="202"/>
                </a:lnTo>
                <a:lnTo>
                  <a:pt x="473" y="202"/>
                </a:lnTo>
                <a:lnTo>
                  <a:pt x="473" y="202"/>
                </a:lnTo>
                <a:lnTo>
                  <a:pt x="529" y="200"/>
                </a:lnTo>
                <a:lnTo>
                  <a:pt x="529" y="200"/>
                </a:lnTo>
                <a:lnTo>
                  <a:pt x="529" y="200"/>
                </a:lnTo>
                <a:lnTo>
                  <a:pt x="529" y="200"/>
                </a:lnTo>
                <a:lnTo>
                  <a:pt x="619" y="200"/>
                </a:lnTo>
                <a:lnTo>
                  <a:pt x="668" y="204"/>
                </a:lnTo>
                <a:lnTo>
                  <a:pt x="716" y="207"/>
                </a:lnTo>
                <a:lnTo>
                  <a:pt x="716" y="207"/>
                </a:lnTo>
                <a:lnTo>
                  <a:pt x="713" y="215"/>
                </a:lnTo>
                <a:lnTo>
                  <a:pt x="713" y="215"/>
                </a:lnTo>
                <a:lnTo>
                  <a:pt x="666" y="211"/>
                </a:lnTo>
                <a:lnTo>
                  <a:pt x="619" y="207"/>
                </a:lnTo>
                <a:lnTo>
                  <a:pt x="529" y="207"/>
                </a:lnTo>
                <a:lnTo>
                  <a:pt x="529" y="207"/>
                </a:lnTo>
                <a:lnTo>
                  <a:pt x="475" y="209"/>
                </a:lnTo>
                <a:lnTo>
                  <a:pt x="475" y="209"/>
                </a:lnTo>
                <a:lnTo>
                  <a:pt x="475" y="209"/>
                </a:lnTo>
                <a:lnTo>
                  <a:pt x="425" y="217"/>
                </a:lnTo>
                <a:lnTo>
                  <a:pt x="425" y="217"/>
                </a:lnTo>
                <a:lnTo>
                  <a:pt x="425" y="217"/>
                </a:lnTo>
                <a:lnTo>
                  <a:pt x="406" y="218"/>
                </a:lnTo>
                <a:lnTo>
                  <a:pt x="385" y="218"/>
                </a:lnTo>
                <a:lnTo>
                  <a:pt x="385" y="218"/>
                </a:lnTo>
                <a:lnTo>
                  <a:pt x="357" y="217"/>
                </a:lnTo>
                <a:lnTo>
                  <a:pt x="329" y="213"/>
                </a:lnTo>
                <a:lnTo>
                  <a:pt x="303" y="207"/>
                </a:lnTo>
                <a:lnTo>
                  <a:pt x="277" y="198"/>
                </a:lnTo>
                <a:lnTo>
                  <a:pt x="253" y="187"/>
                </a:lnTo>
                <a:lnTo>
                  <a:pt x="228" y="175"/>
                </a:lnTo>
                <a:lnTo>
                  <a:pt x="204" y="161"/>
                </a:lnTo>
                <a:lnTo>
                  <a:pt x="182" y="146"/>
                </a:lnTo>
                <a:lnTo>
                  <a:pt x="135" y="112"/>
                </a:lnTo>
                <a:lnTo>
                  <a:pt x="90" y="76"/>
                </a:lnTo>
                <a:lnTo>
                  <a:pt x="45" y="41"/>
                </a:lnTo>
                <a:lnTo>
                  <a:pt x="0" y="5"/>
                </a:lnTo>
                <a:close/>
                <a:moveTo>
                  <a:pt x="425" y="211"/>
                </a:moveTo>
                <a:lnTo>
                  <a:pt x="425" y="211"/>
                </a:lnTo>
                <a:lnTo>
                  <a:pt x="425" y="209"/>
                </a:lnTo>
                <a:lnTo>
                  <a:pt x="425" y="211"/>
                </a:lnTo>
                <a:close/>
                <a:moveTo>
                  <a:pt x="529" y="204"/>
                </a:moveTo>
                <a:lnTo>
                  <a:pt x="529" y="200"/>
                </a:lnTo>
                <a:lnTo>
                  <a:pt x="529" y="204"/>
                </a:lnTo>
                <a:lnTo>
                  <a:pt x="529" y="200"/>
                </a:lnTo>
                <a:lnTo>
                  <a:pt x="529" y="204"/>
                </a:lnTo>
                <a:lnTo>
                  <a:pt x="529" y="204"/>
                </a:lnTo>
                <a:close/>
              </a:path>
            </a:pathLst>
          </a:custGeom>
          <a:solidFill>
            <a:srgbClr val="f1c8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00200" y="2665440"/>
            <a:ext cx="1136880" cy="345960"/>
          </a:xfrm>
          <a:custGeom>
            <a:avLst/>
            <a:gdLst/>
            <a:ahLst/>
            <a:rect l="l" t="t" r="r" b="b"/>
            <a:pathLst>
              <a:path w="716" h="218">
                <a:moveTo>
                  <a:pt x="0" y="5"/>
                </a:moveTo>
                <a:lnTo>
                  <a:pt x="4" y="0"/>
                </a:lnTo>
                <a:lnTo>
                  <a:pt x="2" y="3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55" y="37"/>
                </a:lnTo>
                <a:lnTo>
                  <a:pt x="103" y="76"/>
                </a:lnTo>
                <a:lnTo>
                  <a:pt x="152" y="116"/>
                </a:lnTo>
                <a:lnTo>
                  <a:pt x="176" y="132"/>
                </a:lnTo>
                <a:lnTo>
                  <a:pt x="200" y="149"/>
                </a:lnTo>
                <a:lnTo>
                  <a:pt x="225" y="164"/>
                </a:lnTo>
                <a:lnTo>
                  <a:pt x="251" y="177"/>
                </a:lnTo>
                <a:lnTo>
                  <a:pt x="277" y="190"/>
                </a:lnTo>
                <a:lnTo>
                  <a:pt x="305" y="200"/>
                </a:lnTo>
                <a:lnTo>
                  <a:pt x="333" y="205"/>
                </a:lnTo>
                <a:lnTo>
                  <a:pt x="363" y="209"/>
                </a:lnTo>
                <a:lnTo>
                  <a:pt x="393" y="211"/>
                </a:lnTo>
                <a:lnTo>
                  <a:pt x="425" y="209"/>
                </a:lnTo>
                <a:lnTo>
                  <a:pt x="425" y="209"/>
                </a:lnTo>
                <a:lnTo>
                  <a:pt x="425" y="209"/>
                </a:lnTo>
                <a:lnTo>
                  <a:pt x="425" y="209"/>
                </a:lnTo>
                <a:lnTo>
                  <a:pt x="473" y="202"/>
                </a:lnTo>
                <a:lnTo>
                  <a:pt x="473" y="202"/>
                </a:lnTo>
                <a:lnTo>
                  <a:pt x="473" y="202"/>
                </a:lnTo>
                <a:lnTo>
                  <a:pt x="473" y="202"/>
                </a:lnTo>
                <a:lnTo>
                  <a:pt x="529" y="200"/>
                </a:lnTo>
                <a:lnTo>
                  <a:pt x="529" y="200"/>
                </a:lnTo>
                <a:lnTo>
                  <a:pt x="529" y="200"/>
                </a:lnTo>
                <a:lnTo>
                  <a:pt x="529" y="200"/>
                </a:lnTo>
                <a:lnTo>
                  <a:pt x="619" y="200"/>
                </a:lnTo>
                <a:lnTo>
                  <a:pt x="668" y="204"/>
                </a:lnTo>
                <a:lnTo>
                  <a:pt x="716" y="207"/>
                </a:lnTo>
                <a:lnTo>
                  <a:pt x="716" y="207"/>
                </a:lnTo>
                <a:lnTo>
                  <a:pt x="713" y="215"/>
                </a:lnTo>
                <a:lnTo>
                  <a:pt x="713" y="215"/>
                </a:lnTo>
                <a:lnTo>
                  <a:pt x="666" y="211"/>
                </a:lnTo>
                <a:lnTo>
                  <a:pt x="619" y="207"/>
                </a:lnTo>
                <a:lnTo>
                  <a:pt x="529" y="207"/>
                </a:lnTo>
                <a:lnTo>
                  <a:pt x="529" y="207"/>
                </a:lnTo>
                <a:lnTo>
                  <a:pt x="475" y="209"/>
                </a:lnTo>
                <a:lnTo>
                  <a:pt x="475" y="209"/>
                </a:lnTo>
                <a:lnTo>
                  <a:pt x="475" y="209"/>
                </a:lnTo>
                <a:lnTo>
                  <a:pt x="425" y="217"/>
                </a:lnTo>
                <a:lnTo>
                  <a:pt x="425" y="217"/>
                </a:lnTo>
                <a:lnTo>
                  <a:pt x="425" y="217"/>
                </a:lnTo>
                <a:lnTo>
                  <a:pt x="406" y="218"/>
                </a:lnTo>
                <a:lnTo>
                  <a:pt x="385" y="218"/>
                </a:lnTo>
                <a:lnTo>
                  <a:pt x="385" y="218"/>
                </a:lnTo>
                <a:lnTo>
                  <a:pt x="357" y="217"/>
                </a:lnTo>
                <a:lnTo>
                  <a:pt x="329" y="213"/>
                </a:lnTo>
                <a:lnTo>
                  <a:pt x="303" y="207"/>
                </a:lnTo>
                <a:lnTo>
                  <a:pt x="277" y="198"/>
                </a:lnTo>
                <a:lnTo>
                  <a:pt x="253" y="187"/>
                </a:lnTo>
                <a:lnTo>
                  <a:pt x="228" y="175"/>
                </a:lnTo>
                <a:lnTo>
                  <a:pt x="204" y="161"/>
                </a:lnTo>
                <a:lnTo>
                  <a:pt x="182" y="146"/>
                </a:lnTo>
                <a:lnTo>
                  <a:pt x="135" y="112"/>
                </a:lnTo>
                <a:lnTo>
                  <a:pt x="90" y="76"/>
                </a:lnTo>
                <a:lnTo>
                  <a:pt x="45" y="41"/>
                </a:lnTo>
                <a:lnTo>
                  <a:pt x="0" y="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74840" y="2997360"/>
            <a:ext cx="1800" cy="288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40080" y="2982960"/>
            <a:ext cx="1440" cy="648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32040" y="29941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8"/>
                </a:moveTo>
                <a:lnTo>
                  <a:pt x="0" y="8"/>
                </a:lnTo>
                <a:lnTo>
                  <a:pt x="3" y="0"/>
                </a:lnTo>
                <a:lnTo>
                  <a:pt x="3" y="0"/>
                </a:lnTo>
                <a:lnTo>
                  <a:pt x="9" y="2"/>
                </a:lnTo>
                <a:lnTo>
                  <a:pt x="9" y="2"/>
                </a:lnTo>
                <a:lnTo>
                  <a:pt x="5" y="10"/>
                </a:lnTo>
                <a:lnTo>
                  <a:pt x="5" y="10"/>
                </a:lnTo>
                <a:lnTo>
                  <a:pt x="0" y="8"/>
                </a:lnTo>
                <a:close/>
              </a:path>
            </a:pathLst>
          </a:custGeom>
          <a:solidFill>
            <a:srgbClr val="dd7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32040" y="29941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8"/>
                </a:moveTo>
                <a:lnTo>
                  <a:pt x="0" y="8"/>
                </a:lnTo>
                <a:lnTo>
                  <a:pt x="3" y="0"/>
                </a:lnTo>
                <a:lnTo>
                  <a:pt x="3" y="0"/>
                </a:lnTo>
                <a:lnTo>
                  <a:pt x="9" y="2"/>
                </a:lnTo>
                <a:lnTo>
                  <a:pt x="9" y="2"/>
                </a:lnTo>
                <a:lnTo>
                  <a:pt x="5" y="10"/>
                </a:lnTo>
                <a:lnTo>
                  <a:pt x="5" y="10"/>
                </a:lnTo>
                <a:lnTo>
                  <a:pt x="0" y="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2560" y="319392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922560" y="319392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004840" y="2552760"/>
            <a:ext cx="501840" cy="120600"/>
          </a:xfrm>
          <a:custGeom>
            <a:avLst/>
            <a:gdLst/>
            <a:ahLst/>
            <a:rect l="l" t="t" r="r" b="b"/>
            <a:pathLst>
              <a:path w="316" h="76">
                <a:moveTo>
                  <a:pt x="49" y="11"/>
                </a:moveTo>
                <a:lnTo>
                  <a:pt x="49" y="11"/>
                </a:lnTo>
                <a:lnTo>
                  <a:pt x="49" y="11"/>
                </a:lnTo>
                <a:lnTo>
                  <a:pt x="49" y="11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49" y="3"/>
                </a:lnTo>
                <a:lnTo>
                  <a:pt x="49" y="3"/>
                </a:lnTo>
                <a:lnTo>
                  <a:pt x="49" y="3"/>
                </a:lnTo>
                <a:lnTo>
                  <a:pt x="120" y="9"/>
                </a:lnTo>
                <a:lnTo>
                  <a:pt x="155" y="15"/>
                </a:lnTo>
                <a:lnTo>
                  <a:pt x="189" y="20"/>
                </a:lnTo>
                <a:lnTo>
                  <a:pt x="223" y="28"/>
                </a:lnTo>
                <a:lnTo>
                  <a:pt x="256" y="39"/>
                </a:lnTo>
                <a:lnTo>
                  <a:pt x="288" y="54"/>
                </a:lnTo>
                <a:lnTo>
                  <a:pt x="303" y="61"/>
                </a:lnTo>
                <a:lnTo>
                  <a:pt x="316" y="71"/>
                </a:lnTo>
                <a:lnTo>
                  <a:pt x="312" y="76"/>
                </a:lnTo>
                <a:lnTo>
                  <a:pt x="312" y="76"/>
                </a:lnTo>
                <a:lnTo>
                  <a:pt x="284" y="60"/>
                </a:lnTo>
                <a:lnTo>
                  <a:pt x="252" y="46"/>
                </a:lnTo>
                <a:lnTo>
                  <a:pt x="221" y="35"/>
                </a:lnTo>
                <a:lnTo>
                  <a:pt x="189" y="28"/>
                </a:lnTo>
                <a:lnTo>
                  <a:pt x="153" y="22"/>
                </a:lnTo>
                <a:lnTo>
                  <a:pt x="120" y="16"/>
                </a:lnTo>
                <a:lnTo>
                  <a:pt x="49" y="11"/>
                </a:lnTo>
                <a:close/>
                <a:moveTo>
                  <a:pt x="49" y="11"/>
                </a:moveTo>
                <a:lnTo>
                  <a:pt x="49" y="5"/>
                </a:lnTo>
                <a:lnTo>
                  <a:pt x="49" y="7"/>
                </a:lnTo>
                <a:lnTo>
                  <a:pt x="49" y="11"/>
                </a:lnTo>
                <a:close/>
                <a:moveTo>
                  <a:pt x="0" y="7"/>
                </a:moveTo>
                <a:lnTo>
                  <a:pt x="0" y="7"/>
                </a:lnTo>
                <a:close/>
              </a:path>
            </a:pathLst>
          </a:custGeom>
          <a:solidFill>
            <a:srgbClr val="f1c8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004840" y="2552760"/>
            <a:ext cx="501840" cy="120600"/>
          </a:xfrm>
          <a:custGeom>
            <a:avLst/>
            <a:gdLst/>
            <a:ahLst/>
            <a:rect l="l" t="t" r="r" b="b"/>
            <a:pathLst>
              <a:path w="316" h="76">
                <a:moveTo>
                  <a:pt x="49" y="11"/>
                </a:moveTo>
                <a:lnTo>
                  <a:pt x="49" y="11"/>
                </a:lnTo>
                <a:lnTo>
                  <a:pt x="49" y="11"/>
                </a:lnTo>
                <a:lnTo>
                  <a:pt x="49" y="11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49" y="3"/>
                </a:lnTo>
                <a:lnTo>
                  <a:pt x="49" y="3"/>
                </a:lnTo>
                <a:lnTo>
                  <a:pt x="49" y="3"/>
                </a:lnTo>
                <a:lnTo>
                  <a:pt x="120" y="9"/>
                </a:lnTo>
                <a:lnTo>
                  <a:pt x="155" y="15"/>
                </a:lnTo>
                <a:lnTo>
                  <a:pt x="189" y="20"/>
                </a:lnTo>
                <a:lnTo>
                  <a:pt x="223" y="28"/>
                </a:lnTo>
                <a:lnTo>
                  <a:pt x="256" y="39"/>
                </a:lnTo>
                <a:lnTo>
                  <a:pt x="288" y="54"/>
                </a:lnTo>
                <a:lnTo>
                  <a:pt x="303" y="61"/>
                </a:lnTo>
                <a:lnTo>
                  <a:pt x="316" y="71"/>
                </a:lnTo>
                <a:lnTo>
                  <a:pt x="312" y="76"/>
                </a:lnTo>
                <a:lnTo>
                  <a:pt x="312" y="76"/>
                </a:lnTo>
                <a:lnTo>
                  <a:pt x="284" y="60"/>
                </a:lnTo>
                <a:lnTo>
                  <a:pt x="252" y="46"/>
                </a:lnTo>
                <a:lnTo>
                  <a:pt x="221" y="35"/>
                </a:lnTo>
                <a:lnTo>
                  <a:pt x="189" y="28"/>
                </a:lnTo>
                <a:lnTo>
                  <a:pt x="153" y="22"/>
                </a:lnTo>
                <a:lnTo>
                  <a:pt x="120" y="16"/>
                </a:lnTo>
                <a:lnTo>
                  <a:pt x="49" y="1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82960" y="2560680"/>
            <a:ext cx="1440" cy="936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6"/>
                </a:moveTo>
                <a:lnTo>
                  <a:pt x="0" y="0"/>
                </a:lnTo>
                <a:lnTo>
                  <a:pt x="0" y="2"/>
                </a:lnTo>
                <a:lnTo>
                  <a:pt x="0" y="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04840" y="256392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94280" y="1646280"/>
            <a:ext cx="3268440" cy="760320"/>
          </a:xfrm>
          <a:custGeom>
            <a:avLst/>
            <a:gdLst/>
            <a:ahLst/>
            <a:rect l="l" t="t" r="r" b="b"/>
            <a:pathLst>
              <a:path w="2059" h="479">
                <a:moveTo>
                  <a:pt x="45" y="449"/>
                </a:moveTo>
                <a:lnTo>
                  <a:pt x="45" y="449"/>
                </a:lnTo>
                <a:lnTo>
                  <a:pt x="30" y="440"/>
                </a:lnTo>
                <a:lnTo>
                  <a:pt x="19" y="430"/>
                </a:lnTo>
                <a:lnTo>
                  <a:pt x="12" y="417"/>
                </a:lnTo>
                <a:lnTo>
                  <a:pt x="4" y="404"/>
                </a:lnTo>
                <a:lnTo>
                  <a:pt x="0" y="391"/>
                </a:lnTo>
                <a:lnTo>
                  <a:pt x="0" y="378"/>
                </a:lnTo>
                <a:lnTo>
                  <a:pt x="0" y="363"/>
                </a:lnTo>
                <a:lnTo>
                  <a:pt x="2" y="350"/>
                </a:lnTo>
                <a:lnTo>
                  <a:pt x="2" y="350"/>
                </a:lnTo>
                <a:lnTo>
                  <a:pt x="14" y="320"/>
                </a:lnTo>
                <a:lnTo>
                  <a:pt x="28" y="290"/>
                </a:lnTo>
                <a:lnTo>
                  <a:pt x="45" y="264"/>
                </a:lnTo>
                <a:lnTo>
                  <a:pt x="64" y="238"/>
                </a:lnTo>
                <a:lnTo>
                  <a:pt x="83" y="214"/>
                </a:lnTo>
                <a:lnTo>
                  <a:pt x="105" y="191"/>
                </a:lnTo>
                <a:lnTo>
                  <a:pt x="128" y="169"/>
                </a:lnTo>
                <a:lnTo>
                  <a:pt x="152" y="150"/>
                </a:lnTo>
                <a:lnTo>
                  <a:pt x="178" y="131"/>
                </a:lnTo>
                <a:lnTo>
                  <a:pt x="204" y="114"/>
                </a:lnTo>
                <a:lnTo>
                  <a:pt x="232" y="98"/>
                </a:lnTo>
                <a:lnTo>
                  <a:pt x="260" y="83"/>
                </a:lnTo>
                <a:lnTo>
                  <a:pt x="288" y="70"/>
                </a:lnTo>
                <a:lnTo>
                  <a:pt x="318" y="58"/>
                </a:lnTo>
                <a:lnTo>
                  <a:pt x="348" y="49"/>
                </a:lnTo>
                <a:lnTo>
                  <a:pt x="378" y="40"/>
                </a:lnTo>
                <a:lnTo>
                  <a:pt x="378" y="40"/>
                </a:lnTo>
                <a:lnTo>
                  <a:pt x="378" y="40"/>
                </a:lnTo>
                <a:lnTo>
                  <a:pt x="414" y="34"/>
                </a:lnTo>
                <a:lnTo>
                  <a:pt x="449" y="30"/>
                </a:lnTo>
                <a:lnTo>
                  <a:pt x="449" y="30"/>
                </a:lnTo>
                <a:lnTo>
                  <a:pt x="449" y="30"/>
                </a:lnTo>
                <a:lnTo>
                  <a:pt x="520" y="30"/>
                </a:lnTo>
                <a:lnTo>
                  <a:pt x="520" y="27"/>
                </a:lnTo>
                <a:lnTo>
                  <a:pt x="520" y="30"/>
                </a:lnTo>
                <a:lnTo>
                  <a:pt x="520" y="30"/>
                </a:lnTo>
                <a:lnTo>
                  <a:pt x="582" y="32"/>
                </a:lnTo>
                <a:lnTo>
                  <a:pt x="582" y="32"/>
                </a:lnTo>
                <a:lnTo>
                  <a:pt x="679" y="55"/>
                </a:lnTo>
                <a:lnTo>
                  <a:pt x="778" y="75"/>
                </a:lnTo>
                <a:lnTo>
                  <a:pt x="827" y="86"/>
                </a:lnTo>
                <a:lnTo>
                  <a:pt x="876" y="94"/>
                </a:lnTo>
                <a:lnTo>
                  <a:pt x="926" y="101"/>
                </a:lnTo>
                <a:lnTo>
                  <a:pt x="975" y="107"/>
                </a:lnTo>
                <a:lnTo>
                  <a:pt x="1023" y="111"/>
                </a:lnTo>
                <a:lnTo>
                  <a:pt x="1074" y="113"/>
                </a:lnTo>
                <a:lnTo>
                  <a:pt x="1122" y="111"/>
                </a:lnTo>
                <a:lnTo>
                  <a:pt x="1173" y="107"/>
                </a:lnTo>
                <a:lnTo>
                  <a:pt x="1222" y="100"/>
                </a:lnTo>
                <a:lnTo>
                  <a:pt x="1272" y="90"/>
                </a:lnTo>
                <a:lnTo>
                  <a:pt x="1321" y="75"/>
                </a:lnTo>
                <a:lnTo>
                  <a:pt x="1371" y="58"/>
                </a:lnTo>
                <a:lnTo>
                  <a:pt x="1371" y="58"/>
                </a:lnTo>
                <a:lnTo>
                  <a:pt x="1431" y="49"/>
                </a:lnTo>
                <a:lnTo>
                  <a:pt x="1431" y="49"/>
                </a:lnTo>
                <a:lnTo>
                  <a:pt x="1491" y="40"/>
                </a:lnTo>
                <a:lnTo>
                  <a:pt x="1552" y="32"/>
                </a:lnTo>
                <a:lnTo>
                  <a:pt x="1612" y="27"/>
                </a:lnTo>
                <a:lnTo>
                  <a:pt x="1672" y="23"/>
                </a:lnTo>
                <a:lnTo>
                  <a:pt x="1672" y="23"/>
                </a:lnTo>
                <a:lnTo>
                  <a:pt x="1672" y="23"/>
                </a:lnTo>
                <a:lnTo>
                  <a:pt x="1672" y="19"/>
                </a:lnTo>
                <a:lnTo>
                  <a:pt x="1672" y="23"/>
                </a:lnTo>
                <a:lnTo>
                  <a:pt x="1672" y="23"/>
                </a:lnTo>
                <a:lnTo>
                  <a:pt x="1745" y="10"/>
                </a:lnTo>
                <a:lnTo>
                  <a:pt x="1745" y="10"/>
                </a:lnTo>
                <a:lnTo>
                  <a:pt x="1745" y="10"/>
                </a:lnTo>
                <a:lnTo>
                  <a:pt x="1768" y="4"/>
                </a:lnTo>
                <a:lnTo>
                  <a:pt x="1790" y="2"/>
                </a:lnTo>
                <a:lnTo>
                  <a:pt x="1790" y="2"/>
                </a:lnTo>
                <a:lnTo>
                  <a:pt x="1814" y="0"/>
                </a:lnTo>
                <a:lnTo>
                  <a:pt x="1837" y="0"/>
                </a:lnTo>
                <a:lnTo>
                  <a:pt x="1859" y="2"/>
                </a:lnTo>
                <a:lnTo>
                  <a:pt x="1883" y="6"/>
                </a:lnTo>
                <a:lnTo>
                  <a:pt x="1883" y="4"/>
                </a:lnTo>
                <a:lnTo>
                  <a:pt x="1883" y="6"/>
                </a:lnTo>
                <a:lnTo>
                  <a:pt x="1883" y="6"/>
                </a:lnTo>
                <a:lnTo>
                  <a:pt x="1883" y="6"/>
                </a:lnTo>
                <a:lnTo>
                  <a:pt x="1883" y="6"/>
                </a:lnTo>
                <a:lnTo>
                  <a:pt x="1930" y="17"/>
                </a:lnTo>
                <a:lnTo>
                  <a:pt x="1932" y="14"/>
                </a:lnTo>
                <a:lnTo>
                  <a:pt x="1930" y="17"/>
                </a:lnTo>
                <a:lnTo>
                  <a:pt x="1930" y="17"/>
                </a:lnTo>
                <a:lnTo>
                  <a:pt x="1955" y="23"/>
                </a:lnTo>
                <a:lnTo>
                  <a:pt x="1979" y="32"/>
                </a:lnTo>
                <a:lnTo>
                  <a:pt x="2001" y="42"/>
                </a:lnTo>
                <a:lnTo>
                  <a:pt x="2024" y="53"/>
                </a:lnTo>
                <a:lnTo>
                  <a:pt x="2024" y="53"/>
                </a:lnTo>
                <a:lnTo>
                  <a:pt x="2031" y="60"/>
                </a:lnTo>
                <a:lnTo>
                  <a:pt x="2039" y="68"/>
                </a:lnTo>
                <a:lnTo>
                  <a:pt x="2046" y="77"/>
                </a:lnTo>
                <a:lnTo>
                  <a:pt x="2052" y="85"/>
                </a:lnTo>
                <a:lnTo>
                  <a:pt x="2055" y="94"/>
                </a:lnTo>
                <a:lnTo>
                  <a:pt x="2057" y="103"/>
                </a:lnTo>
                <a:lnTo>
                  <a:pt x="2059" y="114"/>
                </a:lnTo>
                <a:lnTo>
                  <a:pt x="2059" y="124"/>
                </a:lnTo>
                <a:lnTo>
                  <a:pt x="2059" y="124"/>
                </a:lnTo>
                <a:lnTo>
                  <a:pt x="2054" y="146"/>
                </a:lnTo>
                <a:lnTo>
                  <a:pt x="2046" y="167"/>
                </a:lnTo>
                <a:lnTo>
                  <a:pt x="2037" y="186"/>
                </a:lnTo>
                <a:lnTo>
                  <a:pt x="2027" y="204"/>
                </a:lnTo>
                <a:lnTo>
                  <a:pt x="2016" y="221"/>
                </a:lnTo>
                <a:lnTo>
                  <a:pt x="2003" y="238"/>
                </a:lnTo>
                <a:lnTo>
                  <a:pt x="1990" y="255"/>
                </a:lnTo>
                <a:lnTo>
                  <a:pt x="1975" y="270"/>
                </a:lnTo>
                <a:lnTo>
                  <a:pt x="1975" y="270"/>
                </a:lnTo>
                <a:lnTo>
                  <a:pt x="1955" y="288"/>
                </a:lnTo>
                <a:lnTo>
                  <a:pt x="1932" y="305"/>
                </a:lnTo>
                <a:lnTo>
                  <a:pt x="1934" y="309"/>
                </a:lnTo>
                <a:lnTo>
                  <a:pt x="1932" y="305"/>
                </a:lnTo>
                <a:lnTo>
                  <a:pt x="1932" y="305"/>
                </a:lnTo>
                <a:lnTo>
                  <a:pt x="1932" y="307"/>
                </a:lnTo>
                <a:lnTo>
                  <a:pt x="1932" y="307"/>
                </a:lnTo>
                <a:lnTo>
                  <a:pt x="1917" y="316"/>
                </a:lnTo>
                <a:lnTo>
                  <a:pt x="1902" y="326"/>
                </a:lnTo>
                <a:lnTo>
                  <a:pt x="1887" y="331"/>
                </a:lnTo>
                <a:lnTo>
                  <a:pt x="1870" y="337"/>
                </a:lnTo>
                <a:lnTo>
                  <a:pt x="1870" y="337"/>
                </a:lnTo>
                <a:lnTo>
                  <a:pt x="1812" y="335"/>
                </a:lnTo>
                <a:lnTo>
                  <a:pt x="1751" y="329"/>
                </a:lnTo>
                <a:lnTo>
                  <a:pt x="1687" y="322"/>
                </a:lnTo>
                <a:lnTo>
                  <a:pt x="1624" y="316"/>
                </a:lnTo>
                <a:lnTo>
                  <a:pt x="1562" y="315"/>
                </a:lnTo>
                <a:lnTo>
                  <a:pt x="1530" y="315"/>
                </a:lnTo>
                <a:lnTo>
                  <a:pt x="1500" y="316"/>
                </a:lnTo>
                <a:lnTo>
                  <a:pt x="1470" y="318"/>
                </a:lnTo>
                <a:lnTo>
                  <a:pt x="1442" y="324"/>
                </a:lnTo>
                <a:lnTo>
                  <a:pt x="1414" y="331"/>
                </a:lnTo>
                <a:lnTo>
                  <a:pt x="1386" y="343"/>
                </a:lnTo>
                <a:lnTo>
                  <a:pt x="1388" y="344"/>
                </a:lnTo>
                <a:lnTo>
                  <a:pt x="1386" y="343"/>
                </a:lnTo>
                <a:lnTo>
                  <a:pt x="1386" y="343"/>
                </a:lnTo>
                <a:lnTo>
                  <a:pt x="1356" y="356"/>
                </a:lnTo>
                <a:lnTo>
                  <a:pt x="1328" y="374"/>
                </a:lnTo>
                <a:lnTo>
                  <a:pt x="1328" y="374"/>
                </a:lnTo>
                <a:lnTo>
                  <a:pt x="1319" y="382"/>
                </a:lnTo>
                <a:lnTo>
                  <a:pt x="1309" y="389"/>
                </a:lnTo>
                <a:lnTo>
                  <a:pt x="1294" y="404"/>
                </a:lnTo>
                <a:lnTo>
                  <a:pt x="1279" y="423"/>
                </a:lnTo>
                <a:lnTo>
                  <a:pt x="1266" y="440"/>
                </a:lnTo>
                <a:lnTo>
                  <a:pt x="1270" y="444"/>
                </a:lnTo>
                <a:lnTo>
                  <a:pt x="1266" y="440"/>
                </a:lnTo>
                <a:lnTo>
                  <a:pt x="1266" y="440"/>
                </a:lnTo>
                <a:lnTo>
                  <a:pt x="1253" y="457"/>
                </a:lnTo>
                <a:lnTo>
                  <a:pt x="1253" y="457"/>
                </a:lnTo>
                <a:lnTo>
                  <a:pt x="1242" y="442"/>
                </a:lnTo>
                <a:lnTo>
                  <a:pt x="1227" y="429"/>
                </a:lnTo>
                <a:lnTo>
                  <a:pt x="1227" y="429"/>
                </a:lnTo>
                <a:lnTo>
                  <a:pt x="1227" y="429"/>
                </a:lnTo>
                <a:lnTo>
                  <a:pt x="1227" y="429"/>
                </a:lnTo>
                <a:lnTo>
                  <a:pt x="1210" y="419"/>
                </a:lnTo>
                <a:lnTo>
                  <a:pt x="1195" y="412"/>
                </a:lnTo>
                <a:lnTo>
                  <a:pt x="1178" y="406"/>
                </a:lnTo>
                <a:lnTo>
                  <a:pt x="1162" y="401"/>
                </a:lnTo>
                <a:lnTo>
                  <a:pt x="1162" y="401"/>
                </a:lnTo>
                <a:lnTo>
                  <a:pt x="1162" y="401"/>
                </a:lnTo>
                <a:lnTo>
                  <a:pt x="1162" y="401"/>
                </a:lnTo>
                <a:lnTo>
                  <a:pt x="1087" y="393"/>
                </a:lnTo>
                <a:lnTo>
                  <a:pt x="1087" y="393"/>
                </a:lnTo>
                <a:lnTo>
                  <a:pt x="1018" y="386"/>
                </a:lnTo>
                <a:lnTo>
                  <a:pt x="1016" y="386"/>
                </a:lnTo>
                <a:lnTo>
                  <a:pt x="1016" y="386"/>
                </a:lnTo>
                <a:lnTo>
                  <a:pt x="1016" y="386"/>
                </a:lnTo>
                <a:lnTo>
                  <a:pt x="997" y="386"/>
                </a:lnTo>
                <a:lnTo>
                  <a:pt x="980" y="384"/>
                </a:lnTo>
                <a:lnTo>
                  <a:pt x="963" y="380"/>
                </a:lnTo>
                <a:lnTo>
                  <a:pt x="947" y="376"/>
                </a:lnTo>
                <a:lnTo>
                  <a:pt x="930" y="371"/>
                </a:lnTo>
                <a:lnTo>
                  <a:pt x="913" y="367"/>
                </a:lnTo>
                <a:lnTo>
                  <a:pt x="894" y="365"/>
                </a:lnTo>
                <a:lnTo>
                  <a:pt x="876" y="365"/>
                </a:lnTo>
                <a:lnTo>
                  <a:pt x="876" y="365"/>
                </a:lnTo>
                <a:lnTo>
                  <a:pt x="853" y="354"/>
                </a:lnTo>
                <a:lnTo>
                  <a:pt x="833" y="343"/>
                </a:lnTo>
                <a:lnTo>
                  <a:pt x="833" y="343"/>
                </a:lnTo>
                <a:lnTo>
                  <a:pt x="827" y="331"/>
                </a:lnTo>
                <a:lnTo>
                  <a:pt x="818" y="322"/>
                </a:lnTo>
                <a:lnTo>
                  <a:pt x="806" y="316"/>
                </a:lnTo>
                <a:lnTo>
                  <a:pt x="791" y="313"/>
                </a:lnTo>
                <a:lnTo>
                  <a:pt x="791" y="313"/>
                </a:lnTo>
                <a:lnTo>
                  <a:pt x="776" y="307"/>
                </a:lnTo>
                <a:lnTo>
                  <a:pt x="760" y="303"/>
                </a:lnTo>
                <a:lnTo>
                  <a:pt x="728" y="300"/>
                </a:lnTo>
                <a:lnTo>
                  <a:pt x="728" y="300"/>
                </a:lnTo>
                <a:lnTo>
                  <a:pt x="694" y="300"/>
                </a:lnTo>
                <a:lnTo>
                  <a:pt x="666" y="303"/>
                </a:lnTo>
                <a:lnTo>
                  <a:pt x="668" y="307"/>
                </a:lnTo>
                <a:lnTo>
                  <a:pt x="666" y="303"/>
                </a:lnTo>
                <a:lnTo>
                  <a:pt x="666" y="303"/>
                </a:lnTo>
                <a:lnTo>
                  <a:pt x="666" y="303"/>
                </a:lnTo>
                <a:lnTo>
                  <a:pt x="666" y="303"/>
                </a:lnTo>
                <a:lnTo>
                  <a:pt x="631" y="313"/>
                </a:lnTo>
                <a:lnTo>
                  <a:pt x="595" y="326"/>
                </a:lnTo>
                <a:lnTo>
                  <a:pt x="595" y="329"/>
                </a:lnTo>
                <a:lnTo>
                  <a:pt x="595" y="326"/>
                </a:lnTo>
                <a:lnTo>
                  <a:pt x="595" y="326"/>
                </a:lnTo>
                <a:lnTo>
                  <a:pt x="539" y="348"/>
                </a:lnTo>
                <a:lnTo>
                  <a:pt x="487" y="372"/>
                </a:lnTo>
                <a:lnTo>
                  <a:pt x="395" y="414"/>
                </a:lnTo>
                <a:lnTo>
                  <a:pt x="395" y="417"/>
                </a:lnTo>
                <a:lnTo>
                  <a:pt x="395" y="417"/>
                </a:lnTo>
                <a:lnTo>
                  <a:pt x="395" y="417"/>
                </a:lnTo>
                <a:lnTo>
                  <a:pt x="395" y="414"/>
                </a:lnTo>
                <a:lnTo>
                  <a:pt x="393" y="414"/>
                </a:lnTo>
                <a:lnTo>
                  <a:pt x="393" y="414"/>
                </a:lnTo>
                <a:lnTo>
                  <a:pt x="393" y="414"/>
                </a:lnTo>
                <a:lnTo>
                  <a:pt x="354" y="432"/>
                </a:lnTo>
                <a:lnTo>
                  <a:pt x="316" y="449"/>
                </a:lnTo>
                <a:lnTo>
                  <a:pt x="318" y="453"/>
                </a:lnTo>
                <a:lnTo>
                  <a:pt x="316" y="449"/>
                </a:lnTo>
                <a:lnTo>
                  <a:pt x="316" y="449"/>
                </a:lnTo>
                <a:lnTo>
                  <a:pt x="281" y="462"/>
                </a:lnTo>
                <a:lnTo>
                  <a:pt x="245" y="472"/>
                </a:lnTo>
                <a:lnTo>
                  <a:pt x="245" y="472"/>
                </a:lnTo>
                <a:lnTo>
                  <a:pt x="214" y="477"/>
                </a:lnTo>
                <a:lnTo>
                  <a:pt x="180" y="479"/>
                </a:lnTo>
                <a:lnTo>
                  <a:pt x="180" y="479"/>
                </a:lnTo>
                <a:lnTo>
                  <a:pt x="172" y="479"/>
                </a:lnTo>
                <a:lnTo>
                  <a:pt x="172" y="479"/>
                </a:lnTo>
                <a:lnTo>
                  <a:pt x="141" y="477"/>
                </a:lnTo>
                <a:lnTo>
                  <a:pt x="109" y="472"/>
                </a:lnTo>
                <a:lnTo>
                  <a:pt x="77" y="462"/>
                </a:lnTo>
                <a:lnTo>
                  <a:pt x="45" y="449"/>
                </a:lnTo>
                <a:close/>
                <a:moveTo>
                  <a:pt x="1225" y="430"/>
                </a:moveTo>
                <a:lnTo>
                  <a:pt x="1227" y="429"/>
                </a:lnTo>
                <a:lnTo>
                  <a:pt x="1225" y="430"/>
                </a:lnTo>
                <a:lnTo>
                  <a:pt x="1225" y="430"/>
                </a:lnTo>
                <a:close/>
                <a:moveTo>
                  <a:pt x="1162" y="404"/>
                </a:moveTo>
                <a:lnTo>
                  <a:pt x="1162" y="401"/>
                </a:lnTo>
                <a:lnTo>
                  <a:pt x="1162" y="404"/>
                </a:lnTo>
                <a:lnTo>
                  <a:pt x="1162" y="404"/>
                </a:lnTo>
                <a:close/>
                <a:moveTo>
                  <a:pt x="876" y="367"/>
                </a:moveTo>
                <a:lnTo>
                  <a:pt x="876" y="367"/>
                </a:lnTo>
                <a:lnTo>
                  <a:pt x="876" y="367"/>
                </a:lnTo>
                <a:lnTo>
                  <a:pt x="876" y="367"/>
                </a:lnTo>
                <a:lnTo>
                  <a:pt x="876" y="367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94280" y="1646280"/>
            <a:ext cx="3268440" cy="760320"/>
          </a:xfrm>
          <a:custGeom>
            <a:avLst/>
            <a:gdLst/>
            <a:ahLst/>
            <a:rect l="l" t="t" r="r" b="b"/>
            <a:pathLst>
              <a:path w="2059" h="479">
                <a:moveTo>
                  <a:pt x="45" y="449"/>
                </a:moveTo>
                <a:lnTo>
                  <a:pt x="45" y="449"/>
                </a:lnTo>
                <a:lnTo>
                  <a:pt x="30" y="440"/>
                </a:lnTo>
                <a:lnTo>
                  <a:pt x="19" y="430"/>
                </a:lnTo>
                <a:lnTo>
                  <a:pt x="12" y="417"/>
                </a:lnTo>
                <a:lnTo>
                  <a:pt x="4" y="404"/>
                </a:lnTo>
                <a:lnTo>
                  <a:pt x="0" y="391"/>
                </a:lnTo>
                <a:lnTo>
                  <a:pt x="0" y="378"/>
                </a:lnTo>
                <a:lnTo>
                  <a:pt x="0" y="363"/>
                </a:lnTo>
                <a:lnTo>
                  <a:pt x="2" y="350"/>
                </a:lnTo>
                <a:lnTo>
                  <a:pt x="2" y="350"/>
                </a:lnTo>
                <a:lnTo>
                  <a:pt x="14" y="320"/>
                </a:lnTo>
                <a:lnTo>
                  <a:pt x="28" y="290"/>
                </a:lnTo>
                <a:lnTo>
                  <a:pt x="45" y="264"/>
                </a:lnTo>
                <a:lnTo>
                  <a:pt x="64" y="238"/>
                </a:lnTo>
                <a:lnTo>
                  <a:pt x="83" y="214"/>
                </a:lnTo>
                <a:lnTo>
                  <a:pt x="105" y="191"/>
                </a:lnTo>
                <a:lnTo>
                  <a:pt x="128" y="169"/>
                </a:lnTo>
                <a:lnTo>
                  <a:pt x="152" y="150"/>
                </a:lnTo>
                <a:lnTo>
                  <a:pt x="178" y="131"/>
                </a:lnTo>
                <a:lnTo>
                  <a:pt x="204" y="114"/>
                </a:lnTo>
                <a:lnTo>
                  <a:pt x="232" y="98"/>
                </a:lnTo>
                <a:lnTo>
                  <a:pt x="260" y="83"/>
                </a:lnTo>
                <a:lnTo>
                  <a:pt x="288" y="70"/>
                </a:lnTo>
                <a:lnTo>
                  <a:pt x="318" y="58"/>
                </a:lnTo>
                <a:lnTo>
                  <a:pt x="348" y="49"/>
                </a:lnTo>
                <a:lnTo>
                  <a:pt x="378" y="40"/>
                </a:lnTo>
                <a:lnTo>
                  <a:pt x="378" y="40"/>
                </a:lnTo>
                <a:lnTo>
                  <a:pt x="378" y="40"/>
                </a:lnTo>
                <a:lnTo>
                  <a:pt x="414" y="34"/>
                </a:lnTo>
                <a:lnTo>
                  <a:pt x="449" y="30"/>
                </a:lnTo>
                <a:lnTo>
                  <a:pt x="449" y="30"/>
                </a:lnTo>
                <a:lnTo>
                  <a:pt x="449" y="30"/>
                </a:lnTo>
                <a:lnTo>
                  <a:pt x="520" y="30"/>
                </a:lnTo>
                <a:lnTo>
                  <a:pt x="520" y="27"/>
                </a:lnTo>
                <a:lnTo>
                  <a:pt x="520" y="30"/>
                </a:lnTo>
                <a:lnTo>
                  <a:pt x="520" y="30"/>
                </a:lnTo>
                <a:lnTo>
                  <a:pt x="582" y="32"/>
                </a:lnTo>
                <a:lnTo>
                  <a:pt x="582" y="32"/>
                </a:lnTo>
                <a:lnTo>
                  <a:pt x="679" y="55"/>
                </a:lnTo>
                <a:lnTo>
                  <a:pt x="778" y="75"/>
                </a:lnTo>
                <a:lnTo>
                  <a:pt x="827" y="86"/>
                </a:lnTo>
                <a:lnTo>
                  <a:pt x="876" y="94"/>
                </a:lnTo>
                <a:lnTo>
                  <a:pt x="926" y="101"/>
                </a:lnTo>
                <a:lnTo>
                  <a:pt x="975" y="107"/>
                </a:lnTo>
                <a:lnTo>
                  <a:pt x="1023" y="111"/>
                </a:lnTo>
                <a:lnTo>
                  <a:pt x="1074" y="113"/>
                </a:lnTo>
                <a:lnTo>
                  <a:pt x="1122" y="111"/>
                </a:lnTo>
                <a:lnTo>
                  <a:pt x="1173" y="107"/>
                </a:lnTo>
                <a:lnTo>
                  <a:pt x="1222" y="100"/>
                </a:lnTo>
                <a:lnTo>
                  <a:pt x="1272" y="90"/>
                </a:lnTo>
                <a:lnTo>
                  <a:pt x="1321" y="75"/>
                </a:lnTo>
                <a:lnTo>
                  <a:pt x="1371" y="58"/>
                </a:lnTo>
                <a:lnTo>
                  <a:pt x="1371" y="58"/>
                </a:lnTo>
                <a:lnTo>
                  <a:pt x="1431" y="49"/>
                </a:lnTo>
                <a:lnTo>
                  <a:pt x="1431" y="49"/>
                </a:lnTo>
                <a:lnTo>
                  <a:pt x="1491" y="40"/>
                </a:lnTo>
                <a:lnTo>
                  <a:pt x="1552" y="32"/>
                </a:lnTo>
                <a:lnTo>
                  <a:pt x="1612" y="27"/>
                </a:lnTo>
                <a:lnTo>
                  <a:pt x="1672" y="23"/>
                </a:lnTo>
                <a:lnTo>
                  <a:pt x="1672" y="23"/>
                </a:lnTo>
                <a:lnTo>
                  <a:pt x="1672" y="23"/>
                </a:lnTo>
                <a:lnTo>
                  <a:pt x="1672" y="19"/>
                </a:lnTo>
                <a:lnTo>
                  <a:pt x="1672" y="23"/>
                </a:lnTo>
                <a:lnTo>
                  <a:pt x="1672" y="23"/>
                </a:lnTo>
                <a:lnTo>
                  <a:pt x="1745" y="10"/>
                </a:lnTo>
                <a:lnTo>
                  <a:pt x="1745" y="10"/>
                </a:lnTo>
                <a:lnTo>
                  <a:pt x="1745" y="10"/>
                </a:lnTo>
                <a:lnTo>
                  <a:pt x="1768" y="4"/>
                </a:lnTo>
                <a:lnTo>
                  <a:pt x="1790" y="2"/>
                </a:lnTo>
                <a:lnTo>
                  <a:pt x="1790" y="2"/>
                </a:lnTo>
                <a:lnTo>
                  <a:pt x="1814" y="0"/>
                </a:lnTo>
                <a:lnTo>
                  <a:pt x="1837" y="0"/>
                </a:lnTo>
                <a:lnTo>
                  <a:pt x="1859" y="2"/>
                </a:lnTo>
                <a:lnTo>
                  <a:pt x="1883" y="6"/>
                </a:lnTo>
                <a:lnTo>
                  <a:pt x="1883" y="4"/>
                </a:lnTo>
                <a:lnTo>
                  <a:pt x="1883" y="6"/>
                </a:lnTo>
                <a:lnTo>
                  <a:pt x="1883" y="6"/>
                </a:lnTo>
                <a:lnTo>
                  <a:pt x="1883" y="6"/>
                </a:lnTo>
                <a:lnTo>
                  <a:pt x="1883" y="6"/>
                </a:lnTo>
                <a:lnTo>
                  <a:pt x="1930" y="17"/>
                </a:lnTo>
                <a:lnTo>
                  <a:pt x="1932" y="14"/>
                </a:lnTo>
                <a:lnTo>
                  <a:pt x="1930" y="17"/>
                </a:lnTo>
                <a:lnTo>
                  <a:pt x="1930" y="17"/>
                </a:lnTo>
                <a:lnTo>
                  <a:pt x="1955" y="23"/>
                </a:lnTo>
                <a:lnTo>
                  <a:pt x="1979" y="32"/>
                </a:lnTo>
                <a:lnTo>
                  <a:pt x="2001" y="42"/>
                </a:lnTo>
                <a:lnTo>
                  <a:pt x="2024" y="53"/>
                </a:lnTo>
                <a:lnTo>
                  <a:pt x="2024" y="53"/>
                </a:lnTo>
                <a:lnTo>
                  <a:pt x="2031" y="60"/>
                </a:lnTo>
                <a:lnTo>
                  <a:pt x="2039" y="68"/>
                </a:lnTo>
                <a:lnTo>
                  <a:pt x="2046" y="77"/>
                </a:lnTo>
                <a:lnTo>
                  <a:pt x="2052" y="85"/>
                </a:lnTo>
                <a:lnTo>
                  <a:pt x="2055" y="94"/>
                </a:lnTo>
                <a:lnTo>
                  <a:pt x="2057" y="103"/>
                </a:lnTo>
                <a:lnTo>
                  <a:pt x="2059" y="114"/>
                </a:lnTo>
                <a:lnTo>
                  <a:pt x="2059" y="124"/>
                </a:lnTo>
                <a:lnTo>
                  <a:pt x="2059" y="124"/>
                </a:lnTo>
                <a:lnTo>
                  <a:pt x="2054" y="146"/>
                </a:lnTo>
                <a:lnTo>
                  <a:pt x="2046" y="167"/>
                </a:lnTo>
                <a:lnTo>
                  <a:pt x="2037" y="186"/>
                </a:lnTo>
                <a:lnTo>
                  <a:pt x="2027" y="204"/>
                </a:lnTo>
                <a:lnTo>
                  <a:pt x="2016" y="221"/>
                </a:lnTo>
                <a:lnTo>
                  <a:pt x="2003" y="238"/>
                </a:lnTo>
                <a:lnTo>
                  <a:pt x="1990" y="255"/>
                </a:lnTo>
                <a:lnTo>
                  <a:pt x="1975" y="270"/>
                </a:lnTo>
                <a:lnTo>
                  <a:pt x="1975" y="270"/>
                </a:lnTo>
                <a:lnTo>
                  <a:pt x="1955" y="288"/>
                </a:lnTo>
                <a:lnTo>
                  <a:pt x="1932" y="305"/>
                </a:lnTo>
                <a:lnTo>
                  <a:pt x="1934" y="309"/>
                </a:lnTo>
                <a:lnTo>
                  <a:pt x="1932" y="305"/>
                </a:lnTo>
                <a:lnTo>
                  <a:pt x="1932" y="305"/>
                </a:lnTo>
                <a:lnTo>
                  <a:pt x="1932" y="307"/>
                </a:lnTo>
                <a:lnTo>
                  <a:pt x="1932" y="307"/>
                </a:lnTo>
                <a:lnTo>
                  <a:pt x="1917" y="316"/>
                </a:lnTo>
                <a:lnTo>
                  <a:pt x="1902" y="326"/>
                </a:lnTo>
                <a:lnTo>
                  <a:pt x="1887" y="331"/>
                </a:lnTo>
                <a:lnTo>
                  <a:pt x="1870" y="337"/>
                </a:lnTo>
                <a:lnTo>
                  <a:pt x="1870" y="337"/>
                </a:lnTo>
                <a:lnTo>
                  <a:pt x="1812" y="335"/>
                </a:lnTo>
                <a:lnTo>
                  <a:pt x="1751" y="329"/>
                </a:lnTo>
                <a:lnTo>
                  <a:pt x="1687" y="322"/>
                </a:lnTo>
                <a:lnTo>
                  <a:pt x="1624" y="316"/>
                </a:lnTo>
                <a:lnTo>
                  <a:pt x="1562" y="315"/>
                </a:lnTo>
                <a:lnTo>
                  <a:pt x="1530" y="315"/>
                </a:lnTo>
                <a:lnTo>
                  <a:pt x="1500" y="316"/>
                </a:lnTo>
                <a:lnTo>
                  <a:pt x="1470" y="318"/>
                </a:lnTo>
                <a:lnTo>
                  <a:pt x="1442" y="324"/>
                </a:lnTo>
                <a:lnTo>
                  <a:pt x="1414" y="331"/>
                </a:lnTo>
                <a:lnTo>
                  <a:pt x="1386" y="343"/>
                </a:lnTo>
                <a:lnTo>
                  <a:pt x="1388" y="344"/>
                </a:lnTo>
                <a:lnTo>
                  <a:pt x="1386" y="343"/>
                </a:lnTo>
                <a:lnTo>
                  <a:pt x="1386" y="343"/>
                </a:lnTo>
                <a:lnTo>
                  <a:pt x="1356" y="356"/>
                </a:lnTo>
                <a:lnTo>
                  <a:pt x="1328" y="374"/>
                </a:lnTo>
                <a:lnTo>
                  <a:pt x="1328" y="374"/>
                </a:lnTo>
                <a:lnTo>
                  <a:pt x="1319" y="382"/>
                </a:lnTo>
                <a:lnTo>
                  <a:pt x="1309" y="389"/>
                </a:lnTo>
                <a:lnTo>
                  <a:pt x="1294" y="404"/>
                </a:lnTo>
                <a:lnTo>
                  <a:pt x="1279" y="423"/>
                </a:lnTo>
                <a:lnTo>
                  <a:pt x="1266" y="440"/>
                </a:lnTo>
                <a:lnTo>
                  <a:pt x="1270" y="444"/>
                </a:lnTo>
                <a:lnTo>
                  <a:pt x="1266" y="440"/>
                </a:lnTo>
                <a:lnTo>
                  <a:pt x="1266" y="440"/>
                </a:lnTo>
                <a:lnTo>
                  <a:pt x="1253" y="457"/>
                </a:lnTo>
                <a:lnTo>
                  <a:pt x="1253" y="457"/>
                </a:lnTo>
                <a:lnTo>
                  <a:pt x="1242" y="442"/>
                </a:lnTo>
                <a:lnTo>
                  <a:pt x="1227" y="429"/>
                </a:lnTo>
                <a:lnTo>
                  <a:pt x="1227" y="429"/>
                </a:lnTo>
                <a:lnTo>
                  <a:pt x="1227" y="429"/>
                </a:lnTo>
                <a:lnTo>
                  <a:pt x="1227" y="429"/>
                </a:lnTo>
                <a:lnTo>
                  <a:pt x="1210" y="419"/>
                </a:lnTo>
                <a:lnTo>
                  <a:pt x="1195" y="412"/>
                </a:lnTo>
                <a:lnTo>
                  <a:pt x="1178" y="406"/>
                </a:lnTo>
                <a:lnTo>
                  <a:pt x="1162" y="401"/>
                </a:lnTo>
                <a:lnTo>
                  <a:pt x="1162" y="401"/>
                </a:lnTo>
                <a:lnTo>
                  <a:pt x="1162" y="401"/>
                </a:lnTo>
                <a:lnTo>
                  <a:pt x="1162" y="401"/>
                </a:lnTo>
                <a:lnTo>
                  <a:pt x="1087" y="393"/>
                </a:lnTo>
                <a:lnTo>
                  <a:pt x="1087" y="393"/>
                </a:lnTo>
                <a:lnTo>
                  <a:pt x="1018" y="386"/>
                </a:lnTo>
                <a:lnTo>
                  <a:pt x="1016" y="386"/>
                </a:lnTo>
                <a:lnTo>
                  <a:pt x="1016" y="386"/>
                </a:lnTo>
                <a:lnTo>
                  <a:pt x="1016" y="386"/>
                </a:lnTo>
                <a:lnTo>
                  <a:pt x="997" y="386"/>
                </a:lnTo>
                <a:lnTo>
                  <a:pt x="980" y="384"/>
                </a:lnTo>
                <a:lnTo>
                  <a:pt x="963" y="380"/>
                </a:lnTo>
                <a:lnTo>
                  <a:pt x="947" y="376"/>
                </a:lnTo>
                <a:lnTo>
                  <a:pt x="930" y="371"/>
                </a:lnTo>
                <a:lnTo>
                  <a:pt x="913" y="367"/>
                </a:lnTo>
                <a:lnTo>
                  <a:pt x="894" y="365"/>
                </a:lnTo>
                <a:lnTo>
                  <a:pt x="876" y="365"/>
                </a:lnTo>
                <a:lnTo>
                  <a:pt x="876" y="365"/>
                </a:lnTo>
                <a:lnTo>
                  <a:pt x="853" y="354"/>
                </a:lnTo>
                <a:lnTo>
                  <a:pt x="833" y="343"/>
                </a:lnTo>
                <a:lnTo>
                  <a:pt x="833" y="343"/>
                </a:lnTo>
                <a:lnTo>
                  <a:pt x="827" y="331"/>
                </a:lnTo>
                <a:lnTo>
                  <a:pt x="818" y="322"/>
                </a:lnTo>
                <a:lnTo>
                  <a:pt x="806" y="316"/>
                </a:lnTo>
                <a:lnTo>
                  <a:pt x="791" y="313"/>
                </a:lnTo>
                <a:lnTo>
                  <a:pt x="791" y="313"/>
                </a:lnTo>
                <a:lnTo>
                  <a:pt x="776" y="307"/>
                </a:lnTo>
                <a:lnTo>
                  <a:pt x="760" y="303"/>
                </a:lnTo>
                <a:lnTo>
                  <a:pt x="728" y="300"/>
                </a:lnTo>
                <a:lnTo>
                  <a:pt x="728" y="300"/>
                </a:lnTo>
                <a:lnTo>
                  <a:pt x="694" y="300"/>
                </a:lnTo>
                <a:lnTo>
                  <a:pt x="666" y="303"/>
                </a:lnTo>
                <a:lnTo>
                  <a:pt x="668" y="307"/>
                </a:lnTo>
                <a:lnTo>
                  <a:pt x="666" y="303"/>
                </a:lnTo>
                <a:lnTo>
                  <a:pt x="666" y="303"/>
                </a:lnTo>
                <a:lnTo>
                  <a:pt x="666" y="303"/>
                </a:lnTo>
                <a:lnTo>
                  <a:pt x="666" y="303"/>
                </a:lnTo>
                <a:lnTo>
                  <a:pt x="631" y="313"/>
                </a:lnTo>
                <a:lnTo>
                  <a:pt x="595" y="326"/>
                </a:lnTo>
                <a:lnTo>
                  <a:pt x="595" y="329"/>
                </a:lnTo>
                <a:lnTo>
                  <a:pt x="595" y="326"/>
                </a:lnTo>
                <a:lnTo>
                  <a:pt x="595" y="326"/>
                </a:lnTo>
                <a:lnTo>
                  <a:pt x="539" y="348"/>
                </a:lnTo>
                <a:lnTo>
                  <a:pt x="487" y="372"/>
                </a:lnTo>
                <a:lnTo>
                  <a:pt x="395" y="414"/>
                </a:lnTo>
                <a:lnTo>
                  <a:pt x="395" y="417"/>
                </a:lnTo>
                <a:lnTo>
                  <a:pt x="395" y="417"/>
                </a:lnTo>
                <a:lnTo>
                  <a:pt x="395" y="417"/>
                </a:lnTo>
                <a:lnTo>
                  <a:pt x="395" y="414"/>
                </a:lnTo>
                <a:lnTo>
                  <a:pt x="393" y="414"/>
                </a:lnTo>
                <a:lnTo>
                  <a:pt x="393" y="414"/>
                </a:lnTo>
                <a:lnTo>
                  <a:pt x="393" y="414"/>
                </a:lnTo>
                <a:lnTo>
                  <a:pt x="354" y="432"/>
                </a:lnTo>
                <a:lnTo>
                  <a:pt x="316" y="449"/>
                </a:lnTo>
                <a:lnTo>
                  <a:pt x="318" y="453"/>
                </a:lnTo>
                <a:lnTo>
                  <a:pt x="316" y="449"/>
                </a:lnTo>
                <a:lnTo>
                  <a:pt x="316" y="449"/>
                </a:lnTo>
                <a:lnTo>
                  <a:pt x="281" y="462"/>
                </a:lnTo>
                <a:lnTo>
                  <a:pt x="245" y="472"/>
                </a:lnTo>
                <a:lnTo>
                  <a:pt x="245" y="472"/>
                </a:lnTo>
                <a:lnTo>
                  <a:pt x="214" y="477"/>
                </a:lnTo>
                <a:lnTo>
                  <a:pt x="180" y="479"/>
                </a:lnTo>
                <a:lnTo>
                  <a:pt x="180" y="479"/>
                </a:lnTo>
                <a:lnTo>
                  <a:pt x="172" y="479"/>
                </a:lnTo>
                <a:lnTo>
                  <a:pt x="172" y="479"/>
                </a:lnTo>
                <a:lnTo>
                  <a:pt x="141" y="477"/>
                </a:lnTo>
                <a:lnTo>
                  <a:pt x="109" y="472"/>
                </a:lnTo>
                <a:lnTo>
                  <a:pt x="77" y="462"/>
                </a:lnTo>
                <a:lnTo>
                  <a:pt x="45" y="44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39000" y="232740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2" y="0"/>
                </a:lnTo>
                <a:lnTo>
                  <a:pt x="0" y="1"/>
                </a:lnTo>
                <a:lnTo>
                  <a:pt x="0" y="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38920" y="228276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84960" y="222876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48360" y="2201760"/>
            <a:ext cx="930240" cy="596880"/>
          </a:xfrm>
          <a:custGeom>
            <a:avLst/>
            <a:gdLst/>
            <a:ahLst/>
            <a:rect l="l" t="t" r="r" b="b"/>
            <a:pathLst>
              <a:path w="586" h="376">
                <a:moveTo>
                  <a:pt x="56" y="344"/>
                </a:moveTo>
                <a:lnTo>
                  <a:pt x="56" y="344"/>
                </a:lnTo>
                <a:lnTo>
                  <a:pt x="41" y="333"/>
                </a:lnTo>
                <a:lnTo>
                  <a:pt x="28" y="320"/>
                </a:lnTo>
                <a:lnTo>
                  <a:pt x="17" y="305"/>
                </a:lnTo>
                <a:lnTo>
                  <a:pt x="10" y="290"/>
                </a:lnTo>
                <a:lnTo>
                  <a:pt x="4" y="273"/>
                </a:lnTo>
                <a:lnTo>
                  <a:pt x="0" y="254"/>
                </a:lnTo>
                <a:lnTo>
                  <a:pt x="0" y="236"/>
                </a:lnTo>
                <a:lnTo>
                  <a:pt x="4" y="217"/>
                </a:lnTo>
                <a:lnTo>
                  <a:pt x="4" y="215"/>
                </a:lnTo>
                <a:lnTo>
                  <a:pt x="0" y="215"/>
                </a:lnTo>
                <a:lnTo>
                  <a:pt x="0" y="215"/>
                </a:lnTo>
                <a:lnTo>
                  <a:pt x="4" y="215"/>
                </a:lnTo>
                <a:lnTo>
                  <a:pt x="4" y="215"/>
                </a:lnTo>
                <a:lnTo>
                  <a:pt x="10" y="200"/>
                </a:lnTo>
                <a:lnTo>
                  <a:pt x="17" y="187"/>
                </a:lnTo>
                <a:lnTo>
                  <a:pt x="26" y="174"/>
                </a:lnTo>
                <a:lnTo>
                  <a:pt x="38" y="161"/>
                </a:lnTo>
                <a:lnTo>
                  <a:pt x="64" y="140"/>
                </a:lnTo>
                <a:lnTo>
                  <a:pt x="94" y="118"/>
                </a:lnTo>
                <a:lnTo>
                  <a:pt x="94" y="118"/>
                </a:lnTo>
                <a:lnTo>
                  <a:pt x="122" y="95"/>
                </a:lnTo>
                <a:lnTo>
                  <a:pt x="133" y="82"/>
                </a:lnTo>
                <a:lnTo>
                  <a:pt x="144" y="69"/>
                </a:lnTo>
                <a:lnTo>
                  <a:pt x="154" y="54"/>
                </a:lnTo>
                <a:lnTo>
                  <a:pt x="161" y="37"/>
                </a:lnTo>
                <a:lnTo>
                  <a:pt x="167" y="21"/>
                </a:lnTo>
                <a:lnTo>
                  <a:pt x="169" y="0"/>
                </a:lnTo>
                <a:lnTo>
                  <a:pt x="169" y="0"/>
                </a:lnTo>
                <a:lnTo>
                  <a:pt x="189" y="11"/>
                </a:lnTo>
                <a:lnTo>
                  <a:pt x="210" y="21"/>
                </a:lnTo>
                <a:lnTo>
                  <a:pt x="212" y="17"/>
                </a:lnTo>
                <a:lnTo>
                  <a:pt x="212" y="17"/>
                </a:lnTo>
                <a:lnTo>
                  <a:pt x="212" y="17"/>
                </a:lnTo>
                <a:lnTo>
                  <a:pt x="212" y="17"/>
                </a:lnTo>
                <a:lnTo>
                  <a:pt x="210" y="21"/>
                </a:lnTo>
                <a:lnTo>
                  <a:pt x="210" y="21"/>
                </a:lnTo>
                <a:lnTo>
                  <a:pt x="212" y="21"/>
                </a:lnTo>
                <a:lnTo>
                  <a:pt x="212" y="21"/>
                </a:lnTo>
                <a:lnTo>
                  <a:pt x="228" y="21"/>
                </a:lnTo>
                <a:lnTo>
                  <a:pt x="247" y="22"/>
                </a:lnTo>
                <a:lnTo>
                  <a:pt x="281" y="32"/>
                </a:lnTo>
                <a:lnTo>
                  <a:pt x="298" y="36"/>
                </a:lnTo>
                <a:lnTo>
                  <a:pt x="314" y="39"/>
                </a:lnTo>
                <a:lnTo>
                  <a:pt x="333" y="41"/>
                </a:lnTo>
                <a:lnTo>
                  <a:pt x="352" y="41"/>
                </a:lnTo>
                <a:lnTo>
                  <a:pt x="352" y="41"/>
                </a:lnTo>
                <a:lnTo>
                  <a:pt x="423" y="49"/>
                </a:lnTo>
                <a:lnTo>
                  <a:pt x="423" y="49"/>
                </a:lnTo>
                <a:lnTo>
                  <a:pt x="496" y="56"/>
                </a:lnTo>
                <a:lnTo>
                  <a:pt x="496" y="56"/>
                </a:lnTo>
                <a:lnTo>
                  <a:pt x="513" y="62"/>
                </a:lnTo>
                <a:lnTo>
                  <a:pt x="528" y="67"/>
                </a:lnTo>
                <a:lnTo>
                  <a:pt x="544" y="75"/>
                </a:lnTo>
                <a:lnTo>
                  <a:pt x="559" y="82"/>
                </a:lnTo>
                <a:lnTo>
                  <a:pt x="559" y="82"/>
                </a:lnTo>
                <a:lnTo>
                  <a:pt x="574" y="95"/>
                </a:lnTo>
                <a:lnTo>
                  <a:pt x="586" y="110"/>
                </a:lnTo>
                <a:lnTo>
                  <a:pt x="586" y="110"/>
                </a:lnTo>
                <a:lnTo>
                  <a:pt x="576" y="120"/>
                </a:lnTo>
                <a:lnTo>
                  <a:pt x="565" y="127"/>
                </a:lnTo>
                <a:lnTo>
                  <a:pt x="552" y="133"/>
                </a:lnTo>
                <a:lnTo>
                  <a:pt x="539" y="137"/>
                </a:lnTo>
                <a:lnTo>
                  <a:pt x="539" y="137"/>
                </a:lnTo>
                <a:lnTo>
                  <a:pt x="539" y="137"/>
                </a:lnTo>
                <a:lnTo>
                  <a:pt x="511" y="142"/>
                </a:lnTo>
                <a:lnTo>
                  <a:pt x="485" y="150"/>
                </a:lnTo>
                <a:lnTo>
                  <a:pt x="460" y="161"/>
                </a:lnTo>
                <a:lnTo>
                  <a:pt x="438" y="174"/>
                </a:lnTo>
                <a:lnTo>
                  <a:pt x="417" y="191"/>
                </a:lnTo>
                <a:lnTo>
                  <a:pt x="399" y="208"/>
                </a:lnTo>
                <a:lnTo>
                  <a:pt x="361" y="245"/>
                </a:lnTo>
                <a:lnTo>
                  <a:pt x="328" y="284"/>
                </a:lnTo>
                <a:lnTo>
                  <a:pt x="309" y="303"/>
                </a:lnTo>
                <a:lnTo>
                  <a:pt x="290" y="320"/>
                </a:lnTo>
                <a:lnTo>
                  <a:pt x="270" y="335"/>
                </a:lnTo>
                <a:lnTo>
                  <a:pt x="249" y="350"/>
                </a:lnTo>
                <a:lnTo>
                  <a:pt x="227" y="361"/>
                </a:lnTo>
                <a:lnTo>
                  <a:pt x="200" y="368"/>
                </a:lnTo>
                <a:lnTo>
                  <a:pt x="202" y="372"/>
                </a:lnTo>
                <a:lnTo>
                  <a:pt x="202" y="372"/>
                </a:lnTo>
                <a:lnTo>
                  <a:pt x="200" y="368"/>
                </a:lnTo>
                <a:lnTo>
                  <a:pt x="200" y="368"/>
                </a:lnTo>
                <a:lnTo>
                  <a:pt x="200" y="368"/>
                </a:lnTo>
                <a:lnTo>
                  <a:pt x="200" y="368"/>
                </a:lnTo>
                <a:lnTo>
                  <a:pt x="180" y="374"/>
                </a:lnTo>
                <a:lnTo>
                  <a:pt x="157" y="376"/>
                </a:lnTo>
                <a:lnTo>
                  <a:pt x="157" y="376"/>
                </a:lnTo>
                <a:lnTo>
                  <a:pt x="129" y="372"/>
                </a:lnTo>
                <a:lnTo>
                  <a:pt x="103" y="367"/>
                </a:lnTo>
                <a:lnTo>
                  <a:pt x="79" y="357"/>
                </a:lnTo>
                <a:lnTo>
                  <a:pt x="56" y="344"/>
                </a:lnTo>
                <a:close/>
              </a:path>
            </a:pathLst>
          </a:custGeom>
          <a:solidFill>
            <a:srgbClr val="759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48360" y="2201760"/>
            <a:ext cx="930240" cy="596880"/>
          </a:xfrm>
          <a:custGeom>
            <a:avLst/>
            <a:gdLst/>
            <a:ahLst/>
            <a:rect l="l" t="t" r="r" b="b"/>
            <a:pathLst>
              <a:path w="586" h="376">
                <a:moveTo>
                  <a:pt x="56" y="344"/>
                </a:moveTo>
                <a:lnTo>
                  <a:pt x="56" y="344"/>
                </a:lnTo>
                <a:lnTo>
                  <a:pt x="41" y="333"/>
                </a:lnTo>
                <a:lnTo>
                  <a:pt x="28" y="320"/>
                </a:lnTo>
                <a:lnTo>
                  <a:pt x="17" y="305"/>
                </a:lnTo>
                <a:lnTo>
                  <a:pt x="10" y="290"/>
                </a:lnTo>
                <a:lnTo>
                  <a:pt x="4" y="273"/>
                </a:lnTo>
                <a:lnTo>
                  <a:pt x="0" y="254"/>
                </a:lnTo>
                <a:lnTo>
                  <a:pt x="0" y="236"/>
                </a:lnTo>
                <a:lnTo>
                  <a:pt x="4" y="217"/>
                </a:lnTo>
                <a:lnTo>
                  <a:pt x="4" y="215"/>
                </a:lnTo>
                <a:lnTo>
                  <a:pt x="0" y="215"/>
                </a:lnTo>
                <a:lnTo>
                  <a:pt x="0" y="215"/>
                </a:lnTo>
                <a:lnTo>
                  <a:pt x="4" y="215"/>
                </a:lnTo>
                <a:lnTo>
                  <a:pt x="4" y="215"/>
                </a:lnTo>
                <a:lnTo>
                  <a:pt x="10" y="200"/>
                </a:lnTo>
                <a:lnTo>
                  <a:pt x="17" y="187"/>
                </a:lnTo>
                <a:lnTo>
                  <a:pt x="26" y="174"/>
                </a:lnTo>
                <a:lnTo>
                  <a:pt x="38" y="161"/>
                </a:lnTo>
                <a:lnTo>
                  <a:pt x="64" y="140"/>
                </a:lnTo>
                <a:lnTo>
                  <a:pt x="94" y="118"/>
                </a:lnTo>
                <a:lnTo>
                  <a:pt x="94" y="118"/>
                </a:lnTo>
                <a:lnTo>
                  <a:pt x="122" y="95"/>
                </a:lnTo>
                <a:lnTo>
                  <a:pt x="133" y="82"/>
                </a:lnTo>
                <a:lnTo>
                  <a:pt x="144" y="69"/>
                </a:lnTo>
                <a:lnTo>
                  <a:pt x="154" y="54"/>
                </a:lnTo>
                <a:lnTo>
                  <a:pt x="161" y="37"/>
                </a:lnTo>
                <a:lnTo>
                  <a:pt x="167" y="21"/>
                </a:lnTo>
                <a:lnTo>
                  <a:pt x="169" y="0"/>
                </a:lnTo>
                <a:lnTo>
                  <a:pt x="169" y="0"/>
                </a:lnTo>
                <a:lnTo>
                  <a:pt x="189" y="11"/>
                </a:lnTo>
                <a:lnTo>
                  <a:pt x="210" y="21"/>
                </a:lnTo>
                <a:lnTo>
                  <a:pt x="212" y="17"/>
                </a:lnTo>
                <a:lnTo>
                  <a:pt x="212" y="17"/>
                </a:lnTo>
                <a:lnTo>
                  <a:pt x="212" y="17"/>
                </a:lnTo>
                <a:lnTo>
                  <a:pt x="212" y="17"/>
                </a:lnTo>
                <a:lnTo>
                  <a:pt x="210" y="21"/>
                </a:lnTo>
                <a:lnTo>
                  <a:pt x="210" y="21"/>
                </a:lnTo>
                <a:lnTo>
                  <a:pt x="212" y="21"/>
                </a:lnTo>
                <a:lnTo>
                  <a:pt x="212" y="21"/>
                </a:lnTo>
                <a:lnTo>
                  <a:pt x="228" y="21"/>
                </a:lnTo>
                <a:lnTo>
                  <a:pt x="247" y="22"/>
                </a:lnTo>
                <a:lnTo>
                  <a:pt x="281" y="32"/>
                </a:lnTo>
                <a:lnTo>
                  <a:pt x="298" y="36"/>
                </a:lnTo>
                <a:lnTo>
                  <a:pt x="314" y="39"/>
                </a:lnTo>
                <a:lnTo>
                  <a:pt x="333" y="41"/>
                </a:lnTo>
                <a:lnTo>
                  <a:pt x="352" y="41"/>
                </a:lnTo>
                <a:lnTo>
                  <a:pt x="352" y="41"/>
                </a:lnTo>
                <a:lnTo>
                  <a:pt x="423" y="49"/>
                </a:lnTo>
                <a:lnTo>
                  <a:pt x="423" y="49"/>
                </a:lnTo>
                <a:lnTo>
                  <a:pt x="496" y="56"/>
                </a:lnTo>
                <a:lnTo>
                  <a:pt x="496" y="56"/>
                </a:lnTo>
                <a:lnTo>
                  <a:pt x="513" y="62"/>
                </a:lnTo>
                <a:lnTo>
                  <a:pt x="528" y="67"/>
                </a:lnTo>
                <a:lnTo>
                  <a:pt x="544" y="75"/>
                </a:lnTo>
                <a:lnTo>
                  <a:pt x="559" y="82"/>
                </a:lnTo>
                <a:lnTo>
                  <a:pt x="559" y="82"/>
                </a:lnTo>
                <a:lnTo>
                  <a:pt x="574" y="95"/>
                </a:lnTo>
                <a:lnTo>
                  <a:pt x="586" y="110"/>
                </a:lnTo>
                <a:lnTo>
                  <a:pt x="586" y="110"/>
                </a:lnTo>
                <a:lnTo>
                  <a:pt x="576" y="120"/>
                </a:lnTo>
                <a:lnTo>
                  <a:pt x="565" y="127"/>
                </a:lnTo>
                <a:lnTo>
                  <a:pt x="552" y="133"/>
                </a:lnTo>
                <a:lnTo>
                  <a:pt x="539" y="137"/>
                </a:lnTo>
                <a:lnTo>
                  <a:pt x="539" y="137"/>
                </a:lnTo>
                <a:lnTo>
                  <a:pt x="539" y="137"/>
                </a:lnTo>
                <a:lnTo>
                  <a:pt x="511" y="142"/>
                </a:lnTo>
                <a:lnTo>
                  <a:pt x="485" y="150"/>
                </a:lnTo>
                <a:lnTo>
                  <a:pt x="460" y="161"/>
                </a:lnTo>
                <a:lnTo>
                  <a:pt x="438" y="174"/>
                </a:lnTo>
                <a:lnTo>
                  <a:pt x="417" y="191"/>
                </a:lnTo>
                <a:lnTo>
                  <a:pt x="399" y="208"/>
                </a:lnTo>
                <a:lnTo>
                  <a:pt x="361" y="245"/>
                </a:lnTo>
                <a:lnTo>
                  <a:pt x="328" y="284"/>
                </a:lnTo>
                <a:lnTo>
                  <a:pt x="309" y="303"/>
                </a:lnTo>
                <a:lnTo>
                  <a:pt x="290" y="320"/>
                </a:lnTo>
                <a:lnTo>
                  <a:pt x="270" y="335"/>
                </a:lnTo>
                <a:lnTo>
                  <a:pt x="249" y="350"/>
                </a:lnTo>
                <a:lnTo>
                  <a:pt x="227" y="361"/>
                </a:lnTo>
                <a:lnTo>
                  <a:pt x="200" y="368"/>
                </a:lnTo>
                <a:lnTo>
                  <a:pt x="202" y="372"/>
                </a:lnTo>
                <a:lnTo>
                  <a:pt x="202" y="372"/>
                </a:lnTo>
                <a:lnTo>
                  <a:pt x="200" y="368"/>
                </a:lnTo>
                <a:lnTo>
                  <a:pt x="200" y="368"/>
                </a:lnTo>
                <a:lnTo>
                  <a:pt x="200" y="368"/>
                </a:lnTo>
                <a:lnTo>
                  <a:pt x="200" y="368"/>
                </a:lnTo>
                <a:lnTo>
                  <a:pt x="180" y="374"/>
                </a:lnTo>
                <a:lnTo>
                  <a:pt x="157" y="376"/>
                </a:lnTo>
                <a:lnTo>
                  <a:pt x="157" y="376"/>
                </a:lnTo>
                <a:lnTo>
                  <a:pt x="129" y="372"/>
                </a:lnTo>
                <a:lnTo>
                  <a:pt x="103" y="367"/>
                </a:lnTo>
                <a:lnTo>
                  <a:pt x="79" y="357"/>
                </a:lnTo>
                <a:lnTo>
                  <a:pt x="56" y="3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6560" y="2190600"/>
            <a:ext cx="666720" cy="185760"/>
          </a:xfrm>
          <a:custGeom>
            <a:avLst/>
            <a:gdLst/>
            <a:ahLst/>
            <a:rect l="l" t="t" r="r" b="b"/>
            <a:pathLst>
              <a:path w="420" h="117">
                <a:moveTo>
                  <a:pt x="390" y="89"/>
                </a:moveTo>
                <a:lnTo>
                  <a:pt x="390" y="89"/>
                </a:lnTo>
                <a:lnTo>
                  <a:pt x="375" y="82"/>
                </a:lnTo>
                <a:lnTo>
                  <a:pt x="359" y="74"/>
                </a:lnTo>
                <a:lnTo>
                  <a:pt x="344" y="69"/>
                </a:lnTo>
                <a:lnTo>
                  <a:pt x="327" y="63"/>
                </a:lnTo>
                <a:lnTo>
                  <a:pt x="327" y="63"/>
                </a:lnTo>
                <a:lnTo>
                  <a:pt x="254" y="56"/>
                </a:lnTo>
                <a:lnTo>
                  <a:pt x="254" y="54"/>
                </a:lnTo>
                <a:lnTo>
                  <a:pt x="254" y="56"/>
                </a:lnTo>
                <a:lnTo>
                  <a:pt x="254" y="56"/>
                </a:lnTo>
                <a:lnTo>
                  <a:pt x="183" y="48"/>
                </a:lnTo>
                <a:lnTo>
                  <a:pt x="183" y="48"/>
                </a:lnTo>
                <a:lnTo>
                  <a:pt x="164" y="48"/>
                </a:lnTo>
                <a:lnTo>
                  <a:pt x="145" y="46"/>
                </a:lnTo>
                <a:lnTo>
                  <a:pt x="129" y="43"/>
                </a:lnTo>
                <a:lnTo>
                  <a:pt x="112" y="39"/>
                </a:lnTo>
                <a:lnTo>
                  <a:pt x="78" y="29"/>
                </a:lnTo>
                <a:lnTo>
                  <a:pt x="59" y="28"/>
                </a:lnTo>
                <a:lnTo>
                  <a:pt x="43" y="28"/>
                </a:lnTo>
                <a:lnTo>
                  <a:pt x="41" y="28"/>
                </a:lnTo>
                <a:lnTo>
                  <a:pt x="41" y="28"/>
                </a:lnTo>
                <a:lnTo>
                  <a:pt x="43" y="24"/>
                </a:lnTo>
                <a:lnTo>
                  <a:pt x="43" y="24"/>
                </a:lnTo>
                <a:lnTo>
                  <a:pt x="41" y="28"/>
                </a:lnTo>
                <a:lnTo>
                  <a:pt x="41" y="28"/>
                </a:lnTo>
                <a:lnTo>
                  <a:pt x="20" y="18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20" y="11"/>
                </a:lnTo>
                <a:lnTo>
                  <a:pt x="43" y="22"/>
                </a:lnTo>
                <a:lnTo>
                  <a:pt x="43" y="22"/>
                </a:lnTo>
                <a:lnTo>
                  <a:pt x="61" y="22"/>
                </a:lnTo>
                <a:lnTo>
                  <a:pt x="80" y="24"/>
                </a:lnTo>
                <a:lnTo>
                  <a:pt x="97" y="28"/>
                </a:lnTo>
                <a:lnTo>
                  <a:pt x="114" y="33"/>
                </a:lnTo>
                <a:lnTo>
                  <a:pt x="130" y="37"/>
                </a:lnTo>
                <a:lnTo>
                  <a:pt x="147" y="41"/>
                </a:lnTo>
                <a:lnTo>
                  <a:pt x="164" y="43"/>
                </a:lnTo>
                <a:lnTo>
                  <a:pt x="183" y="43"/>
                </a:lnTo>
                <a:lnTo>
                  <a:pt x="183" y="43"/>
                </a:lnTo>
                <a:lnTo>
                  <a:pt x="185" y="43"/>
                </a:lnTo>
                <a:lnTo>
                  <a:pt x="185" y="43"/>
                </a:lnTo>
                <a:lnTo>
                  <a:pt x="254" y="50"/>
                </a:lnTo>
                <a:lnTo>
                  <a:pt x="254" y="50"/>
                </a:lnTo>
                <a:lnTo>
                  <a:pt x="329" y="58"/>
                </a:lnTo>
                <a:lnTo>
                  <a:pt x="329" y="58"/>
                </a:lnTo>
                <a:lnTo>
                  <a:pt x="329" y="58"/>
                </a:lnTo>
                <a:lnTo>
                  <a:pt x="329" y="58"/>
                </a:lnTo>
                <a:lnTo>
                  <a:pt x="345" y="63"/>
                </a:lnTo>
                <a:lnTo>
                  <a:pt x="362" y="69"/>
                </a:lnTo>
                <a:lnTo>
                  <a:pt x="377" y="76"/>
                </a:lnTo>
                <a:lnTo>
                  <a:pt x="394" y="86"/>
                </a:lnTo>
                <a:lnTo>
                  <a:pt x="394" y="86"/>
                </a:lnTo>
                <a:lnTo>
                  <a:pt x="394" y="86"/>
                </a:lnTo>
                <a:lnTo>
                  <a:pt x="394" y="86"/>
                </a:lnTo>
                <a:lnTo>
                  <a:pt x="409" y="99"/>
                </a:lnTo>
                <a:lnTo>
                  <a:pt x="420" y="114"/>
                </a:lnTo>
                <a:lnTo>
                  <a:pt x="420" y="114"/>
                </a:lnTo>
                <a:lnTo>
                  <a:pt x="417" y="117"/>
                </a:lnTo>
                <a:lnTo>
                  <a:pt x="417" y="117"/>
                </a:lnTo>
                <a:lnTo>
                  <a:pt x="405" y="102"/>
                </a:lnTo>
                <a:lnTo>
                  <a:pt x="390" y="89"/>
                </a:lnTo>
                <a:close/>
                <a:moveTo>
                  <a:pt x="392" y="87"/>
                </a:moveTo>
                <a:lnTo>
                  <a:pt x="394" y="86"/>
                </a:lnTo>
                <a:lnTo>
                  <a:pt x="392" y="87"/>
                </a:lnTo>
                <a:lnTo>
                  <a:pt x="392" y="87"/>
                </a:lnTo>
                <a:close/>
                <a:moveTo>
                  <a:pt x="329" y="61"/>
                </a:moveTo>
                <a:lnTo>
                  <a:pt x="329" y="58"/>
                </a:lnTo>
                <a:lnTo>
                  <a:pt x="329" y="61"/>
                </a:lnTo>
                <a:lnTo>
                  <a:pt x="329" y="61"/>
                </a:lnTo>
                <a:close/>
              </a:path>
            </a:pathLst>
          </a:custGeom>
          <a:solidFill>
            <a:srgbClr val="759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6560" y="2190600"/>
            <a:ext cx="666720" cy="185760"/>
          </a:xfrm>
          <a:custGeom>
            <a:avLst/>
            <a:gdLst/>
            <a:ahLst/>
            <a:rect l="l" t="t" r="r" b="b"/>
            <a:pathLst>
              <a:path w="420" h="117">
                <a:moveTo>
                  <a:pt x="390" y="89"/>
                </a:moveTo>
                <a:lnTo>
                  <a:pt x="390" y="89"/>
                </a:lnTo>
                <a:lnTo>
                  <a:pt x="375" y="82"/>
                </a:lnTo>
                <a:lnTo>
                  <a:pt x="359" y="74"/>
                </a:lnTo>
                <a:lnTo>
                  <a:pt x="344" y="69"/>
                </a:lnTo>
                <a:lnTo>
                  <a:pt x="327" y="63"/>
                </a:lnTo>
                <a:lnTo>
                  <a:pt x="327" y="63"/>
                </a:lnTo>
                <a:lnTo>
                  <a:pt x="254" y="56"/>
                </a:lnTo>
                <a:lnTo>
                  <a:pt x="254" y="54"/>
                </a:lnTo>
                <a:lnTo>
                  <a:pt x="254" y="56"/>
                </a:lnTo>
                <a:lnTo>
                  <a:pt x="254" y="56"/>
                </a:lnTo>
                <a:lnTo>
                  <a:pt x="183" y="48"/>
                </a:lnTo>
                <a:lnTo>
                  <a:pt x="183" y="48"/>
                </a:lnTo>
                <a:lnTo>
                  <a:pt x="164" y="48"/>
                </a:lnTo>
                <a:lnTo>
                  <a:pt x="145" y="46"/>
                </a:lnTo>
                <a:lnTo>
                  <a:pt x="129" y="43"/>
                </a:lnTo>
                <a:lnTo>
                  <a:pt x="112" y="39"/>
                </a:lnTo>
                <a:lnTo>
                  <a:pt x="78" y="29"/>
                </a:lnTo>
                <a:lnTo>
                  <a:pt x="59" y="28"/>
                </a:lnTo>
                <a:lnTo>
                  <a:pt x="43" y="28"/>
                </a:lnTo>
                <a:lnTo>
                  <a:pt x="41" y="28"/>
                </a:lnTo>
                <a:lnTo>
                  <a:pt x="41" y="28"/>
                </a:lnTo>
                <a:lnTo>
                  <a:pt x="43" y="24"/>
                </a:lnTo>
                <a:lnTo>
                  <a:pt x="43" y="24"/>
                </a:lnTo>
                <a:lnTo>
                  <a:pt x="41" y="28"/>
                </a:lnTo>
                <a:lnTo>
                  <a:pt x="41" y="28"/>
                </a:lnTo>
                <a:lnTo>
                  <a:pt x="20" y="18"/>
                </a:lnTo>
                <a:lnTo>
                  <a:pt x="0" y="7"/>
                </a:lnTo>
                <a:lnTo>
                  <a:pt x="0" y="7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20" y="11"/>
                </a:lnTo>
                <a:lnTo>
                  <a:pt x="43" y="22"/>
                </a:lnTo>
                <a:lnTo>
                  <a:pt x="43" y="22"/>
                </a:lnTo>
                <a:lnTo>
                  <a:pt x="61" y="22"/>
                </a:lnTo>
                <a:lnTo>
                  <a:pt x="80" y="24"/>
                </a:lnTo>
                <a:lnTo>
                  <a:pt x="97" y="28"/>
                </a:lnTo>
                <a:lnTo>
                  <a:pt x="114" y="33"/>
                </a:lnTo>
                <a:lnTo>
                  <a:pt x="130" y="37"/>
                </a:lnTo>
                <a:lnTo>
                  <a:pt x="147" y="41"/>
                </a:lnTo>
                <a:lnTo>
                  <a:pt x="164" y="43"/>
                </a:lnTo>
                <a:lnTo>
                  <a:pt x="183" y="43"/>
                </a:lnTo>
                <a:lnTo>
                  <a:pt x="183" y="43"/>
                </a:lnTo>
                <a:lnTo>
                  <a:pt x="185" y="43"/>
                </a:lnTo>
                <a:lnTo>
                  <a:pt x="185" y="43"/>
                </a:lnTo>
                <a:lnTo>
                  <a:pt x="254" y="50"/>
                </a:lnTo>
                <a:lnTo>
                  <a:pt x="254" y="50"/>
                </a:lnTo>
                <a:lnTo>
                  <a:pt x="329" y="58"/>
                </a:lnTo>
                <a:lnTo>
                  <a:pt x="329" y="58"/>
                </a:lnTo>
                <a:lnTo>
                  <a:pt x="329" y="58"/>
                </a:lnTo>
                <a:lnTo>
                  <a:pt x="329" y="58"/>
                </a:lnTo>
                <a:lnTo>
                  <a:pt x="345" y="63"/>
                </a:lnTo>
                <a:lnTo>
                  <a:pt x="362" y="69"/>
                </a:lnTo>
                <a:lnTo>
                  <a:pt x="377" y="76"/>
                </a:lnTo>
                <a:lnTo>
                  <a:pt x="394" y="86"/>
                </a:lnTo>
                <a:lnTo>
                  <a:pt x="394" y="86"/>
                </a:lnTo>
                <a:lnTo>
                  <a:pt x="394" y="86"/>
                </a:lnTo>
                <a:lnTo>
                  <a:pt x="394" y="86"/>
                </a:lnTo>
                <a:lnTo>
                  <a:pt x="409" y="99"/>
                </a:lnTo>
                <a:lnTo>
                  <a:pt x="420" y="114"/>
                </a:lnTo>
                <a:lnTo>
                  <a:pt x="420" y="114"/>
                </a:lnTo>
                <a:lnTo>
                  <a:pt x="417" y="117"/>
                </a:lnTo>
                <a:lnTo>
                  <a:pt x="417" y="117"/>
                </a:lnTo>
                <a:lnTo>
                  <a:pt x="405" y="102"/>
                </a:lnTo>
                <a:lnTo>
                  <a:pt x="390" y="8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39000" y="232740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2" y="0"/>
                </a:lnTo>
                <a:lnTo>
                  <a:pt x="0" y="1"/>
                </a:lnTo>
                <a:lnTo>
                  <a:pt x="0" y="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938920" y="228276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04080" y="2421000"/>
            <a:ext cx="144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759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04080" y="2421000"/>
            <a:ext cx="144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94400" y="1655640"/>
            <a:ext cx="2674800" cy="480960"/>
          </a:xfrm>
          <a:custGeom>
            <a:avLst/>
            <a:gdLst/>
            <a:ahLst/>
            <a:rect l="l" t="t" r="r" b="b"/>
            <a:pathLst>
              <a:path w="1685" h="303">
                <a:moveTo>
                  <a:pt x="1554" y="301"/>
                </a:moveTo>
                <a:lnTo>
                  <a:pt x="1556" y="303"/>
                </a:lnTo>
                <a:lnTo>
                  <a:pt x="1556" y="303"/>
                </a:lnTo>
                <a:lnTo>
                  <a:pt x="1556" y="303"/>
                </a:lnTo>
                <a:lnTo>
                  <a:pt x="1554" y="301"/>
                </a:lnTo>
                <a:close/>
                <a:moveTo>
                  <a:pt x="1685" y="120"/>
                </a:moveTo>
                <a:lnTo>
                  <a:pt x="1685" y="120"/>
                </a:lnTo>
                <a:lnTo>
                  <a:pt x="1685" y="120"/>
                </a:lnTo>
                <a:lnTo>
                  <a:pt x="1685" y="120"/>
                </a:lnTo>
                <a:close/>
                <a:moveTo>
                  <a:pt x="991" y="49"/>
                </a:moveTo>
                <a:lnTo>
                  <a:pt x="991" y="49"/>
                </a:lnTo>
                <a:lnTo>
                  <a:pt x="991" y="49"/>
                </a:lnTo>
                <a:lnTo>
                  <a:pt x="991" y="49"/>
                </a:lnTo>
                <a:lnTo>
                  <a:pt x="991" y="49"/>
                </a:lnTo>
                <a:close/>
                <a:moveTo>
                  <a:pt x="1648" y="45"/>
                </a:moveTo>
                <a:lnTo>
                  <a:pt x="1648" y="45"/>
                </a:lnTo>
                <a:lnTo>
                  <a:pt x="1648" y="45"/>
                </a:lnTo>
                <a:lnTo>
                  <a:pt x="1648" y="45"/>
                </a:lnTo>
                <a:lnTo>
                  <a:pt x="1648" y="45"/>
                </a:lnTo>
                <a:close/>
                <a:moveTo>
                  <a:pt x="0" y="30"/>
                </a:moveTo>
                <a:lnTo>
                  <a:pt x="0" y="30"/>
                </a:lnTo>
                <a:lnTo>
                  <a:pt x="0" y="30"/>
                </a:lnTo>
                <a:lnTo>
                  <a:pt x="0" y="30"/>
                </a:lnTo>
                <a:close/>
                <a:moveTo>
                  <a:pt x="1365" y="0"/>
                </a:moveTo>
                <a:lnTo>
                  <a:pt x="1365" y="2"/>
                </a:lnTo>
                <a:lnTo>
                  <a:pt x="1367" y="4"/>
                </a:lnTo>
                <a:lnTo>
                  <a:pt x="1365" y="0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161120" y="2133720"/>
            <a:ext cx="3240" cy="288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369200" y="18464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67600" y="173340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310520" y="172728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94400" y="1703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61240" y="165564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0" y="2"/>
                </a:lnTo>
                <a:lnTo>
                  <a:pt x="2" y="4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38560" y="2122560"/>
            <a:ext cx="1074960" cy="257040"/>
          </a:xfrm>
          <a:custGeom>
            <a:avLst/>
            <a:gdLst/>
            <a:ahLst/>
            <a:rect l="l" t="t" r="r" b="b"/>
            <a:pathLst>
              <a:path w="677" h="162">
                <a:moveTo>
                  <a:pt x="658" y="157"/>
                </a:moveTo>
                <a:lnTo>
                  <a:pt x="658" y="157"/>
                </a:lnTo>
                <a:lnTo>
                  <a:pt x="671" y="140"/>
                </a:lnTo>
                <a:lnTo>
                  <a:pt x="677" y="145"/>
                </a:lnTo>
                <a:lnTo>
                  <a:pt x="677" y="145"/>
                </a:lnTo>
                <a:lnTo>
                  <a:pt x="662" y="162"/>
                </a:lnTo>
                <a:lnTo>
                  <a:pt x="662" y="162"/>
                </a:lnTo>
                <a:lnTo>
                  <a:pt x="658" y="157"/>
                </a:lnTo>
                <a:close/>
                <a:moveTo>
                  <a:pt x="234" y="41"/>
                </a:moveTo>
                <a:lnTo>
                  <a:pt x="234" y="41"/>
                </a:lnTo>
                <a:lnTo>
                  <a:pt x="232" y="43"/>
                </a:lnTo>
                <a:lnTo>
                  <a:pt x="234" y="41"/>
                </a:lnTo>
                <a:lnTo>
                  <a:pt x="234" y="41"/>
                </a:lnTo>
                <a:lnTo>
                  <a:pt x="224" y="35"/>
                </a:lnTo>
                <a:lnTo>
                  <a:pt x="224" y="35"/>
                </a:lnTo>
                <a:lnTo>
                  <a:pt x="221" y="29"/>
                </a:lnTo>
                <a:lnTo>
                  <a:pt x="213" y="26"/>
                </a:lnTo>
                <a:lnTo>
                  <a:pt x="206" y="22"/>
                </a:lnTo>
                <a:lnTo>
                  <a:pt x="196" y="20"/>
                </a:lnTo>
                <a:lnTo>
                  <a:pt x="196" y="20"/>
                </a:lnTo>
                <a:lnTo>
                  <a:pt x="170" y="11"/>
                </a:lnTo>
                <a:lnTo>
                  <a:pt x="146" y="5"/>
                </a:lnTo>
                <a:lnTo>
                  <a:pt x="122" y="3"/>
                </a:lnTo>
                <a:lnTo>
                  <a:pt x="97" y="3"/>
                </a:lnTo>
                <a:lnTo>
                  <a:pt x="73" y="7"/>
                </a:lnTo>
                <a:lnTo>
                  <a:pt x="49" y="15"/>
                </a:lnTo>
                <a:lnTo>
                  <a:pt x="24" y="22"/>
                </a:lnTo>
                <a:lnTo>
                  <a:pt x="2" y="33"/>
                </a:lnTo>
                <a:lnTo>
                  <a:pt x="0" y="26"/>
                </a:lnTo>
                <a:lnTo>
                  <a:pt x="0" y="26"/>
                </a:lnTo>
                <a:lnTo>
                  <a:pt x="36" y="13"/>
                </a:lnTo>
                <a:lnTo>
                  <a:pt x="71" y="3"/>
                </a:lnTo>
                <a:lnTo>
                  <a:pt x="71" y="3"/>
                </a:lnTo>
                <a:lnTo>
                  <a:pt x="71" y="3"/>
                </a:lnTo>
                <a:lnTo>
                  <a:pt x="73" y="7"/>
                </a:lnTo>
                <a:lnTo>
                  <a:pt x="71" y="3"/>
                </a:lnTo>
                <a:lnTo>
                  <a:pt x="71" y="3"/>
                </a:lnTo>
                <a:lnTo>
                  <a:pt x="99" y="0"/>
                </a:lnTo>
                <a:lnTo>
                  <a:pt x="133" y="0"/>
                </a:lnTo>
                <a:lnTo>
                  <a:pt x="133" y="0"/>
                </a:lnTo>
                <a:lnTo>
                  <a:pt x="165" y="3"/>
                </a:lnTo>
                <a:lnTo>
                  <a:pt x="181" y="7"/>
                </a:lnTo>
                <a:lnTo>
                  <a:pt x="196" y="13"/>
                </a:lnTo>
                <a:lnTo>
                  <a:pt x="196" y="13"/>
                </a:lnTo>
                <a:lnTo>
                  <a:pt x="211" y="16"/>
                </a:lnTo>
                <a:lnTo>
                  <a:pt x="223" y="22"/>
                </a:lnTo>
                <a:lnTo>
                  <a:pt x="232" y="31"/>
                </a:lnTo>
                <a:lnTo>
                  <a:pt x="238" y="43"/>
                </a:lnTo>
                <a:lnTo>
                  <a:pt x="238" y="43"/>
                </a:lnTo>
                <a:lnTo>
                  <a:pt x="234" y="41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83280" y="2344680"/>
            <a:ext cx="30240" cy="34920"/>
          </a:xfrm>
          <a:custGeom>
            <a:avLst/>
            <a:gdLst/>
            <a:ahLst/>
            <a:rect l="l" t="t" r="r" b="b"/>
            <a:pathLst>
              <a:path w="19" h="22">
                <a:moveTo>
                  <a:pt x="0" y="17"/>
                </a:moveTo>
                <a:lnTo>
                  <a:pt x="0" y="17"/>
                </a:lnTo>
                <a:lnTo>
                  <a:pt x="13" y="0"/>
                </a:lnTo>
                <a:lnTo>
                  <a:pt x="19" y="5"/>
                </a:lnTo>
                <a:lnTo>
                  <a:pt x="19" y="5"/>
                </a:lnTo>
                <a:lnTo>
                  <a:pt x="4" y="22"/>
                </a:lnTo>
                <a:lnTo>
                  <a:pt x="4" y="22"/>
                </a:lnTo>
                <a:lnTo>
                  <a:pt x="0" y="17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38560" y="2122560"/>
            <a:ext cx="378000" cy="68040"/>
          </a:xfrm>
          <a:custGeom>
            <a:avLst/>
            <a:gdLst/>
            <a:ahLst/>
            <a:rect l="l" t="t" r="r" b="b"/>
            <a:pathLst>
              <a:path w="238" h="43">
                <a:moveTo>
                  <a:pt x="234" y="41"/>
                </a:moveTo>
                <a:lnTo>
                  <a:pt x="234" y="41"/>
                </a:lnTo>
                <a:lnTo>
                  <a:pt x="232" y="43"/>
                </a:lnTo>
                <a:lnTo>
                  <a:pt x="234" y="41"/>
                </a:lnTo>
                <a:lnTo>
                  <a:pt x="234" y="41"/>
                </a:lnTo>
                <a:lnTo>
                  <a:pt x="224" y="35"/>
                </a:lnTo>
                <a:lnTo>
                  <a:pt x="224" y="35"/>
                </a:lnTo>
                <a:lnTo>
                  <a:pt x="221" y="29"/>
                </a:lnTo>
                <a:lnTo>
                  <a:pt x="213" y="26"/>
                </a:lnTo>
                <a:lnTo>
                  <a:pt x="206" y="22"/>
                </a:lnTo>
                <a:lnTo>
                  <a:pt x="196" y="20"/>
                </a:lnTo>
                <a:lnTo>
                  <a:pt x="196" y="20"/>
                </a:lnTo>
                <a:lnTo>
                  <a:pt x="170" y="11"/>
                </a:lnTo>
                <a:lnTo>
                  <a:pt x="146" y="5"/>
                </a:lnTo>
                <a:lnTo>
                  <a:pt x="122" y="3"/>
                </a:lnTo>
                <a:lnTo>
                  <a:pt x="97" y="3"/>
                </a:lnTo>
                <a:lnTo>
                  <a:pt x="73" y="7"/>
                </a:lnTo>
                <a:lnTo>
                  <a:pt x="49" y="15"/>
                </a:lnTo>
                <a:lnTo>
                  <a:pt x="24" y="22"/>
                </a:lnTo>
                <a:lnTo>
                  <a:pt x="2" y="33"/>
                </a:lnTo>
                <a:lnTo>
                  <a:pt x="0" y="26"/>
                </a:lnTo>
                <a:lnTo>
                  <a:pt x="0" y="26"/>
                </a:lnTo>
                <a:lnTo>
                  <a:pt x="36" y="13"/>
                </a:lnTo>
                <a:lnTo>
                  <a:pt x="71" y="3"/>
                </a:lnTo>
                <a:lnTo>
                  <a:pt x="71" y="3"/>
                </a:lnTo>
                <a:lnTo>
                  <a:pt x="71" y="3"/>
                </a:lnTo>
                <a:lnTo>
                  <a:pt x="73" y="7"/>
                </a:lnTo>
                <a:lnTo>
                  <a:pt x="71" y="3"/>
                </a:lnTo>
                <a:lnTo>
                  <a:pt x="71" y="3"/>
                </a:lnTo>
                <a:lnTo>
                  <a:pt x="99" y="0"/>
                </a:lnTo>
                <a:lnTo>
                  <a:pt x="133" y="0"/>
                </a:lnTo>
                <a:lnTo>
                  <a:pt x="133" y="0"/>
                </a:lnTo>
                <a:lnTo>
                  <a:pt x="165" y="3"/>
                </a:lnTo>
                <a:lnTo>
                  <a:pt x="181" y="7"/>
                </a:lnTo>
                <a:lnTo>
                  <a:pt x="196" y="13"/>
                </a:lnTo>
                <a:lnTo>
                  <a:pt x="196" y="13"/>
                </a:lnTo>
                <a:lnTo>
                  <a:pt x="211" y="16"/>
                </a:lnTo>
                <a:lnTo>
                  <a:pt x="223" y="22"/>
                </a:lnTo>
                <a:lnTo>
                  <a:pt x="232" y="31"/>
                </a:lnTo>
                <a:lnTo>
                  <a:pt x="238" y="43"/>
                </a:lnTo>
                <a:lnTo>
                  <a:pt x="238" y="43"/>
                </a:lnTo>
                <a:lnTo>
                  <a:pt x="234" y="4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37200" y="2192400"/>
            <a:ext cx="946080" cy="617400"/>
          </a:xfrm>
          <a:custGeom>
            <a:avLst/>
            <a:gdLst/>
            <a:ahLst/>
            <a:rect l="l" t="t" r="r" b="b"/>
            <a:pathLst>
              <a:path w="596" h="389">
                <a:moveTo>
                  <a:pt x="58" y="356"/>
                </a:moveTo>
                <a:lnTo>
                  <a:pt x="58" y="356"/>
                </a:lnTo>
                <a:lnTo>
                  <a:pt x="43" y="344"/>
                </a:lnTo>
                <a:lnTo>
                  <a:pt x="30" y="330"/>
                </a:lnTo>
                <a:lnTo>
                  <a:pt x="18" y="315"/>
                </a:lnTo>
                <a:lnTo>
                  <a:pt x="9" y="298"/>
                </a:lnTo>
                <a:lnTo>
                  <a:pt x="4" y="281"/>
                </a:lnTo>
                <a:lnTo>
                  <a:pt x="0" y="262"/>
                </a:lnTo>
                <a:lnTo>
                  <a:pt x="0" y="242"/>
                </a:lnTo>
                <a:lnTo>
                  <a:pt x="4" y="219"/>
                </a:lnTo>
                <a:lnTo>
                  <a:pt x="4" y="219"/>
                </a:lnTo>
                <a:lnTo>
                  <a:pt x="4" y="219"/>
                </a:lnTo>
                <a:lnTo>
                  <a:pt x="9" y="204"/>
                </a:lnTo>
                <a:lnTo>
                  <a:pt x="18" y="189"/>
                </a:lnTo>
                <a:lnTo>
                  <a:pt x="28" y="174"/>
                </a:lnTo>
                <a:lnTo>
                  <a:pt x="39" y="163"/>
                </a:lnTo>
                <a:lnTo>
                  <a:pt x="52" y="150"/>
                </a:lnTo>
                <a:lnTo>
                  <a:pt x="67" y="139"/>
                </a:lnTo>
                <a:lnTo>
                  <a:pt x="95" y="118"/>
                </a:lnTo>
                <a:lnTo>
                  <a:pt x="95" y="118"/>
                </a:lnTo>
                <a:lnTo>
                  <a:pt x="123" y="96"/>
                </a:lnTo>
                <a:lnTo>
                  <a:pt x="136" y="83"/>
                </a:lnTo>
                <a:lnTo>
                  <a:pt x="146" y="71"/>
                </a:lnTo>
                <a:lnTo>
                  <a:pt x="155" y="57"/>
                </a:lnTo>
                <a:lnTo>
                  <a:pt x="162" y="42"/>
                </a:lnTo>
                <a:lnTo>
                  <a:pt x="166" y="23"/>
                </a:lnTo>
                <a:lnTo>
                  <a:pt x="168" y="4"/>
                </a:lnTo>
                <a:lnTo>
                  <a:pt x="168" y="4"/>
                </a:lnTo>
                <a:lnTo>
                  <a:pt x="168" y="0"/>
                </a:lnTo>
                <a:lnTo>
                  <a:pt x="168" y="0"/>
                </a:lnTo>
                <a:lnTo>
                  <a:pt x="168" y="0"/>
                </a:lnTo>
                <a:lnTo>
                  <a:pt x="168" y="0"/>
                </a:lnTo>
                <a:lnTo>
                  <a:pt x="168" y="0"/>
                </a:lnTo>
                <a:lnTo>
                  <a:pt x="176" y="6"/>
                </a:lnTo>
                <a:lnTo>
                  <a:pt x="176" y="6"/>
                </a:lnTo>
                <a:lnTo>
                  <a:pt x="174" y="27"/>
                </a:lnTo>
                <a:lnTo>
                  <a:pt x="168" y="43"/>
                </a:lnTo>
                <a:lnTo>
                  <a:pt x="161" y="60"/>
                </a:lnTo>
                <a:lnTo>
                  <a:pt x="151" y="75"/>
                </a:lnTo>
                <a:lnTo>
                  <a:pt x="140" y="88"/>
                </a:lnTo>
                <a:lnTo>
                  <a:pt x="129" y="101"/>
                </a:lnTo>
                <a:lnTo>
                  <a:pt x="101" y="124"/>
                </a:lnTo>
                <a:lnTo>
                  <a:pt x="101" y="124"/>
                </a:lnTo>
                <a:lnTo>
                  <a:pt x="71" y="146"/>
                </a:lnTo>
                <a:lnTo>
                  <a:pt x="45" y="167"/>
                </a:lnTo>
                <a:lnTo>
                  <a:pt x="33" y="180"/>
                </a:lnTo>
                <a:lnTo>
                  <a:pt x="24" y="193"/>
                </a:lnTo>
                <a:lnTo>
                  <a:pt x="17" y="206"/>
                </a:lnTo>
                <a:lnTo>
                  <a:pt x="11" y="221"/>
                </a:lnTo>
                <a:lnTo>
                  <a:pt x="7" y="221"/>
                </a:lnTo>
                <a:lnTo>
                  <a:pt x="7" y="221"/>
                </a:lnTo>
                <a:lnTo>
                  <a:pt x="11" y="221"/>
                </a:lnTo>
                <a:lnTo>
                  <a:pt x="11" y="223"/>
                </a:lnTo>
                <a:lnTo>
                  <a:pt x="11" y="223"/>
                </a:lnTo>
                <a:lnTo>
                  <a:pt x="7" y="242"/>
                </a:lnTo>
                <a:lnTo>
                  <a:pt x="7" y="260"/>
                </a:lnTo>
                <a:lnTo>
                  <a:pt x="11" y="279"/>
                </a:lnTo>
                <a:lnTo>
                  <a:pt x="17" y="296"/>
                </a:lnTo>
                <a:lnTo>
                  <a:pt x="24" y="311"/>
                </a:lnTo>
                <a:lnTo>
                  <a:pt x="35" y="326"/>
                </a:lnTo>
                <a:lnTo>
                  <a:pt x="48" y="339"/>
                </a:lnTo>
                <a:lnTo>
                  <a:pt x="63" y="350"/>
                </a:lnTo>
                <a:lnTo>
                  <a:pt x="63" y="350"/>
                </a:lnTo>
                <a:lnTo>
                  <a:pt x="78" y="359"/>
                </a:lnTo>
                <a:lnTo>
                  <a:pt x="97" y="367"/>
                </a:lnTo>
                <a:lnTo>
                  <a:pt x="114" y="374"/>
                </a:lnTo>
                <a:lnTo>
                  <a:pt x="133" y="378"/>
                </a:lnTo>
                <a:lnTo>
                  <a:pt x="151" y="380"/>
                </a:lnTo>
                <a:lnTo>
                  <a:pt x="172" y="380"/>
                </a:lnTo>
                <a:lnTo>
                  <a:pt x="191" y="378"/>
                </a:lnTo>
                <a:lnTo>
                  <a:pt x="207" y="374"/>
                </a:lnTo>
                <a:lnTo>
                  <a:pt x="207" y="374"/>
                </a:lnTo>
                <a:lnTo>
                  <a:pt x="207" y="374"/>
                </a:lnTo>
                <a:lnTo>
                  <a:pt x="209" y="378"/>
                </a:lnTo>
                <a:lnTo>
                  <a:pt x="209" y="378"/>
                </a:lnTo>
                <a:lnTo>
                  <a:pt x="207" y="374"/>
                </a:lnTo>
                <a:lnTo>
                  <a:pt x="207" y="374"/>
                </a:lnTo>
                <a:lnTo>
                  <a:pt x="234" y="367"/>
                </a:lnTo>
                <a:lnTo>
                  <a:pt x="256" y="356"/>
                </a:lnTo>
                <a:lnTo>
                  <a:pt x="277" y="341"/>
                </a:lnTo>
                <a:lnTo>
                  <a:pt x="297" y="326"/>
                </a:lnTo>
                <a:lnTo>
                  <a:pt x="316" y="309"/>
                </a:lnTo>
                <a:lnTo>
                  <a:pt x="335" y="290"/>
                </a:lnTo>
                <a:lnTo>
                  <a:pt x="368" y="251"/>
                </a:lnTo>
                <a:lnTo>
                  <a:pt x="406" y="214"/>
                </a:lnTo>
                <a:lnTo>
                  <a:pt x="424" y="197"/>
                </a:lnTo>
                <a:lnTo>
                  <a:pt x="445" y="180"/>
                </a:lnTo>
                <a:lnTo>
                  <a:pt x="467" y="167"/>
                </a:lnTo>
                <a:lnTo>
                  <a:pt x="492" y="156"/>
                </a:lnTo>
                <a:lnTo>
                  <a:pt x="518" y="148"/>
                </a:lnTo>
                <a:lnTo>
                  <a:pt x="546" y="143"/>
                </a:lnTo>
                <a:lnTo>
                  <a:pt x="546" y="143"/>
                </a:lnTo>
                <a:lnTo>
                  <a:pt x="546" y="143"/>
                </a:lnTo>
                <a:lnTo>
                  <a:pt x="559" y="139"/>
                </a:lnTo>
                <a:lnTo>
                  <a:pt x="572" y="133"/>
                </a:lnTo>
                <a:lnTo>
                  <a:pt x="583" y="126"/>
                </a:lnTo>
                <a:lnTo>
                  <a:pt x="593" y="116"/>
                </a:lnTo>
                <a:lnTo>
                  <a:pt x="593" y="116"/>
                </a:lnTo>
                <a:lnTo>
                  <a:pt x="596" y="122"/>
                </a:lnTo>
                <a:lnTo>
                  <a:pt x="596" y="122"/>
                </a:lnTo>
                <a:lnTo>
                  <a:pt x="587" y="133"/>
                </a:lnTo>
                <a:lnTo>
                  <a:pt x="574" y="141"/>
                </a:lnTo>
                <a:lnTo>
                  <a:pt x="561" y="146"/>
                </a:lnTo>
                <a:lnTo>
                  <a:pt x="546" y="150"/>
                </a:lnTo>
                <a:lnTo>
                  <a:pt x="546" y="144"/>
                </a:lnTo>
                <a:lnTo>
                  <a:pt x="546" y="150"/>
                </a:lnTo>
                <a:lnTo>
                  <a:pt x="546" y="146"/>
                </a:lnTo>
                <a:lnTo>
                  <a:pt x="546" y="150"/>
                </a:lnTo>
                <a:lnTo>
                  <a:pt x="546" y="150"/>
                </a:lnTo>
                <a:lnTo>
                  <a:pt x="546" y="150"/>
                </a:lnTo>
                <a:lnTo>
                  <a:pt x="546" y="150"/>
                </a:lnTo>
                <a:lnTo>
                  <a:pt x="520" y="154"/>
                </a:lnTo>
                <a:lnTo>
                  <a:pt x="493" y="163"/>
                </a:lnTo>
                <a:lnTo>
                  <a:pt x="471" y="172"/>
                </a:lnTo>
                <a:lnTo>
                  <a:pt x="449" y="187"/>
                </a:lnTo>
                <a:lnTo>
                  <a:pt x="430" y="202"/>
                </a:lnTo>
                <a:lnTo>
                  <a:pt x="411" y="219"/>
                </a:lnTo>
                <a:lnTo>
                  <a:pt x="376" y="257"/>
                </a:lnTo>
                <a:lnTo>
                  <a:pt x="340" y="294"/>
                </a:lnTo>
                <a:lnTo>
                  <a:pt x="321" y="313"/>
                </a:lnTo>
                <a:lnTo>
                  <a:pt x="303" y="331"/>
                </a:lnTo>
                <a:lnTo>
                  <a:pt x="282" y="346"/>
                </a:lnTo>
                <a:lnTo>
                  <a:pt x="260" y="361"/>
                </a:lnTo>
                <a:lnTo>
                  <a:pt x="235" y="373"/>
                </a:lnTo>
                <a:lnTo>
                  <a:pt x="211" y="382"/>
                </a:lnTo>
                <a:lnTo>
                  <a:pt x="211" y="382"/>
                </a:lnTo>
                <a:lnTo>
                  <a:pt x="211" y="382"/>
                </a:lnTo>
                <a:lnTo>
                  <a:pt x="187" y="387"/>
                </a:lnTo>
                <a:lnTo>
                  <a:pt x="164" y="389"/>
                </a:lnTo>
                <a:lnTo>
                  <a:pt x="164" y="389"/>
                </a:lnTo>
                <a:lnTo>
                  <a:pt x="136" y="386"/>
                </a:lnTo>
                <a:lnTo>
                  <a:pt x="108" y="380"/>
                </a:lnTo>
                <a:lnTo>
                  <a:pt x="82" y="371"/>
                </a:lnTo>
                <a:lnTo>
                  <a:pt x="58" y="356"/>
                </a:lnTo>
                <a:close/>
              </a:path>
            </a:pathLst>
          </a:custGeom>
          <a:solidFill>
            <a:srgbClr val="759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37200" y="2192400"/>
            <a:ext cx="946080" cy="617400"/>
          </a:xfrm>
          <a:custGeom>
            <a:avLst/>
            <a:gdLst/>
            <a:ahLst/>
            <a:rect l="l" t="t" r="r" b="b"/>
            <a:pathLst>
              <a:path w="596" h="389">
                <a:moveTo>
                  <a:pt x="58" y="356"/>
                </a:moveTo>
                <a:lnTo>
                  <a:pt x="58" y="356"/>
                </a:lnTo>
                <a:lnTo>
                  <a:pt x="43" y="344"/>
                </a:lnTo>
                <a:lnTo>
                  <a:pt x="30" y="330"/>
                </a:lnTo>
                <a:lnTo>
                  <a:pt x="18" y="315"/>
                </a:lnTo>
                <a:lnTo>
                  <a:pt x="9" y="298"/>
                </a:lnTo>
                <a:lnTo>
                  <a:pt x="4" y="281"/>
                </a:lnTo>
                <a:lnTo>
                  <a:pt x="0" y="262"/>
                </a:lnTo>
                <a:lnTo>
                  <a:pt x="0" y="242"/>
                </a:lnTo>
                <a:lnTo>
                  <a:pt x="4" y="219"/>
                </a:lnTo>
                <a:lnTo>
                  <a:pt x="4" y="219"/>
                </a:lnTo>
                <a:lnTo>
                  <a:pt x="4" y="219"/>
                </a:lnTo>
                <a:lnTo>
                  <a:pt x="9" y="204"/>
                </a:lnTo>
                <a:lnTo>
                  <a:pt x="18" y="189"/>
                </a:lnTo>
                <a:lnTo>
                  <a:pt x="28" y="174"/>
                </a:lnTo>
                <a:lnTo>
                  <a:pt x="39" y="163"/>
                </a:lnTo>
                <a:lnTo>
                  <a:pt x="52" y="150"/>
                </a:lnTo>
                <a:lnTo>
                  <a:pt x="67" y="139"/>
                </a:lnTo>
                <a:lnTo>
                  <a:pt x="95" y="118"/>
                </a:lnTo>
                <a:lnTo>
                  <a:pt x="95" y="118"/>
                </a:lnTo>
                <a:lnTo>
                  <a:pt x="123" y="96"/>
                </a:lnTo>
                <a:lnTo>
                  <a:pt x="136" y="83"/>
                </a:lnTo>
                <a:lnTo>
                  <a:pt x="146" y="71"/>
                </a:lnTo>
                <a:lnTo>
                  <a:pt x="155" y="57"/>
                </a:lnTo>
                <a:lnTo>
                  <a:pt x="162" y="42"/>
                </a:lnTo>
                <a:lnTo>
                  <a:pt x="166" y="23"/>
                </a:lnTo>
                <a:lnTo>
                  <a:pt x="168" y="4"/>
                </a:lnTo>
                <a:lnTo>
                  <a:pt x="168" y="4"/>
                </a:lnTo>
                <a:lnTo>
                  <a:pt x="168" y="0"/>
                </a:lnTo>
                <a:lnTo>
                  <a:pt x="168" y="0"/>
                </a:lnTo>
                <a:lnTo>
                  <a:pt x="168" y="0"/>
                </a:lnTo>
                <a:lnTo>
                  <a:pt x="168" y="0"/>
                </a:lnTo>
                <a:lnTo>
                  <a:pt x="168" y="0"/>
                </a:lnTo>
                <a:lnTo>
                  <a:pt x="176" y="6"/>
                </a:lnTo>
                <a:lnTo>
                  <a:pt x="176" y="6"/>
                </a:lnTo>
                <a:lnTo>
                  <a:pt x="174" y="27"/>
                </a:lnTo>
                <a:lnTo>
                  <a:pt x="168" y="43"/>
                </a:lnTo>
                <a:lnTo>
                  <a:pt x="161" y="60"/>
                </a:lnTo>
                <a:lnTo>
                  <a:pt x="151" y="75"/>
                </a:lnTo>
                <a:lnTo>
                  <a:pt x="140" y="88"/>
                </a:lnTo>
                <a:lnTo>
                  <a:pt x="129" y="101"/>
                </a:lnTo>
                <a:lnTo>
                  <a:pt x="101" y="124"/>
                </a:lnTo>
                <a:lnTo>
                  <a:pt x="101" y="124"/>
                </a:lnTo>
                <a:lnTo>
                  <a:pt x="71" y="146"/>
                </a:lnTo>
                <a:lnTo>
                  <a:pt x="45" y="167"/>
                </a:lnTo>
                <a:lnTo>
                  <a:pt x="33" y="180"/>
                </a:lnTo>
                <a:lnTo>
                  <a:pt x="24" y="193"/>
                </a:lnTo>
                <a:lnTo>
                  <a:pt x="17" y="206"/>
                </a:lnTo>
                <a:lnTo>
                  <a:pt x="11" y="221"/>
                </a:lnTo>
                <a:lnTo>
                  <a:pt x="7" y="221"/>
                </a:lnTo>
                <a:lnTo>
                  <a:pt x="7" y="221"/>
                </a:lnTo>
                <a:lnTo>
                  <a:pt x="11" y="221"/>
                </a:lnTo>
                <a:lnTo>
                  <a:pt x="11" y="223"/>
                </a:lnTo>
                <a:lnTo>
                  <a:pt x="11" y="223"/>
                </a:lnTo>
                <a:lnTo>
                  <a:pt x="7" y="242"/>
                </a:lnTo>
                <a:lnTo>
                  <a:pt x="7" y="260"/>
                </a:lnTo>
                <a:lnTo>
                  <a:pt x="11" y="279"/>
                </a:lnTo>
                <a:lnTo>
                  <a:pt x="17" y="296"/>
                </a:lnTo>
                <a:lnTo>
                  <a:pt x="24" y="311"/>
                </a:lnTo>
                <a:lnTo>
                  <a:pt x="35" y="326"/>
                </a:lnTo>
                <a:lnTo>
                  <a:pt x="48" y="339"/>
                </a:lnTo>
                <a:lnTo>
                  <a:pt x="63" y="350"/>
                </a:lnTo>
                <a:lnTo>
                  <a:pt x="63" y="350"/>
                </a:lnTo>
                <a:lnTo>
                  <a:pt x="78" y="359"/>
                </a:lnTo>
                <a:lnTo>
                  <a:pt x="97" y="367"/>
                </a:lnTo>
                <a:lnTo>
                  <a:pt x="114" y="374"/>
                </a:lnTo>
                <a:lnTo>
                  <a:pt x="133" y="378"/>
                </a:lnTo>
                <a:lnTo>
                  <a:pt x="151" y="380"/>
                </a:lnTo>
                <a:lnTo>
                  <a:pt x="172" y="380"/>
                </a:lnTo>
                <a:lnTo>
                  <a:pt x="191" y="378"/>
                </a:lnTo>
                <a:lnTo>
                  <a:pt x="207" y="374"/>
                </a:lnTo>
                <a:lnTo>
                  <a:pt x="207" y="374"/>
                </a:lnTo>
                <a:lnTo>
                  <a:pt x="207" y="374"/>
                </a:lnTo>
                <a:lnTo>
                  <a:pt x="209" y="378"/>
                </a:lnTo>
                <a:lnTo>
                  <a:pt x="209" y="378"/>
                </a:lnTo>
                <a:lnTo>
                  <a:pt x="207" y="374"/>
                </a:lnTo>
                <a:lnTo>
                  <a:pt x="207" y="374"/>
                </a:lnTo>
                <a:lnTo>
                  <a:pt x="234" y="367"/>
                </a:lnTo>
                <a:lnTo>
                  <a:pt x="256" y="356"/>
                </a:lnTo>
                <a:lnTo>
                  <a:pt x="277" y="341"/>
                </a:lnTo>
                <a:lnTo>
                  <a:pt x="297" y="326"/>
                </a:lnTo>
                <a:lnTo>
                  <a:pt x="316" y="309"/>
                </a:lnTo>
                <a:lnTo>
                  <a:pt x="335" y="290"/>
                </a:lnTo>
                <a:lnTo>
                  <a:pt x="368" y="251"/>
                </a:lnTo>
                <a:lnTo>
                  <a:pt x="406" y="214"/>
                </a:lnTo>
                <a:lnTo>
                  <a:pt x="424" y="197"/>
                </a:lnTo>
                <a:lnTo>
                  <a:pt x="445" y="180"/>
                </a:lnTo>
                <a:lnTo>
                  <a:pt x="467" y="167"/>
                </a:lnTo>
                <a:lnTo>
                  <a:pt x="492" y="156"/>
                </a:lnTo>
                <a:lnTo>
                  <a:pt x="518" y="148"/>
                </a:lnTo>
                <a:lnTo>
                  <a:pt x="546" y="143"/>
                </a:lnTo>
                <a:lnTo>
                  <a:pt x="546" y="143"/>
                </a:lnTo>
                <a:lnTo>
                  <a:pt x="546" y="143"/>
                </a:lnTo>
                <a:lnTo>
                  <a:pt x="559" y="139"/>
                </a:lnTo>
                <a:lnTo>
                  <a:pt x="572" y="133"/>
                </a:lnTo>
                <a:lnTo>
                  <a:pt x="583" y="126"/>
                </a:lnTo>
                <a:lnTo>
                  <a:pt x="593" y="116"/>
                </a:lnTo>
                <a:lnTo>
                  <a:pt x="593" y="116"/>
                </a:lnTo>
                <a:lnTo>
                  <a:pt x="596" y="122"/>
                </a:lnTo>
                <a:lnTo>
                  <a:pt x="596" y="122"/>
                </a:lnTo>
                <a:lnTo>
                  <a:pt x="587" y="133"/>
                </a:lnTo>
                <a:lnTo>
                  <a:pt x="574" y="141"/>
                </a:lnTo>
                <a:lnTo>
                  <a:pt x="561" y="146"/>
                </a:lnTo>
                <a:lnTo>
                  <a:pt x="546" y="150"/>
                </a:lnTo>
                <a:lnTo>
                  <a:pt x="546" y="144"/>
                </a:lnTo>
                <a:lnTo>
                  <a:pt x="546" y="150"/>
                </a:lnTo>
                <a:lnTo>
                  <a:pt x="546" y="146"/>
                </a:lnTo>
                <a:lnTo>
                  <a:pt x="546" y="150"/>
                </a:lnTo>
                <a:lnTo>
                  <a:pt x="546" y="150"/>
                </a:lnTo>
                <a:lnTo>
                  <a:pt x="546" y="150"/>
                </a:lnTo>
                <a:lnTo>
                  <a:pt x="546" y="150"/>
                </a:lnTo>
                <a:lnTo>
                  <a:pt x="520" y="154"/>
                </a:lnTo>
                <a:lnTo>
                  <a:pt x="493" y="163"/>
                </a:lnTo>
                <a:lnTo>
                  <a:pt x="471" y="172"/>
                </a:lnTo>
                <a:lnTo>
                  <a:pt x="449" y="187"/>
                </a:lnTo>
                <a:lnTo>
                  <a:pt x="430" y="202"/>
                </a:lnTo>
                <a:lnTo>
                  <a:pt x="411" y="219"/>
                </a:lnTo>
                <a:lnTo>
                  <a:pt x="376" y="257"/>
                </a:lnTo>
                <a:lnTo>
                  <a:pt x="340" y="294"/>
                </a:lnTo>
                <a:lnTo>
                  <a:pt x="321" y="313"/>
                </a:lnTo>
                <a:lnTo>
                  <a:pt x="303" y="331"/>
                </a:lnTo>
                <a:lnTo>
                  <a:pt x="282" y="346"/>
                </a:lnTo>
                <a:lnTo>
                  <a:pt x="260" y="361"/>
                </a:lnTo>
                <a:lnTo>
                  <a:pt x="235" y="373"/>
                </a:lnTo>
                <a:lnTo>
                  <a:pt x="211" y="382"/>
                </a:lnTo>
                <a:lnTo>
                  <a:pt x="211" y="382"/>
                </a:lnTo>
                <a:lnTo>
                  <a:pt x="211" y="382"/>
                </a:lnTo>
                <a:lnTo>
                  <a:pt x="187" y="387"/>
                </a:lnTo>
                <a:lnTo>
                  <a:pt x="164" y="389"/>
                </a:lnTo>
                <a:lnTo>
                  <a:pt x="164" y="389"/>
                </a:lnTo>
                <a:lnTo>
                  <a:pt x="136" y="386"/>
                </a:lnTo>
                <a:lnTo>
                  <a:pt x="108" y="380"/>
                </a:lnTo>
                <a:lnTo>
                  <a:pt x="82" y="371"/>
                </a:lnTo>
                <a:lnTo>
                  <a:pt x="58" y="35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041800" y="2127240"/>
            <a:ext cx="1047960" cy="258840"/>
          </a:xfrm>
          <a:custGeom>
            <a:avLst/>
            <a:gdLst/>
            <a:ahLst/>
            <a:rect l="l" t="t" r="r" b="b"/>
            <a:pathLst>
              <a:path w="660" h="163">
                <a:moveTo>
                  <a:pt x="653" y="157"/>
                </a:moveTo>
                <a:lnTo>
                  <a:pt x="653" y="157"/>
                </a:lnTo>
                <a:lnTo>
                  <a:pt x="656" y="154"/>
                </a:lnTo>
                <a:lnTo>
                  <a:pt x="656" y="154"/>
                </a:lnTo>
                <a:lnTo>
                  <a:pt x="660" y="159"/>
                </a:lnTo>
                <a:lnTo>
                  <a:pt x="660" y="159"/>
                </a:lnTo>
                <a:lnTo>
                  <a:pt x="656" y="163"/>
                </a:lnTo>
                <a:lnTo>
                  <a:pt x="656" y="163"/>
                </a:lnTo>
                <a:lnTo>
                  <a:pt x="653" y="157"/>
                </a:lnTo>
                <a:close/>
                <a:moveTo>
                  <a:pt x="228" y="41"/>
                </a:moveTo>
                <a:lnTo>
                  <a:pt x="228" y="41"/>
                </a:lnTo>
                <a:lnTo>
                  <a:pt x="228" y="41"/>
                </a:lnTo>
                <a:lnTo>
                  <a:pt x="228" y="41"/>
                </a:lnTo>
                <a:lnTo>
                  <a:pt x="228" y="41"/>
                </a:lnTo>
                <a:lnTo>
                  <a:pt x="226" y="36"/>
                </a:lnTo>
                <a:lnTo>
                  <a:pt x="222" y="32"/>
                </a:lnTo>
                <a:lnTo>
                  <a:pt x="222" y="32"/>
                </a:lnTo>
                <a:lnTo>
                  <a:pt x="232" y="38"/>
                </a:lnTo>
                <a:lnTo>
                  <a:pt x="230" y="40"/>
                </a:lnTo>
                <a:lnTo>
                  <a:pt x="232" y="38"/>
                </a:lnTo>
                <a:lnTo>
                  <a:pt x="232" y="38"/>
                </a:lnTo>
                <a:lnTo>
                  <a:pt x="232" y="38"/>
                </a:lnTo>
                <a:lnTo>
                  <a:pt x="236" y="40"/>
                </a:lnTo>
                <a:lnTo>
                  <a:pt x="236" y="40"/>
                </a:lnTo>
                <a:lnTo>
                  <a:pt x="236" y="45"/>
                </a:lnTo>
                <a:lnTo>
                  <a:pt x="236" y="45"/>
                </a:lnTo>
                <a:lnTo>
                  <a:pt x="236" y="47"/>
                </a:lnTo>
                <a:lnTo>
                  <a:pt x="236" y="47"/>
                </a:lnTo>
                <a:lnTo>
                  <a:pt x="228" y="41"/>
                </a:lnTo>
                <a:close/>
                <a:moveTo>
                  <a:pt x="0" y="30"/>
                </a:moveTo>
                <a:lnTo>
                  <a:pt x="0" y="30"/>
                </a:lnTo>
                <a:lnTo>
                  <a:pt x="22" y="19"/>
                </a:lnTo>
                <a:lnTo>
                  <a:pt x="47" y="12"/>
                </a:lnTo>
                <a:lnTo>
                  <a:pt x="71" y="4"/>
                </a:lnTo>
                <a:lnTo>
                  <a:pt x="95" y="0"/>
                </a:lnTo>
                <a:lnTo>
                  <a:pt x="120" y="0"/>
                </a:lnTo>
                <a:lnTo>
                  <a:pt x="144" y="2"/>
                </a:lnTo>
                <a:lnTo>
                  <a:pt x="168" y="8"/>
                </a:lnTo>
                <a:lnTo>
                  <a:pt x="194" y="17"/>
                </a:lnTo>
                <a:lnTo>
                  <a:pt x="194" y="17"/>
                </a:lnTo>
                <a:lnTo>
                  <a:pt x="193" y="17"/>
                </a:lnTo>
                <a:lnTo>
                  <a:pt x="193" y="17"/>
                </a:lnTo>
                <a:lnTo>
                  <a:pt x="193" y="17"/>
                </a:lnTo>
                <a:lnTo>
                  <a:pt x="193" y="17"/>
                </a:lnTo>
                <a:lnTo>
                  <a:pt x="178" y="12"/>
                </a:lnTo>
                <a:lnTo>
                  <a:pt x="163" y="8"/>
                </a:lnTo>
                <a:lnTo>
                  <a:pt x="129" y="4"/>
                </a:lnTo>
                <a:lnTo>
                  <a:pt x="129" y="0"/>
                </a:lnTo>
                <a:lnTo>
                  <a:pt x="129" y="4"/>
                </a:lnTo>
                <a:lnTo>
                  <a:pt x="129" y="4"/>
                </a:lnTo>
                <a:lnTo>
                  <a:pt x="97" y="4"/>
                </a:lnTo>
                <a:lnTo>
                  <a:pt x="71" y="8"/>
                </a:lnTo>
                <a:lnTo>
                  <a:pt x="71" y="8"/>
                </a:lnTo>
                <a:lnTo>
                  <a:pt x="35" y="17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759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78600" y="2371680"/>
            <a:ext cx="11160" cy="14400"/>
          </a:xfrm>
          <a:custGeom>
            <a:avLst/>
            <a:gdLst/>
            <a:ahLst/>
            <a:rect l="l" t="t" r="r" b="b"/>
            <a:pathLst>
              <a:path w="7" h="9">
                <a:moveTo>
                  <a:pt x="0" y="3"/>
                </a:moveTo>
                <a:lnTo>
                  <a:pt x="0" y="3"/>
                </a:lnTo>
                <a:lnTo>
                  <a:pt x="3" y="0"/>
                </a:lnTo>
                <a:lnTo>
                  <a:pt x="3" y="0"/>
                </a:lnTo>
                <a:lnTo>
                  <a:pt x="7" y="5"/>
                </a:lnTo>
                <a:lnTo>
                  <a:pt x="7" y="5"/>
                </a:lnTo>
                <a:lnTo>
                  <a:pt x="3" y="9"/>
                </a:lnTo>
                <a:lnTo>
                  <a:pt x="3" y="9"/>
                </a:lnTo>
                <a:lnTo>
                  <a:pt x="0" y="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94240" y="2178000"/>
            <a:ext cx="22320" cy="23760"/>
          </a:xfrm>
          <a:custGeom>
            <a:avLst/>
            <a:gdLst/>
            <a:ahLst/>
            <a:rect l="l" t="t" r="r" b="b"/>
            <a:pathLst>
              <a:path w="14" h="15">
                <a:moveTo>
                  <a:pt x="6" y="9"/>
                </a:move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4" y="4"/>
                </a:lnTo>
                <a:lnTo>
                  <a:pt x="0" y="0"/>
                </a:lnTo>
                <a:lnTo>
                  <a:pt x="0" y="0"/>
                </a:lnTo>
                <a:lnTo>
                  <a:pt x="10" y="6"/>
                </a:lnTo>
                <a:lnTo>
                  <a:pt x="8" y="8"/>
                </a:lnTo>
                <a:lnTo>
                  <a:pt x="10" y="6"/>
                </a:lnTo>
                <a:lnTo>
                  <a:pt x="10" y="6"/>
                </a:lnTo>
                <a:lnTo>
                  <a:pt x="10" y="6"/>
                </a:lnTo>
                <a:lnTo>
                  <a:pt x="14" y="8"/>
                </a:lnTo>
                <a:lnTo>
                  <a:pt x="14" y="8"/>
                </a:lnTo>
                <a:lnTo>
                  <a:pt x="14" y="13"/>
                </a:lnTo>
                <a:lnTo>
                  <a:pt x="14" y="13"/>
                </a:lnTo>
                <a:lnTo>
                  <a:pt x="14" y="15"/>
                </a:lnTo>
                <a:lnTo>
                  <a:pt x="14" y="15"/>
                </a:lnTo>
                <a:lnTo>
                  <a:pt x="6" y="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41800" y="2127240"/>
            <a:ext cx="308160" cy="47520"/>
          </a:xfrm>
          <a:custGeom>
            <a:avLst/>
            <a:gdLst/>
            <a:ahLst/>
            <a:rect l="l" t="t" r="r" b="b"/>
            <a:pathLst>
              <a:path w="194" h="30">
                <a:moveTo>
                  <a:pt x="0" y="30"/>
                </a:moveTo>
                <a:lnTo>
                  <a:pt x="0" y="30"/>
                </a:lnTo>
                <a:lnTo>
                  <a:pt x="22" y="19"/>
                </a:lnTo>
                <a:lnTo>
                  <a:pt x="47" y="12"/>
                </a:lnTo>
                <a:lnTo>
                  <a:pt x="71" y="4"/>
                </a:lnTo>
                <a:lnTo>
                  <a:pt x="95" y="0"/>
                </a:lnTo>
                <a:lnTo>
                  <a:pt x="120" y="0"/>
                </a:lnTo>
                <a:lnTo>
                  <a:pt x="144" y="2"/>
                </a:lnTo>
                <a:lnTo>
                  <a:pt x="168" y="8"/>
                </a:lnTo>
                <a:lnTo>
                  <a:pt x="194" y="17"/>
                </a:lnTo>
                <a:lnTo>
                  <a:pt x="194" y="17"/>
                </a:lnTo>
                <a:lnTo>
                  <a:pt x="193" y="17"/>
                </a:lnTo>
                <a:lnTo>
                  <a:pt x="193" y="17"/>
                </a:lnTo>
                <a:lnTo>
                  <a:pt x="193" y="17"/>
                </a:lnTo>
                <a:lnTo>
                  <a:pt x="193" y="17"/>
                </a:lnTo>
                <a:lnTo>
                  <a:pt x="178" y="12"/>
                </a:lnTo>
                <a:lnTo>
                  <a:pt x="163" y="8"/>
                </a:lnTo>
                <a:lnTo>
                  <a:pt x="129" y="4"/>
                </a:lnTo>
                <a:lnTo>
                  <a:pt x="129" y="0"/>
                </a:lnTo>
                <a:lnTo>
                  <a:pt x="129" y="4"/>
                </a:lnTo>
                <a:lnTo>
                  <a:pt x="129" y="4"/>
                </a:lnTo>
                <a:lnTo>
                  <a:pt x="97" y="4"/>
                </a:lnTo>
                <a:lnTo>
                  <a:pt x="71" y="8"/>
                </a:lnTo>
                <a:lnTo>
                  <a:pt x="71" y="8"/>
                </a:lnTo>
                <a:lnTo>
                  <a:pt x="35" y="17"/>
                </a:lnTo>
                <a:lnTo>
                  <a:pt x="0" y="30"/>
                </a:lnTo>
                <a:lnTo>
                  <a:pt x="0" y="3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83120" y="1682640"/>
            <a:ext cx="958680" cy="736560"/>
          </a:xfrm>
          <a:custGeom>
            <a:avLst/>
            <a:gdLst/>
            <a:ahLst/>
            <a:rect l="l" t="t" r="r" b="b"/>
            <a:pathLst>
              <a:path w="604" h="464">
                <a:moveTo>
                  <a:pt x="49" y="434"/>
                </a:moveTo>
                <a:lnTo>
                  <a:pt x="49" y="434"/>
                </a:lnTo>
                <a:lnTo>
                  <a:pt x="34" y="424"/>
                </a:lnTo>
                <a:lnTo>
                  <a:pt x="21" y="411"/>
                </a:lnTo>
                <a:lnTo>
                  <a:pt x="11" y="398"/>
                </a:lnTo>
                <a:lnTo>
                  <a:pt x="6" y="385"/>
                </a:lnTo>
                <a:lnTo>
                  <a:pt x="2" y="370"/>
                </a:lnTo>
                <a:lnTo>
                  <a:pt x="0" y="355"/>
                </a:lnTo>
                <a:lnTo>
                  <a:pt x="0" y="338"/>
                </a:lnTo>
                <a:lnTo>
                  <a:pt x="2" y="325"/>
                </a:lnTo>
                <a:lnTo>
                  <a:pt x="2" y="323"/>
                </a:lnTo>
                <a:lnTo>
                  <a:pt x="2" y="323"/>
                </a:lnTo>
                <a:lnTo>
                  <a:pt x="2" y="323"/>
                </a:lnTo>
                <a:lnTo>
                  <a:pt x="15" y="293"/>
                </a:lnTo>
                <a:lnTo>
                  <a:pt x="30" y="265"/>
                </a:lnTo>
                <a:lnTo>
                  <a:pt x="45" y="237"/>
                </a:lnTo>
                <a:lnTo>
                  <a:pt x="64" y="211"/>
                </a:lnTo>
                <a:lnTo>
                  <a:pt x="84" y="187"/>
                </a:lnTo>
                <a:lnTo>
                  <a:pt x="107" y="163"/>
                </a:lnTo>
                <a:lnTo>
                  <a:pt x="129" y="140"/>
                </a:lnTo>
                <a:lnTo>
                  <a:pt x="155" y="121"/>
                </a:lnTo>
                <a:lnTo>
                  <a:pt x="179" y="101"/>
                </a:lnTo>
                <a:lnTo>
                  <a:pt x="208" y="84"/>
                </a:lnTo>
                <a:lnTo>
                  <a:pt x="236" y="69"/>
                </a:lnTo>
                <a:lnTo>
                  <a:pt x="264" y="54"/>
                </a:lnTo>
                <a:lnTo>
                  <a:pt x="294" y="41"/>
                </a:lnTo>
                <a:lnTo>
                  <a:pt x="323" y="28"/>
                </a:lnTo>
                <a:lnTo>
                  <a:pt x="353" y="19"/>
                </a:lnTo>
                <a:lnTo>
                  <a:pt x="383" y="9"/>
                </a:lnTo>
                <a:lnTo>
                  <a:pt x="383" y="9"/>
                </a:lnTo>
                <a:lnTo>
                  <a:pt x="383" y="9"/>
                </a:lnTo>
                <a:lnTo>
                  <a:pt x="383" y="9"/>
                </a:lnTo>
                <a:lnTo>
                  <a:pt x="419" y="4"/>
                </a:lnTo>
                <a:lnTo>
                  <a:pt x="456" y="0"/>
                </a:lnTo>
                <a:lnTo>
                  <a:pt x="456" y="0"/>
                </a:lnTo>
                <a:lnTo>
                  <a:pt x="527" y="0"/>
                </a:lnTo>
                <a:lnTo>
                  <a:pt x="527" y="4"/>
                </a:lnTo>
                <a:lnTo>
                  <a:pt x="527" y="0"/>
                </a:lnTo>
                <a:lnTo>
                  <a:pt x="527" y="7"/>
                </a:lnTo>
                <a:lnTo>
                  <a:pt x="527" y="7"/>
                </a:lnTo>
                <a:lnTo>
                  <a:pt x="456" y="7"/>
                </a:lnTo>
                <a:lnTo>
                  <a:pt x="456" y="7"/>
                </a:lnTo>
                <a:lnTo>
                  <a:pt x="456" y="7"/>
                </a:lnTo>
                <a:lnTo>
                  <a:pt x="421" y="11"/>
                </a:lnTo>
                <a:lnTo>
                  <a:pt x="385" y="17"/>
                </a:lnTo>
                <a:lnTo>
                  <a:pt x="385" y="17"/>
                </a:lnTo>
                <a:lnTo>
                  <a:pt x="385" y="17"/>
                </a:lnTo>
                <a:lnTo>
                  <a:pt x="355" y="26"/>
                </a:lnTo>
                <a:lnTo>
                  <a:pt x="325" y="35"/>
                </a:lnTo>
                <a:lnTo>
                  <a:pt x="295" y="47"/>
                </a:lnTo>
                <a:lnTo>
                  <a:pt x="267" y="60"/>
                </a:lnTo>
                <a:lnTo>
                  <a:pt x="239" y="75"/>
                </a:lnTo>
                <a:lnTo>
                  <a:pt x="211" y="91"/>
                </a:lnTo>
                <a:lnTo>
                  <a:pt x="185" y="108"/>
                </a:lnTo>
                <a:lnTo>
                  <a:pt x="159" y="127"/>
                </a:lnTo>
                <a:lnTo>
                  <a:pt x="135" y="146"/>
                </a:lnTo>
                <a:lnTo>
                  <a:pt x="112" y="168"/>
                </a:lnTo>
                <a:lnTo>
                  <a:pt x="90" y="191"/>
                </a:lnTo>
                <a:lnTo>
                  <a:pt x="71" y="215"/>
                </a:lnTo>
                <a:lnTo>
                  <a:pt x="52" y="241"/>
                </a:lnTo>
                <a:lnTo>
                  <a:pt x="35" y="267"/>
                </a:lnTo>
                <a:lnTo>
                  <a:pt x="21" y="297"/>
                </a:lnTo>
                <a:lnTo>
                  <a:pt x="9" y="327"/>
                </a:lnTo>
                <a:lnTo>
                  <a:pt x="9" y="327"/>
                </a:lnTo>
                <a:lnTo>
                  <a:pt x="7" y="340"/>
                </a:lnTo>
                <a:lnTo>
                  <a:pt x="7" y="355"/>
                </a:lnTo>
                <a:lnTo>
                  <a:pt x="7" y="368"/>
                </a:lnTo>
                <a:lnTo>
                  <a:pt x="11" y="381"/>
                </a:lnTo>
                <a:lnTo>
                  <a:pt x="19" y="394"/>
                </a:lnTo>
                <a:lnTo>
                  <a:pt x="26" y="407"/>
                </a:lnTo>
                <a:lnTo>
                  <a:pt x="37" y="417"/>
                </a:lnTo>
                <a:lnTo>
                  <a:pt x="52" y="426"/>
                </a:lnTo>
                <a:lnTo>
                  <a:pt x="52" y="426"/>
                </a:lnTo>
                <a:lnTo>
                  <a:pt x="69" y="434"/>
                </a:lnTo>
                <a:lnTo>
                  <a:pt x="86" y="441"/>
                </a:lnTo>
                <a:lnTo>
                  <a:pt x="103" y="447"/>
                </a:lnTo>
                <a:lnTo>
                  <a:pt x="120" y="450"/>
                </a:lnTo>
                <a:lnTo>
                  <a:pt x="153" y="454"/>
                </a:lnTo>
                <a:lnTo>
                  <a:pt x="187" y="456"/>
                </a:lnTo>
                <a:lnTo>
                  <a:pt x="187" y="456"/>
                </a:lnTo>
                <a:lnTo>
                  <a:pt x="221" y="454"/>
                </a:lnTo>
                <a:lnTo>
                  <a:pt x="252" y="449"/>
                </a:lnTo>
                <a:lnTo>
                  <a:pt x="252" y="449"/>
                </a:lnTo>
                <a:lnTo>
                  <a:pt x="288" y="439"/>
                </a:lnTo>
                <a:lnTo>
                  <a:pt x="323" y="426"/>
                </a:lnTo>
                <a:lnTo>
                  <a:pt x="327" y="432"/>
                </a:lnTo>
                <a:lnTo>
                  <a:pt x="323" y="426"/>
                </a:lnTo>
                <a:lnTo>
                  <a:pt x="323" y="426"/>
                </a:lnTo>
                <a:lnTo>
                  <a:pt x="361" y="409"/>
                </a:lnTo>
                <a:lnTo>
                  <a:pt x="400" y="391"/>
                </a:lnTo>
                <a:lnTo>
                  <a:pt x="400" y="391"/>
                </a:lnTo>
                <a:lnTo>
                  <a:pt x="402" y="391"/>
                </a:lnTo>
                <a:lnTo>
                  <a:pt x="402" y="394"/>
                </a:lnTo>
                <a:lnTo>
                  <a:pt x="404" y="396"/>
                </a:lnTo>
                <a:lnTo>
                  <a:pt x="402" y="391"/>
                </a:lnTo>
                <a:lnTo>
                  <a:pt x="402" y="391"/>
                </a:lnTo>
                <a:lnTo>
                  <a:pt x="494" y="349"/>
                </a:lnTo>
                <a:lnTo>
                  <a:pt x="546" y="325"/>
                </a:lnTo>
                <a:lnTo>
                  <a:pt x="602" y="303"/>
                </a:lnTo>
                <a:lnTo>
                  <a:pt x="604" y="310"/>
                </a:lnTo>
                <a:lnTo>
                  <a:pt x="604" y="310"/>
                </a:lnTo>
                <a:lnTo>
                  <a:pt x="604" y="310"/>
                </a:lnTo>
                <a:lnTo>
                  <a:pt x="604" y="310"/>
                </a:lnTo>
                <a:lnTo>
                  <a:pt x="550" y="333"/>
                </a:lnTo>
                <a:lnTo>
                  <a:pt x="497" y="355"/>
                </a:lnTo>
                <a:lnTo>
                  <a:pt x="404" y="398"/>
                </a:lnTo>
                <a:lnTo>
                  <a:pt x="404" y="398"/>
                </a:lnTo>
                <a:lnTo>
                  <a:pt x="404" y="398"/>
                </a:lnTo>
                <a:lnTo>
                  <a:pt x="365" y="417"/>
                </a:lnTo>
                <a:lnTo>
                  <a:pt x="327" y="432"/>
                </a:lnTo>
                <a:lnTo>
                  <a:pt x="327" y="432"/>
                </a:lnTo>
                <a:lnTo>
                  <a:pt x="290" y="447"/>
                </a:lnTo>
                <a:lnTo>
                  <a:pt x="254" y="456"/>
                </a:lnTo>
                <a:lnTo>
                  <a:pt x="254" y="456"/>
                </a:lnTo>
                <a:lnTo>
                  <a:pt x="254" y="456"/>
                </a:lnTo>
                <a:lnTo>
                  <a:pt x="221" y="462"/>
                </a:lnTo>
                <a:lnTo>
                  <a:pt x="187" y="464"/>
                </a:lnTo>
                <a:lnTo>
                  <a:pt x="187" y="456"/>
                </a:lnTo>
                <a:lnTo>
                  <a:pt x="187" y="464"/>
                </a:lnTo>
                <a:lnTo>
                  <a:pt x="187" y="464"/>
                </a:lnTo>
                <a:lnTo>
                  <a:pt x="179" y="464"/>
                </a:lnTo>
                <a:lnTo>
                  <a:pt x="179" y="464"/>
                </a:lnTo>
                <a:lnTo>
                  <a:pt x="146" y="462"/>
                </a:lnTo>
                <a:lnTo>
                  <a:pt x="114" y="456"/>
                </a:lnTo>
                <a:lnTo>
                  <a:pt x="80" y="447"/>
                </a:lnTo>
                <a:lnTo>
                  <a:pt x="49" y="434"/>
                </a:lnTo>
                <a:close/>
                <a:moveTo>
                  <a:pt x="49" y="434"/>
                </a:moveTo>
                <a:lnTo>
                  <a:pt x="50" y="430"/>
                </a:lnTo>
                <a:lnTo>
                  <a:pt x="49" y="434"/>
                </a:lnTo>
                <a:close/>
                <a:moveTo>
                  <a:pt x="6" y="325"/>
                </a:moveTo>
                <a:lnTo>
                  <a:pt x="6" y="325"/>
                </a:lnTo>
                <a:lnTo>
                  <a:pt x="2" y="325"/>
                </a:lnTo>
                <a:lnTo>
                  <a:pt x="6" y="325"/>
                </a:lnTo>
                <a:close/>
                <a:moveTo>
                  <a:pt x="385" y="13"/>
                </a:moveTo>
                <a:lnTo>
                  <a:pt x="385" y="13"/>
                </a:lnTo>
                <a:lnTo>
                  <a:pt x="383" y="9"/>
                </a:lnTo>
                <a:lnTo>
                  <a:pt x="385" y="13"/>
                </a:lnTo>
                <a:lnTo>
                  <a:pt x="385" y="13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083120" y="1682640"/>
            <a:ext cx="958680" cy="736560"/>
          </a:xfrm>
          <a:custGeom>
            <a:avLst/>
            <a:gdLst/>
            <a:ahLst/>
            <a:rect l="l" t="t" r="r" b="b"/>
            <a:pathLst>
              <a:path w="604" h="464">
                <a:moveTo>
                  <a:pt x="49" y="434"/>
                </a:moveTo>
                <a:lnTo>
                  <a:pt x="49" y="434"/>
                </a:lnTo>
                <a:lnTo>
                  <a:pt x="34" y="424"/>
                </a:lnTo>
                <a:lnTo>
                  <a:pt x="21" y="411"/>
                </a:lnTo>
                <a:lnTo>
                  <a:pt x="11" y="398"/>
                </a:lnTo>
                <a:lnTo>
                  <a:pt x="6" y="385"/>
                </a:lnTo>
                <a:lnTo>
                  <a:pt x="2" y="370"/>
                </a:lnTo>
                <a:lnTo>
                  <a:pt x="0" y="355"/>
                </a:lnTo>
                <a:lnTo>
                  <a:pt x="0" y="338"/>
                </a:lnTo>
                <a:lnTo>
                  <a:pt x="2" y="325"/>
                </a:lnTo>
                <a:lnTo>
                  <a:pt x="2" y="323"/>
                </a:lnTo>
                <a:lnTo>
                  <a:pt x="2" y="323"/>
                </a:lnTo>
                <a:lnTo>
                  <a:pt x="2" y="323"/>
                </a:lnTo>
                <a:lnTo>
                  <a:pt x="15" y="293"/>
                </a:lnTo>
                <a:lnTo>
                  <a:pt x="30" y="265"/>
                </a:lnTo>
                <a:lnTo>
                  <a:pt x="45" y="237"/>
                </a:lnTo>
                <a:lnTo>
                  <a:pt x="64" y="211"/>
                </a:lnTo>
                <a:lnTo>
                  <a:pt x="84" y="187"/>
                </a:lnTo>
                <a:lnTo>
                  <a:pt x="107" y="163"/>
                </a:lnTo>
                <a:lnTo>
                  <a:pt x="129" y="140"/>
                </a:lnTo>
                <a:lnTo>
                  <a:pt x="155" y="121"/>
                </a:lnTo>
                <a:lnTo>
                  <a:pt x="179" y="101"/>
                </a:lnTo>
                <a:lnTo>
                  <a:pt x="208" y="84"/>
                </a:lnTo>
                <a:lnTo>
                  <a:pt x="236" y="69"/>
                </a:lnTo>
                <a:lnTo>
                  <a:pt x="264" y="54"/>
                </a:lnTo>
                <a:lnTo>
                  <a:pt x="294" y="41"/>
                </a:lnTo>
                <a:lnTo>
                  <a:pt x="323" y="28"/>
                </a:lnTo>
                <a:lnTo>
                  <a:pt x="353" y="19"/>
                </a:lnTo>
                <a:lnTo>
                  <a:pt x="383" y="9"/>
                </a:lnTo>
                <a:lnTo>
                  <a:pt x="383" y="9"/>
                </a:lnTo>
                <a:lnTo>
                  <a:pt x="383" y="9"/>
                </a:lnTo>
                <a:lnTo>
                  <a:pt x="383" y="9"/>
                </a:lnTo>
                <a:lnTo>
                  <a:pt x="419" y="4"/>
                </a:lnTo>
                <a:lnTo>
                  <a:pt x="456" y="0"/>
                </a:lnTo>
                <a:lnTo>
                  <a:pt x="456" y="0"/>
                </a:lnTo>
                <a:lnTo>
                  <a:pt x="527" y="0"/>
                </a:lnTo>
                <a:lnTo>
                  <a:pt x="527" y="4"/>
                </a:lnTo>
                <a:lnTo>
                  <a:pt x="527" y="0"/>
                </a:lnTo>
                <a:lnTo>
                  <a:pt x="527" y="7"/>
                </a:lnTo>
                <a:lnTo>
                  <a:pt x="527" y="7"/>
                </a:lnTo>
                <a:lnTo>
                  <a:pt x="456" y="7"/>
                </a:lnTo>
                <a:lnTo>
                  <a:pt x="456" y="7"/>
                </a:lnTo>
                <a:lnTo>
                  <a:pt x="456" y="7"/>
                </a:lnTo>
                <a:lnTo>
                  <a:pt x="421" y="11"/>
                </a:lnTo>
                <a:lnTo>
                  <a:pt x="385" y="17"/>
                </a:lnTo>
                <a:lnTo>
                  <a:pt x="385" y="17"/>
                </a:lnTo>
                <a:lnTo>
                  <a:pt x="385" y="17"/>
                </a:lnTo>
                <a:lnTo>
                  <a:pt x="355" y="26"/>
                </a:lnTo>
                <a:lnTo>
                  <a:pt x="325" y="35"/>
                </a:lnTo>
                <a:lnTo>
                  <a:pt x="295" y="47"/>
                </a:lnTo>
                <a:lnTo>
                  <a:pt x="267" y="60"/>
                </a:lnTo>
                <a:lnTo>
                  <a:pt x="239" y="75"/>
                </a:lnTo>
                <a:lnTo>
                  <a:pt x="211" y="91"/>
                </a:lnTo>
                <a:lnTo>
                  <a:pt x="185" y="108"/>
                </a:lnTo>
                <a:lnTo>
                  <a:pt x="159" y="127"/>
                </a:lnTo>
                <a:lnTo>
                  <a:pt x="135" y="146"/>
                </a:lnTo>
                <a:lnTo>
                  <a:pt x="112" y="168"/>
                </a:lnTo>
                <a:lnTo>
                  <a:pt x="90" y="191"/>
                </a:lnTo>
                <a:lnTo>
                  <a:pt x="71" y="215"/>
                </a:lnTo>
                <a:lnTo>
                  <a:pt x="52" y="241"/>
                </a:lnTo>
                <a:lnTo>
                  <a:pt x="35" y="267"/>
                </a:lnTo>
                <a:lnTo>
                  <a:pt x="21" y="297"/>
                </a:lnTo>
                <a:lnTo>
                  <a:pt x="9" y="327"/>
                </a:lnTo>
                <a:lnTo>
                  <a:pt x="9" y="327"/>
                </a:lnTo>
                <a:lnTo>
                  <a:pt x="7" y="340"/>
                </a:lnTo>
                <a:lnTo>
                  <a:pt x="7" y="355"/>
                </a:lnTo>
                <a:lnTo>
                  <a:pt x="7" y="368"/>
                </a:lnTo>
                <a:lnTo>
                  <a:pt x="11" y="381"/>
                </a:lnTo>
                <a:lnTo>
                  <a:pt x="19" y="394"/>
                </a:lnTo>
                <a:lnTo>
                  <a:pt x="26" y="407"/>
                </a:lnTo>
                <a:lnTo>
                  <a:pt x="37" y="417"/>
                </a:lnTo>
                <a:lnTo>
                  <a:pt x="52" y="426"/>
                </a:lnTo>
                <a:lnTo>
                  <a:pt x="52" y="426"/>
                </a:lnTo>
                <a:lnTo>
                  <a:pt x="69" y="434"/>
                </a:lnTo>
                <a:lnTo>
                  <a:pt x="86" y="441"/>
                </a:lnTo>
                <a:lnTo>
                  <a:pt x="103" y="447"/>
                </a:lnTo>
                <a:lnTo>
                  <a:pt x="120" y="450"/>
                </a:lnTo>
                <a:lnTo>
                  <a:pt x="153" y="454"/>
                </a:lnTo>
                <a:lnTo>
                  <a:pt x="187" y="456"/>
                </a:lnTo>
                <a:lnTo>
                  <a:pt x="187" y="456"/>
                </a:lnTo>
                <a:lnTo>
                  <a:pt x="221" y="454"/>
                </a:lnTo>
                <a:lnTo>
                  <a:pt x="252" y="449"/>
                </a:lnTo>
                <a:lnTo>
                  <a:pt x="252" y="449"/>
                </a:lnTo>
                <a:lnTo>
                  <a:pt x="288" y="439"/>
                </a:lnTo>
                <a:lnTo>
                  <a:pt x="323" y="426"/>
                </a:lnTo>
                <a:lnTo>
                  <a:pt x="327" y="432"/>
                </a:lnTo>
                <a:lnTo>
                  <a:pt x="323" y="426"/>
                </a:lnTo>
                <a:lnTo>
                  <a:pt x="323" y="426"/>
                </a:lnTo>
                <a:lnTo>
                  <a:pt x="361" y="409"/>
                </a:lnTo>
                <a:lnTo>
                  <a:pt x="400" y="391"/>
                </a:lnTo>
                <a:lnTo>
                  <a:pt x="400" y="391"/>
                </a:lnTo>
                <a:lnTo>
                  <a:pt x="402" y="391"/>
                </a:lnTo>
                <a:lnTo>
                  <a:pt x="402" y="394"/>
                </a:lnTo>
                <a:lnTo>
                  <a:pt x="404" y="396"/>
                </a:lnTo>
                <a:lnTo>
                  <a:pt x="402" y="391"/>
                </a:lnTo>
                <a:lnTo>
                  <a:pt x="402" y="391"/>
                </a:lnTo>
                <a:lnTo>
                  <a:pt x="494" y="349"/>
                </a:lnTo>
                <a:lnTo>
                  <a:pt x="546" y="325"/>
                </a:lnTo>
                <a:lnTo>
                  <a:pt x="602" y="303"/>
                </a:lnTo>
                <a:lnTo>
                  <a:pt x="604" y="310"/>
                </a:lnTo>
                <a:lnTo>
                  <a:pt x="604" y="310"/>
                </a:lnTo>
                <a:lnTo>
                  <a:pt x="604" y="310"/>
                </a:lnTo>
                <a:lnTo>
                  <a:pt x="604" y="310"/>
                </a:lnTo>
                <a:lnTo>
                  <a:pt x="550" y="333"/>
                </a:lnTo>
                <a:lnTo>
                  <a:pt x="497" y="355"/>
                </a:lnTo>
                <a:lnTo>
                  <a:pt x="404" y="398"/>
                </a:lnTo>
                <a:lnTo>
                  <a:pt x="404" y="398"/>
                </a:lnTo>
                <a:lnTo>
                  <a:pt x="404" y="398"/>
                </a:lnTo>
                <a:lnTo>
                  <a:pt x="365" y="417"/>
                </a:lnTo>
                <a:lnTo>
                  <a:pt x="327" y="432"/>
                </a:lnTo>
                <a:lnTo>
                  <a:pt x="327" y="432"/>
                </a:lnTo>
                <a:lnTo>
                  <a:pt x="290" y="447"/>
                </a:lnTo>
                <a:lnTo>
                  <a:pt x="254" y="456"/>
                </a:lnTo>
                <a:lnTo>
                  <a:pt x="254" y="456"/>
                </a:lnTo>
                <a:lnTo>
                  <a:pt x="254" y="456"/>
                </a:lnTo>
                <a:lnTo>
                  <a:pt x="221" y="462"/>
                </a:lnTo>
                <a:lnTo>
                  <a:pt x="187" y="464"/>
                </a:lnTo>
                <a:lnTo>
                  <a:pt x="187" y="456"/>
                </a:lnTo>
                <a:lnTo>
                  <a:pt x="187" y="464"/>
                </a:lnTo>
                <a:lnTo>
                  <a:pt x="187" y="464"/>
                </a:lnTo>
                <a:lnTo>
                  <a:pt x="179" y="464"/>
                </a:lnTo>
                <a:lnTo>
                  <a:pt x="179" y="464"/>
                </a:lnTo>
                <a:lnTo>
                  <a:pt x="146" y="462"/>
                </a:lnTo>
                <a:lnTo>
                  <a:pt x="114" y="456"/>
                </a:lnTo>
                <a:lnTo>
                  <a:pt x="80" y="447"/>
                </a:lnTo>
                <a:lnTo>
                  <a:pt x="49" y="43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60880" y="2365200"/>
            <a:ext cx="144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4"/>
                </a:moveTo>
                <a:lnTo>
                  <a:pt x="1" y="0"/>
                </a:lnTo>
                <a:lnTo>
                  <a:pt x="0" y="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86360" y="2198520"/>
            <a:ext cx="6120" cy="180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91160" y="169704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4"/>
                </a:moveTo>
                <a:lnTo>
                  <a:pt x="2" y="4"/>
                </a:lnTo>
                <a:lnTo>
                  <a:pt x="0" y="0"/>
                </a:lnTo>
                <a:lnTo>
                  <a:pt x="2" y="4"/>
                </a:lnTo>
                <a:lnTo>
                  <a:pt x="2" y="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41800" y="21747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759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041800" y="217476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60880" y="1662120"/>
            <a:ext cx="3214800" cy="709560"/>
          </a:xfrm>
          <a:custGeom>
            <a:avLst/>
            <a:gdLst/>
            <a:ahLst/>
            <a:rect l="l" t="t" r="r" b="b"/>
            <a:pathLst>
              <a:path w="2025" h="447">
                <a:moveTo>
                  <a:pt x="0" y="447"/>
                </a:moveTo>
                <a:lnTo>
                  <a:pt x="0" y="447"/>
                </a:lnTo>
                <a:close/>
                <a:moveTo>
                  <a:pt x="1224" y="430"/>
                </a:moveTo>
                <a:lnTo>
                  <a:pt x="1224" y="430"/>
                </a:lnTo>
                <a:lnTo>
                  <a:pt x="1237" y="413"/>
                </a:lnTo>
                <a:lnTo>
                  <a:pt x="1252" y="394"/>
                </a:lnTo>
                <a:lnTo>
                  <a:pt x="1267" y="379"/>
                </a:lnTo>
                <a:lnTo>
                  <a:pt x="1277" y="372"/>
                </a:lnTo>
                <a:lnTo>
                  <a:pt x="1286" y="364"/>
                </a:lnTo>
                <a:lnTo>
                  <a:pt x="1286" y="364"/>
                </a:lnTo>
                <a:lnTo>
                  <a:pt x="1314" y="346"/>
                </a:lnTo>
                <a:lnTo>
                  <a:pt x="1344" y="333"/>
                </a:lnTo>
                <a:lnTo>
                  <a:pt x="1348" y="338"/>
                </a:lnTo>
                <a:lnTo>
                  <a:pt x="1348" y="338"/>
                </a:lnTo>
                <a:lnTo>
                  <a:pt x="1318" y="353"/>
                </a:lnTo>
                <a:lnTo>
                  <a:pt x="1290" y="372"/>
                </a:lnTo>
                <a:lnTo>
                  <a:pt x="1290" y="372"/>
                </a:lnTo>
                <a:lnTo>
                  <a:pt x="1290" y="372"/>
                </a:lnTo>
                <a:lnTo>
                  <a:pt x="1290" y="372"/>
                </a:lnTo>
                <a:lnTo>
                  <a:pt x="1280" y="377"/>
                </a:lnTo>
                <a:lnTo>
                  <a:pt x="1273" y="385"/>
                </a:lnTo>
                <a:lnTo>
                  <a:pt x="1258" y="400"/>
                </a:lnTo>
                <a:lnTo>
                  <a:pt x="1243" y="417"/>
                </a:lnTo>
                <a:lnTo>
                  <a:pt x="1230" y="435"/>
                </a:lnTo>
                <a:lnTo>
                  <a:pt x="1224" y="430"/>
                </a:lnTo>
                <a:close/>
                <a:moveTo>
                  <a:pt x="1290" y="372"/>
                </a:moveTo>
                <a:lnTo>
                  <a:pt x="1288" y="368"/>
                </a:lnTo>
                <a:lnTo>
                  <a:pt x="1288" y="368"/>
                </a:lnTo>
                <a:lnTo>
                  <a:pt x="1290" y="372"/>
                </a:lnTo>
                <a:close/>
                <a:moveTo>
                  <a:pt x="1344" y="333"/>
                </a:moveTo>
                <a:lnTo>
                  <a:pt x="1344" y="333"/>
                </a:lnTo>
                <a:lnTo>
                  <a:pt x="1372" y="321"/>
                </a:lnTo>
                <a:lnTo>
                  <a:pt x="1400" y="314"/>
                </a:lnTo>
                <a:lnTo>
                  <a:pt x="1428" y="308"/>
                </a:lnTo>
                <a:lnTo>
                  <a:pt x="1458" y="306"/>
                </a:lnTo>
                <a:lnTo>
                  <a:pt x="1488" y="305"/>
                </a:lnTo>
                <a:lnTo>
                  <a:pt x="1520" y="305"/>
                </a:lnTo>
                <a:lnTo>
                  <a:pt x="1582" y="306"/>
                </a:lnTo>
                <a:lnTo>
                  <a:pt x="1645" y="312"/>
                </a:lnTo>
                <a:lnTo>
                  <a:pt x="1709" y="319"/>
                </a:lnTo>
                <a:lnTo>
                  <a:pt x="1770" y="325"/>
                </a:lnTo>
                <a:lnTo>
                  <a:pt x="1828" y="327"/>
                </a:lnTo>
                <a:lnTo>
                  <a:pt x="1828" y="327"/>
                </a:lnTo>
                <a:lnTo>
                  <a:pt x="1845" y="321"/>
                </a:lnTo>
                <a:lnTo>
                  <a:pt x="1860" y="316"/>
                </a:lnTo>
                <a:lnTo>
                  <a:pt x="1875" y="306"/>
                </a:lnTo>
                <a:lnTo>
                  <a:pt x="1890" y="297"/>
                </a:lnTo>
                <a:lnTo>
                  <a:pt x="1890" y="295"/>
                </a:lnTo>
                <a:lnTo>
                  <a:pt x="1890" y="295"/>
                </a:lnTo>
                <a:lnTo>
                  <a:pt x="1892" y="299"/>
                </a:lnTo>
                <a:lnTo>
                  <a:pt x="1890" y="297"/>
                </a:lnTo>
                <a:lnTo>
                  <a:pt x="1892" y="299"/>
                </a:lnTo>
                <a:lnTo>
                  <a:pt x="1890" y="295"/>
                </a:lnTo>
                <a:lnTo>
                  <a:pt x="1890" y="295"/>
                </a:lnTo>
                <a:lnTo>
                  <a:pt x="1913" y="278"/>
                </a:lnTo>
                <a:lnTo>
                  <a:pt x="1933" y="260"/>
                </a:lnTo>
                <a:lnTo>
                  <a:pt x="1933" y="260"/>
                </a:lnTo>
                <a:lnTo>
                  <a:pt x="1948" y="245"/>
                </a:lnTo>
                <a:lnTo>
                  <a:pt x="1961" y="228"/>
                </a:lnTo>
                <a:lnTo>
                  <a:pt x="1974" y="211"/>
                </a:lnTo>
                <a:lnTo>
                  <a:pt x="1985" y="194"/>
                </a:lnTo>
                <a:lnTo>
                  <a:pt x="1995" y="176"/>
                </a:lnTo>
                <a:lnTo>
                  <a:pt x="2004" y="157"/>
                </a:lnTo>
                <a:lnTo>
                  <a:pt x="2012" y="136"/>
                </a:lnTo>
                <a:lnTo>
                  <a:pt x="2017" y="114"/>
                </a:lnTo>
                <a:lnTo>
                  <a:pt x="2017" y="114"/>
                </a:lnTo>
                <a:lnTo>
                  <a:pt x="2017" y="104"/>
                </a:lnTo>
                <a:lnTo>
                  <a:pt x="2015" y="93"/>
                </a:lnTo>
                <a:lnTo>
                  <a:pt x="2013" y="84"/>
                </a:lnTo>
                <a:lnTo>
                  <a:pt x="2010" y="75"/>
                </a:lnTo>
                <a:lnTo>
                  <a:pt x="2004" y="67"/>
                </a:lnTo>
                <a:lnTo>
                  <a:pt x="1997" y="58"/>
                </a:lnTo>
                <a:lnTo>
                  <a:pt x="1989" y="50"/>
                </a:lnTo>
                <a:lnTo>
                  <a:pt x="1982" y="43"/>
                </a:lnTo>
                <a:lnTo>
                  <a:pt x="1982" y="43"/>
                </a:lnTo>
                <a:lnTo>
                  <a:pt x="1959" y="32"/>
                </a:lnTo>
                <a:lnTo>
                  <a:pt x="1937" y="22"/>
                </a:lnTo>
                <a:lnTo>
                  <a:pt x="1913" y="13"/>
                </a:lnTo>
                <a:lnTo>
                  <a:pt x="1888" y="7"/>
                </a:lnTo>
                <a:lnTo>
                  <a:pt x="1890" y="0"/>
                </a:lnTo>
                <a:lnTo>
                  <a:pt x="1890" y="0"/>
                </a:lnTo>
                <a:lnTo>
                  <a:pt x="1914" y="7"/>
                </a:lnTo>
                <a:lnTo>
                  <a:pt x="1939" y="15"/>
                </a:lnTo>
                <a:lnTo>
                  <a:pt x="1963" y="24"/>
                </a:lnTo>
                <a:lnTo>
                  <a:pt x="1985" y="37"/>
                </a:lnTo>
                <a:lnTo>
                  <a:pt x="1984" y="41"/>
                </a:lnTo>
                <a:lnTo>
                  <a:pt x="1984" y="41"/>
                </a:lnTo>
                <a:lnTo>
                  <a:pt x="1985" y="37"/>
                </a:lnTo>
                <a:lnTo>
                  <a:pt x="1985" y="37"/>
                </a:lnTo>
                <a:lnTo>
                  <a:pt x="1985" y="37"/>
                </a:lnTo>
                <a:lnTo>
                  <a:pt x="1985" y="37"/>
                </a:lnTo>
                <a:lnTo>
                  <a:pt x="1995" y="45"/>
                </a:lnTo>
                <a:lnTo>
                  <a:pt x="2002" y="54"/>
                </a:lnTo>
                <a:lnTo>
                  <a:pt x="2010" y="63"/>
                </a:lnTo>
                <a:lnTo>
                  <a:pt x="2015" y="73"/>
                </a:lnTo>
                <a:lnTo>
                  <a:pt x="2019" y="82"/>
                </a:lnTo>
                <a:lnTo>
                  <a:pt x="2023" y="93"/>
                </a:lnTo>
                <a:lnTo>
                  <a:pt x="2025" y="104"/>
                </a:lnTo>
                <a:lnTo>
                  <a:pt x="2025" y="116"/>
                </a:lnTo>
                <a:lnTo>
                  <a:pt x="2021" y="116"/>
                </a:lnTo>
                <a:lnTo>
                  <a:pt x="2021" y="116"/>
                </a:lnTo>
                <a:lnTo>
                  <a:pt x="2025" y="116"/>
                </a:lnTo>
                <a:lnTo>
                  <a:pt x="2025" y="116"/>
                </a:lnTo>
                <a:lnTo>
                  <a:pt x="2025" y="116"/>
                </a:lnTo>
                <a:lnTo>
                  <a:pt x="2025" y="116"/>
                </a:lnTo>
                <a:lnTo>
                  <a:pt x="2019" y="138"/>
                </a:lnTo>
                <a:lnTo>
                  <a:pt x="2012" y="159"/>
                </a:lnTo>
                <a:lnTo>
                  <a:pt x="2002" y="179"/>
                </a:lnTo>
                <a:lnTo>
                  <a:pt x="1991" y="198"/>
                </a:lnTo>
                <a:lnTo>
                  <a:pt x="1980" y="215"/>
                </a:lnTo>
                <a:lnTo>
                  <a:pt x="1967" y="232"/>
                </a:lnTo>
                <a:lnTo>
                  <a:pt x="1954" y="248"/>
                </a:lnTo>
                <a:lnTo>
                  <a:pt x="1939" y="265"/>
                </a:lnTo>
                <a:lnTo>
                  <a:pt x="1939" y="265"/>
                </a:lnTo>
                <a:lnTo>
                  <a:pt x="1939" y="265"/>
                </a:lnTo>
                <a:lnTo>
                  <a:pt x="1918" y="284"/>
                </a:lnTo>
                <a:lnTo>
                  <a:pt x="1894" y="301"/>
                </a:lnTo>
                <a:lnTo>
                  <a:pt x="1894" y="301"/>
                </a:lnTo>
                <a:lnTo>
                  <a:pt x="1881" y="312"/>
                </a:lnTo>
                <a:lnTo>
                  <a:pt x="1864" y="321"/>
                </a:lnTo>
                <a:lnTo>
                  <a:pt x="1847" y="329"/>
                </a:lnTo>
                <a:lnTo>
                  <a:pt x="1830" y="334"/>
                </a:lnTo>
                <a:lnTo>
                  <a:pt x="1830" y="334"/>
                </a:lnTo>
                <a:lnTo>
                  <a:pt x="1828" y="334"/>
                </a:lnTo>
                <a:lnTo>
                  <a:pt x="1828" y="331"/>
                </a:lnTo>
                <a:lnTo>
                  <a:pt x="1828" y="334"/>
                </a:lnTo>
                <a:lnTo>
                  <a:pt x="1828" y="334"/>
                </a:lnTo>
                <a:lnTo>
                  <a:pt x="1770" y="333"/>
                </a:lnTo>
                <a:lnTo>
                  <a:pt x="1709" y="327"/>
                </a:lnTo>
                <a:lnTo>
                  <a:pt x="1645" y="319"/>
                </a:lnTo>
                <a:lnTo>
                  <a:pt x="1582" y="314"/>
                </a:lnTo>
                <a:lnTo>
                  <a:pt x="1520" y="312"/>
                </a:lnTo>
                <a:lnTo>
                  <a:pt x="1490" y="312"/>
                </a:lnTo>
                <a:lnTo>
                  <a:pt x="1460" y="314"/>
                </a:lnTo>
                <a:lnTo>
                  <a:pt x="1430" y="316"/>
                </a:lnTo>
                <a:lnTo>
                  <a:pt x="1402" y="321"/>
                </a:lnTo>
                <a:lnTo>
                  <a:pt x="1374" y="329"/>
                </a:lnTo>
                <a:lnTo>
                  <a:pt x="1348" y="338"/>
                </a:lnTo>
                <a:lnTo>
                  <a:pt x="1344" y="333"/>
                </a:lnTo>
                <a:close/>
                <a:moveTo>
                  <a:pt x="1939" y="265"/>
                </a:moveTo>
                <a:lnTo>
                  <a:pt x="1937" y="263"/>
                </a:lnTo>
                <a:lnTo>
                  <a:pt x="1937" y="263"/>
                </a:lnTo>
                <a:lnTo>
                  <a:pt x="1939" y="265"/>
                </a:lnTo>
                <a:close/>
                <a:moveTo>
                  <a:pt x="1890" y="4"/>
                </a:moveTo>
                <a:lnTo>
                  <a:pt x="1890" y="0"/>
                </a:lnTo>
                <a:lnTo>
                  <a:pt x="1890" y="4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60880" y="23716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03800" y="2190600"/>
            <a:ext cx="196920" cy="162000"/>
          </a:xfrm>
          <a:custGeom>
            <a:avLst/>
            <a:gdLst/>
            <a:ahLst/>
            <a:rect l="l" t="t" r="r" b="b"/>
            <a:pathLst>
              <a:path w="124" h="102">
                <a:moveTo>
                  <a:pt x="0" y="97"/>
                </a:moveTo>
                <a:lnTo>
                  <a:pt x="0" y="97"/>
                </a:lnTo>
                <a:lnTo>
                  <a:pt x="13" y="80"/>
                </a:lnTo>
                <a:lnTo>
                  <a:pt x="28" y="61"/>
                </a:lnTo>
                <a:lnTo>
                  <a:pt x="43" y="46"/>
                </a:lnTo>
                <a:lnTo>
                  <a:pt x="53" y="39"/>
                </a:lnTo>
                <a:lnTo>
                  <a:pt x="62" y="31"/>
                </a:lnTo>
                <a:lnTo>
                  <a:pt x="62" y="31"/>
                </a:lnTo>
                <a:lnTo>
                  <a:pt x="90" y="13"/>
                </a:lnTo>
                <a:lnTo>
                  <a:pt x="120" y="0"/>
                </a:lnTo>
                <a:lnTo>
                  <a:pt x="124" y="5"/>
                </a:lnTo>
                <a:lnTo>
                  <a:pt x="124" y="5"/>
                </a:lnTo>
                <a:lnTo>
                  <a:pt x="94" y="20"/>
                </a:lnTo>
                <a:lnTo>
                  <a:pt x="66" y="39"/>
                </a:lnTo>
                <a:lnTo>
                  <a:pt x="66" y="39"/>
                </a:lnTo>
                <a:lnTo>
                  <a:pt x="66" y="39"/>
                </a:lnTo>
                <a:lnTo>
                  <a:pt x="66" y="39"/>
                </a:lnTo>
                <a:lnTo>
                  <a:pt x="56" y="44"/>
                </a:lnTo>
                <a:lnTo>
                  <a:pt x="49" y="52"/>
                </a:lnTo>
                <a:lnTo>
                  <a:pt x="34" y="67"/>
                </a:lnTo>
                <a:lnTo>
                  <a:pt x="19" y="84"/>
                </a:lnTo>
                <a:lnTo>
                  <a:pt x="6" y="102"/>
                </a:lnTo>
                <a:lnTo>
                  <a:pt x="0" y="97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05680" y="2246400"/>
            <a:ext cx="2880" cy="612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4"/>
                </a:moveTo>
                <a:lnTo>
                  <a:pt x="0" y="0"/>
                </a:lnTo>
                <a:lnTo>
                  <a:pt x="0" y="0"/>
                </a:lnTo>
                <a:lnTo>
                  <a:pt x="2" y="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94600" y="1662120"/>
            <a:ext cx="1081080" cy="536400"/>
          </a:xfrm>
          <a:custGeom>
            <a:avLst/>
            <a:gdLst/>
            <a:ahLst/>
            <a:rect l="l" t="t" r="r" b="b"/>
            <a:pathLst>
              <a:path w="681" h="338">
                <a:moveTo>
                  <a:pt x="0" y="333"/>
                </a:moveTo>
                <a:lnTo>
                  <a:pt x="0" y="333"/>
                </a:lnTo>
                <a:lnTo>
                  <a:pt x="28" y="321"/>
                </a:lnTo>
                <a:lnTo>
                  <a:pt x="56" y="314"/>
                </a:lnTo>
                <a:lnTo>
                  <a:pt x="84" y="308"/>
                </a:lnTo>
                <a:lnTo>
                  <a:pt x="114" y="306"/>
                </a:lnTo>
                <a:lnTo>
                  <a:pt x="144" y="305"/>
                </a:lnTo>
                <a:lnTo>
                  <a:pt x="176" y="305"/>
                </a:lnTo>
                <a:lnTo>
                  <a:pt x="238" y="306"/>
                </a:lnTo>
                <a:lnTo>
                  <a:pt x="301" y="312"/>
                </a:lnTo>
                <a:lnTo>
                  <a:pt x="365" y="319"/>
                </a:lnTo>
                <a:lnTo>
                  <a:pt x="426" y="325"/>
                </a:lnTo>
                <a:lnTo>
                  <a:pt x="484" y="327"/>
                </a:lnTo>
                <a:lnTo>
                  <a:pt x="484" y="327"/>
                </a:lnTo>
                <a:lnTo>
                  <a:pt x="501" y="321"/>
                </a:lnTo>
                <a:lnTo>
                  <a:pt x="516" y="316"/>
                </a:lnTo>
                <a:lnTo>
                  <a:pt x="531" y="306"/>
                </a:lnTo>
                <a:lnTo>
                  <a:pt x="546" y="297"/>
                </a:lnTo>
                <a:lnTo>
                  <a:pt x="546" y="295"/>
                </a:lnTo>
                <a:lnTo>
                  <a:pt x="546" y="295"/>
                </a:lnTo>
                <a:lnTo>
                  <a:pt x="548" y="299"/>
                </a:lnTo>
                <a:lnTo>
                  <a:pt x="546" y="297"/>
                </a:lnTo>
                <a:lnTo>
                  <a:pt x="548" y="299"/>
                </a:lnTo>
                <a:lnTo>
                  <a:pt x="546" y="295"/>
                </a:lnTo>
                <a:lnTo>
                  <a:pt x="546" y="295"/>
                </a:lnTo>
                <a:lnTo>
                  <a:pt x="569" y="278"/>
                </a:lnTo>
                <a:lnTo>
                  <a:pt x="589" y="260"/>
                </a:lnTo>
                <a:lnTo>
                  <a:pt x="589" y="260"/>
                </a:lnTo>
                <a:lnTo>
                  <a:pt x="604" y="245"/>
                </a:lnTo>
                <a:lnTo>
                  <a:pt x="617" y="228"/>
                </a:lnTo>
                <a:lnTo>
                  <a:pt x="630" y="211"/>
                </a:lnTo>
                <a:lnTo>
                  <a:pt x="641" y="194"/>
                </a:lnTo>
                <a:lnTo>
                  <a:pt x="651" y="176"/>
                </a:lnTo>
                <a:lnTo>
                  <a:pt x="660" y="157"/>
                </a:lnTo>
                <a:lnTo>
                  <a:pt x="668" y="136"/>
                </a:lnTo>
                <a:lnTo>
                  <a:pt x="673" y="114"/>
                </a:lnTo>
                <a:lnTo>
                  <a:pt x="673" y="114"/>
                </a:lnTo>
                <a:lnTo>
                  <a:pt x="673" y="104"/>
                </a:lnTo>
                <a:lnTo>
                  <a:pt x="671" y="93"/>
                </a:lnTo>
                <a:lnTo>
                  <a:pt x="669" y="84"/>
                </a:lnTo>
                <a:lnTo>
                  <a:pt x="666" y="75"/>
                </a:lnTo>
                <a:lnTo>
                  <a:pt x="660" y="67"/>
                </a:lnTo>
                <a:lnTo>
                  <a:pt x="653" y="58"/>
                </a:lnTo>
                <a:lnTo>
                  <a:pt x="645" y="50"/>
                </a:lnTo>
                <a:lnTo>
                  <a:pt x="638" y="43"/>
                </a:lnTo>
                <a:lnTo>
                  <a:pt x="638" y="43"/>
                </a:lnTo>
                <a:lnTo>
                  <a:pt x="615" y="32"/>
                </a:lnTo>
                <a:lnTo>
                  <a:pt x="593" y="22"/>
                </a:lnTo>
                <a:lnTo>
                  <a:pt x="569" y="13"/>
                </a:lnTo>
                <a:lnTo>
                  <a:pt x="544" y="7"/>
                </a:lnTo>
                <a:lnTo>
                  <a:pt x="546" y="0"/>
                </a:lnTo>
                <a:lnTo>
                  <a:pt x="546" y="0"/>
                </a:lnTo>
                <a:lnTo>
                  <a:pt x="570" y="7"/>
                </a:lnTo>
                <a:lnTo>
                  <a:pt x="595" y="15"/>
                </a:lnTo>
                <a:lnTo>
                  <a:pt x="619" y="24"/>
                </a:lnTo>
                <a:lnTo>
                  <a:pt x="641" y="37"/>
                </a:lnTo>
                <a:lnTo>
                  <a:pt x="640" y="41"/>
                </a:lnTo>
                <a:lnTo>
                  <a:pt x="640" y="41"/>
                </a:lnTo>
                <a:lnTo>
                  <a:pt x="641" y="37"/>
                </a:lnTo>
                <a:lnTo>
                  <a:pt x="641" y="37"/>
                </a:lnTo>
                <a:lnTo>
                  <a:pt x="641" y="37"/>
                </a:lnTo>
                <a:lnTo>
                  <a:pt x="641" y="37"/>
                </a:lnTo>
                <a:lnTo>
                  <a:pt x="651" y="45"/>
                </a:lnTo>
                <a:lnTo>
                  <a:pt x="658" y="54"/>
                </a:lnTo>
                <a:lnTo>
                  <a:pt x="666" y="63"/>
                </a:lnTo>
                <a:lnTo>
                  <a:pt x="671" y="73"/>
                </a:lnTo>
                <a:lnTo>
                  <a:pt x="675" y="82"/>
                </a:lnTo>
                <a:lnTo>
                  <a:pt x="679" y="93"/>
                </a:lnTo>
                <a:lnTo>
                  <a:pt x="681" y="104"/>
                </a:lnTo>
                <a:lnTo>
                  <a:pt x="681" y="116"/>
                </a:lnTo>
                <a:lnTo>
                  <a:pt x="677" y="116"/>
                </a:lnTo>
                <a:lnTo>
                  <a:pt x="677" y="116"/>
                </a:lnTo>
                <a:lnTo>
                  <a:pt x="681" y="116"/>
                </a:lnTo>
                <a:lnTo>
                  <a:pt x="681" y="116"/>
                </a:lnTo>
                <a:lnTo>
                  <a:pt x="681" y="116"/>
                </a:lnTo>
                <a:lnTo>
                  <a:pt x="681" y="116"/>
                </a:lnTo>
                <a:lnTo>
                  <a:pt x="675" y="138"/>
                </a:lnTo>
                <a:lnTo>
                  <a:pt x="668" y="159"/>
                </a:lnTo>
                <a:lnTo>
                  <a:pt x="658" y="179"/>
                </a:lnTo>
                <a:lnTo>
                  <a:pt x="647" y="198"/>
                </a:lnTo>
                <a:lnTo>
                  <a:pt x="636" y="215"/>
                </a:lnTo>
                <a:lnTo>
                  <a:pt x="623" y="232"/>
                </a:lnTo>
                <a:lnTo>
                  <a:pt x="610" y="248"/>
                </a:lnTo>
                <a:lnTo>
                  <a:pt x="595" y="265"/>
                </a:lnTo>
                <a:lnTo>
                  <a:pt x="595" y="265"/>
                </a:lnTo>
                <a:lnTo>
                  <a:pt x="595" y="265"/>
                </a:lnTo>
                <a:lnTo>
                  <a:pt x="574" y="284"/>
                </a:lnTo>
                <a:lnTo>
                  <a:pt x="550" y="301"/>
                </a:lnTo>
                <a:lnTo>
                  <a:pt x="550" y="301"/>
                </a:lnTo>
                <a:lnTo>
                  <a:pt x="537" y="312"/>
                </a:lnTo>
                <a:lnTo>
                  <a:pt x="520" y="321"/>
                </a:lnTo>
                <a:lnTo>
                  <a:pt x="503" y="329"/>
                </a:lnTo>
                <a:lnTo>
                  <a:pt x="486" y="334"/>
                </a:lnTo>
                <a:lnTo>
                  <a:pt x="486" y="334"/>
                </a:lnTo>
                <a:lnTo>
                  <a:pt x="484" y="334"/>
                </a:lnTo>
                <a:lnTo>
                  <a:pt x="484" y="331"/>
                </a:lnTo>
                <a:lnTo>
                  <a:pt x="484" y="334"/>
                </a:lnTo>
                <a:lnTo>
                  <a:pt x="484" y="334"/>
                </a:lnTo>
                <a:lnTo>
                  <a:pt x="426" y="333"/>
                </a:lnTo>
                <a:lnTo>
                  <a:pt x="365" y="327"/>
                </a:lnTo>
                <a:lnTo>
                  <a:pt x="301" y="319"/>
                </a:lnTo>
                <a:lnTo>
                  <a:pt x="238" y="314"/>
                </a:lnTo>
                <a:lnTo>
                  <a:pt x="176" y="312"/>
                </a:lnTo>
                <a:lnTo>
                  <a:pt x="146" y="312"/>
                </a:lnTo>
                <a:lnTo>
                  <a:pt x="116" y="314"/>
                </a:lnTo>
                <a:lnTo>
                  <a:pt x="86" y="316"/>
                </a:lnTo>
                <a:lnTo>
                  <a:pt x="58" y="321"/>
                </a:lnTo>
                <a:lnTo>
                  <a:pt x="30" y="329"/>
                </a:lnTo>
                <a:lnTo>
                  <a:pt x="4" y="338"/>
                </a:lnTo>
                <a:lnTo>
                  <a:pt x="0" y="3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236000" y="2079720"/>
            <a:ext cx="288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2" y="2"/>
                </a:moveTo>
                <a:lnTo>
                  <a:pt x="0" y="0"/>
                </a:lnTo>
                <a:lnTo>
                  <a:pt x="0" y="0"/>
                </a:lnTo>
                <a:lnTo>
                  <a:pt x="2" y="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161120" y="1662120"/>
            <a:ext cx="1800" cy="648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0"/>
                </a:lnTo>
                <a:lnTo>
                  <a:pt x="0" y="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46640" y="213372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46640" y="213372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19760" y="1635120"/>
            <a:ext cx="2241360" cy="190440"/>
          </a:xfrm>
          <a:custGeom>
            <a:avLst/>
            <a:gdLst/>
            <a:ahLst/>
            <a:rect l="l" t="t" r="r" b="b"/>
            <a:pathLst>
              <a:path w="1412" h="120">
                <a:moveTo>
                  <a:pt x="62" y="39"/>
                </a:moveTo>
                <a:lnTo>
                  <a:pt x="62" y="39"/>
                </a:lnTo>
                <a:lnTo>
                  <a:pt x="0" y="37"/>
                </a:lnTo>
                <a:lnTo>
                  <a:pt x="0" y="30"/>
                </a:lnTo>
                <a:lnTo>
                  <a:pt x="0" y="30"/>
                </a:lnTo>
                <a:lnTo>
                  <a:pt x="62" y="32"/>
                </a:lnTo>
                <a:lnTo>
                  <a:pt x="62" y="35"/>
                </a:lnTo>
                <a:lnTo>
                  <a:pt x="62" y="32"/>
                </a:lnTo>
                <a:lnTo>
                  <a:pt x="62" y="32"/>
                </a:lnTo>
                <a:lnTo>
                  <a:pt x="62" y="32"/>
                </a:lnTo>
                <a:lnTo>
                  <a:pt x="62" y="32"/>
                </a:lnTo>
                <a:lnTo>
                  <a:pt x="161" y="54"/>
                </a:lnTo>
                <a:lnTo>
                  <a:pt x="258" y="77"/>
                </a:lnTo>
                <a:lnTo>
                  <a:pt x="309" y="86"/>
                </a:lnTo>
                <a:lnTo>
                  <a:pt x="357" y="93"/>
                </a:lnTo>
                <a:lnTo>
                  <a:pt x="406" y="101"/>
                </a:lnTo>
                <a:lnTo>
                  <a:pt x="455" y="107"/>
                </a:lnTo>
                <a:lnTo>
                  <a:pt x="505" y="110"/>
                </a:lnTo>
                <a:lnTo>
                  <a:pt x="554" y="112"/>
                </a:lnTo>
                <a:lnTo>
                  <a:pt x="602" y="110"/>
                </a:lnTo>
                <a:lnTo>
                  <a:pt x="651" y="107"/>
                </a:lnTo>
                <a:lnTo>
                  <a:pt x="702" y="99"/>
                </a:lnTo>
                <a:lnTo>
                  <a:pt x="750" y="90"/>
                </a:lnTo>
                <a:lnTo>
                  <a:pt x="799" y="75"/>
                </a:lnTo>
                <a:lnTo>
                  <a:pt x="849" y="58"/>
                </a:lnTo>
                <a:lnTo>
                  <a:pt x="849" y="58"/>
                </a:lnTo>
                <a:lnTo>
                  <a:pt x="849" y="58"/>
                </a:lnTo>
                <a:lnTo>
                  <a:pt x="849" y="62"/>
                </a:lnTo>
                <a:lnTo>
                  <a:pt x="849" y="62"/>
                </a:lnTo>
                <a:lnTo>
                  <a:pt x="849" y="58"/>
                </a:lnTo>
                <a:lnTo>
                  <a:pt x="849" y="58"/>
                </a:lnTo>
                <a:lnTo>
                  <a:pt x="911" y="49"/>
                </a:lnTo>
                <a:lnTo>
                  <a:pt x="911" y="49"/>
                </a:lnTo>
                <a:lnTo>
                  <a:pt x="971" y="39"/>
                </a:lnTo>
                <a:lnTo>
                  <a:pt x="1031" y="32"/>
                </a:lnTo>
                <a:lnTo>
                  <a:pt x="1092" y="26"/>
                </a:lnTo>
                <a:lnTo>
                  <a:pt x="1152" y="22"/>
                </a:lnTo>
                <a:lnTo>
                  <a:pt x="1152" y="22"/>
                </a:lnTo>
                <a:lnTo>
                  <a:pt x="1223" y="9"/>
                </a:lnTo>
                <a:lnTo>
                  <a:pt x="1223" y="9"/>
                </a:lnTo>
                <a:lnTo>
                  <a:pt x="1223" y="9"/>
                </a:lnTo>
                <a:lnTo>
                  <a:pt x="1246" y="6"/>
                </a:lnTo>
                <a:lnTo>
                  <a:pt x="1270" y="2"/>
                </a:lnTo>
                <a:lnTo>
                  <a:pt x="1270" y="2"/>
                </a:lnTo>
                <a:lnTo>
                  <a:pt x="1294" y="0"/>
                </a:lnTo>
                <a:lnTo>
                  <a:pt x="1317" y="0"/>
                </a:lnTo>
                <a:lnTo>
                  <a:pt x="1341" y="2"/>
                </a:lnTo>
                <a:lnTo>
                  <a:pt x="1365" y="6"/>
                </a:lnTo>
                <a:lnTo>
                  <a:pt x="1365" y="6"/>
                </a:lnTo>
                <a:lnTo>
                  <a:pt x="1412" y="17"/>
                </a:lnTo>
                <a:lnTo>
                  <a:pt x="1410" y="24"/>
                </a:lnTo>
                <a:lnTo>
                  <a:pt x="1410" y="24"/>
                </a:lnTo>
                <a:lnTo>
                  <a:pt x="1363" y="13"/>
                </a:lnTo>
                <a:lnTo>
                  <a:pt x="1363" y="13"/>
                </a:lnTo>
                <a:lnTo>
                  <a:pt x="1363" y="13"/>
                </a:lnTo>
                <a:lnTo>
                  <a:pt x="1363" y="11"/>
                </a:lnTo>
                <a:lnTo>
                  <a:pt x="1363" y="13"/>
                </a:lnTo>
                <a:lnTo>
                  <a:pt x="1363" y="13"/>
                </a:lnTo>
                <a:lnTo>
                  <a:pt x="1339" y="9"/>
                </a:lnTo>
                <a:lnTo>
                  <a:pt x="1317" y="7"/>
                </a:lnTo>
                <a:lnTo>
                  <a:pt x="1294" y="7"/>
                </a:lnTo>
                <a:lnTo>
                  <a:pt x="1270" y="9"/>
                </a:lnTo>
                <a:lnTo>
                  <a:pt x="1270" y="9"/>
                </a:lnTo>
                <a:lnTo>
                  <a:pt x="1248" y="11"/>
                </a:lnTo>
                <a:lnTo>
                  <a:pt x="1225" y="17"/>
                </a:lnTo>
                <a:lnTo>
                  <a:pt x="1225" y="17"/>
                </a:lnTo>
                <a:lnTo>
                  <a:pt x="1225" y="17"/>
                </a:lnTo>
                <a:lnTo>
                  <a:pt x="1152" y="30"/>
                </a:lnTo>
                <a:lnTo>
                  <a:pt x="1152" y="26"/>
                </a:lnTo>
                <a:lnTo>
                  <a:pt x="1152" y="30"/>
                </a:lnTo>
                <a:lnTo>
                  <a:pt x="1152" y="30"/>
                </a:lnTo>
                <a:lnTo>
                  <a:pt x="1152" y="30"/>
                </a:lnTo>
                <a:lnTo>
                  <a:pt x="1152" y="30"/>
                </a:lnTo>
                <a:lnTo>
                  <a:pt x="1092" y="34"/>
                </a:lnTo>
                <a:lnTo>
                  <a:pt x="1032" y="39"/>
                </a:lnTo>
                <a:lnTo>
                  <a:pt x="971" y="47"/>
                </a:lnTo>
                <a:lnTo>
                  <a:pt x="911" y="56"/>
                </a:lnTo>
                <a:lnTo>
                  <a:pt x="911" y="56"/>
                </a:lnTo>
                <a:lnTo>
                  <a:pt x="851" y="65"/>
                </a:lnTo>
                <a:lnTo>
                  <a:pt x="851" y="65"/>
                </a:lnTo>
                <a:lnTo>
                  <a:pt x="814" y="78"/>
                </a:lnTo>
                <a:lnTo>
                  <a:pt x="778" y="90"/>
                </a:lnTo>
                <a:lnTo>
                  <a:pt x="741" y="99"/>
                </a:lnTo>
                <a:lnTo>
                  <a:pt x="703" y="107"/>
                </a:lnTo>
                <a:lnTo>
                  <a:pt x="668" y="112"/>
                </a:lnTo>
                <a:lnTo>
                  <a:pt x="630" y="116"/>
                </a:lnTo>
                <a:lnTo>
                  <a:pt x="595" y="118"/>
                </a:lnTo>
                <a:lnTo>
                  <a:pt x="558" y="120"/>
                </a:lnTo>
                <a:lnTo>
                  <a:pt x="558" y="120"/>
                </a:lnTo>
                <a:lnTo>
                  <a:pt x="496" y="118"/>
                </a:lnTo>
                <a:lnTo>
                  <a:pt x="434" y="112"/>
                </a:lnTo>
                <a:lnTo>
                  <a:pt x="371" y="103"/>
                </a:lnTo>
                <a:lnTo>
                  <a:pt x="309" y="93"/>
                </a:lnTo>
                <a:lnTo>
                  <a:pt x="247" y="80"/>
                </a:lnTo>
                <a:lnTo>
                  <a:pt x="185" y="67"/>
                </a:lnTo>
                <a:lnTo>
                  <a:pt x="62" y="39"/>
                </a:lnTo>
                <a:close/>
                <a:moveTo>
                  <a:pt x="62" y="35"/>
                </a:moveTo>
                <a:lnTo>
                  <a:pt x="62" y="35"/>
                </a:lnTo>
                <a:close/>
                <a:moveTo>
                  <a:pt x="1225" y="17"/>
                </a:moveTo>
                <a:lnTo>
                  <a:pt x="1223" y="15"/>
                </a:lnTo>
                <a:lnTo>
                  <a:pt x="1223" y="13"/>
                </a:lnTo>
                <a:lnTo>
                  <a:pt x="1225" y="17"/>
                </a:lnTo>
                <a:close/>
                <a:moveTo>
                  <a:pt x="0" y="30"/>
                </a:moveTo>
                <a:lnTo>
                  <a:pt x="0" y="30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919760" y="1635120"/>
            <a:ext cx="2241360" cy="190440"/>
          </a:xfrm>
          <a:custGeom>
            <a:avLst/>
            <a:gdLst/>
            <a:ahLst/>
            <a:rect l="l" t="t" r="r" b="b"/>
            <a:pathLst>
              <a:path w="1412" h="120">
                <a:moveTo>
                  <a:pt x="62" y="39"/>
                </a:moveTo>
                <a:lnTo>
                  <a:pt x="62" y="39"/>
                </a:lnTo>
                <a:lnTo>
                  <a:pt x="0" y="37"/>
                </a:lnTo>
                <a:lnTo>
                  <a:pt x="0" y="30"/>
                </a:lnTo>
                <a:lnTo>
                  <a:pt x="0" y="30"/>
                </a:lnTo>
                <a:lnTo>
                  <a:pt x="62" y="32"/>
                </a:lnTo>
                <a:lnTo>
                  <a:pt x="62" y="35"/>
                </a:lnTo>
                <a:lnTo>
                  <a:pt x="62" y="32"/>
                </a:lnTo>
                <a:lnTo>
                  <a:pt x="62" y="32"/>
                </a:lnTo>
                <a:lnTo>
                  <a:pt x="62" y="32"/>
                </a:lnTo>
                <a:lnTo>
                  <a:pt x="62" y="32"/>
                </a:lnTo>
                <a:lnTo>
                  <a:pt x="161" y="54"/>
                </a:lnTo>
                <a:lnTo>
                  <a:pt x="258" y="77"/>
                </a:lnTo>
                <a:lnTo>
                  <a:pt x="309" y="86"/>
                </a:lnTo>
                <a:lnTo>
                  <a:pt x="357" y="93"/>
                </a:lnTo>
                <a:lnTo>
                  <a:pt x="406" y="101"/>
                </a:lnTo>
                <a:lnTo>
                  <a:pt x="455" y="107"/>
                </a:lnTo>
                <a:lnTo>
                  <a:pt x="505" y="110"/>
                </a:lnTo>
                <a:lnTo>
                  <a:pt x="554" y="112"/>
                </a:lnTo>
                <a:lnTo>
                  <a:pt x="602" y="110"/>
                </a:lnTo>
                <a:lnTo>
                  <a:pt x="651" y="107"/>
                </a:lnTo>
                <a:lnTo>
                  <a:pt x="702" y="99"/>
                </a:lnTo>
                <a:lnTo>
                  <a:pt x="750" y="90"/>
                </a:lnTo>
                <a:lnTo>
                  <a:pt x="799" y="75"/>
                </a:lnTo>
                <a:lnTo>
                  <a:pt x="849" y="58"/>
                </a:lnTo>
                <a:lnTo>
                  <a:pt x="849" y="58"/>
                </a:lnTo>
                <a:lnTo>
                  <a:pt x="849" y="58"/>
                </a:lnTo>
                <a:lnTo>
                  <a:pt x="849" y="62"/>
                </a:lnTo>
                <a:lnTo>
                  <a:pt x="849" y="62"/>
                </a:lnTo>
                <a:lnTo>
                  <a:pt x="849" y="58"/>
                </a:lnTo>
                <a:lnTo>
                  <a:pt x="849" y="58"/>
                </a:lnTo>
                <a:lnTo>
                  <a:pt x="911" y="49"/>
                </a:lnTo>
                <a:lnTo>
                  <a:pt x="911" y="49"/>
                </a:lnTo>
                <a:lnTo>
                  <a:pt x="971" y="39"/>
                </a:lnTo>
                <a:lnTo>
                  <a:pt x="1031" y="32"/>
                </a:lnTo>
                <a:lnTo>
                  <a:pt x="1092" y="26"/>
                </a:lnTo>
                <a:lnTo>
                  <a:pt x="1152" y="22"/>
                </a:lnTo>
                <a:lnTo>
                  <a:pt x="1152" y="22"/>
                </a:lnTo>
                <a:lnTo>
                  <a:pt x="1223" y="9"/>
                </a:lnTo>
                <a:lnTo>
                  <a:pt x="1223" y="9"/>
                </a:lnTo>
                <a:lnTo>
                  <a:pt x="1223" y="9"/>
                </a:lnTo>
                <a:lnTo>
                  <a:pt x="1246" y="6"/>
                </a:lnTo>
                <a:lnTo>
                  <a:pt x="1270" y="2"/>
                </a:lnTo>
                <a:lnTo>
                  <a:pt x="1270" y="2"/>
                </a:lnTo>
                <a:lnTo>
                  <a:pt x="1294" y="0"/>
                </a:lnTo>
                <a:lnTo>
                  <a:pt x="1317" y="0"/>
                </a:lnTo>
                <a:lnTo>
                  <a:pt x="1341" y="2"/>
                </a:lnTo>
                <a:lnTo>
                  <a:pt x="1365" y="6"/>
                </a:lnTo>
                <a:lnTo>
                  <a:pt x="1365" y="6"/>
                </a:lnTo>
                <a:lnTo>
                  <a:pt x="1412" y="17"/>
                </a:lnTo>
                <a:lnTo>
                  <a:pt x="1410" y="24"/>
                </a:lnTo>
                <a:lnTo>
                  <a:pt x="1410" y="24"/>
                </a:lnTo>
                <a:lnTo>
                  <a:pt x="1363" y="13"/>
                </a:lnTo>
                <a:lnTo>
                  <a:pt x="1363" y="13"/>
                </a:lnTo>
                <a:lnTo>
                  <a:pt x="1363" y="13"/>
                </a:lnTo>
                <a:lnTo>
                  <a:pt x="1363" y="11"/>
                </a:lnTo>
                <a:lnTo>
                  <a:pt x="1363" y="13"/>
                </a:lnTo>
                <a:lnTo>
                  <a:pt x="1363" y="13"/>
                </a:lnTo>
                <a:lnTo>
                  <a:pt x="1339" y="9"/>
                </a:lnTo>
                <a:lnTo>
                  <a:pt x="1317" y="7"/>
                </a:lnTo>
                <a:lnTo>
                  <a:pt x="1294" y="7"/>
                </a:lnTo>
                <a:lnTo>
                  <a:pt x="1270" y="9"/>
                </a:lnTo>
                <a:lnTo>
                  <a:pt x="1270" y="9"/>
                </a:lnTo>
                <a:lnTo>
                  <a:pt x="1248" y="11"/>
                </a:lnTo>
                <a:lnTo>
                  <a:pt x="1225" y="17"/>
                </a:lnTo>
                <a:lnTo>
                  <a:pt x="1225" y="17"/>
                </a:lnTo>
                <a:lnTo>
                  <a:pt x="1225" y="17"/>
                </a:lnTo>
                <a:lnTo>
                  <a:pt x="1152" y="30"/>
                </a:lnTo>
                <a:lnTo>
                  <a:pt x="1152" y="26"/>
                </a:lnTo>
                <a:lnTo>
                  <a:pt x="1152" y="30"/>
                </a:lnTo>
                <a:lnTo>
                  <a:pt x="1152" y="30"/>
                </a:lnTo>
                <a:lnTo>
                  <a:pt x="1152" y="30"/>
                </a:lnTo>
                <a:lnTo>
                  <a:pt x="1152" y="30"/>
                </a:lnTo>
                <a:lnTo>
                  <a:pt x="1092" y="34"/>
                </a:lnTo>
                <a:lnTo>
                  <a:pt x="1032" y="39"/>
                </a:lnTo>
                <a:lnTo>
                  <a:pt x="971" y="47"/>
                </a:lnTo>
                <a:lnTo>
                  <a:pt x="911" y="56"/>
                </a:lnTo>
                <a:lnTo>
                  <a:pt x="911" y="56"/>
                </a:lnTo>
                <a:lnTo>
                  <a:pt x="851" y="65"/>
                </a:lnTo>
                <a:lnTo>
                  <a:pt x="851" y="65"/>
                </a:lnTo>
                <a:lnTo>
                  <a:pt x="814" y="78"/>
                </a:lnTo>
                <a:lnTo>
                  <a:pt x="778" y="90"/>
                </a:lnTo>
                <a:lnTo>
                  <a:pt x="741" y="99"/>
                </a:lnTo>
                <a:lnTo>
                  <a:pt x="703" y="107"/>
                </a:lnTo>
                <a:lnTo>
                  <a:pt x="668" y="112"/>
                </a:lnTo>
                <a:lnTo>
                  <a:pt x="630" y="116"/>
                </a:lnTo>
                <a:lnTo>
                  <a:pt x="595" y="118"/>
                </a:lnTo>
                <a:lnTo>
                  <a:pt x="558" y="120"/>
                </a:lnTo>
                <a:lnTo>
                  <a:pt x="558" y="120"/>
                </a:lnTo>
                <a:lnTo>
                  <a:pt x="496" y="118"/>
                </a:lnTo>
                <a:lnTo>
                  <a:pt x="434" y="112"/>
                </a:lnTo>
                <a:lnTo>
                  <a:pt x="371" y="103"/>
                </a:lnTo>
                <a:lnTo>
                  <a:pt x="309" y="93"/>
                </a:lnTo>
                <a:lnTo>
                  <a:pt x="247" y="80"/>
                </a:lnTo>
                <a:lnTo>
                  <a:pt x="185" y="67"/>
                </a:lnTo>
                <a:lnTo>
                  <a:pt x="62" y="3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18040" y="169056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61240" y="165564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4"/>
                </a:moveTo>
                <a:lnTo>
                  <a:pt x="0" y="2"/>
                </a:lnTo>
                <a:lnTo>
                  <a:pt x="0" y="0"/>
                </a:lnTo>
                <a:lnTo>
                  <a:pt x="2" y="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19760" y="168264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36840" y="5587920"/>
            <a:ext cx="785520" cy="324000"/>
          </a:xfrm>
          <a:custGeom>
            <a:avLst/>
            <a:gdLst/>
            <a:ahLst/>
            <a:rect l="l" t="t" r="r" b="b"/>
            <a:pathLst>
              <a:path w="495" h="204">
                <a:moveTo>
                  <a:pt x="495" y="43"/>
                </a:moveTo>
                <a:lnTo>
                  <a:pt x="495" y="43"/>
                </a:lnTo>
                <a:lnTo>
                  <a:pt x="473" y="66"/>
                </a:lnTo>
                <a:lnTo>
                  <a:pt x="446" y="88"/>
                </a:lnTo>
                <a:lnTo>
                  <a:pt x="420" y="111"/>
                </a:lnTo>
                <a:lnTo>
                  <a:pt x="390" y="131"/>
                </a:lnTo>
                <a:lnTo>
                  <a:pt x="359" y="150"/>
                </a:lnTo>
                <a:lnTo>
                  <a:pt x="327" y="167"/>
                </a:lnTo>
                <a:lnTo>
                  <a:pt x="295" y="180"/>
                </a:lnTo>
                <a:lnTo>
                  <a:pt x="261" y="191"/>
                </a:lnTo>
                <a:lnTo>
                  <a:pt x="228" y="200"/>
                </a:lnTo>
                <a:lnTo>
                  <a:pt x="192" y="204"/>
                </a:lnTo>
                <a:lnTo>
                  <a:pt x="160" y="204"/>
                </a:lnTo>
                <a:lnTo>
                  <a:pt x="144" y="202"/>
                </a:lnTo>
                <a:lnTo>
                  <a:pt x="127" y="200"/>
                </a:lnTo>
                <a:lnTo>
                  <a:pt x="112" y="197"/>
                </a:lnTo>
                <a:lnTo>
                  <a:pt x="95" y="191"/>
                </a:lnTo>
                <a:lnTo>
                  <a:pt x="80" y="184"/>
                </a:lnTo>
                <a:lnTo>
                  <a:pt x="65" y="176"/>
                </a:lnTo>
                <a:lnTo>
                  <a:pt x="52" y="167"/>
                </a:lnTo>
                <a:lnTo>
                  <a:pt x="37" y="155"/>
                </a:lnTo>
                <a:lnTo>
                  <a:pt x="24" y="142"/>
                </a:lnTo>
                <a:lnTo>
                  <a:pt x="11" y="129"/>
                </a:lnTo>
                <a:lnTo>
                  <a:pt x="11" y="129"/>
                </a:lnTo>
                <a:lnTo>
                  <a:pt x="5" y="120"/>
                </a:lnTo>
                <a:lnTo>
                  <a:pt x="1" y="111"/>
                </a:lnTo>
                <a:lnTo>
                  <a:pt x="0" y="101"/>
                </a:lnTo>
                <a:lnTo>
                  <a:pt x="0" y="94"/>
                </a:lnTo>
                <a:lnTo>
                  <a:pt x="1" y="84"/>
                </a:lnTo>
                <a:lnTo>
                  <a:pt x="5" y="77"/>
                </a:lnTo>
                <a:lnTo>
                  <a:pt x="9" y="69"/>
                </a:lnTo>
                <a:lnTo>
                  <a:pt x="16" y="62"/>
                </a:lnTo>
                <a:lnTo>
                  <a:pt x="31" y="47"/>
                </a:lnTo>
                <a:lnTo>
                  <a:pt x="50" y="36"/>
                </a:lnTo>
                <a:lnTo>
                  <a:pt x="71" y="26"/>
                </a:lnTo>
                <a:lnTo>
                  <a:pt x="91" y="21"/>
                </a:lnTo>
                <a:lnTo>
                  <a:pt x="91" y="21"/>
                </a:lnTo>
                <a:lnTo>
                  <a:pt x="115" y="17"/>
                </a:lnTo>
                <a:lnTo>
                  <a:pt x="140" y="13"/>
                </a:lnTo>
                <a:lnTo>
                  <a:pt x="162" y="11"/>
                </a:lnTo>
                <a:lnTo>
                  <a:pt x="187" y="11"/>
                </a:lnTo>
                <a:lnTo>
                  <a:pt x="233" y="13"/>
                </a:lnTo>
                <a:lnTo>
                  <a:pt x="278" y="17"/>
                </a:lnTo>
                <a:lnTo>
                  <a:pt x="325" y="19"/>
                </a:lnTo>
                <a:lnTo>
                  <a:pt x="370" y="19"/>
                </a:lnTo>
                <a:lnTo>
                  <a:pt x="392" y="17"/>
                </a:lnTo>
                <a:lnTo>
                  <a:pt x="415" y="13"/>
                </a:lnTo>
                <a:lnTo>
                  <a:pt x="437" y="8"/>
                </a:lnTo>
                <a:lnTo>
                  <a:pt x="460" y="0"/>
                </a:lnTo>
                <a:lnTo>
                  <a:pt x="460" y="0"/>
                </a:lnTo>
                <a:lnTo>
                  <a:pt x="476" y="8"/>
                </a:lnTo>
                <a:lnTo>
                  <a:pt x="484" y="13"/>
                </a:lnTo>
                <a:lnTo>
                  <a:pt x="489" y="17"/>
                </a:lnTo>
                <a:lnTo>
                  <a:pt x="493" y="23"/>
                </a:lnTo>
                <a:lnTo>
                  <a:pt x="495" y="30"/>
                </a:lnTo>
                <a:lnTo>
                  <a:pt x="495" y="36"/>
                </a:lnTo>
                <a:lnTo>
                  <a:pt x="495" y="43"/>
                </a:lnTo>
                <a:lnTo>
                  <a:pt x="495" y="43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36840" y="5587920"/>
            <a:ext cx="785520" cy="324000"/>
          </a:xfrm>
          <a:custGeom>
            <a:avLst/>
            <a:gdLst/>
            <a:ahLst/>
            <a:rect l="l" t="t" r="r" b="b"/>
            <a:pathLst>
              <a:path w="495" h="204">
                <a:moveTo>
                  <a:pt x="495" y="43"/>
                </a:moveTo>
                <a:lnTo>
                  <a:pt x="495" y="43"/>
                </a:lnTo>
                <a:lnTo>
                  <a:pt x="473" y="66"/>
                </a:lnTo>
                <a:lnTo>
                  <a:pt x="446" y="88"/>
                </a:lnTo>
                <a:lnTo>
                  <a:pt x="420" y="111"/>
                </a:lnTo>
                <a:lnTo>
                  <a:pt x="390" y="131"/>
                </a:lnTo>
                <a:lnTo>
                  <a:pt x="359" y="150"/>
                </a:lnTo>
                <a:lnTo>
                  <a:pt x="327" y="167"/>
                </a:lnTo>
                <a:lnTo>
                  <a:pt x="295" y="180"/>
                </a:lnTo>
                <a:lnTo>
                  <a:pt x="261" y="191"/>
                </a:lnTo>
                <a:lnTo>
                  <a:pt x="228" y="200"/>
                </a:lnTo>
                <a:lnTo>
                  <a:pt x="192" y="204"/>
                </a:lnTo>
                <a:lnTo>
                  <a:pt x="160" y="204"/>
                </a:lnTo>
                <a:lnTo>
                  <a:pt x="144" y="202"/>
                </a:lnTo>
                <a:lnTo>
                  <a:pt x="127" y="200"/>
                </a:lnTo>
                <a:lnTo>
                  <a:pt x="112" y="197"/>
                </a:lnTo>
                <a:lnTo>
                  <a:pt x="95" y="191"/>
                </a:lnTo>
                <a:lnTo>
                  <a:pt x="80" y="184"/>
                </a:lnTo>
                <a:lnTo>
                  <a:pt x="65" y="176"/>
                </a:lnTo>
                <a:lnTo>
                  <a:pt x="52" y="167"/>
                </a:lnTo>
                <a:lnTo>
                  <a:pt x="37" y="155"/>
                </a:lnTo>
                <a:lnTo>
                  <a:pt x="24" y="142"/>
                </a:lnTo>
                <a:lnTo>
                  <a:pt x="11" y="129"/>
                </a:lnTo>
                <a:lnTo>
                  <a:pt x="11" y="129"/>
                </a:lnTo>
                <a:lnTo>
                  <a:pt x="5" y="120"/>
                </a:lnTo>
                <a:lnTo>
                  <a:pt x="1" y="111"/>
                </a:lnTo>
                <a:lnTo>
                  <a:pt x="0" y="101"/>
                </a:lnTo>
                <a:lnTo>
                  <a:pt x="0" y="94"/>
                </a:lnTo>
                <a:lnTo>
                  <a:pt x="1" y="84"/>
                </a:lnTo>
                <a:lnTo>
                  <a:pt x="5" y="77"/>
                </a:lnTo>
                <a:lnTo>
                  <a:pt x="9" y="69"/>
                </a:lnTo>
                <a:lnTo>
                  <a:pt x="16" y="62"/>
                </a:lnTo>
                <a:lnTo>
                  <a:pt x="31" y="47"/>
                </a:lnTo>
                <a:lnTo>
                  <a:pt x="50" y="36"/>
                </a:lnTo>
                <a:lnTo>
                  <a:pt x="71" y="26"/>
                </a:lnTo>
                <a:lnTo>
                  <a:pt x="91" y="21"/>
                </a:lnTo>
                <a:lnTo>
                  <a:pt x="91" y="21"/>
                </a:lnTo>
                <a:lnTo>
                  <a:pt x="115" y="17"/>
                </a:lnTo>
                <a:lnTo>
                  <a:pt x="140" y="13"/>
                </a:lnTo>
                <a:lnTo>
                  <a:pt x="162" y="11"/>
                </a:lnTo>
                <a:lnTo>
                  <a:pt x="187" y="11"/>
                </a:lnTo>
                <a:lnTo>
                  <a:pt x="233" y="13"/>
                </a:lnTo>
                <a:lnTo>
                  <a:pt x="278" y="17"/>
                </a:lnTo>
                <a:lnTo>
                  <a:pt x="325" y="19"/>
                </a:lnTo>
                <a:lnTo>
                  <a:pt x="370" y="19"/>
                </a:lnTo>
                <a:lnTo>
                  <a:pt x="392" y="17"/>
                </a:lnTo>
                <a:lnTo>
                  <a:pt x="415" y="13"/>
                </a:lnTo>
                <a:lnTo>
                  <a:pt x="437" y="8"/>
                </a:lnTo>
                <a:lnTo>
                  <a:pt x="460" y="0"/>
                </a:lnTo>
                <a:lnTo>
                  <a:pt x="460" y="0"/>
                </a:lnTo>
                <a:lnTo>
                  <a:pt x="476" y="8"/>
                </a:lnTo>
                <a:lnTo>
                  <a:pt x="484" y="13"/>
                </a:lnTo>
                <a:lnTo>
                  <a:pt x="489" y="17"/>
                </a:lnTo>
                <a:lnTo>
                  <a:pt x="493" y="23"/>
                </a:lnTo>
                <a:lnTo>
                  <a:pt x="495" y="30"/>
                </a:lnTo>
                <a:lnTo>
                  <a:pt x="495" y="36"/>
                </a:lnTo>
                <a:lnTo>
                  <a:pt x="495" y="43"/>
                </a:lnTo>
                <a:lnTo>
                  <a:pt x="495" y="4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800360" y="4125960"/>
            <a:ext cx="1655640" cy="1369800"/>
          </a:xfrm>
          <a:custGeom>
            <a:avLst/>
            <a:gdLst/>
            <a:ahLst/>
            <a:rect l="l" t="t" r="r" b="b"/>
            <a:pathLst>
              <a:path w="1043" h="863">
                <a:moveTo>
                  <a:pt x="314" y="861"/>
                </a:moveTo>
                <a:lnTo>
                  <a:pt x="314" y="861"/>
                </a:lnTo>
                <a:lnTo>
                  <a:pt x="294" y="856"/>
                </a:lnTo>
                <a:lnTo>
                  <a:pt x="269" y="850"/>
                </a:lnTo>
                <a:lnTo>
                  <a:pt x="269" y="850"/>
                </a:lnTo>
                <a:lnTo>
                  <a:pt x="258" y="845"/>
                </a:lnTo>
                <a:lnTo>
                  <a:pt x="254" y="841"/>
                </a:lnTo>
                <a:lnTo>
                  <a:pt x="254" y="841"/>
                </a:lnTo>
                <a:lnTo>
                  <a:pt x="252" y="835"/>
                </a:lnTo>
                <a:lnTo>
                  <a:pt x="256" y="830"/>
                </a:lnTo>
                <a:lnTo>
                  <a:pt x="256" y="830"/>
                </a:lnTo>
                <a:lnTo>
                  <a:pt x="256" y="830"/>
                </a:lnTo>
                <a:lnTo>
                  <a:pt x="254" y="828"/>
                </a:lnTo>
                <a:lnTo>
                  <a:pt x="256" y="830"/>
                </a:lnTo>
                <a:lnTo>
                  <a:pt x="256" y="830"/>
                </a:lnTo>
                <a:lnTo>
                  <a:pt x="273" y="807"/>
                </a:lnTo>
                <a:lnTo>
                  <a:pt x="288" y="785"/>
                </a:lnTo>
                <a:lnTo>
                  <a:pt x="301" y="760"/>
                </a:lnTo>
                <a:lnTo>
                  <a:pt x="314" y="738"/>
                </a:lnTo>
                <a:lnTo>
                  <a:pt x="325" y="714"/>
                </a:lnTo>
                <a:lnTo>
                  <a:pt x="335" y="689"/>
                </a:lnTo>
                <a:lnTo>
                  <a:pt x="344" y="663"/>
                </a:lnTo>
                <a:lnTo>
                  <a:pt x="352" y="639"/>
                </a:lnTo>
                <a:lnTo>
                  <a:pt x="357" y="615"/>
                </a:lnTo>
                <a:lnTo>
                  <a:pt x="361" y="588"/>
                </a:lnTo>
                <a:lnTo>
                  <a:pt x="365" y="564"/>
                </a:lnTo>
                <a:lnTo>
                  <a:pt x="366" y="538"/>
                </a:lnTo>
                <a:lnTo>
                  <a:pt x="366" y="514"/>
                </a:lnTo>
                <a:lnTo>
                  <a:pt x="365" y="489"/>
                </a:lnTo>
                <a:lnTo>
                  <a:pt x="361" y="465"/>
                </a:lnTo>
                <a:lnTo>
                  <a:pt x="357" y="441"/>
                </a:lnTo>
                <a:lnTo>
                  <a:pt x="357" y="441"/>
                </a:lnTo>
                <a:lnTo>
                  <a:pt x="348" y="409"/>
                </a:lnTo>
                <a:lnTo>
                  <a:pt x="337" y="379"/>
                </a:lnTo>
                <a:lnTo>
                  <a:pt x="337" y="379"/>
                </a:lnTo>
                <a:lnTo>
                  <a:pt x="337" y="379"/>
                </a:lnTo>
                <a:lnTo>
                  <a:pt x="325" y="351"/>
                </a:lnTo>
                <a:lnTo>
                  <a:pt x="310" y="327"/>
                </a:lnTo>
                <a:lnTo>
                  <a:pt x="294" y="304"/>
                </a:lnTo>
                <a:lnTo>
                  <a:pt x="275" y="282"/>
                </a:lnTo>
                <a:lnTo>
                  <a:pt x="256" y="263"/>
                </a:lnTo>
                <a:lnTo>
                  <a:pt x="236" y="244"/>
                </a:lnTo>
                <a:lnTo>
                  <a:pt x="213" y="226"/>
                </a:lnTo>
                <a:lnTo>
                  <a:pt x="191" y="209"/>
                </a:lnTo>
                <a:lnTo>
                  <a:pt x="97" y="144"/>
                </a:lnTo>
                <a:lnTo>
                  <a:pt x="73" y="127"/>
                </a:lnTo>
                <a:lnTo>
                  <a:pt x="50" y="110"/>
                </a:lnTo>
                <a:lnTo>
                  <a:pt x="30" y="91"/>
                </a:lnTo>
                <a:lnTo>
                  <a:pt x="9" y="71"/>
                </a:lnTo>
                <a:lnTo>
                  <a:pt x="9" y="71"/>
                </a:lnTo>
                <a:lnTo>
                  <a:pt x="9" y="71"/>
                </a:lnTo>
                <a:lnTo>
                  <a:pt x="6" y="63"/>
                </a:lnTo>
                <a:lnTo>
                  <a:pt x="2" y="58"/>
                </a:lnTo>
                <a:lnTo>
                  <a:pt x="0" y="50"/>
                </a:lnTo>
                <a:lnTo>
                  <a:pt x="0" y="44"/>
                </a:lnTo>
                <a:lnTo>
                  <a:pt x="0" y="37"/>
                </a:lnTo>
                <a:lnTo>
                  <a:pt x="2" y="31"/>
                </a:lnTo>
                <a:lnTo>
                  <a:pt x="9" y="20"/>
                </a:lnTo>
                <a:lnTo>
                  <a:pt x="9" y="20"/>
                </a:lnTo>
                <a:lnTo>
                  <a:pt x="19" y="11"/>
                </a:lnTo>
                <a:lnTo>
                  <a:pt x="32" y="3"/>
                </a:lnTo>
                <a:lnTo>
                  <a:pt x="49" y="0"/>
                </a:lnTo>
                <a:lnTo>
                  <a:pt x="67" y="1"/>
                </a:lnTo>
                <a:lnTo>
                  <a:pt x="67" y="1"/>
                </a:lnTo>
                <a:lnTo>
                  <a:pt x="67" y="1"/>
                </a:lnTo>
                <a:lnTo>
                  <a:pt x="103" y="9"/>
                </a:lnTo>
                <a:lnTo>
                  <a:pt x="136" y="18"/>
                </a:lnTo>
                <a:lnTo>
                  <a:pt x="168" y="31"/>
                </a:lnTo>
                <a:lnTo>
                  <a:pt x="198" y="46"/>
                </a:lnTo>
                <a:lnTo>
                  <a:pt x="226" y="65"/>
                </a:lnTo>
                <a:lnTo>
                  <a:pt x="254" y="84"/>
                </a:lnTo>
                <a:lnTo>
                  <a:pt x="280" y="104"/>
                </a:lnTo>
                <a:lnTo>
                  <a:pt x="305" y="127"/>
                </a:lnTo>
                <a:lnTo>
                  <a:pt x="305" y="127"/>
                </a:lnTo>
                <a:lnTo>
                  <a:pt x="340" y="162"/>
                </a:lnTo>
                <a:lnTo>
                  <a:pt x="372" y="200"/>
                </a:lnTo>
                <a:lnTo>
                  <a:pt x="406" y="239"/>
                </a:lnTo>
                <a:lnTo>
                  <a:pt x="441" y="276"/>
                </a:lnTo>
                <a:lnTo>
                  <a:pt x="441" y="276"/>
                </a:lnTo>
                <a:lnTo>
                  <a:pt x="441" y="276"/>
                </a:lnTo>
                <a:lnTo>
                  <a:pt x="441" y="276"/>
                </a:lnTo>
                <a:lnTo>
                  <a:pt x="458" y="291"/>
                </a:lnTo>
                <a:lnTo>
                  <a:pt x="477" y="304"/>
                </a:lnTo>
                <a:lnTo>
                  <a:pt x="477" y="304"/>
                </a:lnTo>
                <a:lnTo>
                  <a:pt x="512" y="336"/>
                </a:lnTo>
                <a:lnTo>
                  <a:pt x="514" y="334"/>
                </a:lnTo>
                <a:lnTo>
                  <a:pt x="512" y="336"/>
                </a:lnTo>
                <a:lnTo>
                  <a:pt x="512" y="336"/>
                </a:lnTo>
                <a:lnTo>
                  <a:pt x="572" y="388"/>
                </a:lnTo>
                <a:lnTo>
                  <a:pt x="634" y="435"/>
                </a:lnTo>
                <a:lnTo>
                  <a:pt x="666" y="458"/>
                </a:lnTo>
                <a:lnTo>
                  <a:pt x="697" y="480"/>
                </a:lnTo>
                <a:lnTo>
                  <a:pt x="731" y="501"/>
                </a:lnTo>
                <a:lnTo>
                  <a:pt x="765" y="519"/>
                </a:lnTo>
                <a:lnTo>
                  <a:pt x="767" y="517"/>
                </a:lnTo>
                <a:lnTo>
                  <a:pt x="767" y="517"/>
                </a:lnTo>
                <a:lnTo>
                  <a:pt x="767" y="517"/>
                </a:lnTo>
                <a:lnTo>
                  <a:pt x="765" y="519"/>
                </a:lnTo>
                <a:lnTo>
                  <a:pt x="765" y="519"/>
                </a:lnTo>
                <a:lnTo>
                  <a:pt x="765" y="519"/>
                </a:lnTo>
                <a:lnTo>
                  <a:pt x="765" y="519"/>
                </a:lnTo>
                <a:lnTo>
                  <a:pt x="800" y="532"/>
                </a:lnTo>
                <a:lnTo>
                  <a:pt x="838" y="540"/>
                </a:lnTo>
                <a:lnTo>
                  <a:pt x="838" y="538"/>
                </a:lnTo>
                <a:lnTo>
                  <a:pt x="838" y="540"/>
                </a:lnTo>
                <a:lnTo>
                  <a:pt x="838" y="540"/>
                </a:lnTo>
                <a:lnTo>
                  <a:pt x="877" y="544"/>
                </a:lnTo>
                <a:lnTo>
                  <a:pt x="896" y="545"/>
                </a:lnTo>
                <a:lnTo>
                  <a:pt x="916" y="544"/>
                </a:lnTo>
                <a:lnTo>
                  <a:pt x="916" y="544"/>
                </a:lnTo>
                <a:lnTo>
                  <a:pt x="916" y="544"/>
                </a:lnTo>
                <a:lnTo>
                  <a:pt x="959" y="544"/>
                </a:lnTo>
                <a:lnTo>
                  <a:pt x="1002" y="540"/>
                </a:lnTo>
                <a:lnTo>
                  <a:pt x="1002" y="540"/>
                </a:lnTo>
                <a:lnTo>
                  <a:pt x="1002" y="540"/>
                </a:lnTo>
                <a:lnTo>
                  <a:pt x="1010" y="540"/>
                </a:lnTo>
                <a:lnTo>
                  <a:pt x="1019" y="544"/>
                </a:lnTo>
                <a:lnTo>
                  <a:pt x="1028" y="549"/>
                </a:lnTo>
                <a:lnTo>
                  <a:pt x="1036" y="557"/>
                </a:lnTo>
                <a:lnTo>
                  <a:pt x="1036" y="557"/>
                </a:lnTo>
                <a:lnTo>
                  <a:pt x="1042" y="566"/>
                </a:lnTo>
                <a:lnTo>
                  <a:pt x="1043" y="574"/>
                </a:lnTo>
                <a:lnTo>
                  <a:pt x="1043" y="585"/>
                </a:lnTo>
                <a:lnTo>
                  <a:pt x="1038" y="594"/>
                </a:lnTo>
                <a:lnTo>
                  <a:pt x="1040" y="596"/>
                </a:lnTo>
                <a:lnTo>
                  <a:pt x="1040" y="596"/>
                </a:lnTo>
                <a:lnTo>
                  <a:pt x="1038" y="594"/>
                </a:lnTo>
                <a:lnTo>
                  <a:pt x="1038" y="594"/>
                </a:lnTo>
                <a:lnTo>
                  <a:pt x="1038" y="594"/>
                </a:lnTo>
                <a:lnTo>
                  <a:pt x="1038" y="594"/>
                </a:lnTo>
                <a:lnTo>
                  <a:pt x="1030" y="605"/>
                </a:lnTo>
                <a:lnTo>
                  <a:pt x="1021" y="613"/>
                </a:lnTo>
                <a:lnTo>
                  <a:pt x="1012" y="622"/>
                </a:lnTo>
                <a:lnTo>
                  <a:pt x="1002" y="630"/>
                </a:lnTo>
                <a:lnTo>
                  <a:pt x="1002" y="630"/>
                </a:lnTo>
                <a:lnTo>
                  <a:pt x="980" y="641"/>
                </a:lnTo>
                <a:lnTo>
                  <a:pt x="956" y="648"/>
                </a:lnTo>
                <a:lnTo>
                  <a:pt x="929" y="654"/>
                </a:lnTo>
                <a:lnTo>
                  <a:pt x="905" y="660"/>
                </a:lnTo>
                <a:lnTo>
                  <a:pt x="855" y="665"/>
                </a:lnTo>
                <a:lnTo>
                  <a:pt x="804" y="671"/>
                </a:lnTo>
                <a:lnTo>
                  <a:pt x="806" y="674"/>
                </a:lnTo>
                <a:lnTo>
                  <a:pt x="804" y="671"/>
                </a:lnTo>
                <a:lnTo>
                  <a:pt x="804" y="671"/>
                </a:lnTo>
                <a:lnTo>
                  <a:pt x="772" y="678"/>
                </a:lnTo>
                <a:lnTo>
                  <a:pt x="755" y="684"/>
                </a:lnTo>
                <a:lnTo>
                  <a:pt x="740" y="691"/>
                </a:lnTo>
                <a:lnTo>
                  <a:pt x="740" y="691"/>
                </a:lnTo>
                <a:lnTo>
                  <a:pt x="669" y="710"/>
                </a:lnTo>
                <a:lnTo>
                  <a:pt x="669" y="710"/>
                </a:lnTo>
                <a:lnTo>
                  <a:pt x="660" y="710"/>
                </a:lnTo>
                <a:lnTo>
                  <a:pt x="649" y="710"/>
                </a:lnTo>
                <a:lnTo>
                  <a:pt x="628" y="714"/>
                </a:lnTo>
                <a:lnTo>
                  <a:pt x="608" y="721"/>
                </a:lnTo>
                <a:lnTo>
                  <a:pt x="591" y="727"/>
                </a:lnTo>
                <a:lnTo>
                  <a:pt x="591" y="731"/>
                </a:lnTo>
                <a:lnTo>
                  <a:pt x="591" y="731"/>
                </a:lnTo>
                <a:lnTo>
                  <a:pt x="591" y="731"/>
                </a:lnTo>
                <a:lnTo>
                  <a:pt x="591" y="727"/>
                </a:lnTo>
                <a:lnTo>
                  <a:pt x="589" y="729"/>
                </a:lnTo>
                <a:lnTo>
                  <a:pt x="589" y="729"/>
                </a:lnTo>
                <a:lnTo>
                  <a:pt x="589" y="729"/>
                </a:lnTo>
                <a:lnTo>
                  <a:pt x="559" y="747"/>
                </a:lnTo>
                <a:lnTo>
                  <a:pt x="529" y="770"/>
                </a:lnTo>
                <a:lnTo>
                  <a:pt x="501" y="792"/>
                </a:lnTo>
                <a:lnTo>
                  <a:pt x="471" y="815"/>
                </a:lnTo>
                <a:lnTo>
                  <a:pt x="441" y="833"/>
                </a:lnTo>
                <a:lnTo>
                  <a:pt x="426" y="843"/>
                </a:lnTo>
                <a:lnTo>
                  <a:pt x="409" y="850"/>
                </a:lnTo>
                <a:lnTo>
                  <a:pt x="393" y="856"/>
                </a:lnTo>
                <a:lnTo>
                  <a:pt x="376" y="860"/>
                </a:lnTo>
                <a:lnTo>
                  <a:pt x="357" y="863"/>
                </a:lnTo>
                <a:lnTo>
                  <a:pt x="338" y="863"/>
                </a:lnTo>
                <a:lnTo>
                  <a:pt x="338" y="863"/>
                </a:lnTo>
                <a:lnTo>
                  <a:pt x="314" y="861"/>
                </a:lnTo>
                <a:close/>
              </a:path>
            </a:pathLst>
          </a:cu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800360" y="4125960"/>
            <a:ext cx="1655640" cy="1369800"/>
          </a:xfrm>
          <a:custGeom>
            <a:avLst/>
            <a:gdLst/>
            <a:ahLst/>
            <a:rect l="l" t="t" r="r" b="b"/>
            <a:pathLst>
              <a:path w="1043" h="863">
                <a:moveTo>
                  <a:pt x="314" y="861"/>
                </a:moveTo>
                <a:lnTo>
                  <a:pt x="314" y="861"/>
                </a:lnTo>
                <a:lnTo>
                  <a:pt x="294" y="856"/>
                </a:lnTo>
                <a:lnTo>
                  <a:pt x="269" y="850"/>
                </a:lnTo>
                <a:lnTo>
                  <a:pt x="269" y="850"/>
                </a:lnTo>
                <a:lnTo>
                  <a:pt x="258" y="845"/>
                </a:lnTo>
                <a:lnTo>
                  <a:pt x="254" y="841"/>
                </a:lnTo>
                <a:lnTo>
                  <a:pt x="254" y="841"/>
                </a:lnTo>
                <a:lnTo>
                  <a:pt x="252" y="835"/>
                </a:lnTo>
                <a:lnTo>
                  <a:pt x="256" y="830"/>
                </a:lnTo>
                <a:lnTo>
                  <a:pt x="256" y="830"/>
                </a:lnTo>
                <a:lnTo>
                  <a:pt x="256" y="830"/>
                </a:lnTo>
                <a:lnTo>
                  <a:pt x="254" y="828"/>
                </a:lnTo>
                <a:lnTo>
                  <a:pt x="256" y="830"/>
                </a:lnTo>
                <a:lnTo>
                  <a:pt x="256" y="830"/>
                </a:lnTo>
                <a:lnTo>
                  <a:pt x="273" y="807"/>
                </a:lnTo>
                <a:lnTo>
                  <a:pt x="288" y="785"/>
                </a:lnTo>
                <a:lnTo>
                  <a:pt x="301" y="760"/>
                </a:lnTo>
                <a:lnTo>
                  <a:pt x="314" y="738"/>
                </a:lnTo>
                <a:lnTo>
                  <a:pt x="325" y="714"/>
                </a:lnTo>
                <a:lnTo>
                  <a:pt x="335" y="689"/>
                </a:lnTo>
                <a:lnTo>
                  <a:pt x="344" y="663"/>
                </a:lnTo>
                <a:lnTo>
                  <a:pt x="352" y="639"/>
                </a:lnTo>
                <a:lnTo>
                  <a:pt x="357" y="615"/>
                </a:lnTo>
                <a:lnTo>
                  <a:pt x="361" y="588"/>
                </a:lnTo>
                <a:lnTo>
                  <a:pt x="365" y="564"/>
                </a:lnTo>
                <a:lnTo>
                  <a:pt x="366" y="538"/>
                </a:lnTo>
                <a:lnTo>
                  <a:pt x="366" y="514"/>
                </a:lnTo>
                <a:lnTo>
                  <a:pt x="365" y="489"/>
                </a:lnTo>
                <a:lnTo>
                  <a:pt x="361" y="465"/>
                </a:lnTo>
                <a:lnTo>
                  <a:pt x="357" y="441"/>
                </a:lnTo>
                <a:lnTo>
                  <a:pt x="357" y="441"/>
                </a:lnTo>
                <a:lnTo>
                  <a:pt x="348" y="409"/>
                </a:lnTo>
                <a:lnTo>
                  <a:pt x="337" y="379"/>
                </a:lnTo>
                <a:lnTo>
                  <a:pt x="337" y="379"/>
                </a:lnTo>
                <a:lnTo>
                  <a:pt x="337" y="379"/>
                </a:lnTo>
                <a:lnTo>
                  <a:pt x="325" y="351"/>
                </a:lnTo>
                <a:lnTo>
                  <a:pt x="310" y="327"/>
                </a:lnTo>
                <a:lnTo>
                  <a:pt x="294" y="304"/>
                </a:lnTo>
                <a:lnTo>
                  <a:pt x="275" y="282"/>
                </a:lnTo>
                <a:lnTo>
                  <a:pt x="256" y="263"/>
                </a:lnTo>
                <a:lnTo>
                  <a:pt x="236" y="244"/>
                </a:lnTo>
                <a:lnTo>
                  <a:pt x="213" y="226"/>
                </a:lnTo>
                <a:lnTo>
                  <a:pt x="191" y="209"/>
                </a:lnTo>
                <a:lnTo>
                  <a:pt x="97" y="144"/>
                </a:lnTo>
                <a:lnTo>
                  <a:pt x="73" y="127"/>
                </a:lnTo>
                <a:lnTo>
                  <a:pt x="50" y="110"/>
                </a:lnTo>
                <a:lnTo>
                  <a:pt x="30" y="91"/>
                </a:lnTo>
                <a:lnTo>
                  <a:pt x="9" y="71"/>
                </a:lnTo>
                <a:lnTo>
                  <a:pt x="9" y="71"/>
                </a:lnTo>
                <a:lnTo>
                  <a:pt x="9" y="71"/>
                </a:lnTo>
                <a:lnTo>
                  <a:pt x="6" y="63"/>
                </a:lnTo>
                <a:lnTo>
                  <a:pt x="2" y="58"/>
                </a:lnTo>
                <a:lnTo>
                  <a:pt x="0" y="50"/>
                </a:lnTo>
                <a:lnTo>
                  <a:pt x="0" y="44"/>
                </a:lnTo>
                <a:lnTo>
                  <a:pt x="0" y="37"/>
                </a:lnTo>
                <a:lnTo>
                  <a:pt x="2" y="31"/>
                </a:lnTo>
                <a:lnTo>
                  <a:pt x="9" y="20"/>
                </a:lnTo>
                <a:lnTo>
                  <a:pt x="9" y="20"/>
                </a:lnTo>
                <a:lnTo>
                  <a:pt x="19" y="11"/>
                </a:lnTo>
                <a:lnTo>
                  <a:pt x="32" y="3"/>
                </a:lnTo>
                <a:lnTo>
                  <a:pt x="49" y="0"/>
                </a:lnTo>
                <a:lnTo>
                  <a:pt x="67" y="1"/>
                </a:lnTo>
                <a:lnTo>
                  <a:pt x="67" y="1"/>
                </a:lnTo>
                <a:lnTo>
                  <a:pt x="67" y="1"/>
                </a:lnTo>
                <a:lnTo>
                  <a:pt x="103" y="9"/>
                </a:lnTo>
                <a:lnTo>
                  <a:pt x="136" y="18"/>
                </a:lnTo>
                <a:lnTo>
                  <a:pt x="168" y="31"/>
                </a:lnTo>
                <a:lnTo>
                  <a:pt x="198" y="46"/>
                </a:lnTo>
                <a:lnTo>
                  <a:pt x="226" y="65"/>
                </a:lnTo>
                <a:lnTo>
                  <a:pt x="254" y="84"/>
                </a:lnTo>
                <a:lnTo>
                  <a:pt x="280" y="104"/>
                </a:lnTo>
                <a:lnTo>
                  <a:pt x="305" y="127"/>
                </a:lnTo>
                <a:lnTo>
                  <a:pt x="305" y="127"/>
                </a:lnTo>
                <a:lnTo>
                  <a:pt x="340" y="162"/>
                </a:lnTo>
                <a:lnTo>
                  <a:pt x="372" y="200"/>
                </a:lnTo>
                <a:lnTo>
                  <a:pt x="406" y="239"/>
                </a:lnTo>
                <a:lnTo>
                  <a:pt x="441" y="276"/>
                </a:lnTo>
                <a:lnTo>
                  <a:pt x="441" y="276"/>
                </a:lnTo>
                <a:lnTo>
                  <a:pt x="441" y="276"/>
                </a:lnTo>
                <a:lnTo>
                  <a:pt x="441" y="276"/>
                </a:lnTo>
                <a:lnTo>
                  <a:pt x="458" y="291"/>
                </a:lnTo>
                <a:lnTo>
                  <a:pt x="477" y="304"/>
                </a:lnTo>
                <a:lnTo>
                  <a:pt x="477" y="304"/>
                </a:lnTo>
                <a:lnTo>
                  <a:pt x="512" y="336"/>
                </a:lnTo>
                <a:lnTo>
                  <a:pt x="514" y="334"/>
                </a:lnTo>
                <a:lnTo>
                  <a:pt x="512" y="336"/>
                </a:lnTo>
                <a:lnTo>
                  <a:pt x="512" y="336"/>
                </a:lnTo>
                <a:lnTo>
                  <a:pt x="572" y="388"/>
                </a:lnTo>
                <a:lnTo>
                  <a:pt x="634" y="435"/>
                </a:lnTo>
                <a:lnTo>
                  <a:pt x="666" y="458"/>
                </a:lnTo>
                <a:lnTo>
                  <a:pt x="697" y="480"/>
                </a:lnTo>
                <a:lnTo>
                  <a:pt x="731" y="501"/>
                </a:lnTo>
                <a:lnTo>
                  <a:pt x="765" y="519"/>
                </a:lnTo>
                <a:lnTo>
                  <a:pt x="767" y="517"/>
                </a:lnTo>
                <a:lnTo>
                  <a:pt x="767" y="517"/>
                </a:lnTo>
                <a:lnTo>
                  <a:pt x="767" y="517"/>
                </a:lnTo>
                <a:lnTo>
                  <a:pt x="765" y="519"/>
                </a:lnTo>
                <a:lnTo>
                  <a:pt x="765" y="519"/>
                </a:lnTo>
                <a:lnTo>
                  <a:pt x="765" y="519"/>
                </a:lnTo>
                <a:lnTo>
                  <a:pt x="765" y="519"/>
                </a:lnTo>
                <a:lnTo>
                  <a:pt x="800" y="532"/>
                </a:lnTo>
                <a:lnTo>
                  <a:pt x="838" y="540"/>
                </a:lnTo>
                <a:lnTo>
                  <a:pt x="838" y="538"/>
                </a:lnTo>
                <a:lnTo>
                  <a:pt x="838" y="540"/>
                </a:lnTo>
                <a:lnTo>
                  <a:pt x="838" y="540"/>
                </a:lnTo>
                <a:lnTo>
                  <a:pt x="877" y="544"/>
                </a:lnTo>
                <a:lnTo>
                  <a:pt x="896" y="545"/>
                </a:lnTo>
                <a:lnTo>
                  <a:pt x="916" y="544"/>
                </a:lnTo>
                <a:lnTo>
                  <a:pt x="916" y="544"/>
                </a:lnTo>
                <a:lnTo>
                  <a:pt x="916" y="544"/>
                </a:lnTo>
                <a:lnTo>
                  <a:pt x="959" y="544"/>
                </a:lnTo>
                <a:lnTo>
                  <a:pt x="1002" y="540"/>
                </a:lnTo>
                <a:lnTo>
                  <a:pt x="1002" y="540"/>
                </a:lnTo>
                <a:lnTo>
                  <a:pt x="1002" y="540"/>
                </a:lnTo>
                <a:lnTo>
                  <a:pt x="1010" y="540"/>
                </a:lnTo>
                <a:lnTo>
                  <a:pt x="1019" y="544"/>
                </a:lnTo>
                <a:lnTo>
                  <a:pt x="1028" y="549"/>
                </a:lnTo>
                <a:lnTo>
                  <a:pt x="1036" y="557"/>
                </a:lnTo>
                <a:lnTo>
                  <a:pt x="1036" y="557"/>
                </a:lnTo>
                <a:lnTo>
                  <a:pt x="1042" y="566"/>
                </a:lnTo>
                <a:lnTo>
                  <a:pt x="1043" y="574"/>
                </a:lnTo>
                <a:lnTo>
                  <a:pt x="1043" y="585"/>
                </a:lnTo>
                <a:lnTo>
                  <a:pt x="1038" y="594"/>
                </a:lnTo>
                <a:lnTo>
                  <a:pt x="1040" y="596"/>
                </a:lnTo>
                <a:lnTo>
                  <a:pt x="1040" y="596"/>
                </a:lnTo>
                <a:lnTo>
                  <a:pt x="1038" y="594"/>
                </a:lnTo>
                <a:lnTo>
                  <a:pt x="1038" y="594"/>
                </a:lnTo>
                <a:lnTo>
                  <a:pt x="1038" y="594"/>
                </a:lnTo>
                <a:lnTo>
                  <a:pt x="1038" y="594"/>
                </a:lnTo>
                <a:lnTo>
                  <a:pt x="1030" y="605"/>
                </a:lnTo>
                <a:lnTo>
                  <a:pt x="1021" y="613"/>
                </a:lnTo>
                <a:lnTo>
                  <a:pt x="1012" y="622"/>
                </a:lnTo>
                <a:lnTo>
                  <a:pt x="1002" y="630"/>
                </a:lnTo>
                <a:lnTo>
                  <a:pt x="1002" y="630"/>
                </a:lnTo>
                <a:lnTo>
                  <a:pt x="980" y="641"/>
                </a:lnTo>
                <a:lnTo>
                  <a:pt x="956" y="648"/>
                </a:lnTo>
                <a:lnTo>
                  <a:pt x="929" y="654"/>
                </a:lnTo>
                <a:lnTo>
                  <a:pt x="905" y="660"/>
                </a:lnTo>
                <a:lnTo>
                  <a:pt x="855" y="665"/>
                </a:lnTo>
                <a:lnTo>
                  <a:pt x="804" y="671"/>
                </a:lnTo>
                <a:lnTo>
                  <a:pt x="806" y="674"/>
                </a:lnTo>
                <a:lnTo>
                  <a:pt x="804" y="671"/>
                </a:lnTo>
                <a:lnTo>
                  <a:pt x="804" y="671"/>
                </a:lnTo>
                <a:lnTo>
                  <a:pt x="772" y="678"/>
                </a:lnTo>
                <a:lnTo>
                  <a:pt x="755" y="684"/>
                </a:lnTo>
                <a:lnTo>
                  <a:pt x="740" y="691"/>
                </a:lnTo>
                <a:lnTo>
                  <a:pt x="740" y="691"/>
                </a:lnTo>
                <a:lnTo>
                  <a:pt x="669" y="710"/>
                </a:lnTo>
                <a:lnTo>
                  <a:pt x="669" y="710"/>
                </a:lnTo>
                <a:lnTo>
                  <a:pt x="660" y="710"/>
                </a:lnTo>
                <a:lnTo>
                  <a:pt x="649" y="710"/>
                </a:lnTo>
                <a:lnTo>
                  <a:pt x="628" y="714"/>
                </a:lnTo>
                <a:lnTo>
                  <a:pt x="608" y="721"/>
                </a:lnTo>
                <a:lnTo>
                  <a:pt x="591" y="727"/>
                </a:lnTo>
                <a:lnTo>
                  <a:pt x="591" y="731"/>
                </a:lnTo>
                <a:lnTo>
                  <a:pt x="591" y="731"/>
                </a:lnTo>
                <a:lnTo>
                  <a:pt x="591" y="731"/>
                </a:lnTo>
                <a:lnTo>
                  <a:pt x="591" y="727"/>
                </a:lnTo>
                <a:lnTo>
                  <a:pt x="589" y="729"/>
                </a:lnTo>
                <a:lnTo>
                  <a:pt x="589" y="729"/>
                </a:lnTo>
                <a:lnTo>
                  <a:pt x="589" y="729"/>
                </a:lnTo>
                <a:lnTo>
                  <a:pt x="559" y="747"/>
                </a:lnTo>
                <a:lnTo>
                  <a:pt x="529" y="770"/>
                </a:lnTo>
                <a:lnTo>
                  <a:pt x="501" y="792"/>
                </a:lnTo>
                <a:lnTo>
                  <a:pt x="471" y="815"/>
                </a:lnTo>
                <a:lnTo>
                  <a:pt x="441" y="833"/>
                </a:lnTo>
                <a:lnTo>
                  <a:pt x="426" y="843"/>
                </a:lnTo>
                <a:lnTo>
                  <a:pt x="409" y="850"/>
                </a:lnTo>
                <a:lnTo>
                  <a:pt x="393" y="856"/>
                </a:lnTo>
                <a:lnTo>
                  <a:pt x="376" y="860"/>
                </a:lnTo>
                <a:lnTo>
                  <a:pt x="357" y="863"/>
                </a:lnTo>
                <a:lnTo>
                  <a:pt x="338" y="863"/>
                </a:lnTo>
                <a:lnTo>
                  <a:pt x="338" y="863"/>
                </a:lnTo>
                <a:lnTo>
                  <a:pt x="314" y="8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27200" y="4573440"/>
            <a:ext cx="1800" cy="1800"/>
          </a:xfrm>
          <a:prstGeom prst="rect">
            <a:avLst/>
          </a:prstGeom>
          <a:solidFill>
            <a:srgbClr val="744c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27200" y="45734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84560" y="4327560"/>
            <a:ext cx="272880" cy="280800"/>
          </a:xfrm>
          <a:custGeom>
            <a:avLst/>
            <a:gdLst/>
            <a:ahLst/>
            <a:rect l="l" t="t" r="r" b="b"/>
            <a:pathLst>
              <a:path w="172" h="177">
                <a:moveTo>
                  <a:pt x="136" y="149"/>
                </a:moveTo>
                <a:lnTo>
                  <a:pt x="136" y="149"/>
                </a:lnTo>
                <a:lnTo>
                  <a:pt x="136" y="149"/>
                </a:lnTo>
                <a:lnTo>
                  <a:pt x="136" y="149"/>
                </a:lnTo>
                <a:lnTo>
                  <a:pt x="101" y="112"/>
                </a:lnTo>
                <a:lnTo>
                  <a:pt x="67" y="73"/>
                </a:lnTo>
                <a:lnTo>
                  <a:pt x="35" y="35"/>
                </a:lnTo>
                <a:lnTo>
                  <a:pt x="0" y="0"/>
                </a:lnTo>
                <a:lnTo>
                  <a:pt x="0" y="0"/>
                </a:lnTo>
                <a:lnTo>
                  <a:pt x="39" y="37"/>
                </a:lnTo>
                <a:lnTo>
                  <a:pt x="76" y="76"/>
                </a:lnTo>
                <a:lnTo>
                  <a:pt x="151" y="157"/>
                </a:lnTo>
                <a:lnTo>
                  <a:pt x="153" y="155"/>
                </a:lnTo>
                <a:lnTo>
                  <a:pt x="151" y="157"/>
                </a:lnTo>
                <a:lnTo>
                  <a:pt x="151" y="157"/>
                </a:lnTo>
                <a:lnTo>
                  <a:pt x="151" y="157"/>
                </a:lnTo>
                <a:lnTo>
                  <a:pt x="172" y="177"/>
                </a:lnTo>
                <a:lnTo>
                  <a:pt x="172" y="177"/>
                </a:lnTo>
                <a:lnTo>
                  <a:pt x="153" y="164"/>
                </a:lnTo>
                <a:lnTo>
                  <a:pt x="136" y="149"/>
                </a:lnTo>
                <a:close/>
              </a:path>
            </a:pathLst>
          </a:custGeom>
          <a:solidFill>
            <a:srgbClr val="754e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84560" y="4327560"/>
            <a:ext cx="272880" cy="280800"/>
          </a:xfrm>
          <a:custGeom>
            <a:avLst/>
            <a:gdLst/>
            <a:ahLst/>
            <a:rect l="l" t="t" r="r" b="b"/>
            <a:pathLst>
              <a:path w="172" h="177">
                <a:moveTo>
                  <a:pt x="136" y="149"/>
                </a:moveTo>
                <a:lnTo>
                  <a:pt x="136" y="149"/>
                </a:lnTo>
                <a:lnTo>
                  <a:pt x="136" y="149"/>
                </a:lnTo>
                <a:lnTo>
                  <a:pt x="136" y="149"/>
                </a:lnTo>
                <a:lnTo>
                  <a:pt x="101" y="112"/>
                </a:lnTo>
                <a:lnTo>
                  <a:pt x="67" y="73"/>
                </a:lnTo>
                <a:lnTo>
                  <a:pt x="35" y="35"/>
                </a:lnTo>
                <a:lnTo>
                  <a:pt x="0" y="0"/>
                </a:lnTo>
                <a:lnTo>
                  <a:pt x="0" y="0"/>
                </a:lnTo>
                <a:lnTo>
                  <a:pt x="39" y="37"/>
                </a:lnTo>
                <a:lnTo>
                  <a:pt x="76" y="76"/>
                </a:lnTo>
                <a:lnTo>
                  <a:pt x="151" y="157"/>
                </a:lnTo>
                <a:lnTo>
                  <a:pt x="153" y="155"/>
                </a:lnTo>
                <a:lnTo>
                  <a:pt x="151" y="157"/>
                </a:lnTo>
                <a:lnTo>
                  <a:pt x="151" y="157"/>
                </a:lnTo>
                <a:lnTo>
                  <a:pt x="151" y="157"/>
                </a:lnTo>
                <a:lnTo>
                  <a:pt x="172" y="177"/>
                </a:lnTo>
                <a:lnTo>
                  <a:pt x="172" y="177"/>
                </a:lnTo>
                <a:lnTo>
                  <a:pt x="153" y="164"/>
                </a:lnTo>
                <a:lnTo>
                  <a:pt x="136" y="14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11160" y="4240080"/>
            <a:ext cx="1582920" cy="986040"/>
          </a:xfrm>
          <a:custGeom>
            <a:avLst/>
            <a:gdLst/>
            <a:ahLst/>
            <a:rect l="l" t="t" r="r" b="b"/>
            <a:pathLst>
              <a:path w="997" h="621">
                <a:moveTo>
                  <a:pt x="735" y="621"/>
                </a:moveTo>
                <a:lnTo>
                  <a:pt x="735" y="621"/>
                </a:lnTo>
                <a:lnTo>
                  <a:pt x="735" y="621"/>
                </a:lnTo>
                <a:lnTo>
                  <a:pt x="735" y="621"/>
                </a:lnTo>
                <a:lnTo>
                  <a:pt x="735" y="621"/>
                </a:lnTo>
                <a:lnTo>
                  <a:pt x="735" y="621"/>
                </a:lnTo>
                <a:lnTo>
                  <a:pt x="735" y="621"/>
                </a:lnTo>
                <a:close/>
                <a:moveTo>
                  <a:pt x="997" y="559"/>
                </a:moveTo>
                <a:lnTo>
                  <a:pt x="997" y="559"/>
                </a:lnTo>
                <a:lnTo>
                  <a:pt x="997" y="559"/>
                </a:lnTo>
                <a:lnTo>
                  <a:pt x="997" y="559"/>
                </a:lnTo>
                <a:close/>
                <a:moveTo>
                  <a:pt x="909" y="470"/>
                </a:moveTo>
                <a:lnTo>
                  <a:pt x="909" y="470"/>
                </a:lnTo>
                <a:lnTo>
                  <a:pt x="909" y="470"/>
                </a:lnTo>
                <a:lnTo>
                  <a:pt x="909" y="470"/>
                </a:lnTo>
                <a:close/>
                <a:moveTo>
                  <a:pt x="995" y="464"/>
                </a:moveTo>
                <a:lnTo>
                  <a:pt x="995" y="464"/>
                </a:lnTo>
                <a:lnTo>
                  <a:pt x="995" y="464"/>
                </a:lnTo>
                <a:lnTo>
                  <a:pt x="995" y="464"/>
                </a:lnTo>
                <a:lnTo>
                  <a:pt x="995" y="464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2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78280" y="52261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94080" y="512748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54400" y="49863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90840" y="4976640"/>
            <a:ext cx="18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11160" y="424008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90640" y="4116240"/>
            <a:ext cx="1289160" cy="1389240"/>
          </a:xfrm>
          <a:custGeom>
            <a:avLst/>
            <a:gdLst/>
            <a:ahLst/>
            <a:rect l="l" t="t" r="r" b="b"/>
            <a:pathLst>
              <a:path w="812" h="875">
                <a:moveTo>
                  <a:pt x="320" y="875"/>
                </a:moveTo>
                <a:lnTo>
                  <a:pt x="320" y="875"/>
                </a:lnTo>
                <a:lnTo>
                  <a:pt x="320" y="873"/>
                </a:lnTo>
                <a:lnTo>
                  <a:pt x="320" y="871"/>
                </a:lnTo>
                <a:lnTo>
                  <a:pt x="320" y="871"/>
                </a:lnTo>
                <a:lnTo>
                  <a:pt x="320" y="873"/>
                </a:lnTo>
                <a:lnTo>
                  <a:pt x="320" y="873"/>
                </a:lnTo>
                <a:lnTo>
                  <a:pt x="298" y="867"/>
                </a:lnTo>
                <a:lnTo>
                  <a:pt x="272" y="860"/>
                </a:lnTo>
                <a:lnTo>
                  <a:pt x="272" y="860"/>
                </a:lnTo>
                <a:lnTo>
                  <a:pt x="262" y="856"/>
                </a:lnTo>
                <a:lnTo>
                  <a:pt x="255" y="851"/>
                </a:lnTo>
                <a:lnTo>
                  <a:pt x="255" y="851"/>
                </a:lnTo>
                <a:lnTo>
                  <a:pt x="253" y="845"/>
                </a:lnTo>
                <a:lnTo>
                  <a:pt x="253" y="841"/>
                </a:lnTo>
                <a:lnTo>
                  <a:pt x="255" y="836"/>
                </a:lnTo>
                <a:lnTo>
                  <a:pt x="258" y="832"/>
                </a:lnTo>
                <a:lnTo>
                  <a:pt x="258" y="832"/>
                </a:lnTo>
                <a:lnTo>
                  <a:pt x="273" y="809"/>
                </a:lnTo>
                <a:lnTo>
                  <a:pt x="288" y="787"/>
                </a:lnTo>
                <a:lnTo>
                  <a:pt x="303" y="765"/>
                </a:lnTo>
                <a:lnTo>
                  <a:pt x="315" y="740"/>
                </a:lnTo>
                <a:lnTo>
                  <a:pt x="326" y="716"/>
                </a:lnTo>
                <a:lnTo>
                  <a:pt x="337" y="692"/>
                </a:lnTo>
                <a:lnTo>
                  <a:pt x="344" y="667"/>
                </a:lnTo>
                <a:lnTo>
                  <a:pt x="352" y="643"/>
                </a:lnTo>
                <a:lnTo>
                  <a:pt x="358" y="619"/>
                </a:lnTo>
                <a:lnTo>
                  <a:pt x="361" y="594"/>
                </a:lnTo>
                <a:lnTo>
                  <a:pt x="365" y="568"/>
                </a:lnTo>
                <a:lnTo>
                  <a:pt x="367" y="544"/>
                </a:lnTo>
                <a:lnTo>
                  <a:pt x="367" y="520"/>
                </a:lnTo>
                <a:lnTo>
                  <a:pt x="365" y="495"/>
                </a:lnTo>
                <a:lnTo>
                  <a:pt x="361" y="471"/>
                </a:lnTo>
                <a:lnTo>
                  <a:pt x="358" y="449"/>
                </a:lnTo>
                <a:lnTo>
                  <a:pt x="359" y="447"/>
                </a:lnTo>
                <a:lnTo>
                  <a:pt x="358" y="449"/>
                </a:lnTo>
                <a:lnTo>
                  <a:pt x="358" y="449"/>
                </a:lnTo>
                <a:lnTo>
                  <a:pt x="348" y="417"/>
                </a:lnTo>
                <a:lnTo>
                  <a:pt x="337" y="387"/>
                </a:lnTo>
                <a:lnTo>
                  <a:pt x="337" y="387"/>
                </a:lnTo>
                <a:lnTo>
                  <a:pt x="337" y="387"/>
                </a:lnTo>
                <a:lnTo>
                  <a:pt x="337" y="387"/>
                </a:lnTo>
                <a:lnTo>
                  <a:pt x="326" y="361"/>
                </a:lnTo>
                <a:lnTo>
                  <a:pt x="311" y="336"/>
                </a:lnTo>
                <a:lnTo>
                  <a:pt x="296" y="312"/>
                </a:lnTo>
                <a:lnTo>
                  <a:pt x="277" y="292"/>
                </a:lnTo>
                <a:lnTo>
                  <a:pt x="258" y="273"/>
                </a:lnTo>
                <a:lnTo>
                  <a:pt x="238" y="254"/>
                </a:lnTo>
                <a:lnTo>
                  <a:pt x="215" y="237"/>
                </a:lnTo>
                <a:lnTo>
                  <a:pt x="193" y="221"/>
                </a:lnTo>
                <a:lnTo>
                  <a:pt x="99" y="155"/>
                </a:lnTo>
                <a:lnTo>
                  <a:pt x="75" y="138"/>
                </a:lnTo>
                <a:lnTo>
                  <a:pt x="53" y="120"/>
                </a:lnTo>
                <a:lnTo>
                  <a:pt x="32" y="101"/>
                </a:lnTo>
                <a:lnTo>
                  <a:pt x="12" y="80"/>
                </a:lnTo>
                <a:lnTo>
                  <a:pt x="12" y="80"/>
                </a:lnTo>
                <a:lnTo>
                  <a:pt x="12" y="80"/>
                </a:lnTo>
                <a:lnTo>
                  <a:pt x="13" y="78"/>
                </a:lnTo>
                <a:lnTo>
                  <a:pt x="13" y="78"/>
                </a:lnTo>
                <a:lnTo>
                  <a:pt x="12" y="80"/>
                </a:lnTo>
                <a:lnTo>
                  <a:pt x="12" y="80"/>
                </a:lnTo>
                <a:lnTo>
                  <a:pt x="6" y="73"/>
                </a:lnTo>
                <a:lnTo>
                  <a:pt x="2" y="65"/>
                </a:lnTo>
                <a:lnTo>
                  <a:pt x="0" y="58"/>
                </a:lnTo>
                <a:lnTo>
                  <a:pt x="0" y="50"/>
                </a:lnTo>
                <a:lnTo>
                  <a:pt x="0" y="43"/>
                </a:lnTo>
                <a:lnTo>
                  <a:pt x="2" y="35"/>
                </a:lnTo>
                <a:lnTo>
                  <a:pt x="6" y="28"/>
                </a:lnTo>
                <a:lnTo>
                  <a:pt x="10" y="22"/>
                </a:lnTo>
                <a:lnTo>
                  <a:pt x="10" y="22"/>
                </a:lnTo>
                <a:lnTo>
                  <a:pt x="21" y="13"/>
                </a:lnTo>
                <a:lnTo>
                  <a:pt x="32" y="6"/>
                </a:lnTo>
                <a:lnTo>
                  <a:pt x="47" y="2"/>
                </a:lnTo>
                <a:lnTo>
                  <a:pt x="64" y="0"/>
                </a:lnTo>
                <a:lnTo>
                  <a:pt x="64" y="0"/>
                </a:lnTo>
                <a:lnTo>
                  <a:pt x="73" y="2"/>
                </a:lnTo>
                <a:lnTo>
                  <a:pt x="73" y="4"/>
                </a:lnTo>
                <a:lnTo>
                  <a:pt x="73" y="4"/>
                </a:lnTo>
                <a:lnTo>
                  <a:pt x="73" y="2"/>
                </a:lnTo>
                <a:lnTo>
                  <a:pt x="73" y="2"/>
                </a:lnTo>
                <a:lnTo>
                  <a:pt x="99" y="6"/>
                </a:lnTo>
                <a:lnTo>
                  <a:pt x="126" y="13"/>
                </a:lnTo>
                <a:lnTo>
                  <a:pt x="126" y="13"/>
                </a:lnTo>
                <a:lnTo>
                  <a:pt x="159" y="24"/>
                </a:lnTo>
                <a:lnTo>
                  <a:pt x="159" y="24"/>
                </a:lnTo>
                <a:lnTo>
                  <a:pt x="184" y="35"/>
                </a:lnTo>
                <a:lnTo>
                  <a:pt x="184" y="35"/>
                </a:lnTo>
                <a:lnTo>
                  <a:pt x="219" y="56"/>
                </a:lnTo>
                <a:lnTo>
                  <a:pt x="253" y="78"/>
                </a:lnTo>
                <a:lnTo>
                  <a:pt x="283" y="105"/>
                </a:lnTo>
                <a:lnTo>
                  <a:pt x="311" y="133"/>
                </a:lnTo>
                <a:lnTo>
                  <a:pt x="311" y="133"/>
                </a:lnTo>
                <a:lnTo>
                  <a:pt x="286" y="110"/>
                </a:lnTo>
                <a:lnTo>
                  <a:pt x="260" y="90"/>
                </a:lnTo>
                <a:lnTo>
                  <a:pt x="232" y="71"/>
                </a:lnTo>
                <a:lnTo>
                  <a:pt x="204" y="52"/>
                </a:lnTo>
                <a:lnTo>
                  <a:pt x="174" y="37"/>
                </a:lnTo>
                <a:lnTo>
                  <a:pt x="142" y="24"/>
                </a:lnTo>
                <a:lnTo>
                  <a:pt x="109" y="15"/>
                </a:lnTo>
                <a:lnTo>
                  <a:pt x="73" y="7"/>
                </a:lnTo>
                <a:lnTo>
                  <a:pt x="73" y="7"/>
                </a:lnTo>
                <a:lnTo>
                  <a:pt x="73" y="7"/>
                </a:lnTo>
                <a:lnTo>
                  <a:pt x="55" y="6"/>
                </a:lnTo>
                <a:lnTo>
                  <a:pt x="38" y="9"/>
                </a:lnTo>
                <a:lnTo>
                  <a:pt x="25" y="17"/>
                </a:lnTo>
                <a:lnTo>
                  <a:pt x="15" y="26"/>
                </a:lnTo>
                <a:lnTo>
                  <a:pt x="15" y="26"/>
                </a:lnTo>
                <a:lnTo>
                  <a:pt x="8" y="37"/>
                </a:lnTo>
                <a:lnTo>
                  <a:pt x="6" y="43"/>
                </a:lnTo>
                <a:lnTo>
                  <a:pt x="6" y="50"/>
                </a:lnTo>
                <a:lnTo>
                  <a:pt x="6" y="56"/>
                </a:lnTo>
                <a:lnTo>
                  <a:pt x="8" y="64"/>
                </a:lnTo>
                <a:lnTo>
                  <a:pt x="12" y="69"/>
                </a:lnTo>
                <a:lnTo>
                  <a:pt x="15" y="77"/>
                </a:lnTo>
                <a:lnTo>
                  <a:pt x="15" y="77"/>
                </a:lnTo>
                <a:lnTo>
                  <a:pt x="15" y="77"/>
                </a:lnTo>
                <a:lnTo>
                  <a:pt x="36" y="97"/>
                </a:lnTo>
                <a:lnTo>
                  <a:pt x="56" y="116"/>
                </a:lnTo>
                <a:lnTo>
                  <a:pt x="79" y="133"/>
                </a:lnTo>
                <a:lnTo>
                  <a:pt x="103" y="150"/>
                </a:lnTo>
                <a:lnTo>
                  <a:pt x="197" y="215"/>
                </a:lnTo>
                <a:lnTo>
                  <a:pt x="219" y="232"/>
                </a:lnTo>
                <a:lnTo>
                  <a:pt x="242" y="250"/>
                </a:lnTo>
                <a:lnTo>
                  <a:pt x="262" y="269"/>
                </a:lnTo>
                <a:lnTo>
                  <a:pt x="281" y="288"/>
                </a:lnTo>
                <a:lnTo>
                  <a:pt x="300" y="310"/>
                </a:lnTo>
                <a:lnTo>
                  <a:pt x="316" y="333"/>
                </a:lnTo>
                <a:lnTo>
                  <a:pt x="331" y="357"/>
                </a:lnTo>
                <a:lnTo>
                  <a:pt x="343" y="385"/>
                </a:lnTo>
                <a:lnTo>
                  <a:pt x="343" y="385"/>
                </a:lnTo>
                <a:lnTo>
                  <a:pt x="343" y="385"/>
                </a:lnTo>
                <a:lnTo>
                  <a:pt x="354" y="415"/>
                </a:lnTo>
                <a:lnTo>
                  <a:pt x="363" y="447"/>
                </a:lnTo>
                <a:lnTo>
                  <a:pt x="363" y="447"/>
                </a:lnTo>
                <a:lnTo>
                  <a:pt x="367" y="471"/>
                </a:lnTo>
                <a:lnTo>
                  <a:pt x="371" y="495"/>
                </a:lnTo>
                <a:lnTo>
                  <a:pt x="372" y="520"/>
                </a:lnTo>
                <a:lnTo>
                  <a:pt x="372" y="544"/>
                </a:lnTo>
                <a:lnTo>
                  <a:pt x="371" y="570"/>
                </a:lnTo>
                <a:lnTo>
                  <a:pt x="367" y="594"/>
                </a:lnTo>
                <a:lnTo>
                  <a:pt x="363" y="621"/>
                </a:lnTo>
                <a:lnTo>
                  <a:pt x="358" y="645"/>
                </a:lnTo>
                <a:lnTo>
                  <a:pt x="350" y="669"/>
                </a:lnTo>
                <a:lnTo>
                  <a:pt x="341" y="695"/>
                </a:lnTo>
                <a:lnTo>
                  <a:pt x="331" y="720"/>
                </a:lnTo>
                <a:lnTo>
                  <a:pt x="320" y="744"/>
                </a:lnTo>
                <a:lnTo>
                  <a:pt x="307" y="766"/>
                </a:lnTo>
                <a:lnTo>
                  <a:pt x="294" y="791"/>
                </a:lnTo>
                <a:lnTo>
                  <a:pt x="279" y="813"/>
                </a:lnTo>
                <a:lnTo>
                  <a:pt x="262" y="836"/>
                </a:lnTo>
                <a:lnTo>
                  <a:pt x="260" y="834"/>
                </a:lnTo>
                <a:lnTo>
                  <a:pt x="262" y="836"/>
                </a:lnTo>
                <a:lnTo>
                  <a:pt x="262" y="836"/>
                </a:lnTo>
                <a:lnTo>
                  <a:pt x="262" y="836"/>
                </a:lnTo>
                <a:lnTo>
                  <a:pt x="262" y="836"/>
                </a:lnTo>
                <a:lnTo>
                  <a:pt x="258" y="841"/>
                </a:lnTo>
                <a:lnTo>
                  <a:pt x="260" y="847"/>
                </a:lnTo>
                <a:lnTo>
                  <a:pt x="260" y="847"/>
                </a:lnTo>
                <a:lnTo>
                  <a:pt x="264" y="851"/>
                </a:lnTo>
                <a:lnTo>
                  <a:pt x="275" y="856"/>
                </a:lnTo>
                <a:lnTo>
                  <a:pt x="275" y="856"/>
                </a:lnTo>
                <a:lnTo>
                  <a:pt x="300" y="862"/>
                </a:lnTo>
                <a:lnTo>
                  <a:pt x="320" y="867"/>
                </a:lnTo>
                <a:lnTo>
                  <a:pt x="320" y="867"/>
                </a:lnTo>
                <a:lnTo>
                  <a:pt x="343" y="869"/>
                </a:lnTo>
                <a:lnTo>
                  <a:pt x="363" y="869"/>
                </a:lnTo>
                <a:lnTo>
                  <a:pt x="382" y="866"/>
                </a:lnTo>
                <a:lnTo>
                  <a:pt x="401" y="862"/>
                </a:lnTo>
                <a:lnTo>
                  <a:pt x="417" y="854"/>
                </a:lnTo>
                <a:lnTo>
                  <a:pt x="436" y="847"/>
                </a:lnTo>
                <a:lnTo>
                  <a:pt x="453" y="838"/>
                </a:lnTo>
                <a:lnTo>
                  <a:pt x="468" y="826"/>
                </a:lnTo>
                <a:lnTo>
                  <a:pt x="500" y="804"/>
                </a:lnTo>
                <a:lnTo>
                  <a:pt x="531" y="780"/>
                </a:lnTo>
                <a:lnTo>
                  <a:pt x="563" y="755"/>
                </a:lnTo>
                <a:lnTo>
                  <a:pt x="595" y="735"/>
                </a:lnTo>
                <a:lnTo>
                  <a:pt x="595" y="735"/>
                </a:lnTo>
                <a:lnTo>
                  <a:pt x="597" y="733"/>
                </a:lnTo>
                <a:lnTo>
                  <a:pt x="597" y="737"/>
                </a:lnTo>
                <a:lnTo>
                  <a:pt x="597" y="737"/>
                </a:lnTo>
                <a:lnTo>
                  <a:pt x="597" y="733"/>
                </a:lnTo>
                <a:lnTo>
                  <a:pt x="597" y="733"/>
                </a:lnTo>
                <a:lnTo>
                  <a:pt x="614" y="727"/>
                </a:lnTo>
                <a:lnTo>
                  <a:pt x="634" y="720"/>
                </a:lnTo>
                <a:lnTo>
                  <a:pt x="655" y="716"/>
                </a:lnTo>
                <a:lnTo>
                  <a:pt x="666" y="716"/>
                </a:lnTo>
                <a:lnTo>
                  <a:pt x="675" y="716"/>
                </a:lnTo>
                <a:lnTo>
                  <a:pt x="675" y="716"/>
                </a:lnTo>
                <a:lnTo>
                  <a:pt x="746" y="697"/>
                </a:lnTo>
                <a:lnTo>
                  <a:pt x="746" y="697"/>
                </a:lnTo>
                <a:lnTo>
                  <a:pt x="761" y="690"/>
                </a:lnTo>
                <a:lnTo>
                  <a:pt x="778" y="684"/>
                </a:lnTo>
                <a:lnTo>
                  <a:pt x="810" y="677"/>
                </a:lnTo>
                <a:lnTo>
                  <a:pt x="812" y="682"/>
                </a:lnTo>
                <a:lnTo>
                  <a:pt x="812" y="682"/>
                </a:lnTo>
                <a:lnTo>
                  <a:pt x="780" y="690"/>
                </a:lnTo>
                <a:lnTo>
                  <a:pt x="765" y="695"/>
                </a:lnTo>
                <a:lnTo>
                  <a:pt x="748" y="701"/>
                </a:lnTo>
                <a:lnTo>
                  <a:pt x="748" y="699"/>
                </a:lnTo>
                <a:lnTo>
                  <a:pt x="748" y="703"/>
                </a:lnTo>
                <a:lnTo>
                  <a:pt x="748" y="699"/>
                </a:lnTo>
                <a:lnTo>
                  <a:pt x="748" y="701"/>
                </a:lnTo>
                <a:lnTo>
                  <a:pt x="748" y="703"/>
                </a:lnTo>
                <a:lnTo>
                  <a:pt x="748" y="703"/>
                </a:lnTo>
                <a:lnTo>
                  <a:pt x="748" y="703"/>
                </a:lnTo>
                <a:lnTo>
                  <a:pt x="677" y="723"/>
                </a:lnTo>
                <a:lnTo>
                  <a:pt x="675" y="720"/>
                </a:lnTo>
                <a:lnTo>
                  <a:pt x="675" y="723"/>
                </a:lnTo>
                <a:lnTo>
                  <a:pt x="675" y="723"/>
                </a:lnTo>
                <a:lnTo>
                  <a:pt x="666" y="722"/>
                </a:lnTo>
                <a:lnTo>
                  <a:pt x="657" y="722"/>
                </a:lnTo>
                <a:lnTo>
                  <a:pt x="636" y="725"/>
                </a:lnTo>
                <a:lnTo>
                  <a:pt x="616" y="733"/>
                </a:lnTo>
                <a:lnTo>
                  <a:pt x="599" y="738"/>
                </a:lnTo>
                <a:lnTo>
                  <a:pt x="599" y="738"/>
                </a:lnTo>
                <a:lnTo>
                  <a:pt x="569" y="759"/>
                </a:lnTo>
                <a:lnTo>
                  <a:pt x="539" y="781"/>
                </a:lnTo>
                <a:lnTo>
                  <a:pt x="509" y="804"/>
                </a:lnTo>
                <a:lnTo>
                  <a:pt x="481" y="826"/>
                </a:lnTo>
                <a:lnTo>
                  <a:pt x="449" y="845"/>
                </a:lnTo>
                <a:lnTo>
                  <a:pt x="434" y="854"/>
                </a:lnTo>
                <a:lnTo>
                  <a:pt x="417" y="862"/>
                </a:lnTo>
                <a:lnTo>
                  <a:pt x="401" y="867"/>
                </a:lnTo>
                <a:lnTo>
                  <a:pt x="382" y="871"/>
                </a:lnTo>
                <a:lnTo>
                  <a:pt x="363" y="875"/>
                </a:lnTo>
                <a:lnTo>
                  <a:pt x="344" y="875"/>
                </a:lnTo>
                <a:lnTo>
                  <a:pt x="344" y="875"/>
                </a:lnTo>
                <a:lnTo>
                  <a:pt x="320" y="875"/>
                </a:lnTo>
                <a:close/>
                <a:moveTo>
                  <a:pt x="337" y="387"/>
                </a:moveTo>
                <a:lnTo>
                  <a:pt x="341" y="385"/>
                </a:lnTo>
                <a:lnTo>
                  <a:pt x="339" y="385"/>
                </a:lnTo>
                <a:lnTo>
                  <a:pt x="337" y="387"/>
                </a:lnTo>
                <a:close/>
                <a:moveTo>
                  <a:pt x="483" y="310"/>
                </a:moveTo>
                <a:lnTo>
                  <a:pt x="483" y="310"/>
                </a:lnTo>
                <a:lnTo>
                  <a:pt x="500" y="320"/>
                </a:lnTo>
                <a:lnTo>
                  <a:pt x="500" y="320"/>
                </a:lnTo>
                <a:lnTo>
                  <a:pt x="507" y="323"/>
                </a:lnTo>
                <a:lnTo>
                  <a:pt x="507" y="323"/>
                </a:lnTo>
                <a:lnTo>
                  <a:pt x="522" y="338"/>
                </a:lnTo>
                <a:lnTo>
                  <a:pt x="518" y="342"/>
                </a:lnTo>
                <a:lnTo>
                  <a:pt x="518" y="342"/>
                </a:lnTo>
                <a:lnTo>
                  <a:pt x="483" y="310"/>
                </a:lnTo>
                <a:close/>
              </a:path>
            </a:pathLst>
          </a:custGeom>
          <a:solidFill>
            <a:srgbClr val="82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90640" y="4116240"/>
            <a:ext cx="1289160" cy="1389240"/>
          </a:xfrm>
          <a:custGeom>
            <a:avLst/>
            <a:gdLst/>
            <a:ahLst/>
            <a:rect l="l" t="t" r="r" b="b"/>
            <a:pathLst>
              <a:path w="812" h="875">
                <a:moveTo>
                  <a:pt x="320" y="875"/>
                </a:moveTo>
                <a:lnTo>
                  <a:pt x="320" y="875"/>
                </a:lnTo>
                <a:lnTo>
                  <a:pt x="320" y="873"/>
                </a:lnTo>
                <a:lnTo>
                  <a:pt x="320" y="871"/>
                </a:lnTo>
                <a:lnTo>
                  <a:pt x="320" y="871"/>
                </a:lnTo>
                <a:lnTo>
                  <a:pt x="320" y="873"/>
                </a:lnTo>
                <a:lnTo>
                  <a:pt x="320" y="873"/>
                </a:lnTo>
                <a:lnTo>
                  <a:pt x="298" y="867"/>
                </a:lnTo>
                <a:lnTo>
                  <a:pt x="272" y="860"/>
                </a:lnTo>
                <a:lnTo>
                  <a:pt x="272" y="860"/>
                </a:lnTo>
                <a:lnTo>
                  <a:pt x="262" y="856"/>
                </a:lnTo>
                <a:lnTo>
                  <a:pt x="255" y="851"/>
                </a:lnTo>
                <a:lnTo>
                  <a:pt x="255" y="851"/>
                </a:lnTo>
                <a:lnTo>
                  <a:pt x="253" y="845"/>
                </a:lnTo>
                <a:lnTo>
                  <a:pt x="253" y="841"/>
                </a:lnTo>
                <a:lnTo>
                  <a:pt x="255" y="836"/>
                </a:lnTo>
                <a:lnTo>
                  <a:pt x="258" y="832"/>
                </a:lnTo>
                <a:lnTo>
                  <a:pt x="258" y="832"/>
                </a:lnTo>
                <a:lnTo>
                  <a:pt x="273" y="809"/>
                </a:lnTo>
                <a:lnTo>
                  <a:pt x="288" y="787"/>
                </a:lnTo>
                <a:lnTo>
                  <a:pt x="303" y="765"/>
                </a:lnTo>
                <a:lnTo>
                  <a:pt x="315" y="740"/>
                </a:lnTo>
                <a:lnTo>
                  <a:pt x="326" y="716"/>
                </a:lnTo>
                <a:lnTo>
                  <a:pt x="337" y="692"/>
                </a:lnTo>
                <a:lnTo>
                  <a:pt x="344" y="667"/>
                </a:lnTo>
                <a:lnTo>
                  <a:pt x="352" y="643"/>
                </a:lnTo>
                <a:lnTo>
                  <a:pt x="358" y="619"/>
                </a:lnTo>
                <a:lnTo>
                  <a:pt x="361" y="594"/>
                </a:lnTo>
                <a:lnTo>
                  <a:pt x="365" y="568"/>
                </a:lnTo>
                <a:lnTo>
                  <a:pt x="367" y="544"/>
                </a:lnTo>
                <a:lnTo>
                  <a:pt x="367" y="520"/>
                </a:lnTo>
                <a:lnTo>
                  <a:pt x="365" y="495"/>
                </a:lnTo>
                <a:lnTo>
                  <a:pt x="361" y="471"/>
                </a:lnTo>
                <a:lnTo>
                  <a:pt x="358" y="449"/>
                </a:lnTo>
                <a:lnTo>
                  <a:pt x="359" y="447"/>
                </a:lnTo>
                <a:lnTo>
                  <a:pt x="358" y="449"/>
                </a:lnTo>
                <a:lnTo>
                  <a:pt x="358" y="449"/>
                </a:lnTo>
                <a:lnTo>
                  <a:pt x="348" y="417"/>
                </a:lnTo>
                <a:lnTo>
                  <a:pt x="337" y="387"/>
                </a:lnTo>
                <a:lnTo>
                  <a:pt x="337" y="387"/>
                </a:lnTo>
                <a:lnTo>
                  <a:pt x="337" y="387"/>
                </a:lnTo>
                <a:lnTo>
                  <a:pt x="337" y="387"/>
                </a:lnTo>
                <a:lnTo>
                  <a:pt x="326" y="361"/>
                </a:lnTo>
                <a:lnTo>
                  <a:pt x="311" y="336"/>
                </a:lnTo>
                <a:lnTo>
                  <a:pt x="296" y="312"/>
                </a:lnTo>
                <a:lnTo>
                  <a:pt x="277" y="292"/>
                </a:lnTo>
                <a:lnTo>
                  <a:pt x="258" y="273"/>
                </a:lnTo>
                <a:lnTo>
                  <a:pt x="238" y="254"/>
                </a:lnTo>
                <a:lnTo>
                  <a:pt x="215" y="237"/>
                </a:lnTo>
                <a:lnTo>
                  <a:pt x="193" y="221"/>
                </a:lnTo>
                <a:lnTo>
                  <a:pt x="99" y="155"/>
                </a:lnTo>
                <a:lnTo>
                  <a:pt x="75" y="138"/>
                </a:lnTo>
                <a:lnTo>
                  <a:pt x="53" y="120"/>
                </a:lnTo>
                <a:lnTo>
                  <a:pt x="32" y="101"/>
                </a:lnTo>
                <a:lnTo>
                  <a:pt x="12" y="80"/>
                </a:lnTo>
                <a:lnTo>
                  <a:pt x="12" y="80"/>
                </a:lnTo>
                <a:lnTo>
                  <a:pt x="12" y="80"/>
                </a:lnTo>
                <a:lnTo>
                  <a:pt x="13" y="78"/>
                </a:lnTo>
                <a:lnTo>
                  <a:pt x="13" y="78"/>
                </a:lnTo>
                <a:lnTo>
                  <a:pt x="12" y="80"/>
                </a:lnTo>
                <a:lnTo>
                  <a:pt x="12" y="80"/>
                </a:lnTo>
                <a:lnTo>
                  <a:pt x="6" y="73"/>
                </a:lnTo>
                <a:lnTo>
                  <a:pt x="2" y="65"/>
                </a:lnTo>
                <a:lnTo>
                  <a:pt x="0" y="58"/>
                </a:lnTo>
                <a:lnTo>
                  <a:pt x="0" y="50"/>
                </a:lnTo>
                <a:lnTo>
                  <a:pt x="0" y="43"/>
                </a:lnTo>
                <a:lnTo>
                  <a:pt x="2" y="35"/>
                </a:lnTo>
                <a:lnTo>
                  <a:pt x="6" y="28"/>
                </a:lnTo>
                <a:lnTo>
                  <a:pt x="10" y="22"/>
                </a:lnTo>
                <a:lnTo>
                  <a:pt x="10" y="22"/>
                </a:lnTo>
                <a:lnTo>
                  <a:pt x="21" y="13"/>
                </a:lnTo>
                <a:lnTo>
                  <a:pt x="32" y="6"/>
                </a:lnTo>
                <a:lnTo>
                  <a:pt x="47" y="2"/>
                </a:lnTo>
                <a:lnTo>
                  <a:pt x="64" y="0"/>
                </a:lnTo>
                <a:lnTo>
                  <a:pt x="64" y="0"/>
                </a:lnTo>
                <a:lnTo>
                  <a:pt x="73" y="2"/>
                </a:lnTo>
                <a:lnTo>
                  <a:pt x="73" y="4"/>
                </a:lnTo>
                <a:lnTo>
                  <a:pt x="73" y="4"/>
                </a:lnTo>
                <a:lnTo>
                  <a:pt x="73" y="2"/>
                </a:lnTo>
                <a:lnTo>
                  <a:pt x="73" y="2"/>
                </a:lnTo>
                <a:lnTo>
                  <a:pt x="99" y="6"/>
                </a:lnTo>
                <a:lnTo>
                  <a:pt x="126" y="13"/>
                </a:lnTo>
                <a:lnTo>
                  <a:pt x="126" y="13"/>
                </a:lnTo>
                <a:lnTo>
                  <a:pt x="159" y="24"/>
                </a:lnTo>
                <a:lnTo>
                  <a:pt x="159" y="24"/>
                </a:lnTo>
                <a:lnTo>
                  <a:pt x="184" y="35"/>
                </a:lnTo>
                <a:lnTo>
                  <a:pt x="184" y="35"/>
                </a:lnTo>
                <a:lnTo>
                  <a:pt x="219" y="56"/>
                </a:lnTo>
                <a:lnTo>
                  <a:pt x="253" y="78"/>
                </a:lnTo>
                <a:lnTo>
                  <a:pt x="283" y="105"/>
                </a:lnTo>
                <a:lnTo>
                  <a:pt x="311" y="133"/>
                </a:lnTo>
                <a:lnTo>
                  <a:pt x="311" y="133"/>
                </a:lnTo>
                <a:lnTo>
                  <a:pt x="286" y="110"/>
                </a:lnTo>
                <a:lnTo>
                  <a:pt x="260" y="90"/>
                </a:lnTo>
                <a:lnTo>
                  <a:pt x="232" y="71"/>
                </a:lnTo>
                <a:lnTo>
                  <a:pt x="204" y="52"/>
                </a:lnTo>
                <a:lnTo>
                  <a:pt x="174" y="37"/>
                </a:lnTo>
                <a:lnTo>
                  <a:pt x="142" y="24"/>
                </a:lnTo>
                <a:lnTo>
                  <a:pt x="109" y="15"/>
                </a:lnTo>
                <a:lnTo>
                  <a:pt x="73" y="7"/>
                </a:lnTo>
                <a:lnTo>
                  <a:pt x="73" y="7"/>
                </a:lnTo>
                <a:lnTo>
                  <a:pt x="73" y="7"/>
                </a:lnTo>
                <a:lnTo>
                  <a:pt x="55" y="6"/>
                </a:lnTo>
                <a:lnTo>
                  <a:pt x="38" y="9"/>
                </a:lnTo>
                <a:lnTo>
                  <a:pt x="25" y="17"/>
                </a:lnTo>
                <a:lnTo>
                  <a:pt x="15" y="26"/>
                </a:lnTo>
                <a:lnTo>
                  <a:pt x="15" y="26"/>
                </a:lnTo>
                <a:lnTo>
                  <a:pt x="8" y="37"/>
                </a:lnTo>
                <a:lnTo>
                  <a:pt x="6" y="43"/>
                </a:lnTo>
                <a:lnTo>
                  <a:pt x="6" y="50"/>
                </a:lnTo>
                <a:lnTo>
                  <a:pt x="6" y="56"/>
                </a:lnTo>
                <a:lnTo>
                  <a:pt x="8" y="64"/>
                </a:lnTo>
                <a:lnTo>
                  <a:pt x="12" y="69"/>
                </a:lnTo>
                <a:lnTo>
                  <a:pt x="15" y="77"/>
                </a:lnTo>
                <a:lnTo>
                  <a:pt x="15" y="77"/>
                </a:lnTo>
                <a:lnTo>
                  <a:pt x="15" y="77"/>
                </a:lnTo>
                <a:lnTo>
                  <a:pt x="36" y="97"/>
                </a:lnTo>
                <a:lnTo>
                  <a:pt x="56" y="116"/>
                </a:lnTo>
                <a:lnTo>
                  <a:pt x="79" y="133"/>
                </a:lnTo>
                <a:lnTo>
                  <a:pt x="103" y="150"/>
                </a:lnTo>
                <a:lnTo>
                  <a:pt x="197" y="215"/>
                </a:lnTo>
                <a:lnTo>
                  <a:pt x="219" y="232"/>
                </a:lnTo>
                <a:lnTo>
                  <a:pt x="242" y="250"/>
                </a:lnTo>
                <a:lnTo>
                  <a:pt x="262" y="269"/>
                </a:lnTo>
                <a:lnTo>
                  <a:pt x="281" y="288"/>
                </a:lnTo>
                <a:lnTo>
                  <a:pt x="300" y="310"/>
                </a:lnTo>
                <a:lnTo>
                  <a:pt x="316" y="333"/>
                </a:lnTo>
                <a:lnTo>
                  <a:pt x="331" y="357"/>
                </a:lnTo>
                <a:lnTo>
                  <a:pt x="343" y="385"/>
                </a:lnTo>
                <a:lnTo>
                  <a:pt x="343" y="385"/>
                </a:lnTo>
                <a:lnTo>
                  <a:pt x="343" y="385"/>
                </a:lnTo>
                <a:lnTo>
                  <a:pt x="354" y="415"/>
                </a:lnTo>
                <a:lnTo>
                  <a:pt x="363" y="447"/>
                </a:lnTo>
                <a:lnTo>
                  <a:pt x="363" y="447"/>
                </a:lnTo>
                <a:lnTo>
                  <a:pt x="367" y="471"/>
                </a:lnTo>
                <a:lnTo>
                  <a:pt x="371" y="495"/>
                </a:lnTo>
                <a:lnTo>
                  <a:pt x="372" y="520"/>
                </a:lnTo>
                <a:lnTo>
                  <a:pt x="372" y="544"/>
                </a:lnTo>
                <a:lnTo>
                  <a:pt x="371" y="570"/>
                </a:lnTo>
                <a:lnTo>
                  <a:pt x="367" y="594"/>
                </a:lnTo>
                <a:lnTo>
                  <a:pt x="363" y="621"/>
                </a:lnTo>
                <a:lnTo>
                  <a:pt x="358" y="645"/>
                </a:lnTo>
                <a:lnTo>
                  <a:pt x="350" y="669"/>
                </a:lnTo>
                <a:lnTo>
                  <a:pt x="341" y="695"/>
                </a:lnTo>
                <a:lnTo>
                  <a:pt x="331" y="720"/>
                </a:lnTo>
                <a:lnTo>
                  <a:pt x="320" y="744"/>
                </a:lnTo>
                <a:lnTo>
                  <a:pt x="307" y="766"/>
                </a:lnTo>
                <a:lnTo>
                  <a:pt x="294" y="791"/>
                </a:lnTo>
                <a:lnTo>
                  <a:pt x="279" y="813"/>
                </a:lnTo>
                <a:lnTo>
                  <a:pt x="262" y="836"/>
                </a:lnTo>
                <a:lnTo>
                  <a:pt x="260" y="834"/>
                </a:lnTo>
                <a:lnTo>
                  <a:pt x="262" y="836"/>
                </a:lnTo>
                <a:lnTo>
                  <a:pt x="262" y="836"/>
                </a:lnTo>
                <a:lnTo>
                  <a:pt x="262" y="836"/>
                </a:lnTo>
                <a:lnTo>
                  <a:pt x="262" y="836"/>
                </a:lnTo>
                <a:lnTo>
                  <a:pt x="258" y="841"/>
                </a:lnTo>
                <a:lnTo>
                  <a:pt x="260" y="847"/>
                </a:lnTo>
                <a:lnTo>
                  <a:pt x="260" y="847"/>
                </a:lnTo>
                <a:lnTo>
                  <a:pt x="264" y="851"/>
                </a:lnTo>
                <a:lnTo>
                  <a:pt x="275" y="856"/>
                </a:lnTo>
                <a:lnTo>
                  <a:pt x="275" y="856"/>
                </a:lnTo>
                <a:lnTo>
                  <a:pt x="300" y="862"/>
                </a:lnTo>
                <a:lnTo>
                  <a:pt x="320" y="867"/>
                </a:lnTo>
                <a:lnTo>
                  <a:pt x="320" y="867"/>
                </a:lnTo>
                <a:lnTo>
                  <a:pt x="343" y="869"/>
                </a:lnTo>
                <a:lnTo>
                  <a:pt x="363" y="869"/>
                </a:lnTo>
                <a:lnTo>
                  <a:pt x="382" y="866"/>
                </a:lnTo>
                <a:lnTo>
                  <a:pt x="401" y="862"/>
                </a:lnTo>
                <a:lnTo>
                  <a:pt x="417" y="854"/>
                </a:lnTo>
                <a:lnTo>
                  <a:pt x="436" y="847"/>
                </a:lnTo>
                <a:lnTo>
                  <a:pt x="453" y="838"/>
                </a:lnTo>
                <a:lnTo>
                  <a:pt x="468" y="826"/>
                </a:lnTo>
                <a:lnTo>
                  <a:pt x="500" y="804"/>
                </a:lnTo>
                <a:lnTo>
                  <a:pt x="531" y="780"/>
                </a:lnTo>
                <a:lnTo>
                  <a:pt x="563" y="755"/>
                </a:lnTo>
                <a:lnTo>
                  <a:pt x="595" y="735"/>
                </a:lnTo>
                <a:lnTo>
                  <a:pt x="595" y="735"/>
                </a:lnTo>
                <a:lnTo>
                  <a:pt x="597" y="733"/>
                </a:lnTo>
                <a:lnTo>
                  <a:pt x="597" y="737"/>
                </a:lnTo>
                <a:lnTo>
                  <a:pt x="597" y="737"/>
                </a:lnTo>
                <a:lnTo>
                  <a:pt x="597" y="733"/>
                </a:lnTo>
                <a:lnTo>
                  <a:pt x="597" y="733"/>
                </a:lnTo>
                <a:lnTo>
                  <a:pt x="614" y="727"/>
                </a:lnTo>
                <a:lnTo>
                  <a:pt x="634" y="720"/>
                </a:lnTo>
                <a:lnTo>
                  <a:pt x="655" y="716"/>
                </a:lnTo>
                <a:lnTo>
                  <a:pt x="666" y="716"/>
                </a:lnTo>
                <a:lnTo>
                  <a:pt x="675" y="716"/>
                </a:lnTo>
                <a:lnTo>
                  <a:pt x="675" y="716"/>
                </a:lnTo>
                <a:lnTo>
                  <a:pt x="746" y="697"/>
                </a:lnTo>
                <a:lnTo>
                  <a:pt x="746" y="697"/>
                </a:lnTo>
                <a:lnTo>
                  <a:pt x="761" y="690"/>
                </a:lnTo>
                <a:lnTo>
                  <a:pt x="778" y="684"/>
                </a:lnTo>
                <a:lnTo>
                  <a:pt x="810" y="677"/>
                </a:lnTo>
                <a:lnTo>
                  <a:pt x="812" y="682"/>
                </a:lnTo>
                <a:lnTo>
                  <a:pt x="812" y="682"/>
                </a:lnTo>
                <a:lnTo>
                  <a:pt x="780" y="690"/>
                </a:lnTo>
                <a:lnTo>
                  <a:pt x="765" y="695"/>
                </a:lnTo>
                <a:lnTo>
                  <a:pt x="748" y="701"/>
                </a:lnTo>
                <a:lnTo>
                  <a:pt x="748" y="699"/>
                </a:lnTo>
                <a:lnTo>
                  <a:pt x="748" y="703"/>
                </a:lnTo>
                <a:lnTo>
                  <a:pt x="748" y="699"/>
                </a:lnTo>
                <a:lnTo>
                  <a:pt x="748" y="701"/>
                </a:lnTo>
                <a:lnTo>
                  <a:pt x="748" y="703"/>
                </a:lnTo>
                <a:lnTo>
                  <a:pt x="748" y="703"/>
                </a:lnTo>
                <a:lnTo>
                  <a:pt x="748" y="703"/>
                </a:lnTo>
                <a:lnTo>
                  <a:pt x="677" y="723"/>
                </a:lnTo>
                <a:lnTo>
                  <a:pt x="675" y="720"/>
                </a:lnTo>
                <a:lnTo>
                  <a:pt x="675" y="723"/>
                </a:lnTo>
                <a:lnTo>
                  <a:pt x="675" y="723"/>
                </a:lnTo>
                <a:lnTo>
                  <a:pt x="666" y="722"/>
                </a:lnTo>
                <a:lnTo>
                  <a:pt x="657" y="722"/>
                </a:lnTo>
                <a:lnTo>
                  <a:pt x="636" y="725"/>
                </a:lnTo>
                <a:lnTo>
                  <a:pt x="616" y="733"/>
                </a:lnTo>
                <a:lnTo>
                  <a:pt x="599" y="738"/>
                </a:lnTo>
                <a:lnTo>
                  <a:pt x="599" y="738"/>
                </a:lnTo>
                <a:lnTo>
                  <a:pt x="569" y="759"/>
                </a:lnTo>
                <a:lnTo>
                  <a:pt x="539" y="781"/>
                </a:lnTo>
                <a:lnTo>
                  <a:pt x="509" y="804"/>
                </a:lnTo>
                <a:lnTo>
                  <a:pt x="481" y="826"/>
                </a:lnTo>
                <a:lnTo>
                  <a:pt x="449" y="845"/>
                </a:lnTo>
                <a:lnTo>
                  <a:pt x="434" y="854"/>
                </a:lnTo>
                <a:lnTo>
                  <a:pt x="417" y="862"/>
                </a:lnTo>
                <a:lnTo>
                  <a:pt x="401" y="867"/>
                </a:lnTo>
                <a:lnTo>
                  <a:pt x="382" y="871"/>
                </a:lnTo>
                <a:lnTo>
                  <a:pt x="363" y="875"/>
                </a:lnTo>
                <a:lnTo>
                  <a:pt x="344" y="875"/>
                </a:lnTo>
                <a:lnTo>
                  <a:pt x="344" y="875"/>
                </a:lnTo>
                <a:lnTo>
                  <a:pt x="320" y="87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325600" y="472752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4" y="0"/>
                </a:lnTo>
                <a:lnTo>
                  <a:pt x="2" y="0"/>
                </a:lnTo>
                <a:lnTo>
                  <a:pt x="0" y="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557440" y="4608360"/>
            <a:ext cx="61920" cy="51120"/>
          </a:xfrm>
          <a:custGeom>
            <a:avLst/>
            <a:gdLst/>
            <a:ahLst/>
            <a:rect l="l" t="t" r="r" b="b"/>
            <a:pathLst>
              <a:path w="39" h="32">
                <a:moveTo>
                  <a:pt x="0" y="0"/>
                </a:moveTo>
                <a:lnTo>
                  <a:pt x="0" y="0"/>
                </a:lnTo>
                <a:lnTo>
                  <a:pt x="17" y="10"/>
                </a:lnTo>
                <a:lnTo>
                  <a:pt x="17" y="10"/>
                </a:lnTo>
                <a:lnTo>
                  <a:pt x="24" y="13"/>
                </a:lnTo>
                <a:lnTo>
                  <a:pt x="24" y="13"/>
                </a:lnTo>
                <a:lnTo>
                  <a:pt x="39" y="28"/>
                </a:lnTo>
                <a:lnTo>
                  <a:pt x="35" y="32"/>
                </a:lnTo>
                <a:lnTo>
                  <a:pt x="35" y="3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90680" y="4317840"/>
            <a:ext cx="273240" cy="282600"/>
          </a:xfrm>
          <a:custGeom>
            <a:avLst/>
            <a:gdLst/>
            <a:ahLst/>
            <a:rect l="l" t="t" r="r" b="b"/>
            <a:pathLst>
              <a:path w="172" h="178">
                <a:moveTo>
                  <a:pt x="149" y="161"/>
                </a:moveTo>
                <a:lnTo>
                  <a:pt x="149" y="161"/>
                </a:lnTo>
                <a:lnTo>
                  <a:pt x="149" y="161"/>
                </a:lnTo>
                <a:lnTo>
                  <a:pt x="149" y="161"/>
                </a:lnTo>
                <a:lnTo>
                  <a:pt x="136" y="152"/>
                </a:lnTo>
                <a:lnTo>
                  <a:pt x="136" y="152"/>
                </a:lnTo>
                <a:lnTo>
                  <a:pt x="102" y="114"/>
                </a:lnTo>
                <a:lnTo>
                  <a:pt x="69" y="75"/>
                </a:lnTo>
                <a:lnTo>
                  <a:pt x="35" y="37"/>
                </a:lnTo>
                <a:lnTo>
                  <a:pt x="0" y="0"/>
                </a:lnTo>
                <a:lnTo>
                  <a:pt x="0" y="0"/>
                </a:lnTo>
                <a:lnTo>
                  <a:pt x="39" y="39"/>
                </a:lnTo>
                <a:lnTo>
                  <a:pt x="76" y="79"/>
                </a:lnTo>
                <a:lnTo>
                  <a:pt x="151" y="159"/>
                </a:lnTo>
                <a:lnTo>
                  <a:pt x="151" y="159"/>
                </a:lnTo>
                <a:lnTo>
                  <a:pt x="172" y="178"/>
                </a:lnTo>
                <a:lnTo>
                  <a:pt x="172" y="178"/>
                </a:lnTo>
                <a:lnTo>
                  <a:pt x="149" y="161"/>
                </a:lnTo>
                <a:close/>
              </a:path>
            </a:pathLst>
          </a:custGeom>
          <a:solidFill>
            <a:srgbClr val="744c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90680" y="4317840"/>
            <a:ext cx="273240" cy="282600"/>
          </a:xfrm>
          <a:custGeom>
            <a:avLst/>
            <a:gdLst/>
            <a:ahLst/>
            <a:rect l="l" t="t" r="r" b="b"/>
            <a:pathLst>
              <a:path w="172" h="178">
                <a:moveTo>
                  <a:pt x="149" y="161"/>
                </a:moveTo>
                <a:lnTo>
                  <a:pt x="149" y="161"/>
                </a:lnTo>
                <a:lnTo>
                  <a:pt x="149" y="161"/>
                </a:lnTo>
                <a:lnTo>
                  <a:pt x="149" y="161"/>
                </a:lnTo>
                <a:lnTo>
                  <a:pt x="136" y="152"/>
                </a:lnTo>
                <a:lnTo>
                  <a:pt x="136" y="152"/>
                </a:lnTo>
                <a:lnTo>
                  <a:pt x="102" y="114"/>
                </a:lnTo>
                <a:lnTo>
                  <a:pt x="69" y="75"/>
                </a:lnTo>
                <a:lnTo>
                  <a:pt x="35" y="37"/>
                </a:lnTo>
                <a:lnTo>
                  <a:pt x="0" y="0"/>
                </a:lnTo>
                <a:lnTo>
                  <a:pt x="0" y="0"/>
                </a:lnTo>
                <a:lnTo>
                  <a:pt x="39" y="39"/>
                </a:lnTo>
                <a:lnTo>
                  <a:pt x="76" y="79"/>
                </a:lnTo>
                <a:lnTo>
                  <a:pt x="151" y="159"/>
                </a:lnTo>
                <a:lnTo>
                  <a:pt x="151" y="159"/>
                </a:lnTo>
                <a:lnTo>
                  <a:pt x="172" y="178"/>
                </a:lnTo>
                <a:lnTo>
                  <a:pt x="172" y="178"/>
                </a:lnTo>
                <a:lnTo>
                  <a:pt x="149" y="16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92160" y="4116240"/>
            <a:ext cx="703440" cy="513000"/>
          </a:xfrm>
          <a:custGeom>
            <a:avLst/>
            <a:gdLst/>
            <a:ahLst/>
            <a:rect l="l" t="t" r="r" b="b"/>
            <a:pathLst>
              <a:path w="443" h="323">
                <a:moveTo>
                  <a:pt x="436" y="320"/>
                </a:moveTo>
                <a:lnTo>
                  <a:pt x="436" y="320"/>
                </a:lnTo>
                <a:lnTo>
                  <a:pt x="419" y="310"/>
                </a:lnTo>
                <a:lnTo>
                  <a:pt x="419" y="310"/>
                </a:lnTo>
                <a:lnTo>
                  <a:pt x="398" y="290"/>
                </a:lnTo>
                <a:lnTo>
                  <a:pt x="398" y="290"/>
                </a:lnTo>
                <a:lnTo>
                  <a:pt x="400" y="288"/>
                </a:lnTo>
                <a:lnTo>
                  <a:pt x="400" y="288"/>
                </a:lnTo>
                <a:lnTo>
                  <a:pt x="423" y="305"/>
                </a:lnTo>
                <a:lnTo>
                  <a:pt x="423" y="305"/>
                </a:lnTo>
                <a:lnTo>
                  <a:pt x="443" y="323"/>
                </a:lnTo>
                <a:lnTo>
                  <a:pt x="443" y="323"/>
                </a:lnTo>
                <a:lnTo>
                  <a:pt x="436" y="320"/>
                </a:lnTo>
                <a:close/>
                <a:moveTo>
                  <a:pt x="247" y="133"/>
                </a:moveTo>
                <a:lnTo>
                  <a:pt x="247" y="133"/>
                </a:lnTo>
                <a:lnTo>
                  <a:pt x="219" y="105"/>
                </a:lnTo>
                <a:lnTo>
                  <a:pt x="189" y="78"/>
                </a:lnTo>
                <a:lnTo>
                  <a:pt x="155" y="56"/>
                </a:lnTo>
                <a:lnTo>
                  <a:pt x="120" y="35"/>
                </a:lnTo>
                <a:lnTo>
                  <a:pt x="120" y="35"/>
                </a:lnTo>
                <a:lnTo>
                  <a:pt x="120" y="35"/>
                </a:lnTo>
                <a:lnTo>
                  <a:pt x="155" y="54"/>
                </a:lnTo>
                <a:lnTo>
                  <a:pt x="189" y="77"/>
                </a:lnTo>
                <a:lnTo>
                  <a:pt x="221" y="101"/>
                </a:lnTo>
                <a:lnTo>
                  <a:pt x="251" y="127"/>
                </a:lnTo>
                <a:lnTo>
                  <a:pt x="251" y="127"/>
                </a:lnTo>
                <a:lnTo>
                  <a:pt x="286" y="164"/>
                </a:lnTo>
                <a:lnTo>
                  <a:pt x="320" y="202"/>
                </a:lnTo>
                <a:lnTo>
                  <a:pt x="353" y="241"/>
                </a:lnTo>
                <a:lnTo>
                  <a:pt x="387" y="279"/>
                </a:lnTo>
                <a:lnTo>
                  <a:pt x="387" y="279"/>
                </a:lnTo>
                <a:lnTo>
                  <a:pt x="400" y="288"/>
                </a:lnTo>
                <a:lnTo>
                  <a:pt x="398" y="290"/>
                </a:lnTo>
                <a:lnTo>
                  <a:pt x="398" y="290"/>
                </a:lnTo>
                <a:lnTo>
                  <a:pt x="323" y="209"/>
                </a:lnTo>
                <a:lnTo>
                  <a:pt x="286" y="170"/>
                </a:lnTo>
                <a:lnTo>
                  <a:pt x="247" y="133"/>
                </a:lnTo>
                <a:close/>
                <a:moveTo>
                  <a:pt x="120" y="35"/>
                </a:moveTo>
                <a:lnTo>
                  <a:pt x="120" y="35"/>
                </a:lnTo>
                <a:lnTo>
                  <a:pt x="95" y="24"/>
                </a:lnTo>
                <a:lnTo>
                  <a:pt x="95" y="24"/>
                </a:lnTo>
                <a:lnTo>
                  <a:pt x="120" y="35"/>
                </a:lnTo>
                <a:lnTo>
                  <a:pt x="120" y="35"/>
                </a:lnTo>
                <a:lnTo>
                  <a:pt x="120" y="35"/>
                </a:lnTo>
                <a:close/>
                <a:moveTo>
                  <a:pt x="9" y="2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35" y="6"/>
                </a:lnTo>
                <a:lnTo>
                  <a:pt x="62" y="13"/>
                </a:lnTo>
                <a:lnTo>
                  <a:pt x="62" y="13"/>
                </a:lnTo>
                <a:lnTo>
                  <a:pt x="35" y="6"/>
                </a:lnTo>
                <a:lnTo>
                  <a:pt x="9" y="2"/>
                </a:lnTo>
                <a:close/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  <a:lnTo>
                  <a:pt x="9" y="2"/>
                </a:lnTo>
                <a:lnTo>
                  <a:pt x="9" y="2"/>
                </a:lnTo>
                <a:lnTo>
                  <a:pt x="0" y="0"/>
                </a:lnTo>
                <a:close/>
              </a:path>
            </a:pathLst>
          </a:custGeom>
          <a:solidFill>
            <a:srgbClr val="754e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523960" y="4573440"/>
            <a:ext cx="71640" cy="55800"/>
          </a:xfrm>
          <a:custGeom>
            <a:avLst/>
            <a:gdLst/>
            <a:ahLst/>
            <a:rect l="l" t="t" r="r" b="b"/>
            <a:pathLst>
              <a:path w="45" h="35">
                <a:moveTo>
                  <a:pt x="38" y="32"/>
                </a:moveTo>
                <a:lnTo>
                  <a:pt x="38" y="32"/>
                </a:lnTo>
                <a:lnTo>
                  <a:pt x="21" y="22"/>
                </a:lnTo>
                <a:lnTo>
                  <a:pt x="21" y="22"/>
                </a:lnTo>
                <a:lnTo>
                  <a:pt x="0" y="2"/>
                </a:lnTo>
                <a:lnTo>
                  <a:pt x="0" y="2"/>
                </a:lnTo>
                <a:lnTo>
                  <a:pt x="2" y="0"/>
                </a:lnTo>
                <a:lnTo>
                  <a:pt x="2" y="0"/>
                </a:lnTo>
                <a:lnTo>
                  <a:pt x="25" y="17"/>
                </a:lnTo>
                <a:lnTo>
                  <a:pt x="25" y="17"/>
                </a:lnTo>
                <a:lnTo>
                  <a:pt x="45" y="35"/>
                </a:lnTo>
                <a:lnTo>
                  <a:pt x="45" y="35"/>
                </a:lnTo>
                <a:lnTo>
                  <a:pt x="38" y="3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082960" y="4172040"/>
            <a:ext cx="444240" cy="404640"/>
          </a:xfrm>
          <a:custGeom>
            <a:avLst/>
            <a:gdLst/>
            <a:ahLst/>
            <a:rect l="l" t="t" r="r" b="b"/>
            <a:pathLst>
              <a:path w="280" h="255">
                <a:moveTo>
                  <a:pt x="127" y="98"/>
                </a:moveTo>
                <a:lnTo>
                  <a:pt x="127" y="98"/>
                </a:lnTo>
                <a:lnTo>
                  <a:pt x="99" y="70"/>
                </a:lnTo>
                <a:lnTo>
                  <a:pt x="69" y="43"/>
                </a:lnTo>
                <a:lnTo>
                  <a:pt x="35" y="2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5" y="19"/>
                </a:lnTo>
                <a:lnTo>
                  <a:pt x="69" y="42"/>
                </a:lnTo>
                <a:lnTo>
                  <a:pt x="101" y="66"/>
                </a:lnTo>
                <a:lnTo>
                  <a:pt x="131" y="92"/>
                </a:lnTo>
                <a:lnTo>
                  <a:pt x="131" y="92"/>
                </a:lnTo>
                <a:lnTo>
                  <a:pt x="166" y="129"/>
                </a:lnTo>
                <a:lnTo>
                  <a:pt x="200" y="167"/>
                </a:lnTo>
                <a:lnTo>
                  <a:pt x="233" y="206"/>
                </a:lnTo>
                <a:lnTo>
                  <a:pt x="267" y="244"/>
                </a:lnTo>
                <a:lnTo>
                  <a:pt x="267" y="244"/>
                </a:lnTo>
                <a:lnTo>
                  <a:pt x="280" y="253"/>
                </a:lnTo>
                <a:lnTo>
                  <a:pt x="278" y="255"/>
                </a:lnTo>
                <a:lnTo>
                  <a:pt x="278" y="255"/>
                </a:lnTo>
                <a:lnTo>
                  <a:pt x="203" y="174"/>
                </a:lnTo>
                <a:lnTo>
                  <a:pt x="166" y="135"/>
                </a:lnTo>
                <a:lnTo>
                  <a:pt x="127" y="9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43000" y="4154400"/>
            <a:ext cx="39960" cy="17640"/>
          </a:xfrm>
          <a:custGeom>
            <a:avLst/>
            <a:gdLst/>
            <a:ahLst/>
            <a:rect l="l" t="t" r="r" b="b"/>
            <a:pathLst>
              <a:path w="25" h="11">
                <a:moveTo>
                  <a:pt x="25" y="11"/>
                </a:moveTo>
                <a:lnTo>
                  <a:pt x="25" y="11"/>
                </a:lnTo>
                <a:lnTo>
                  <a:pt x="0" y="0"/>
                </a:lnTo>
                <a:lnTo>
                  <a:pt x="0" y="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06560" y="4116240"/>
            <a:ext cx="84240" cy="20880"/>
          </a:xfrm>
          <a:custGeom>
            <a:avLst/>
            <a:gdLst/>
            <a:ahLst/>
            <a:rect l="l" t="t" r="r" b="b"/>
            <a:pathLst>
              <a:path w="53" h="13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6" y="6"/>
                </a:lnTo>
                <a:lnTo>
                  <a:pt x="53" y="13"/>
                </a:lnTo>
                <a:lnTo>
                  <a:pt x="53" y="13"/>
                </a:lnTo>
                <a:lnTo>
                  <a:pt x="26" y="6"/>
                </a:lnTo>
                <a:lnTo>
                  <a:pt x="0" y="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92160" y="4116240"/>
            <a:ext cx="14400" cy="3240"/>
          </a:xfrm>
          <a:custGeom>
            <a:avLst/>
            <a:gdLst/>
            <a:ahLst/>
            <a:rect l="l" t="t" r="r" b="b"/>
            <a:pathLst>
              <a:path w="9" h="2">
                <a:moveTo>
                  <a:pt x="0" y="0"/>
                </a:moveTo>
                <a:lnTo>
                  <a:pt x="0" y="0"/>
                </a:lnTo>
                <a:lnTo>
                  <a:pt x="9" y="0"/>
                </a:lnTo>
                <a:lnTo>
                  <a:pt x="9" y="2"/>
                </a:lnTo>
                <a:lnTo>
                  <a:pt x="9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359080" y="4653000"/>
            <a:ext cx="1106280" cy="611280"/>
          </a:xfrm>
          <a:custGeom>
            <a:avLst/>
            <a:gdLst/>
            <a:ahLst/>
            <a:rect l="l" t="t" r="r" b="b"/>
            <a:pathLst>
              <a:path w="697" h="385">
                <a:moveTo>
                  <a:pt x="317" y="385"/>
                </a:moveTo>
                <a:lnTo>
                  <a:pt x="317" y="382"/>
                </a:lnTo>
                <a:lnTo>
                  <a:pt x="319" y="385"/>
                </a:lnTo>
                <a:lnTo>
                  <a:pt x="319" y="385"/>
                </a:lnTo>
                <a:lnTo>
                  <a:pt x="317" y="385"/>
                </a:lnTo>
                <a:close/>
                <a:moveTo>
                  <a:pt x="452" y="339"/>
                </a:moveTo>
                <a:lnTo>
                  <a:pt x="452" y="339"/>
                </a:lnTo>
                <a:lnTo>
                  <a:pt x="503" y="333"/>
                </a:lnTo>
                <a:lnTo>
                  <a:pt x="553" y="328"/>
                </a:lnTo>
                <a:lnTo>
                  <a:pt x="577" y="322"/>
                </a:lnTo>
                <a:lnTo>
                  <a:pt x="604" y="316"/>
                </a:lnTo>
                <a:lnTo>
                  <a:pt x="628" y="309"/>
                </a:lnTo>
                <a:lnTo>
                  <a:pt x="650" y="298"/>
                </a:lnTo>
                <a:lnTo>
                  <a:pt x="650" y="298"/>
                </a:lnTo>
                <a:lnTo>
                  <a:pt x="660" y="290"/>
                </a:lnTo>
                <a:lnTo>
                  <a:pt x="669" y="281"/>
                </a:lnTo>
                <a:lnTo>
                  <a:pt x="678" y="273"/>
                </a:lnTo>
                <a:lnTo>
                  <a:pt x="686" y="262"/>
                </a:lnTo>
                <a:lnTo>
                  <a:pt x="686" y="262"/>
                </a:lnTo>
                <a:lnTo>
                  <a:pt x="686" y="262"/>
                </a:lnTo>
                <a:lnTo>
                  <a:pt x="688" y="264"/>
                </a:lnTo>
                <a:lnTo>
                  <a:pt x="688" y="264"/>
                </a:lnTo>
                <a:lnTo>
                  <a:pt x="686" y="262"/>
                </a:lnTo>
                <a:lnTo>
                  <a:pt x="686" y="262"/>
                </a:lnTo>
                <a:lnTo>
                  <a:pt x="691" y="253"/>
                </a:lnTo>
                <a:lnTo>
                  <a:pt x="691" y="242"/>
                </a:lnTo>
                <a:lnTo>
                  <a:pt x="690" y="234"/>
                </a:lnTo>
                <a:lnTo>
                  <a:pt x="684" y="225"/>
                </a:lnTo>
                <a:lnTo>
                  <a:pt x="684" y="225"/>
                </a:lnTo>
                <a:lnTo>
                  <a:pt x="676" y="217"/>
                </a:lnTo>
                <a:lnTo>
                  <a:pt x="667" y="212"/>
                </a:lnTo>
                <a:lnTo>
                  <a:pt x="658" y="208"/>
                </a:lnTo>
                <a:lnTo>
                  <a:pt x="650" y="208"/>
                </a:lnTo>
                <a:lnTo>
                  <a:pt x="650" y="208"/>
                </a:lnTo>
                <a:lnTo>
                  <a:pt x="650" y="208"/>
                </a:lnTo>
                <a:lnTo>
                  <a:pt x="607" y="212"/>
                </a:lnTo>
                <a:lnTo>
                  <a:pt x="564" y="212"/>
                </a:lnTo>
                <a:lnTo>
                  <a:pt x="564" y="212"/>
                </a:lnTo>
                <a:lnTo>
                  <a:pt x="564" y="212"/>
                </a:lnTo>
                <a:lnTo>
                  <a:pt x="544" y="213"/>
                </a:lnTo>
                <a:lnTo>
                  <a:pt x="525" y="212"/>
                </a:lnTo>
                <a:lnTo>
                  <a:pt x="486" y="208"/>
                </a:lnTo>
                <a:lnTo>
                  <a:pt x="488" y="202"/>
                </a:lnTo>
                <a:lnTo>
                  <a:pt x="488" y="202"/>
                </a:lnTo>
                <a:lnTo>
                  <a:pt x="525" y="206"/>
                </a:lnTo>
                <a:lnTo>
                  <a:pt x="544" y="208"/>
                </a:lnTo>
                <a:lnTo>
                  <a:pt x="564" y="206"/>
                </a:lnTo>
                <a:lnTo>
                  <a:pt x="564" y="206"/>
                </a:lnTo>
                <a:lnTo>
                  <a:pt x="564" y="206"/>
                </a:lnTo>
                <a:lnTo>
                  <a:pt x="564" y="208"/>
                </a:lnTo>
                <a:lnTo>
                  <a:pt x="564" y="210"/>
                </a:lnTo>
                <a:lnTo>
                  <a:pt x="564" y="206"/>
                </a:lnTo>
                <a:lnTo>
                  <a:pt x="564" y="206"/>
                </a:lnTo>
                <a:lnTo>
                  <a:pt x="607" y="204"/>
                </a:lnTo>
                <a:lnTo>
                  <a:pt x="650" y="200"/>
                </a:lnTo>
                <a:lnTo>
                  <a:pt x="650" y="200"/>
                </a:lnTo>
                <a:lnTo>
                  <a:pt x="650" y="200"/>
                </a:lnTo>
                <a:lnTo>
                  <a:pt x="650" y="200"/>
                </a:lnTo>
                <a:lnTo>
                  <a:pt x="660" y="202"/>
                </a:lnTo>
                <a:lnTo>
                  <a:pt x="671" y="206"/>
                </a:lnTo>
                <a:lnTo>
                  <a:pt x="680" y="213"/>
                </a:lnTo>
                <a:lnTo>
                  <a:pt x="688" y="221"/>
                </a:lnTo>
                <a:lnTo>
                  <a:pt x="688" y="221"/>
                </a:lnTo>
                <a:lnTo>
                  <a:pt x="695" y="230"/>
                </a:lnTo>
                <a:lnTo>
                  <a:pt x="697" y="242"/>
                </a:lnTo>
                <a:lnTo>
                  <a:pt x="697" y="247"/>
                </a:lnTo>
                <a:lnTo>
                  <a:pt x="697" y="253"/>
                </a:lnTo>
                <a:lnTo>
                  <a:pt x="693" y="260"/>
                </a:lnTo>
                <a:lnTo>
                  <a:pt x="690" y="266"/>
                </a:lnTo>
                <a:lnTo>
                  <a:pt x="690" y="266"/>
                </a:lnTo>
                <a:lnTo>
                  <a:pt x="690" y="266"/>
                </a:lnTo>
                <a:lnTo>
                  <a:pt x="682" y="277"/>
                </a:lnTo>
                <a:lnTo>
                  <a:pt x="673" y="286"/>
                </a:lnTo>
                <a:lnTo>
                  <a:pt x="663" y="294"/>
                </a:lnTo>
                <a:lnTo>
                  <a:pt x="654" y="301"/>
                </a:lnTo>
                <a:lnTo>
                  <a:pt x="652" y="299"/>
                </a:lnTo>
                <a:lnTo>
                  <a:pt x="652" y="299"/>
                </a:lnTo>
                <a:lnTo>
                  <a:pt x="654" y="301"/>
                </a:lnTo>
                <a:lnTo>
                  <a:pt x="654" y="301"/>
                </a:lnTo>
                <a:lnTo>
                  <a:pt x="654" y="301"/>
                </a:lnTo>
                <a:lnTo>
                  <a:pt x="654" y="301"/>
                </a:lnTo>
                <a:lnTo>
                  <a:pt x="630" y="313"/>
                </a:lnTo>
                <a:lnTo>
                  <a:pt x="605" y="322"/>
                </a:lnTo>
                <a:lnTo>
                  <a:pt x="579" y="328"/>
                </a:lnTo>
                <a:lnTo>
                  <a:pt x="555" y="333"/>
                </a:lnTo>
                <a:lnTo>
                  <a:pt x="503" y="339"/>
                </a:lnTo>
                <a:lnTo>
                  <a:pt x="454" y="344"/>
                </a:lnTo>
                <a:lnTo>
                  <a:pt x="452" y="339"/>
                </a:lnTo>
                <a:close/>
                <a:moveTo>
                  <a:pt x="486" y="206"/>
                </a:moveTo>
                <a:lnTo>
                  <a:pt x="488" y="202"/>
                </a:lnTo>
                <a:lnTo>
                  <a:pt x="486" y="206"/>
                </a:lnTo>
                <a:close/>
                <a:moveTo>
                  <a:pt x="650" y="204"/>
                </a:moveTo>
                <a:lnTo>
                  <a:pt x="650" y="204"/>
                </a:lnTo>
                <a:lnTo>
                  <a:pt x="650" y="200"/>
                </a:lnTo>
                <a:lnTo>
                  <a:pt x="650" y="204"/>
                </a:lnTo>
                <a:lnTo>
                  <a:pt x="650" y="204"/>
                </a:lnTo>
                <a:close/>
                <a:moveTo>
                  <a:pt x="413" y="187"/>
                </a:moveTo>
                <a:lnTo>
                  <a:pt x="413" y="187"/>
                </a:lnTo>
                <a:lnTo>
                  <a:pt x="413" y="187"/>
                </a:lnTo>
                <a:lnTo>
                  <a:pt x="415" y="185"/>
                </a:lnTo>
                <a:lnTo>
                  <a:pt x="415" y="185"/>
                </a:lnTo>
                <a:lnTo>
                  <a:pt x="413" y="187"/>
                </a:lnTo>
                <a:lnTo>
                  <a:pt x="413" y="187"/>
                </a:lnTo>
                <a:lnTo>
                  <a:pt x="379" y="169"/>
                </a:lnTo>
                <a:lnTo>
                  <a:pt x="345" y="148"/>
                </a:lnTo>
                <a:lnTo>
                  <a:pt x="314" y="126"/>
                </a:lnTo>
                <a:lnTo>
                  <a:pt x="282" y="103"/>
                </a:lnTo>
                <a:lnTo>
                  <a:pt x="220" y="56"/>
                </a:lnTo>
                <a:lnTo>
                  <a:pt x="160" y="4"/>
                </a:lnTo>
                <a:lnTo>
                  <a:pt x="164" y="0"/>
                </a:lnTo>
                <a:lnTo>
                  <a:pt x="164" y="0"/>
                </a:lnTo>
                <a:lnTo>
                  <a:pt x="224" y="51"/>
                </a:lnTo>
                <a:lnTo>
                  <a:pt x="284" y="99"/>
                </a:lnTo>
                <a:lnTo>
                  <a:pt x="316" y="122"/>
                </a:lnTo>
                <a:lnTo>
                  <a:pt x="349" y="142"/>
                </a:lnTo>
                <a:lnTo>
                  <a:pt x="381" y="163"/>
                </a:lnTo>
                <a:lnTo>
                  <a:pt x="415" y="182"/>
                </a:lnTo>
                <a:lnTo>
                  <a:pt x="415" y="182"/>
                </a:lnTo>
                <a:lnTo>
                  <a:pt x="450" y="195"/>
                </a:lnTo>
                <a:lnTo>
                  <a:pt x="488" y="202"/>
                </a:lnTo>
                <a:lnTo>
                  <a:pt x="486" y="208"/>
                </a:lnTo>
                <a:lnTo>
                  <a:pt x="486" y="208"/>
                </a:lnTo>
                <a:lnTo>
                  <a:pt x="448" y="200"/>
                </a:lnTo>
                <a:lnTo>
                  <a:pt x="413" y="187"/>
                </a:lnTo>
                <a:close/>
                <a:moveTo>
                  <a:pt x="162" y="2"/>
                </a:moveTo>
                <a:lnTo>
                  <a:pt x="164" y="0"/>
                </a:lnTo>
                <a:lnTo>
                  <a:pt x="162" y="2"/>
                </a:lnTo>
                <a:close/>
                <a:moveTo>
                  <a:pt x="0" y="111"/>
                </a:moveTo>
                <a:lnTo>
                  <a:pt x="0" y="111"/>
                </a:lnTo>
                <a:close/>
              </a:path>
            </a:pathLst>
          </a:custGeom>
          <a:solidFill>
            <a:srgbClr val="82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862360" y="525924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0" y="0"/>
                </a:lnTo>
                <a:lnTo>
                  <a:pt x="2" y="3"/>
                </a:lnTo>
                <a:lnTo>
                  <a:pt x="2" y="3"/>
                </a:lnTo>
                <a:lnTo>
                  <a:pt x="0" y="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76560" y="4970520"/>
            <a:ext cx="388800" cy="228600"/>
          </a:xfrm>
          <a:custGeom>
            <a:avLst/>
            <a:gdLst/>
            <a:ahLst/>
            <a:rect l="l" t="t" r="r" b="b"/>
            <a:pathLst>
              <a:path w="245" h="144">
                <a:moveTo>
                  <a:pt x="0" y="139"/>
                </a:moveTo>
                <a:lnTo>
                  <a:pt x="0" y="139"/>
                </a:lnTo>
                <a:lnTo>
                  <a:pt x="51" y="133"/>
                </a:lnTo>
                <a:lnTo>
                  <a:pt x="101" y="128"/>
                </a:lnTo>
                <a:lnTo>
                  <a:pt x="125" y="122"/>
                </a:lnTo>
                <a:lnTo>
                  <a:pt x="152" y="116"/>
                </a:lnTo>
                <a:lnTo>
                  <a:pt x="176" y="109"/>
                </a:lnTo>
                <a:lnTo>
                  <a:pt x="198" y="98"/>
                </a:lnTo>
                <a:lnTo>
                  <a:pt x="198" y="98"/>
                </a:lnTo>
                <a:lnTo>
                  <a:pt x="208" y="90"/>
                </a:lnTo>
                <a:lnTo>
                  <a:pt x="217" y="81"/>
                </a:lnTo>
                <a:lnTo>
                  <a:pt x="226" y="73"/>
                </a:lnTo>
                <a:lnTo>
                  <a:pt x="234" y="62"/>
                </a:lnTo>
                <a:lnTo>
                  <a:pt x="234" y="62"/>
                </a:lnTo>
                <a:lnTo>
                  <a:pt x="234" y="62"/>
                </a:lnTo>
                <a:lnTo>
                  <a:pt x="236" y="64"/>
                </a:lnTo>
                <a:lnTo>
                  <a:pt x="236" y="64"/>
                </a:lnTo>
                <a:lnTo>
                  <a:pt x="234" y="62"/>
                </a:lnTo>
                <a:lnTo>
                  <a:pt x="234" y="62"/>
                </a:lnTo>
                <a:lnTo>
                  <a:pt x="239" y="53"/>
                </a:lnTo>
                <a:lnTo>
                  <a:pt x="239" y="42"/>
                </a:lnTo>
                <a:lnTo>
                  <a:pt x="238" y="34"/>
                </a:lnTo>
                <a:lnTo>
                  <a:pt x="232" y="25"/>
                </a:lnTo>
                <a:lnTo>
                  <a:pt x="232" y="25"/>
                </a:lnTo>
                <a:lnTo>
                  <a:pt x="224" y="17"/>
                </a:lnTo>
                <a:lnTo>
                  <a:pt x="215" y="12"/>
                </a:lnTo>
                <a:lnTo>
                  <a:pt x="206" y="8"/>
                </a:lnTo>
                <a:lnTo>
                  <a:pt x="198" y="8"/>
                </a:lnTo>
                <a:lnTo>
                  <a:pt x="198" y="8"/>
                </a:lnTo>
                <a:lnTo>
                  <a:pt x="198" y="8"/>
                </a:lnTo>
                <a:lnTo>
                  <a:pt x="155" y="12"/>
                </a:lnTo>
                <a:lnTo>
                  <a:pt x="112" y="12"/>
                </a:lnTo>
                <a:lnTo>
                  <a:pt x="112" y="12"/>
                </a:lnTo>
                <a:lnTo>
                  <a:pt x="112" y="12"/>
                </a:lnTo>
                <a:lnTo>
                  <a:pt x="92" y="13"/>
                </a:lnTo>
                <a:lnTo>
                  <a:pt x="73" y="12"/>
                </a:lnTo>
                <a:lnTo>
                  <a:pt x="34" y="8"/>
                </a:lnTo>
                <a:lnTo>
                  <a:pt x="36" y="2"/>
                </a:lnTo>
                <a:lnTo>
                  <a:pt x="36" y="2"/>
                </a:lnTo>
                <a:lnTo>
                  <a:pt x="73" y="6"/>
                </a:lnTo>
                <a:lnTo>
                  <a:pt x="92" y="8"/>
                </a:lnTo>
                <a:lnTo>
                  <a:pt x="112" y="6"/>
                </a:lnTo>
                <a:lnTo>
                  <a:pt x="112" y="6"/>
                </a:lnTo>
                <a:lnTo>
                  <a:pt x="112" y="6"/>
                </a:lnTo>
                <a:lnTo>
                  <a:pt x="112" y="8"/>
                </a:lnTo>
                <a:lnTo>
                  <a:pt x="112" y="10"/>
                </a:lnTo>
                <a:lnTo>
                  <a:pt x="112" y="6"/>
                </a:lnTo>
                <a:lnTo>
                  <a:pt x="112" y="6"/>
                </a:lnTo>
                <a:lnTo>
                  <a:pt x="155" y="4"/>
                </a:lnTo>
                <a:lnTo>
                  <a:pt x="198" y="0"/>
                </a:lnTo>
                <a:lnTo>
                  <a:pt x="198" y="0"/>
                </a:lnTo>
                <a:lnTo>
                  <a:pt x="198" y="0"/>
                </a:lnTo>
                <a:lnTo>
                  <a:pt x="198" y="0"/>
                </a:lnTo>
                <a:lnTo>
                  <a:pt x="208" y="2"/>
                </a:lnTo>
                <a:lnTo>
                  <a:pt x="219" y="6"/>
                </a:lnTo>
                <a:lnTo>
                  <a:pt x="228" y="13"/>
                </a:lnTo>
                <a:lnTo>
                  <a:pt x="236" y="21"/>
                </a:lnTo>
                <a:lnTo>
                  <a:pt x="236" y="21"/>
                </a:lnTo>
                <a:lnTo>
                  <a:pt x="243" y="30"/>
                </a:lnTo>
                <a:lnTo>
                  <a:pt x="245" y="42"/>
                </a:lnTo>
                <a:lnTo>
                  <a:pt x="245" y="47"/>
                </a:lnTo>
                <a:lnTo>
                  <a:pt x="245" y="53"/>
                </a:lnTo>
                <a:lnTo>
                  <a:pt x="241" y="60"/>
                </a:lnTo>
                <a:lnTo>
                  <a:pt x="238" y="66"/>
                </a:lnTo>
                <a:lnTo>
                  <a:pt x="238" y="66"/>
                </a:lnTo>
                <a:lnTo>
                  <a:pt x="238" y="66"/>
                </a:lnTo>
                <a:lnTo>
                  <a:pt x="230" y="77"/>
                </a:lnTo>
                <a:lnTo>
                  <a:pt x="221" y="86"/>
                </a:lnTo>
                <a:lnTo>
                  <a:pt x="211" y="94"/>
                </a:lnTo>
                <a:lnTo>
                  <a:pt x="202" y="101"/>
                </a:lnTo>
                <a:lnTo>
                  <a:pt x="200" y="99"/>
                </a:lnTo>
                <a:lnTo>
                  <a:pt x="200" y="99"/>
                </a:lnTo>
                <a:lnTo>
                  <a:pt x="202" y="101"/>
                </a:lnTo>
                <a:lnTo>
                  <a:pt x="202" y="101"/>
                </a:lnTo>
                <a:lnTo>
                  <a:pt x="202" y="101"/>
                </a:lnTo>
                <a:lnTo>
                  <a:pt x="202" y="101"/>
                </a:lnTo>
                <a:lnTo>
                  <a:pt x="178" y="113"/>
                </a:lnTo>
                <a:lnTo>
                  <a:pt x="153" y="122"/>
                </a:lnTo>
                <a:lnTo>
                  <a:pt x="127" y="128"/>
                </a:lnTo>
                <a:lnTo>
                  <a:pt x="103" y="133"/>
                </a:lnTo>
                <a:lnTo>
                  <a:pt x="51" y="139"/>
                </a:lnTo>
                <a:lnTo>
                  <a:pt x="2" y="144"/>
                </a:lnTo>
                <a:lnTo>
                  <a:pt x="0" y="13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30560" y="4973760"/>
            <a:ext cx="3240" cy="612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4"/>
                </a:moveTo>
                <a:lnTo>
                  <a:pt x="2" y="0"/>
                </a:lnTo>
                <a:lnTo>
                  <a:pt x="0" y="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90840" y="497052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4"/>
                </a:move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612880" y="4653000"/>
            <a:ext cx="520920" cy="330120"/>
          </a:xfrm>
          <a:custGeom>
            <a:avLst/>
            <a:gdLst/>
            <a:ahLst/>
            <a:rect l="l" t="t" r="r" b="b"/>
            <a:pathLst>
              <a:path w="328" h="208">
                <a:moveTo>
                  <a:pt x="253" y="187"/>
                </a:moveTo>
                <a:lnTo>
                  <a:pt x="253" y="187"/>
                </a:lnTo>
                <a:lnTo>
                  <a:pt x="253" y="187"/>
                </a:lnTo>
                <a:lnTo>
                  <a:pt x="255" y="185"/>
                </a:lnTo>
                <a:lnTo>
                  <a:pt x="255" y="185"/>
                </a:lnTo>
                <a:lnTo>
                  <a:pt x="253" y="187"/>
                </a:lnTo>
                <a:lnTo>
                  <a:pt x="253" y="187"/>
                </a:lnTo>
                <a:lnTo>
                  <a:pt x="219" y="169"/>
                </a:lnTo>
                <a:lnTo>
                  <a:pt x="185" y="148"/>
                </a:lnTo>
                <a:lnTo>
                  <a:pt x="154" y="126"/>
                </a:lnTo>
                <a:lnTo>
                  <a:pt x="122" y="103"/>
                </a:lnTo>
                <a:lnTo>
                  <a:pt x="60" y="56"/>
                </a:lnTo>
                <a:lnTo>
                  <a:pt x="0" y="4"/>
                </a:lnTo>
                <a:lnTo>
                  <a:pt x="4" y="0"/>
                </a:lnTo>
                <a:lnTo>
                  <a:pt x="4" y="0"/>
                </a:lnTo>
                <a:lnTo>
                  <a:pt x="64" y="51"/>
                </a:lnTo>
                <a:lnTo>
                  <a:pt x="124" y="99"/>
                </a:lnTo>
                <a:lnTo>
                  <a:pt x="156" y="122"/>
                </a:lnTo>
                <a:lnTo>
                  <a:pt x="189" y="142"/>
                </a:lnTo>
                <a:lnTo>
                  <a:pt x="221" y="163"/>
                </a:lnTo>
                <a:lnTo>
                  <a:pt x="255" y="182"/>
                </a:lnTo>
                <a:lnTo>
                  <a:pt x="255" y="182"/>
                </a:lnTo>
                <a:lnTo>
                  <a:pt x="290" y="195"/>
                </a:lnTo>
                <a:lnTo>
                  <a:pt x="328" y="202"/>
                </a:lnTo>
                <a:lnTo>
                  <a:pt x="326" y="208"/>
                </a:lnTo>
                <a:lnTo>
                  <a:pt x="326" y="208"/>
                </a:lnTo>
                <a:lnTo>
                  <a:pt x="288" y="200"/>
                </a:lnTo>
                <a:lnTo>
                  <a:pt x="253" y="187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16120" y="4653000"/>
            <a:ext cx="3240" cy="3240"/>
          </a:xfrm>
          <a:custGeom>
            <a:avLst/>
            <a:gdLst/>
            <a:ahLst/>
            <a:rect l="l" t="t" r="r" b="b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0" y="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59080" y="482904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506600" y="6242040"/>
            <a:ext cx="1440" cy="10332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506600" y="624204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86040" y="624204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065480" y="6242040"/>
            <a:ext cx="1800" cy="10332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065480" y="624204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45280" y="624204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624720" y="6242040"/>
            <a:ext cx="1440" cy="10332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24720" y="624204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904160" y="624204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06600" y="624204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786960" y="5560920"/>
            <a:ext cx="104760" cy="18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92080" y="556092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786960" y="4594320"/>
            <a:ext cx="10476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92080" y="459432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86960" y="3624120"/>
            <a:ext cx="104760" cy="18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92080" y="362412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786960" y="2652840"/>
            <a:ext cx="10476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92080" y="265284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786960" y="1682640"/>
            <a:ext cx="104760" cy="18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92080" y="1682640"/>
            <a:ext cx="1800" cy="18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92080" y="556092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25840" y="5345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25840" y="5345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863360" y="5535720"/>
            <a:ext cx="31680" cy="34920"/>
          </a:xfrm>
          <a:custGeom>
            <a:avLst/>
            <a:gdLst/>
            <a:ahLst/>
            <a:rect l="l" t="t" r="r" b="b"/>
            <a:pathLst>
              <a:path w="20" h="22">
                <a:moveTo>
                  <a:pt x="20" y="0"/>
                </a:moveTo>
                <a:lnTo>
                  <a:pt x="13" y="5"/>
                </a:lnTo>
                <a:lnTo>
                  <a:pt x="13" y="11"/>
                </a:lnTo>
                <a:lnTo>
                  <a:pt x="0" y="16"/>
                </a:lnTo>
                <a:lnTo>
                  <a:pt x="0" y="22"/>
                </a:lnTo>
                <a:lnTo>
                  <a:pt x="20" y="0"/>
                </a:lnTo>
                <a:close/>
                <a:moveTo>
                  <a:pt x="20" y="0"/>
                </a:moveTo>
                <a:lnTo>
                  <a:pt x="20" y="0"/>
                </a:lnTo>
                <a:close/>
              </a:path>
            </a:pathLst>
          </a:custGeom>
          <a:solidFill>
            <a:srgbClr val="c8f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863360" y="5535720"/>
            <a:ext cx="31680" cy="34920"/>
          </a:xfrm>
          <a:custGeom>
            <a:avLst/>
            <a:gdLst/>
            <a:ahLst/>
            <a:rect l="l" t="t" r="r" b="b"/>
            <a:pathLst>
              <a:path w="20" h="22">
                <a:moveTo>
                  <a:pt x="20" y="0"/>
                </a:moveTo>
                <a:lnTo>
                  <a:pt x="13" y="5"/>
                </a:lnTo>
                <a:lnTo>
                  <a:pt x="13" y="11"/>
                </a:lnTo>
                <a:lnTo>
                  <a:pt x="0" y="16"/>
                </a:lnTo>
                <a:lnTo>
                  <a:pt x="0" y="2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895040" y="55357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863360" y="5535720"/>
            <a:ext cx="31680" cy="34920"/>
          </a:xfrm>
          <a:custGeom>
            <a:avLst/>
            <a:gdLst/>
            <a:ahLst/>
            <a:rect l="l" t="t" r="r" b="b"/>
            <a:pathLst>
              <a:path w="20" h="22">
                <a:moveTo>
                  <a:pt x="20" y="0"/>
                </a:moveTo>
                <a:lnTo>
                  <a:pt x="13" y="5"/>
                </a:lnTo>
                <a:lnTo>
                  <a:pt x="13" y="11"/>
                </a:lnTo>
                <a:lnTo>
                  <a:pt x="0" y="16"/>
                </a:lnTo>
                <a:lnTo>
                  <a:pt x="0" y="22"/>
                </a:lnTo>
              </a:path>
            </a:pathLst>
          </a:custGeom>
          <a:noFill/>
          <a:ln w="324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895040" y="5535720"/>
            <a:ext cx="1440" cy="144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055240" y="4840200"/>
            <a:ext cx="12960" cy="30240"/>
          </a:xfrm>
          <a:custGeom>
            <a:avLst/>
            <a:gdLst/>
            <a:ahLst/>
            <a:rect l="l" t="t" r="r" b="b"/>
            <a:pathLst>
              <a:path w="8" h="19">
                <a:moveTo>
                  <a:pt x="8" y="0"/>
                </a:moveTo>
                <a:lnTo>
                  <a:pt x="8" y="9"/>
                </a:lnTo>
                <a:lnTo>
                  <a:pt x="0" y="19"/>
                </a:lnTo>
                <a:lnTo>
                  <a:pt x="8" y="0"/>
                </a:lnTo>
                <a:close/>
                <a:moveTo>
                  <a:pt x="8" y="0"/>
                </a:moveTo>
                <a:lnTo>
                  <a:pt x="8" y="0"/>
                </a:lnTo>
                <a:close/>
              </a:path>
            </a:pathLst>
          </a:custGeom>
          <a:solidFill>
            <a:srgbClr val="c8f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1055240" y="4840200"/>
            <a:ext cx="12960" cy="30240"/>
          </a:xfrm>
          <a:custGeom>
            <a:avLst/>
            <a:gdLst/>
            <a:ahLst/>
            <a:rect l="l" t="t" r="r" b="b"/>
            <a:pathLst>
              <a:path w="8" h="19">
                <a:moveTo>
                  <a:pt x="8" y="0"/>
                </a:moveTo>
                <a:lnTo>
                  <a:pt x="8" y="9"/>
                </a:lnTo>
                <a:lnTo>
                  <a:pt x="0" y="1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068200" y="484020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1055240" y="4840200"/>
            <a:ext cx="12960" cy="30240"/>
          </a:xfrm>
          <a:custGeom>
            <a:avLst/>
            <a:gdLst/>
            <a:ahLst/>
            <a:rect l="l" t="t" r="r" b="b"/>
            <a:pathLst>
              <a:path w="8" h="19">
                <a:moveTo>
                  <a:pt x="8" y="0"/>
                </a:moveTo>
                <a:lnTo>
                  <a:pt x="8" y="9"/>
                </a:lnTo>
                <a:lnTo>
                  <a:pt x="0" y="19"/>
                </a:lnTo>
              </a:path>
            </a:pathLst>
          </a:custGeom>
          <a:noFill/>
          <a:ln w="324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068200" y="4840200"/>
            <a:ext cx="1440" cy="180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1055240" y="4724280"/>
            <a:ext cx="27000" cy="95400"/>
          </a:xfrm>
          <a:custGeom>
            <a:avLst/>
            <a:gdLst/>
            <a:ahLst/>
            <a:rect l="l" t="t" r="r" b="b"/>
            <a:pathLst>
              <a:path w="17" h="60">
                <a:moveTo>
                  <a:pt x="17" y="0"/>
                </a:moveTo>
                <a:lnTo>
                  <a:pt x="8" y="11"/>
                </a:lnTo>
                <a:lnTo>
                  <a:pt x="4" y="11"/>
                </a:lnTo>
                <a:lnTo>
                  <a:pt x="0" y="25"/>
                </a:lnTo>
                <a:lnTo>
                  <a:pt x="8" y="25"/>
                </a:lnTo>
                <a:lnTo>
                  <a:pt x="12" y="28"/>
                </a:lnTo>
                <a:lnTo>
                  <a:pt x="8" y="30"/>
                </a:lnTo>
                <a:lnTo>
                  <a:pt x="8" y="45"/>
                </a:lnTo>
                <a:lnTo>
                  <a:pt x="4" y="60"/>
                </a:lnTo>
                <a:lnTo>
                  <a:pt x="17" y="0"/>
                </a:lnTo>
                <a:close/>
                <a:moveTo>
                  <a:pt x="17" y="0"/>
                </a:moveTo>
                <a:lnTo>
                  <a:pt x="17" y="0"/>
                </a:lnTo>
                <a:close/>
              </a:path>
            </a:pathLst>
          </a:custGeom>
          <a:solidFill>
            <a:srgbClr val="c8f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055240" y="4724280"/>
            <a:ext cx="27000" cy="95400"/>
          </a:xfrm>
          <a:custGeom>
            <a:avLst/>
            <a:gdLst/>
            <a:ahLst/>
            <a:rect l="l" t="t" r="r" b="b"/>
            <a:pathLst>
              <a:path w="17" h="60">
                <a:moveTo>
                  <a:pt x="17" y="0"/>
                </a:moveTo>
                <a:lnTo>
                  <a:pt x="8" y="11"/>
                </a:lnTo>
                <a:lnTo>
                  <a:pt x="4" y="11"/>
                </a:lnTo>
                <a:lnTo>
                  <a:pt x="0" y="25"/>
                </a:lnTo>
                <a:lnTo>
                  <a:pt x="8" y="25"/>
                </a:lnTo>
                <a:lnTo>
                  <a:pt x="12" y="28"/>
                </a:lnTo>
                <a:lnTo>
                  <a:pt x="8" y="30"/>
                </a:lnTo>
                <a:lnTo>
                  <a:pt x="8" y="45"/>
                </a:lnTo>
                <a:lnTo>
                  <a:pt x="4" y="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082240" y="472428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1055240" y="4724280"/>
            <a:ext cx="27000" cy="95400"/>
          </a:xfrm>
          <a:custGeom>
            <a:avLst/>
            <a:gdLst/>
            <a:ahLst/>
            <a:rect l="l" t="t" r="r" b="b"/>
            <a:pathLst>
              <a:path w="17" h="60">
                <a:moveTo>
                  <a:pt x="17" y="0"/>
                </a:moveTo>
                <a:lnTo>
                  <a:pt x="8" y="11"/>
                </a:lnTo>
                <a:lnTo>
                  <a:pt x="4" y="11"/>
                </a:lnTo>
                <a:lnTo>
                  <a:pt x="0" y="25"/>
                </a:lnTo>
                <a:lnTo>
                  <a:pt x="8" y="25"/>
                </a:lnTo>
                <a:lnTo>
                  <a:pt x="12" y="28"/>
                </a:lnTo>
                <a:lnTo>
                  <a:pt x="8" y="30"/>
                </a:lnTo>
                <a:lnTo>
                  <a:pt x="8" y="45"/>
                </a:lnTo>
                <a:lnTo>
                  <a:pt x="4" y="60"/>
                </a:lnTo>
              </a:path>
            </a:pathLst>
          </a:custGeom>
          <a:noFill/>
          <a:ln w="324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082240" y="4724280"/>
            <a:ext cx="1800" cy="180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1006280" y="446076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3" y="13"/>
                </a:lnTo>
                <a:lnTo>
                  <a:pt x="20" y="19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c8f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006280" y="446076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3" y="13"/>
                </a:lnTo>
                <a:lnTo>
                  <a:pt x="20" y="1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006280" y="44607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006280" y="4460760"/>
            <a:ext cx="31680" cy="30240"/>
          </a:xfrm>
          <a:custGeom>
            <a:avLst/>
            <a:gdLst/>
            <a:ahLst/>
            <a:rect l="l" t="t" r="r" b="b"/>
            <a:pathLst>
              <a:path w="20" h="19">
                <a:moveTo>
                  <a:pt x="0" y="0"/>
                </a:moveTo>
                <a:lnTo>
                  <a:pt x="3" y="13"/>
                </a:lnTo>
                <a:lnTo>
                  <a:pt x="20" y="19"/>
                </a:lnTo>
              </a:path>
            </a:pathLst>
          </a:custGeom>
          <a:noFill/>
          <a:ln w="324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006280" y="4460760"/>
            <a:ext cx="1440" cy="180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461360" y="1198440"/>
            <a:ext cx="1379520" cy="1382760"/>
          </a:xfrm>
          <a:custGeom>
            <a:avLst/>
            <a:gdLst/>
            <a:ahLst/>
            <a:rect l="l" t="t" r="r" b="b"/>
            <a:pathLst>
              <a:path w="869" h="871">
                <a:moveTo>
                  <a:pt x="869" y="871"/>
                </a:moveTo>
                <a:lnTo>
                  <a:pt x="862" y="868"/>
                </a:lnTo>
                <a:lnTo>
                  <a:pt x="858" y="853"/>
                </a:lnTo>
                <a:lnTo>
                  <a:pt x="853" y="840"/>
                </a:lnTo>
                <a:lnTo>
                  <a:pt x="841" y="834"/>
                </a:lnTo>
                <a:lnTo>
                  <a:pt x="821" y="815"/>
                </a:lnTo>
                <a:lnTo>
                  <a:pt x="806" y="800"/>
                </a:lnTo>
                <a:lnTo>
                  <a:pt x="782" y="785"/>
                </a:lnTo>
                <a:lnTo>
                  <a:pt x="761" y="776"/>
                </a:lnTo>
                <a:lnTo>
                  <a:pt x="750" y="763"/>
                </a:lnTo>
                <a:lnTo>
                  <a:pt x="733" y="752"/>
                </a:lnTo>
                <a:lnTo>
                  <a:pt x="705" y="746"/>
                </a:lnTo>
                <a:lnTo>
                  <a:pt x="701" y="733"/>
                </a:lnTo>
                <a:lnTo>
                  <a:pt x="709" y="714"/>
                </a:lnTo>
                <a:lnTo>
                  <a:pt x="688" y="714"/>
                </a:lnTo>
                <a:lnTo>
                  <a:pt x="681" y="699"/>
                </a:lnTo>
                <a:lnTo>
                  <a:pt x="653" y="692"/>
                </a:lnTo>
                <a:lnTo>
                  <a:pt x="656" y="675"/>
                </a:lnTo>
                <a:lnTo>
                  <a:pt x="632" y="671"/>
                </a:lnTo>
                <a:lnTo>
                  <a:pt x="611" y="656"/>
                </a:lnTo>
                <a:lnTo>
                  <a:pt x="591" y="641"/>
                </a:lnTo>
                <a:lnTo>
                  <a:pt x="576" y="621"/>
                </a:lnTo>
                <a:lnTo>
                  <a:pt x="568" y="602"/>
                </a:lnTo>
                <a:lnTo>
                  <a:pt x="552" y="589"/>
                </a:lnTo>
                <a:lnTo>
                  <a:pt x="557" y="574"/>
                </a:lnTo>
                <a:lnTo>
                  <a:pt x="537" y="568"/>
                </a:lnTo>
                <a:lnTo>
                  <a:pt x="520" y="559"/>
                </a:lnTo>
                <a:lnTo>
                  <a:pt x="514" y="565"/>
                </a:lnTo>
                <a:lnTo>
                  <a:pt x="488" y="559"/>
                </a:lnTo>
                <a:lnTo>
                  <a:pt x="482" y="578"/>
                </a:lnTo>
                <a:lnTo>
                  <a:pt x="492" y="583"/>
                </a:lnTo>
                <a:lnTo>
                  <a:pt x="492" y="604"/>
                </a:lnTo>
                <a:lnTo>
                  <a:pt x="499" y="617"/>
                </a:lnTo>
                <a:lnTo>
                  <a:pt x="509" y="634"/>
                </a:lnTo>
                <a:lnTo>
                  <a:pt x="531" y="634"/>
                </a:lnTo>
                <a:lnTo>
                  <a:pt x="537" y="641"/>
                </a:lnTo>
                <a:lnTo>
                  <a:pt x="548" y="647"/>
                </a:lnTo>
                <a:lnTo>
                  <a:pt x="557" y="656"/>
                </a:lnTo>
                <a:lnTo>
                  <a:pt x="563" y="656"/>
                </a:lnTo>
                <a:lnTo>
                  <a:pt x="563" y="675"/>
                </a:lnTo>
                <a:lnTo>
                  <a:pt x="583" y="684"/>
                </a:lnTo>
                <a:lnTo>
                  <a:pt x="600" y="703"/>
                </a:lnTo>
                <a:lnTo>
                  <a:pt x="621" y="714"/>
                </a:lnTo>
                <a:lnTo>
                  <a:pt x="625" y="739"/>
                </a:lnTo>
                <a:lnTo>
                  <a:pt x="639" y="752"/>
                </a:lnTo>
                <a:lnTo>
                  <a:pt x="653" y="770"/>
                </a:lnTo>
                <a:lnTo>
                  <a:pt x="653" y="785"/>
                </a:lnTo>
                <a:lnTo>
                  <a:pt x="669" y="787"/>
                </a:lnTo>
                <a:lnTo>
                  <a:pt x="664" y="776"/>
                </a:lnTo>
                <a:lnTo>
                  <a:pt x="688" y="795"/>
                </a:lnTo>
                <a:lnTo>
                  <a:pt x="701" y="808"/>
                </a:lnTo>
                <a:lnTo>
                  <a:pt x="701" y="823"/>
                </a:lnTo>
                <a:lnTo>
                  <a:pt x="688" y="828"/>
                </a:lnTo>
                <a:lnTo>
                  <a:pt x="677" y="828"/>
                </a:lnTo>
                <a:lnTo>
                  <a:pt x="673" y="810"/>
                </a:lnTo>
                <a:lnTo>
                  <a:pt x="653" y="804"/>
                </a:lnTo>
                <a:lnTo>
                  <a:pt x="638" y="787"/>
                </a:lnTo>
                <a:lnTo>
                  <a:pt x="608" y="782"/>
                </a:lnTo>
                <a:lnTo>
                  <a:pt x="589" y="770"/>
                </a:lnTo>
                <a:lnTo>
                  <a:pt x="596" y="750"/>
                </a:lnTo>
                <a:lnTo>
                  <a:pt x="591" y="733"/>
                </a:lnTo>
                <a:lnTo>
                  <a:pt x="559" y="718"/>
                </a:lnTo>
                <a:lnTo>
                  <a:pt x="540" y="709"/>
                </a:lnTo>
                <a:lnTo>
                  <a:pt x="531" y="712"/>
                </a:lnTo>
                <a:lnTo>
                  <a:pt x="499" y="694"/>
                </a:lnTo>
                <a:lnTo>
                  <a:pt x="475" y="675"/>
                </a:lnTo>
                <a:lnTo>
                  <a:pt x="499" y="681"/>
                </a:lnTo>
                <a:lnTo>
                  <a:pt x="510" y="671"/>
                </a:lnTo>
                <a:lnTo>
                  <a:pt x="514" y="656"/>
                </a:lnTo>
                <a:lnTo>
                  <a:pt x="495" y="641"/>
                </a:lnTo>
                <a:lnTo>
                  <a:pt x="471" y="630"/>
                </a:lnTo>
                <a:lnTo>
                  <a:pt x="451" y="621"/>
                </a:lnTo>
                <a:lnTo>
                  <a:pt x="447" y="610"/>
                </a:lnTo>
                <a:lnTo>
                  <a:pt x="447" y="598"/>
                </a:lnTo>
                <a:lnTo>
                  <a:pt x="439" y="598"/>
                </a:lnTo>
                <a:lnTo>
                  <a:pt x="439" y="587"/>
                </a:lnTo>
                <a:lnTo>
                  <a:pt x="428" y="582"/>
                </a:lnTo>
                <a:lnTo>
                  <a:pt x="428" y="572"/>
                </a:lnTo>
                <a:lnTo>
                  <a:pt x="411" y="565"/>
                </a:lnTo>
                <a:lnTo>
                  <a:pt x="411" y="555"/>
                </a:lnTo>
                <a:lnTo>
                  <a:pt x="398" y="540"/>
                </a:lnTo>
                <a:lnTo>
                  <a:pt x="387" y="529"/>
                </a:lnTo>
                <a:lnTo>
                  <a:pt x="380" y="507"/>
                </a:lnTo>
                <a:lnTo>
                  <a:pt x="359" y="497"/>
                </a:lnTo>
                <a:lnTo>
                  <a:pt x="342" y="497"/>
                </a:lnTo>
                <a:lnTo>
                  <a:pt x="338" y="488"/>
                </a:lnTo>
                <a:lnTo>
                  <a:pt x="318" y="486"/>
                </a:lnTo>
                <a:lnTo>
                  <a:pt x="299" y="477"/>
                </a:lnTo>
                <a:lnTo>
                  <a:pt x="279" y="473"/>
                </a:lnTo>
                <a:lnTo>
                  <a:pt x="258" y="473"/>
                </a:lnTo>
                <a:lnTo>
                  <a:pt x="252" y="471"/>
                </a:lnTo>
                <a:lnTo>
                  <a:pt x="251" y="453"/>
                </a:lnTo>
                <a:lnTo>
                  <a:pt x="241" y="453"/>
                </a:lnTo>
                <a:lnTo>
                  <a:pt x="241" y="443"/>
                </a:lnTo>
                <a:lnTo>
                  <a:pt x="217" y="430"/>
                </a:lnTo>
                <a:lnTo>
                  <a:pt x="202" y="419"/>
                </a:lnTo>
                <a:lnTo>
                  <a:pt x="198" y="410"/>
                </a:lnTo>
                <a:lnTo>
                  <a:pt x="202" y="410"/>
                </a:lnTo>
                <a:lnTo>
                  <a:pt x="206" y="400"/>
                </a:lnTo>
                <a:lnTo>
                  <a:pt x="193" y="400"/>
                </a:lnTo>
                <a:lnTo>
                  <a:pt x="181" y="391"/>
                </a:lnTo>
                <a:lnTo>
                  <a:pt x="178" y="382"/>
                </a:lnTo>
                <a:lnTo>
                  <a:pt x="178" y="372"/>
                </a:lnTo>
                <a:lnTo>
                  <a:pt x="181" y="378"/>
                </a:lnTo>
                <a:lnTo>
                  <a:pt x="198" y="385"/>
                </a:lnTo>
                <a:lnTo>
                  <a:pt x="181" y="370"/>
                </a:lnTo>
                <a:lnTo>
                  <a:pt x="189" y="363"/>
                </a:lnTo>
                <a:lnTo>
                  <a:pt x="181" y="361"/>
                </a:lnTo>
                <a:lnTo>
                  <a:pt x="178" y="363"/>
                </a:lnTo>
                <a:lnTo>
                  <a:pt x="178" y="372"/>
                </a:lnTo>
                <a:lnTo>
                  <a:pt x="157" y="367"/>
                </a:lnTo>
                <a:lnTo>
                  <a:pt x="153" y="355"/>
                </a:lnTo>
                <a:lnTo>
                  <a:pt x="129" y="340"/>
                </a:lnTo>
                <a:lnTo>
                  <a:pt x="123" y="324"/>
                </a:lnTo>
                <a:lnTo>
                  <a:pt x="121" y="312"/>
                </a:lnTo>
                <a:lnTo>
                  <a:pt x="101" y="297"/>
                </a:lnTo>
                <a:lnTo>
                  <a:pt x="101" y="290"/>
                </a:lnTo>
                <a:lnTo>
                  <a:pt x="112" y="279"/>
                </a:lnTo>
                <a:lnTo>
                  <a:pt x="112" y="271"/>
                </a:lnTo>
                <a:lnTo>
                  <a:pt x="112" y="262"/>
                </a:lnTo>
                <a:lnTo>
                  <a:pt x="108" y="251"/>
                </a:lnTo>
                <a:lnTo>
                  <a:pt x="108" y="245"/>
                </a:lnTo>
                <a:lnTo>
                  <a:pt x="105" y="236"/>
                </a:lnTo>
                <a:lnTo>
                  <a:pt x="101" y="230"/>
                </a:lnTo>
                <a:lnTo>
                  <a:pt x="95" y="221"/>
                </a:lnTo>
                <a:lnTo>
                  <a:pt x="101" y="202"/>
                </a:lnTo>
                <a:lnTo>
                  <a:pt x="108" y="189"/>
                </a:lnTo>
                <a:lnTo>
                  <a:pt x="112" y="172"/>
                </a:lnTo>
                <a:lnTo>
                  <a:pt x="116" y="153"/>
                </a:lnTo>
                <a:lnTo>
                  <a:pt x="116" y="137"/>
                </a:lnTo>
                <a:lnTo>
                  <a:pt x="116" y="124"/>
                </a:lnTo>
                <a:lnTo>
                  <a:pt x="116" y="105"/>
                </a:lnTo>
                <a:lnTo>
                  <a:pt x="105" y="79"/>
                </a:lnTo>
                <a:lnTo>
                  <a:pt x="92" y="64"/>
                </a:lnTo>
                <a:lnTo>
                  <a:pt x="88" y="49"/>
                </a:lnTo>
                <a:lnTo>
                  <a:pt x="123" y="56"/>
                </a:lnTo>
                <a:lnTo>
                  <a:pt x="164" y="56"/>
                </a:lnTo>
                <a:lnTo>
                  <a:pt x="181" y="47"/>
                </a:lnTo>
                <a:lnTo>
                  <a:pt x="157" y="30"/>
                </a:lnTo>
                <a:lnTo>
                  <a:pt x="150" y="19"/>
                </a:lnTo>
                <a:lnTo>
                  <a:pt x="116" y="13"/>
                </a:lnTo>
                <a:lnTo>
                  <a:pt x="88" y="0"/>
                </a:lnTo>
                <a:lnTo>
                  <a:pt x="69" y="0"/>
                </a:lnTo>
                <a:lnTo>
                  <a:pt x="84" y="15"/>
                </a:lnTo>
                <a:lnTo>
                  <a:pt x="116" y="21"/>
                </a:lnTo>
                <a:lnTo>
                  <a:pt x="136" y="34"/>
                </a:lnTo>
                <a:lnTo>
                  <a:pt x="144" y="47"/>
                </a:lnTo>
                <a:lnTo>
                  <a:pt x="129" y="49"/>
                </a:lnTo>
                <a:lnTo>
                  <a:pt x="95" y="43"/>
                </a:lnTo>
                <a:lnTo>
                  <a:pt x="69" y="39"/>
                </a:lnTo>
                <a:lnTo>
                  <a:pt x="77" y="30"/>
                </a:lnTo>
                <a:lnTo>
                  <a:pt x="56" y="34"/>
                </a:lnTo>
                <a:lnTo>
                  <a:pt x="35" y="24"/>
                </a:lnTo>
                <a:lnTo>
                  <a:pt x="11" y="19"/>
                </a:lnTo>
                <a:lnTo>
                  <a:pt x="0" y="9"/>
                </a:lnTo>
                <a:lnTo>
                  <a:pt x="0" y="0"/>
                </a:lnTo>
                <a:lnTo>
                  <a:pt x="866" y="0"/>
                </a:lnTo>
                <a:lnTo>
                  <a:pt x="869" y="871"/>
                </a:lnTo>
                <a:close/>
                <a:moveTo>
                  <a:pt x="869" y="871"/>
                </a:moveTo>
                <a:lnTo>
                  <a:pt x="869" y="87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461360" y="1198440"/>
            <a:ext cx="1379520" cy="1382760"/>
          </a:xfrm>
          <a:custGeom>
            <a:avLst/>
            <a:gdLst/>
            <a:ahLst/>
            <a:rect l="l" t="t" r="r" b="b"/>
            <a:pathLst>
              <a:path w="869" h="871">
                <a:moveTo>
                  <a:pt x="869" y="871"/>
                </a:moveTo>
                <a:lnTo>
                  <a:pt x="862" y="868"/>
                </a:lnTo>
                <a:lnTo>
                  <a:pt x="858" y="853"/>
                </a:lnTo>
                <a:lnTo>
                  <a:pt x="853" y="840"/>
                </a:lnTo>
                <a:lnTo>
                  <a:pt x="841" y="834"/>
                </a:lnTo>
                <a:lnTo>
                  <a:pt x="821" y="815"/>
                </a:lnTo>
                <a:lnTo>
                  <a:pt x="806" y="800"/>
                </a:lnTo>
                <a:lnTo>
                  <a:pt x="782" y="785"/>
                </a:lnTo>
                <a:lnTo>
                  <a:pt x="761" y="776"/>
                </a:lnTo>
                <a:lnTo>
                  <a:pt x="750" y="763"/>
                </a:lnTo>
                <a:lnTo>
                  <a:pt x="733" y="752"/>
                </a:lnTo>
                <a:lnTo>
                  <a:pt x="705" y="746"/>
                </a:lnTo>
                <a:lnTo>
                  <a:pt x="701" y="733"/>
                </a:lnTo>
                <a:lnTo>
                  <a:pt x="709" y="714"/>
                </a:lnTo>
                <a:lnTo>
                  <a:pt x="688" y="714"/>
                </a:lnTo>
                <a:lnTo>
                  <a:pt x="681" y="699"/>
                </a:lnTo>
                <a:lnTo>
                  <a:pt x="653" y="692"/>
                </a:lnTo>
                <a:lnTo>
                  <a:pt x="656" y="675"/>
                </a:lnTo>
                <a:lnTo>
                  <a:pt x="632" y="671"/>
                </a:lnTo>
                <a:lnTo>
                  <a:pt x="611" y="656"/>
                </a:lnTo>
                <a:lnTo>
                  <a:pt x="591" y="641"/>
                </a:lnTo>
                <a:lnTo>
                  <a:pt x="576" y="621"/>
                </a:lnTo>
                <a:lnTo>
                  <a:pt x="568" y="602"/>
                </a:lnTo>
                <a:lnTo>
                  <a:pt x="552" y="589"/>
                </a:lnTo>
                <a:lnTo>
                  <a:pt x="557" y="574"/>
                </a:lnTo>
                <a:lnTo>
                  <a:pt x="537" y="568"/>
                </a:lnTo>
                <a:lnTo>
                  <a:pt x="520" y="559"/>
                </a:lnTo>
                <a:lnTo>
                  <a:pt x="514" y="565"/>
                </a:lnTo>
                <a:lnTo>
                  <a:pt x="488" y="559"/>
                </a:lnTo>
                <a:lnTo>
                  <a:pt x="482" y="578"/>
                </a:lnTo>
                <a:lnTo>
                  <a:pt x="492" y="583"/>
                </a:lnTo>
                <a:lnTo>
                  <a:pt x="492" y="604"/>
                </a:lnTo>
                <a:lnTo>
                  <a:pt x="499" y="617"/>
                </a:lnTo>
                <a:lnTo>
                  <a:pt x="509" y="634"/>
                </a:lnTo>
                <a:lnTo>
                  <a:pt x="531" y="634"/>
                </a:lnTo>
                <a:lnTo>
                  <a:pt x="537" y="641"/>
                </a:lnTo>
                <a:lnTo>
                  <a:pt x="548" y="647"/>
                </a:lnTo>
                <a:lnTo>
                  <a:pt x="557" y="656"/>
                </a:lnTo>
                <a:lnTo>
                  <a:pt x="563" y="656"/>
                </a:lnTo>
                <a:lnTo>
                  <a:pt x="563" y="675"/>
                </a:lnTo>
                <a:lnTo>
                  <a:pt x="583" y="684"/>
                </a:lnTo>
                <a:lnTo>
                  <a:pt x="600" y="703"/>
                </a:lnTo>
                <a:lnTo>
                  <a:pt x="621" y="714"/>
                </a:lnTo>
                <a:lnTo>
                  <a:pt x="625" y="739"/>
                </a:lnTo>
                <a:lnTo>
                  <a:pt x="639" y="752"/>
                </a:lnTo>
                <a:lnTo>
                  <a:pt x="653" y="770"/>
                </a:lnTo>
                <a:lnTo>
                  <a:pt x="653" y="785"/>
                </a:lnTo>
                <a:lnTo>
                  <a:pt x="669" y="787"/>
                </a:lnTo>
                <a:lnTo>
                  <a:pt x="664" y="776"/>
                </a:lnTo>
                <a:lnTo>
                  <a:pt x="688" y="795"/>
                </a:lnTo>
                <a:lnTo>
                  <a:pt x="701" y="808"/>
                </a:lnTo>
                <a:lnTo>
                  <a:pt x="701" y="823"/>
                </a:lnTo>
                <a:lnTo>
                  <a:pt x="688" y="828"/>
                </a:lnTo>
                <a:lnTo>
                  <a:pt x="677" y="828"/>
                </a:lnTo>
                <a:lnTo>
                  <a:pt x="673" y="810"/>
                </a:lnTo>
                <a:lnTo>
                  <a:pt x="653" y="804"/>
                </a:lnTo>
                <a:lnTo>
                  <a:pt x="638" y="787"/>
                </a:lnTo>
                <a:lnTo>
                  <a:pt x="608" y="782"/>
                </a:lnTo>
                <a:lnTo>
                  <a:pt x="589" y="770"/>
                </a:lnTo>
                <a:lnTo>
                  <a:pt x="596" y="750"/>
                </a:lnTo>
                <a:lnTo>
                  <a:pt x="591" y="733"/>
                </a:lnTo>
                <a:lnTo>
                  <a:pt x="559" y="718"/>
                </a:lnTo>
                <a:lnTo>
                  <a:pt x="540" y="709"/>
                </a:lnTo>
                <a:lnTo>
                  <a:pt x="531" y="712"/>
                </a:lnTo>
                <a:lnTo>
                  <a:pt x="499" y="694"/>
                </a:lnTo>
                <a:lnTo>
                  <a:pt x="475" y="675"/>
                </a:lnTo>
                <a:lnTo>
                  <a:pt x="499" y="681"/>
                </a:lnTo>
                <a:lnTo>
                  <a:pt x="510" y="671"/>
                </a:lnTo>
                <a:lnTo>
                  <a:pt x="514" y="656"/>
                </a:lnTo>
                <a:lnTo>
                  <a:pt x="495" y="641"/>
                </a:lnTo>
                <a:lnTo>
                  <a:pt x="471" y="630"/>
                </a:lnTo>
                <a:lnTo>
                  <a:pt x="451" y="621"/>
                </a:lnTo>
                <a:lnTo>
                  <a:pt x="447" y="610"/>
                </a:lnTo>
                <a:lnTo>
                  <a:pt x="447" y="598"/>
                </a:lnTo>
                <a:lnTo>
                  <a:pt x="439" y="598"/>
                </a:lnTo>
                <a:lnTo>
                  <a:pt x="439" y="587"/>
                </a:lnTo>
                <a:lnTo>
                  <a:pt x="428" y="582"/>
                </a:lnTo>
                <a:lnTo>
                  <a:pt x="428" y="572"/>
                </a:lnTo>
                <a:lnTo>
                  <a:pt x="411" y="565"/>
                </a:lnTo>
                <a:lnTo>
                  <a:pt x="411" y="555"/>
                </a:lnTo>
                <a:lnTo>
                  <a:pt x="398" y="540"/>
                </a:lnTo>
                <a:lnTo>
                  <a:pt x="387" y="529"/>
                </a:lnTo>
                <a:lnTo>
                  <a:pt x="380" y="507"/>
                </a:lnTo>
                <a:lnTo>
                  <a:pt x="359" y="497"/>
                </a:lnTo>
                <a:lnTo>
                  <a:pt x="342" y="497"/>
                </a:lnTo>
                <a:lnTo>
                  <a:pt x="338" y="488"/>
                </a:lnTo>
                <a:lnTo>
                  <a:pt x="318" y="486"/>
                </a:lnTo>
                <a:lnTo>
                  <a:pt x="299" y="477"/>
                </a:lnTo>
                <a:lnTo>
                  <a:pt x="279" y="473"/>
                </a:lnTo>
                <a:lnTo>
                  <a:pt x="258" y="473"/>
                </a:lnTo>
                <a:lnTo>
                  <a:pt x="252" y="471"/>
                </a:lnTo>
                <a:lnTo>
                  <a:pt x="251" y="453"/>
                </a:lnTo>
                <a:lnTo>
                  <a:pt x="241" y="453"/>
                </a:lnTo>
                <a:lnTo>
                  <a:pt x="241" y="443"/>
                </a:lnTo>
                <a:lnTo>
                  <a:pt x="217" y="430"/>
                </a:lnTo>
                <a:lnTo>
                  <a:pt x="202" y="419"/>
                </a:lnTo>
                <a:lnTo>
                  <a:pt x="198" y="410"/>
                </a:lnTo>
                <a:lnTo>
                  <a:pt x="202" y="410"/>
                </a:lnTo>
                <a:lnTo>
                  <a:pt x="206" y="400"/>
                </a:lnTo>
                <a:lnTo>
                  <a:pt x="193" y="400"/>
                </a:lnTo>
                <a:lnTo>
                  <a:pt x="181" y="391"/>
                </a:lnTo>
                <a:lnTo>
                  <a:pt x="178" y="382"/>
                </a:lnTo>
                <a:lnTo>
                  <a:pt x="178" y="372"/>
                </a:lnTo>
                <a:lnTo>
                  <a:pt x="181" y="378"/>
                </a:lnTo>
                <a:lnTo>
                  <a:pt x="198" y="385"/>
                </a:lnTo>
                <a:lnTo>
                  <a:pt x="181" y="370"/>
                </a:lnTo>
                <a:lnTo>
                  <a:pt x="189" y="363"/>
                </a:lnTo>
                <a:lnTo>
                  <a:pt x="181" y="361"/>
                </a:lnTo>
                <a:lnTo>
                  <a:pt x="178" y="363"/>
                </a:lnTo>
                <a:lnTo>
                  <a:pt x="178" y="372"/>
                </a:lnTo>
                <a:lnTo>
                  <a:pt x="157" y="367"/>
                </a:lnTo>
                <a:lnTo>
                  <a:pt x="153" y="355"/>
                </a:lnTo>
                <a:lnTo>
                  <a:pt x="129" y="340"/>
                </a:lnTo>
                <a:lnTo>
                  <a:pt x="123" y="324"/>
                </a:lnTo>
                <a:lnTo>
                  <a:pt x="121" y="312"/>
                </a:lnTo>
                <a:lnTo>
                  <a:pt x="101" y="297"/>
                </a:lnTo>
                <a:lnTo>
                  <a:pt x="101" y="290"/>
                </a:lnTo>
                <a:lnTo>
                  <a:pt x="112" y="279"/>
                </a:lnTo>
                <a:lnTo>
                  <a:pt x="112" y="271"/>
                </a:lnTo>
                <a:lnTo>
                  <a:pt x="112" y="262"/>
                </a:lnTo>
                <a:lnTo>
                  <a:pt x="108" y="251"/>
                </a:lnTo>
                <a:lnTo>
                  <a:pt x="108" y="245"/>
                </a:lnTo>
                <a:lnTo>
                  <a:pt x="105" y="236"/>
                </a:lnTo>
                <a:lnTo>
                  <a:pt x="101" y="230"/>
                </a:lnTo>
                <a:lnTo>
                  <a:pt x="95" y="221"/>
                </a:lnTo>
                <a:lnTo>
                  <a:pt x="101" y="202"/>
                </a:lnTo>
                <a:lnTo>
                  <a:pt x="108" y="189"/>
                </a:lnTo>
                <a:lnTo>
                  <a:pt x="112" y="172"/>
                </a:lnTo>
                <a:lnTo>
                  <a:pt x="116" y="153"/>
                </a:lnTo>
                <a:lnTo>
                  <a:pt x="116" y="137"/>
                </a:lnTo>
                <a:lnTo>
                  <a:pt x="116" y="124"/>
                </a:lnTo>
                <a:lnTo>
                  <a:pt x="116" y="105"/>
                </a:lnTo>
                <a:lnTo>
                  <a:pt x="105" y="79"/>
                </a:lnTo>
                <a:lnTo>
                  <a:pt x="92" y="64"/>
                </a:lnTo>
                <a:lnTo>
                  <a:pt x="88" y="49"/>
                </a:lnTo>
                <a:lnTo>
                  <a:pt x="123" y="56"/>
                </a:lnTo>
                <a:lnTo>
                  <a:pt x="164" y="56"/>
                </a:lnTo>
                <a:lnTo>
                  <a:pt x="181" y="47"/>
                </a:lnTo>
                <a:lnTo>
                  <a:pt x="157" y="30"/>
                </a:lnTo>
                <a:lnTo>
                  <a:pt x="150" y="19"/>
                </a:lnTo>
                <a:lnTo>
                  <a:pt x="116" y="13"/>
                </a:lnTo>
                <a:lnTo>
                  <a:pt x="88" y="0"/>
                </a:lnTo>
                <a:lnTo>
                  <a:pt x="69" y="0"/>
                </a:lnTo>
                <a:lnTo>
                  <a:pt x="84" y="15"/>
                </a:lnTo>
                <a:lnTo>
                  <a:pt x="116" y="21"/>
                </a:lnTo>
                <a:lnTo>
                  <a:pt x="136" y="34"/>
                </a:lnTo>
                <a:lnTo>
                  <a:pt x="144" y="47"/>
                </a:lnTo>
                <a:lnTo>
                  <a:pt x="129" y="49"/>
                </a:lnTo>
                <a:lnTo>
                  <a:pt x="95" y="43"/>
                </a:lnTo>
                <a:lnTo>
                  <a:pt x="69" y="39"/>
                </a:lnTo>
                <a:lnTo>
                  <a:pt x="77" y="30"/>
                </a:lnTo>
                <a:lnTo>
                  <a:pt x="56" y="34"/>
                </a:lnTo>
                <a:lnTo>
                  <a:pt x="35" y="24"/>
                </a:lnTo>
                <a:lnTo>
                  <a:pt x="11" y="19"/>
                </a:lnTo>
                <a:lnTo>
                  <a:pt x="0" y="9"/>
                </a:lnTo>
                <a:lnTo>
                  <a:pt x="0" y="0"/>
                </a:lnTo>
                <a:lnTo>
                  <a:pt x="86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840880" y="258120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461360" y="1198440"/>
            <a:ext cx="1379520" cy="1382760"/>
          </a:xfrm>
          <a:custGeom>
            <a:avLst/>
            <a:gdLst/>
            <a:ahLst/>
            <a:rect l="l" t="t" r="r" b="b"/>
            <a:pathLst>
              <a:path w="869" h="871">
                <a:moveTo>
                  <a:pt x="869" y="871"/>
                </a:moveTo>
                <a:lnTo>
                  <a:pt x="862" y="868"/>
                </a:lnTo>
                <a:lnTo>
                  <a:pt x="858" y="853"/>
                </a:lnTo>
                <a:lnTo>
                  <a:pt x="853" y="840"/>
                </a:lnTo>
                <a:lnTo>
                  <a:pt x="841" y="834"/>
                </a:lnTo>
                <a:lnTo>
                  <a:pt x="821" y="815"/>
                </a:lnTo>
                <a:lnTo>
                  <a:pt x="806" y="800"/>
                </a:lnTo>
                <a:lnTo>
                  <a:pt x="782" y="785"/>
                </a:lnTo>
                <a:lnTo>
                  <a:pt x="761" y="776"/>
                </a:lnTo>
                <a:lnTo>
                  <a:pt x="750" y="763"/>
                </a:lnTo>
                <a:lnTo>
                  <a:pt x="733" y="752"/>
                </a:lnTo>
                <a:lnTo>
                  <a:pt x="705" y="746"/>
                </a:lnTo>
                <a:lnTo>
                  <a:pt x="701" y="733"/>
                </a:lnTo>
                <a:lnTo>
                  <a:pt x="709" y="714"/>
                </a:lnTo>
                <a:lnTo>
                  <a:pt x="688" y="714"/>
                </a:lnTo>
                <a:lnTo>
                  <a:pt x="681" y="699"/>
                </a:lnTo>
                <a:lnTo>
                  <a:pt x="653" y="692"/>
                </a:lnTo>
                <a:lnTo>
                  <a:pt x="656" y="675"/>
                </a:lnTo>
                <a:lnTo>
                  <a:pt x="632" y="671"/>
                </a:lnTo>
                <a:lnTo>
                  <a:pt x="611" y="656"/>
                </a:lnTo>
                <a:lnTo>
                  <a:pt x="591" y="641"/>
                </a:lnTo>
                <a:lnTo>
                  <a:pt x="576" y="621"/>
                </a:lnTo>
                <a:lnTo>
                  <a:pt x="568" y="602"/>
                </a:lnTo>
                <a:lnTo>
                  <a:pt x="552" y="589"/>
                </a:lnTo>
                <a:lnTo>
                  <a:pt x="557" y="574"/>
                </a:lnTo>
                <a:lnTo>
                  <a:pt x="537" y="568"/>
                </a:lnTo>
                <a:lnTo>
                  <a:pt x="520" y="559"/>
                </a:lnTo>
                <a:lnTo>
                  <a:pt x="514" y="565"/>
                </a:lnTo>
                <a:lnTo>
                  <a:pt x="488" y="559"/>
                </a:lnTo>
                <a:lnTo>
                  <a:pt x="482" y="578"/>
                </a:lnTo>
                <a:lnTo>
                  <a:pt x="492" y="583"/>
                </a:lnTo>
                <a:lnTo>
                  <a:pt x="492" y="604"/>
                </a:lnTo>
                <a:lnTo>
                  <a:pt x="499" y="617"/>
                </a:lnTo>
                <a:lnTo>
                  <a:pt x="509" y="634"/>
                </a:lnTo>
                <a:lnTo>
                  <a:pt x="531" y="634"/>
                </a:lnTo>
                <a:lnTo>
                  <a:pt x="537" y="641"/>
                </a:lnTo>
                <a:lnTo>
                  <a:pt x="548" y="647"/>
                </a:lnTo>
                <a:lnTo>
                  <a:pt x="557" y="656"/>
                </a:lnTo>
                <a:lnTo>
                  <a:pt x="563" y="656"/>
                </a:lnTo>
                <a:lnTo>
                  <a:pt x="563" y="675"/>
                </a:lnTo>
                <a:lnTo>
                  <a:pt x="583" y="684"/>
                </a:lnTo>
                <a:lnTo>
                  <a:pt x="600" y="703"/>
                </a:lnTo>
                <a:lnTo>
                  <a:pt x="621" y="714"/>
                </a:lnTo>
                <a:lnTo>
                  <a:pt x="625" y="739"/>
                </a:lnTo>
                <a:lnTo>
                  <a:pt x="639" y="752"/>
                </a:lnTo>
                <a:lnTo>
                  <a:pt x="653" y="770"/>
                </a:lnTo>
                <a:lnTo>
                  <a:pt x="653" y="785"/>
                </a:lnTo>
                <a:lnTo>
                  <a:pt x="669" y="787"/>
                </a:lnTo>
                <a:lnTo>
                  <a:pt x="664" y="776"/>
                </a:lnTo>
                <a:lnTo>
                  <a:pt x="688" y="795"/>
                </a:lnTo>
                <a:lnTo>
                  <a:pt x="701" y="808"/>
                </a:lnTo>
                <a:lnTo>
                  <a:pt x="701" y="823"/>
                </a:lnTo>
                <a:lnTo>
                  <a:pt x="688" y="828"/>
                </a:lnTo>
                <a:lnTo>
                  <a:pt x="677" y="828"/>
                </a:lnTo>
                <a:lnTo>
                  <a:pt x="673" y="810"/>
                </a:lnTo>
                <a:lnTo>
                  <a:pt x="653" y="804"/>
                </a:lnTo>
                <a:lnTo>
                  <a:pt x="638" y="787"/>
                </a:lnTo>
                <a:lnTo>
                  <a:pt x="608" y="782"/>
                </a:lnTo>
                <a:lnTo>
                  <a:pt x="589" y="770"/>
                </a:lnTo>
                <a:lnTo>
                  <a:pt x="596" y="750"/>
                </a:lnTo>
                <a:lnTo>
                  <a:pt x="591" y="733"/>
                </a:lnTo>
                <a:lnTo>
                  <a:pt x="559" y="718"/>
                </a:lnTo>
                <a:lnTo>
                  <a:pt x="540" y="709"/>
                </a:lnTo>
                <a:lnTo>
                  <a:pt x="531" y="712"/>
                </a:lnTo>
                <a:lnTo>
                  <a:pt x="499" y="694"/>
                </a:lnTo>
                <a:lnTo>
                  <a:pt x="475" y="675"/>
                </a:lnTo>
                <a:lnTo>
                  <a:pt x="499" y="681"/>
                </a:lnTo>
                <a:lnTo>
                  <a:pt x="510" y="671"/>
                </a:lnTo>
                <a:lnTo>
                  <a:pt x="514" y="656"/>
                </a:lnTo>
                <a:lnTo>
                  <a:pt x="495" y="641"/>
                </a:lnTo>
                <a:lnTo>
                  <a:pt x="471" y="630"/>
                </a:lnTo>
                <a:lnTo>
                  <a:pt x="451" y="621"/>
                </a:lnTo>
                <a:lnTo>
                  <a:pt x="447" y="610"/>
                </a:lnTo>
                <a:lnTo>
                  <a:pt x="447" y="598"/>
                </a:lnTo>
                <a:lnTo>
                  <a:pt x="439" y="598"/>
                </a:lnTo>
                <a:lnTo>
                  <a:pt x="439" y="587"/>
                </a:lnTo>
                <a:lnTo>
                  <a:pt x="428" y="582"/>
                </a:lnTo>
                <a:lnTo>
                  <a:pt x="428" y="572"/>
                </a:lnTo>
                <a:lnTo>
                  <a:pt x="411" y="565"/>
                </a:lnTo>
                <a:lnTo>
                  <a:pt x="411" y="555"/>
                </a:lnTo>
                <a:lnTo>
                  <a:pt x="398" y="540"/>
                </a:lnTo>
                <a:lnTo>
                  <a:pt x="387" y="529"/>
                </a:lnTo>
                <a:lnTo>
                  <a:pt x="380" y="507"/>
                </a:lnTo>
                <a:lnTo>
                  <a:pt x="359" y="497"/>
                </a:lnTo>
                <a:lnTo>
                  <a:pt x="342" y="497"/>
                </a:lnTo>
                <a:lnTo>
                  <a:pt x="338" y="488"/>
                </a:lnTo>
                <a:lnTo>
                  <a:pt x="318" y="486"/>
                </a:lnTo>
                <a:lnTo>
                  <a:pt x="299" y="477"/>
                </a:lnTo>
                <a:lnTo>
                  <a:pt x="279" y="473"/>
                </a:lnTo>
                <a:lnTo>
                  <a:pt x="258" y="473"/>
                </a:lnTo>
                <a:lnTo>
                  <a:pt x="252" y="471"/>
                </a:lnTo>
                <a:lnTo>
                  <a:pt x="251" y="453"/>
                </a:lnTo>
                <a:lnTo>
                  <a:pt x="241" y="453"/>
                </a:lnTo>
                <a:lnTo>
                  <a:pt x="241" y="443"/>
                </a:lnTo>
                <a:lnTo>
                  <a:pt x="217" y="430"/>
                </a:lnTo>
                <a:lnTo>
                  <a:pt x="202" y="419"/>
                </a:lnTo>
                <a:lnTo>
                  <a:pt x="198" y="410"/>
                </a:lnTo>
                <a:lnTo>
                  <a:pt x="202" y="410"/>
                </a:lnTo>
                <a:lnTo>
                  <a:pt x="206" y="400"/>
                </a:lnTo>
                <a:lnTo>
                  <a:pt x="193" y="400"/>
                </a:lnTo>
                <a:lnTo>
                  <a:pt x="181" y="391"/>
                </a:lnTo>
                <a:lnTo>
                  <a:pt x="178" y="382"/>
                </a:lnTo>
                <a:lnTo>
                  <a:pt x="178" y="372"/>
                </a:lnTo>
                <a:lnTo>
                  <a:pt x="181" y="378"/>
                </a:lnTo>
                <a:lnTo>
                  <a:pt x="198" y="385"/>
                </a:lnTo>
                <a:lnTo>
                  <a:pt x="181" y="370"/>
                </a:lnTo>
                <a:lnTo>
                  <a:pt x="189" y="363"/>
                </a:lnTo>
                <a:lnTo>
                  <a:pt x="181" y="361"/>
                </a:lnTo>
                <a:lnTo>
                  <a:pt x="178" y="363"/>
                </a:lnTo>
                <a:lnTo>
                  <a:pt x="178" y="372"/>
                </a:lnTo>
                <a:lnTo>
                  <a:pt x="157" y="367"/>
                </a:lnTo>
                <a:lnTo>
                  <a:pt x="153" y="355"/>
                </a:lnTo>
                <a:lnTo>
                  <a:pt x="129" y="340"/>
                </a:lnTo>
                <a:lnTo>
                  <a:pt x="123" y="324"/>
                </a:lnTo>
                <a:lnTo>
                  <a:pt x="121" y="312"/>
                </a:lnTo>
                <a:lnTo>
                  <a:pt x="101" y="297"/>
                </a:lnTo>
                <a:lnTo>
                  <a:pt x="101" y="290"/>
                </a:lnTo>
                <a:lnTo>
                  <a:pt x="112" y="279"/>
                </a:lnTo>
                <a:lnTo>
                  <a:pt x="112" y="271"/>
                </a:lnTo>
                <a:lnTo>
                  <a:pt x="112" y="262"/>
                </a:lnTo>
                <a:lnTo>
                  <a:pt x="108" y="251"/>
                </a:lnTo>
                <a:lnTo>
                  <a:pt x="108" y="245"/>
                </a:lnTo>
                <a:lnTo>
                  <a:pt x="105" y="236"/>
                </a:lnTo>
                <a:lnTo>
                  <a:pt x="101" y="230"/>
                </a:lnTo>
                <a:lnTo>
                  <a:pt x="95" y="221"/>
                </a:lnTo>
                <a:lnTo>
                  <a:pt x="101" y="202"/>
                </a:lnTo>
                <a:lnTo>
                  <a:pt x="108" y="189"/>
                </a:lnTo>
                <a:lnTo>
                  <a:pt x="112" y="172"/>
                </a:lnTo>
                <a:lnTo>
                  <a:pt x="116" y="153"/>
                </a:lnTo>
                <a:lnTo>
                  <a:pt x="116" y="137"/>
                </a:lnTo>
                <a:lnTo>
                  <a:pt x="116" y="124"/>
                </a:lnTo>
                <a:lnTo>
                  <a:pt x="116" y="105"/>
                </a:lnTo>
                <a:lnTo>
                  <a:pt x="105" y="79"/>
                </a:lnTo>
                <a:lnTo>
                  <a:pt x="92" y="64"/>
                </a:lnTo>
                <a:lnTo>
                  <a:pt x="88" y="49"/>
                </a:lnTo>
                <a:lnTo>
                  <a:pt x="123" y="56"/>
                </a:lnTo>
                <a:lnTo>
                  <a:pt x="164" y="56"/>
                </a:lnTo>
                <a:lnTo>
                  <a:pt x="181" y="47"/>
                </a:lnTo>
                <a:lnTo>
                  <a:pt x="157" y="30"/>
                </a:lnTo>
                <a:lnTo>
                  <a:pt x="150" y="19"/>
                </a:lnTo>
                <a:lnTo>
                  <a:pt x="116" y="13"/>
                </a:lnTo>
                <a:lnTo>
                  <a:pt x="88" y="0"/>
                </a:lnTo>
                <a:lnTo>
                  <a:pt x="69" y="0"/>
                </a:lnTo>
                <a:lnTo>
                  <a:pt x="84" y="15"/>
                </a:lnTo>
                <a:lnTo>
                  <a:pt x="116" y="21"/>
                </a:lnTo>
                <a:lnTo>
                  <a:pt x="136" y="34"/>
                </a:lnTo>
                <a:lnTo>
                  <a:pt x="144" y="47"/>
                </a:lnTo>
                <a:lnTo>
                  <a:pt x="129" y="49"/>
                </a:lnTo>
                <a:lnTo>
                  <a:pt x="95" y="43"/>
                </a:lnTo>
                <a:lnTo>
                  <a:pt x="69" y="39"/>
                </a:lnTo>
                <a:lnTo>
                  <a:pt x="77" y="30"/>
                </a:lnTo>
                <a:lnTo>
                  <a:pt x="56" y="34"/>
                </a:lnTo>
                <a:lnTo>
                  <a:pt x="35" y="24"/>
                </a:lnTo>
                <a:lnTo>
                  <a:pt x="11" y="19"/>
                </a:lnTo>
                <a:lnTo>
                  <a:pt x="0" y="9"/>
                </a:lnTo>
                <a:lnTo>
                  <a:pt x="0" y="0"/>
                </a:lnTo>
                <a:lnTo>
                  <a:pt x="866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840880" y="2581200"/>
            <a:ext cx="1440" cy="180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840880" y="2581200"/>
            <a:ext cx="144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15"/>
                </a:moveTo>
                <a:lnTo>
                  <a:pt x="0" y="0"/>
                </a:lnTo>
                <a:lnTo>
                  <a:pt x="0" y="15"/>
                </a:lnTo>
                <a:close/>
                <a:moveTo>
                  <a:pt x="0" y="15"/>
                </a:moveTo>
                <a:lnTo>
                  <a:pt x="0" y="15"/>
                </a:lnTo>
                <a:close/>
              </a:path>
            </a:pathLst>
          </a:custGeom>
          <a:solidFill>
            <a:srgbClr val="c8f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8840880" y="2581200"/>
            <a:ext cx="1440" cy="23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840880" y="260496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8840880" y="2581200"/>
            <a:ext cx="1440" cy="2376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840880" y="2604960"/>
            <a:ext cx="1440" cy="180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823240" y="2604960"/>
            <a:ext cx="17640" cy="12960"/>
          </a:xfrm>
          <a:custGeom>
            <a:avLst/>
            <a:gdLst/>
            <a:ahLst/>
            <a:rect l="l" t="t" r="r" b="b"/>
            <a:pathLst>
              <a:path w="11" h="8">
                <a:moveTo>
                  <a:pt x="11" y="8"/>
                </a:moveTo>
                <a:lnTo>
                  <a:pt x="0" y="8"/>
                </a:lnTo>
                <a:lnTo>
                  <a:pt x="11" y="0"/>
                </a:lnTo>
                <a:lnTo>
                  <a:pt x="11" y="8"/>
                </a:lnTo>
                <a:close/>
                <a:moveTo>
                  <a:pt x="11" y="8"/>
                </a:moveTo>
                <a:lnTo>
                  <a:pt x="11" y="8"/>
                </a:lnTo>
                <a:close/>
              </a:path>
            </a:pathLst>
          </a:custGeom>
          <a:solidFill>
            <a:srgbClr val="c8f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823240" y="2604960"/>
            <a:ext cx="17640" cy="12960"/>
          </a:xfrm>
          <a:custGeom>
            <a:avLst/>
            <a:gdLst/>
            <a:ahLst/>
            <a:rect l="l" t="t" r="r" b="b"/>
            <a:pathLst>
              <a:path w="11" h="8">
                <a:moveTo>
                  <a:pt x="11" y="8"/>
                </a:moveTo>
                <a:lnTo>
                  <a:pt x="0" y="8"/>
                </a:lnTo>
                <a:lnTo>
                  <a:pt x="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840880" y="26179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823240" y="2604960"/>
            <a:ext cx="17640" cy="12960"/>
          </a:xfrm>
          <a:custGeom>
            <a:avLst/>
            <a:gdLst/>
            <a:ahLst/>
            <a:rect l="l" t="t" r="r" b="b"/>
            <a:pathLst>
              <a:path w="11" h="8">
                <a:moveTo>
                  <a:pt x="11" y="8"/>
                </a:moveTo>
                <a:lnTo>
                  <a:pt x="0" y="8"/>
                </a:lnTo>
                <a:lnTo>
                  <a:pt x="11" y="0"/>
                </a:lnTo>
              </a:path>
            </a:pathLst>
          </a:custGeom>
          <a:noFill/>
          <a:ln w="324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840880" y="2617920"/>
            <a:ext cx="1440" cy="144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815320" y="2617920"/>
            <a:ext cx="2556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5" y="22"/>
                </a:moveTo>
                <a:lnTo>
                  <a:pt x="0" y="9"/>
                </a:lnTo>
                <a:lnTo>
                  <a:pt x="13" y="7"/>
                </a:lnTo>
                <a:lnTo>
                  <a:pt x="16" y="0"/>
                </a:lnTo>
                <a:lnTo>
                  <a:pt x="5" y="22"/>
                </a:lnTo>
                <a:close/>
                <a:moveTo>
                  <a:pt x="5" y="22"/>
                </a:moveTo>
                <a:lnTo>
                  <a:pt x="5" y="22"/>
                </a:lnTo>
                <a:close/>
              </a:path>
            </a:pathLst>
          </a:custGeom>
          <a:solidFill>
            <a:srgbClr val="c8f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815320" y="2617920"/>
            <a:ext cx="2556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5" y="22"/>
                </a:moveTo>
                <a:lnTo>
                  <a:pt x="0" y="9"/>
                </a:lnTo>
                <a:lnTo>
                  <a:pt x="13" y="7"/>
                </a:lnTo>
                <a:lnTo>
                  <a:pt x="1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823240" y="265284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815320" y="2617920"/>
            <a:ext cx="2556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5" y="22"/>
                </a:moveTo>
                <a:lnTo>
                  <a:pt x="0" y="9"/>
                </a:lnTo>
                <a:lnTo>
                  <a:pt x="13" y="7"/>
                </a:lnTo>
                <a:lnTo>
                  <a:pt x="16" y="0"/>
                </a:lnTo>
              </a:path>
            </a:pathLst>
          </a:custGeom>
          <a:noFill/>
          <a:ln w="324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823240" y="2652840"/>
            <a:ext cx="1800" cy="144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461360" y="1198440"/>
            <a:ext cx="1374840" cy="1379520"/>
          </a:xfrm>
          <a:custGeom>
            <a:avLst/>
            <a:gdLst/>
            <a:ahLst/>
            <a:rect l="l" t="t" r="r" b="b"/>
            <a:pathLst>
              <a:path w="866" h="869">
                <a:moveTo>
                  <a:pt x="0" y="0"/>
                </a:moveTo>
                <a:lnTo>
                  <a:pt x="0" y="9"/>
                </a:lnTo>
                <a:lnTo>
                  <a:pt x="11" y="19"/>
                </a:lnTo>
                <a:lnTo>
                  <a:pt x="35" y="24"/>
                </a:lnTo>
                <a:lnTo>
                  <a:pt x="56" y="34"/>
                </a:lnTo>
                <a:lnTo>
                  <a:pt x="77" y="30"/>
                </a:lnTo>
                <a:lnTo>
                  <a:pt x="69" y="39"/>
                </a:lnTo>
                <a:lnTo>
                  <a:pt x="95" y="43"/>
                </a:lnTo>
                <a:lnTo>
                  <a:pt x="129" y="49"/>
                </a:lnTo>
                <a:lnTo>
                  <a:pt x="144" y="47"/>
                </a:lnTo>
                <a:lnTo>
                  <a:pt x="136" y="34"/>
                </a:lnTo>
                <a:lnTo>
                  <a:pt x="116" y="21"/>
                </a:lnTo>
                <a:lnTo>
                  <a:pt x="84" y="15"/>
                </a:lnTo>
                <a:lnTo>
                  <a:pt x="69" y="0"/>
                </a:lnTo>
                <a:lnTo>
                  <a:pt x="88" y="0"/>
                </a:lnTo>
                <a:lnTo>
                  <a:pt x="116" y="13"/>
                </a:lnTo>
                <a:lnTo>
                  <a:pt x="150" y="19"/>
                </a:lnTo>
                <a:lnTo>
                  <a:pt x="157" y="30"/>
                </a:lnTo>
                <a:lnTo>
                  <a:pt x="181" y="47"/>
                </a:lnTo>
                <a:lnTo>
                  <a:pt x="164" y="56"/>
                </a:lnTo>
                <a:lnTo>
                  <a:pt x="123" y="56"/>
                </a:lnTo>
                <a:lnTo>
                  <a:pt x="88" y="49"/>
                </a:lnTo>
                <a:lnTo>
                  <a:pt x="92" y="64"/>
                </a:lnTo>
                <a:lnTo>
                  <a:pt x="105" y="79"/>
                </a:lnTo>
                <a:lnTo>
                  <a:pt x="116" y="105"/>
                </a:lnTo>
                <a:lnTo>
                  <a:pt x="116" y="124"/>
                </a:lnTo>
                <a:lnTo>
                  <a:pt x="116" y="137"/>
                </a:lnTo>
                <a:lnTo>
                  <a:pt x="116" y="153"/>
                </a:lnTo>
                <a:lnTo>
                  <a:pt x="112" y="172"/>
                </a:lnTo>
                <a:lnTo>
                  <a:pt x="108" y="189"/>
                </a:lnTo>
                <a:lnTo>
                  <a:pt x="101" y="202"/>
                </a:lnTo>
                <a:lnTo>
                  <a:pt x="95" y="221"/>
                </a:lnTo>
                <a:lnTo>
                  <a:pt x="101" y="230"/>
                </a:lnTo>
                <a:lnTo>
                  <a:pt x="105" y="236"/>
                </a:lnTo>
                <a:lnTo>
                  <a:pt x="108" y="245"/>
                </a:lnTo>
                <a:lnTo>
                  <a:pt x="108" y="251"/>
                </a:lnTo>
                <a:lnTo>
                  <a:pt x="112" y="262"/>
                </a:lnTo>
                <a:lnTo>
                  <a:pt x="112" y="271"/>
                </a:lnTo>
                <a:lnTo>
                  <a:pt x="112" y="279"/>
                </a:lnTo>
                <a:lnTo>
                  <a:pt x="101" y="290"/>
                </a:lnTo>
                <a:lnTo>
                  <a:pt x="101" y="297"/>
                </a:lnTo>
                <a:lnTo>
                  <a:pt x="121" y="312"/>
                </a:lnTo>
                <a:lnTo>
                  <a:pt x="123" y="324"/>
                </a:lnTo>
                <a:lnTo>
                  <a:pt x="129" y="340"/>
                </a:lnTo>
                <a:lnTo>
                  <a:pt x="153" y="355"/>
                </a:lnTo>
                <a:lnTo>
                  <a:pt x="157" y="367"/>
                </a:lnTo>
                <a:lnTo>
                  <a:pt x="178" y="372"/>
                </a:lnTo>
                <a:lnTo>
                  <a:pt x="178" y="363"/>
                </a:lnTo>
                <a:lnTo>
                  <a:pt x="181" y="361"/>
                </a:lnTo>
                <a:lnTo>
                  <a:pt x="189" y="363"/>
                </a:lnTo>
                <a:lnTo>
                  <a:pt x="181" y="370"/>
                </a:lnTo>
                <a:lnTo>
                  <a:pt x="198" y="385"/>
                </a:lnTo>
                <a:lnTo>
                  <a:pt x="181" y="378"/>
                </a:lnTo>
                <a:lnTo>
                  <a:pt x="178" y="372"/>
                </a:lnTo>
                <a:lnTo>
                  <a:pt x="178" y="382"/>
                </a:lnTo>
                <a:lnTo>
                  <a:pt x="181" y="391"/>
                </a:lnTo>
                <a:lnTo>
                  <a:pt x="193" y="400"/>
                </a:lnTo>
                <a:lnTo>
                  <a:pt x="206" y="400"/>
                </a:lnTo>
                <a:lnTo>
                  <a:pt x="202" y="410"/>
                </a:lnTo>
                <a:lnTo>
                  <a:pt x="198" y="410"/>
                </a:lnTo>
                <a:lnTo>
                  <a:pt x="202" y="419"/>
                </a:lnTo>
                <a:lnTo>
                  <a:pt x="217" y="430"/>
                </a:lnTo>
                <a:lnTo>
                  <a:pt x="241" y="443"/>
                </a:lnTo>
                <a:lnTo>
                  <a:pt x="241" y="453"/>
                </a:lnTo>
                <a:lnTo>
                  <a:pt x="251" y="453"/>
                </a:lnTo>
                <a:lnTo>
                  <a:pt x="252" y="471"/>
                </a:lnTo>
                <a:lnTo>
                  <a:pt x="258" y="473"/>
                </a:lnTo>
                <a:lnTo>
                  <a:pt x="279" y="473"/>
                </a:lnTo>
                <a:lnTo>
                  <a:pt x="299" y="477"/>
                </a:lnTo>
                <a:lnTo>
                  <a:pt x="318" y="486"/>
                </a:lnTo>
                <a:lnTo>
                  <a:pt x="338" y="488"/>
                </a:lnTo>
                <a:lnTo>
                  <a:pt x="342" y="497"/>
                </a:lnTo>
                <a:lnTo>
                  <a:pt x="359" y="497"/>
                </a:lnTo>
                <a:lnTo>
                  <a:pt x="380" y="507"/>
                </a:lnTo>
                <a:lnTo>
                  <a:pt x="387" y="529"/>
                </a:lnTo>
                <a:lnTo>
                  <a:pt x="398" y="540"/>
                </a:lnTo>
                <a:lnTo>
                  <a:pt x="411" y="555"/>
                </a:lnTo>
                <a:lnTo>
                  <a:pt x="411" y="565"/>
                </a:lnTo>
                <a:lnTo>
                  <a:pt x="428" y="572"/>
                </a:lnTo>
                <a:lnTo>
                  <a:pt x="428" y="582"/>
                </a:lnTo>
                <a:lnTo>
                  <a:pt x="439" y="587"/>
                </a:lnTo>
                <a:lnTo>
                  <a:pt x="439" y="598"/>
                </a:lnTo>
                <a:lnTo>
                  <a:pt x="447" y="598"/>
                </a:lnTo>
                <a:lnTo>
                  <a:pt x="447" y="610"/>
                </a:lnTo>
                <a:lnTo>
                  <a:pt x="451" y="621"/>
                </a:lnTo>
                <a:lnTo>
                  <a:pt x="471" y="630"/>
                </a:lnTo>
                <a:lnTo>
                  <a:pt x="495" y="641"/>
                </a:lnTo>
                <a:lnTo>
                  <a:pt x="514" y="656"/>
                </a:lnTo>
                <a:lnTo>
                  <a:pt x="510" y="671"/>
                </a:lnTo>
                <a:lnTo>
                  <a:pt x="499" y="681"/>
                </a:lnTo>
                <a:lnTo>
                  <a:pt x="475" y="675"/>
                </a:lnTo>
                <a:lnTo>
                  <a:pt x="499" y="694"/>
                </a:lnTo>
                <a:lnTo>
                  <a:pt x="531" y="712"/>
                </a:lnTo>
                <a:lnTo>
                  <a:pt x="540" y="709"/>
                </a:lnTo>
                <a:lnTo>
                  <a:pt x="559" y="718"/>
                </a:lnTo>
                <a:lnTo>
                  <a:pt x="591" y="733"/>
                </a:lnTo>
                <a:lnTo>
                  <a:pt x="596" y="750"/>
                </a:lnTo>
                <a:lnTo>
                  <a:pt x="589" y="770"/>
                </a:lnTo>
                <a:lnTo>
                  <a:pt x="608" y="782"/>
                </a:lnTo>
                <a:lnTo>
                  <a:pt x="638" y="787"/>
                </a:lnTo>
                <a:lnTo>
                  <a:pt x="653" y="804"/>
                </a:lnTo>
                <a:lnTo>
                  <a:pt x="673" y="810"/>
                </a:lnTo>
                <a:lnTo>
                  <a:pt x="677" y="828"/>
                </a:lnTo>
                <a:lnTo>
                  <a:pt x="688" y="828"/>
                </a:lnTo>
                <a:lnTo>
                  <a:pt x="701" y="823"/>
                </a:lnTo>
                <a:lnTo>
                  <a:pt x="701" y="808"/>
                </a:lnTo>
                <a:lnTo>
                  <a:pt x="688" y="795"/>
                </a:lnTo>
                <a:lnTo>
                  <a:pt x="664" y="776"/>
                </a:lnTo>
                <a:lnTo>
                  <a:pt x="669" y="787"/>
                </a:lnTo>
                <a:lnTo>
                  <a:pt x="653" y="785"/>
                </a:lnTo>
                <a:lnTo>
                  <a:pt x="653" y="770"/>
                </a:lnTo>
                <a:lnTo>
                  <a:pt x="639" y="752"/>
                </a:lnTo>
                <a:lnTo>
                  <a:pt x="625" y="739"/>
                </a:lnTo>
                <a:lnTo>
                  <a:pt x="621" y="714"/>
                </a:lnTo>
                <a:lnTo>
                  <a:pt x="600" y="703"/>
                </a:lnTo>
                <a:lnTo>
                  <a:pt x="583" y="684"/>
                </a:lnTo>
                <a:lnTo>
                  <a:pt x="563" y="675"/>
                </a:lnTo>
                <a:lnTo>
                  <a:pt x="563" y="656"/>
                </a:lnTo>
                <a:lnTo>
                  <a:pt x="557" y="656"/>
                </a:lnTo>
                <a:lnTo>
                  <a:pt x="548" y="647"/>
                </a:lnTo>
                <a:lnTo>
                  <a:pt x="537" y="641"/>
                </a:lnTo>
                <a:lnTo>
                  <a:pt x="531" y="634"/>
                </a:lnTo>
                <a:lnTo>
                  <a:pt x="509" y="634"/>
                </a:lnTo>
                <a:lnTo>
                  <a:pt x="499" y="617"/>
                </a:lnTo>
                <a:lnTo>
                  <a:pt x="492" y="604"/>
                </a:lnTo>
                <a:lnTo>
                  <a:pt x="492" y="583"/>
                </a:lnTo>
                <a:lnTo>
                  <a:pt x="482" y="578"/>
                </a:lnTo>
                <a:lnTo>
                  <a:pt x="488" y="559"/>
                </a:lnTo>
                <a:lnTo>
                  <a:pt x="514" y="565"/>
                </a:lnTo>
                <a:lnTo>
                  <a:pt x="520" y="559"/>
                </a:lnTo>
                <a:lnTo>
                  <a:pt x="537" y="568"/>
                </a:lnTo>
                <a:lnTo>
                  <a:pt x="557" y="574"/>
                </a:lnTo>
                <a:lnTo>
                  <a:pt x="552" y="589"/>
                </a:lnTo>
                <a:lnTo>
                  <a:pt x="568" y="602"/>
                </a:lnTo>
                <a:lnTo>
                  <a:pt x="576" y="621"/>
                </a:lnTo>
                <a:lnTo>
                  <a:pt x="591" y="641"/>
                </a:lnTo>
                <a:lnTo>
                  <a:pt x="611" y="656"/>
                </a:lnTo>
                <a:lnTo>
                  <a:pt x="632" y="671"/>
                </a:lnTo>
                <a:lnTo>
                  <a:pt x="656" y="675"/>
                </a:lnTo>
                <a:lnTo>
                  <a:pt x="653" y="692"/>
                </a:lnTo>
                <a:lnTo>
                  <a:pt x="681" y="699"/>
                </a:lnTo>
                <a:lnTo>
                  <a:pt x="688" y="714"/>
                </a:lnTo>
                <a:lnTo>
                  <a:pt x="709" y="714"/>
                </a:lnTo>
                <a:lnTo>
                  <a:pt x="701" y="733"/>
                </a:lnTo>
                <a:lnTo>
                  <a:pt x="705" y="746"/>
                </a:lnTo>
                <a:lnTo>
                  <a:pt x="733" y="752"/>
                </a:lnTo>
                <a:lnTo>
                  <a:pt x="750" y="763"/>
                </a:lnTo>
                <a:lnTo>
                  <a:pt x="761" y="776"/>
                </a:lnTo>
                <a:lnTo>
                  <a:pt x="782" y="785"/>
                </a:lnTo>
                <a:lnTo>
                  <a:pt x="806" y="800"/>
                </a:lnTo>
                <a:lnTo>
                  <a:pt x="821" y="815"/>
                </a:lnTo>
                <a:lnTo>
                  <a:pt x="841" y="834"/>
                </a:lnTo>
                <a:lnTo>
                  <a:pt x="853" y="840"/>
                </a:lnTo>
                <a:lnTo>
                  <a:pt x="858" y="853"/>
                </a:lnTo>
                <a:lnTo>
                  <a:pt x="862" y="868"/>
                </a:lnTo>
                <a:lnTo>
                  <a:pt x="866" y="869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461360" y="1198440"/>
            <a:ext cx="1440" cy="180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815320" y="2617920"/>
            <a:ext cx="20880" cy="47520"/>
          </a:xfrm>
          <a:custGeom>
            <a:avLst/>
            <a:gdLst/>
            <a:ahLst/>
            <a:rect l="l" t="t" r="r" b="b"/>
            <a:pathLst>
              <a:path w="13" h="30">
                <a:moveTo>
                  <a:pt x="13" y="0"/>
                </a:moveTo>
                <a:lnTo>
                  <a:pt x="13" y="7"/>
                </a:lnTo>
                <a:lnTo>
                  <a:pt x="0" y="9"/>
                </a:lnTo>
                <a:lnTo>
                  <a:pt x="5" y="22"/>
                </a:lnTo>
                <a:lnTo>
                  <a:pt x="13" y="30"/>
                </a:lnTo>
              </a:path>
            </a:pathLst>
          </a:custGeom>
          <a:noFill/>
          <a:ln w="324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836200" y="2617920"/>
            <a:ext cx="1440" cy="144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7461000" y="1198440"/>
            <a:ext cx="1374840" cy="180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836200" y="1198440"/>
            <a:ext cx="1440" cy="180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461360" y="1198440"/>
            <a:ext cx="1440" cy="180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9200" y="7454880"/>
            <a:ext cx="1800" cy="144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38080" y="2003400"/>
            <a:ext cx="972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0" y="0"/>
                </a:moveTo>
                <a:lnTo>
                  <a:pt x="6" y="13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c8f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8080" y="2003400"/>
            <a:ext cx="9720" cy="20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8080" y="20034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8080" y="2003400"/>
            <a:ext cx="9720" cy="2052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8080" y="2003400"/>
            <a:ext cx="1800" cy="144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98560" y="1604880"/>
            <a:ext cx="735120" cy="517680"/>
          </a:xfrm>
          <a:custGeom>
            <a:avLst/>
            <a:gdLst/>
            <a:ahLst/>
            <a:rect l="l" t="t" r="r" b="b"/>
            <a:pathLst>
              <a:path w="463" h="326">
                <a:moveTo>
                  <a:pt x="0" y="309"/>
                </a:moveTo>
                <a:lnTo>
                  <a:pt x="7" y="303"/>
                </a:lnTo>
                <a:lnTo>
                  <a:pt x="11" y="307"/>
                </a:lnTo>
                <a:lnTo>
                  <a:pt x="7" y="309"/>
                </a:lnTo>
                <a:lnTo>
                  <a:pt x="11" y="316"/>
                </a:lnTo>
                <a:lnTo>
                  <a:pt x="7" y="326"/>
                </a:lnTo>
                <a:lnTo>
                  <a:pt x="24" y="316"/>
                </a:lnTo>
                <a:lnTo>
                  <a:pt x="20" y="312"/>
                </a:lnTo>
                <a:lnTo>
                  <a:pt x="24" y="309"/>
                </a:lnTo>
                <a:lnTo>
                  <a:pt x="31" y="312"/>
                </a:lnTo>
                <a:lnTo>
                  <a:pt x="41" y="299"/>
                </a:lnTo>
                <a:lnTo>
                  <a:pt x="43" y="283"/>
                </a:lnTo>
                <a:lnTo>
                  <a:pt x="59" y="269"/>
                </a:lnTo>
                <a:lnTo>
                  <a:pt x="56" y="258"/>
                </a:lnTo>
                <a:lnTo>
                  <a:pt x="41" y="255"/>
                </a:lnTo>
                <a:lnTo>
                  <a:pt x="41" y="251"/>
                </a:lnTo>
                <a:lnTo>
                  <a:pt x="48" y="249"/>
                </a:lnTo>
                <a:lnTo>
                  <a:pt x="43" y="245"/>
                </a:lnTo>
                <a:lnTo>
                  <a:pt x="41" y="249"/>
                </a:lnTo>
                <a:lnTo>
                  <a:pt x="24" y="241"/>
                </a:lnTo>
                <a:lnTo>
                  <a:pt x="20" y="232"/>
                </a:lnTo>
                <a:lnTo>
                  <a:pt x="31" y="236"/>
                </a:lnTo>
                <a:lnTo>
                  <a:pt x="37" y="232"/>
                </a:lnTo>
                <a:lnTo>
                  <a:pt x="56" y="232"/>
                </a:lnTo>
                <a:lnTo>
                  <a:pt x="63" y="236"/>
                </a:lnTo>
                <a:lnTo>
                  <a:pt x="69" y="232"/>
                </a:lnTo>
                <a:lnTo>
                  <a:pt x="69" y="223"/>
                </a:lnTo>
                <a:lnTo>
                  <a:pt x="80" y="221"/>
                </a:lnTo>
                <a:lnTo>
                  <a:pt x="80" y="223"/>
                </a:lnTo>
                <a:lnTo>
                  <a:pt x="104" y="221"/>
                </a:lnTo>
                <a:lnTo>
                  <a:pt x="125" y="217"/>
                </a:lnTo>
                <a:lnTo>
                  <a:pt x="140" y="217"/>
                </a:lnTo>
                <a:lnTo>
                  <a:pt x="160" y="212"/>
                </a:lnTo>
                <a:lnTo>
                  <a:pt x="185" y="215"/>
                </a:lnTo>
                <a:lnTo>
                  <a:pt x="192" y="212"/>
                </a:lnTo>
                <a:lnTo>
                  <a:pt x="201" y="217"/>
                </a:lnTo>
                <a:lnTo>
                  <a:pt x="185" y="223"/>
                </a:lnTo>
                <a:lnTo>
                  <a:pt x="185" y="236"/>
                </a:lnTo>
                <a:lnTo>
                  <a:pt x="198" y="241"/>
                </a:lnTo>
                <a:lnTo>
                  <a:pt x="213" y="249"/>
                </a:lnTo>
                <a:lnTo>
                  <a:pt x="230" y="236"/>
                </a:lnTo>
                <a:lnTo>
                  <a:pt x="233" y="226"/>
                </a:lnTo>
                <a:lnTo>
                  <a:pt x="258" y="223"/>
                </a:lnTo>
                <a:lnTo>
                  <a:pt x="258" y="221"/>
                </a:lnTo>
                <a:lnTo>
                  <a:pt x="241" y="215"/>
                </a:lnTo>
                <a:lnTo>
                  <a:pt x="250" y="202"/>
                </a:lnTo>
                <a:lnTo>
                  <a:pt x="258" y="200"/>
                </a:lnTo>
                <a:lnTo>
                  <a:pt x="258" y="210"/>
                </a:lnTo>
                <a:lnTo>
                  <a:pt x="261" y="206"/>
                </a:lnTo>
                <a:lnTo>
                  <a:pt x="261" y="210"/>
                </a:lnTo>
                <a:lnTo>
                  <a:pt x="273" y="210"/>
                </a:lnTo>
                <a:lnTo>
                  <a:pt x="261" y="202"/>
                </a:lnTo>
                <a:lnTo>
                  <a:pt x="282" y="212"/>
                </a:lnTo>
                <a:lnTo>
                  <a:pt x="301" y="212"/>
                </a:lnTo>
                <a:lnTo>
                  <a:pt x="310" y="215"/>
                </a:lnTo>
                <a:lnTo>
                  <a:pt x="321" y="202"/>
                </a:lnTo>
                <a:lnTo>
                  <a:pt x="331" y="200"/>
                </a:lnTo>
                <a:lnTo>
                  <a:pt x="338" y="202"/>
                </a:lnTo>
                <a:lnTo>
                  <a:pt x="334" y="206"/>
                </a:lnTo>
                <a:lnTo>
                  <a:pt x="334" y="215"/>
                </a:lnTo>
                <a:lnTo>
                  <a:pt x="342" y="215"/>
                </a:lnTo>
                <a:lnTo>
                  <a:pt x="349" y="206"/>
                </a:lnTo>
                <a:lnTo>
                  <a:pt x="347" y="200"/>
                </a:lnTo>
                <a:lnTo>
                  <a:pt x="355" y="193"/>
                </a:lnTo>
                <a:lnTo>
                  <a:pt x="366" y="193"/>
                </a:lnTo>
                <a:lnTo>
                  <a:pt x="370" y="200"/>
                </a:lnTo>
                <a:lnTo>
                  <a:pt x="375" y="197"/>
                </a:lnTo>
                <a:lnTo>
                  <a:pt x="366" y="187"/>
                </a:lnTo>
                <a:lnTo>
                  <a:pt x="379" y="180"/>
                </a:lnTo>
                <a:lnTo>
                  <a:pt x="387" y="187"/>
                </a:lnTo>
                <a:lnTo>
                  <a:pt x="379" y="191"/>
                </a:lnTo>
                <a:lnTo>
                  <a:pt x="379" y="206"/>
                </a:lnTo>
                <a:lnTo>
                  <a:pt x="383" y="206"/>
                </a:lnTo>
                <a:lnTo>
                  <a:pt x="398" y="200"/>
                </a:lnTo>
                <a:lnTo>
                  <a:pt x="398" y="187"/>
                </a:lnTo>
                <a:lnTo>
                  <a:pt x="411" y="180"/>
                </a:lnTo>
                <a:lnTo>
                  <a:pt x="418" y="180"/>
                </a:lnTo>
                <a:lnTo>
                  <a:pt x="402" y="165"/>
                </a:lnTo>
                <a:lnTo>
                  <a:pt x="407" y="154"/>
                </a:lnTo>
                <a:lnTo>
                  <a:pt x="415" y="144"/>
                </a:lnTo>
                <a:lnTo>
                  <a:pt x="422" y="142"/>
                </a:lnTo>
                <a:lnTo>
                  <a:pt x="428" y="129"/>
                </a:lnTo>
                <a:lnTo>
                  <a:pt x="422" y="120"/>
                </a:lnTo>
                <a:lnTo>
                  <a:pt x="418" y="107"/>
                </a:lnTo>
                <a:lnTo>
                  <a:pt x="422" y="101"/>
                </a:lnTo>
                <a:lnTo>
                  <a:pt x="439" y="99"/>
                </a:lnTo>
                <a:lnTo>
                  <a:pt x="446" y="101"/>
                </a:lnTo>
                <a:lnTo>
                  <a:pt x="443" y="94"/>
                </a:lnTo>
                <a:lnTo>
                  <a:pt x="456" y="81"/>
                </a:lnTo>
                <a:lnTo>
                  <a:pt x="463" y="64"/>
                </a:lnTo>
                <a:lnTo>
                  <a:pt x="463" y="49"/>
                </a:lnTo>
                <a:lnTo>
                  <a:pt x="446" y="34"/>
                </a:lnTo>
                <a:lnTo>
                  <a:pt x="443" y="34"/>
                </a:lnTo>
                <a:lnTo>
                  <a:pt x="439" y="26"/>
                </a:lnTo>
                <a:lnTo>
                  <a:pt x="439" y="19"/>
                </a:lnTo>
                <a:lnTo>
                  <a:pt x="443" y="6"/>
                </a:lnTo>
                <a:lnTo>
                  <a:pt x="435" y="6"/>
                </a:lnTo>
                <a:lnTo>
                  <a:pt x="418" y="0"/>
                </a:lnTo>
                <a:lnTo>
                  <a:pt x="415" y="13"/>
                </a:lnTo>
                <a:lnTo>
                  <a:pt x="435" y="10"/>
                </a:lnTo>
                <a:lnTo>
                  <a:pt x="435" y="19"/>
                </a:lnTo>
                <a:lnTo>
                  <a:pt x="430" y="26"/>
                </a:lnTo>
                <a:lnTo>
                  <a:pt x="418" y="19"/>
                </a:lnTo>
                <a:lnTo>
                  <a:pt x="418" y="26"/>
                </a:lnTo>
                <a:lnTo>
                  <a:pt x="411" y="26"/>
                </a:lnTo>
                <a:lnTo>
                  <a:pt x="411" y="19"/>
                </a:lnTo>
                <a:lnTo>
                  <a:pt x="411" y="10"/>
                </a:lnTo>
                <a:lnTo>
                  <a:pt x="402" y="13"/>
                </a:lnTo>
                <a:lnTo>
                  <a:pt x="394" y="10"/>
                </a:lnTo>
                <a:lnTo>
                  <a:pt x="394" y="26"/>
                </a:lnTo>
                <a:lnTo>
                  <a:pt x="383" y="28"/>
                </a:lnTo>
                <a:lnTo>
                  <a:pt x="383" y="43"/>
                </a:lnTo>
                <a:lnTo>
                  <a:pt x="379" y="47"/>
                </a:lnTo>
                <a:lnTo>
                  <a:pt x="375" y="49"/>
                </a:lnTo>
                <a:lnTo>
                  <a:pt x="383" y="56"/>
                </a:lnTo>
                <a:lnTo>
                  <a:pt x="387" y="62"/>
                </a:lnTo>
                <a:lnTo>
                  <a:pt x="379" y="71"/>
                </a:lnTo>
                <a:lnTo>
                  <a:pt x="379" y="84"/>
                </a:lnTo>
                <a:lnTo>
                  <a:pt x="366" y="90"/>
                </a:lnTo>
                <a:lnTo>
                  <a:pt x="362" y="96"/>
                </a:lnTo>
                <a:lnTo>
                  <a:pt x="362" y="105"/>
                </a:lnTo>
                <a:lnTo>
                  <a:pt x="338" y="114"/>
                </a:lnTo>
                <a:lnTo>
                  <a:pt x="327" y="126"/>
                </a:lnTo>
                <a:lnTo>
                  <a:pt x="310" y="135"/>
                </a:lnTo>
                <a:lnTo>
                  <a:pt x="310" y="139"/>
                </a:lnTo>
                <a:lnTo>
                  <a:pt x="289" y="142"/>
                </a:lnTo>
                <a:lnTo>
                  <a:pt x="278" y="144"/>
                </a:lnTo>
                <a:lnTo>
                  <a:pt x="278" y="148"/>
                </a:lnTo>
                <a:lnTo>
                  <a:pt x="269" y="152"/>
                </a:lnTo>
                <a:lnTo>
                  <a:pt x="261" y="144"/>
                </a:lnTo>
                <a:lnTo>
                  <a:pt x="261" y="142"/>
                </a:lnTo>
                <a:lnTo>
                  <a:pt x="258" y="139"/>
                </a:lnTo>
                <a:lnTo>
                  <a:pt x="258" y="135"/>
                </a:lnTo>
                <a:lnTo>
                  <a:pt x="273" y="131"/>
                </a:lnTo>
                <a:lnTo>
                  <a:pt x="278" y="126"/>
                </a:lnTo>
                <a:lnTo>
                  <a:pt x="261" y="129"/>
                </a:lnTo>
                <a:lnTo>
                  <a:pt x="254" y="129"/>
                </a:lnTo>
                <a:lnTo>
                  <a:pt x="254" y="142"/>
                </a:lnTo>
                <a:lnTo>
                  <a:pt x="250" y="152"/>
                </a:lnTo>
                <a:lnTo>
                  <a:pt x="226" y="165"/>
                </a:lnTo>
                <a:lnTo>
                  <a:pt x="220" y="172"/>
                </a:lnTo>
                <a:lnTo>
                  <a:pt x="226" y="180"/>
                </a:lnTo>
                <a:lnTo>
                  <a:pt x="201" y="187"/>
                </a:lnTo>
                <a:lnTo>
                  <a:pt x="192" y="180"/>
                </a:lnTo>
                <a:lnTo>
                  <a:pt x="177" y="183"/>
                </a:lnTo>
                <a:lnTo>
                  <a:pt x="160" y="183"/>
                </a:lnTo>
                <a:lnTo>
                  <a:pt x="140" y="187"/>
                </a:lnTo>
                <a:lnTo>
                  <a:pt x="121" y="187"/>
                </a:lnTo>
                <a:lnTo>
                  <a:pt x="117" y="191"/>
                </a:lnTo>
                <a:lnTo>
                  <a:pt x="108" y="183"/>
                </a:lnTo>
                <a:lnTo>
                  <a:pt x="89" y="191"/>
                </a:lnTo>
                <a:lnTo>
                  <a:pt x="89" y="193"/>
                </a:lnTo>
                <a:lnTo>
                  <a:pt x="63" y="206"/>
                </a:lnTo>
                <a:lnTo>
                  <a:pt x="41" y="215"/>
                </a:lnTo>
                <a:lnTo>
                  <a:pt x="37" y="221"/>
                </a:lnTo>
                <a:lnTo>
                  <a:pt x="16" y="221"/>
                </a:lnTo>
                <a:lnTo>
                  <a:pt x="16" y="236"/>
                </a:lnTo>
                <a:lnTo>
                  <a:pt x="0" y="238"/>
                </a:lnTo>
                <a:lnTo>
                  <a:pt x="0" y="309"/>
                </a:lnTo>
                <a:close/>
                <a:moveTo>
                  <a:pt x="0" y="309"/>
                </a:moveTo>
                <a:lnTo>
                  <a:pt x="0" y="30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1604880"/>
            <a:ext cx="735120" cy="517680"/>
          </a:xfrm>
          <a:custGeom>
            <a:avLst/>
            <a:gdLst/>
            <a:ahLst/>
            <a:rect l="l" t="t" r="r" b="b"/>
            <a:pathLst>
              <a:path w="463" h="326">
                <a:moveTo>
                  <a:pt x="0" y="309"/>
                </a:moveTo>
                <a:lnTo>
                  <a:pt x="7" y="303"/>
                </a:lnTo>
                <a:lnTo>
                  <a:pt x="11" y="307"/>
                </a:lnTo>
                <a:lnTo>
                  <a:pt x="7" y="309"/>
                </a:lnTo>
                <a:lnTo>
                  <a:pt x="11" y="316"/>
                </a:lnTo>
                <a:lnTo>
                  <a:pt x="7" y="326"/>
                </a:lnTo>
                <a:lnTo>
                  <a:pt x="24" y="316"/>
                </a:lnTo>
                <a:lnTo>
                  <a:pt x="20" y="312"/>
                </a:lnTo>
                <a:lnTo>
                  <a:pt x="24" y="309"/>
                </a:lnTo>
                <a:lnTo>
                  <a:pt x="31" y="312"/>
                </a:lnTo>
                <a:lnTo>
                  <a:pt x="41" y="299"/>
                </a:lnTo>
                <a:lnTo>
                  <a:pt x="43" y="283"/>
                </a:lnTo>
                <a:lnTo>
                  <a:pt x="59" y="269"/>
                </a:lnTo>
                <a:lnTo>
                  <a:pt x="56" y="258"/>
                </a:lnTo>
                <a:lnTo>
                  <a:pt x="41" y="255"/>
                </a:lnTo>
                <a:lnTo>
                  <a:pt x="41" y="251"/>
                </a:lnTo>
                <a:lnTo>
                  <a:pt x="48" y="249"/>
                </a:lnTo>
                <a:lnTo>
                  <a:pt x="43" y="245"/>
                </a:lnTo>
                <a:lnTo>
                  <a:pt x="41" y="249"/>
                </a:lnTo>
                <a:lnTo>
                  <a:pt x="24" y="241"/>
                </a:lnTo>
                <a:lnTo>
                  <a:pt x="20" y="232"/>
                </a:lnTo>
                <a:lnTo>
                  <a:pt x="31" y="236"/>
                </a:lnTo>
                <a:lnTo>
                  <a:pt x="37" y="232"/>
                </a:lnTo>
                <a:lnTo>
                  <a:pt x="56" y="232"/>
                </a:lnTo>
                <a:lnTo>
                  <a:pt x="63" y="236"/>
                </a:lnTo>
                <a:lnTo>
                  <a:pt x="69" y="232"/>
                </a:lnTo>
                <a:lnTo>
                  <a:pt x="69" y="223"/>
                </a:lnTo>
                <a:lnTo>
                  <a:pt x="80" y="221"/>
                </a:lnTo>
                <a:lnTo>
                  <a:pt x="80" y="223"/>
                </a:lnTo>
                <a:lnTo>
                  <a:pt x="104" y="221"/>
                </a:lnTo>
                <a:lnTo>
                  <a:pt x="125" y="217"/>
                </a:lnTo>
                <a:lnTo>
                  <a:pt x="140" y="217"/>
                </a:lnTo>
                <a:lnTo>
                  <a:pt x="160" y="212"/>
                </a:lnTo>
                <a:lnTo>
                  <a:pt x="185" y="215"/>
                </a:lnTo>
                <a:lnTo>
                  <a:pt x="192" y="212"/>
                </a:lnTo>
                <a:lnTo>
                  <a:pt x="201" y="217"/>
                </a:lnTo>
                <a:lnTo>
                  <a:pt x="185" y="223"/>
                </a:lnTo>
                <a:lnTo>
                  <a:pt x="185" y="236"/>
                </a:lnTo>
                <a:lnTo>
                  <a:pt x="198" y="241"/>
                </a:lnTo>
                <a:lnTo>
                  <a:pt x="213" y="249"/>
                </a:lnTo>
                <a:lnTo>
                  <a:pt x="230" y="236"/>
                </a:lnTo>
                <a:lnTo>
                  <a:pt x="233" y="226"/>
                </a:lnTo>
                <a:lnTo>
                  <a:pt x="258" y="223"/>
                </a:lnTo>
                <a:lnTo>
                  <a:pt x="258" y="221"/>
                </a:lnTo>
                <a:lnTo>
                  <a:pt x="241" y="215"/>
                </a:lnTo>
                <a:lnTo>
                  <a:pt x="250" y="202"/>
                </a:lnTo>
                <a:lnTo>
                  <a:pt x="258" y="200"/>
                </a:lnTo>
                <a:lnTo>
                  <a:pt x="258" y="210"/>
                </a:lnTo>
                <a:lnTo>
                  <a:pt x="261" y="206"/>
                </a:lnTo>
                <a:lnTo>
                  <a:pt x="261" y="210"/>
                </a:lnTo>
                <a:lnTo>
                  <a:pt x="273" y="210"/>
                </a:lnTo>
                <a:lnTo>
                  <a:pt x="261" y="202"/>
                </a:lnTo>
                <a:lnTo>
                  <a:pt x="282" y="212"/>
                </a:lnTo>
                <a:lnTo>
                  <a:pt x="301" y="212"/>
                </a:lnTo>
                <a:lnTo>
                  <a:pt x="310" y="215"/>
                </a:lnTo>
                <a:lnTo>
                  <a:pt x="321" y="202"/>
                </a:lnTo>
                <a:lnTo>
                  <a:pt x="331" y="200"/>
                </a:lnTo>
                <a:lnTo>
                  <a:pt x="338" y="202"/>
                </a:lnTo>
                <a:lnTo>
                  <a:pt x="334" y="206"/>
                </a:lnTo>
                <a:lnTo>
                  <a:pt x="334" y="215"/>
                </a:lnTo>
                <a:lnTo>
                  <a:pt x="342" y="215"/>
                </a:lnTo>
                <a:lnTo>
                  <a:pt x="349" y="206"/>
                </a:lnTo>
                <a:lnTo>
                  <a:pt x="347" y="200"/>
                </a:lnTo>
                <a:lnTo>
                  <a:pt x="355" y="193"/>
                </a:lnTo>
                <a:lnTo>
                  <a:pt x="366" y="193"/>
                </a:lnTo>
                <a:lnTo>
                  <a:pt x="370" y="200"/>
                </a:lnTo>
                <a:lnTo>
                  <a:pt x="375" y="197"/>
                </a:lnTo>
                <a:lnTo>
                  <a:pt x="366" y="187"/>
                </a:lnTo>
                <a:lnTo>
                  <a:pt x="379" y="180"/>
                </a:lnTo>
                <a:lnTo>
                  <a:pt x="387" y="187"/>
                </a:lnTo>
                <a:lnTo>
                  <a:pt x="379" y="191"/>
                </a:lnTo>
                <a:lnTo>
                  <a:pt x="379" y="206"/>
                </a:lnTo>
                <a:lnTo>
                  <a:pt x="383" y="206"/>
                </a:lnTo>
                <a:lnTo>
                  <a:pt x="398" y="200"/>
                </a:lnTo>
                <a:lnTo>
                  <a:pt x="398" y="187"/>
                </a:lnTo>
                <a:lnTo>
                  <a:pt x="411" y="180"/>
                </a:lnTo>
                <a:lnTo>
                  <a:pt x="418" y="180"/>
                </a:lnTo>
                <a:lnTo>
                  <a:pt x="402" y="165"/>
                </a:lnTo>
                <a:lnTo>
                  <a:pt x="407" y="154"/>
                </a:lnTo>
                <a:lnTo>
                  <a:pt x="415" y="144"/>
                </a:lnTo>
                <a:lnTo>
                  <a:pt x="422" y="142"/>
                </a:lnTo>
                <a:lnTo>
                  <a:pt x="428" y="129"/>
                </a:lnTo>
                <a:lnTo>
                  <a:pt x="422" y="120"/>
                </a:lnTo>
                <a:lnTo>
                  <a:pt x="418" y="107"/>
                </a:lnTo>
                <a:lnTo>
                  <a:pt x="422" y="101"/>
                </a:lnTo>
                <a:lnTo>
                  <a:pt x="439" y="99"/>
                </a:lnTo>
                <a:lnTo>
                  <a:pt x="446" y="101"/>
                </a:lnTo>
                <a:lnTo>
                  <a:pt x="443" y="94"/>
                </a:lnTo>
                <a:lnTo>
                  <a:pt x="456" y="81"/>
                </a:lnTo>
                <a:lnTo>
                  <a:pt x="463" y="64"/>
                </a:lnTo>
                <a:lnTo>
                  <a:pt x="463" y="49"/>
                </a:lnTo>
                <a:lnTo>
                  <a:pt x="446" y="34"/>
                </a:lnTo>
                <a:lnTo>
                  <a:pt x="443" y="34"/>
                </a:lnTo>
                <a:lnTo>
                  <a:pt x="439" y="26"/>
                </a:lnTo>
                <a:lnTo>
                  <a:pt x="439" y="19"/>
                </a:lnTo>
                <a:lnTo>
                  <a:pt x="443" y="6"/>
                </a:lnTo>
                <a:lnTo>
                  <a:pt x="435" y="6"/>
                </a:lnTo>
                <a:lnTo>
                  <a:pt x="418" y="0"/>
                </a:lnTo>
                <a:lnTo>
                  <a:pt x="415" y="13"/>
                </a:lnTo>
                <a:lnTo>
                  <a:pt x="435" y="10"/>
                </a:lnTo>
                <a:lnTo>
                  <a:pt x="435" y="19"/>
                </a:lnTo>
                <a:lnTo>
                  <a:pt x="430" y="26"/>
                </a:lnTo>
                <a:lnTo>
                  <a:pt x="418" y="19"/>
                </a:lnTo>
                <a:lnTo>
                  <a:pt x="418" y="26"/>
                </a:lnTo>
                <a:lnTo>
                  <a:pt x="411" y="26"/>
                </a:lnTo>
                <a:lnTo>
                  <a:pt x="411" y="19"/>
                </a:lnTo>
                <a:lnTo>
                  <a:pt x="411" y="10"/>
                </a:lnTo>
                <a:lnTo>
                  <a:pt x="402" y="13"/>
                </a:lnTo>
                <a:lnTo>
                  <a:pt x="394" y="10"/>
                </a:lnTo>
                <a:lnTo>
                  <a:pt x="394" y="26"/>
                </a:lnTo>
                <a:lnTo>
                  <a:pt x="383" y="28"/>
                </a:lnTo>
                <a:lnTo>
                  <a:pt x="383" y="43"/>
                </a:lnTo>
                <a:lnTo>
                  <a:pt x="379" y="47"/>
                </a:lnTo>
                <a:lnTo>
                  <a:pt x="375" y="49"/>
                </a:lnTo>
                <a:lnTo>
                  <a:pt x="383" y="56"/>
                </a:lnTo>
                <a:lnTo>
                  <a:pt x="387" y="62"/>
                </a:lnTo>
                <a:lnTo>
                  <a:pt x="379" y="71"/>
                </a:lnTo>
                <a:lnTo>
                  <a:pt x="379" y="84"/>
                </a:lnTo>
                <a:lnTo>
                  <a:pt x="366" y="90"/>
                </a:lnTo>
                <a:lnTo>
                  <a:pt x="362" y="96"/>
                </a:lnTo>
                <a:lnTo>
                  <a:pt x="362" y="105"/>
                </a:lnTo>
                <a:lnTo>
                  <a:pt x="338" y="114"/>
                </a:lnTo>
                <a:lnTo>
                  <a:pt x="327" y="126"/>
                </a:lnTo>
                <a:lnTo>
                  <a:pt x="310" y="135"/>
                </a:lnTo>
                <a:lnTo>
                  <a:pt x="310" y="139"/>
                </a:lnTo>
                <a:lnTo>
                  <a:pt x="289" y="142"/>
                </a:lnTo>
                <a:lnTo>
                  <a:pt x="278" y="144"/>
                </a:lnTo>
                <a:lnTo>
                  <a:pt x="278" y="148"/>
                </a:lnTo>
                <a:lnTo>
                  <a:pt x="269" y="152"/>
                </a:lnTo>
                <a:lnTo>
                  <a:pt x="261" y="144"/>
                </a:lnTo>
                <a:lnTo>
                  <a:pt x="261" y="142"/>
                </a:lnTo>
                <a:lnTo>
                  <a:pt x="258" y="139"/>
                </a:lnTo>
                <a:lnTo>
                  <a:pt x="258" y="135"/>
                </a:lnTo>
                <a:lnTo>
                  <a:pt x="273" y="131"/>
                </a:lnTo>
                <a:lnTo>
                  <a:pt x="278" y="126"/>
                </a:lnTo>
                <a:lnTo>
                  <a:pt x="261" y="129"/>
                </a:lnTo>
                <a:lnTo>
                  <a:pt x="254" y="129"/>
                </a:lnTo>
                <a:lnTo>
                  <a:pt x="254" y="142"/>
                </a:lnTo>
                <a:lnTo>
                  <a:pt x="250" y="152"/>
                </a:lnTo>
                <a:lnTo>
                  <a:pt x="226" y="165"/>
                </a:lnTo>
                <a:lnTo>
                  <a:pt x="220" y="172"/>
                </a:lnTo>
                <a:lnTo>
                  <a:pt x="226" y="180"/>
                </a:lnTo>
                <a:lnTo>
                  <a:pt x="201" y="187"/>
                </a:lnTo>
                <a:lnTo>
                  <a:pt x="192" y="180"/>
                </a:lnTo>
                <a:lnTo>
                  <a:pt x="177" y="183"/>
                </a:lnTo>
                <a:lnTo>
                  <a:pt x="160" y="183"/>
                </a:lnTo>
                <a:lnTo>
                  <a:pt x="140" y="187"/>
                </a:lnTo>
                <a:lnTo>
                  <a:pt x="121" y="187"/>
                </a:lnTo>
                <a:lnTo>
                  <a:pt x="117" y="191"/>
                </a:lnTo>
                <a:lnTo>
                  <a:pt x="108" y="183"/>
                </a:lnTo>
                <a:lnTo>
                  <a:pt x="89" y="191"/>
                </a:lnTo>
                <a:lnTo>
                  <a:pt x="89" y="193"/>
                </a:lnTo>
                <a:lnTo>
                  <a:pt x="63" y="206"/>
                </a:lnTo>
                <a:lnTo>
                  <a:pt x="41" y="215"/>
                </a:lnTo>
                <a:lnTo>
                  <a:pt x="37" y="221"/>
                </a:lnTo>
                <a:lnTo>
                  <a:pt x="16" y="221"/>
                </a:lnTo>
                <a:lnTo>
                  <a:pt x="16" y="236"/>
                </a:lnTo>
                <a:lnTo>
                  <a:pt x="0" y="238"/>
                </a:lnTo>
              </a:path>
            </a:pathLst>
          </a:custGeom>
          <a:solidFill>
            <a:srgbClr val="000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98560" y="20955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98560" y="1604880"/>
            <a:ext cx="735120" cy="517680"/>
          </a:xfrm>
          <a:custGeom>
            <a:avLst/>
            <a:gdLst/>
            <a:ahLst/>
            <a:rect l="l" t="t" r="r" b="b"/>
            <a:pathLst>
              <a:path w="463" h="326">
                <a:moveTo>
                  <a:pt x="0" y="309"/>
                </a:moveTo>
                <a:lnTo>
                  <a:pt x="7" y="303"/>
                </a:lnTo>
                <a:lnTo>
                  <a:pt x="11" y="307"/>
                </a:lnTo>
                <a:lnTo>
                  <a:pt x="7" y="309"/>
                </a:lnTo>
                <a:lnTo>
                  <a:pt x="11" y="316"/>
                </a:lnTo>
                <a:lnTo>
                  <a:pt x="7" y="326"/>
                </a:lnTo>
                <a:lnTo>
                  <a:pt x="24" y="316"/>
                </a:lnTo>
                <a:lnTo>
                  <a:pt x="20" y="312"/>
                </a:lnTo>
                <a:lnTo>
                  <a:pt x="24" y="309"/>
                </a:lnTo>
                <a:lnTo>
                  <a:pt x="31" y="312"/>
                </a:lnTo>
                <a:lnTo>
                  <a:pt x="41" y="299"/>
                </a:lnTo>
                <a:lnTo>
                  <a:pt x="43" y="283"/>
                </a:lnTo>
                <a:lnTo>
                  <a:pt x="59" y="269"/>
                </a:lnTo>
                <a:lnTo>
                  <a:pt x="56" y="258"/>
                </a:lnTo>
                <a:lnTo>
                  <a:pt x="41" y="255"/>
                </a:lnTo>
                <a:lnTo>
                  <a:pt x="41" y="251"/>
                </a:lnTo>
                <a:lnTo>
                  <a:pt x="48" y="249"/>
                </a:lnTo>
                <a:lnTo>
                  <a:pt x="43" y="245"/>
                </a:lnTo>
                <a:lnTo>
                  <a:pt x="41" y="249"/>
                </a:lnTo>
                <a:lnTo>
                  <a:pt x="24" y="241"/>
                </a:lnTo>
                <a:lnTo>
                  <a:pt x="20" y="232"/>
                </a:lnTo>
                <a:lnTo>
                  <a:pt x="31" y="236"/>
                </a:lnTo>
                <a:lnTo>
                  <a:pt x="37" y="232"/>
                </a:lnTo>
                <a:lnTo>
                  <a:pt x="56" y="232"/>
                </a:lnTo>
                <a:lnTo>
                  <a:pt x="63" y="236"/>
                </a:lnTo>
                <a:lnTo>
                  <a:pt x="69" y="232"/>
                </a:lnTo>
                <a:lnTo>
                  <a:pt x="69" y="223"/>
                </a:lnTo>
                <a:lnTo>
                  <a:pt x="80" y="221"/>
                </a:lnTo>
                <a:lnTo>
                  <a:pt x="80" y="223"/>
                </a:lnTo>
                <a:lnTo>
                  <a:pt x="104" y="221"/>
                </a:lnTo>
                <a:lnTo>
                  <a:pt x="125" y="217"/>
                </a:lnTo>
                <a:lnTo>
                  <a:pt x="140" y="217"/>
                </a:lnTo>
                <a:lnTo>
                  <a:pt x="160" y="212"/>
                </a:lnTo>
                <a:lnTo>
                  <a:pt x="185" y="215"/>
                </a:lnTo>
                <a:lnTo>
                  <a:pt x="192" y="212"/>
                </a:lnTo>
                <a:lnTo>
                  <a:pt x="201" y="217"/>
                </a:lnTo>
                <a:lnTo>
                  <a:pt x="185" y="223"/>
                </a:lnTo>
                <a:lnTo>
                  <a:pt x="185" y="236"/>
                </a:lnTo>
                <a:lnTo>
                  <a:pt x="198" y="241"/>
                </a:lnTo>
                <a:lnTo>
                  <a:pt x="213" y="249"/>
                </a:lnTo>
                <a:lnTo>
                  <a:pt x="230" y="236"/>
                </a:lnTo>
                <a:lnTo>
                  <a:pt x="233" y="226"/>
                </a:lnTo>
                <a:lnTo>
                  <a:pt x="258" y="223"/>
                </a:lnTo>
                <a:lnTo>
                  <a:pt x="258" y="221"/>
                </a:lnTo>
                <a:lnTo>
                  <a:pt x="241" y="215"/>
                </a:lnTo>
                <a:lnTo>
                  <a:pt x="250" y="202"/>
                </a:lnTo>
                <a:lnTo>
                  <a:pt x="258" y="200"/>
                </a:lnTo>
                <a:lnTo>
                  <a:pt x="258" y="210"/>
                </a:lnTo>
                <a:lnTo>
                  <a:pt x="261" y="206"/>
                </a:lnTo>
                <a:lnTo>
                  <a:pt x="261" y="210"/>
                </a:lnTo>
                <a:lnTo>
                  <a:pt x="273" y="210"/>
                </a:lnTo>
                <a:lnTo>
                  <a:pt x="261" y="202"/>
                </a:lnTo>
                <a:lnTo>
                  <a:pt x="282" y="212"/>
                </a:lnTo>
                <a:lnTo>
                  <a:pt x="301" y="212"/>
                </a:lnTo>
                <a:lnTo>
                  <a:pt x="310" y="215"/>
                </a:lnTo>
                <a:lnTo>
                  <a:pt x="321" y="202"/>
                </a:lnTo>
                <a:lnTo>
                  <a:pt x="331" y="200"/>
                </a:lnTo>
                <a:lnTo>
                  <a:pt x="338" y="202"/>
                </a:lnTo>
                <a:lnTo>
                  <a:pt x="334" y="206"/>
                </a:lnTo>
                <a:lnTo>
                  <a:pt x="334" y="215"/>
                </a:lnTo>
                <a:lnTo>
                  <a:pt x="342" y="215"/>
                </a:lnTo>
                <a:lnTo>
                  <a:pt x="349" y="206"/>
                </a:lnTo>
                <a:lnTo>
                  <a:pt x="347" y="200"/>
                </a:lnTo>
                <a:lnTo>
                  <a:pt x="355" y="193"/>
                </a:lnTo>
                <a:lnTo>
                  <a:pt x="366" y="193"/>
                </a:lnTo>
                <a:lnTo>
                  <a:pt x="370" y="200"/>
                </a:lnTo>
                <a:lnTo>
                  <a:pt x="375" y="197"/>
                </a:lnTo>
                <a:lnTo>
                  <a:pt x="366" y="187"/>
                </a:lnTo>
                <a:lnTo>
                  <a:pt x="379" y="180"/>
                </a:lnTo>
                <a:lnTo>
                  <a:pt x="387" y="187"/>
                </a:lnTo>
                <a:lnTo>
                  <a:pt x="379" y="191"/>
                </a:lnTo>
                <a:lnTo>
                  <a:pt x="379" y="206"/>
                </a:lnTo>
                <a:lnTo>
                  <a:pt x="383" y="206"/>
                </a:lnTo>
                <a:lnTo>
                  <a:pt x="398" y="200"/>
                </a:lnTo>
                <a:lnTo>
                  <a:pt x="398" y="187"/>
                </a:lnTo>
                <a:lnTo>
                  <a:pt x="411" y="180"/>
                </a:lnTo>
                <a:lnTo>
                  <a:pt x="418" y="180"/>
                </a:lnTo>
                <a:lnTo>
                  <a:pt x="402" y="165"/>
                </a:lnTo>
                <a:lnTo>
                  <a:pt x="407" y="154"/>
                </a:lnTo>
                <a:lnTo>
                  <a:pt x="415" y="144"/>
                </a:lnTo>
                <a:lnTo>
                  <a:pt x="422" y="142"/>
                </a:lnTo>
                <a:lnTo>
                  <a:pt x="428" y="129"/>
                </a:lnTo>
                <a:lnTo>
                  <a:pt x="422" y="120"/>
                </a:lnTo>
                <a:lnTo>
                  <a:pt x="418" y="107"/>
                </a:lnTo>
                <a:lnTo>
                  <a:pt x="422" y="101"/>
                </a:lnTo>
                <a:lnTo>
                  <a:pt x="439" y="99"/>
                </a:lnTo>
                <a:lnTo>
                  <a:pt x="446" y="101"/>
                </a:lnTo>
                <a:lnTo>
                  <a:pt x="443" y="94"/>
                </a:lnTo>
                <a:lnTo>
                  <a:pt x="456" y="81"/>
                </a:lnTo>
                <a:lnTo>
                  <a:pt x="463" y="64"/>
                </a:lnTo>
                <a:lnTo>
                  <a:pt x="463" y="49"/>
                </a:lnTo>
                <a:lnTo>
                  <a:pt x="446" y="34"/>
                </a:lnTo>
                <a:lnTo>
                  <a:pt x="443" y="34"/>
                </a:lnTo>
                <a:lnTo>
                  <a:pt x="439" y="26"/>
                </a:lnTo>
                <a:lnTo>
                  <a:pt x="439" y="19"/>
                </a:lnTo>
                <a:lnTo>
                  <a:pt x="443" y="6"/>
                </a:lnTo>
                <a:lnTo>
                  <a:pt x="435" y="6"/>
                </a:lnTo>
                <a:lnTo>
                  <a:pt x="418" y="0"/>
                </a:lnTo>
                <a:lnTo>
                  <a:pt x="415" y="13"/>
                </a:lnTo>
                <a:lnTo>
                  <a:pt x="435" y="10"/>
                </a:lnTo>
                <a:lnTo>
                  <a:pt x="435" y="19"/>
                </a:lnTo>
                <a:lnTo>
                  <a:pt x="430" y="26"/>
                </a:lnTo>
                <a:lnTo>
                  <a:pt x="418" y="19"/>
                </a:lnTo>
                <a:lnTo>
                  <a:pt x="418" y="26"/>
                </a:lnTo>
                <a:lnTo>
                  <a:pt x="411" y="26"/>
                </a:lnTo>
                <a:lnTo>
                  <a:pt x="411" y="19"/>
                </a:lnTo>
                <a:lnTo>
                  <a:pt x="411" y="10"/>
                </a:lnTo>
                <a:lnTo>
                  <a:pt x="402" y="13"/>
                </a:lnTo>
                <a:lnTo>
                  <a:pt x="394" y="10"/>
                </a:lnTo>
                <a:lnTo>
                  <a:pt x="394" y="26"/>
                </a:lnTo>
                <a:lnTo>
                  <a:pt x="383" y="28"/>
                </a:lnTo>
                <a:lnTo>
                  <a:pt x="383" y="43"/>
                </a:lnTo>
                <a:lnTo>
                  <a:pt x="379" y="47"/>
                </a:lnTo>
                <a:lnTo>
                  <a:pt x="375" y="49"/>
                </a:lnTo>
                <a:lnTo>
                  <a:pt x="383" y="56"/>
                </a:lnTo>
                <a:lnTo>
                  <a:pt x="387" y="62"/>
                </a:lnTo>
                <a:lnTo>
                  <a:pt x="379" y="71"/>
                </a:lnTo>
                <a:lnTo>
                  <a:pt x="379" y="84"/>
                </a:lnTo>
                <a:lnTo>
                  <a:pt x="366" y="90"/>
                </a:lnTo>
                <a:lnTo>
                  <a:pt x="362" y="96"/>
                </a:lnTo>
                <a:lnTo>
                  <a:pt x="362" y="105"/>
                </a:lnTo>
                <a:lnTo>
                  <a:pt x="338" y="114"/>
                </a:lnTo>
                <a:lnTo>
                  <a:pt x="327" y="126"/>
                </a:lnTo>
                <a:lnTo>
                  <a:pt x="310" y="135"/>
                </a:lnTo>
                <a:lnTo>
                  <a:pt x="310" y="139"/>
                </a:lnTo>
                <a:lnTo>
                  <a:pt x="289" y="142"/>
                </a:lnTo>
                <a:lnTo>
                  <a:pt x="278" y="144"/>
                </a:lnTo>
                <a:lnTo>
                  <a:pt x="278" y="148"/>
                </a:lnTo>
                <a:lnTo>
                  <a:pt x="269" y="152"/>
                </a:lnTo>
                <a:lnTo>
                  <a:pt x="261" y="144"/>
                </a:lnTo>
                <a:lnTo>
                  <a:pt x="261" y="142"/>
                </a:lnTo>
                <a:lnTo>
                  <a:pt x="258" y="139"/>
                </a:lnTo>
                <a:lnTo>
                  <a:pt x="258" y="135"/>
                </a:lnTo>
                <a:lnTo>
                  <a:pt x="273" y="131"/>
                </a:lnTo>
                <a:lnTo>
                  <a:pt x="278" y="126"/>
                </a:lnTo>
                <a:lnTo>
                  <a:pt x="261" y="129"/>
                </a:lnTo>
                <a:lnTo>
                  <a:pt x="254" y="129"/>
                </a:lnTo>
                <a:lnTo>
                  <a:pt x="254" y="142"/>
                </a:lnTo>
                <a:lnTo>
                  <a:pt x="250" y="152"/>
                </a:lnTo>
                <a:lnTo>
                  <a:pt x="226" y="165"/>
                </a:lnTo>
                <a:lnTo>
                  <a:pt x="220" y="172"/>
                </a:lnTo>
                <a:lnTo>
                  <a:pt x="226" y="180"/>
                </a:lnTo>
                <a:lnTo>
                  <a:pt x="201" y="187"/>
                </a:lnTo>
                <a:lnTo>
                  <a:pt x="192" y="180"/>
                </a:lnTo>
                <a:lnTo>
                  <a:pt x="177" y="183"/>
                </a:lnTo>
                <a:lnTo>
                  <a:pt x="160" y="183"/>
                </a:lnTo>
                <a:lnTo>
                  <a:pt x="140" y="187"/>
                </a:lnTo>
                <a:lnTo>
                  <a:pt x="121" y="187"/>
                </a:lnTo>
                <a:lnTo>
                  <a:pt x="117" y="191"/>
                </a:lnTo>
                <a:lnTo>
                  <a:pt x="108" y="183"/>
                </a:lnTo>
                <a:lnTo>
                  <a:pt x="89" y="191"/>
                </a:lnTo>
                <a:lnTo>
                  <a:pt x="89" y="193"/>
                </a:lnTo>
                <a:lnTo>
                  <a:pt x="63" y="206"/>
                </a:lnTo>
                <a:lnTo>
                  <a:pt x="41" y="215"/>
                </a:lnTo>
                <a:lnTo>
                  <a:pt x="37" y="221"/>
                </a:lnTo>
                <a:lnTo>
                  <a:pt x="16" y="221"/>
                </a:lnTo>
                <a:lnTo>
                  <a:pt x="16" y="236"/>
                </a:lnTo>
                <a:lnTo>
                  <a:pt x="0" y="238"/>
                </a:lnTo>
              </a:path>
            </a:pathLst>
          </a:custGeom>
          <a:solidFill>
            <a:srgbClr val="000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98560" y="2095560"/>
            <a:ext cx="1440" cy="1440"/>
          </a:xfrm>
          <a:prstGeom prst="line">
            <a:avLst/>
          </a:prstGeom>
          <a:ln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79480" y="209556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3"/>
                </a:moveTo>
                <a:lnTo>
                  <a:pt x="15" y="9"/>
                </a:lnTo>
                <a:lnTo>
                  <a:pt x="12" y="0"/>
                </a:lnTo>
                <a:lnTo>
                  <a:pt x="0" y="3"/>
                </a:lnTo>
                <a:close/>
                <a:moveTo>
                  <a:pt x="0" y="3"/>
                </a:move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79480" y="209556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3"/>
                </a:moveTo>
                <a:lnTo>
                  <a:pt x="15" y="9"/>
                </a:lnTo>
                <a:lnTo>
                  <a:pt x="12" y="0"/>
                </a:lnTo>
              </a:path>
            </a:pathLst>
          </a:custGeom>
          <a:solidFill>
            <a:srgbClr val="000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79480" y="210024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79480" y="2095560"/>
            <a:ext cx="23760" cy="14400"/>
          </a:xfrm>
          <a:custGeom>
            <a:avLst/>
            <a:gdLst/>
            <a:ahLst/>
            <a:rect l="l" t="t" r="r" b="b"/>
            <a:pathLst>
              <a:path w="15" h="9">
                <a:moveTo>
                  <a:pt x="0" y="3"/>
                </a:moveTo>
                <a:lnTo>
                  <a:pt x="15" y="9"/>
                </a:lnTo>
                <a:lnTo>
                  <a:pt x="12" y="0"/>
                </a:lnTo>
              </a:path>
            </a:pathLst>
          </a:custGeom>
          <a:solidFill>
            <a:srgbClr val="000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79480" y="2100240"/>
            <a:ext cx="1440" cy="1440"/>
          </a:xfrm>
          <a:prstGeom prst="line">
            <a:avLst/>
          </a:prstGeom>
          <a:ln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79480" y="2085840"/>
            <a:ext cx="12600" cy="9720"/>
          </a:xfrm>
          <a:custGeom>
            <a:avLst/>
            <a:gdLst/>
            <a:ahLst/>
            <a:rect l="l" t="t" r="r" b="b"/>
            <a:pathLst>
              <a:path w="8" h="6">
                <a:moveTo>
                  <a:pt x="0" y="0"/>
                </a:moveTo>
                <a:lnTo>
                  <a:pt x="8" y="6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79480" y="2085840"/>
            <a:ext cx="12600" cy="97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79480" y="208584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79480" y="2085840"/>
            <a:ext cx="12600" cy="9720"/>
          </a:xfrm>
          <a:prstGeom prst="line">
            <a:avLst/>
          </a:prstGeom>
          <a:ln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79480" y="2085840"/>
            <a:ext cx="1440" cy="1800"/>
          </a:xfrm>
          <a:prstGeom prst="line">
            <a:avLst/>
          </a:prstGeom>
          <a:ln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79480" y="2031840"/>
            <a:ext cx="12600" cy="9720"/>
          </a:xfrm>
          <a:custGeom>
            <a:avLst/>
            <a:gdLst/>
            <a:ahLst/>
            <a:rect l="l" t="t" r="r" b="b"/>
            <a:pathLst>
              <a:path w="8" h="6">
                <a:moveTo>
                  <a:pt x="0" y="0"/>
                </a:moveTo>
                <a:lnTo>
                  <a:pt x="0" y="6"/>
                </a:lnTo>
                <a:lnTo>
                  <a:pt x="8" y="4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79480" y="2031840"/>
            <a:ext cx="12600" cy="9720"/>
          </a:xfrm>
          <a:custGeom>
            <a:avLst/>
            <a:gdLst/>
            <a:ahLst/>
            <a:rect l="l" t="t" r="r" b="b"/>
            <a:pathLst>
              <a:path w="8" h="6">
                <a:moveTo>
                  <a:pt x="0" y="0"/>
                </a:moveTo>
                <a:lnTo>
                  <a:pt x="0" y="6"/>
                </a:lnTo>
                <a:lnTo>
                  <a:pt x="8" y="4"/>
                </a:lnTo>
              </a:path>
            </a:pathLst>
          </a:custGeom>
          <a:solidFill>
            <a:srgbClr val="000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9480" y="2031840"/>
            <a:ext cx="1440" cy="180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79480" y="2031840"/>
            <a:ext cx="12600" cy="9720"/>
          </a:xfrm>
          <a:custGeom>
            <a:avLst/>
            <a:gdLst/>
            <a:ahLst/>
            <a:rect l="l" t="t" r="r" b="b"/>
            <a:pathLst>
              <a:path w="8" h="6">
                <a:moveTo>
                  <a:pt x="0" y="0"/>
                </a:moveTo>
                <a:lnTo>
                  <a:pt x="0" y="6"/>
                </a:lnTo>
                <a:lnTo>
                  <a:pt x="8" y="4"/>
                </a:lnTo>
              </a:path>
            </a:pathLst>
          </a:custGeom>
          <a:solidFill>
            <a:srgbClr val="000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79480" y="2031840"/>
            <a:ext cx="1440" cy="1800"/>
          </a:xfrm>
          <a:prstGeom prst="line">
            <a:avLst/>
          </a:prstGeom>
          <a:ln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00000" y="1608120"/>
            <a:ext cx="617760" cy="398520"/>
          </a:xfrm>
          <a:custGeom>
            <a:avLst/>
            <a:gdLst/>
            <a:ahLst/>
            <a:rect l="l" t="t" r="r" b="b"/>
            <a:pathLst>
              <a:path w="389" h="251">
                <a:moveTo>
                  <a:pt x="389" y="0"/>
                </a:moveTo>
                <a:lnTo>
                  <a:pt x="389" y="17"/>
                </a:lnTo>
                <a:lnTo>
                  <a:pt x="376" y="19"/>
                </a:lnTo>
                <a:lnTo>
                  <a:pt x="378" y="34"/>
                </a:lnTo>
                <a:lnTo>
                  <a:pt x="374" y="38"/>
                </a:lnTo>
                <a:lnTo>
                  <a:pt x="371" y="41"/>
                </a:lnTo>
                <a:lnTo>
                  <a:pt x="378" y="47"/>
                </a:lnTo>
                <a:lnTo>
                  <a:pt x="384" y="52"/>
                </a:lnTo>
                <a:lnTo>
                  <a:pt x="374" y="62"/>
                </a:lnTo>
                <a:lnTo>
                  <a:pt x="376" y="75"/>
                </a:lnTo>
                <a:lnTo>
                  <a:pt x="363" y="81"/>
                </a:lnTo>
                <a:lnTo>
                  <a:pt x="359" y="88"/>
                </a:lnTo>
                <a:lnTo>
                  <a:pt x="359" y="97"/>
                </a:lnTo>
                <a:lnTo>
                  <a:pt x="337" y="107"/>
                </a:lnTo>
                <a:lnTo>
                  <a:pt x="326" y="120"/>
                </a:lnTo>
                <a:lnTo>
                  <a:pt x="309" y="129"/>
                </a:lnTo>
                <a:lnTo>
                  <a:pt x="309" y="131"/>
                </a:lnTo>
                <a:lnTo>
                  <a:pt x="288" y="137"/>
                </a:lnTo>
                <a:lnTo>
                  <a:pt x="277" y="138"/>
                </a:lnTo>
                <a:lnTo>
                  <a:pt x="277" y="142"/>
                </a:lnTo>
                <a:lnTo>
                  <a:pt x="270" y="146"/>
                </a:lnTo>
                <a:lnTo>
                  <a:pt x="260" y="140"/>
                </a:lnTo>
                <a:lnTo>
                  <a:pt x="260" y="137"/>
                </a:lnTo>
                <a:lnTo>
                  <a:pt x="257" y="133"/>
                </a:lnTo>
                <a:lnTo>
                  <a:pt x="257" y="131"/>
                </a:lnTo>
                <a:lnTo>
                  <a:pt x="272" y="127"/>
                </a:lnTo>
                <a:lnTo>
                  <a:pt x="277" y="122"/>
                </a:lnTo>
                <a:lnTo>
                  <a:pt x="260" y="124"/>
                </a:lnTo>
                <a:lnTo>
                  <a:pt x="251" y="124"/>
                </a:lnTo>
                <a:lnTo>
                  <a:pt x="253" y="137"/>
                </a:lnTo>
                <a:lnTo>
                  <a:pt x="249" y="148"/>
                </a:lnTo>
                <a:lnTo>
                  <a:pt x="227" y="163"/>
                </a:lnTo>
                <a:lnTo>
                  <a:pt x="221" y="168"/>
                </a:lnTo>
                <a:lnTo>
                  <a:pt x="227" y="178"/>
                </a:lnTo>
                <a:lnTo>
                  <a:pt x="202" y="185"/>
                </a:lnTo>
                <a:lnTo>
                  <a:pt x="193" y="178"/>
                </a:lnTo>
                <a:lnTo>
                  <a:pt x="178" y="183"/>
                </a:lnTo>
                <a:lnTo>
                  <a:pt x="161" y="183"/>
                </a:lnTo>
                <a:lnTo>
                  <a:pt x="143" y="187"/>
                </a:lnTo>
                <a:lnTo>
                  <a:pt x="122" y="189"/>
                </a:lnTo>
                <a:lnTo>
                  <a:pt x="118" y="191"/>
                </a:lnTo>
                <a:lnTo>
                  <a:pt x="109" y="185"/>
                </a:lnTo>
                <a:lnTo>
                  <a:pt x="90" y="193"/>
                </a:lnTo>
                <a:lnTo>
                  <a:pt x="90" y="195"/>
                </a:lnTo>
                <a:lnTo>
                  <a:pt x="66" y="208"/>
                </a:lnTo>
                <a:lnTo>
                  <a:pt x="42" y="219"/>
                </a:lnTo>
                <a:lnTo>
                  <a:pt x="40" y="224"/>
                </a:lnTo>
                <a:lnTo>
                  <a:pt x="19" y="224"/>
                </a:lnTo>
                <a:lnTo>
                  <a:pt x="19" y="241"/>
                </a:lnTo>
                <a:lnTo>
                  <a:pt x="2" y="243"/>
                </a:lnTo>
                <a:lnTo>
                  <a:pt x="2" y="251"/>
                </a:lnTo>
                <a:lnTo>
                  <a:pt x="0" y="251"/>
                </a:lnTo>
              </a:path>
            </a:pathLst>
          </a:custGeom>
          <a:solidFill>
            <a:srgbClr val="000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17760" y="1608120"/>
            <a:ext cx="1440" cy="1440"/>
          </a:xfrm>
          <a:prstGeom prst="line">
            <a:avLst/>
          </a:prstGeom>
          <a:ln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92080" y="1604880"/>
            <a:ext cx="741600" cy="517680"/>
          </a:xfrm>
          <a:custGeom>
            <a:avLst/>
            <a:gdLst/>
            <a:ahLst/>
            <a:rect l="l" t="t" r="r" b="b"/>
            <a:pathLst>
              <a:path w="467" h="326">
                <a:moveTo>
                  <a:pt x="0" y="309"/>
                </a:moveTo>
                <a:lnTo>
                  <a:pt x="0" y="309"/>
                </a:lnTo>
                <a:lnTo>
                  <a:pt x="0" y="316"/>
                </a:lnTo>
                <a:lnTo>
                  <a:pt x="7" y="318"/>
                </a:lnTo>
                <a:lnTo>
                  <a:pt x="4" y="309"/>
                </a:lnTo>
                <a:lnTo>
                  <a:pt x="11" y="303"/>
                </a:lnTo>
                <a:lnTo>
                  <a:pt x="15" y="307"/>
                </a:lnTo>
                <a:lnTo>
                  <a:pt x="11" y="309"/>
                </a:lnTo>
                <a:lnTo>
                  <a:pt x="15" y="316"/>
                </a:lnTo>
                <a:lnTo>
                  <a:pt x="11" y="326"/>
                </a:lnTo>
                <a:lnTo>
                  <a:pt x="28" y="316"/>
                </a:lnTo>
                <a:lnTo>
                  <a:pt x="24" y="312"/>
                </a:lnTo>
                <a:lnTo>
                  <a:pt x="28" y="309"/>
                </a:lnTo>
                <a:lnTo>
                  <a:pt x="35" y="312"/>
                </a:lnTo>
                <a:lnTo>
                  <a:pt x="45" y="299"/>
                </a:lnTo>
                <a:lnTo>
                  <a:pt x="47" y="283"/>
                </a:lnTo>
                <a:lnTo>
                  <a:pt x="63" y="269"/>
                </a:lnTo>
                <a:lnTo>
                  <a:pt x="60" y="258"/>
                </a:lnTo>
                <a:lnTo>
                  <a:pt x="45" y="255"/>
                </a:lnTo>
                <a:lnTo>
                  <a:pt x="45" y="251"/>
                </a:lnTo>
                <a:lnTo>
                  <a:pt x="52" y="249"/>
                </a:lnTo>
                <a:lnTo>
                  <a:pt x="47" y="245"/>
                </a:lnTo>
                <a:lnTo>
                  <a:pt x="45" y="249"/>
                </a:lnTo>
                <a:lnTo>
                  <a:pt x="28" y="241"/>
                </a:lnTo>
                <a:lnTo>
                  <a:pt x="24" y="232"/>
                </a:lnTo>
                <a:lnTo>
                  <a:pt x="35" y="236"/>
                </a:lnTo>
                <a:lnTo>
                  <a:pt x="41" y="232"/>
                </a:lnTo>
                <a:lnTo>
                  <a:pt x="60" y="232"/>
                </a:lnTo>
                <a:lnTo>
                  <a:pt x="67" y="236"/>
                </a:lnTo>
                <a:lnTo>
                  <a:pt x="73" y="232"/>
                </a:lnTo>
                <a:lnTo>
                  <a:pt x="73" y="223"/>
                </a:lnTo>
                <a:lnTo>
                  <a:pt x="84" y="221"/>
                </a:lnTo>
                <a:lnTo>
                  <a:pt x="84" y="223"/>
                </a:lnTo>
                <a:lnTo>
                  <a:pt x="108" y="221"/>
                </a:lnTo>
                <a:lnTo>
                  <a:pt x="129" y="217"/>
                </a:lnTo>
                <a:lnTo>
                  <a:pt x="144" y="217"/>
                </a:lnTo>
                <a:lnTo>
                  <a:pt x="164" y="212"/>
                </a:lnTo>
                <a:lnTo>
                  <a:pt x="189" y="215"/>
                </a:lnTo>
                <a:lnTo>
                  <a:pt x="196" y="212"/>
                </a:lnTo>
                <a:lnTo>
                  <a:pt x="205" y="217"/>
                </a:lnTo>
                <a:lnTo>
                  <a:pt x="189" y="223"/>
                </a:lnTo>
                <a:lnTo>
                  <a:pt x="189" y="236"/>
                </a:lnTo>
                <a:lnTo>
                  <a:pt x="202" y="241"/>
                </a:lnTo>
                <a:lnTo>
                  <a:pt x="217" y="249"/>
                </a:lnTo>
                <a:lnTo>
                  <a:pt x="234" y="236"/>
                </a:lnTo>
                <a:lnTo>
                  <a:pt x="237" y="226"/>
                </a:lnTo>
                <a:lnTo>
                  <a:pt x="262" y="223"/>
                </a:lnTo>
                <a:lnTo>
                  <a:pt x="262" y="221"/>
                </a:lnTo>
                <a:lnTo>
                  <a:pt x="245" y="215"/>
                </a:lnTo>
                <a:lnTo>
                  <a:pt x="254" y="202"/>
                </a:lnTo>
                <a:lnTo>
                  <a:pt x="262" y="200"/>
                </a:lnTo>
                <a:lnTo>
                  <a:pt x="262" y="210"/>
                </a:lnTo>
                <a:lnTo>
                  <a:pt x="265" y="206"/>
                </a:lnTo>
                <a:lnTo>
                  <a:pt x="265" y="210"/>
                </a:lnTo>
                <a:lnTo>
                  <a:pt x="277" y="210"/>
                </a:lnTo>
                <a:lnTo>
                  <a:pt x="265" y="202"/>
                </a:lnTo>
                <a:lnTo>
                  <a:pt x="286" y="212"/>
                </a:lnTo>
                <a:lnTo>
                  <a:pt x="305" y="212"/>
                </a:lnTo>
                <a:lnTo>
                  <a:pt x="314" y="215"/>
                </a:lnTo>
                <a:lnTo>
                  <a:pt x="325" y="202"/>
                </a:lnTo>
                <a:lnTo>
                  <a:pt x="335" y="200"/>
                </a:lnTo>
                <a:lnTo>
                  <a:pt x="342" y="202"/>
                </a:lnTo>
                <a:lnTo>
                  <a:pt x="338" y="206"/>
                </a:lnTo>
                <a:lnTo>
                  <a:pt x="338" y="215"/>
                </a:lnTo>
                <a:lnTo>
                  <a:pt x="346" y="215"/>
                </a:lnTo>
                <a:lnTo>
                  <a:pt x="353" y="206"/>
                </a:lnTo>
                <a:lnTo>
                  <a:pt x="351" y="200"/>
                </a:lnTo>
                <a:lnTo>
                  <a:pt x="359" y="193"/>
                </a:lnTo>
                <a:lnTo>
                  <a:pt x="370" y="193"/>
                </a:lnTo>
                <a:lnTo>
                  <a:pt x="374" y="200"/>
                </a:lnTo>
                <a:lnTo>
                  <a:pt x="379" y="197"/>
                </a:lnTo>
                <a:lnTo>
                  <a:pt x="370" y="187"/>
                </a:lnTo>
                <a:lnTo>
                  <a:pt x="383" y="180"/>
                </a:lnTo>
                <a:lnTo>
                  <a:pt x="391" y="187"/>
                </a:lnTo>
                <a:lnTo>
                  <a:pt x="383" y="191"/>
                </a:lnTo>
                <a:lnTo>
                  <a:pt x="383" y="206"/>
                </a:lnTo>
                <a:lnTo>
                  <a:pt x="387" y="206"/>
                </a:lnTo>
                <a:lnTo>
                  <a:pt x="402" y="200"/>
                </a:lnTo>
                <a:lnTo>
                  <a:pt x="402" y="187"/>
                </a:lnTo>
                <a:lnTo>
                  <a:pt x="415" y="180"/>
                </a:lnTo>
                <a:lnTo>
                  <a:pt x="422" y="180"/>
                </a:lnTo>
                <a:lnTo>
                  <a:pt x="406" y="165"/>
                </a:lnTo>
                <a:lnTo>
                  <a:pt x="411" y="154"/>
                </a:lnTo>
                <a:lnTo>
                  <a:pt x="419" y="144"/>
                </a:lnTo>
                <a:lnTo>
                  <a:pt x="426" y="142"/>
                </a:lnTo>
                <a:lnTo>
                  <a:pt x="432" y="129"/>
                </a:lnTo>
                <a:lnTo>
                  <a:pt x="426" y="120"/>
                </a:lnTo>
                <a:lnTo>
                  <a:pt x="422" y="107"/>
                </a:lnTo>
                <a:lnTo>
                  <a:pt x="426" y="101"/>
                </a:lnTo>
                <a:lnTo>
                  <a:pt x="443" y="99"/>
                </a:lnTo>
                <a:lnTo>
                  <a:pt x="450" y="101"/>
                </a:lnTo>
                <a:lnTo>
                  <a:pt x="447" y="94"/>
                </a:lnTo>
                <a:lnTo>
                  <a:pt x="460" y="81"/>
                </a:lnTo>
                <a:lnTo>
                  <a:pt x="467" y="64"/>
                </a:lnTo>
                <a:lnTo>
                  <a:pt x="467" y="49"/>
                </a:lnTo>
                <a:lnTo>
                  <a:pt x="450" y="34"/>
                </a:lnTo>
                <a:lnTo>
                  <a:pt x="447" y="34"/>
                </a:lnTo>
                <a:lnTo>
                  <a:pt x="443" y="26"/>
                </a:lnTo>
                <a:lnTo>
                  <a:pt x="443" y="19"/>
                </a:lnTo>
                <a:lnTo>
                  <a:pt x="447" y="6"/>
                </a:lnTo>
                <a:lnTo>
                  <a:pt x="439" y="6"/>
                </a:lnTo>
                <a:lnTo>
                  <a:pt x="422" y="0"/>
                </a:lnTo>
                <a:lnTo>
                  <a:pt x="419" y="13"/>
                </a:lnTo>
                <a:lnTo>
                  <a:pt x="439" y="10"/>
                </a:lnTo>
                <a:lnTo>
                  <a:pt x="439" y="19"/>
                </a:lnTo>
                <a:lnTo>
                  <a:pt x="434" y="26"/>
                </a:lnTo>
                <a:lnTo>
                  <a:pt x="422" y="19"/>
                </a:lnTo>
                <a:lnTo>
                  <a:pt x="422" y="26"/>
                </a:lnTo>
                <a:lnTo>
                  <a:pt x="415" y="26"/>
                </a:lnTo>
                <a:lnTo>
                  <a:pt x="415" y="19"/>
                </a:lnTo>
                <a:lnTo>
                  <a:pt x="415" y="10"/>
                </a:lnTo>
                <a:lnTo>
                  <a:pt x="406" y="13"/>
                </a:lnTo>
                <a:lnTo>
                  <a:pt x="398" y="10"/>
                </a:lnTo>
              </a:path>
            </a:pathLst>
          </a:custGeom>
          <a:solidFill>
            <a:srgbClr val="000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92080" y="2095560"/>
            <a:ext cx="1800" cy="1440"/>
          </a:xfrm>
          <a:prstGeom prst="line">
            <a:avLst/>
          </a:prstGeom>
          <a:ln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23880" y="1620720"/>
            <a:ext cx="1800" cy="1800"/>
          </a:xfrm>
          <a:prstGeom prst="line">
            <a:avLst/>
          </a:prstGeom>
          <a:ln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49200" y="7454880"/>
            <a:ext cx="1800" cy="144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012680" y="1955880"/>
            <a:ext cx="155880" cy="75960"/>
          </a:xfrm>
          <a:custGeom>
            <a:avLst/>
            <a:gdLst/>
            <a:ahLst/>
            <a:rect l="l" t="t" r="r" b="b"/>
            <a:pathLst>
              <a:path w="98" h="48">
                <a:moveTo>
                  <a:pt x="98" y="17"/>
                </a:moveTo>
                <a:lnTo>
                  <a:pt x="94" y="5"/>
                </a:lnTo>
                <a:lnTo>
                  <a:pt x="77" y="2"/>
                </a:lnTo>
                <a:lnTo>
                  <a:pt x="64" y="0"/>
                </a:lnTo>
                <a:lnTo>
                  <a:pt x="53" y="2"/>
                </a:lnTo>
                <a:lnTo>
                  <a:pt x="53" y="11"/>
                </a:lnTo>
                <a:lnTo>
                  <a:pt x="36" y="15"/>
                </a:lnTo>
                <a:lnTo>
                  <a:pt x="28" y="9"/>
                </a:lnTo>
                <a:lnTo>
                  <a:pt x="19" y="11"/>
                </a:lnTo>
                <a:lnTo>
                  <a:pt x="17" y="24"/>
                </a:lnTo>
                <a:lnTo>
                  <a:pt x="0" y="28"/>
                </a:lnTo>
                <a:lnTo>
                  <a:pt x="4" y="28"/>
                </a:lnTo>
                <a:lnTo>
                  <a:pt x="4" y="34"/>
                </a:lnTo>
                <a:lnTo>
                  <a:pt x="8" y="34"/>
                </a:lnTo>
                <a:lnTo>
                  <a:pt x="8" y="47"/>
                </a:lnTo>
                <a:lnTo>
                  <a:pt x="17" y="47"/>
                </a:lnTo>
                <a:lnTo>
                  <a:pt x="17" y="48"/>
                </a:lnTo>
                <a:lnTo>
                  <a:pt x="28" y="48"/>
                </a:lnTo>
                <a:lnTo>
                  <a:pt x="28" y="43"/>
                </a:lnTo>
                <a:lnTo>
                  <a:pt x="32" y="43"/>
                </a:lnTo>
                <a:lnTo>
                  <a:pt x="40" y="30"/>
                </a:lnTo>
                <a:lnTo>
                  <a:pt x="57" y="28"/>
                </a:lnTo>
                <a:lnTo>
                  <a:pt x="77" y="34"/>
                </a:lnTo>
                <a:lnTo>
                  <a:pt x="81" y="28"/>
                </a:lnTo>
                <a:lnTo>
                  <a:pt x="98" y="17"/>
                </a:lnTo>
                <a:lnTo>
                  <a:pt x="98" y="1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12680" y="1955880"/>
            <a:ext cx="155880" cy="75960"/>
          </a:xfrm>
          <a:custGeom>
            <a:avLst/>
            <a:gdLst/>
            <a:ahLst/>
            <a:rect l="l" t="t" r="r" b="b"/>
            <a:pathLst>
              <a:path w="98" h="48">
                <a:moveTo>
                  <a:pt x="98" y="17"/>
                </a:moveTo>
                <a:lnTo>
                  <a:pt x="94" y="5"/>
                </a:lnTo>
                <a:lnTo>
                  <a:pt x="77" y="2"/>
                </a:lnTo>
                <a:lnTo>
                  <a:pt x="64" y="0"/>
                </a:lnTo>
                <a:lnTo>
                  <a:pt x="53" y="2"/>
                </a:lnTo>
                <a:lnTo>
                  <a:pt x="53" y="11"/>
                </a:lnTo>
                <a:lnTo>
                  <a:pt x="36" y="15"/>
                </a:lnTo>
                <a:lnTo>
                  <a:pt x="28" y="9"/>
                </a:lnTo>
                <a:lnTo>
                  <a:pt x="19" y="11"/>
                </a:lnTo>
                <a:lnTo>
                  <a:pt x="17" y="24"/>
                </a:lnTo>
                <a:lnTo>
                  <a:pt x="0" y="28"/>
                </a:lnTo>
                <a:lnTo>
                  <a:pt x="4" y="28"/>
                </a:lnTo>
                <a:lnTo>
                  <a:pt x="4" y="34"/>
                </a:lnTo>
                <a:lnTo>
                  <a:pt x="8" y="34"/>
                </a:lnTo>
                <a:lnTo>
                  <a:pt x="8" y="47"/>
                </a:lnTo>
                <a:lnTo>
                  <a:pt x="17" y="47"/>
                </a:lnTo>
                <a:lnTo>
                  <a:pt x="17" y="48"/>
                </a:lnTo>
                <a:lnTo>
                  <a:pt x="28" y="48"/>
                </a:lnTo>
                <a:lnTo>
                  <a:pt x="28" y="43"/>
                </a:lnTo>
                <a:lnTo>
                  <a:pt x="32" y="43"/>
                </a:lnTo>
                <a:lnTo>
                  <a:pt x="40" y="30"/>
                </a:lnTo>
                <a:lnTo>
                  <a:pt x="57" y="28"/>
                </a:lnTo>
                <a:lnTo>
                  <a:pt x="77" y="34"/>
                </a:lnTo>
                <a:lnTo>
                  <a:pt x="81" y="28"/>
                </a:lnTo>
                <a:lnTo>
                  <a:pt x="98" y="17"/>
                </a:lnTo>
                <a:lnTo>
                  <a:pt x="98" y="17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12680" y="1955880"/>
            <a:ext cx="155880" cy="75960"/>
          </a:xfrm>
          <a:custGeom>
            <a:avLst/>
            <a:gdLst/>
            <a:ahLst/>
            <a:rect l="l" t="t" r="r" b="b"/>
            <a:pathLst>
              <a:path w="98" h="48">
                <a:moveTo>
                  <a:pt x="98" y="17"/>
                </a:moveTo>
                <a:lnTo>
                  <a:pt x="94" y="5"/>
                </a:lnTo>
                <a:lnTo>
                  <a:pt x="77" y="2"/>
                </a:lnTo>
                <a:lnTo>
                  <a:pt x="64" y="0"/>
                </a:lnTo>
                <a:lnTo>
                  <a:pt x="53" y="2"/>
                </a:lnTo>
                <a:lnTo>
                  <a:pt x="53" y="11"/>
                </a:lnTo>
                <a:lnTo>
                  <a:pt x="36" y="15"/>
                </a:lnTo>
                <a:lnTo>
                  <a:pt x="28" y="9"/>
                </a:lnTo>
                <a:lnTo>
                  <a:pt x="19" y="11"/>
                </a:lnTo>
                <a:lnTo>
                  <a:pt x="17" y="24"/>
                </a:lnTo>
                <a:lnTo>
                  <a:pt x="0" y="28"/>
                </a:lnTo>
                <a:lnTo>
                  <a:pt x="4" y="28"/>
                </a:lnTo>
                <a:lnTo>
                  <a:pt x="4" y="34"/>
                </a:lnTo>
                <a:lnTo>
                  <a:pt x="8" y="34"/>
                </a:lnTo>
                <a:lnTo>
                  <a:pt x="8" y="47"/>
                </a:lnTo>
                <a:lnTo>
                  <a:pt x="17" y="47"/>
                </a:lnTo>
                <a:lnTo>
                  <a:pt x="17" y="48"/>
                </a:lnTo>
                <a:lnTo>
                  <a:pt x="28" y="48"/>
                </a:lnTo>
                <a:lnTo>
                  <a:pt x="28" y="43"/>
                </a:lnTo>
                <a:lnTo>
                  <a:pt x="32" y="43"/>
                </a:lnTo>
                <a:lnTo>
                  <a:pt x="40" y="30"/>
                </a:lnTo>
                <a:lnTo>
                  <a:pt x="57" y="28"/>
                </a:lnTo>
                <a:lnTo>
                  <a:pt x="77" y="34"/>
                </a:lnTo>
                <a:lnTo>
                  <a:pt x="81" y="28"/>
                </a:lnTo>
                <a:lnTo>
                  <a:pt x="98" y="17"/>
                </a:lnTo>
              </a:path>
            </a:pathLst>
          </a:custGeom>
          <a:solidFill>
            <a:srgbClr val="000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68560" y="1982880"/>
            <a:ext cx="1440" cy="1440"/>
          </a:xfrm>
          <a:prstGeom prst="line">
            <a:avLst/>
          </a:prstGeom>
          <a:ln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9200" y="7454880"/>
            <a:ext cx="1800" cy="144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500120" y="1415880"/>
            <a:ext cx="389160" cy="198720"/>
          </a:xfrm>
          <a:custGeom>
            <a:avLst/>
            <a:gdLst/>
            <a:ahLst/>
            <a:rect l="l" t="t" r="r" b="b"/>
            <a:pathLst>
              <a:path w="245" h="125">
                <a:moveTo>
                  <a:pt x="81" y="0"/>
                </a:moveTo>
                <a:lnTo>
                  <a:pt x="67" y="9"/>
                </a:lnTo>
                <a:lnTo>
                  <a:pt x="77" y="26"/>
                </a:lnTo>
                <a:lnTo>
                  <a:pt x="77" y="35"/>
                </a:lnTo>
                <a:lnTo>
                  <a:pt x="71" y="37"/>
                </a:lnTo>
                <a:lnTo>
                  <a:pt x="71" y="50"/>
                </a:lnTo>
                <a:lnTo>
                  <a:pt x="60" y="52"/>
                </a:lnTo>
                <a:lnTo>
                  <a:pt x="60" y="65"/>
                </a:lnTo>
                <a:lnTo>
                  <a:pt x="51" y="71"/>
                </a:lnTo>
                <a:lnTo>
                  <a:pt x="36" y="71"/>
                </a:lnTo>
                <a:lnTo>
                  <a:pt x="23" y="67"/>
                </a:lnTo>
                <a:lnTo>
                  <a:pt x="19" y="71"/>
                </a:lnTo>
                <a:lnTo>
                  <a:pt x="23" y="76"/>
                </a:lnTo>
                <a:lnTo>
                  <a:pt x="15" y="84"/>
                </a:lnTo>
                <a:lnTo>
                  <a:pt x="0" y="89"/>
                </a:lnTo>
                <a:lnTo>
                  <a:pt x="0" y="102"/>
                </a:lnTo>
                <a:lnTo>
                  <a:pt x="8" y="110"/>
                </a:lnTo>
                <a:lnTo>
                  <a:pt x="4" y="123"/>
                </a:lnTo>
                <a:lnTo>
                  <a:pt x="11" y="125"/>
                </a:lnTo>
                <a:lnTo>
                  <a:pt x="28" y="123"/>
                </a:lnTo>
                <a:lnTo>
                  <a:pt x="28" y="119"/>
                </a:lnTo>
                <a:lnTo>
                  <a:pt x="36" y="114"/>
                </a:lnTo>
                <a:lnTo>
                  <a:pt x="43" y="116"/>
                </a:lnTo>
                <a:lnTo>
                  <a:pt x="51" y="114"/>
                </a:lnTo>
                <a:lnTo>
                  <a:pt x="36" y="104"/>
                </a:lnTo>
                <a:lnTo>
                  <a:pt x="15" y="102"/>
                </a:lnTo>
                <a:lnTo>
                  <a:pt x="19" y="93"/>
                </a:lnTo>
                <a:lnTo>
                  <a:pt x="36" y="93"/>
                </a:lnTo>
                <a:lnTo>
                  <a:pt x="43" y="99"/>
                </a:lnTo>
                <a:lnTo>
                  <a:pt x="60" y="93"/>
                </a:lnTo>
                <a:lnTo>
                  <a:pt x="71" y="89"/>
                </a:lnTo>
                <a:lnTo>
                  <a:pt x="92" y="93"/>
                </a:lnTo>
                <a:lnTo>
                  <a:pt x="116" y="102"/>
                </a:lnTo>
                <a:lnTo>
                  <a:pt x="131" y="110"/>
                </a:lnTo>
                <a:lnTo>
                  <a:pt x="137" y="95"/>
                </a:lnTo>
                <a:lnTo>
                  <a:pt x="157" y="84"/>
                </a:lnTo>
                <a:lnTo>
                  <a:pt x="178" y="76"/>
                </a:lnTo>
                <a:lnTo>
                  <a:pt x="196" y="80"/>
                </a:lnTo>
                <a:lnTo>
                  <a:pt x="213" y="74"/>
                </a:lnTo>
                <a:lnTo>
                  <a:pt x="225" y="71"/>
                </a:lnTo>
                <a:lnTo>
                  <a:pt x="245" y="65"/>
                </a:lnTo>
                <a:lnTo>
                  <a:pt x="225" y="67"/>
                </a:lnTo>
                <a:lnTo>
                  <a:pt x="217" y="67"/>
                </a:lnTo>
                <a:lnTo>
                  <a:pt x="213" y="58"/>
                </a:lnTo>
                <a:lnTo>
                  <a:pt x="210" y="56"/>
                </a:lnTo>
                <a:lnTo>
                  <a:pt x="221" y="41"/>
                </a:lnTo>
                <a:lnTo>
                  <a:pt x="217" y="37"/>
                </a:lnTo>
                <a:lnTo>
                  <a:pt x="200" y="50"/>
                </a:lnTo>
                <a:lnTo>
                  <a:pt x="193" y="52"/>
                </a:lnTo>
                <a:lnTo>
                  <a:pt x="180" y="50"/>
                </a:lnTo>
                <a:lnTo>
                  <a:pt x="172" y="44"/>
                </a:lnTo>
                <a:lnTo>
                  <a:pt x="148" y="37"/>
                </a:lnTo>
                <a:lnTo>
                  <a:pt x="124" y="28"/>
                </a:lnTo>
                <a:lnTo>
                  <a:pt x="109" y="22"/>
                </a:lnTo>
                <a:lnTo>
                  <a:pt x="99" y="9"/>
                </a:lnTo>
                <a:lnTo>
                  <a:pt x="81" y="0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00120" y="1415880"/>
            <a:ext cx="389160" cy="198720"/>
          </a:xfrm>
          <a:custGeom>
            <a:avLst/>
            <a:gdLst/>
            <a:ahLst/>
            <a:rect l="l" t="t" r="r" b="b"/>
            <a:pathLst>
              <a:path w="245" h="125">
                <a:moveTo>
                  <a:pt x="81" y="0"/>
                </a:moveTo>
                <a:lnTo>
                  <a:pt x="67" y="9"/>
                </a:lnTo>
                <a:lnTo>
                  <a:pt x="77" y="26"/>
                </a:lnTo>
                <a:lnTo>
                  <a:pt x="77" y="35"/>
                </a:lnTo>
                <a:lnTo>
                  <a:pt x="71" y="37"/>
                </a:lnTo>
                <a:lnTo>
                  <a:pt x="71" y="50"/>
                </a:lnTo>
                <a:lnTo>
                  <a:pt x="60" y="52"/>
                </a:lnTo>
                <a:lnTo>
                  <a:pt x="60" y="65"/>
                </a:lnTo>
                <a:lnTo>
                  <a:pt x="51" y="71"/>
                </a:lnTo>
                <a:lnTo>
                  <a:pt x="36" y="71"/>
                </a:lnTo>
                <a:lnTo>
                  <a:pt x="23" y="67"/>
                </a:lnTo>
                <a:lnTo>
                  <a:pt x="19" y="71"/>
                </a:lnTo>
                <a:lnTo>
                  <a:pt x="23" y="76"/>
                </a:lnTo>
                <a:lnTo>
                  <a:pt x="15" y="84"/>
                </a:lnTo>
                <a:lnTo>
                  <a:pt x="0" y="89"/>
                </a:lnTo>
                <a:lnTo>
                  <a:pt x="0" y="102"/>
                </a:lnTo>
                <a:lnTo>
                  <a:pt x="8" y="110"/>
                </a:lnTo>
                <a:lnTo>
                  <a:pt x="4" y="123"/>
                </a:lnTo>
                <a:lnTo>
                  <a:pt x="11" y="125"/>
                </a:lnTo>
                <a:lnTo>
                  <a:pt x="28" y="123"/>
                </a:lnTo>
                <a:lnTo>
                  <a:pt x="28" y="119"/>
                </a:lnTo>
                <a:lnTo>
                  <a:pt x="36" y="114"/>
                </a:lnTo>
                <a:lnTo>
                  <a:pt x="43" y="116"/>
                </a:lnTo>
                <a:lnTo>
                  <a:pt x="51" y="114"/>
                </a:lnTo>
                <a:lnTo>
                  <a:pt x="36" y="104"/>
                </a:lnTo>
                <a:lnTo>
                  <a:pt x="15" y="102"/>
                </a:lnTo>
                <a:lnTo>
                  <a:pt x="19" y="93"/>
                </a:lnTo>
                <a:lnTo>
                  <a:pt x="36" y="93"/>
                </a:lnTo>
                <a:lnTo>
                  <a:pt x="43" y="99"/>
                </a:lnTo>
                <a:lnTo>
                  <a:pt x="60" y="93"/>
                </a:lnTo>
                <a:lnTo>
                  <a:pt x="71" y="89"/>
                </a:lnTo>
                <a:lnTo>
                  <a:pt x="92" y="93"/>
                </a:lnTo>
                <a:lnTo>
                  <a:pt x="116" y="102"/>
                </a:lnTo>
                <a:lnTo>
                  <a:pt x="131" y="110"/>
                </a:lnTo>
                <a:lnTo>
                  <a:pt x="137" y="95"/>
                </a:lnTo>
                <a:lnTo>
                  <a:pt x="157" y="84"/>
                </a:lnTo>
                <a:lnTo>
                  <a:pt x="178" y="76"/>
                </a:lnTo>
                <a:lnTo>
                  <a:pt x="196" y="80"/>
                </a:lnTo>
                <a:lnTo>
                  <a:pt x="213" y="74"/>
                </a:lnTo>
                <a:lnTo>
                  <a:pt x="225" y="71"/>
                </a:lnTo>
                <a:lnTo>
                  <a:pt x="245" y="65"/>
                </a:lnTo>
                <a:lnTo>
                  <a:pt x="225" y="67"/>
                </a:lnTo>
                <a:lnTo>
                  <a:pt x="217" y="67"/>
                </a:lnTo>
                <a:lnTo>
                  <a:pt x="213" y="58"/>
                </a:lnTo>
                <a:lnTo>
                  <a:pt x="210" y="56"/>
                </a:lnTo>
                <a:lnTo>
                  <a:pt x="221" y="41"/>
                </a:lnTo>
                <a:lnTo>
                  <a:pt x="217" y="37"/>
                </a:lnTo>
                <a:lnTo>
                  <a:pt x="200" y="50"/>
                </a:lnTo>
                <a:lnTo>
                  <a:pt x="193" y="52"/>
                </a:lnTo>
                <a:lnTo>
                  <a:pt x="180" y="50"/>
                </a:lnTo>
                <a:lnTo>
                  <a:pt x="172" y="44"/>
                </a:lnTo>
                <a:lnTo>
                  <a:pt x="148" y="37"/>
                </a:lnTo>
                <a:lnTo>
                  <a:pt x="124" y="28"/>
                </a:lnTo>
                <a:lnTo>
                  <a:pt x="109" y="22"/>
                </a:lnTo>
                <a:lnTo>
                  <a:pt x="99" y="9"/>
                </a:lnTo>
                <a:lnTo>
                  <a:pt x="81" y="0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00120" y="1415880"/>
            <a:ext cx="389160" cy="198720"/>
          </a:xfrm>
          <a:custGeom>
            <a:avLst/>
            <a:gdLst/>
            <a:ahLst/>
            <a:rect l="l" t="t" r="r" b="b"/>
            <a:pathLst>
              <a:path w="245" h="125">
                <a:moveTo>
                  <a:pt x="81" y="0"/>
                </a:moveTo>
                <a:lnTo>
                  <a:pt x="67" y="9"/>
                </a:lnTo>
                <a:lnTo>
                  <a:pt x="77" y="26"/>
                </a:lnTo>
                <a:lnTo>
                  <a:pt x="77" y="35"/>
                </a:lnTo>
                <a:lnTo>
                  <a:pt x="71" y="37"/>
                </a:lnTo>
                <a:lnTo>
                  <a:pt x="71" y="50"/>
                </a:lnTo>
                <a:lnTo>
                  <a:pt x="60" y="52"/>
                </a:lnTo>
                <a:lnTo>
                  <a:pt x="60" y="65"/>
                </a:lnTo>
                <a:lnTo>
                  <a:pt x="51" y="71"/>
                </a:lnTo>
                <a:lnTo>
                  <a:pt x="36" y="71"/>
                </a:lnTo>
                <a:lnTo>
                  <a:pt x="23" y="67"/>
                </a:lnTo>
                <a:lnTo>
                  <a:pt x="19" y="71"/>
                </a:lnTo>
                <a:lnTo>
                  <a:pt x="23" y="76"/>
                </a:lnTo>
                <a:lnTo>
                  <a:pt x="15" y="84"/>
                </a:lnTo>
                <a:lnTo>
                  <a:pt x="0" y="89"/>
                </a:lnTo>
                <a:lnTo>
                  <a:pt x="0" y="102"/>
                </a:lnTo>
                <a:lnTo>
                  <a:pt x="8" y="110"/>
                </a:lnTo>
                <a:lnTo>
                  <a:pt x="4" y="123"/>
                </a:lnTo>
                <a:lnTo>
                  <a:pt x="11" y="125"/>
                </a:lnTo>
                <a:lnTo>
                  <a:pt x="28" y="123"/>
                </a:lnTo>
                <a:lnTo>
                  <a:pt x="28" y="119"/>
                </a:lnTo>
                <a:lnTo>
                  <a:pt x="36" y="114"/>
                </a:lnTo>
                <a:lnTo>
                  <a:pt x="43" y="116"/>
                </a:lnTo>
                <a:lnTo>
                  <a:pt x="51" y="114"/>
                </a:lnTo>
                <a:lnTo>
                  <a:pt x="36" y="104"/>
                </a:lnTo>
                <a:lnTo>
                  <a:pt x="15" y="102"/>
                </a:lnTo>
                <a:lnTo>
                  <a:pt x="19" y="93"/>
                </a:lnTo>
                <a:lnTo>
                  <a:pt x="36" y="93"/>
                </a:lnTo>
                <a:lnTo>
                  <a:pt x="43" y="99"/>
                </a:lnTo>
                <a:lnTo>
                  <a:pt x="60" y="93"/>
                </a:lnTo>
                <a:lnTo>
                  <a:pt x="71" y="89"/>
                </a:lnTo>
                <a:lnTo>
                  <a:pt x="92" y="93"/>
                </a:lnTo>
                <a:lnTo>
                  <a:pt x="116" y="102"/>
                </a:lnTo>
                <a:lnTo>
                  <a:pt x="131" y="110"/>
                </a:lnTo>
                <a:lnTo>
                  <a:pt x="137" y="95"/>
                </a:lnTo>
                <a:lnTo>
                  <a:pt x="157" y="84"/>
                </a:lnTo>
                <a:lnTo>
                  <a:pt x="178" y="76"/>
                </a:lnTo>
                <a:lnTo>
                  <a:pt x="196" y="80"/>
                </a:lnTo>
                <a:lnTo>
                  <a:pt x="213" y="74"/>
                </a:lnTo>
                <a:lnTo>
                  <a:pt x="225" y="71"/>
                </a:lnTo>
                <a:lnTo>
                  <a:pt x="245" y="65"/>
                </a:lnTo>
                <a:lnTo>
                  <a:pt x="225" y="67"/>
                </a:lnTo>
                <a:lnTo>
                  <a:pt x="217" y="67"/>
                </a:lnTo>
                <a:lnTo>
                  <a:pt x="213" y="58"/>
                </a:lnTo>
                <a:lnTo>
                  <a:pt x="210" y="56"/>
                </a:lnTo>
                <a:lnTo>
                  <a:pt x="221" y="41"/>
                </a:lnTo>
                <a:lnTo>
                  <a:pt x="217" y="37"/>
                </a:lnTo>
                <a:lnTo>
                  <a:pt x="200" y="50"/>
                </a:lnTo>
                <a:lnTo>
                  <a:pt x="193" y="52"/>
                </a:lnTo>
                <a:lnTo>
                  <a:pt x="180" y="50"/>
                </a:lnTo>
                <a:lnTo>
                  <a:pt x="172" y="44"/>
                </a:lnTo>
                <a:lnTo>
                  <a:pt x="148" y="37"/>
                </a:lnTo>
                <a:lnTo>
                  <a:pt x="124" y="28"/>
                </a:lnTo>
                <a:lnTo>
                  <a:pt x="109" y="22"/>
                </a:lnTo>
                <a:lnTo>
                  <a:pt x="99" y="9"/>
                </a:lnTo>
                <a:lnTo>
                  <a:pt x="81" y="0"/>
                </a:lnTo>
              </a:path>
            </a:pathLst>
          </a:custGeom>
          <a:solidFill>
            <a:srgbClr val="000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28640" y="1415880"/>
            <a:ext cx="1800" cy="1800"/>
          </a:xfrm>
          <a:prstGeom prst="line">
            <a:avLst/>
          </a:prstGeom>
          <a:ln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49200" y="7454880"/>
            <a:ext cx="1800" cy="144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92080" y="4143240"/>
            <a:ext cx="1484280" cy="1376640"/>
          </a:xfrm>
          <a:custGeom>
            <a:avLst/>
            <a:gdLst/>
            <a:ahLst/>
            <a:rect l="l" t="t" r="r" b="b"/>
            <a:pathLst>
              <a:path w="935" h="867">
                <a:moveTo>
                  <a:pt x="0" y="637"/>
                </a:moveTo>
                <a:lnTo>
                  <a:pt x="20" y="637"/>
                </a:lnTo>
                <a:lnTo>
                  <a:pt x="28" y="635"/>
                </a:lnTo>
                <a:lnTo>
                  <a:pt x="52" y="641"/>
                </a:lnTo>
                <a:lnTo>
                  <a:pt x="67" y="650"/>
                </a:lnTo>
                <a:lnTo>
                  <a:pt x="80" y="650"/>
                </a:lnTo>
                <a:lnTo>
                  <a:pt x="84" y="647"/>
                </a:lnTo>
                <a:lnTo>
                  <a:pt x="104" y="652"/>
                </a:lnTo>
                <a:lnTo>
                  <a:pt x="121" y="656"/>
                </a:lnTo>
                <a:lnTo>
                  <a:pt x="136" y="656"/>
                </a:lnTo>
                <a:lnTo>
                  <a:pt x="140" y="663"/>
                </a:lnTo>
                <a:lnTo>
                  <a:pt x="153" y="677"/>
                </a:lnTo>
                <a:lnTo>
                  <a:pt x="157" y="671"/>
                </a:lnTo>
                <a:lnTo>
                  <a:pt x="149" y="677"/>
                </a:lnTo>
                <a:lnTo>
                  <a:pt x="153" y="686"/>
                </a:lnTo>
                <a:lnTo>
                  <a:pt x="174" y="690"/>
                </a:lnTo>
                <a:lnTo>
                  <a:pt x="176" y="699"/>
                </a:lnTo>
                <a:lnTo>
                  <a:pt x="192" y="710"/>
                </a:lnTo>
                <a:lnTo>
                  <a:pt x="196" y="725"/>
                </a:lnTo>
                <a:lnTo>
                  <a:pt x="205" y="729"/>
                </a:lnTo>
                <a:lnTo>
                  <a:pt x="189" y="725"/>
                </a:lnTo>
                <a:lnTo>
                  <a:pt x="205" y="735"/>
                </a:lnTo>
                <a:lnTo>
                  <a:pt x="209" y="738"/>
                </a:lnTo>
                <a:lnTo>
                  <a:pt x="209" y="735"/>
                </a:lnTo>
                <a:lnTo>
                  <a:pt x="222" y="742"/>
                </a:lnTo>
                <a:lnTo>
                  <a:pt x="224" y="733"/>
                </a:lnTo>
                <a:lnTo>
                  <a:pt x="217" y="735"/>
                </a:lnTo>
                <a:lnTo>
                  <a:pt x="222" y="725"/>
                </a:lnTo>
                <a:lnTo>
                  <a:pt x="230" y="725"/>
                </a:lnTo>
                <a:lnTo>
                  <a:pt x="237" y="714"/>
                </a:lnTo>
                <a:lnTo>
                  <a:pt x="245" y="708"/>
                </a:lnTo>
                <a:lnTo>
                  <a:pt x="273" y="701"/>
                </a:lnTo>
                <a:lnTo>
                  <a:pt x="286" y="686"/>
                </a:lnTo>
                <a:lnTo>
                  <a:pt x="297" y="680"/>
                </a:lnTo>
                <a:lnTo>
                  <a:pt x="297" y="663"/>
                </a:lnTo>
                <a:lnTo>
                  <a:pt x="305" y="680"/>
                </a:lnTo>
                <a:lnTo>
                  <a:pt x="305" y="684"/>
                </a:lnTo>
                <a:lnTo>
                  <a:pt x="297" y="686"/>
                </a:lnTo>
                <a:lnTo>
                  <a:pt x="303" y="695"/>
                </a:lnTo>
                <a:lnTo>
                  <a:pt x="286" y="710"/>
                </a:lnTo>
                <a:lnTo>
                  <a:pt x="286" y="725"/>
                </a:lnTo>
                <a:lnTo>
                  <a:pt x="282" y="738"/>
                </a:lnTo>
                <a:lnTo>
                  <a:pt x="265" y="738"/>
                </a:lnTo>
                <a:lnTo>
                  <a:pt x="258" y="751"/>
                </a:lnTo>
                <a:lnTo>
                  <a:pt x="277" y="748"/>
                </a:lnTo>
                <a:lnTo>
                  <a:pt x="293" y="748"/>
                </a:lnTo>
                <a:lnTo>
                  <a:pt x="303" y="733"/>
                </a:lnTo>
                <a:lnTo>
                  <a:pt x="310" y="716"/>
                </a:lnTo>
                <a:lnTo>
                  <a:pt x="321" y="729"/>
                </a:lnTo>
                <a:lnTo>
                  <a:pt x="325" y="733"/>
                </a:lnTo>
                <a:lnTo>
                  <a:pt x="325" y="742"/>
                </a:lnTo>
                <a:lnTo>
                  <a:pt x="321" y="753"/>
                </a:lnTo>
                <a:lnTo>
                  <a:pt x="310" y="759"/>
                </a:lnTo>
                <a:lnTo>
                  <a:pt x="325" y="759"/>
                </a:lnTo>
                <a:lnTo>
                  <a:pt x="335" y="757"/>
                </a:lnTo>
                <a:lnTo>
                  <a:pt x="351" y="763"/>
                </a:lnTo>
                <a:lnTo>
                  <a:pt x="366" y="772"/>
                </a:lnTo>
                <a:lnTo>
                  <a:pt x="374" y="783"/>
                </a:lnTo>
                <a:lnTo>
                  <a:pt x="379" y="796"/>
                </a:lnTo>
                <a:lnTo>
                  <a:pt x="374" y="804"/>
                </a:lnTo>
                <a:lnTo>
                  <a:pt x="379" y="815"/>
                </a:lnTo>
                <a:lnTo>
                  <a:pt x="394" y="824"/>
                </a:lnTo>
                <a:lnTo>
                  <a:pt x="406" y="832"/>
                </a:lnTo>
                <a:lnTo>
                  <a:pt x="426" y="835"/>
                </a:lnTo>
                <a:lnTo>
                  <a:pt x="439" y="845"/>
                </a:lnTo>
                <a:lnTo>
                  <a:pt x="450" y="845"/>
                </a:lnTo>
                <a:lnTo>
                  <a:pt x="450" y="841"/>
                </a:lnTo>
                <a:lnTo>
                  <a:pt x="471" y="845"/>
                </a:lnTo>
                <a:lnTo>
                  <a:pt x="480" y="845"/>
                </a:lnTo>
                <a:lnTo>
                  <a:pt x="503" y="850"/>
                </a:lnTo>
                <a:lnTo>
                  <a:pt x="514" y="854"/>
                </a:lnTo>
                <a:lnTo>
                  <a:pt x="527" y="858"/>
                </a:lnTo>
                <a:lnTo>
                  <a:pt x="548" y="849"/>
                </a:lnTo>
                <a:lnTo>
                  <a:pt x="563" y="841"/>
                </a:lnTo>
                <a:lnTo>
                  <a:pt x="576" y="845"/>
                </a:lnTo>
                <a:lnTo>
                  <a:pt x="583" y="849"/>
                </a:lnTo>
                <a:lnTo>
                  <a:pt x="604" y="849"/>
                </a:lnTo>
                <a:lnTo>
                  <a:pt x="615" y="854"/>
                </a:lnTo>
                <a:lnTo>
                  <a:pt x="624" y="862"/>
                </a:lnTo>
                <a:lnTo>
                  <a:pt x="632" y="858"/>
                </a:lnTo>
                <a:lnTo>
                  <a:pt x="641" y="867"/>
                </a:lnTo>
                <a:lnTo>
                  <a:pt x="643" y="867"/>
                </a:lnTo>
                <a:lnTo>
                  <a:pt x="649" y="854"/>
                </a:lnTo>
                <a:lnTo>
                  <a:pt x="664" y="850"/>
                </a:lnTo>
                <a:lnTo>
                  <a:pt x="684" y="841"/>
                </a:lnTo>
                <a:lnTo>
                  <a:pt x="705" y="830"/>
                </a:lnTo>
                <a:lnTo>
                  <a:pt x="725" y="830"/>
                </a:lnTo>
                <a:lnTo>
                  <a:pt x="750" y="826"/>
                </a:lnTo>
                <a:lnTo>
                  <a:pt x="770" y="826"/>
                </a:lnTo>
                <a:lnTo>
                  <a:pt x="781" y="819"/>
                </a:lnTo>
                <a:lnTo>
                  <a:pt x="789" y="819"/>
                </a:lnTo>
                <a:lnTo>
                  <a:pt x="789" y="809"/>
                </a:lnTo>
                <a:lnTo>
                  <a:pt x="785" y="800"/>
                </a:lnTo>
                <a:lnTo>
                  <a:pt x="789" y="787"/>
                </a:lnTo>
                <a:lnTo>
                  <a:pt x="793" y="781"/>
                </a:lnTo>
                <a:lnTo>
                  <a:pt x="798" y="766"/>
                </a:lnTo>
                <a:lnTo>
                  <a:pt x="809" y="753"/>
                </a:lnTo>
                <a:lnTo>
                  <a:pt x="821" y="742"/>
                </a:lnTo>
                <a:lnTo>
                  <a:pt x="824" y="725"/>
                </a:lnTo>
                <a:lnTo>
                  <a:pt x="830" y="720"/>
                </a:lnTo>
                <a:lnTo>
                  <a:pt x="841" y="710"/>
                </a:lnTo>
                <a:lnTo>
                  <a:pt x="845" y="695"/>
                </a:lnTo>
                <a:lnTo>
                  <a:pt x="858" y="684"/>
                </a:lnTo>
                <a:lnTo>
                  <a:pt x="862" y="675"/>
                </a:lnTo>
                <a:lnTo>
                  <a:pt x="886" y="667"/>
                </a:lnTo>
                <a:lnTo>
                  <a:pt x="890" y="662"/>
                </a:lnTo>
                <a:lnTo>
                  <a:pt x="901" y="650"/>
                </a:lnTo>
                <a:lnTo>
                  <a:pt x="910" y="635"/>
                </a:lnTo>
                <a:lnTo>
                  <a:pt x="910" y="619"/>
                </a:lnTo>
                <a:lnTo>
                  <a:pt x="910" y="600"/>
                </a:lnTo>
                <a:lnTo>
                  <a:pt x="910" y="609"/>
                </a:lnTo>
                <a:lnTo>
                  <a:pt x="914" y="592"/>
                </a:lnTo>
                <a:lnTo>
                  <a:pt x="922" y="579"/>
                </a:lnTo>
                <a:lnTo>
                  <a:pt x="927" y="564"/>
                </a:lnTo>
                <a:lnTo>
                  <a:pt x="935" y="551"/>
                </a:lnTo>
                <a:lnTo>
                  <a:pt x="935" y="546"/>
                </a:lnTo>
                <a:lnTo>
                  <a:pt x="931" y="533"/>
                </a:lnTo>
                <a:lnTo>
                  <a:pt x="927" y="525"/>
                </a:lnTo>
                <a:lnTo>
                  <a:pt x="931" y="510"/>
                </a:lnTo>
                <a:lnTo>
                  <a:pt x="927" y="510"/>
                </a:lnTo>
                <a:lnTo>
                  <a:pt x="927" y="520"/>
                </a:lnTo>
                <a:lnTo>
                  <a:pt x="922" y="512"/>
                </a:lnTo>
                <a:lnTo>
                  <a:pt x="914" y="506"/>
                </a:lnTo>
                <a:lnTo>
                  <a:pt x="914" y="503"/>
                </a:lnTo>
                <a:lnTo>
                  <a:pt x="918" y="499"/>
                </a:lnTo>
                <a:lnTo>
                  <a:pt x="914" y="484"/>
                </a:lnTo>
                <a:lnTo>
                  <a:pt x="914" y="473"/>
                </a:lnTo>
                <a:lnTo>
                  <a:pt x="918" y="463"/>
                </a:lnTo>
                <a:lnTo>
                  <a:pt x="914" y="458"/>
                </a:lnTo>
                <a:lnTo>
                  <a:pt x="922" y="441"/>
                </a:lnTo>
                <a:lnTo>
                  <a:pt x="927" y="432"/>
                </a:lnTo>
                <a:lnTo>
                  <a:pt x="922" y="426"/>
                </a:lnTo>
                <a:lnTo>
                  <a:pt x="914" y="430"/>
                </a:lnTo>
                <a:lnTo>
                  <a:pt x="918" y="430"/>
                </a:lnTo>
                <a:lnTo>
                  <a:pt x="922" y="435"/>
                </a:lnTo>
                <a:lnTo>
                  <a:pt x="910" y="445"/>
                </a:lnTo>
                <a:lnTo>
                  <a:pt x="910" y="452"/>
                </a:lnTo>
                <a:lnTo>
                  <a:pt x="907" y="445"/>
                </a:lnTo>
                <a:lnTo>
                  <a:pt x="899" y="445"/>
                </a:lnTo>
                <a:lnTo>
                  <a:pt x="890" y="435"/>
                </a:lnTo>
                <a:lnTo>
                  <a:pt x="886" y="426"/>
                </a:lnTo>
                <a:lnTo>
                  <a:pt x="869" y="420"/>
                </a:lnTo>
                <a:lnTo>
                  <a:pt x="866" y="411"/>
                </a:lnTo>
                <a:lnTo>
                  <a:pt x="851" y="405"/>
                </a:lnTo>
                <a:lnTo>
                  <a:pt x="841" y="400"/>
                </a:lnTo>
                <a:lnTo>
                  <a:pt x="830" y="394"/>
                </a:lnTo>
                <a:lnTo>
                  <a:pt x="821" y="391"/>
                </a:lnTo>
                <a:lnTo>
                  <a:pt x="821" y="374"/>
                </a:lnTo>
                <a:lnTo>
                  <a:pt x="821" y="362"/>
                </a:lnTo>
                <a:lnTo>
                  <a:pt x="819" y="357"/>
                </a:lnTo>
                <a:lnTo>
                  <a:pt x="813" y="357"/>
                </a:lnTo>
                <a:lnTo>
                  <a:pt x="819" y="362"/>
                </a:lnTo>
                <a:lnTo>
                  <a:pt x="802" y="357"/>
                </a:lnTo>
                <a:lnTo>
                  <a:pt x="789" y="351"/>
                </a:lnTo>
                <a:lnTo>
                  <a:pt x="785" y="357"/>
                </a:lnTo>
                <a:lnTo>
                  <a:pt x="789" y="362"/>
                </a:lnTo>
                <a:lnTo>
                  <a:pt x="781" y="357"/>
                </a:lnTo>
                <a:lnTo>
                  <a:pt x="772" y="357"/>
                </a:lnTo>
                <a:lnTo>
                  <a:pt x="770" y="344"/>
                </a:lnTo>
                <a:lnTo>
                  <a:pt x="765" y="333"/>
                </a:lnTo>
                <a:lnTo>
                  <a:pt x="761" y="323"/>
                </a:lnTo>
                <a:lnTo>
                  <a:pt x="750" y="310"/>
                </a:lnTo>
                <a:lnTo>
                  <a:pt x="740" y="310"/>
                </a:lnTo>
                <a:lnTo>
                  <a:pt x="733" y="299"/>
                </a:lnTo>
                <a:lnTo>
                  <a:pt x="744" y="299"/>
                </a:lnTo>
                <a:lnTo>
                  <a:pt x="740" y="290"/>
                </a:lnTo>
                <a:lnTo>
                  <a:pt x="729" y="286"/>
                </a:lnTo>
                <a:lnTo>
                  <a:pt x="729" y="290"/>
                </a:lnTo>
                <a:lnTo>
                  <a:pt x="712" y="280"/>
                </a:lnTo>
                <a:lnTo>
                  <a:pt x="705" y="280"/>
                </a:lnTo>
                <a:lnTo>
                  <a:pt x="701" y="275"/>
                </a:lnTo>
                <a:lnTo>
                  <a:pt x="695" y="275"/>
                </a:lnTo>
                <a:lnTo>
                  <a:pt x="695" y="276"/>
                </a:lnTo>
                <a:lnTo>
                  <a:pt x="690" y="275"/>
                </a:lnTo>
                <a:lnTo>
                  <a:pt x="690" y="265"/>
                </a:lnTo>
                <a:lnTo>
                  <a:pt x="673" y="265"/>
                </a:lnTo>
                <a:lnTo>
                  <a:pt x="669" y="258"/>
                </a:lnTo>
                <a:lnTo>
                  <a:pt x="664" y="262"/>
                </a:lnTo>
                <a:lnTo>
                  <a:pt x="649" y="258"/>
                </a:lnTo>
                <a:lnTo>
                  <a:pt x="641" y="247"/>
                </a:lnTo>
                <a:lnTo>
                  <a:pt x="643" y="237"/>
                </a:lnTo>
                <a:lnTo>
                  <a:pt x="628" y="228"/>
                </a:lnTo>
                <a:lnTo>
                  <a:pt x="632" y="222"/>
                </a:lnTo>
                <a:lnTo>
                  <a:pt x="632" y="209"/>
                </a:lnTo>
                <a:lnTo>
                  <a:pt x="628" y="200"/>
                </a:lnTo>
                <a:lnTo>
                  <a:pt x="624" y="189"/>
                </a:lnTo>
                <a:lnTo>
                  <a:pt x="608" y="179"/>
                </a:lnTo>
                <a:lnTo>
                  <a:pt x="608" y="164"/>
                </a:lnTo>
                <a:lnTo>
                  <a:pt x="604" y="147"/>
                </a:lnTo>
                <a:lnTo>
                  <a:pt x="600" y="140"/>
                </a:lnTo>
                <a:lnTo>
                  <a:pt x="604" y="131"/>
                </a:lnTo>
                <a:lnTo>
                  <a:pt x="589" y="125"/>
                </a:lnTo>
                <a:lnTo>
                  <a:pt x="583" y="121"/>
                </a:lnTo>
                <a:lnTo>
                  <a:pt x="572" y="116"/>
                </a:lnTo>
                <a:lnTo>
                  <a:pt x="568" y="106"/>
                </a:lnTo>
                <a:lnTo>
                  <a:pt x="555" y="110"/>
                </a:lnTo>
                <a:lnTo>
                  <a:pt x="551" y="116"/>
                </a:lnTo>
                <a:lnTo>
                  <a:pt x="540" y="116"/>
                </a:lnTo>
                <a:lnTo>
                  <a:pt x="531" y="101"/>
                </a:lnTo>
                <a:lnTo>
                  <a:pt x="527" y="90"/>
                </a:lnTo>
                <a:lnTo>
                  <a:pt x="531" y="82"/>
                </a:lnTo>
                <a:lnTo>
                  <a:pt x="527" y="69"/>
                </a:lnTo>
                <a:lnTo>
                  <a:pt x="527" y="67"/>
                </a:lnTo>
                <a:lnTo>
                  <a:pt x="520" y="67"/>
                </a:lnTo>
                <a:lnTo>
                  <a:pt x="523" y="58"/>
                </a:lnTo>
                <a:lnTo>
                  <a:pt x="512" y="52"/>
                </a:lnTo>
                <a:lnTo>
                  <a:pt x="514" y="39"/>
                </a:lnTo>
                <a:lnTo>
                  <a:pt x="512" y="35"/>
                </a:lnTo>
                <a:lnTo>
                  <a:pt x="503" y="35"/>
                </a:lnTo>
                <a:lnTo>
                  <a:pt x="499" y="22"/>
                </a:lnTo>
                <a:lnTo>
                  <a:pt x="495" y="9"/>
                </a:lnTo>
                <a:lnTo>
                  <a:pt x="486" y="0"/>
                </a:lnTo>
                <a:lnTo>
                  <a:pt x="482" y="0"/>
                </a:lnTo>
                <a:lnTo>
                  <a:pt x="482" y="5"/>
                </a:lnTo>
                <a:lnTo>
                  <a:pt x="471" y="5"/>
                </a:lnTo>
                <a:lnTo>
                  <a:pt x="475" y="17"/>
                </a:lnTo>
                <a:lnTo>
                  <a:pt x="467" y="30"/>
                </a:lnTo>
                <a:lnTo>
                  <a:pt x="454" y="39"/>
                </a:lnTo>
                <a:lnTo>
                  <a:pt x="450" y="54"/>
                </a:lnTo>
                <a:lnTo>
                  <a:pt x="460" y="58"/>
                </a:lnTo>
                <a:lnTo>
                  <a:pt x="450" y="69"/>
                </a:lnTo>
                <a:lnTo>
                  <a:pt x="454" y="82"/>
                </a:lnTo>
                <a:lnTo>
                  <a:pt x="447" y="84"/>
                </a:lnTo>
                <a:lnTo>
                  <a:pt x="447" y="101"/>
                </a:lnTo>
                <a:lnTo>
                  <a:pt x="450" y="110"/>
                </a:lnTo>
                <a:lnTo>
                  <a:pt x="447" y="116"/>
                </a:lnTo>
                <a:lnTo>
                  <a:pt x="450" y="131"/>
                </a:lnTo>
                <a:lnTo>
                  <a:pt x="447" y="146"/>
                </a:lnTo>
                <a:lnTo>
                  <a:pt x="443" y="161"/>
                </a:lnTo>
                <a:lnTo>
                  <a:pt x="439" y="177"/>
                </a:lnTo>
                <a:lnTo>
                  <a:pt x="426" y="190"/>
                </a:lnTo>
                <a:lnTo>
                  <a:pt x="422" y="204"/>
                </a:lnTo>
                <a:lnTo>
                  <a:pt x="406" y="209"/>
                </a:lnTo>
                <a:lnTo>
                  <a:pt x="387" y="213"/>
                </a:lnTo>
                <a:lnTo>
                  <a:pt x="366" y="207"/>
                </a:lnTo>
                <a:lnTo>
                  <a:pt x="359" y="204"/>
                </a:lnTo>
                <a:lnTo>
                  <a:pt x="351" y="190"/>
                </a:lnTo>
                <a:lnTo>
                  <a:pt x="346" y="189"/>
                </a:lnTo>
                <a:lnTo>
                  <a:pt x="331" y="183"/>
                </a:lnTo>
                <a:lnTo>
                  <a:pt x="318" y="183"/>
                </a:lnTo>
                <a:lnTo>
                  <a:pt x="303" y="177"/>
                </a:lnTo>
                <a:lnTo>
                  <a:pt x="293" y="170"/>
                </a:lnTo>
                <a:lnTo>
                  <a:pt x="273" y="161"/>
                </a:lnTo>
                <a:lnTo>
                  <a:pt x="250" y="161"/>
                </a:lnTo>
                <a:lnTo>
                  <a:pt x="241" y="147"/>
                </a:lnTo>
                <a:lnTo>
                  <a:pt x="222" y="140"/>
                </a:lnTo>
                <a:lnTo>
                  <a:pt x="205" y="131"/>
                </a:lnTo>
                <a:lnTo>
                  <a:pt x="196" y="131"/>
                </a:lnTo>
                <a:lnTo>
                  <a:pt x="196" y="125"/>
                </a:lnTo>
                <a:lnTo>
                  <a:pt x="185" y="125"/>
                </a:lnTo>
                <a:lnTo>
                  <a:pt x="196" y="116"/>
                </a:lnTo>
                <a:lnTo>
                  <a:pt x="205" y="118"/>
                </a:lnTo>
                <a:lnTo>
                  <a:pt x="224" y="106"/>
                </a:lnTo>
                <a:lnTo>
                  <a:pt x="224" y="101"/>
                </a:lnTo>
                <a:lnTo>
                  <a:pt x="230" y="90"/>
                </a:lnTo>
                <a:lnTo>
                  <a:pt x="224" y="93"/>
                </a:lnTo>
                <a:lnTo>
                  <a:pt x="222" y="84"/>
                </a:lnTo>
                <a:lnTo>
                  <a:pt x="224" y="78"/>
                </a:lnTo>
                <a:lnTo>
                  <a:pt x="234" y="75"/>
                </a:lnTo>
                <a:lnTo>
                  <a:pt x="241" y="78"/>
                </a:lnTo>
                <a:lnTo>
                  <a:pt x="254" y="69"/>
                </a:lnTo>
                <a:lnTo>
                  <a:pt x="245" y="63"/>
                </a:lnTo>
                <a:lnTo>
                  <a:pt x="258" y="54"/>
                </a:lnTo>
                <a:lnTo>
                  <a:pt x="262" y="48"/>
                </a:lnTo>
                <a:lnTo>
                  <a:pt x="254" y="45"/>
                </a:lnTo>
                <a:lnTo>
                  <a:pt x="250" y="48"/>
                </a:lnTo>
                <a:lnTo>
                  <a:pt x="245" y="39"/>
                </a:lnTo>
                <a:lnTo>
                  <a:pt x="234" y="45"/>
                </a:lnTo>
                <a:lnTo>
                  <a:pt x="241" y="48"/>
                </a:lnTo>
                <a:lnTo>
                  <a:pt x="241" y="54"/>
                </a:lnTo>
                <a:lnTo>
                  <a:pt x="224" y="54"/>
                </a:lnTo>
                <a:lnTo>
                  <a:pt x="224" y="45"/>
                </a:lnTo>
                <a:lnTo>
                  <a:pt x="213" y="48"/>
                </a:lnTo>
                <a:lnTo>
                  <a:pt x="209" y="45"/>
                </a:lnTo>
                <a:lnTo>
                  <a:pt x="217" y="39"/>
                </a:lnTo>
                <a:lnTo>
                  <a:pt x="205" y="43"/>
                </a:lnTo>
                <a:lnTo>
                  <a:pt x="189" y="48"/>
                </a:lnTo>
                <a:lnTo>
                  <a:pt x="176" y="39"/>
                </a:lnTo>
                <a:lnTo>
                  <a:pt x="164" y="43"/>
                </a:lnTo>
                <a:lnTo>
                  <a:pt x="144" y="35"/>
                </a:lnTo>
                <a:lnTo>
                  <a:pt x="136" y="30"/>
                </a:lnTo>
                <a:lnTo>
                  <a:pt x="125" y="32"/>
                </a:lnTo>
                <a:lnTo>
                  <a:pt x="112" y="30"/>
                </a:lnTo>
                <a:lnTo>
                  <a:pt x="104" y="20"/>
                </a:lnTo>
                <a:lnTo>
                  <a:pt x="95" y="20"/>
                </a:lnTo>
                <a:lnTo>
                  <a:pt x="93" y="22"/>
                </a:lnTo>
                <a:lnTo>
                  <a:pt x="80" y="15"/>
                </a:lnTo>
                <a:lnTo>
                  <a:pt x="60" y="17"/>
                </a:lnTo>
                <a:lnTo>
                  <a:pt x="67" y="22"/>
                </a:lnTo>
                <a:lnTo>
                  <a:pt x="84" y="22"/>
                </a:lnTo>
                <a:lnTo>
                  <a:pt x="88" y="30"/>
                </a:lnTo>
                <a:lnTo>
                  <a:pt x="88" y="43"/>
                </a:lnTo>
                <a:lnTo>
                  <a:pt x="63" y="48"/>
                </a:lnTo>
                <a:lnTo>
                  <a:pt x="45" y="48"/>
                </a:lnTo>
                <a:lnTo>
                  <a:pt x="35" y="43"/>
                </a:lnTo>
                <a:lnTo>
                  <a:pt x="32" y="45"/>
                </a:lnTo>
                <a:lnTo>
                  <a:pt x="24" y="45"/>
                </a:lnTo>
                <a:lnTo>
                  <a:pt x="0" y="637"/>
                </a:lnTo>
                <a:close/>
                <a:moveTo>
                  <a:pt x="0" y="637"/>
                </a:moveTo>
                <a:lnTo>
                  <a:pt x="0" y="63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92080" y="4143240"/>
            <a:ext cx="1484280" cy="1376640"/>
          </a:xfrm>
          <a:custGeom>
            <a:avLst/>
            <a:gdLst/>
            <a:ahLst/>
            <a:rect l="l" t="t" r="r" b="b"/>
            <a:pathLst>
              <a:path w="935" h="867">
                <a:moveTo>
                  <a:pt x="0" y="637"/>
                </a:moveTo>
                <a:lnTo>
                  <a:pt x="20" y="637"/>
                </a:lnTo>
                <a:lnTo>
                  <a:pt x="28" y="635"/>
                </a:lnTo>
                <a:lnTo>
                  <a:pt x="52" y="641"/>
                </a:lnTo>
                <a:lnTo>
                  <a:pt x="67" y="650"/>
                </a:lnTo>
                <a:lnTo>
                  <a:pt x="80" y="650"/>
                </a:lnTo>
                <a:lnTo>
                  <a:pt x="84" y="647"/>
                </a:lnTo>
                <a:lnTo>
                  <a:pt x="104" y="652"/>
                </a:lnTo>
                <a:lnTo>
                  <a:pt x="121" y="656"/>
                </a:lnTo>
                <a:lnTo>
                  <a:pt x="136" y="656"/>
                </a:lnTo>
                <a:lnTo>
                  <a:pt x="140" y="663"/>
                </a:lnTo>
                <a:lnTo>
                  <a:pt x="153" y="677"/>
                </a:lnTo>
                <a:lnTo>
                  <a:pt x="157" y="671"/>
                </a:lnTo>
                <a:lnTo>
                  <a:pt x="149" y="677"/>
                </a:lnTo>
                <a:lnTo>
                  <a:pt x="153" y="686"/>
                </a:lnTo>
                <a:lnTo>
                  <a:pt x="174" y="690"/>
                </a:lnTo>
                <a:lnTo>
                  <a:pt x="176" y="699"/>
                </a:lnTo>
                <a:lnTo>
                  <a:pt x="192" y="710"/>
                </a:lnTo>
                <a:lnTo>
                  <a:pt x="196" y="725"/>
                </a:lnTo>
                <a:lnTo>
                  <a:pt x="205" y="729"/>
                </a:lnTo>
                <a:lnTo>
                  <a:pt x="189" y="725"/>
                </a:lnTo>
                <a:lnTo>
                  <a:pt x="205" y="735"/>
                </a:lnTo>
                <a:lnTo>
                  <a:pt x="209" y="738"/>
                </a:lnTo>
                <a:lnTo>
                  <a:pt x="209" y="735"/>
                </a:lnTo>
                <a:lnTo>
                  <a:pt x="222" y="742"/>
                </a:lnTo>
                <a:lnTo>
                  <a:pt x="224" y="733"/>
                </a:lnTo>
                <a:lnTo>
                  <a:pt x="217" y="735"/>
                </a:lnTo>
                <a:lnTo>
                  <a:pt x="222" y="725"/>
                </a:lnTo>
                <a:lnTo>
                  <a:pt x="230" y="725"/>
                </a:lnTo>
                <a:lnTo>
                  <a:pt x="237" y="714"/>
                </a:lnTo>
                <a:lnTo>
                  <a:pt x="245" y="708"/>
                </a:lnTo>
                <a:lnTo>
                  <a:pt x="273" y="701"/>
                </a:lnTo>
                <a:lnTo>
                  <a:pt x="286" y="686"/>
                </a:lnTo>
                <a:lnTo>
                  <a:pt x="297" y="680"/>
                </a:lnTo>
                <a:lnTo>
                  <a:pt x="297" y="663"/>
                </a:lnTo>
                <a:lnTo>
                  <a:pt x="305" y="680"/>
                </a:lnTo>
                <a:lnTo>
                  <a:pt x="305" y="684"/>
                </a:lnTo>
                <a:lnTo>
                  <a:pt x="297" y="686"/>
                </a:lnTo>
                <a:lnTo>
                  <a:pt x="303" y="695"/>
                </a:lnTo>
                <a:lnTo>
                  <a:pt x="286" y="710"/>
                </a:lnTo>
                <a:lnTo>
                  <a:pt x="286" y="725"/>
                </a:lnTo>
                <a:lnTo>
                  <a:pt x="282" y="738"/>
                </a:lnTo>
                <a:lnTo>
                  <a:pt x="265" y="738"/>
                </a:lnTo>
                <a:lnTo>
                  <a:pt x="258" y="751"/>
                </a:lnTo>
                <a:lnTo>
                  <a:pt x="277" y="748"/>
                </a:lnTo>
                <a:lnTo>
                  <a:pt x="293" y="748"/>
                </a:lnTo>
                <a:lnTo>
                  <a:pt x="303" y="733"/>
                </a:lnTo>
                <a:lnTo>
                  <a:pt x="310" y="716"/>
                </a:lnTo>
                <a:lnTo>
                  <a:pt x="321" y="729"/>
                </a:lnTo>
                <a:lnTo>
                  <a:pt x="325" y="733"/>
                </a:lnTo>
                <a:lnTo>
                  <a:pt x="325" y="742"/>
                </a:lnTo>
                <a:lnTo>
                  <a:pt x="321" y="753"/>
                </a:lnTo>
                <a:lnTo>
                  <a:pt x="310" y="759"/>
                </a:lnTo>
                <a:lnTo>
                  <a:pt x="325" y="759"/>
                </a:lnTo>
                <a:lnTo>
                  <a:pt x="335" y="757"/>
                </a:lnTo>
                <a:lnTo>
                  <a:pt x="351" y="763"/>
                </a:lnTo>
                <a:lnTo>
                  <a:pt x="366" y="772"/>
                </a:lnTo>
                <a:lnTo>
                  <a:pt x="374" y="783"/>
                </a:lnTo>
                <a:lnTo>
                  <a:pt x="379" y="796"/>
                </a:lnTo>
                <a:lnTo>
                  <a:pt x="374" y="804"/>
                </a:lnTo>
                <a:lnTo>
                  <a:pt x="379" y="815"/>
                </a:lnTo>
                <a:lnTo>
                  <a:pt x="394" y="824"/>
                </a:lnTo>
                <a:lnTo>
                  <a:pt x="406" y="832"/>
                </a:lnTo>
                <a:lnTo>
                  <a:pt x="426" y="835"/>
                </a:lnTo>
                <a:lnTo>
                  <a:pt x="439" y="845"/>
                </a:lnTo>
                <a:lnTo>
                  <a:pt x="450" y="845"/>
                </a:lnTo>
                <a:lnTo>
                  <a:pt x="450" y="841"/>
                </a:lnTo>
                <a:lnTo>
                  <a:pt x="471" y="845"/>
                </a:lnTo>
                <a:lnTo>
                  <a:pt x="480" y="845"/>
                </a:lnTo>
                <a:lnTo>
                  <a:pt x="503" y="850"/>
                </a:lnTo>
                <a:lnTo>
                  <a:pt x="514" y="854"/>
                </a:lnTo>
                <a:lnTo>
                  <a:pt x="527" y="858"/>
                </a:lnTo>
                <a:lnTo>
                  <a:pt x="548" y="849"/>
                </a:lnTo>
                <a:lnTo>
                  <a:pt x="563" y="841"/>
                </a:lnTo>
                <a:lnTo>
                  <a:pt x="576" y="845"/>
                </a:lnTo>
                <a:lnTo>
                  <a:pt x="583" y="849"/>
                </a:lnTo>
                <a:lnTo>
                  <a:pt x="604" y="849"/>
                </a:lnTo>
                <a:lnTo>
                  <a:pt x="615" y="854"/>
                </a:lnTo>
                <a:lnTo>
                  <a:pt x="624" y="862"/>
                </a:lnTo>
                <a:lnTo>
                  <a:pt x="632" y="858"/>
                </a:lnTo>
                <a:lnTo>
                  <a:pt x="641" y="867"/>
                </a:lnTo>
                <a:lnTo>
                  <a:pt x="643" y="867"/>
                </a:lnTo>
                <a:lnTo>
                  <a:pt x="649" y="854"/>
                </a:lnTo>
                <a:lnTo>
                  <a:pt x="664" y="850"/>
                </a:lnTo>
                <a:lnTo>
                  <a:pt x="684" y="841"/>
                </a:lnTo>
                <a:lnTo>
                  <a:pt x="705" y="830"/>
                </a:lnTo>
                <a:lnTo>
                  <a:pt x="725" y="830"/>
                </a:lnTo>
                <a:lnTo>
                  <a:pt x="750" y="826"/>
                </a:lnTo>
                <a:lnTo>
                  <a:pt x="770" y="826"/>
                </a:lnTo>
                <a:lnTo>
                  <a:pt x="781" y="819"/>
                </a:lnTo>
                <a:lnTo>
                  <a:pt x="789" y="819"/>
                </a:lnTo>
                <a:lnTo>
                  <a:pt x="789" y="809"/>
                </a:lnTo>
                <a:lnTo>
                  <a:pt x="785" y="800"/>
                </a:lnTo>
                <a:lnTo>
                  <a:pt x="789" y="787"/>
                </a:lnTo>
                <a:lnTo>
                  <a:pt x="793" y="781"/>
                </a:lnTo>
                <a:lnTo>
                  <a:pt x="798" y="766"/>
                </a:lnTo>
                <a:lnTo>
                  <a:pt x="809" y="753"/>
                </a:lnTo>
                <a:lnTo>
                  <a:pt x="821" y="742"/>
                </a:lnTo>
                <a:lnTo>
                  <a:pt x="824" y="725"/>
                </a:lnTo>
                <a:lnTo>
                  <a:pt x="830" y="720"/>
                </a:lnTo>
                <a:lnTo>
                  <a:pt x="841" y="710"/>
                </a:lnTo>
                <a:lnTo>
                  <a:pt x="845" y="695"/>
                </a:lnTo>
                <a:lnTo>
                  <a:pt x="858" y="684"/>
                </a:lnTo>
                <a:lnTo>
                  <a:pt x="862" y="675"/>
                </a:lnTo>
                <a:lnTo>
                  <a:pt x="886" y="667"/>
                </a:lnTo>
                <a:lnTo>
                  <a:pt x="890" y="662"/>
                </a:lnTo>
                <a:lnTo>
                  <a:pt x="901" y="650"/>
                </a:lnTo>
                <a:lnTo>
                  <a:pt x="910" y="635"/>
                </a:lnTo>
                <a:lnTo>
                  <a:pt x="910" y="619"/>
                </a:lnTo>
                <a:lnTo>
                  <a:pt x="910" y="600"/>
                </a:lnTo>
                <a:lnTo>
                  <a:pt x="910" y="609"/>
                </a:lnTo>
                <a:lnTo>
                  <a:pt x="914" y="592"/>
                </a:lnTo>
                <a:lnTo>
                  <a:pt x="922" y="579"/>
                </a:lnTo>
                <a:lnTo>
                  <a:pt x="927" y="564"/>
                </a:lnTo>
                <a:lnTo>
                  <a:pt x="935" y="551"/>
                </a:lnTo>
                <a:lnTo>
                  <a:pt x="935" y="546"/>
                </a:lnTo>
                <a:lnTo>
                  <a:pt x="931" y="533"/>
                </a:lnTo>
                <a:lnTo>
                  <a:pt x="927" y="525"/>
                </a:lnTo>
                <a:lnTo>
                  <a:pt x="931" y="510"/>
                </a:lnTo>
                <a:lnTo>
                  <a:pt x="927" y="510"/>
                </a:lnTo>
                <a:lnTo>
                  <a:pt x="927" y="520"/>
                </a:lnTo>
                <a:lnTo>
                  <a:pt x="922" y="512"/>
                </a:lnTo>
                <a:lnTo>
                  <a:pt x="914" y="506"/>
                </a:lnTo>
                <a:lnTo>
                  <a:pt x="914" y="503"/>
                </a:lnTo>
                <a:lnTo>
                  <a:pt x="918" y="499"/>
                </a:lnTo>
                <a:lnTo>
                  <a:pt x="914" y="484"/>
                </a:lnTo>
                <a:lnTo>
                  <a:pt x="914" y="473"/>
                </a:lnTo>
                <a:lnTo>
                  <a:pt x="918" y="463"/>
                </a:lnTo>
                <a:lnTo>
                  <a:pt x="914" y="458"/>
                </a:lnTo>
                <a:lnTo>
                  <a:pt x="922" y="441"/>
                </a:lnTo>
                <a:lnTo>
                  <a:pt x="927" y="432"/>
                </a:lnTo>
                <a:lnTo>
                  <a:pt x="922" y="426"/>
                </a:lnTo>
                <a:lnTo>
                  <a:pt x="914" y="430"/>
                </a:lnTo>
                <a:lnTo>
                  <a:pt x="918" y="430"/>
                </a:lnTo>
                <a:lnTo>
                  <a:pt x="922" y="435"/>
                </a:lnTo>
                <a:lnTo>
                  <a:pt x="910" y="445"/>
                </a:lnTo>
                <a:lnTo>
                  <a:pt x="910" y="452"/>
                </a:lnTo>
                <a:lnTo>
                  <a:pt x="907" y="445"/>
                </a:lnTo>
                <a:lnTo>
                  <a:pt x="899" y="445"/>
                </a:lnTo>
                <a:lnTo>
                  <a:pt x="890" y="435"/>
                </a:lnTo>
                <a:lnTo>
                  <a:pt x="886" y="426"/>
                </a:lnTo>
                <a:lnTo>
                  <a:pt x="869" y="420"/>
                </a:lnTo>
                <a:lnTo>
                  <a:pt x="866" y="411"/>
                </a:lnTo>
                <a:lnTo>
                  <a:pt x="851" y="405"/>
                </a:lnTo>
                <a:lnTo>
                  <a:pt x="841" y="400"/>
                </a:lnTo>
                <a:lnTo>
                  <a:pt x="830" y="394"/>
                </a:lnTo>
                <a:lnTo>
                  <a:pt x="821" y="391"/>
                </a:lnTo>
                <a:lnTo>
                  <a:pt x="821" y="374"/>
                </a:lnTo>
                <a:lnTo>
                  <a:pt x="821" y="362"/>
                </a:lnTo>
                <a:lnTo>
                  <a:pt x="819" y="357"/>
                </a:lnTo>
                <a:lnTo>
                  <a:pt x="813" y="357"/>
                </a:lnTo>
                <a:lnTo>
                  <a:pt x="819" y="362"/>
                </a:lnTo>
                <a:lnTo>
                  <a:pt x="802" y="357"/>
                </a:lnTo>
                <a:lnTo>
                  <a:pt x="789" y="351"/>
                </a:lnTo>
                <a:lnTo>
                  <a:pt x="785" y="357"/>
                </a:lnTo>
                <a:lnTo>
                  <a:pt x="789" y="362"/>
                </a:lnTo>
                <a:lnTo>
                  <a:pt x="781" y="357"/>
                </a:lnTo>
                <a:lnTo>
                  <a:pt x="772" y="357"/>
                </a:lnTo>
                <a:lnTo>
                  <a:pt x="770" y="344"/>
                </a:lnTo>
                <a:lnTo>
                  <a:pt x="765" y="333"/>
                </a:lnTo>
                <a:lnTo>
                  <a:pt x="761" y="323"/>
                </a:lnTo>
                <a:lnTo>
                  <a:pt x="750" y="310"/>
                </a:lnTo>
                <a:lnTo>
                  <a:pt x="740" y="310"/>
                </a:lnTo>
                <a:lnTo>
                  <a:pt x="733" y="299"/>
                </a:lnTo>
                <a:lnTo>
                  <a:pt x="744" y="299"/>
                </a:lnTo>
                <a:lnTo>
                  <a:pt x="740" y="290"/>
                </a:lnTo>
                <a:lnTo>
                  <a:pt x="729" y="286"/>
                </a:lnTo>
                <a:lnTo>
                  <a:pt x="729" y="290"/>
                </a:lnTo>
                <a:lnTo>
                  <a:pt x="712" y="280"/>
                </a:lnTo>
                <a:lnTo>
                  <a:pt x="705" y="280"/>
                </a:lnTo>
                <a:lnTo>
                  <a:pt x="701" y="275"/>
                </a:lnTo>
                <a:lnTo>
                  <a:pt x="695" y="275"/>
                </a:lnTo>
                <a:lnTo>
                  <a:pt x="695" y="276"/>
                </a:lnTo>
                <a:lnTo>
                  <a:pt x="690" y="275"/>
                </a:lnTo>
                <a:lnTo>
                  <a:pt x="690" y="265"/>
                </a:lnTo>
                <a:lnTo>
                  <a:pt x="673" y="265"/>
                </a:lnTo>
                <a:lnTo>
                  <a:pt x="669" y="258"/>
                </a:lnTo>
                <a:lnTo>
                  <a:pt x="664" y="262"/>
                </a:lnTo>
                <a:lnTo>
                  <a:pt x="649" y="258"/>
                </a:lnTo>
                <a:lnTo>
                  <a:pt x="641" y="247"/>
                </a:lnTo>
                <a:lnTo>
                  <a:pt x="643" y="237"/>
                </a:lnTo>
                <a:lnTo>
                  <a:pt x="628" y="228"/>
                </a:lnTo>
                <a:lnTo>
                  <a:pt x="632" y="222"/>
                </a:lnTo>
                <a:lnTo>
                  <a:pt x="632" y="209"/>
                </a:lnTo>
                <a:lnTo>
                  <a:pt x="628" y="200"/>
                </a:lnTo>
                <a:lnTo>
                  <a:pt x="624" y="189"/>
                </a:lnTo>
                <a:lnTo>
                  <a:pt x="608" y="179"/>
                </a:lnTo>
                <a:lnTo>
                  <a:pt x="608" y="164"/>
                </a:lnTo>
                <a:lnTo>
                  <a:pt x="604" y="147"/>
                </a:lnTo>
                <a:lnTo>
                  <a:pt x="600" y="140"/>
                </a:lnTo>
                <a:lnTo>
                  <a:pt x="604" y="131"/>
                </a:lnTo>
                <a:lnTo>
                  <a:pt x="589" y="125"/>
                </a:lnTo>
                <a:lnTo>
                  <a:pt x="583" y="121"/>
                </a:lnTo>
                <a:lnTo>
                  <a:pt x="572" y="116"/>
                </a:lnTo>
                <a:lnTo>
                  <a:pt x="568" y="106"/>
                </a:lnTo>
                <a:lnTo>
                  <a:pt x="555" y="110"/>
                </a:lnTo>
                <a:lnTo>
                  <a:pt x="551" y="116"/>
                </a:lnTo>
                <a:lnTo>
                  <a:pt x="540" y="116"/>
                </a:lnTo>
                <a:lnTo>
                  <a:pt x="531" y="101"/>
                </a:lnTo>
                <a:lnTo>
                  <a:pt x="527" y="90"/>
                </a:lnTo>
                <a:lnTo>
                  <a:pt x="531" y="82"/>
                </a:lnTo>
                <a:lnTo>
                  <a:pt x="527" y="69"/>
                </a:lnTo>
                <a:lnTo>
                  <a:pt x="527" y="67"/>
                </a:lnTo>
                <a:lnTo>
                  <a:pt x="520" y="67"/>
                </a:lnTo>
                <a:lnTo>
                  <a:pt x="523" y="58"/>
                </a:lnTo>
                <a:lnTo>
                  <a:pt x="512" y="52"/>
                </a:lnTo>
                <a:lnTo>
                  <a:pt x="514" y="39"/>
                </a:lnTo>
                <a:lnTo>
                  <a:pt x="512" y="35"/>
                </a:lnTo>
                <a:lnTo>
                  <a:pt x="503" y="35"/>
                </a:lnTo>
                <a:lnTo>
                  <a:pt x="499" y="22"/>
                </a:lnTo>
                <a:lnTo>
                  <a:pt x="495" y="9"/>
                </a:lnTo>
                <a:lnTo>
                  <a:pt x="486" y="0"/>
                </a:lnTo>
                <a:lnTo>
                  <a:pt x="482" y="0"/>
                </a:lnTo>
                <a:lnTo>
                  <a:pt x="482" y="5"/>
                </a:lnTo>
                <a:lnTo>
                  <a:pt x="471" y="5"/>
                </a:lnTo>
                <a:lnTo>
                  <a:pt x="475" y="17"/>
                </a:lnTo>
                <a:lnTo>
                  <a:pt x="467" y="30"/>
                </a:lnTo>
                <a:lnTo>
                  <a:pt x="454" y="39"/>
                </a:lnTo>
                <a:lnTo>
                  <a:pt x="450" y="54"/>
                </a:lnTo>
                <a:lnTo>
                  <a:pt x="460" y="58"/>
                </a:lnTo>
                <a:lnTo>
                  <a:pt x="450" y="69"/>
                </a:lnTo>
                <a:lnTo>
                  <a:pt x="454" y="82"/>
                </a:lnTo>
                <a:lnTo>
                  <a:pt x="447" y="84"/>
                </a:lnTo>
                <a:lnTo>
                  <a:pt x="447" y="101"/>
                </a:lnTo>
                <a:lnTo>
                  <a:pt x="450" y="110"/>
                </a:lnTo>
                <a:lnTo>
                  <a:pt x="447" y="116"/>
                </a:lnTo>
                <a:lnTo>
                  <a:pt x="450" y="131"/>
                </a:lnTo>
                <a:lnTo>
                  <a:pt x="447" y="146"/>
                </a:lnTo>
                <a:lnTo>
                  <a:pt x="443" y="161"/>
                </a:lnTo>
                <a:lnTo>
                  <a:pt x="439" y="177"/>
                </a:lnTo>
                <a:lnTo>
                  <a:pt x="426" y="190"/>
                </a:lnTo>
                <a:lnTo>
                  <a:pt x="422" y="204"/>
                </a:lnTo>
                <a:lnTo>
                  <a:pt x="406" y="209"/>
                </a:lnTo>
                <a:lnTo>
                  <a:pt x="387" y="213"/>
                </a:lnTo>
                <a:lnTo>
                  <a:pt x="366" y="207"/>
                </a:lnTo>
                <a:lnTo>
                  <a:pt x="359" y="204"/>
                </a:lnTo>
                <a:lnTo>
                  <a:pt x="351" y="190"/>
                </a:lnTo>
                <a:lnTo>
                  <a:pt x="346" y="189"/>
                </a:lnTo>
                <a:lnTo>
                  <a:pt x="331" y="183"/>
                </a:lnTo>
                <a:lnTo>
                  <a:pt x="318" y="183"/>
                </a:lnTo>
                <a:lnTo>
                  <a:pt x="303" y="177"/>
                </a:lnTo>
                <a:lnTo>
                  <a:pt x="293" y="170"/>
                </a:lnTo>
                <a:lnTo>
                  <a:pt x="273" y="161"/>
                </a:lnTo>
                <a:lnTo>
                  <a:pt x="250" y="161"/>
                </a:lnTo>
                <a:lnTo>
                  <a:pt x="241" y="147"/>
                </a:lnTo>
                <a:lnTo>
                  <a:pt x="222" y="140"/>
                </a:lnTo>
                <a:lnTo>
                  <a:pt x="205" y="131"/>
                </a:lnTo>
                <a:lnTo>
                  <a:pt x="196" y="131"/>
                </a:lnTo>
                <a:lnTo>
                  <a:pt x="196" y="125"/>
                </a:lnTo>
                <a:lnTo>
                  <a:pt x="185" y="125"/>
                </a:lnTo>
                <a:lnTo>
                  <a:pt x="196" y="116"/>
                </a:lnTo>
                <a:lnTo>
                  <a:pt x="205" y="118"/>
                </a:lnTo>
                <a:lnTo>
                  <a:pt x="224" y="106"/>
                </a:lnTo>
                <a:lnTo>
                  <a:pt x="224" y="101"/>
                </a:lnTo>
                <a:lnTo>
                  <a:pt x="230" y="90"/>
                </a:lnTo>
                <a:lnTo>
                  <a:pt x="224" y="93"/>
                </a:lnTo>
                <a:lnTo>
                  <a:pt x="222" y="84"/>
                </a:lnTo>
                <a:lnTo>
                  <a:pt x="224" y="78"/>
                </a:lnTo>
                <a:lnTo>
                  <a:pt x="234" y="75"/>
                </a:lnTo>
                <a:lnTo>
                  <a:pt x="241" y="78"/>
                </a:lnTo>
                <a:lnTo>
                  <a:pt x="254" y="69"/>
                </a:lnTo>
                <a:lnTo>
                  <a:pt x="245" y="63"/>
                </a:lnTo>
                <a:lnTo>
                  <a:pt x="258" y="54"/>
                </a:lnTo>
                <a:lnTo>
                  <a:pt x="262" y="48"/>
                </a:lnTo>
                <a:lnTo>
                  <a:pt x="254" y="45"/>
                </a:lnTo>
                <a:lnTo>
                  <a:pt x="250" y="48"/>
                </a:lnTo>
                <a:lnTo>
                  <a:pt x="245" y="39"/>
                </a:lnTo>
                <a:lnTo>
                  <a:pt x="234" y="45"/>
                </a:lnTo>
                <a:lnTo>
                  <a:pt x="241" y="48"/>
                </a:lnTo>
                <a:lnTo>
                  <a:pt x="241" y="54"/>
                </a:lnTo>
                <a:lnTo>
                  <a:pt x="224" y="54"/>
                </a:lnTo>
                <a:lnTo>
                  <a:pt x="224" y="45"/>
                </a:lnTo>
                <a:lnTo>
                  <a:pt x="213" y="48"/>
                </a:lnTo>
                <a:lnTo>
                  <a:pt x="209" y="45"/>
                </a:lnTo>
                <a:lnTo>
                  <a:pt x="217" y="39"/>
                </a:lnTo>
                <a:lnTo>
                  <a:pt x="205" y="43"/>
                </a:lnTo>
                <a:lnTo>
                  <a:pt x="189" y="48"/>
                </a:lnTo>
                <a:lnTo>
                  <a:pt x="176" y="39"/>
                </a:lnTo>
                <a:lnTo>
                  <a:pt x="164" y="43"/>
                </a:lnTo>
                <a:lnTo>
                  <a:pt x="144" y="35"/>
                </a:lnTo>
                <a:lnTo>
                  <a:pt x="136" y="30"/>
                </a:lnTo>
                <a:lnTo>
                  <a:pt x="125" y="32"/>
                </a:lnTo>
                <a:lnTo>
                  <a:pt x="112" y="30"/>
                </a:lnTo>
                <a:lnTo>
                  <a:pt x="104" y="20"/>
                </a:lnTo>
                <a:lnTo>
                  <a:pt x="95" y="20"/>
                </a:lnTo>
                <a:lnTo>
                  <a:pt x="93" y="22"/>
                </a:lnTo>
                <a:lnTo>
                  <a:pt x="80" y="15"/>
                </a:lnTo>
                <a:lnTo>
                  <a:pt x="60" y="17"/>
                </a:lnTo>
                <a:lnTo>
                  <a:pt x="67" y="22"/>
                </a:lnTo>
                <a:lnTo>
                  <a:pt x="84" y="22"/>
                </a:lnTo>
                <a:lnTo>
                  <a:pt x="88" y="30"/>
                </a:lnTo>
                <a:lnTo>
                  <a:pt x="88" y="43"/>
                </a:lnTo>
                <a:lnTo>
                  <a:pt x="63" y="48"/>
                </a:lnTo>
                <a:lnTo>
                  <a:pt x="45" y="48"/>
                </a:lnTo>
                <a:lnTo>
                  <a:pt x="35" y="43"/>
                </a:lnTo>
                <a:lnTo>
                  <a:pt x="32" y="45"/>
                </a:lnTo>
                <a:lnTo>
                  <a:pt x="24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92080" y="5154480"/>
            <a:ext cx="18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92080" y="4143240"/>
            <a:ext cx="1484280" cy="1376640"/>
          </a:xfrm>
          <a:custGeom>
            <a:avLst/>
            <a:gdLst/>
            <a:ahLst/>
            <a:rect l="l" t="t" r="r" b="b"/>
            <a:pathLst>
              <a:path w="935" h="867">
                <a:moveTo>
                  <a:pt x="0" y="637"/>
                </a:moveTo>
                <a:lnTo>
                  <a:pt x="20" y="637"/>
                </a:lnTo>
                <a:lnTo>
                  <a:pt x="28" y="635"/>
                </a:lnTo>
                <a:lnTo>
                  <a:pt x="52" y="641"/>
                </a:lnTo>
                <a:lnTo>
                  <a:pt x="67" y="650"/>
                </a:lnTo>
                <a:lnTo>
                  <a:pt x="80" y="650"/>
                </a:lnTo>
                <a:lnTo>
                  <a:pt x="84" y="647"/>
                </a:lnTo>
                <a:lnTo>
                  <a:pt x="104" y="652"/>
                </a:lnTo>
                <a:lnTo>
                  <a:pt x="121" y="656"/>
                </a:lnTo>
                <a:lnTo>
                  <a:pt x="136" y="656"/>
                </a:lnTo>
                <a:lnTo>
                  <a:pt x="140" y="663"/>
                </a:lnTo>
                <a:lnTo>
                  <a:pt x="153" y="677"/>
                </a:lnTo>
                <a:lnTo>
                  <a:pt x="157" y="671"/>
                </a:lnTo>
                <a:lnTo>
                  <a:pt x="149" y="677"/>
                </a:lnTo>
                <a:lnTo>
                  <a:pt x="153" y="686"/>
                </a:lnTo>
                <a:lnTo>
                  <a:pt x="174" y="690"/>
                </a:lnTo>
                <a:lnTo>
                  <a:pt x="176" y="699"/>
                </a:lnTo>
                <a:lnTo>
                  <a:pt x="192" y="710"/>
                </a:lnTo>
                <a:lnTo>
                  <a:pt x="196" y="725"/>
                </a:lnTo>
                <a:lnTo>
                  <a:pt x="205" y="729"/>
                </a:lnTo>
                <a:lnTo>
                  <a:pt x="189" y="725"/>
                </a:lnTo>
                <a:lnTo>
                  <a:pt x="205" y="735"/>
                </a:lnTo>
                <a:lnTo>
                  <a:pt x="209" y="738"/>
                </a:lnTo>
                <a:lnTo>
                  <a:pt x="209" y="735"/>
                </a:lnTo>
                <a:lnTo>
                  <a:pt x="222" y="742"/>
                </a:lnTo>
                <a:lnTo>
                  <a:pt x="224" y="733"/>
                </a:lnTo>
                <a:lnTo>
                  <a:pt x="217" y="735"/>
                </a:lnTo>
                <a:lnTo>
                  <a:pt x="222" y="725"/>
                </a:lnTo>
                <a:lnTo>
                  <a:pt x="230" y="725"/>
                </a:lnTo>
                <a:lnTo>
                  <a:pt x="237" y="714"/>
                </a:lnTo>
                <a:lnTo>
                  <a:pt x="245" y="708"/>
                </a:lnTo>
                <a:lnTo>
                  <a:pt x="273" y="701"/>
                </a:lnTo>
                <a:lnTo>
                  <a:pt x="286" y="686"/>
                </a:lnTo>
                <a:lnTo>
                  <a:pt x="297" y="680"/>
                </a:lnTo>
                <a:lnTo>
                  <a:pt x="297" y="663"/>
                </a:lnTo>
                <a:lnTo>
                  <a:pt x="305" y="680"/>
                </a:lnTo>
                <a:lnTo>
                  <a:pt x="305" y="684"/>
                </a:lnTo>
                <a:lnTo>
                  <a:pt x="297" y="686"/>
                </a:lnTo>
                <a:lnTo>
                  <a:pt x="303" y="695"/>
                </a:lnTo>
                <a:lnTo>
                  <a:pt x="286" y="710"/>
                </a:lnTo>
                <a:lnTo>
                  <a:pt x="286" y="725"/>
                </a:lnTo>
                <a:lnTo>
                  <a:pt x="282" y="738"/>
                </a:lnTo>
                <a:lnTo>
                  <a:pt x="265" y="738"/>
                </a:lnTo>
                <a:lnTo>
                  <a:pt x="258" y="751"/>
                </a:lnTo>
                <a:lnTo>
                  <a:pt x="277" y="748"/>
                </a:lnTo>
                <a:lnTo>
                  <a:pt x="293" y="748"/>
                </a:lnTo>
                <a:lnTo>
                  <a:pt x="303" y="733"/>
                </a:lnTo>
                <a:lnTo>
                  <a:pt x="310" y="716"/>
                </a:lnTo>
                <a:lnTo>
                  <a:pt x="321" y="729"/>
                </a:lnTo>
                <a:lnTo>
                  <a:pt x="325" y="733"/>
                </a:lnTo>
                <a:lnTo>
                  <a:pt x="325" y="742"/>
                </a:lnTo>
                <a:lnTo>
                  <a:pt x="321" y="753"/>
                </a:lnTo>
                <a:lnTo>
                  <a:pt x="310" y="759"/>
                </a:lnTo>
                <a:lnTo>
                  <a:pt x="325" y="759"/>
                </a:lnTo>
                <a:lnTo>
                  <a:pt x="335" y="757"/>
                </a:lnTo>
                <a:lnTo>
                  <a:pt x="351" y="763"/>
                </a:lnTo>
                <a:lnTo>
                  <a:pt x="366" y="772"/>
                </a:lnTo>
                <a:lnTo>
                  <a:pt x="374" y="783"/>
                </a:lnTo>
                <a:lnTo>
                  <a:pt x="379" y="796"/>
                </a:lnTo>
                <a:lnTo>
                  <a:pt x="374" y="804"/>
                </a:lnTo>
                <a:lnTo>
                  <a:pt x="379" y="815"/>
                </a:lnTo>
                <a:lnTo>
                  <a:pt x="394" y="824"/>
                </a:lnTo>
                <a:lnTo>
                  <a:pt x="406" y="832"/>
                </a:lnTo>
                <a:lnTo>
                  <a:pt x="426" y="835"/>
                </a:lnTo>
                <a:lnTo>
                  <a:pt x="439" y="845"/>
                </a:lnTo>
                <a:lnTo>
                  <a:pt x="450" y="845"/>
                </a:lnTo>
                <a:lnTo>
                  <a:pt x="450" y="841"/>
                </a:lnTo>
                <a:lnTo>
                  <a:pt x="471" y="845"/>
                </a:lnTo>
                <a:lnTo>
                  <a:pt x="480" y="845"/>
                </a:lnTo>
                <a:lnTo>
                  <a:pt x="503" y="850"/>
                </a:lnTo>
                <a:lnTo>
                  <a:pt x="514" y="854"/>
                </a:lnTo>
                <a:lnTo>
                  <a:pt x="527" y="858"/>
                </a:lnTo>
                <a:lnTo>
                  <a:pt x="548" y="849"/>
                </a:lnTo>
                <a:lnTo>
                  <a:pt x="563" y="841"/>
                </a:lnTo>
                <a:lnTo>
                  <a:pt x="576" y="845"/>
                </a:lnTo>
                <a:lnTo>
                  <a:pt x="583" y="849"/>
                </a:lnTo>
                <a:lnTo>
                  <a:pt x="604" y="849"/>
                </a:lnTo>
                <a:lnTo>
                  <a:pt x="615" y="854"/>
                </a:lnTo>
                <a:lnTo>
                  <a:pt x="624" y="862"/>
                </a:lnTo>
                <a:lnTo>
                  <a:pt x="632" y="858"/>
                </a:lnTo>
                <a:lnTo>
                  <a:pt x="641" y="867"/>
                </a:lnTo>
                <a:lnTo>
                  <a:pt x="643" y="867"/>
                </a:lnTo>
                <a:lnTo>
                  <a:pt x="649" y="854"/>
                </a:lnTo>
                <a:lnTo>
                  <a:pt x="664" y="850"/>
                </a:lnTo>
                <a:lnTo>
                  <a:pt x="684" y="841"/>
                </a:lnTo>
                <a:lnTo>
                  <a:pt x="705" y="830"/>
                </a:lnTo>
                <a:lnTo>
                  <a:pt x="725" y="830"/>
                </a:lnTo>
                <a:lnTo>
                  <a:pt x="750" y="826"/>
                </a:lnTo>
                <a:lnTo>
                  <a:pt x="770" y="826"/>
                </a:lnTo>
                <a:lnTo>
                  <a:pt x="781" y="819"/>
                </a:lnTo>
                <a:lnTo>
                  <a:pt x="789" y="819"/>
                </a:lnTo>
                <a:lnTo>
                  <a:pt x="789" y="809"/>
                </a:lnTo>
                <a:lnTo>
                  <a:pt x="785" y="800"/>
                </a:lnTo>
                <a:lnTo>
                  <a:pt x="789" y="787"/>
                </a:lnTo>
                <a:lnTo>
                  <a:pt x="793" y="781"/>
                </a:lnTo>
                <a:lnTo>
                  <a:pt x="798" y="766"/>
                </a:lnTo>
                <a:lnTo>
                  <a:pt x="809" y="753"/>
                </a:lnTo>
                <a:lnTo>
                  <a:pt x="821" y="742"/>
                </a:lnTo>
                <a:lnTo>
                  <a:pt x="824" y="725"/>
                </a:lnTo>
                <a:lnTo>
                  <a:pt x="830" y="720"/>
                </a:lnTo>
                <a:lnTo>
                  <a:pt x="841" y="710"/>
                </a:lnTo>
                <a:lnTo>
                  <a:pt x="845" y="695"/>
                </a:lnTo>
                <a:lnTo>
                  <a:pt x="858" y="684"/>
                </a:lnTo>
                <a:lnTo>
                  <a:pt x="862" y="675"/>
                </a:lnTo>
                <a:lnTo>
                  <a:pt x="886" y="667"/>
                </a:lnTo>
                <a:lnTo>
                  <a:pt x="890" y="662"/>
                </a:lnTo>
                <a:lnTo>
                  <a:pt x="901" y="650"/>
                </a:lnTo>
                <a:lnTo>
                  <a:pt x="910" y="635"/>
                </a:lnTo>
                <a:lnTo>
                  <a:pt x="910" y="619"/>
                </a:lnTo>
                <a:lnTo>
                  <a:pt x="910" y="600"/>
                </a:lnTo>
                <a:lnTo>
                  <a:pt x="910" y="609"/>
                </a:lnTo>
                <a:lnTo>
                  <a:pt x="914" y="592"/>
                </a:lnTo>
                <a:lnTo>
                  <a:pt x="922" y="579"/>
                </a:lnTo>
                <a:lnTo>
                  <a:pt x="927" y="564"/>
                </a:lnTo>
                <a:lnTo>
                  <a:pt x="935" y="551"/>
                </a:lnTo>
                <a:lnTo>
                  <a:pt x="935" y="546"/>
                </a:lnTo>
                <a:lnTo>
                  <a:pt x="931" y="533"/>
                </a:lnTo>
                <a:lnTo>
                  <a:pt x="927" y="525"/>
                </a:lnTo>
                <a:lnTo>
                  <a:pt x="931" y="510"/>
                </a:lnTo>
                <a:lnTo>
                  <a:pt x="927" y="510"/>
                </a:lnTo>
                <a:lnTo>
                  <a:pt x="927" y="520"/>
                </a:lnTo>
                <a:lnTo>
                  <a:pt x="922" y="512"/>
                </a:lnTo>
                <a:lnTo>
                  <a:pt x="914" y="506"/>
                </a:lnTo>
                <a:lnTo>
                  <a:pt x="914" y="503"/>
                </a:lnTo>
                <a:lnTo>
                  <a:pt x="918" y="499"/>
                </a:lnTo>
                <a:lnTo>
                  <a:pt x="914" y="484"/>
                </a:lnTo>
                <a:lnTo>
                  <a:pt x="914" y="473"/>
                </a:lnTo>
                <a:lnTo>
                  <a:pt x="918" y="463"/>
                </a:lnTo>
                <a:lnTo>
                  <a:pt x="914" y="458"/>
                </a:lnTo>
                <a:lnTo>
                  <a:pt x="922" y="441"/>
                </a:lnTo>
                <a:lnTo>
                  <a:pt x="927" y="432"/>
                </a:lnTo>
                <a:lnTo>
                  <a:pt x="922" y="426"/>
                </a:lnTo>
                <a:lnTo>
                  <a:pt x="914" y="430"/>
                </a:lnTo>
                <a:lnTo>
                  <a:pt x="918" y="430"/>
                </a:lnTo>
                <a:lnTo>
                  <a:pt x="922" y="435"/>
                </a:lnTo>
                <a:lnTo>
                  <a:pt x="910" y="445"/>
                </a:lnTo>
                <a:lnTo>
                  <a:pt x="910" y="452"/>
                </a:lnTo>
                <a:lnTo>
                  <a:pt x="907" y="445"/>
                </a:lnTo>
                <a:lnTo>
                  <a:pt x="899" y="445"/>
                </a:lnTo>
                <a:lnTo>
                  <a:pt x="890" y="435"/>
                </a:lnTo>
                <a:lnTo>
                  <a:pt x="886" y="426"/>
                </a:lnTo>
                <a:lnTo>
                  <a:pt x="869" y="420"/>
                </a:lnTo>
                <a:lnTo>
                  <a:pt x="866" y="411"/>
                </a:lnTo>
                <a:lnTo>
                  <a:pt x="851" y="405"/>
                </a:lnTo>
                <a:lnTo>
                  <a:pt x="841" y="400"/>
                </a:lnTo>
                <a:lnTo>
                  <a:pt x="830" y="394"/>
                </a:lnTo>
                <a:lnTo>
                  <a:pt x="821" y="391"/>
                </a:lnTo>
                <a:lnTo>
                  <a:pt x="821" y="374"/>
                </a:lnTo>
                <a:lnTo>
                  <a:pt x="821" y="362"/>
                </a:lnTo>
                <a:lnTo>
                  <a:pt x="819" y="357"/>
                </a:lnTo>
                <a:lnTo>
                  <a:pt x="813" y="357"/>
                </a:lnTo>
                <a:lnTo>
                  <a:pt x="819" y="362"/>
                </a:lnTo>
                <a:lnTo>
                  <a:pt x="802" y="357"/>
                </a:lnTo>
                <a:lnTo>
                  <a:pt x="789" y="351"/>
                </a:lnTo>
                <a:lnTo>
                  <a:pt x="785" y="357"/>
                </a:lnTo>
                <a:lnTo>
                  <a:pt x="789" y="362"/>
                </a:lnTo>
                <a:lnTo>
                  <a:pt x="781" y="357"/>
                </a:lnTo>
                <a:lnTo>
                  <a:pt x="772" y="357"/>
                </a:lnTo>
                <a:lnTo>
                  <a:pt x="770" y="344"/>
                </a:lnTo>
                <a:lnTo>
                  <a:pt x="765" y="333"/>
                </a:lnTo>
                <a:lnTo>
                  <a:pt x="761" y="323"/>
                </a:lnTo>
                <a:lnTo>
                  <a:pt x="750" y="310"/>
                </a:lnTo>
                <a:lnTo>
                  <a:pt x="740" y="310"/>
                </a:lnTo>
                <a:lnTo>
                  <a:pt x="733" y="299"/>
                </a:lnTo>
                <a:lnTo>
                  <a:pt x="744" y="299"/>
                </a:lnTo>
                <a:lnTo>
                  <a:pt x="740" y="290"/>
                </a:lnTo>
                <a:lnTo>
                  <a:pt x="729" y="286"/>
                </a:lnTo>
                <a:lnTo>
                  <a:pt x="729" y="290"/>
                </a:lnTo>
                <a:lnTo>
                  <a:pt x="712" y="280"/>
                </a:lnTo>
                <a:lnTo>
                  <a:pt x="705" y="280"/>
                </a:lnTo>
                <a:lnTo>
                  <a:pt x="701" y="275"/>
                </a:lnTo>
                <a:lnTo>
                  <a:pt x="695" y="275"/>
                </a:lnTo>
                <a:lnTo>
                  <a:pt x="695" y="276"/>
                </a:lnTo>
                <a:lnTo>
                  <a:pt x="690" y="275"/>
                </a:lnTo>
                <a:lnTo>
                  <a:pt x="690" y="265"/>
                </a:lnTo>
                <a:lnTo>
                  <a:pt x="673" y="265"/>
                </a:lnTo>
                <a:lnTo>
                  <a:pt x="669" y="258"/>
                </a:lnTo>
                <a:lnTo>
                  <a:pt x="664" y="262"/>
                </a:lnTo>
                <a:lnTo>
                  <a:pt x="649" y="258"/>
                </a:lnTo>
                <a:lnTo>
                  <a:pt x="641" y="247"/>
                </a:lnTo>
                <a:lnTo>
                  <a:pt x="643" y="237"/>
                </a:lnTo>
                <a:lnTo>
                  <a:pt x="628" y="228"/>
                </a:lnTo>
                <a:lnTo>
                  <a:pt x="632" y="222"/>
                </a:lnTo>
                <a:lnTo>
                  <a:pt x="632" y="209"/>
                </a:lnTo>
                <a:lnTo>
                  <a:pt x="628" y="200"/>
                </a:lnTo>
                <a:lnTo>
                  <a:pt x="624" y="189"/>
                </a:lnTo>
                <a:lnTo>
                  <a:pt x="608" y="179"/>
                </a:lnTo>
                <a:lnTo>
                  <a:pt x="608" y="164"/>
                </a:lnTo>
                <a:lnTo>
                  <a:pt x="604" y="147"/>
                </a:lnTo>
                <a:lnTo>
                  <a:pt x="600" y="140"/>
                </a:lnTo>
                <a:lnTo>
                  <a:pt x="604" y="131"/>
                </a:lnTo>
                <a:lnTo>
                  <a:pt x="589" y="125"/>
                </a:lnTo>
                <a:lnTo>
                  <a:pt x="583" y="121"/>
                </a:lnTo>
                <a:lnTo>
                  <a:pt x="572" y="116"/>
                </a:lnTo>
                <a:lnTo>
                  <a:pt x="568" y="106"/>
                </a:lnTo>
                <a:lnTo>
                  <a:pt x="555" y="110"/>
                </a:lnTo>
                <a:lnTo>
                  <a:pt x="551" y="116"/>
                </a:lnTo>
                <a:lnTo>
                  <a:pt x="540" y="116"/>
                </a:lnTo>
                <a:lnTo>
                  <a:pt x="531" y="101"/>
                </a:lnTo>
                <a:lnTo>
                  <a:pt x="527" y="90"/>
                </a:lnTo>
                <a:lnTo>
                  <a:pt x="531" y="82"/>
                </a:lnTo>
                <a:lnTo>
                  <a:pt x="527" y="69"/>
                </a:lnTo>
                <a:lnTo>
                  <a:pt x="527" y="67"/>
                </a:lnTo>
                <a:lnTo>
                  <a:pt x="520" y="67"/>
                </a:lnTo>
                <a:lnTo>
                  <a:pt x="523" y="58"/>
                </a:lnTo>
                <a:lnTo>
                  <a:pt x="512" y="52"/>
                </a:lnTo>
                <a:lnTo>
                  <a:pt x="514" y="39"/>
                </a:lnTo>
                <a:lnTo>
                  <a:pt x="512" y="35"/>
                </a:lnTo>
                <a:lnTo>
                  <a:pt x="503" y="35"/>
                </a:lnTo>
                <a:lnTo>
                  <a:pt x="499" y="22"/>
                </a:lnTo>
                <a:lnTo>
                  <a:pt x="495" y="9"/>
                </a:lnTo>
                <a:lnTo>
                  <a:pt x="486" y="0"/>
                </a:lnTo>
                <a:lnTo>
                  <a:pt x="482" y="0"/>
                </a:lnTo>
                <a:lnTo>
                  <a:pt x="482" y="5"/>
                </a:lnTo>
                <a:lnTo>
                  <a:pt x="471" y="5"/>
                </a:lnTo>
                <a:lnTo>
                  <a:pt x="475" y="17"/>
                </a:lnTo>
                <a:lnTo>
                  <a:pt x="467" y="30"/>
                </a:lnTo>
                <a:lnTo>
                  <a:pt x="454" y="39"/>
                </a:lnTo>
                <a:lnTo>
                  <a:pt x="450" y="54"/>
                </a:lnTo>
                <a:lnTo>
                  <a:pt x="460" y="58"/>
                </a:lnTo>
                <a:lnTo>
                  <a:pt x="450" y="69"/>
                </a:lnTo>
                <a:lnTo>
                  <a:pt x="454" y="82"/>
                </a:lnTo>
                <a:lnTo>
                  <a:pt x="447" y="84"/>
                </a:lnTo>
                <a:lnTo>
                  <a:pt x="447" y="101"/>
                </a:lnTo>
                <a:lnTo>
                  <a:pt x="450" y="110"/>
                </a:lnTo>
                <a:lnTo>
                  <a:pt x="447" y="116"/>
                </a:lnTo>
                <a:lnTo>
                  <a:pt x="450" y="131"/>
                </a:lnTo>
                <a:lnTo>
                  <a:pt x="447" y="146"/>
                </a:lnTo>
                <a:lnTo>
                  <a:pt x="443" y="161"/>
                </a:lnTo>
                <a:lnTo>
                  <a:pt x="439" y="177"/>
                </a:lnTo>
                <a:lnTo>
                  <a:pt x="426" y="190"/>
                </a:lnTo>
                <a:lnTo>
                  <a:pt x="422" y="204"/>
                </a:lnTo>
                <a:lnTo>
                  <a:pt x="406" y="209"/>
                </a:lnTo>
                <a:lnTo>
                  <a:pt x="387" y="213"/>
                </a:lnTo>
                <a:lnTo>
                  <a:pt x="366" y="207"/>
                </a:lnTo>
                <a:lnTo>
                  <a:pt x="359" y="204"/>
                </a:lnTo>
                <a:lnTo>
                  <a:pt x="351" y="190"/>
                </a:lnTo>
                <a:lnTo>
                  <a:pt x="346" y="189"/>
                </a:lnTo>
                <a:lnTo>
                  <a:pt x="331" y="183"/>
                </a:lnTo>
                <a:lnTo>
                  <a:pt x="318" y="183"/>
                </a:lnTo>
                <a:lnTo>
                  <a:pt x="303" y="177"/>
                </a:lnTo>
                <a:lnTo>
                  <a:pt x="293" y="170"/>
                </a:lnTo>
                <a:lnTo>
                  <a:pt x="273" y="161"/>
                </a:lnTo>
                <a:lnTo>
                  <a:pt x="250" y="161"/>
                </a:lnTo>
                <a:lnTo>
                  <a:pt x="241" y="147"/>
                </a:lnTo>
                <a:lnTo>
                  <a:pt x="222" y="140"/>
                </a:lnTo>
                <a:lnTo>
                  <a:pt x="205" y="131"/>
                </a:lnTo>
                <a:lnTo>
                  <a:pt x="196" y="131"/>
                </a:lnTo>
                <a:lnTo>
                  <a:pt x="196" y="125"/>
                </a:lnTo>
                <a:lnTo>
                  <a:pt x="185" y="125"/>
                </a:lnTo>
                <a:lnTo>
                  <a:pt x="196" y="116"/>
                </a:lnTo>
                <a:lnTo>
                  <a:pt x="205" y="118"/>
                </a:lnTo>
                <a:lnTo>
                  <a:pt x="224" y="106"/>
                </a:lnTo>
                <a:lnTo>
                  <a:pt x="224" y="101"/>
                </a:lnTo>
                <a:lnTo>
                  <a:pt x="230" y="90"/>
                </a:lnTo>
                <a:lnTo>
                  <a:pt x="224" y="93"/>
                </a:lnTo>
                <a:lnTo>
                  <a:pt x="222" y="84"/>
                </a:lnTo>
                <a:lnTo>
                  <a:pt x="224" y="78"/>
                </a:lnTo>
                <a:lnTo>
                  <a:pt x="234" y="75"/>
                </a:lnTo>
                <a:lnTo>
                  <a:pt x="241" y="78"/>
                </a:lnTo>
                <a:lnTo>
                  <a:pt x="254" y="69"/>
                </a:lnTo>
                <a:lnTo>
                  <a:pt x="245" y="63"/>
                </a:lnTo>
                <a:lnTo>
                  <a:pt x="258" y="54"/>
                </a:lnTo>
                <a:lnTo>
                  <a:pt x="262" y="48"/>
                </a:lnTo>
                <a:lnTo>
                  <a:pt x="254" y="45"/>
                </a:lnTo>
                <a:lnTo>
                  <a:pt x="250" y="48"/>
                </a:lnTo>
                <a:lnTo>
                  <a:pt x="245" y="39"/>
                </a:lnTo>
                <a:lnTo>
                  <a:pt x="234" y="45"/>
                </a:lnTo>
                <a:lnTo>
                  <a:pt x="241" y="48"/>
                </a:lnTo>
                <a:lnTo>
                  <a:pt x="241" y="54"/>
                </a:lnTo>
                <a:lnTo>
                  <a:pt x="224" y="54"/>
                </a:lnTo>
                <a:lnTo>
                  <a:pt x="224" y="45"/>
                </a:lnTo>
                <a:lnTo>
                  <a:pt x="213" y="48"/>
                </a:lnTo>
                <a:lnTo>
                  <a:pt x="209" y="45"/>
                </a:lnTo>
                <a:lnTo>
                  <a:pt x="217" y="39"/>
                </a:lnTo>
                <a:lnTo>
                  <a:pt x="205" y="43"/>
                </a:lnTo>
                <a:lnTo>
                  <a:pt x="189" y="48"/>
                </a:lnTo>
                <a:lnTo>
                  <a:pt x="176" y="39"/>
                </a:lnTo>
                <a:lnTo>
                  <a:pt x="164" y="43"/>
                </a:lnTo>
                <a:lnTo>
                  <a:pt x="144" y="35"/>
                </a:lnTo>
                <a:lnTo>
                  <a:pt x="136" y="30"/>
                </a:lnTo>
                <a:lnTo>
                  <a:pt x="125" y="32"/>
                </a:lnTo>
                <a:lnTo>
                  <a:pt x="112" y="30"/>
                </a:lnTo>
                <a:lnTo>
                  <a:pt x="104" y="20"/>
                </a:lnTo>
                <a:lnTo>
                  <a:pt x="95" y="20"/>
                </a:lnTo>
                <a:lnTo>
                  <a:pt x="93" y="22"/>
                </a:lnTo>
                <a:lnTo>
                  <a:pt x="80" y="15"/>
                </a:lnTo>
                <a:lnTo>
                  <a:pt x="60" y="17"/>
                </a:lnTo>
                <a:lnTo>
                  <a:pt x="67" y="22"/>
                </a:lnTo>
                <a:lnTo>
                  <a:pt x="84" y="22"/>
                </a:lnTo>
                <a:lnTo>
                  <a:pt x="88" y="30"/>
                </a:lnTo>
                <a:lnTo>
                  <a:pt x="88" y="43"/>
                </a:lnTo>
                <a:lnTo>
                  <a:pt x="63" y="48"/>
                </a:lnTo>
                <a:lnTo>
                  <a:pt x="45" y="48"/>
                </a:lnTo>
                <a:lnTo>
                  <a:pt x="35" y="43"/>
                </a:lnTo>
                <a:lnTo>
                  <a:pt x="32" y="45"/>
                </a:lnTo>
                <a:lnTo>
                  <a:pt x="24" y="45"/>
                </a:lnTo>
              </a:path>
            </a:pathLst>
          </a:custGeom>
          <a:noFill/>
          <a:ln w="324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92080" y="5154480"/>
            <a:ext cx="1800" cy="180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52480" y="5154480"/>
            <a:ext cx="39600" cy="1800"/>
          </a:xfrm>
          <a:custGeom>
            <a:avLst/>
            <a:gdLst/>
            <a:ahLst/>
            <a:rect l="l" t="t" r="r" b="b"/>
            <a:pathLst>
              <a:path w="25" h="0">
                <a:moveTo>
                  <a:pt x="0" y="0"/>
                </a:moveTo>
                <a:lnTo>
                  <a:pt x="25" y="0"/>
                </a:lnTo>
                <a:lnTo>
                  <a:pt x="0" y="0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c8f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52480" y="5154480"/>
            <a:ext cx="3960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52480" y="515448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52480" y="5154480"/>
            <a:ext cx="39600" cy="180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82640" y="51609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43040" y="5160960"/>
            <a:ext cx="39600" cy="14400"/>
          </a:xfrm>
          <a:custGeom>
            <a:avLst/>
            <a:gdLst/>
            <a:ahLst/>
            <a:rect l="l" t="t" r="r" b="b"/>
            <a:pathLst>
              <a:path w="25" h="9">
                <a:moveTo>
                  <a:pt x="0" y="9"/>
                </a:moveTo>
                <a:lnTo>
                  <a:pt x="25" y="0"/>
                </a:lnTo>
                <a:lnTo>
                  <a:pt x="0" y="9"/>
                </a:lnTo>
                <a:close/>
                <a:moveTo>
                  <a:pt x="0" y="9"/>
                </a:moveTo>
                <a:lnTo>
                  <a:pt x="0" y="9"/>
                </a:lnTo>
                <a:close/>
              </a:path>
            </a:pathLst>
          </a:custGeom>
          <a:solidFill>
            <a:srgbClr val="c8f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743040" y="5160960"/>
            <a:ext cx="39600" cy="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43040" y="51753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3360" y="518796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65200" y="4359240"/>
            <a:ext cx="144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52480" y="427680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52480" y="4276800"/>
            <a:ext cx="12600" cy="1440"/>
          </a:xfrm>
          <a:custGeom>
            <a:avLst/>
            <a:gdLst/>
            <a:ahLst/>
            <a:rect l="l" t="t" r="r" b="b"/>
            <a:pathLst>
              <a:path w="8" h="0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close/>
                <a:moveTo>
                  <a:pt x="8" y="0"/>
                </a:moveTo>
                <a:lnTo>
                  <a:pt x="8" y="0"/>
                </a:lnTo>
                <a:close/>
              </a:path>
            </a:pathLst>
          </a:custGeom>
          <a:solidFill>
            <a:srgbClr val="c8f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65080" y="427680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15840" y="4214880"/>
            <a:ext cx="1440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9" y="0"/>
                </a:moveTo>
                <a:lnTo>
                  <a:pt x="9" y="7"/>
                </a:lnTo>
                <a:lnTo>
                  <a:pt x="0" y="7"/>
                </a:lnTo>
                <a:lnTo>
                  <a:pt x="9" y="0"/>
                </a:lnTo>
                <a:close/>
                <a:moveTo>
                  <a:pt x="9" y="0"/>
                </a:moveTo>
                <a:lnTo>
                  <a:pt x="9" y="0"/>
                </a:lnTo>
                <a:close/>
              </a:path>
            </a:pathLst>
          </a:custGeom>
          <a:solidFill>
            <a:srgbClr val="c8f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915840" y="4214880"/>
            <a:ext cx="1440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9" y="0"/>
                </a:moveTo>
                <a:lnTo>
                  <a:pt x="9" y="7"/>
                </a:lnTo>
                <a:lnTo>
                  <a:pt x="0" y="7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930240" y="4214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15840" y="4214880"/>
            <a:ext cx="14400" cy="11160"/>
          </a:xfrm>
          <a:custGeom>
            <a:avLst/>
            <a:gdLst/>
            <a:ahLst/>
            <a:rect l="l" t="t" r="r" b="b"/>
            <a:pathLst>
              <a:path w="9" h="7">
                <a:moveTo>
                  <a:pt x="9" y="0"/>
                </a:moveTo>
                <a:lnTo>
                  <a:pt x="9" y="7"/>
                </a:lnTo>
                <a:lnTo>
                  <a:pt x="0" y="7"/>
                </a:lnTo>
              </a:path>
            </a:pathLst>
          </a:custGeom>
          <a:noFill/>
          <a:ln w="324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930240" y="4214880"/>
            <a:ext cx="1800" cy="144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92080" y="4143240"/>
            <a:ext cx="1484280" cy="1376640"/>
          </a:xfrm>
          <a:custGeom>
            <a:avLst/>
            <a:gdLst/>
            <a:ahLst/>
            <a:rect l="l" t="t" r="r" b="b"/>
            <a:pathLst>
              <a:path w="935" h="867">
                <a:moveTo>
                  <a:pt x="0" y="637"/>
                </a:moveTo>
                <a:lnTo>
                  <a:pt x="0" y="637"/>
                </a:lnTo>
                <a:lnTo>
                  <a:pt x="20" y="637"/>
                </a:lnTo>
                <a:lnTo>
                  <a:pt x="28" y="635"/>
                </a:lnTo>
                <a:lnTo>
                  <a:pt x="52" y="641"/>
                </a:lnTo>
                <a:lnTo>
                  <a:pt x="67" y="650"/>
                </a:lnTo>
                <a:lnTo>
                  <a:pt x="80" y="650"/>
                </a:lnTo>
                <a:lnTo>
                  <a:pt x="84" y="647"/>
                </a:lnTo>
                <a:lnTo>
                  <a:pt x="104" y="652"/>
                </a:lnTo>
                <a:lnTo>
                  <a:pt x="121" y="656"/>
                </a:lnTo>
                <a:lnTo>
                  <a:pt x="136" y="656"/>
                </a:lnTo>
                <a:lnTo>
                  <a:pt x="140" y="663"/>
                </a:lnTo>
                <a:lnTo>
                  <a:pt x="153" y="677"/>
                </a:lnTo>
                <a:lnTo>
                  <a:pt x="157" y="671"/>
                </a:lnTo>
                <a:lnTo>
                  <a:pt x="149" y="677"/>
                </a:lnTo>
                <a:lnTo>
                  <a:pt x="153" y="686"/>
                </a:lnTo>
                <a:lnTo>
                  <a:pt x="174" y="690"/>
                </a:lnTo>
                <a:lnTo>
                  <a:pt x="176" y="699"/>
                </a:lnTo>
                <a:lnTo>
                  <a:pt x="192" y="710"/>
                </a:lnTo>
                <a:lnTo>
                  <a:pt x="196" y="725"/>
                </a:lnTo>
                <a:lnTo>
                  <a:pt x="205" y="729"/>
                </a:lnTo>
                <a:lnTo>
                  <a:pt x="189" y="725"/>
                </a:lnTo>
                <a:lnTo>
                  <a:pt x="205" y="735"/>
                </a:lnTo>
                <a:lnTo>
                  <a:pt x="209" y="738"/>
                </a:lnTo>
                <a:lnTo>
                  <a:pt x="209" y="735"/>
                </a:lnTo>
                <a:lnTo>
                  <a:pt x="222" y="742"/>
                </a:lnTo>
                <a:lnTo>
                  <a:pt x="224" y="733"/>
                </a:lnTo>
                <a:lnTo>
                  <a:pt x="217" y="735"/>
                </a:lnTo>
                <a:lnTo>
                  <a:pt x="222" y="725"/>
                </a:lnTo>
                <a:lnTo>
                  <a:pt x="230" y="725"/>
                </a:lnTo>
                <a:lnTo>
                  <a:pt x="237" y="714"/>
                </a:lnTo>
                <a:lnTo>
                  <a:pt x="245" y="708"/>
                </a:lnTo>
                <a:lnTo>
                  <a:pt x="273" y="701"/>
                </a:lnTo>
                <a:lnTo>
                  <a:pt x="286" y="686"/>
                </a:lnTo>
                <a:lnTo>
                  <a:pt x="297" y="680"/>
                </a:lnTo>
                <a:lnTo>
                  <a:pt x="297" y="663"/>
                </a:lnTo>
                <a:lnTo>
                  <a:pt x="305" y="680"/>
                </a:lnTo>
                <a:lnTo>
                  <a:pt x="305" y="684"/>
                </a:lnTo>
                <a:lnTo>
                  <a:pt x="297" y="686"/>
                </a:lnTo>
                <a:lnTo>
                  <a:pt x="303" y="695"/>
                </a:lnTo>
                <a:lnTo>
                  <a:pt x="286" y="710"/>
                </a:lnTo>
                <a:lnTo>
                  <a:pt x="286" y="725"/>
                </a:lnTo>
                <a:lnTo>
                  <a:pt x="282" y="738"/>
                </a:lnTo>
                <a:lnTo>
                  <a:pt x="265" y="738"/>
                </a:lnTo>
                <a:lnTo>
                  <a:pt x="258" y="751"/>
                </a:lnTo>
                <a:lnTo>
                  <a:pt x="277" y="748"/>
                </a:lnTo>
                <a:lnTo>
                  <a:pt x="293" y="748"/>
                </a:lnTo>
                <a:lnTo>
                  <a:pt x="303" y="733"/>
                </a:lnTo>
                <a:lnTo>
                  <a:pt x="310" y="716"/>
                </a:lnTo>
                <a:lnTo>
                  <a:pt x="321" y="729"/>
                </a:lnTo>
                <a:lnTo>
                  <a:pt x="325" y="733"/>
                </a:lnTo>
                <a:lnTo>
                  <a:pt x="325" y="742"/>
                </a:lnTo>
                <a:lnTo>
                  <a:pt x="321" y="753"/>
                </a:lnTo>
                <a:lnTo>
                  <a:pt x="310" y="759"/>
                </a:lnTo>
                <a:lnTo>
                  <a:pt x="325" y="759"/>
                </a:lnTo>
                <a:lnTo>
                  <a:pt x="335" y="757"/>
                </a:lnTo>
                <a:lnTo>
                  <a:pt x="351" y="763"/>
                </a:lnTo>
                <a:lnTo>
                  <a:pt x="366" y="772"/>
                </a:lnTo>
                <a:lnTo>
                  <a:pt x="374" y="783"/>
                </a:lnTo>
                <a:lnTo>
                  <a:pt x="379" y="796"/>
                </a:lnTo>
                <a:lnTo>
                  <a:pt x="374" y="804"/>
                </a:lnTo>
                <a:lnTo>
                  <a:pt x="379" y="815"/>
                </a:lnTo>
                <a:lnTo>
                  <a:pt x="394" y="824"/>
                </a:lnTo>
                <a:lnTo>
                  <a:pt x="406" y="832"/>
                </a:lnTo>
                <a:lnTo>
                  <a:pt x="426" y="835"/>
                </a:lnTo>
                <a:lnTo>
                  <a:pt x="439" y="845"/>
                </a:lnTo>
                <a:lnTo>
                  <a:pt x="450" y="845"/>
                </a:lnTo>
                <a:lnTo>
                  <a:pt x="450" y="841"/>
                </a:lnTo>
                <a:lnTo>
                  <a:pt x="471" y="845"/>
                </a:lnTo>
                <a:lnTo>
                  <a:pt x="480" y="845"/>
                </a:lnTo>
                <a:lnTo>
                  <a:pt x="503" y="850"/>
                </a:lnTo>
                <a:lnTo>
                  <a:pt x="514" y="854"/>
                </a:lnTo>
                <a:lnTo>
                  <a:pt x="527" y="858"/>
                </a:lnTo>
                <a:lnTo>
                  <a:pt x="548" y="849"/>
                </a:lnTo>
                <a:lnTo>
                  <a:pt x="563" y="841"/>
                </a:lnTo>
                <a:lnTo>
                  <a:pt x="576" y="845"/>
                </a:lnTo>
                <a:lnTo>
                  <a:pt x="583" y="849"/>
                </a:lnTo>
                <a:lnTo>
                  <a:pt x="604" y="849"/>
                </a:lnTo>
                <a:lnTo>
                  <a:pt x="615" y="854"/>
                </a:lnTo>
                <a:lnTo>
                  <a:pt x="624" y="862"/>
                </a:lnTo>
                <a:lnTo>
                  <a:pt x="632" y="858"/>
                </a:lnTo>
                <a:lnTo>
                  <a:pt x="641" y="867"/>
                </a:lnTo>
                <a:lnTo>
                  <a:pt x="643" y="867"/>
                </a:lnTo>
                <a:lnTo>
                  <a:pt x="649" y="854"/>
                </a:lnTo>
                <a:lnTo>
                  <a:pt x="664" y="850"/>
                </a:lnTo>
                <a:lnTo>
                  <a:pt x="684" y="841"/>
                </a:lnTo>
                <a:lnTo>
                  <a:pt x="705" y="830"/>
                </a:lnTo>
                <a:lnTo>
                  <a:pt x="725" y="830"/>
                </a:lnTo>
                <a:lnTo>
                  <a:pt x="750" y="826"/>
                </a:lnTo>
                <a:lnTo>
                  <a:pt x="770" y="826"/>
                </a:lnTo>
                <a:lnTo>
                  <a:pt x="781" y="819"/>
                </a:lnTo>
                <a:lnTo>
                  <a:pt x="789" y="819"/>
                </a:lnTo>
                <a:lnTo>
                  <a:pt x="789" y="809"/>
                </a:lnTo>
                <a:lnTo>
                  <a:pt x="785" y="800"/>
                </a:lnTo>
                <a:lnTo>
                  <a:pt x="789" y="787"/>
                </a:lnTo>
                <a:lnTo>
                  <a:pt x="793" y="781"/>
                </a:lnTo>
                <a:lnTo>
                  <a:pt x="798" y="766"/>
                </a:lnTo>
                <a:lnTo>
                  <a:pt x="809" y="753"/>
                </a:lnTo>
                <a:lnTo>
                  <a:pt x="821" y="742"/>
                </a:lnTo>
                <a:lnTo>
                  <a:pt x="824" y="725"/>
                </a:lnTo>
                <a:lnTo>
                  <a:pt x="830" y="720"/>
                </a:lnTo>
                <a:lnTo>
                  <a:pt x="841" y="710"/>
                </a:lnTo>
                <a:lnTo>
                  <a:pt x="845" y="695"/>
                </a:lnTo>
                <a:lnTo>
                  <a:pt x="858" y="684"/>
                </a:lnTo>
                <a:lnTo>
                  <a:pt x="862" y="675"/>
                </a:lnTo>
                <a:lnTo>
                  <a:pt x="886" y="667"/>
                </a:lnTo>
                <a:lnTo>
                  <a:pt x="890" y="662"/>
                </a:lnTo>
                <a:lnTo>
                  <a:pt x="901" y="650"/>
                </a:lnTo>
                <a:lnTo>
                  <a:pt x="910" y="635"/>
                </a:lnTo>
                <a:lnTo>
                  <a:pt x="910" y="619"/>
                </a:lnTo>
                <a:lnTo>
                  <a:pt x="910" y="600"/>
                </a:lnTo>
                <a:lnTo>
                  <a:pt x="910" y="609"/>
                </a:lnTo>
                <a:lnTo>
                  <a:pt x="914" y="592"/>
                </a:lnTo>
                <a:lnTo>
                  <a:pt x="922" y="579"/>
                </a:lnTo>
                <a:lnTo>
                  <a:pt x="927" y="564"/>
                </a:lnTo>
                <a:lnTo>
                  <a:pt x="935" y="551"/>
                </a:lnTo>
                <a:lnTo>
                  <a:pt x="935" y="546"/>
                </a:lnTo>
                <a:lnTo>
                  <a:pt x="931" y="533"/>
                </a:lnTo>
                <a:lnTo>
                  <a:pt x="927" y="525"/>
                </a:lnTo>
                <a:lnTo>
                  <a:pt x="931" y="510"/>
                </a:lnTo>
                <a:lnTo>
                  <a:pt x="927" y="510"/>
                </a:lnTo>
                <a:lnTo>
                  <a:pt x="927" y="520"/>
                </a:lnTo>
                <a:lnTo>
                  <a:pt x="922" y="512"/>
                </a:lnTo>
                <a:lnTo>
                  <a:pt x="914" y="506"/>
                </a:lnTo>
                <a:lnTo>
                  <a:pt x="914" y="503"/>
                </a:lnTo>
                <a:lnTo>
                  <a:pt x="918" y="499"/>
                </a:lnTo>
                <a:lnTo>
                  <a:pt x="914" y="484"/>
                </a:lnTo>
                <a:lnTo>
                  <a:pt x="914" y="473"/>
                </a:lnTo>
                <a:lnTo>
                  <a:pt x="918" y="463"/>
                </a:lnTo>
                <a:lnTo>
                  <a:pt x="914" y="458"/>
                </a:lnTo>
                <a:lnTo>
                  <a:pt x="922" y="441"/>
                </a:lnTo>
                <a:lnTo>
                  <a:pt x="927" y="432"/>
                </a:lnTo>
                <a:lnTo>
                  <a:pt x="922" y="426"/>
                </a:lnTo>
                <a:lnTo>
                  <a:pt x="914" y="430"/>
                </a:lnTo>
                <a:lnTo>
                  <a:pt x="918" y="430"/>
                </a:lnTo>
                <a:lnTo>
                  <a:pt x="922" y="435"/>
                </a:lnTo>
                <a:lnTo>
                  <a:pt x="910" y="445"/>
                </a:lnTo>
                <a:lnTo>
                  <a:pt x="910" y="452"/>
                </a:lnTo>
                <a:lnTo>
                  <a:pt x="907" y="445"/>
                </a:lnTo>
                <a:lnTo>
                  <a:pt x="899" y="445"/>
                </a:lnTo>
                <a:lnTo>
                  <a:pt x="890" y="435"/>
                </a:lnTo>
                <a:lnTo>
                  <a:pt x="886" y="426"/>
                </a:lnTo>
                <a:lnTo>
                  <a:pt x="869" y="420"/>
                </a:lnTo>
                <a:lnTo>
                  <a:pt x="866" y="411"/>
                </a:lnTo>
                <a:lnTo>
                  <a:pt x="851" y="405"/>
                </a:lnTo>
                <a:lnTo>
                  <a:pt x="841" y="400"/>
                </a:lnTo>
                <a:lnTo>
                  <a:pt x="830" y="394"/>
                </a:lnTo>
                <a:lnTo>
                  <a:pt x="821" y="391"/>
                </a:lnTo>
                <a:lnTo>
                  <a:pt x="821" y="374"/>
                </a:lnTo>
                <a:lnTo>
                  <a:pt x="821" y="362"/>
                </a:lnTo>
                <a:lnTo>
                  <a:pt x="819" y="357"/>
                </a:lnTo>
                <a:lnTo>
                  <a:pt x="813" y="357"/>
                </a:lnTo>
                <a:lnTo>
                  <a:pt x="819" y="362"/>
                </a:lnTo>
                <a:lnTo>
                  <a:pt x="802" y="357"/>
                </a:lnTo>
                <a:lnTo>
                  <a:pt x="789" y="351"/>
                </a:lnTo>
                <a:lnTo>
                  <a:pt x="785" y="357"/>
                </a:lnTo>
                <a:lnTo>
                  <a:pt x="789" y="362"/>
                </a:lnTo>
                <a:lnTo>
                  <a:pt x="781" y="357"/>
                </a:lnTo>
                <a:lnTo>
                  <a:pt x="772" y="357"/>
                </a:lnTo>
                <a:lnTo>
                  <a:pt x="770" y="344"/>
                </a:lnTo>
                <a:lnTo>
                  <a:pt x="765" y="333"/>
                </a:lnTo>
                <a:lnTo>
                  <a:pt x="761" y="323"/>
                </a:lnTo>
                <a:lnTo>
                  <a:pt x="750" y="310"/>
                </a:lnTo>
                <a:lnTo>
                  <a:pt x="740" y="310"/>
                </a:lnTo>
                <a:lnTo>
                  <a:pt x="733" y="299"/>
                </a:lnTo>
                <a:lnTo>
                  <a:pt x="744" y="299"/>
                </a:lnTo>
                <a:lnTo>
                  <a:pt x="740" y="290"/>
                </a:lnTo>
                <a:lnTo>
                  <a:pt x="729" y="286"/>
                </a:lnTo>
                <a:lnTo>
                  <a:pt x="729" y="290"/>
                </a:lnTo>
                <a:lnTo>
                  <a:pt x="712" y="280"/>
                </a:lnTo>
                <a:lnTo>
                  <a:pt x="705" y="280"/>
                </a:lnTo>
                <a:lnTo>
                  <a:pt x="701" y="275"/>
                </a:lnTo>
                <a:lnTo>
                  <a:pt x="695" y="275"/>
                </a:lnTo>
                <a:lnTo>
                  <a:pt x="695" y="276"/>
                </a:lnTo>
                <a:lnTo>
                  <a:pt x="690" y="275"/>
                </a:lnTo>
                <a:lnTo>
                  <a:pt x="690" y="265"/>
                </a:lnTo>
                <a:lnTo>
                  <a:pt x="673" y="265"/>
                </a:lnTo>
                <a:lnTo>
                  <a:pt x="669" y="258"/>
                </a:lnTo>
                <a:lnTo>
                  <a:pt x="664" y="262"/>
                </a:lnTo>
                <a:lnTo>
                  <a:pt x="649" y="258"/>
                </a:lnTo>
                <a:lnTo>
                  <a:pt x="641" y="247"/>
                </a:lnTo>
                <a:lnTo>
                  <a:pt x="643" y="237"/>
                </a:lnTo>
                <a:lnTo>
                  <a:pt x="628" y="228"/>
                </a:lnTo>
                <a:lnTo>
                  <a:pt x="632" y="222"/>
                </a:lnTo>
                <a:lnTo>
                  <a:pt x="632" y="209"/>
                </a:lnTo>
                <a:lnTo>
                  <a:pt x="628" y="200"/>
                </a:lnTo>
                <a:lnTo>
                  <a:pt x="624" y="189"/>
                </a:lnTo>
                <a:lnTo>
                  <a:pt x="608" y="179"/>
                </a:lnTo>
                <a:lnTo>
                  <a:pt x="608" y="164"/>
                </a:lnTo>
                <a:lnTo>
                  <a:pt x="604" y="147"/>
                </a:lnTo>
                <a:lnTo>
                  <a:pt x="600" y="140"/>
                </a:lnTo>
                <a:lnTo>
                  <a:pt x="604" y="131"/>
                </a:lnTo>
                <a:lnTo>
                  <a:pt x="589" y="125"/>
                </a:lnTo>
                <a:lnTo>
                  <a:pt x="583" y="121"/>
                </a:lnTo>
                <a:lnTo>
                  <a:pt x="572" y="116"/>
                </a:lnTo>
                <a:lnTo>
                  <a:pt x="568" y="106"/>
                </a:lnTo>
                <a:lnTo>
                  <a:pt x="555" y="110"/>
                </a:lnTo>
                <a:lnTo>
                  <a:pt x="551" y="116"/>
                </a:lnTo>
                <a:lnTo>
                  <a:pt x="540" y="116"/>
                </a:lnTo>
                <a:lnTo>
                  <a:pt x="531" y="101"/>
                </a:lnTo>
                <a:lnTo>
                  <a:pt x="527" y="90"/>
                </a:lnTo>
                <a:lnTo>
                  <a:pt x="531" y="82"/>
                </a:lnTo>
                <a:lnTo>
                  <a:pt x="527" y="69"/>
                </a:lnTo>
                <a:lnTo>
                  <a:pt x="527" y="67"/>
                </a:lnTo>
                <a:lnTo>
                  <a:pt x="520" y="67"/>
                </a:lnTo>
                <a:lnTo>
                  <a:pt x="523" y="58"/>
                </a:lnTo>
                <a:lnTo>
                  <a:pt x="512" y="52"/>
                </a:lnTo>
                <a:lnTo>
                  <a:pt x="514" y="39"/>
                </a:lnTo>
                <a:lnTo>
                  <a:pt x="512" y="35"/>
                </a:lnTo>
                <a:lnTo>
                  <a:pt x="503" y="35"/>
                </a:lnTo>
                <a:lnTo>
                  <a:pt x="499" y="22"/>
                </a:lnTo>
                <a:lnTo>
                  <a:pt x="495" y="9"/>
                </a:lnTo>
                <a:lnTo>
                  <a:pt x="486" y="0"/>
                </a:lnTo>
                <a:lnTo>
                  <a:pt x="482" y="0"/>
                </a:lnTo>
                <a:lnTo>
                  <a:pt x="482" y="5"/>
                </a:lnTo>
                <a:lnTo>
                  <a:pt x="471" y="5"/>
                </a:lnTo>
                <a:lnTo>
                  <a:pt x="475" y="17"/>
                </a:lnTo>
                <a:lnTo>
                  <a:pt x="467" y="30"/>
                </a:lnTo>
                <a:lnTo>
                  <a:pt x="454" y="39"/>
                </a:lnTo>
                <a:lnTo>
                  <a:pt x="450" y="54"/>
                </a:lnTo>
                <a:lnTo>
                  <a:pt x="460" y="58"/>
                </a:lnTo>
                <a:lnTo>
                  <a:pt x="450" y="69"/>
                </a:lnTo>
                <a:lnTo>
                  <a:pt x="454" y="82"/>
                </a:lnTo>
                <a:lnTo>
                  <a:pt x="447" y="84"/>
                </a:lnTo>
                <a:lnTo>
                  <a:pt x="447" y="101"/>
                </a:lnTo>
                <a:lnTo>
                  <a:pt x="450" y="110"/>
                </a:lnTo>
                <a:lnTo>
                  <a:pt x="447" y="116"/>
                </a:lnTo>
                <a:lnTo>
                  <a:pt x="450" y="131"/>
                </a:lnTo>
                <a:lnTo>
                  <a:pt x="447" y="146"/>
                </a:lnTo>
                <a:lnTo>
                  <a:pt x="443" y="161"/>
                </a:lnTo>
                <a:lnTo>
                  <a:pt x="439" y="177"/>
                </a:lnTo>
                <a:lnTo>
                  <a:pt x="426" y="190"/>
                </a:lnTo>
                <a:lnTo>
                  <a:pt x="422" y="204"/>
                </a:lnTo>
                <a:lnTo>
                  <a:pt x="406" y="209"/>
                </a:lnTo>
                <a:lnTo>
                  <a:pt x="387" y="213"/>
                </a:lnTo>
                <a:lnTo>
                  <a:pt x="366" y="207"/>
                </a:lnTo>
                <a:lnTo>
                  <a:pt x="359" y="204"/>
                </a:lnTo>
                <a:lnTo>
                  <a:pt x="351" y="190"/>
                </a:lnTo>
                <a:lnTo>
                  <a:pt x="346" y="189"/>
                </a:lnTo>
                <a:lnTo>
                  <a:pt x="331" y="183"/>
                </a:lnTo>
                <a:lnTo>
                  <a:pt x="318" y="183"/>
                </a:lnTo>
                <a:lnTo>
                  <a:pt x="303" y="177"/>
                </a:lnTo>
                <a:lnTo>
                  <a:pt x="293" y="170"/>
                </a:lnTo>
                <a:lnTo>
                  <a:pt x="273" y="161"/>
                </a:lnTo>
                <a:lnTo>
                  <a:pt x="250" y="161"/>
                </a:lnTo>
                <a:lnTo>
                  <a:pt x="241" y="147"/>
                </a:lnTo>
                <a:lnTo>
                  <a:pt x="222" y="140"/>
                </a:lnTo>
                <a:lnTo>
                  <a:pt x="205" y="131"/>
                </a:lnTo>
                <a:lnTo>
                  <a:pt x="196" y="131"/>
                </a:lnTo>
                <a:lnTo>
                  <a:pt x="196" y="125"/>
                </a:lnTo>
                <a:lnTo>
                  <a:pt x="185" y="125"/>
                </a:lnTo>
                <a:lnTo>
                  <a:pt x="196" y="116"/>
                </a:lnTo>
                <a:lnTo>
                  <a:pt x="205" y="118"/>
                </a:lnTo>
                <a:lnTo>
                  <a:pt x="224" y="106"/>
                </a:lnTo>
                <a:lnTo>
                  <a:pt x="224" y="101"/>
                </a:lnTo>
                <a:lnTo>
                  <a:pt x="230" y="90"/>
                </a:lnTo>
                <a:lnTo>
                  <a:pt x="224" y="93"/>
                </a:lnTo>
                <a:lnTo>
                  <a:pt x="222" y="84"/>
                </a:lnTo>
                <a:lnTo>
                  <a:pt x="224" y="78"/>
                </a:lnTo>
                <a:lnTo>
                  <a:pt x="234" y="75"/>
                </a:lnTo>
                <a:lnTo>
                  <a:pt x="241" y="78"/>
                </a:lnTo>
                <a:lnTo>
                  <a:pt x="254" y="69"/>
                </a:lnTo>
                <a:lnTo>
                  <a:pt x="245" y="63"/>
                </a:lnTo>
                <a:lnTo>
                  <a:pt x="258" y="54"/>
                </a:lnTo>
                <a:lnTo>
                  <a:pt x="262" y="48"/>
                </a:lnTo>
                <a:lnTo>
                  <a:pt x="254" y="45"/>
                </a:lnTo>
                <a:lnTo>
                  <a:pt x="250" y="48"/>
                </a:lnTo>
                <a:lnTo>
                  <a:pt x="245" y="39"/>
                </a:lnTo>
                <a:lnTo>
                  <a:pt x="234" y="45"/>
                </a:lnTo>
                <a:lnTo>
                  <a:pt x="241" y="48"/>
                </a:lnTo>
                <a:lnTo>
                  <a:pt x="241" y="54"/>
                </a:lnTo>
                <a:lnTo>
                  <a:pt x="224" y="54"/>
                </a:lnTo>
                <a:lnTo>
                  <a:pt x="224" y="45"/>
                </a:lnTo>
                <a:lnTo>
                  <a:pt x="213" y="48"/>
                </a:lnTo>
                <a:lnTo>
                  <a:pt x="209" y="45"/>
                </a:lnTo>
                <a:lnTo>
                  <a:pt x="217" y="39"/>
                </a:lnTo>
                <a:lnTo>
                  <a:pt x="205" y="43"/>
                </a:lnTo>
                <a:lnTo>
                  <a:pt x="189" y="48"/>
                </a:lnTo>
                <a:lnTo>
                  <a:pt x="176" y="39"/>
                </a:lnTo>
                <a:lnTo>
                  <a:pt x="164" y="43"/>
                </a:lnTo>
                <a:lnTo>
                  <a:pt x="144" y="35"/>
                </a:lnTo>
                <a:lnTo>
                  <a:pt x="136" y="30"/>
                </a:lnTo>
                <a:lnTo>
                  <a:pt x="125" y="32"/>
                </a:lnTo>
                <a:lnTo>
                  <a:pt x="112" y="30"/>
                </a:lnTo>
                <a:lnTo>
                  <a:pt x="104" y="20"/>
                </a:lnTo>
                <a:lnTo>
                  <a:pt x="95" y="20"/>
                </a:lnTo>
                <a:lnTo>
                  <a:pt x="93" y="22"/>
                </a:lnTo>
                <a:lnTo>
                  <a:pt x="80" y="15"/>
                </a:lnTo>
                <a:lnTo>
                  <a:pt x="60" y="17"/>
                </a:lnTo>
                <a:lnTo>
                  <a:pt x="67" y="22"/>
                </a:lnTo>
                <a:lnTo>
                  <a:pt x="84" y="22"/>
                </a:lnTo>
                <a:lnTo>
                  <a:pt x="88" y="30"/>
                </a:lnTo>
                <a:lnTo>
                  <a:pt x="88" y="43"/>
                </a:lnTo>
                <a:lnTo>
                  <a:pt x="63" y="48"/>
                </a:lnTo>
                <a:lnTo>
                  <a:pt x="45" y="48"/>
                </a:lnTo>
                <a:lnTo>
                  <a:pt x="35" y="43"/>
                </a:lnTo>
                <a:lnTo>
                  <a:pt x="32" y="45"/>
                </a:lnTo>
                <a:lnTo>
                  <a:pt x="24" y="45"/>
                </a:lnTo>
                <a:lnTo>
                  <a:pt x="24" y="52"/>
                </a:lnTo>
                <a:lnTo>
                  <a:pt x="15" y="52"/>
                </a:lnTo>
                <a:lnTo>
                  <a:pt x="15" y="54"/>
                </a:lnTo>
                <a:lnTo>
                  <a:pt x="7" y="52"/>
                </a:lnTo>
                <a:lnTo>
                  <a:pt x="4" y="58"/>
                </a:lnTo>
                <a:lnTo>
                  <a:pt x="11" y="60"/>
                </a:lnTo>
                <a:lnTo>
                  <a:pt x="0" y="60"/>
                </a:lnTo>
                <a:lnTo>
                  <a:pt x="0" y="63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92080" y="5154480"/>
            <a:ext cx="1800" cy="180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98920" y="5288040"/>
            <a:ext cx="374760" cy="350640"/>
          </a:xfrm>
          <a:custGeom>
            <a:avLst/>
            <a:gdLst/>
            <a:ahLst/>
            <a:rect l="l" t="t" r="r" b="b"/>
            <a:pathLst>
              <a:path w="236" h="221">
                <a:moveTo>
                  <a:pt x="81" y="214"/>
                </a:moveTo>
                <a:lnTo>
                  <a:pt x="92" y="215"/>
                </a:lnTo>
                <a:lnTo>
                  <a:pt x="99" y="215"/>
                </a:lnTo>
                <a:lnTo>
                  <a:pt x="99" y="221"/>
                </a:lnTo>
                <a:lnTo>
                  <a:pt x="120" y="219"/>
                </a:lnTo>
                <a:lnTo>
                  <a:pt x="140" y="204"/>
                </a:lnTo>
                <a:lnTo>
                  <a:pt x="152" y="187"/>
                </a:lnTo>
                <a:lnTo>
                  <a:pt x="168" y="172"/>
                </a:lnTo>
                <a:lnTo>
                  <a:pt x="172" y="161"/>
                </a:lnTo>
                <a:lnTo>
                  <a:pt x="168" y="157"/>
                </a:lnTo>
                <a:lnTo>
                  <a:pt x="176" y="148"/>
                </a:lnTo>
                <a:lnTo>
                  <a:pt x="193" y="146"/>
                </a:lnTo>
                <a:lnTo>
                  <a:pt x="213" y="143"/>
                </a:lnTo>
                <a:lnTo>
                  <a:pt x="225" y="128"/>
                </a:lnTo>
                <a:lnTo>
                  <a:pt x="228" y="111"/>
                </a:lnTo>
                <a:lnTo>
                  <a:pt x="236" y="100"/>
                </a:lnTo>
                <a:lnTo>
                  <a:pt x="225" y="98"/>
                </a:lnTo>
                <a:lnTo>
                  <a:pt x="213" y="98"/>
                </a:lnTo>
                <a:lnTo>
                  <a:pt x="193" y="111"/>
                </a:lnTo>
                <a:lnTo>
                  <a:pt x="172" y="109"/>
                </a:lnTo>
                <a:lnTo>
                  <a:pt x="152" y="105"/>
                </a:lnTo>
                <a:lnTo>
                  <a:pt x="133" y="103"/>
                </a:lnTo>
                <a:lnTo>
                  <a:pt x="129" y="90"/>
                </a:lnTo>
                <a:lnTo>
                  <a:pt x="124" y="83"/>
                </a:lnTo>
                <a:lnTo>
                  <a:pt x="107" y="66"/>
                </a:lnTo>
                <a:lnTo>
                  <a:pt x="112" y="83"/>
                </a:lnTo>
                <a:lnTo>
                  <a:pt x="107" y="88"/>
                </a:lnTo>
                <a:lnTo>
                  <a:pt x="92" y="83"/>
                </a:lnTo>
                <a:lnTo>
                  <a:pt x="81" y="71"/>
                </a:lnTo>
                <a:lnTo>
                  <a:pt x="81" y="60"/>
                </a:lnTo>
                <a:lnTo>
                  <a:pt x="71" y="51"/>
                </a:lnTo>
                <a:lnTo>
                  <a:pt x="71" y="38"/>
                </a:lnTo>
                <a:lnTo>
                  <a:pt x="51" y="25"/>
                </a:lnTo>
                <a:lnTo>
                  <a:pt x="43" y="21"/>
                </a:lnTo>
                <a:lnTo>
                  <a:pt x="32" y="17"/>
                </a:lnTo>
                <a:lnTo>
                  <a:pt x="26" y="14"/>
                </a:lnTo>
                <a:lnTo>
                  <a:pt x="19" y="21"/>
                </a:lnTo>
                <a:lnTo>
                  <a:pt x="11" y="4"/>
                </a:lnTo>
                <a:lnTo>
                  <a:pt x="11" y="0"/>
                </a:lnTo>
                <a:lnTo>
                  <a:pt x="0" y="14"/>
                </a:lnTo>
                <a:lnTo>
                  <a:pt x="15" y="25"/>
                </a:lnTo>
                <a:lnTo>
                  <a:pt x="15" y="27"/>
                </a:lnTo>
                <a:lnTo>
                  <a:pt x="26" y="36"/>
                </a:lnTo>
                <a:lnTo>
                  <a:pt x="43" y="51"/>
                </a:lnTo>
                <a:lnTo>
                  <a:pt x="51" y="60"/>
                </a:lnTo>
                <a:lnTo>
                  <a:pt x="64" y="71"/>
                </a:lnTo>
                <a:lnTo>
                  <a:pt x="71" y="83"/>
                </a:lnTo>
                <a:lnTo>
                  <a:pt x="84" y="98"/>
                </a:lnTo>
                <a:lnTo>
                  <a:pt x="84" y="111"/>
                </a:lnTo>
                <a:lnTo>
                  <a:pt x="81" y="128"/>
                </a:lnTo>
                <a:lnTo>
                  <a:pt x="75" y="137"/>
                </a:lnTo>
                <a:lnTo>
                  <a:pt x="54" y="143"/>
                </a:lnTo>
                <a:lnTo>
                  <a:pt x="43" y="146"/>
                </a:lnTo>
                <a:lnTo>
                  <a:pt x="43" y="156"/>
                </a:lnTo>
                <a:lnTo>
                  <a:pt x="60" y="163"/>
                </a:lnTo>
                <a:lnTo>
                  <a:pt x="64" y="167"/>
                </a:lnTo>
                <a:lnTo>
                  <a:pt x="84" y="169"/>
                </a:lnTo>
                <a:lnTo>
                  <a:pt x="96" y="172"/>
                </a:lnTo>
                <a:lnTo>
                  <a:pt x="99" y="182"/>
                </a:lnTo>
                <a:lnTo>
                  <a:pt x="92" y="199"/>
                </a:lnTo>
                <a:lnTo>
                  <a:pt x="86" y="204"/>
                </a:lnTo>
                <a:lnTo>
                  <a:pt x="81" y="214"/>
                </a:lnTo>
                <a:lnTo>
                  <a:pt x="81" y="2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98920" y="5288040"/>
            <a:ext cx="374760" cy="350640"/>
          </a:xfrm>
          <a:custGeom>
            <a:avLst/>
            <a:gdLst/>
            <a:ahLst/>
            <a:rect l="l" t="t" r="r" b="b"/>
            <a:pathLst>
              <a:path w="236" h="221">
                <a:moveTo>
                  <a:pt x="81" y="214"/>
                </a:moveTo>
                <a:lnTo>
                  <a:pt x="92" y="215"/>
                </a:lnTo>
                <a:lnTo>
                  <a:pt x="99" y="215"/>
                </a:lnTo>
                <a:lnTo>
                  <a:pt x="99" y="221"/>
                </a:lnTo>
                <a:lnTo>
                  <a:pt x="120" y="219"/>
                </a:lnTo>
                <a:lnTo>
                  <a:pt x="140" y="204"/>
                </a:lnTo>
                <a:lnTo>
                  <a:pt x="152" y="187"/>
                </a:lnTo>
                <a:lnTo>
                  <a:pt x="168" y="172"/>
                </a:lnTo>
                <a:lnTo>
                  <a:pt x="172" y="161"/>
                </a:lnTo>
                <a:lnTo>
                  <a:pt x="168" y="157"/>
                </a:lnTo>
                <a:lnTo>
                  <a:pt x="176" y="148"/>
                </a:lnTo>
                <a:lnTo>
                  <a:pt x="193" y="146"/>
                </a:lnTo>
                <a:lnTo>
                  <a:pt x="213" y="143"/>
                </a:lnTo>
                <a:lnTo>
                  <a:pt x="225" y="128"/>
                </a:lnTo>
                <a:lnTo>
                  <a:pt x="228" y="111"/>
                </a:lnTo>
                <a:lnTo>
                  <a:pt x="236" y="100"/>
                </a:lnTo>
                <a:lnTo>
                  <a:pt x="225" y="98"/>
                </a:lnTo>
                <a:lnTo>
                  <a:pt x="213" y="98"/>
                </a:lnTo>
                <a:lnTo>
                  <a:pt x="193" y="111"/>
                </a:lnTo>
                <a:lnTo>
                  <a:pt x="172" y="109"/>
                </a:lnTo>
                <a:lnTo>
                  <a:pt x="152" y="105"/>
                </a:lnTo>
                <a:lnTo>
                  <a:pt x="133" y="103"/>
                </a:lnTo>
                <a:lnTo>
                  <a:pt x="129" y="90"/>
                </a:lnTo>
                <a:lnTo>
                  <a:pt x="124" y="83"/>
                </a:lnTo>
                <a:lnTo>
                  <a:pt x="107" y="66"/>
                </a:lnTo>
                <a:lnTo>
                  <a:pt x="112" y="83"/>
                </a:lnTo>
                <a:lnTo>
                  <a:pt x="107" y="88"/>
                </a:lnTo>
                <a:lnTo>
                  <a:pt x="92" y="83"/>
                </a:lnTo>
                <a:lnTo>
                  <a:pt x="81" y="71"/>
                </a:lnTo>
                <a:lnTo>
                  <a:pt x="81" y="60"/>
                </a:lnTo>
                <a:lnTo>
                  <a:pt x="71" y="51"/>
                </a:lnTo>
                <a:lnTo>
                  <a:pt x="71" y="38"/>
                </a:lnTo>
                <a:lnTo>
                  <a:pt x="51" y="25"/>
                </a:lnTo>
                <a:lnTo>
                  <a:pt x="43" y="21"/>
                </a:lnTo>
                <a:lnTo>
                  <a:pt x="32" y="17"/>
                </a:lnTo>
                <a:lnTo>
                  <a:pt x="26" y="14"/>
                </a:lnTo>
                <a:lnTo>
                  <a:pt x="19" y="21"/>
                </a:lnTo>
                <a:lnTo>
                  <a:pt x="11" y="4"/>
                </a:lnTo>
                <a:lnTo>
                  <a:pt x="11" y="0"/>
                </a:lnTo>
                <a:lnTo>
                  <a:pt x="0" y="14"/>
                </a:lnTo>
                <a:lnTo>
                  <a:pt x="15" y="25"/>
                </a:lnTo>
                <a:lnTo>
                  <a:pt x="15" y="27"/>
                </a:lnTo>
                <a:lnTo>
                  <a:pt x="26" y="36"/>
                </a:lnTo>
                <a:lnTo>
                  <a:pt x="43" y="51"/>
                </a:lnTo>
                <a:lnTo>
                  <a:pt x="51" y="60"/>
                </a:lnTo>
                <a:lnTo>
                  <a:pt x="64" y="71"/>
                </a:lnTo>
                <a:lnTo>
                  <a:pt x="71" y="83"/>
                </a:lnTo>
                <a:lnTo>
                  <a:pt x="84" y="98"/>
                </a:lnTo>
                <a:lnTo>
                  <a:pt x="84" y="111"/>
                </a:lnTo>
                <a:lnTo>
                  <a:pt x="81" y="128"/>
                </a:lnTo>
                <a:lnTo>
                  <a:pt x="75" y="137"/>
                </a:lnTo>
                <a:lnTo>
                  <a:pt x="54" y="143"/>
                </a:lnTo>
                <a:lnTo>
                  <a:pt x="43" y="146"/>
                </a:lnTo>
                <a:lnTo>
                  <a:pt x="43" y="156"/>
                </a:lnTo>
                <a:lnTo>
                  <a:pt x="60" y="163"/>
                </a:lnTo>
                <a:lnTo>
                  <a:pt x="64" y="167"/>
                </a:lnTo>
                <a:lnTo>
                  <a:pt x="84" y="169"/>
                </a:lnTo>
                <a:lnTo>
                  <a:pt x="96" y="172"/>
                </a:lnTo>
                <a:lnTo>
                  <a:pt x="99" y="182"/>
                </a:lnTo>
                <a:lnTo>
                  <a:pt x="92" y="199"/>
                </a:lnTo>
                <a:lnTo>
                  <a:pt x="86" y="204"/>
                </a:lnTo>
                <a:lnTo>
                  <a:pt x="81" y="214"/>
                </a:lnTo>
                <a:lnTo>
                  <a:pt x="81" y="214"/>
                </a:lnTo>
                <a:close/>
              </a:path>
            </a:pathLst>
          </a:custGeom>
          <a:noFill/>
          <a:ln w="324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98920" y="5288040"/>
            <a:ext cx="374760" cy="350640"/>
          </a:xfrm>
          <a:custGeom>
            <a:avLst/>
            <a:gdLst/>
            <a:ahLst/>
            <a:rect l="l" t="t" r="r" b="b"/>
            <a:pathLst>
              <a:path w="236" h="221">
                <a:moveTo>
                  <a:pt x="81" y="214"/>
                </a:moveTo>
                <a:lnTo>
                  <a:pt x="92" y="215"/>
                </a:lnTo>
                <a:lnTo>
                  <a:pt x="99" y="215"/>
                </a:lnTo>
                <a:lnTo>
                  <a:pt x="99" y="221"/>
                </a:lnTo>
                <a:lnTo>
                  <a:pt x="120" y="219"/>
                </a:lnTo>
                <a:lnTo>
                  <a:pt x="140" y="204"/>
                </a:lnTo>
                <a:lnTo>
                  <a:pt x="152" y="187"/>
                </a:lnTo>
                <a:lnTo>
                  <a:pt x="168" y="172"/>
                </a:lnTo>
                <a:lnTo>
                  <a:pt x="172" y="161"/>
                </a:lnTo>
                <a:lnTo>
                  <a:pt x="168" y="157"/>
                </a:lnTo>
                <a:lnTo>
                  <a:pt x="176" y="148"/>
                </a:lnTo>
                <a:lnTo>
                  <a:pt x="193" y="146"/>
                </a:lnTo>
                <a:lnTo>
                  <a:pt x="213" y="143"/>
                </a:lnTo>
                <a:lnTo>
                  <a:pt x="225" y="128"/>
                </a:lnTo>
                <a:lnTo>
                  <a:pt x="228" y="111"/>
                </a:lnTo>
                <a:lnTo>
                  <a:pt x="236" y="100"/>
                </a:lnTo>
                <a:lnTo>
                  <a:pt x="225" y="98"/>
                </a:lnTo>
                <a:lnTo>
                  <a:pt x="213" y="98"/>
                </a:lnTo>
                <a:lnTo>
                  <a:pt x="193" y="111"/>
                </a:lnTo>
                <a:lnTo>
                  <a:pt x="172" y="109"/>
                </a:lnTo>
                <a:lnTo>
                  <a:pt x="152" y="105"/>
                </a:lnTo>
                <a:lnTo>
                  <a:pt x="133" y="103"/>
                </a:lnTo>
                <a:lnTo>
                  <a:pt x="129" y="90"/>
                </a:lnTo>
                <a:lnTo>
                  <a:pt x="124" y="83"/>
                </a:lnTo>
                <a:lnTo>
                  <a:pt x="107" y="66"/>
                </a:lnTo>
                <a:lnTo>
                  <a:pt x="112" y="83"/>
                </a:lnTo>
                <a:lnTo>
                  <a:pt x="107" y="88"/>
                </a:lnTo>
                <a:lnTo>
                  <a:pt x="92" y="83"/>
                </a:lnTo>
                <a:lnTo>
                  <a:pt x="81" y="71"/>
                </a:lnTo>
                <a:lnTo>
                  <a:pt x="81" y="60"/>
                </a:lnTo>
                <a:lnTo>
                  <a:pt x="71" y="51"/>
                </a:lnTo>
                <a:lnTo>
                  <a:pt x="71" y="38"/>
                </a:lnTo>
                <a:lnTo>
                  <a:pt x="51" y="25"/>
                </a:lnTo>
                <a:lnTo>
                  <a:pt x="43" y="21"/>
                </a:lnTo>
                <a:lnTo>
                  <a:pt x="32" y="17"/>
                </a:lnTo>
                <a:lnTo>
                  <a:pt x="26" y="14"/>
                </a:lnTo>
                <a:lnTo>
                  <a:pt x="19" y="21"/>
                </a:lnTo>
                <a:lnTo>
                  <a:pt x="11" y="4"/>
                </a:lnTo>
                <a:lnTo>
                  <a:pt x="11" y="0"/>
                </a:lnTo>
                <a:lnTo>
                  <a:pt x="0" y="14"/>
                </a:lnTo>
                <a:lnTo>
                  <a:pt x="15" y="25"/>
                </a:lnTo>
                <a:lnTo>
                  <a:pt x="15" y="27"/>
                </a:lnTo>
                <a:lnTo>
                  <a:pt x="26" y="36"/>
                </a:lnTo>
                <a:lnTo>
                  <a:pt x="43" y="51"/>
                </a:lnTo>
                <a:lnTo>
                  <a:pt x="51" y="60"/>
                </a:lnTo>
                <a:lnTo>
                  <a:pt x="64" y="71"/>
                </a:lnTo>
                <a:lnTo>
                  <a:pt x="71" y="83"/>
                </a:lnTo>
                <a:lnTo>
                  <a:pt x="84" y="98"/>
                </a:lnTo>
                <a:lnTo>
                  <a:pt x="84" y="111"/>
                </a:lnTo>
                <a:lnTo>
                  <a:pt x="81" y="128"/>
                </a:lnTo>
                <a:lnTo>
                  <a:pt x="75" y="137"/>
                </a:lnTo>
                <a:lnTo>
                  <a:pt x="54" y="143"/>
                </a:lnTo>
                <a:lnTo>
                  <a:pt x="43" y="146"/>
                </a:lnTo>
                <a:lnTo>
                  <a:pt x="43" y="156"/>
                </a:lnTo>
                <a:lnTo>
                  <a:pt x="60" y="163"/>
                </a:lnTo>
                <a:lnTo>
                  <a:pt x="64" y="167"/>
                </a:lnTo>
                <a:lnTo>
                  <a:pt x="84" y="169"/>
                </a:lnTo>
                <a:lnTo>
                  <a:pt x="96" y="172"/>
                </a:lnTo>
                <a:lnTo>
                  <a:pt x="99" y="182"/>
                </a:lnTo>
                <a:lnTo>
                  <a:pt x="92" y="199"/>
                </a:lnTo>
                <a:lnTo>
                  <a:pt x="86" y="204"/>
                </a:lnTo>
                <a:lnTo>
                  <a:pt x="81" y="214"/>
                </a:lnTo>
              </a:path>
            </a:pathLst>
          </a:custGeom>
          <a:solidFill>
            <a:srgbClr val="000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727440" y="5627520"/>
            <a:ext cx="1440" cy="180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49200" y="7454880"/>
            <a:ext cx="1800" cy="144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181320" y="5584680"/>
            <a:ext cx="523800" cy="336600"/>
          </a:xfrm>
          <a:custGeom>
            <a:avLst/>
            <a:gdLst/>
            <a:ahLst/>
            <a:rect l="l" t="t" r="r" b="b"/>
            <a:pathLst>
              <a:path w="330" h="212">
                <a:moveTo>
                  <a:pt x="327" y="27"/>
                </a:moveTo>
                <a:lnTo>
                  <a:pt x="330" y="23"/>
                </a:lnTo>
                <a:lnTo>
                  <a:pt x="314" y="13"/>
                </a:lnTo>
                <a:lnTo>
                  <a:pt x="306" y="13"/>
                </a:lnTo>
                <a:lnTo>
                  <a:pt x="289" y="19"/>
                </a:lnTo>
                <a:lnTo>
                  <a:pt x="278" y="27"/>
                </a:lnTo>
                <a:lnTo>
                  <a:pt x="274" y="12"/>
                </a:lnTo>
                <a:lnTo>
                  <a:pt x="263" y="12"/>
                </a:lnTo>
                <a:lnTo>
                  <a:pt x="263" y="0"/>
                </a:lnTo>
                <a:lnTo>
                  <a:pt x="250" y="8"/>
                </a:lnTo>
                <a:lnTo>
                  <a:pt x="237" y="12"/>
                </a:lnTo>
                <a:lnTo>
                  <a:pt x="237" y="17"/>
                </a:lnTo>
                <a:lnTo>
                  <a:pt x="233" y="28"/>
                </a:lnTo>
                <a:lnTo>
                  <a:pt x="215" y="38"/>
                </a:lnTo>
                <a:lnTo>
                  <a:pt x="209" y="47"/>
                </a:lnTo>
                <a:lnTo>
                  <a:pt x="198" y="62"/>
                </a:lnTo>
                <a:lnTo>
                  <a:pt x="173" y="77"/>
                </a:lnTo>
                <a:lnTo>
                  <a:pt x="153" y="86"/>
                </a:lnTo>
                <a:lnTo>
                  <a:pt x="134" y="96"/>
                </a:lnTo>
                <a:lnTo>
                  <a:pt x="114" y="105"/>
                </a:lnTo>
                <a:lnTo>
                  <a:pt x="104" y="107"/>
                </a:lnTo>
                <a:lnTo>
                  <a:pt x="97" y="107"/>
                </a:lnTo>
                <a:lnTo>
                  <a:pt x="72" y="118"/>
                </a:lnTo>
                <a:lnTo>
                  <a:pt x="54" y="133"/>
                </a:lnTo>
                <a:lnTo>
                  <a:pt x="33" y="139"/>
                </a:lnTo>
                <a:lnTo>
                  <a:pt x="16" y="150"/>
                </a:lnTo>
                <a:lnTo>
                  <a:pt x="0" y="169"/>
                </a:lnTo>
                <a:lnTo>
                  <a:pt x="11" y="178"/>
                </a:lnTo>
                <a:lnTo>
                  <a:pt x="33" y="186"/>
                </a:lnTo>
                <a:lnTo>
                  <a:pt x="48" y="200"/>
                </a:lnTo>
                <a:lnTo>
                  <a:pt x="48" y="212"/>
                </a:lnTo>
                <a:lnTo>
                  <a:pt x="65" y="208"/>
                </a:lnTo>
                <a:lnTo>
                  <a:pt x="80" y="200"/>
                </a:lnTo>
                <a:lnTo>
                  <a:pt x="100" y="195"/>
                </a:lnTo>
                <a:lnTo>
                  <a:pt x="114" y="195"/>
                </a:lnTo>
                <a:lnTo>
                  <a:pt x="134" y="178"/>
                </a:lnTo>
                <a:lnTo>
                  <a:pt x="145" y="169"/>
                </a:lnTo>
                <a:lnTo>
                  <a:pt x="160" y="154"/>
                </a:lnTo>
                <a:lnTo>
                  <a:pt x="181" y="139"/>
                </a:lnTo>
                <a:lnTo>
                  <a:pt x="201" y="124"/>
                </a:lnTo>
                <a:lnTo>
                  <a:pt x="201" y="118"/>
                </a:lnTo>
                <a:lnTo>
                  <a:pt x="215" y="114"/>
                </a:lnTo>
                <a:lnTo>
                  <a:pt x="233" y="107"/>
                </a:lnTo>
                <a:lnTo>
                  <a:pt x="254" y="101"/>
                </a:lnTo>
                <a:lnTo>
                  <a:pt x="274" y="105"/>
                </a:lnTo>
                <a:lnTo>
                  <a:pt x="282" y="101"/>
                </a:lnTo>
                <a:lnTo>
                  <a:pt x="263" y="90"/>
                </a:lnTo>
                <a:lnTo>
                  <a:pt x="263" y="85"/>
                </a:lnTo>
                <a:lnTo>
                  <a:pt x="274" y="77"/>
                </a:lnTo>
                <a:lnTo>
                  <a:pt x="282" y="71"/>
                </a:lnTo>
                <a:lnTo>
                  <a:pt x="299" y="58"/>
                </a:lnTo>
                <a:lnTo>
                  <a:pt x="314" y="47"/>
                </a:lnTo>
                <a:lnTo>
                  <a:pt x="323" y="40"/>
                </a:lnTo>
                <a:lnTo>
                  <a:pt x="317" y="34"/>
                </a:lnTo>
                <a:lnTo>
                  <a:pt x="317" y="28"/>
                </a:lnTo>
                <a:lnTo>
                  <a:pt x="327" y="27"/>
                </a:lnTo>
                <a:lnTo>
                  <a:pt x="327" y="2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181320" y="5584680"/>
            <a:ext cx="523800" cy="336600"/>
          </a:xfrm>
          <a:custGeom>
            <a:avLst/>
            <a:gdLst/>
            <a:ahLst/>
            <a:rect l="l" t="t" r="r" b="b"/>
            <a:pathLst>
              <a:path w="330" h="212">
                <a:moveTo>
                  <a:pt x="327" y="27"/>
                </a:moveTo>
                <a:lnTo>
                  <a:pt x="330" y="23"/>
                </a:lnTo>
                <a:lnTo>
                  <a:pt x="314" y="13"/>
                </a:lnTo>
                <a:lnTo>
                  <a:pt x="306" y="13"/>
                </a:lnTo>
                <a:lnTo>
                  <a:pt x="289" y="19"/>
                </a:lnTo>
                <a:lnTo>
                  <a:pt x="278" y="27"/>
                </a:lnTo>
                <a:lnTo>
                  <a:pt x="274" y="12"/>
                </a:lnTo>
                <a:lnTo>
                  <a:pt x="263" y="12"/>
                </a:lnTo>
                <a:lnTo>
                  <a:pt x="263" y="0"/>
                </a:lnTo>
                <a:lnTo>
                  <a:pt x="250" y="8"/>
                </a:lnTo>
                <a:lnTo>
                  <a:pt x="237" y="12"/>
                </a:lnTo>
                <a:lnTo>
                  <a:pt x="237" y="17"/>
                </a:lnTo>
                <a:lnTo>
                  <a:pt x="233" y="28"/>
                </a:lnTo>
                <a:lnTo>
                  <a:pt x="215" y="38"/>
                </a:lnTo>
                <a:lnTo>
                  <a:pt x="209" y="47"/>
                </a:lnTo>
                <a:lnTo>
                  <a:pt x="198" y="62"/>
                </a:lnTo>
                <a:lnTo>
                  <a:pt x="173" y="77"/>
                </a:lnTo>
                <a:lnTo>
                  <a:pt x="153" y="86"/>
                </a:lnTo>
                <a:lnTo>
                  <a:pt x="134" y="96"/>
                </a:lnTo>
                <a:lnTo>
                  <a:pt x="114" y="105"/>
                </a:lnTo>
                <a:lnTo>
                  <a:pt x="104" y="107"/>
                </a:lnTo>
                <a:lnTo>
                  <a:pt x="97" y="107"/>
                </a:lnTo>
                <a:lnTo>
                  <a:pt x="72" y="118"/>
                </a:lnTo>
                <a:lnTo>
                  <a:pt x="54" y="133"/>
                </a:lnTo>
                <a:lnTo>
                  <a:pt x="33" y="139"/>
                </a:lnTo>
                <a:lnTo>
                  <a:pt x="16" y="150"/>
                </a:lnTo>
                <a:lnTo>
                  <a:pt x="0" y="169"/>
                </a:lnTo>
                <a:lnTo>
                  <a:pt x="11" y="178"/>
                </a:lnTo>
                <a:lnTo>
                  <a:pt x="33" y="186"/>
                </a:lnTo>
                <a:lnTo>
                  <a:pt x="48" y="200"/>
                </a:lnTo>
                <a:lnTo>
                  <a:pt x="48" y="212"/>
                </a:lnTo>
                <a:lnTo>
                  <a:pt x="65" y="208"/>
                </a:lnTo>
                <a:lnTo>
                  <a:pt x="80" y="200"/>
                </a:lnTo>
                <a:lnTo>
                  <a:pt x="100" y="195"/>
                </a:lnTo>
                <a:lnTo>
                  <a:pt x="114" y="195"/>
                </a:lnTo>
                <a:lnTo>
                  <a:pt x="134" y="178"/>
                </a:lnTo>
                <a:lnTo>
                  <a:pt x="145" y="169"/>
                </a:lnTo>
                <a:lnTo>
                  <a:pt x="160" y="154"/>
                </a:lnTo>
                <a:lnTo>
                  <a:pt x="181" y="139"/>
                </a:lnTo>
                <a:lnTo>
                  <a:pt x="201" y="124"/>
                </a:lnTo>
                <a:lnTo>
                  <a:pt x="201" y="118"/>
                </a:lnTo>
                <a:lnTo>
                  <a:pt x="215" y="114"/>
                </a:lnTo>
                <a:lnTo>
                  <a:pt x="233" y="107"/>
                </a:lnTo>
                <a:lnTo>
                  <a:pt x="254" y="101"/>
                </a:lnTo>
                <a:lnTo>
                  <a:pt x="274" y="105"/>
                </a:lnTo>
                <a:lnTo>
                  <a:pt x="282" y="101"/>
                </a:lnTo>
                <a:lnTo>
                  <a:pt x="263" y="90"/>
                </a:lnTo>
                <a:lnTo>
                  <a:pt x="263" y="85"/>
                </a:lnTo>
                <a:lnTo>
                  <a:pt x="274" y="77"/>
                </a:lnTo>
                <a:lnTo>
                  <a:pt x="282" y="71"/>
                </a:lnTo>
                <a:lnTo>
                  <a:pt x="299" y="58"/>
                </a:lnTo>
                <a:lnTo>
                  <a:pt x="314" y="47"/>
                </a:lnTo>
                <a:lnTo>
                  <a:pt x="323" y="40"/>
                </a:lnTo>
                <a:lnTo>
                  <a:pt x="317" y="34"/>
                </a:lnTo>
                <a:lnTo>
                  <a:pt x="317" y="28"/>
                </a:lnTo>
                <a:lnTo>
                  <a:pt x="327" y="27"/>
                </a:lnTo>
                <a:lnTo>
                  <a:pt x="327" y="27"/>
                </a:lnTo>
                <a:close/>
              </a:path>
            </a:pathLst>
          </a:custGeom>
          <a:noFill/>
          <a:ln w="324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81320" y="5584680"/>
            <a:ext cx="523800" cy="336600"/>
          </a:xfrm>
          <a:custGeom>
            <a:avLst/>
            <a:gdLst/>
            <a:ahLst/>
            <a:rect l="l" t="t" r="r" b="b"/>
            <a:pathLst>
              <a:path w="330" h="212">
                <a:moveTo>
                  <a:pt x="327" y="27"/>
                </a:moveTo>
                <a:lnTo>
                  <a:pt x="330" y="23"/>
                </a:lnTo>
                <a:lnTo>
                  <a:pt x="314" y="13"/>
                </a:lnTo>
                <a:lnTo>
                  <a:pt x="306" y="13"/>
                </a:lnTo>
                <a:lnTo>
                  <a:pt x="289" y="19"/>
                </a:lnTo>
                <a:lnTo>
                  <a:pt x="278" y="27"/>
                </a:lnTo>
                <a:lnTo>
                  <a:pt x="274" y="12"/>
                </a:lnTo>
                <a:lnTo>
                  <a:pt x="263" y="12"/>
                </a:lnTo>
                <a:lnTo>
                  <a:pt x="263" y="0"/>
                </a:lnTo>
                <a:lnTo>
                  <a:pt x="250" y="8"/>
                </a:lnTo>
                <a:lnTo>
                  <a:pt x="237" y="12"/>
                </a:lnTo>
                <a:lnTo>
                  <a:pt x="237" y="17"/>
                </a:lnTo>
                <a:lnTo>
                  <a:pt x="233" y="28"/>
                </a:lnTo>
                <a:lnTo>
                  <a:pt x="215" y="38"/>
                </a:lnTo>
                <a:lnTo>
                  <a:pt x="209" y="47"/>
                </a:lnTo>
                <a:lnTo>
                  <a:pt x="198" y="62"/>
                </a:lnTo>
                <a:lnTo>
                  <a:pt x="173" y="77"/>
                </a:lnTo>
                <a:lnTo>
                  <a:pt x="153" y="86"/>
                </a:lnTo>
                <a:lnTo>
                  <a:pt x="134" y="96"/>
                </a:lnTo>
                <a:lnTo>
                  <a:pt x="114" y="105"/>
                </a:lnTo>
                <a:lnTo>
                  <a:pt x="104" y="107"/>
                </a:lnTo>
                <a:lnTo>
                  <a:pt x="97" y="107"/>
                </a:lnTo>
                <a:lnTo>
                  <a:pt x="72" y="118"/>
                </a:lnTo>
                <a:lnTo>
                  <a:pt x="54" y="133"/>
                </a:lnTo>
                <a:lnTo>
                  <a:pt x="33" y="139"/>
                </a:lnTo>
                <a:lnTo>
                  <a:pt x="16" y="150"/>
                </a:lnTo>
                <a:lnTo>
                  <a:pt x="0" y="169"/>
                </a:lnTo>
                <a:lnTo>
                  <a:pt x="11" y="178"/>
                </a:lnTo>
                <a:lnTo>
                  <a:pt x="33" y="186"/>
                </a:lnTo>
                <a:lnTo>
                  <a:pt x="48" y="200"/>
                </a:lnTo>
                <a:lnTo>
                  <a:pt x="48" y="212"/>
                </a:lnTo>
                <a:lnTo>
                  <a:pt x="65" y="208"/>
                </a:lnTo>
                <a:lnTo>
                  <a:pt x="80" y="200"/>
                </a:lnTo>
                <a:lnTo>
                  <a:pt x="100" y="195"/>
                </a:lnTo>
                <a:lnTo>
                  <a:pt x="114" y="195"/>
                </a:lnTo>
                <a:lnTo>
                  <a:pt x="134" y="178"/>
                </a:lnTo>
                <a:lnTo>
                  <a:pt x="145" y="169"/>
                </a:lnTo>
                <a:lnTo>
                  <a:pt x="160" y="154"/>
                </a:lnTo>
                <a:lnTo>
                  <a:pt x="181" y="139"/>
                </a:lnTo>
                <a:lnTo>
                  <a:pt x="201" y="124"/>
                </a:lnTo>
                <a:lnTo>
                  <a:pt x="201" y="118"/>
                </a:lnTo>
                <a:lnTo>
                  <a:pt x="215" y="114"/>
                </a:lnTo>
                <a:lnTo>
                  <a:pt x="233" y="107"/>
                </a:lnTo>
                <a:lnTo>
                  <a:pt x="254" y="101"/>
                </a:lnTo>
                <a:lnTo>
                  <a:pt x="274" y="105"/>
                </a:lnTo>
                <a:lnTo>
                  <a:pt x="282" y="101"/>
                </a:lnTo>
                <a:lnTo>
                  <a:pt x="263" y="90"/>
                </a:lnTo>
                <a:lnTo>
                  <a:pt x="263" y="85"/>
                </a:lnTo>
                <a:lnTo>
                  <a:pt x="274" y="77"/>
                </a:lnTo>
                <a:lnTo>
                  <a:pt x="282" y="71"/>
                </a:lnTo>
                <a:lnTo>
                  <a:pt x="299" y="58"/>
                </a:lnTo>
                <a:lnTo>
                  <a:pt x="314" y="47"/>
                </a:lnTo>
                <a:lnTo>
                  <a:pt x="323" y="40"/>
                </a:lnTo>
                <a:lnTo>
                  <a:pt x="317" y="34"/>
                </a:lnTo>
                <a:lnTo>
                  <a:pt x="317" y="28"/>
                </a:lnTo>
                <a:lnTo>
                  <a:pt x="327" y="2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00440" y="5627520"/>
            <a:ext cx="1440" cy="180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49200" y="7454880"/>
            <a:ext cx="1800" cy="144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580760" y="2532240"/>
            <a:ext cx="50760" cy="58680"/>
          </a:xfrm>
          <a:custGeom>
            <a:avLst/>
            <a:gdLst/>
            <a:ahLst/>
            <a:rect l="l" t="t" r="r" b="b"/>
            <a:pathLst>
              <a:path w="32" h="37">
                <a:moveTo>
                  <a:pt x="32" y="37"/>
                </a:moveTo>
                <a:lnTo>
                  <a:pt x="21" y="13"/>
                </a:lnTo>
                <a:lnTo>
                  <a:pt x="0" y="0"/>
                </a:lnTo>
                <a:lnTo>
                  <a:pt x="32" y="37"/>
                </a:lnTo>
                <a:close/>
                <a:moveTo>
                  <a:pt x="32" y="37"/>
                </a:moveTo>
                <a:lnTo>
                  <a:pt x="32" y="37"/>
                </a:lnTo>
                <a:close/>
              </a:path>
            </a:pathLst>
          </a:custGeom>
          <a:solidFill>
            <a:srgbClr val="c8f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0580760" y="2532240"/>
            <a:ext cx="50760" cy="58680"/>
          </a:xfrm>
          <a:custGeom>
            <a:avLst/>
            <a:gdLst/>
            <a:ahLst/>
            <a:rect l="l" t="t" r="r" b="b"/>
            <a:pathLst>
              <a:path w="32" h="37">
                <a:moveTo>
                  <a:pt x="32" y="37"/>
                </a:moveTo>
                <a:lnTo>
                  <a:pt x="21" y="1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631520" y="2590920"/>
            <a:ext cx="144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580760" y="2532240"/>
            <a:ext cx="50760" cy="58680"/>
          </a:xfrm>
          <a:custGeom>
            <a:avLst/>
            <a:gdLst/>
            <a:ahLst/>
            <a:rect l="l" t="t" r="r" b="b"/>
            <a:pathLst>
              <a:path w="32" h="37">
                <a:moveTo>
                  <a:pt x="32" y="37"/>
                </a:moveTo>
                <a:lnTo>
                  <a:pt x="21" y="13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0631520" y="2590920"/>
            <a:ext cx="1440" cy="144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94400" y="2644920"/>
            <a:ext cx="82440" cy="68040"/>
          </a:xfrm>
          <a:custGeom>
            <a:avLst/>
            <a:gdLst/>
            <a:ahLst/>
            <a:rect l="l" t="t" r="r" b="b"/>
            <a:pathLst>
              <a:path w="52" h="43">
                <a:moveTo>
                  <a:pt x="11" y="0"/>
                </a:moveTo>
                <a:lnTo>
                  <a:pt x="20" y="0"/>
                </a:lnTo>
                <a:lnTo>
                  <a:pt x="22" y="0"/>
                </a:lnTo>
                <a:lnTo>
                  <a:pt x="39" y="5"/>
                </a:lnTo>
                <a:lnTo>
                  <a:pt x="39" y="13"/>
                </a:lnTo>
                <a:lnTo>
                  <a:pt x="39" y="15"/>
                </a:lnTo>
                <a:lnTo>
                  <a:pt x="43" y="15"/>
                </a:lnTo>
                <a:lnTo>
                  <a:pt x="52" y="18"/>
                </a:lnTo>
                <a:lnTo>
                  <a:pt x="43" y="28"/>
                </a:lnTo>
                <a:lnTo>
                  <a:pt x="22" y="30"/>
                </a:lnTo>
                <a:lnTo>
                  <a:pt x="20" y="35"/>
                </a:lnTo>
                <a:lnTo>
                  <a:pt x="20" y="43"/>
                </a:lnTo>
                <a:lnTo>
                  <a:pt x="11" y="33"/>
                </a:lnTo>
                <a:lnTo>
                  <a:pt x="11" y="28"/>
                </a:lnTo>
                <a:lnTo>
                  <a:pt x="3" y="15"/>
                </a:lnTo>
                <a:lnTo>
                  <a:pt x="0" y="15"/>
                </a:lnTo>
                <a:lnTo>
                  <a:pt x="11" y="5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solidFill>
            <a:srgbClr val="c8f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94400" y="2644920"/>
            <a:ext cx="82440" cy="68040"/>
          </a:xfrm>
          <a:custGeom>
            <a:avLst/>
            <a:gdLst/>
            <a:ahLst/>
            <a:rect l="l" t="t" r="r" b="b"/>
            <a:pathLst>
              <a:path w="52" h="43">
                <a:moveTo>
                  <a:pt x="11" y="0"/>
                </a:moveTo>
                <a:lnTo>
                  <a:pt x="20" y="0"/>
                </a:lnTo>
                <a:lnTo>
                  <a:pt x="22" y="0"/>
                </a:lnTo>
                <a:lnTo>
                  <a:pt x="39" y="5"/>
                </a:lnTo>
                <a:lnTo>
                  <a:pt x="39" y="13"/>
                </a:lnTo>
                <a:lnTo>
                  <a:pt x="39" y="15"/>
                </a:lnTo>
                <a:lnTo>
                  <a:pt x="43" y="15"/>
                </a:lnTo>
                <a:lnTo>
                  <a:pt x="52" y="18"/>
                </a:lnTo>
                <a:lnTo>
                  <a:pt x="43" y="28"/>
                </a:lnTo>
                <a:lnTo>
                  <a:pt x="22" y="30"/>
                </a:lnTo>
                <a:lnTo>
                  <a:pt x="20" y="35"/>
                </a:lnTo>
                <a:lnTo>
                  <a:pt x="20" y="43"/>
                </a:lnTo>
                <a:lnTo>
                  <a:pt x="11" y="33"/>
                </a:lnTo>
                <a:lnTo>
                  <a:pt x="11" y="28"/>
                </a:lnTo>
                <a:lnTo>
                  <a:pt x="3" y="15"/>
                </a:lnTo>
                <a:lnTo>
                  <a:pt x="0" y="15"/>
                </a:lnTo>
                <a:lnTo>
                  <a:pt x="11" y="5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noFill/>
          <a:ln w="324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594400" y="2644920"/>
            <a:ext cx="82440" cy="68040"/>
          </a:xfrm>
          <a:custGeom>
            <a:avLst/>
            <a:gdLst/>
            <a:ahLst/>
            <a:rect l="l" t="t" r="r" b="b"/>
            <a:pathLst>
              <a:path w="52" h="43">
                <a:moveTo>
                  <a:pt x="11" y="0"/>
                </a:moveTo>
                <a:lnTo>
                  <a:pt x="20" y="0"/>
                </a:lnTo>
                <a:lnTo>
                  <a:pt x="22" y="0"/>
                </a:lnTo>
                <a:lnTo>
                  <a:pt x="39" y="5"/>
                </a:lnTo>
                <a:lnTo>
                  <a:pt x="39" y="13"/>
                </a:lnTo>
                <a:lnTo>
                  <a:pt x="39" y="15"/>
                </a:lnTo>
                <a:lnTo>
                  <a:pt x="43" y="15"/>
                </a:lnTo>
                <a:lnTo>
                  <a:pt x="52" y="18"/>
                </a:lnTo>
                <a:lnTo>
                  <a:pt x="43" y="28"/>
                </a:lnTo>
                <a:lnTo>
                  <a:pt x="22" y="30"/>
                </a:lnTo>
                <a:lnTo>
                  <a:pt x="20" y="35"/>
                </a:lnTo>
                <a:lnTo>
                  <a:pt x="20" y="43"/>
                </a:lnTo>
                <a:lnTo>
                  <a:pt x="11" y="33"/>
                </a:lnTo>
                <a:lnTo>
                  <a:pt x="11" y="28"/>
                </a:lnTo>
                <a:lnTo>
                  <a:pt x="3" y="15"/>
                </a:lnTo>
                <a:lnTo>
                  <a:pt x="0" y="15"/>
                </a:lnTo>
                <a:lnTo>
                  <a:pt x="11" y="5"/>
                </a:lnTo>
                <a:lnTo>
                  <a:pt x="11" y="0"/>
                </a:lnTo>
              </a:path>
            </a:pathLst>
          </a:custGeom>
          <a:solidFill>
            <a:srgbClr val="000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611680" y="2644920"/>
            <a:ext cx="1800" cy="144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49200" y="7454880"/>
            <a:ext cx="1800" cy="144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22520" y="1198440"/>
            <a:ext cx="17280" cy="196920"/>
          </a:xfrm>
          <a:custGeom>
            <a:avLst/>
            <a:gdLst/>
            <a:ahLst/>
            <a:rect l="l" t="t" r="r" b="b"/>
            <a:pathLst>
              <a:path w="11" h="124">
                <a:moveTo>
                  <a:pt x="7" y="124"/>
                </a:moveTo>
                <a:lnTo>
                  <a:pt x="0" y="107"/>
                </a:lnTo>
                <a:lnTo>
                  <a:pt x="7" y="95"/>
                </a:lnTo>
                <a:lnTo>
                  <a:pt x="11" y="92"/>
                </a:lnTo>
                <a:lnTo>
                  <a:pt x="11" y="86"/>
                </a:lnTo>
                <a:lnTo>
                  <a:pt x="7" y="86"/>
                </a:lnTo>
                <a:lnTo>
                  <a:pt x="7" y="101"/>
                </a:lnTo>
                <a:lnTo>
                  <a:pt x="11" y="62"/>
                </a:lnTo>
                <a:lnTo>
                  <a:pt x="7" y="47"/>
                </a:lnTo>
                <a:lnTo>
                  <a:pt x="0" y="39"/>
                </a:lnTo>
                <a:lnTo>
                  <a:pt x="7" y="34"/>
                </a:lnTo>
                <a:lnTo>
                  <a:pt x="11" y="15"/>
                </a:lnTo>
                <a:lnTo>
                  <a:pt x="11" y="0"/>
                </a:lnTo>
                <a:lnTo>
                  <a:pt x="7" y="0"/>
                </a:lnTo>
                <a:lnTo>
                  <a:pt x="7" y="124"/>
                </a:lnTo>
                <a:lnTo>
                  <a:pt x="7" y="1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622520" y="1198440"/>
            <a:ext cx="17280" cy="196920"/>
          </a:xfrm>
          <a:custGeom>
            <a:avLst/>
            <a:gdLst/>
            <a:ahLst/>
            <a:rect l="l" t="t" r="r" b="b"/>
            <a:pathLst>
              <a:path w="11" h="124">
                <a:moveTo>
                  <a:pt x="7" y="124"/>
                </a:moveTo>
                <a:lnTo>
                  <a:pt x="0" y="107"/>
                </a:lnTo>
                <a:lnTo>
                  <a:pt x="7" y="95"/>
                </a:lnTo>
                <a:lnTo>
                  <a:pt x="11" y="92"/>
                </a:lnTo>
                <a:lnTo>
                  <a:pt x="11" y="86"/>
                </a:lnTo>
                <a:lnTo>
                  <a:pt x="7" y="86"/>
                </a:lnTo>
                <a:lnTo>
                  <a:pt x="7" y="101"/>
                </a:lnTo>
                <a:lnTo>
                  <a:pt x="11" y="62"/>
                </a:lnTo>
                <a:lnTo>
                  <a:pt x="7" y="47"/>
                </a:lnTo>
                <a:lnTo>
                  <a:pt x="0" y="39"/>
                </a:lnTo>
                <a:lnTo>
                  <a:pt x="7" y="34"/>
                </a:lnTo>
                <a:lnTo>
                  <a:pt x="11" y="15"/>
                </a:lnTo>
                <a:lnTo>
                  <a:pt x="11" y="0"/>
                </a:lnTo>
                <a:lnTo>
                  <a:pt x="7" y="0"/>
                </a:lnTo>
                <a:lnTo>
                  <a:pt x="7" y="124"/>
                </a:lnTo>
                <a:lnTo>
                  <a:pt x="7" y="124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22520" y="1198440"/>
            <a:ext cx="17280" cy="196920"/>
          </a:xfrm>
          <a:custGeom>
            <a:avLst/>
            <a:gdLst/>
            <a:ahLst/>
            <a:rect l="l" t="t" r="r" b="b"/>
            <a:pathLst>
              <a:path w="11" h="124">
                <a:moveTo>
                  <a:pt x="7" y="124"/>
                </a:moveTo>
                <a:lnTo>
                  <a:pt x="0" y="107"/>
                </a:lnTo>
                <a:lnTo>
                  <a:pt x="7" y="95"/>
                </a:lnTo>
                <a:lnTo>
                  <a:pt x="11" y="92"/>
                </a:lnTo>
                <a:lnTo>
                  <a:pt x="11" y="86"/>
                </a:lnTo>
                <a:lnTo>
                  <a:pt x="7" y="86"/>
                </a:lnTo>
                <a:lnTo>
                  <a:pt x="7" y="101"/>
                </a:lnTo>
                <a:lnTo>
                  <a:pt x="11" y="62"/>
                </a:lnTo>
                <a:lnTo>
                  <a:pt x="7" y="47"/>
                </a:lnTo>
                <a:lnTo>
                  <a:pt x="0" y="39"/>
                </a:lnTo>
                <a:lnTo>
                  <a:pt x="7" y="34"/>
                </a:lnTo>
                <a:lnTo>
                  <a:pt x="11" y="15"/>
                </a:lnTo>
                <a:lnTo>
                  <a:pt x="11" y="0"/>
                </a:lnTo>
                <a:lnTo>
                  <a:pt x="7" y="0"/>
                </a:lnTo>
                <a:lnTo>
                  <a:pt x="7" y="124"/>
                </a:lnTo>
              </a:path>
            </a:pathLst>
          </a:custGeom>
          <a:solidFill>
            <a:srgbClr val="000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33680" y="1395360"/>
            <a:ext cx="1440" cy="1800"/>
          </a:xfrm>
          <a:prstGeom prst="line">
            <a:avLst/>
          </a:prstGeom>
          <a:ln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49200" y="7454880"/>
            <a:ext cx="1800" cy="144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633680" y="1198440"/>
            <a:ext cx="177480" cy="198720"/>
          </a:xfrm>
          <a:custGeom>
            <a:avLst/>
            <a:gdLst/>
            <a:ahLst/>
            <a:rect l="l" t="t" r="r" b="b"/>
            <a:pathLst>
              <a:path w="112" h="125">
                <a:moveTo>
                  <a:pt x="81" y="0"/>
                </a:moveTo>
                <a:lnTo>
                  <a:pt x="81" y="0"/>
                </a:lnTo>
                <a:lnTo>
                  <a:pt x="94" y="24"/>
                </a:lnTo>
                <a:lnTo>
                  <a:pt x="101" y="30"/>
                </a:lnTo>
                <a:lnTo>
                  <a:pt x="105" y="34"/>
                </a:lnTo>
                <a:lnTo>
                  <a:pt x="105" y="39"/>
                </a:lnTo>
                <a:lnTo>
                  <a:pt x="112" y="47"/>
                </a:lnTo>
                <a:lnTo>
                  <a:pt x="105" y="47"/>
                </a:lnTo>
                <a:lnTo>
                  <a:pt x="101" y="34"/>
                </a:lnTo>
                <a:lnTo>
                  <a:pt x="84" y="24"/>
                </a:lnTo>
                <a:lnTo>
                  <a:pt x="53" y="24"/>
                </a:lnTo>
                <a:lnTo>
                  <a:pt x="40" y="24"/>
                </a:lnTo>
                <a:lnTo>
                  <a:pt x="40" y="34"/>
                </a:lnTo>
                <a:lnTo>
                  <a:pt x="25" y="62"/>
                </a:lnTo>
                <a:lnTo>
                  <a:pt x="25" y="71"/>
                </a:lnTo>
                <a:lnTo>
                  <a:pt x="25" y="77"/>
                </a:lnTo>
                <a:lnTo>
                  <a:pt x="40" y="86"/>
                </a:lnTo>
                <a:lnTo>
                  <a:pt x="45" y="92"/>
                </a:lnTo>
                <a:lnTo>
                  <a:pt x="45" y="101"/>
                </a:lnTo>
                <a:lnTo>
                  <a:pt x="60" y="101"/>
                </a:lnTo>
                <a:lnTo>
                  <a:pt x="64" y="116"/>
                </a:lnTo>
                <a:lnTo>
                  <a:pt x="53" y="124"/>
                </a:lnTo>
                <a:lnTo>
                  <a:pt x="53" y="116"/>
                </a:lnTo>
                <a:lnTo>
                  <a:pt x="53" y="107"/>
                </a:lnTo>
                <a:lnTo>
                  <a:pt x="45" y="107"/>
                </a:lnTo>
                <a:lnTo>
                  <a:pt x="32" y="107"/>
                </a:lnTo>
                <a:lnTo>
                  <a:pt x="25" y="101"/>
                </a:lnTo>
                <a:lnTo>
                  <a:pt x="19" y="107"/>
                </a:lnTo>
                <a:lnTo>
                  <a:pt x="4" y="124"/>
                </a:lnTo>
                <a:lnTo>
                  <a:pt x="4" y="125"/>
                </a:lnTo>
                <a:lnTo>
                  <a:pt x="0" y="124"/>
                </a:lnTo>
                <a:lnTo>
                  <a:pt x="0" y="0"/>
                </a:lnTo>
                <a:lnTo>
                  <a:pt x="81" y="0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33680" y="1198440"/>
            <a:ext cx="177480" cy="198720"/>
          </a:xfrm>
          <a:custGeom>
            <a:avLst/>
            <a:gdLst/>
            <a:ahLst/>
            <a:rect l="l" t="t" r="r" b="b"/>
            <a:pathLst>
              <a:path w="112" h="125">
                <a:moveTo>
                  <a:pt x="81" y="0"/>
                </a:moveTo>
                <a:lnTo>
                  <a:pt x="81" y="0"/>
                </a:lnTo>
                <a:lnTo>
                  <a:pt x="94" y="24"/>
                </a:lnTo>
                <a:lnTo>
                  <a:pt x="101" y="30"/>
                </a:lnTo>
                <a:lnTo>
                  <a:pt x="105" y="34"/>
                </a:lnTo>
                <a:lnTo>
                  <a:pt x="105" y="39"/>
                </a:lnTo>
                <a:lnTo>
                  <a:pt x="112" y="47"/>
                </a:lnTo>
                <a:lnTo>
                  <a:pt x="105" y="47"/>
                </a:lnTo>
                <a:lnTo>
                  <a:pt x="101" y="34"/>
                </a:lnTo>
                <a:lnTo>
                  <a:pt x="84" y="24"/>
                </a:lnTo>
                <a:lnTo>
                  <a:pt x="53" y="24"/>
                </a:lnTo>
                <a:lnTo>
                  <a:pt x="40" y="24"/>
                </a:lnTo>
                <a:lnTo>
                  <a:pt x="40" y="34"/>
                </a:lnTo>
                <a:lnTo>
                  <a:pt x="25" y="62"/>
                </a:lnTo>
                <a:lnTo>
                  <a:pt x="25" y="71"/>
                </a:lnTo>
                <a:lnTo>
                  <a:pt x="25" y="77"/>
                </a:lnTo>
                <a:lnTo>
                  <a:pt x="40" y="86"/>
                </a:lnTo>
                <a:lnTo>
                  <a:pt x="45" y="92"/>
                </a:lnTo>
                <a:lnTo>
                  <a:pt x="45" y="101"/>
                </a:lnTo>
                <a:lnTo>
                  <a:pt x="60" y="101"/>
                </a:lnTo>
                <a:lnTo>
                  <a:pt x="64" y="116"/>
                </a:lnTo>
                <a:lnTo>
                  <a:pt x="53" y="124"/>
                </a:lnTo>
                <a:lnTo>
                  <a:pt x="53" y="116"/>
                </a:lnTo>
                <a:lnTo>
                  <a:pt x="53" y="107"/>
                </a:lnTo>
                <a:lnTo>
                  <a:pt x="45" y="107"/>
                </a:lnTo>
                <a:lnTo>
                  <a:pt x="32" y="107"/>
                </a:lnTo>
                <a:lnTo>
                  <a:pt x="25" y="101"/>
                </a:lnTo>
                <a:lnTo>
                  <a:pt x="19" y="107"/>
                </a:lnTo>
                <a:lnTo>
                  <a:pt x="4" y="124"/>
                </a:lnTo>
                <a:lnTo>
                  <a:pt x="4" y="125"/>
                </a:lnTo>
                <a:lnTo>
                  <a:pt x="0" y="124"/>
                </a:lnTo>
                <a:lnTo>
                  <a:pt x="0" y="0"/>
                </a:lnTo>
                <a:lnTo>
                  <a:pt x="81" y="0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633680" y="1198440"/>
            <a:ext cx="177480" cy="198720"/>
          </a:xfrm>
          <a:custGeom>
            <a:avLst/>
            <a:gdLst/>
            <a:ahLst/>
            <a:rect l="l" t="t" r="r" b="b"/>
            <a:pathLst>
              <a:path w="112" h="125">
                <a:moveTo>
                  <a:pt x="81" y="0"/>
                </a:moveTo>
                <a:lnTo>
                  <a:pt x="81" y="0"/>
                </a:lnTo>
                <a:lnTo>
                  <a:pt x="94" y="24"/>
                </a:lnTo>
                <a:lnTo>
                  <a:pt x="101" y="30"/>
                </a:lnTo>
                <a:lnTo>
                  <a:pt x="105" y="34"/>
                </a:lnTo>
                <a:lnTo>
                  <a:pt x="105" y="39"/>
                </a:lnTo>
                <a:lnTo>
                  <a:pt x="112" y="47"/>
                </a:lnTo>
                <a:lnTo>
                  <a:pt x="105" y="47"/>
                </a:lnTo>
                <a:lnTo>
                  <a:pt x="101" y="34"/>
                </a:lnTo>
                <a:lnTo>
                  <a:pt x="84" y="24"/>
                </a:lnTo>
                <a:lnTo>
                  <a:pt x="53" y="24"/>
                </a:lnTo>
                <a:lnTo>
                  <a:pt x="40" y="24"/>
                </a:lnTo>
                <a:lnTo>
                  <a:pt x="40" y="34"/>
                </a:lnTo>
                <a:lnTo>
                  <a:pt x="25" y="62"/>
                </a:lnTo>
                <a:lnTo>
                  <a:pt x="25" y="71"/>
                </a:lnTo>
                <a:lnTo>
                  <a:pt x="25" y="77"/>
                </a:lnTo>
                <a:lnTo>
                  <a:pt x="40" y="86"/>
                </a:lnTo>
                <a:lnTo>
                  <a:pt x="45" y="92"/>
                </a:lnTo>
                <a:lnTo>
                  <a:pt x="45" y="101"/>
                </a:lnTo>
                <a:lnTo>
                  <a:pt x="60" y="101"/>
                </a:lnTo>
                <a:lnTo>
                  <a:pt x="64" y="116"/>
                </a:lnTo>
                <a:lnTo>
                  <a:pt x="53" y="124"/>
                </a:lnTo>
                <a:lnTo>
                  <a:pt x="53" y="116"/>
                </a:lnTo>
                <a:lnTo>
                  <a:pt x="53" y="107"/>
                </a:lnTo>
                <a:lnTo>
                  <a:pt x="45" y="107"/>
                </a:lnTo>
                <a:lnTo>
                  <a:pt x="32" y="107"/>
                </a:lnTo>
                <a:lnTo>
                  <a:pt x="25" y="101"/>
                </a:lnTo>
                <a:lnTo>
                  <a:pt x="19" y="107"/>
                </a:lnTo>
                <a:lnTo>
                  <a:pt x="4" y="124"/>
                </a:lnTo>
                <a:lnTo>
                  <a:pt x="4" y="125"/>
                </a:lnTo>
                <a:lnTo>
                  <a:pt x="0" y="124"/>
                </a:lnTo>
                <a:lnTo>
                  <a:pt x="0" y="0"/>
                </a:lnTo>
                <a:lnTo>
                  <a:pt x="81" y="0"/>
                </a:lnTo>
              </a:path>
            </a:pathLst>
          </a:custGeom>
          <a:solidFill>
            <a:srgbClr val="000000"/>
          </a:solidFill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762200" y="1198440"/>
            <a:ext cx="1440" cy="1800"/>
          </a:xfrm>
          <a:prstGeom prst="line">
            <a:avLst/>
          </a:prstGeom>
          <a:ln w="3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9200" y="7454880"/>
            <a:ext cx="1800" cy="144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915840" y="3641760"/>
            <a:ext cx="1279800" cy="495360"/>
          </a:xfrm>
          <a:custGeom>
            <a:avLst/>
            <a:gdLst/>
            <a:ahLst/>
            <a:rect l="l" t="t" r="r" b="b"/>
            <a:pathLst>
              <a:path w="806" h="312">
                <a:moveTo>
                  <a:pt x="282" y="232"/>
                </a:moveTo>
                <a:lnTo>
                  <a:pt x="282" y="235"/>
                </a:lnTo>
                <a:lnTo>
                  <a:pt x="275" y="241"/>
                </a:lnTo>
                <a:lnTo>
                  <a:pt x="323" y="241"/>
                </a:lnTo>
                <a:lnTo>
                  <a:pt x="336" y="235"/>
                </a:lnTo>
                <a:lnTo>
                  <a:pt x="344" y="235"/>
                </a:lnTo>
                <a:lnTo>
                  <a:pt x="351" y="235"/>
                </a:lnTo>
                <a:lnTo>
                  <a:pt x="355" y="235"/>
                </a:lnTo>
                <a:lnTo>
                  <a:pt x="372" y="235"/>
                </a:lnTo>
                <a:lnTo>
                  <a:pt x="364" y="235"/>
                </a:lnTo>
                <a:lnTo>
                  <a:pt x="391" y="252"/>
                </a:lnTo>
                <a:lnTo>
                  <a:pt x="404" y="263"/>
                </a:lnTo>
                <a:lnTo>
                  <a:pt x="404" y="267"/>
                </a:lnTo>
                <a:lnTo>
                  <a:pt x="417" y="267"/>
                </a:lnTo>
                <a:lnTo>
                  <a:pt x="456" y="267"/>
                </a:lnTo>
                <a:lnTo>
                  <a:pt x="465" y="267"/>
                </a:lnTo>
                <a:lnTo>
                  <a:pt x="477" y="273"/>
                </a:lnTo>
                <a:lnTo>
                  <a:pt x="484" y="267"/>
                </a:lnTo>
                <a:lnTo>
                  <a:pt x="497" y="267"/>
                </a:lnTo>
                <a:lnTo>
                  <a:pt x="505" y="263"/>
                </a:lnTo>
                <a:lnTo>
                  <a:pt x="505" y="252"/>
                </a:lnTo>
                <a:lnTo>
                  <a:pt x="505" y="248"/>
                </a:lnTo>
                <a:lnTo>
                  <a:pt x="477" y="241"/>
                </a:lnTo>
                <a:lnTo>
                  <a:pt x="497" y="241"/>
                </a:lnTo>
                <a:lnTo>
                  <a:pt x="525" y="235"/>
                </a:lnTo>
                <a:lnTo>
                  <a:pt x="525" y="232"/>
                </a:lnTo>
                <a:lnTo>
                  <a:pt x="525" y="217"/>
                </a:lnTo>
                <a:lnTo>
                  <a:pt x="536" y="226"/>
                </a:lnTo>
                <a:lnTo>
                  <a:pt x="546" y="220"/>
                </a:lnTo>
                <a:lnTo>
                  <a:pt x="574" y="226"/>
                </a:lnTo>
                <a:lnTo>
                  <a:pt x="585" y="230"/>
                </a:lnTo>
                <a:lnTo>
                  <a:pt x="593" y="232"/>
                </a:lnTo>
                <a:lnTo>
                  <a:pt x="606" y="232"/>
                </a:lnTo>
                <a:lnTo>
                  <a:pt x="606" y="235"/>
                </a:lnTo>
                <a:lnTo>
                  <a:pt x="613" y="235"/>
                </a:lnTo>
                <a:lnTo>
                  <a:pt x="617" y="241"/>
                </a:lnTo>
                <a:lnTo>
                  <a:pt x="626" y="252"/>
                </a:lnTo>
                <a:lnTo>
                  <a:pt x="634" y="258"/>
                </a:lnTo>
                <a:lnTo>
                  <a:pt x="637" y="263"/>
                </a:lnTo>
                <a:lnTo>
                  <a:pt x="645" y="267"/>
                </a:lnTo>
                <a:lnTo>
                  <a:pt x="645" y="273"/>
                </a:lnTo>
                <a:lnTo>
                  <a:pt x="654" y="273"/>
                </a:lnTo>
                <a:lnTo>
                  <a:pt x="658" y="273"/>
                </a:lnTo>
                <a:lnTo>
                  <a:pt x="665" y="278"/>
                </a:lnTo>
                <a:lnTo>
                  <a:pt x="677" y="293"/>
                </a:lnTo>
                <a:lnTo>
                  <a:pt x="693" y="297"/>
                </a:lnTo>
                <a:lnTo>
                  <a:pt x="735" y="303"/>
                </a:lnTo>
                <a:lnTo>
                  <a:pt x="755" y="303"/>
                </a:lnTo>
                <a:lnTo>
                  <a:pt x="757" y="303"/>
                </a:lnTo>
                <a:lnTo>
                  <a:pt x="766" y="310"/>
                </a:lnTo>
                <a:lnTo>
                  <a:pt x="766" y="312"/>
                </a:lnTo>
                <a:lnTo>
                  <a:pt x="778" y="312"/>
                </a:lnTo>
                <a:lnTo>
                  <a:pt x="794" y="312"/>
                </a:lnTo>
                <a:lnTo>
                  <a:pt x="798" y="310"/>
                </a:lnTo>
                <a:lnTo>
                  <a:pt x="787" y="303"/>
                </a:lnTo>
                <a:lnTo>
                  <a:pt x="798" y="303"/>
                </a:lnTo>
                <a:lnTo>
                  <a:pt x="806" y="303"/>
                </a:lnTo>
                <a:lnTo>
                  <a:pt x="798" y="303"/>
                </a:lnTo>
                <a:lnTo>
                  <a:pt x="787" y="297"/>
                </a:lnTo>
                <a:lnTo>
                  <a:pt x="778" y="297"/>
                </a:lnTo>
                <a:lnTo>
                  <a:pt x="774" y="297"/>
                </a:lnTo>
                <a:lnTo>
                  <a:pt x="757" y="288"/>
                </a:lnTo>
                <a:lnTo>
                  <a:pt x="778" y="280"/>
                </a:lnTo>
                <a:lnTo>
                  <a:pt x="774" y="280"/>
                </a:lnTo>
                <a:lnTo>
                  <a:pt x="755" y="280"/>
                </a:lnTo>
                <a:lnTo>
                  <a:pt x="738" y="278"/>
                </a:lnTo>
                <a:lnTo>
                  <a:pt x="738" y="273"/>
                </a:lnTo>
                <a:lnTo>
                  <a:pt x="746" y="267"/>
                </a:lnTo>
                <a:lnTo>
                  <a:pt x="746" y="263"/>
                </a:lnTo>
                <a:lnTo>
                  <a:pt x="718" y="267"/>
                </a:lnTo>
                <a:lnTo>
                  <a:pt x="714" y="252"/>
                </a:lnTo>
                <a:lnTo>
                  <a:pt x="707" y="252"/>
                </a:lnTo>
                <a:lnTo>
                  <a:pt x="697" y="235"/>
                </a:lnTo>
                <a:lnTo>
                  <a:pt x="686" y="230"/>
                </a:lnTo>
                <a:lnTo>
                  <a:pt x="677" y="230"/>
                </a:lnTo>
                <a:lnTo>
                  <a:pt x="677" y="226"/>
                </a:lnTo>
                <a:lnTo>
                  <a:pt x="665" y="217"/>
                </a:lnTo>
                <a:lnTo>
                  <a:pt x="658" y="215"/>
                </a:lnTo>
                <a:lnTo>
                  <a:pt x="658" y="205"/>
                </a:lnTo>
                <a:lnTo>
                  <a:pt x="654" y="202"/>
                </a:lnTo>
                <a:lnTo>
                  <a:pt x="645" y="200"/>
                </a:lnTo>
                <a:lnTo>
                  <a:pt x="645" y="191"/>
                </a:lnTo>
                <a:lnTo>
                  <a:pt x="686" y="191"/>
                </a:lnTo>
                <a:lnTo>
                  <a:pt x="686" y="187"/>
                </a:lnTo>
                <a:lnTo>
                  <a:pt x="677" y="174"/>
                </a:lnTo>
                <a:lnTo>
                  <a:pt x="675" y="172"/>
                </a:lnTo>
                <a:lnTo>
                  <a:pt x="665" y="168"/>
                </a:lnTo>
                <a:lnTo>
                  <a:pt x="658" y="168"/>
                </a:lnTo>
                <a:lnTo>
                  <a:pt x="634" y="157"/>
                </a:lnTo>
                <a:lnTo>
                  <a:pt x="613" y="153"/>
                </a:lnTo>
                <a:lnTo>
                  <a:pt x="606" y="153"/>
                </a:lnTo>
                <a:lnTo>
                  <a:pt x="606" y="136"/>
                </a:lnTo>
                <a:lnTo>
                  <a:pt x="585" y="123"/>
                </a:lnTo>
                <a:lnTo>
                  <a:pt x="574" y="119"/>
                </a:lnTo>
                <a:lnTo>
                  <a:pt x="557" y="110"/>
                </a:lnTo>
                <a:lnTo>
                  <a:pt x="557" y="101"/>
                </a:lnTo>
                <a:lnTo>
                  <a:pt x="533" y="101"/>
                </a:lnTo>
                <a:lnTo>
                  <a:pt x="525" y="101"/>
                </a:lnTo>
                <a:lnTo>
                  <a:pt x="516" y="101"/>
                </a:lnTo>
                <a:lnTo>
                  <a:pt x="516" y="95"/>
                </a:lnTo>
                <a:lnTo>
                  <a:pt x="492" y="91"/>
                </a:lnTo>
                <a:lnTo>
                  <a:pt x="471" y="86"/>
                </a:lnTo>
                <a:lnTo>
                  <a:pt x="452" y="80"/>
                </a:lnTo>
                <a:lnTo>
                  <a:pt x="417" y="65"/>
                </a:lnTo>
                <a:lnTo>
                  <a:pt x="396" y="65"/>
                </a:lnTo>
                <a:lnTo>
                  <a:pt x="376" y="62"/>
                </a:lnTo>
                <a:lnTo>
                  <a:pt x="364" y="62"/>
                </a:lnTo>
                <a:lnTo>
                  <a:pt x="331" y="48"/>
                </a:lnTo>
                <a:lnTo>
                  <a:pt x="323" y="43"/>
                </a:lnTo>
                <a:lnTo>
                  <a:pt x="316" y="41"/>
                </a:lnTo>
                <a:lnTo>
                  <a:pt x="295" y="41"/>
                </a:lnTo>
                <a:lnTo>
                  <a:pt x="290" y="37"/>
                </a:lnTo>
                <a:lnTo>
                  <a:pt x="282" y="33"/>
                </a:lnTo>
                <a:lnTo>
                  <a:pt x="254" y="41"/>
                </a:lnTo>
                <a:lnTo>
                  <a:pt x="254" y="43"/>
                </a:lnTo>
                <a:lnTo>
                  <a:pt x="254" y="48"/>
                </a:lnTo>
                <a:lnTo>
                  <a:pt x="235" y="54"/>
                </a:lnTo>
                <a:lnTo>
                  <a:pt x="230" y="54"/>
                </a:lnTo>
                <a:lnTo>
                  <a:pt x="222" y="54"/>
                </a:lnTo>
                <a:lnTo>
                  <a:pt x="215" y="65"/>
                </a:lnTo>
                <a:lnTo>
                  <a:pt x="209" y="71"/>
                </a:lnTo>
                <a:lnTo>
                  <a:pt x="202" y="78"/>
                </a:lnTo>
                <a:lnTo>
                  <a:pt x="202" y="80"/>
                </a:lnTo>
                <a:lnTo>
                  <a:pt x="194" y="86"/>
                </a:lnTo>
                <a:lnTo>
                  <a:pt x="190" y="86"/>
                </a:lnTo>
                <a:lnTo>
                  <a:pt x="181" y="91"/>
                </a:lnTo>
                <a:lnTo>
                  <a:pt x="174" y="91"/>
                </a:lnTo>
                <a:lnTo>
                  <a:pt x="161" y="86"/>
                </a:lnTo>
                <a:lnTo>
                  <a:pt x="161" y="78"/>
                </a:lnTo>
                <a:lnTo>
                  <a:pt x="155" y="80"/>
                </a:lnTo>
                <a:lnTo>
                  <a:pt x="155" y="65"/>
                </a:lnTo>
                <a:lnTo>
                  <a:pt x="149" y="65"/>
                </a:lnTo>
                <a:lnTo>
                  <a:pt x="142" y="65"/>
                </a:lnTo>
                <a:lnTo>
                  <a:pt x="155" y="71"/>
                </a:lnTo>
                <a:lnTo>
                  <a:pt x="161" y="71"/>
                </a:lnTo>
                <a:lnTo>
                  <a:pt x="142" y="65"/>
                </a:lnTo>
                <a:lnTo>
                  <a:pt x="134" y="62"/>
                </a:lnTo>
                <a:lnTo>
                  <a:pt x="134" y="41"/>
                </a:lnTo>
                <a:lnTo>
                  <a:pt x="134" y="37"/>
                </a:lnTo>
                <a:lnTo>
                  <a:pt x="134" y="33"/>
                </a:lnTo>
                <a:lnTo>
                  <a:pt x="142" y="28"/>
                </a:lnTo>
                <a:lnTo>
                  <a:pt x="134" y="26"/>
                </a:lnTo>
                <a:lnTo>
                  <a:pt x="129" y="13"/>
                </a:lnTo>
                <a:lnTo>
                  <a:pt x="134" y="13"/>
                </a:lnTo>
                <a:lnTo>
                  <a:pt x="121" y="7"/>
                </a:lnTo>
                <a:lnTo>
                  <a:pt x="101" y="7"/>
                </a:lnTo>
                <a:lnTo>
                  <a:pt x="73" y="0"/>
                </a:lnTo>
                <a:lnTo>
                  <a:pt x="61" y="0"/>
                </a:lnTo>
                <a:lnTo>
                  <a:pt x="52" y="4"/>
                </a:lnTo>
                <a:lnTo>
                  <a:pt x="41" y="13"/>
                </a:lnTo>
                <a:lnTo>
                  <a:pt x="20" y="19"/>
                </a:lnTo>
                <a:lnTo>
                  <a:pt x="13" y="26"/>
                </a:lnTo>
                <a:lnTo>
                  <a:pt x="0" y="33"/>
                </a:lnTo>
                <a:lnTo>
                  <a:pt x="32" y="33"/>
                </a:lnTo>
                <a:lnTo>
                  <a:pt x="41" y="37"/>
                </a:lnTo>
                <a:lnTo>
                  <a:pt x="41" y="43"/>
                </a:lnTo>
                <a:lnTo>
                  <a:pt x="52" y="54"/>
                </a:lnTo>
                <a:lnTo>
                  <a:pt x="114" y="54"/>
                </a:lnTo>
                <a:lnTo>
                  <a:pt x="121" y="48"/>
                </a:lnTo>
                <a:lnTo>
                  <a:pt x="129" y="65"/>
                </a:lnTo>
                <a:lnTo>
                  <a:pt x="121" y="65"/>
                </a:lnTo>
                <a:lnTo>
                  <a:pt x="110" y="65"/>
                </a:lnTo>
                <a:lnTo>
                  <a:pt x="93" y="62"/>
                </a:lnTo>
                <a:lnTo>
                  <a:pt x="89" y="65"/>
                </a:lnTo>
                <a:lnTo>
                  <a:pt x="80" y="71"/>
                </a:lnTo>
                <a:lnTo>
                  <a:pt x="73" y="71"/>
                </a:lnTo>
                <a:lnTo>
                  <a:pt x="52" y="71"/>
                </a:lnTo>
                <a:lnTo>
                  <a:pt x="48" y="71"/>
                </a:lnTo>
                <a:lnTo>
                  <a:pt x="48" y="78"/>
                </a:lnTo>
                <a:lnTo>
                  <a:pt x="61" y="78"/>
                </a:lnTo>
                <a:lnTo>
                  <a:pt x="69" y="80"/>
                </a:lnTo>
                <a:lnTo>
                  <a:pt x="73" y="91"/>
                </a:lnTo>
                <a:lnTo>
                  <a:pt x="80" y="91"/>
                </a:lnTo>
                <a:lnTo>
                  <a:pt x="80" y="95"/>
                </a:lnTo>
                <a:lnTo>
                  <a:pt x="80" y="101"/>
                </a:lnTo>
                <a:lnTo>
                  <a:pt x="73" y="101"/>
                </a:lnTo>
                <a:lnTo>
                  <a:pt x="80" y="110"/>
                </a:lnTo>
                <a:lnTo>
                  <a:pt x="89" y="110"/>
                </a:lnTo>
                <a:lnTo>
                  <a:pt x="101" y="110"/>
                </a:lnTo>
                <a:lnTo>
                  <a:pt x="101" y="101"/>
                </a:lnTo>
                <a:lnTo>
                  <a:pt x="114" y="95"/>
                </a:lnTo>
                <a:lnTo>
                  <a:pt x="121" y="101"/>
                </a:lnTo>
                <a:lnTo>
                  <a:pt x="134" y="101"/>
                </a:lnTo>
                <a:lnTo>
                  <a:pt x="134" y="106"/>
                </a:lnTo>
                <a:lnTo>
                  <a:pt x="134" y="110"/>
                </a:lnTo>
                <a:lnTo>
                  <a:pt x="142" y="110"/>
                </a:lnTo>
                <a:lnTo>
                  <a:pt x="174" y="123"/>
                </a:lnTo>
                <a:lnTo>
                  <a:pt x="202" y="125"/>
                </a:lnTo>
                <a:lnTo>
                  <a:pt x="215" y="125"/>
                </a:lnTo>
                <a:lnTo>
                  <a:pt x="222" y="129"/>
                </a:lnTo>
                <a:lnTo>
                  <a:pt x="243" y="138"/>
                </a:lnTo>
                <a:lnTo>
                  <a:pt x="254" y="142"/>
                </a:lnTo>
                <a:lnTo>
                  <a:pt x="271" y="144"/>
                </a:lnTo>
                <a:lnTo>
                  <a:pt x="290" y="153"/>
                </a:lnTo>
                <a:lnTo>
                  <a:pt x="295" y="153"/>
                </a:lnTo>
                <a:lnTo>
                  <a:pt x="295" y="159"/>
                </a:lnTo>
                <a:lnTo>
                  <a:pt x="303" y="172"/>
                </a:lnTo>
                <a:lnTo>
                  <a:pt x="303" y="183"/>
                </a:lnTo>
                <a:lnTo>
                  <a:pt x="316" y="191"/>
                </a:lnTo>
                <a:lnTo>
                  <a:pt x="310" y="196"/>
                </a:lnTo>
                <a:lnTo>
                  <a:pt x="316" y="200"/>
                </a:lnTo>
                <a:lnTo>
                  <a:pt x="323" y="205"/>
                </a:lnTo>
                <a:lnTo>
                  <a:pt x="323" y="211"/>
                </a:lnTo>
                <a:lnTo>
                  <a:pt x="316" y="211"/>
                </a:lnTo>
                <a:lnTo>
                  <a:pt x="323" y="215"/>
                </a:lnTo>
                <a:lnTo>
                  <a:pt x="323" y="217"/>
                </a:lnTo>
                <a:lnTo>
                  <a:pt x="323" y="215"/>
                </a:lnTo>
                <a:lnTo>
                  <a:pt x="310" y="211"/>
                </a:lnTo>
                <a:lnTo>
                  <a:pt x="303" y="215"/>
                </a:lnTo>
                <a:lnTo>
                  <a:pt x="282" y="226"/>
                </a:lnTo>
                <a:lnTo>
                  <a:pt x="282" y="232"/>
                </a:lnTo>
                <a:lnTo>
                  <a:pt x="282" y="23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915840" y="3641760"/>
            <a:ext cx="1279800" cy="495360"/>
          </a:xfrm>
          <a:custGeom>
            <a:avLst/>
            <a:gdLst/>
            <a:ahLst/>
            <a:rect l="l" t="t" r="r" b="b"/>
            <a:pathLst>
              <a:path w="806" h="312">
                <a:moveTo>
                  <a:pt x="282" y="232"/>
                </a:moveTo>
                <a:lnTo>
                  <a:pt x="282" y="235"/>
                </a:lnTo>
                <a:lnTo>
                  <a:pt x="275" y="241"/>
                </a:lnTo>
                <a:lnTo>
                  <a:pt x="323" y="241"/>
                </a:lnTo>
                <a:lnTo>
                  <a:pt x="336" y="235"/>
                </a:lnTo>
                <a:lnTo>
                  <a:pt x="344" y="235"/>
                </a:lnTo>
                <a:lnTo>
                  <a:pt x="351" y="235"/>
                </a:lnTo>
                <a:lnTo>
                  <a:pt x="355" y="235"/>
                </a:lnTo>
                <a:lnTo>
                  <a:pt x="372" y="235"/>
                </a:lnTo>
                <a:lnTo>
                  <a:pt x="364" y="235"/>
                </a:lnTo>
                <a:lnTo>
                  <a:pt x="391" y="252"/>
                </a:lnTo>
                <a:lnTo>
                  <a:pt x="404" y="263"/>
                </a:lnTo>
                <a:lnTo>
                  <a:pt x="404" y="267"/>
                </a:lnTo>
                <a:lnTo>
                  <a:pt x="417" y="267"/>
                </a:lnTo>
                <a:lnTo>
                  <a:pt x="456" y="267"/>
                </a:lnTo>
                <a:lnTo>
                  <a:pt x="465" y="267"/>
                </a:lnTo>
                <a:lnTo>
                  <a:pt x="477" y="273"/>
                </a:lnTo>
                <a:lnTo>
                  <a:pt x="484" y="267"/>
                </a:lnTo>
                <a:lnTo>
                  <a:pt x="497" y="267"/>
                </a:lnTo>
                <a:lnTo>
                  <a:pt x="505" y="263"/>
                </a:lnTo>
                <a:lnTo>
                  <a:pt x="505" y="252"/>
                </a:lnTo>
                <a:lnTo>
                  <a:pt x="505" y="248"/>
                </a:lnTo>
                <a:lnTo>
                  <a:pt x="477" y="241"/>
                </a:lnTo>
                <a:lnTo>
                  <a:pt x="497" y="241"/>
                </a:lnTo>
                <a:lnTo>
                  <a:pt x="525" y="235"/>
                </a:lnTo>
                <a:lnTo>
                  <a:pt x="525" y="232"/>
                </a:lnTo>
                <a:lnTo>
                  <a:pt x="525" y="217"/>
                </a:lnTo>
                <a:lnTo>
                  <a:pt x="536" y="226"/>
                </a:lnTo>
                <a:lnTo>
                  <a:pt x="546" y="220"/>
                </a:lnTo>
                <a:lnTo>
                  <a:pt x="574" y="226"/>
                </a:lnTo>
                <a:lnTo>
                  <a:pt x="585" y="230"/>
                </a:lnTo>
                <a:lnTo>
                  <a:pt x="593" y="232"/>
                </a:lnTo>
                <a:lnTo>
                  <a:pt x="606" y="232"/>
                </a:lnTo>
                <a:lnTo>
                  <a:pt x="606" y="235"/>
                </a:lnTo>
                <a:lnTo>
                  <a:pt x="613" y="235"/>
                </a:lnTo>
                <a:lnTo>
                  <a:pt x="617" y="241"/>
                </a:lnTo>
                <a:lnTo>
                  <a:pt x="626" y="252"/>
                </a:lnTo>
                <a:lnTo>
                  <a:pt x="634" y="258"/>
                </a:lnTo>
                <a:lnTo>
                  <a:pt x="637" y="263"/>
                </a:lnTo>
                <a:lnTo>
                  <a:pt x="645" y="267"/>
                </a:lnTo>
                <a:lnTo>
                  <a:pt x="645" y="273"/>
                </a:lnTo>
                <a:lnTo>
                  <a:pt x="654" y="273"/>
                </a:lnTo>
                <a:lnTo>
                  <a:pt x="658" y="273"/>
                </a:lnTo>
                <a:lnTo>
                  <a:pt x="665" y="278"/>
                </a:lnTo>
                <a:lnTo>
                  <a:pt x="677" y="293"/>
                </a:lnTo>
                <a:lnTo>
                  <a:pt x="693" y="297"/>
                </a:lnTo>
                <a:lnTo>
                  <a:pt x="735" y="303"/>
                </a:lnTo>
                <a:lnTo>
                  <a:pt x="755" y="303"/>
                </a:lnTo>
                <a:lnTo>
                  <a:pt x="757" y="303"/>
                </a:lnTo>
                <a:lnTo>
                  <a:pt x="766" y="310"/>
                </a:lnTo>
                <a:lnTo>
                  <a:pt x="766" y="312"/>
                </a:lnTo>
                <a:lnTo>
                  <a:pt x="778" y="312"/>
                </a:lnTo>
                <a:lnTo>
                  <a:pt x="794" y="312"/>
                </a:lnTo>
                <a:lnTo>
                  <a:pt x="798" y="310"/>
                </a:lnTo>
                <a:lnTo>
                  <a:pt x="787" y="303"/>
                </a:lnTo>
                <a:lnTo>
                  <a:pt x="798" y="303"/>
                </a:lnTo>
                <a:lnTo>
                  <a:pt x="806" y="303"/>
                </a:lnTo>
                <a:lnTo>
                  <a:pt x="798" y="303"/>
                </a:lnTo>
                <a:lnTo>
                  <a:pt x="787" y="297"/>
                </a:lnTo>
                <a:lnTo>
                  <a:pt x="778" y="297"/>
                </a:lnTo>
                <a:lnTo>
                  <a:pt x="774" y="297"/>
                </a:lnTo>
                <a:lnTo>
                  <a:pt x="757" y="288"/>
                </a:lnTo>
                <a:lnTo>
                  <a:pt x="778" y="280"/>
                </a:lnTo>
                <a:lnTo>
                  <a:pt x="774" y="280"/>
                </a:lnTo>
                <a:lnTo>
                  <a:pt x="755" y="280"/>
                </a:lnTo>
                <a:lnTo>
                  <a:pt x="738" y="278"/>
                </a:lnTo>
                <a:lnTo>
                  <a:pt x="738" y="273"/>
                </a:lnTo>
                <a:lnTo>
                  <a:pt x="746" y="267"/>
                </a:lnTo>
                <a:lnTo>
                  <a:pt x="746" y="263"/>
                </a:lnTo>
                <a:lnTo>
                  <a:pt x="718" y="267"/>
                </a:lnTo>
                <a:lnTo>
                  <a:pt x="714" y="252"/>
                </a:lnTo>
                <a:lnTo>
                  <a:pt x="707" y="252"/>
                </a:lnTo>
                <a:lnTo>
                  <a:pt x="697" y="235"/>
                </a:lnTo>
                <a:lnTo>
                  <a:pt x="686" y="230"/>
                </a:lnTo>
                <a:lnTo>
                  <a:pt x="677" y="230"/>
                </a:lnTo>
                <a:lnTo>
                  <a:pt x="677" y="226"/>
                </a:lnTo>
                <a:lnTo>
                  <a:pt x="665" y="217"/>
                </a:lnTo>
                <a:lnTo>
                  <a:pt x="658" y="215"/>
                </a:lnTo>
                <a:lnTo>
                  <a:pt x="658" y="205"/>
                </a:lnTo>
                <a:lnTo>
                  <a:pt x="654" y="202"/>
                </a:lnTo>
                <a:lnTo>
                  <a:pt x="645" y="200"/>
                </a:lnTo>
                <a:lnTo>
                  <a:pt x="645" y="191"/>
                </a:lnTo>
                <a:lnTo>
                  <a:pt x="686" y="191"/>
                </a:lnTo>
                <a:lnTo>
                  <a:pt x="686" y="187"/>
                </a:lnTo>
                <a:lnTo>
                  <a:pt x="677" y="174"/>
                </a:lnTo>
                <a:lnTo>
                  <a:pt x="675" y="172"/>
                </a:lnTo>
                <a:lnTo>
                  <a:pt x="665" y="168"/>
                </a:lnTo>
                <a:lnTo>
                  <a:pt x="658" y="168"/>
                </a:lnTo>
                <a:lnTo>
                  <a:pt x="634" y="157"/>
                </a:lnTo>
                <a:lnTo>
                  <a:pt x="613" y="153"/>
                </a:lnTo>
                <a:lnTo>
                  <a:pt x="606" y="153"/>
                </a:lnTo>
                <a:lnTo>
                  <a:pt x="606" y="136"/>
                </a:lnTo>
                <a:lnTo>
                  <a:pt x="585" y="123"/>
                </a:lnTo>
                <a:lnTo>
                  <a:pt x="574" y="119"/>
                </a:lnTo>
                <a:lnTo>
                  <a:pt x="557" y="110"/>
                </a:lnTo>
                <a:lnTo>
                  <a:pt x="557" y="101"/>
                </a:lnTo>
                <a:lnTo>
                  <a:pt x="533" y="101"/>
                </a:lnTo>
                <a:lnTo>
                  <a:pt x="525" y="101"/>
                </a:lnTo>
                <a:lnTo>
                  <a:pt x="516" y="101"/>
                </a:lnTo>
                <a:lnTo>
                  <a:pt x="516" y="95"/>
                </a:lnTo>
                <a:lnTo>
                  <a:pt x="492" y="91"/>
                </a:lnTo>
                <a:lnTo>
                  <a:pt x="471" y="86"/>
                </a:lnTo>
                <a:lnTo>
                  <a:pt x="452" y="80"/>
                </a:lnTo>
                <a:lnTo>
                  <a:pt x="417" y="65"/>
                </a:lnTo>
                <a:lnTo>
                  <a:pt x="396" y="65"/>
                </a:lnTo>
                <a:lnTo>
                  <a:pt x="376" y="62"/>
                </a:lnTo>
                <a:lnTo>
                  <a:pt x="364" y="62"/>
                </a:lnTo>
                <a:lnTo>
                  <a:pt x="331" y="48"/>
                </a:lnTo>
                <a:lnTo>
                  <a:pt x="323" y="43"/>
                </a:lnTo>
                <a:lnTo>
                  <a:pt x="316" y="41"/>
                </a:lnTo>
                <a:lnTo>
                  <a:pt x="295" y="41"/>
                </a:lnTo>
                <a:lnTo>
                  <a:pt x="290" y="37"/>
                </a:lnTo>
                <a:lnTo>
                  <a:pt x="282" y="33"/>
                </a:lnTo>
                <a:lnTo>
                  <a:pt x="254" y="41"/>
                </a:lnTo>
                <a:lnTo>
                  <a:pt x="254" y="43"/>
                </a:lnTo>
                <a:lnTo>
                  <a:pt x="254" y="48"/>
                </a:lnTo>
                <a:lnTo>
                  <a:pt x="235" y="54"/>
                </a:lnTo>
                <a:lnTo>
                  <a:pt x="230" y="54"/>
                </a:lnTo>
                <a:lnTo>
                  <a:pt x="222" y="54"/>
                </a:lnTo>
                <a:lnTo>
                  <a:pt x="215" y="65"/>
                </a:lnTo>
                <a:lnTo>
                  <a:pt x="209" y="71"/>
                </a:lnTo>
                <a:lnTo>
                  <a:pt x="202" y="78"/>
                </a:lnTo>
                <a:lnTo>
                  <a:pt x="202" y="80"/>
                </a:lnTo>
                <a:lnTo>
                  <a:pt x="194" y="86"/>
                </a:lnTo>
                <a:lnTo>
                  <a:pt x="190" y="86"/>
                </a:lnTo>
                <a:lnTo>
                  <a:pt x="181" y="91"/>
                </a:lnTo>
                <a:lnTo>
                  <a:pt x="174" y="91"/>
                </a:lnTo>
                <a:lnTo>
                  <a:pt x="161" y="86"/>
                </a:lnTo>
                <a:lnTo>
                  <a:pt x="161" y="78"/>
                </a:lnTo>
                <a:lnTo>
                  <a:pt x="155" y="80"/>
                </a:lnTo>
                <a:lnTo>
                  <a:pt x="155" y="65"/>
                </a:lnTo>
                <a:lnTo>
                  <a:pt x="149" y="65"/>
                </a:lnTo>
                <a:lnTo>
                  <a:pt x="142" y="65"/>
                </a:lnTo>
                <a:lnTo>
                  <a:pt x="155" y="71"/>
                </a:lnTo>
                <a:lnTo>
                  <a:pt x="161" y="71"/>
                </a:lnTo>
                <a:lnTo>
                  <a:pt x="142" y="65"/>
                </a:lnTo>
                <a:lnTo>
                  <a:pt x="134" y="62"/>
                </a:lnTo>
                <a:lnTo>
                  <a:pt x="134" y="41"/>
                </a:lnTo>
                <a:lnTo>
                  <a:pt x="134" y="37"/>
                </a:lnTo>
                <a:lnTo>
                  <a:pt x="134" y="33"/>
                </a:lnTo>
                <a:lnTo>
                  <a:pt x="142" y="28"/>
                </a:lnTo>
                <a:lnTo>
                  <a:pt x="134" y="26"/>
                </a:lnTo>
                <a:lnTo>
                  <a:pt x="129" y="13"/>
                </a:lnTo>
                <a:lnTo>
                  <a:pt x="134" y="13"/>
                </a:lnTo>
                <a:lnTo>
                  <a:pt x="121" y="7"/>
                </a:lnTo>
                <a:lnTo>
                  <a:pt x="101" y="7"/>
                </a:lnTo>
                <a:lnTo>
                  <a:pt x="73" y="0"/>
                </a:lnTo>
                <a:lnTo>
                  <a:pt x="61" y="0"/>
                </a:lnTo>
                <a:lnTo>
                  <a:pt x="52" y="4"/>
                </a:lnTo>
                <a:lnTo>
                  <a:pt x="41" y="13"/>
                </a:lnTo>
                <a:lnTo>
                  <a:pt x="20" y="19"/>
                </a:lnTo>
                <a:lnTo>
                  <a:pt x="13" y="26"/>
                </a:lnTo>
                <a:lnTo>
                  <a:pt x="0" y="33"/>
                </a:lnTo>
                <a:lnTo>
                  <a:pt x="32" y="33"/>
                </a:lnTo>
                <a:lnTo>
                  <a:pt x="41" y="37"/>
                </a:lnTo>
                <a:lnTo>
                  <a:pt x="41" y="43"/>
                </a:lnTo>
                <a:lnTo>
                  <a:pt x="52" y="54"/>
                </a:lnTo>
                <a:lnTo>
                  <a:pt x="114" y="54"/>
                </a:lnTo>
                <a:lnTo>
                  <a:pt x="121" y="48"/>
                </a:lnTo>
                <a:lnTo>
                  <a:pt x="129" y="65"/>
                </a:lnTo>
                <a:lnTo>
                  <a:pt x="121" y="65"/>
                </a:lnTo>
                <a:lnTo>
                  <a:pt x="110" y="65"/>
                </a:lnTo>
                <a:lnTo>
                  <a:pt x="93" y="62"/>
                </a:lnTo>
                <a:lnTo>
                  <a:pt x="89" y="65"/>
                </a:lnTo>
                <a:lnTo>
                  <a:pt x="80" y="71"/>
                </a:lnTo>
                <a:lnTo>
                  <a:pt x="73" y="71"/>
                </a:lnTo>
                <a:lnTo>
                  <a:pt x="52" y="71"/>
                </a:lnTo>
                <a:lnTo>
                  <a:pt x="48" y="71"/>
                </a:lnTo>
                <a:lnTo>
                  <a:pt x="48" y="78"/>
                </a:lnTo>
                <a:lnTo>
                  <a:pt x="61" y="78"/>
                </a:lnTo>
                <a:lnTo>
                  <a:pt x="69" y="80"/>
                </a:lnTo>
                <a:lnTo>
                  <a:pt x="73" y="91"/>
                </a:lnTo>
                <a:lnTo>
                  <a:pt x="80" y="91"/>
                </a:lnTo>
                <a:lnTo>
                  <a:pt x="80" y="95"/>
                </a:lnTo>
                <a:lnTo>
                  <a:pt x="80" y="101"/>
                </a:lnTo>
                <a:lnTo>
                  <a:pt x="73" y="101"/>
                </a:lnTo>
                <a:lnTo>
                  <a:pt x="80" y="110"/>
                </a:lnTo>
                <a:lnTo>
                  <a:pt x="89" y="110"/>
                </a:lnTo>
                <a:lnTo>
                  <a:pt x="101" y="110"/>
                </a:lnTo>
                <a:lnTo>
                  <a:pt x="101" y="101"/>
                </a:lnTo>
                <a:lnTo>
                  <a:pt x="114" y="95"/>
                </a:lnTo>
                <a:lnTo>
                  <a:pt x="121" y="101"/>
                </a:lnTo>
                <a:lnTo>
                  <a:pt x="134" y="101"/>
                </a:lnTo>
                <a:lnTo>
                  <a:pt x="134" y="106"/>
                </a:lnTo>
                <a:lnTo>
                  <a:pt x="134" y="110"/>
                </a:lnTo>
                <a:lnTo>
                  <a:pt x="142" y="110"/>
                </a:lnTo>
                <a:lnTo>
                  <a:pt x="174" y="123"/>
                </a:lnTo>
                <a:lnTo>
                  <a:pt x="202" y="125"/>
                </a:lnTo>
                <a:lnTo>
                  <a:pt x="215" y="125"/>
                </a:lnTo>
                <a:lnTo>
                  <a:pt x="222" y="129"/>
                </a:lnTo>
                <a:lnTo>
                  <a:pt x="243" y="138"/>
                </a:lnTo>
                <a:lnTo>
                  <a:pt x="254" y="142"/>
                </a:lnTo>
                <a:lnTo>
                  <a:pt x="271" y="144"/>
                </a:lnTo>
                <a:lnTo>
                  <a:pt x="290" y="153"/>
                </a:lnTo>
                <a:lnTo>
                  <a:pt x="295" y="153"/>
                </a:lnTo>
                <a:lnTo>
                  <a:pt x="295" y="159"/>
                </a:lnTo>
                <a:lnTo>
                  <a:pt x="303" y="172"/>
                </a:lnTo>
                <a:lnTo>
                  <a:pt x="303" y="183"/>
                </a:lnTo>
                <a:lnTo>
                  <a:pt x="316" y="191"/>
                </a:lnTo>
                <a:lnTo>
                  <a:pt x="310" y="196"/>
                </a:lnTo>
                <a:lnTo>
                  <a:pt x="316" y="200"/>
                </a:lnTo>
                <a:lnTo>
                  <a:pt x="323" y="205"/>
                </a:lnTo>
                <a:lnTo>
                  <a:pt x="323" y="211"/>
                </a:lnTo>
                <a:lnTo>
                  <a:pt x="316" y="211"/>
                </a:lnTo>
                <a:lnTo>
                  <a:pt x="323" y="215"/>
                </a:lnTo>
                <a:lnTo>
                  <a:pt x="323" y="217"/>
                </a:lnTo>
                <a:lnTo>
                  <a:pt x="323" y="215"/>
                </a:lnTo>
                <a:lnTo>
                  <a:pt x="310" y="211"/>
                </a:lnTo>
                <a:lnTo>
                  <a:pt x="303" y="215"/>
                </a:lnTo>
                <a:lnTo>
                  <a:pt x="282" y="226"/>
                </a:lnTo>
                <a:lnTo>
                  <a:pt x="282" y="232"/>
                </a:lnTo>
                <a:lnTo>
                  <a:pt x="282" y="232"/>
                </a:lnTo>
                <a:close/>
              </a:path>
            </a:pathLst>
          </a:custGeom>
          <a:noFill/>
          <a:ln w="324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15840" y="3641760"/>
            <a:ext cx="1279800" cy="495360"/>
          </a:xfrm>
          <a:custGeom>
            <a:avLst/>
            <a:gdLst/>
            <a:ahLst/>
            <a:rect l="l" t="t" r="r" b="b"/>
            <a:pathLst>
              <a:path w="806" h="312">
                <a:moveTo>
                  <a:pt x="282" y="232"/>
                </a:moveTo>
                <a:lnTo>
                  <a:pt x="282" y="235"/>
                </a:lnTo>
                <a:lnTo>
                  <a:pt x="275" y="241"/>
                </a:lnTo>
                <a:lnTo>
                  <a:pt x="323" y="241"/>
                </a:lnTo>
                <a:lnTo>
                  <a:pt x="336" y="235"/>
                </a:lnTo>
                <a:lnTo>
                  <a:pt x="344" y="235"/>
                </a:lnTo>
                <a:lnTo>
                  <a:pt x="351" y="235"/>
                </a:lnTo>
                <a:lnTo>
                  <a:pt x="355" y="235"/>
                </a:lnTo>
                <a:lnTo>
                  <a:pt x="372" y="235"/>
                </a:lnTo>
                <a:lnTo>
                  <a:pt x="364" y="235"/>
                </a:lnTo>
                <a:lnTo>
                  <a:pt x="391" y="252"/>
                </a:lnTo>
                <a:lnTo>
                  <a:pt x="404" y="263"/>
                </a:lnTo>
                <a:lnTo>
                  <a:pt x="404" y="267"/>
                </a:lnTo>
                <a:lnTo>
                  <a:pt x="417" y="267"/>
                </a:lnTo>
                <a:lnTo>
                  <a:pt x="456" y="267"/>
                </a:lnTo>
                <a:lnTo>
                  <a:pt x="465" y="267"/>
                </a:lnTo>
                <a:lnTo>
                  <a:pt x="477" y="273"/>
                </a:lnTo>
                <a:lnTo>
                  <a:pt x="484" y="267"/>
                </a:lnTo>
                <a:lnTo>
                  <a:pt x="497" y="267"/>
                </a:lnTo>
                <a:lnTo>
                  <a:pt x="505" y="263"/>
                </a:lnTo>
                <a:lnTo>
                  <a:pt x="505" y="252"/>
                </a:lnTo>
                <a:lnTo>
                  <a:pt x="505" y="248"/>
                </a:lnTo>
                <a:lnTo>
                  <a:pt x="477" y="241"/>
                </a:lnTo>
                <a:lnTo>
                  <a:pt x="497" y="241"/>
                </a:lnTo>
                <a:lnTo>
                  <a:pt x="525" y="235"/>
                </a:lnTo>
                <a:lnTo>
                  <a:pt x="525" y="232"/>
                </a:lnTo>
                <a:lnTo>
                  <a:pt x="525" y="217"/>
                </a:lnTo>
                <a:lnTo>
                  <a:pt x="536" y="226"/>
                </a:lnTo>
                <a:lnTo>
                  <a:pt x="546" y="220"/>
                </a:lnTo>
                <a:lnTo>
                  <a:pt x="574" y="226"/>
                </a:lnTo>
                <a:lnTo>
                  <a:pt x="585" y="230"/>
                </a:lnTo>
                <a:lnTo>
                  <a:pt x="593" y="232"/>
                </a:lnTo>
                <a:lnTo>
                  <a:pt x="606" y="232"/>
                </a:lnTo>
                <a:lnTo>
                  <a:pt x="606" y="235"/>
                </a:lnTo>
                <a:lnTo>
                  <a:pt x="613" y="235"/>
                </a:lnTo>
                <a:lnTo>
                  <a:pt x="617" y="241"/>
                </a:lnTo>
                <a:lnTo>
                  <a:pt x="626" y="252"/>
                </a:lnTo>
                <a:lnTo>
                  <a:pt x="634" y="258"/>
                </a:lnTo>
                <a:lnTo>
                  <a:pt x="637" y="263"/>
                </a:lnTo>
                <a:lnTo>
                  <a:pt x="645" y="267"/>
                </a:lnTo>
                <a:lnTo>
                  <a:pt x="645" y="273"/>
                </a:lnTo>
                <a:lnTo>
                  <a:pt x="654" y="273"/>
                </a:lnTo>
                <a:lnTo>
                  <a:pt x="658" y="273"/>
                </a:lnTo>
                <a:lnTo>
                  <a:pt x="665" y="278"/>
                </a:lnTo>
                <a:lnTo>
                  <a:pt x="677" y="293"/>
                </a:lnTo>
                <a:lnTo>
                  <a:pt x="693" y="297"/>
                </a:lnTo>
                <a:lnTo>
                  <a:pt x="735" y="303"/>
                </a:lnTo>
                <a:lnTo>
                  <a:pt x="755" y="303"/>
                </a:lnTo>
                <a:lnTo>
                  <a:pt x="757" y="303"/>
                </a:lnTo>
                <a:lnTo>
                  <a:pt x="766" y="310"/>
                </a:lnTo>
                <a:lnTo>
                  <a:pt x="766" y="312"/>
                </a:lnTo>
                <a:lnTo>
                  <a:pt x="778" y="312"/>
                </a:lnTo>
                <a:lnTo>
                  <a:pt x="794" y="312"/>
                </a:lnTo>
                <a:lnTo>
                  <a:pt x="798" y="310"/>
                </a:lnTo>
                <a:lnTo>
                  <a:pt x="787" y="303"/>
                </a:lnTo>
                <a:lnTo>
                  <a:pt x="798" y="303"/>
                </a:lnTo>
                <a:lnTo>
                  <a:pt x="806" y="303"/>
                </a:lnTo>
                <a:lnTo>
                  <a:pt x="798" y="303"/>
                </a:lnTo>
                <a:lnTo>
                  <a:pt x="787" y="297"/>
                </a:lnTo>
                <a:lnTo>
                  <a:pt x="778" y="297"/>
                </a:lnTo>
                <a:lnTo>
                  <a:pt x="774" y="297"/>
                </a:lnTo>
                <a:lnTo>
                  <a:pt x="757" y="288"/>
                </a:lnTo>
                <a:lnTo>
                  <a:pt x="778" y="280"/>
                </a:lnTo>
                <a:lnTo>
                  <a:pt x="774" y="280"/>
                </a:lnTo>
                <a:lnTo>
                  <a:pt x="755" y="280"/>
                </a:lnTo>
                <a:lnTo>
                  <a:pt x="738" y="278"/>
                </a:lnTo>
                <a:lnTo>
                  <a:pt x="738" y="273"/>
                </a:lnTo>
                <a:lnTo>
                  <a:pt x="746" y="267"/>
                </a:lnTo>
                <a:lnTo>
                  <a:pt x="746" y="263"/>
                </a:lnTo>
                <a:lnTo>
                  <a:pt x="718" y="267"/>
                </a:lnTo>
                <a:lnTo>
                  <a:pt x="714" y="252"/>
                </a:lnTo>
                <a:lnTo>
                  <a:pt x="707" y="252"/>
                </a:lnTo>
                <a:lnTo>
                  <a:pt x="697" y="235"/>
                </a:lnTo>
                <a:lnTo>
                  <a:pt x="686" y="230"/>
                </a:lnTo>
                <a:lnTo>
                  <a:pt x="677" y="230"/>
                </a:lnTo>
                <a:lnTo>
                  <a:pt x="677" y="226"/>
                </a:lnTo>
                <a:lnTo>
                  <a:pt x="665" y="217"/>
                </a:lnTo>
                <a:lnTo>
                  <a:pt x="658" y="215"/>
                </a:lnTo>
                <a:lnTo>
                  <a:pt x="658" y="205"/>
                </a:lnTo>
                <a:lnTo>
                  <a:pt x="654" y="202"/>
                </a:lnTo>
                <a:lnTo>
                  <a:pt x="645" y="200"/>
                </a:lnTo>
                <a:lnTo>
                  <a:pt x="645" y="191"/>
                </a:lnTo>
                <a:lnTo>
                  <a:pt x="686" y="191"/>
                </a:lnTo>
                <a:lnTo>
                  <a:pt x="686" y="187"/>
                </a:lnTo>
                <a:lnTo>
                  <a:pt x="677" y="174"/>
                </a:lnTo>
                <a:lnTo>
                  <a:pt x="675" y="172"/>
                </a:lnTo>
                <a:lnTo>
                  <a:pt x="665" y="168"/>
                </a:lnTo>
                <a:lnTo>
                  <a:pt x="658" y="168"/>
                </a:lnTo>
                <a:lnTo>
                  <a:pt x="634" y="157"/>
                </a:lnTo>
                <a:lnTo>
                  <a:pt x="613" y="153"/>
                </a:lnTo>
                <a:lnTo>
                  <a:pt x="606" y="153"/>
                </a:lnTo>
                <a:lnTo>
                  <a:pt x="606" y="136"/>
                </a:lnTo>
                <a:lnTo>
                  <a:pt x="585" y="123"/>
                </a:lnTo>
                <a:lnTo>
                  <a:pt x="574" y="119"/>
                </a:lnTo>
                <a:lnTo>
                  <a:pt x="557" y="110"/>
                </a:lnTo>
                <a:lnTo>
                  <a:pt x="557" y="101"/>
                </a:lnTo>
                <a:lnTo>
                  <a:pt x="533" y="101"/>
                </a:lnTo>
                <a:lnTo>
                  <a:pt x="525" y="101"/>
                </a:lnTo>
                <a:lnTo>
                  <a:pt x="516" y="101"/>
                </a:lnTo>
                <a:lnTo>
                  <a:pt x="516" y="95"/>
                </a:lnTo>
                <a:lnTo>
                  <a:pt x="492" y="91"/>
                </a:lnTo>
                <a:lnTo>
                  <a:pt x="471" y="86"/>
                </a:lnTo>
                <a:lnTo>
                  <a:pt x="452" y="80"/>
                </a:lnTo>
                <a:lnTo>
                  <a:pt x="417" y="65"/>
                </a:lnTo>
                <a:lnTo>
                  <a:pt x="396" y="65"/>
                </a:lnTo>
                <a:lnTo>
                  <a:pt x="376" y="62"/>
                </a:lnTo>
                <a:lnTo>
                  <a:pt x="364" y="62"/>
                </a:lnTo>
                <a:lnTo>
                  <a:pt x="331" y="48"/>
                </a:lnTo>
                <a:lnTo>
                  <a:pt x="323" y="43"/>
                </a:lnTo>
                <a:lnTo>
                  <a:pt x="316" y="41"/>
                </a:lnTo>
                <a:lnTo>
                  <a:pt x="295" y="41"/>
                </a:lnTo>
                <a:lnTo>
                  <a:pt x="290" y="37"/>
                </a:lnTo>
                <a:lnTo>
                  <a:pt x="282" y="33"/>
                </a:lnTo>
                <a:lnTo>
                  <a:pt x="254" y="41"/>
                </a:lnTo>
                <a:lnTo>
                  <a:pt x="254" y="43"/>
                </a:lnTo>
                <a:lnTo>
                  <a:pt x="254" y="48"/>
                </a:lnTo>
                <a:lnTo>
                  <a:pt x="235" y="54"/>
                </a:lnTo>
                <a:lnTo>
                  <a:pt x="230" y="54"/>
                </a:lnTo>
                <a:lnTo>
                  <a:pt x="222" y="54"/>
                </a:lnTo>
                <a:lnTo>
                  <a:pt x="215" y="65"/>
                </a:lnTo>
                <a:lnTo>
                  <a:pt x="209" y="71"/>
                </a:lnTo>
                <a:lnTo>
                  <a:pt x="202" y="78"/>
                </a:lnTo>
                <a:lnTo>
                  <a:pt x="202" y="80"/>
                </a:lnTo>
                <a:lnTo>
                  <a:pt x="194" y="86"/>
                </a:lnTo>
                <a:lnTo>
                  <a:pt x="190" y="86"/>
                </a:lnTo>
                <a:lnTo>
                  <a:pt x="181" y="91"/>
                </a:lnTo>
                <a:lnTo>
                  <a:pt x="174" y="91"/>
                </a:lnTo>
                <a:lnTo>
                  <a:pt x="161" y="86"/>
                </a:lnTo>
                <a:lnTo>
                  <a:pt x="161" y="78"/>
                </a:lnTo>
                <a:lnTo>
                  <a:pt x="155" y="80"/>
                </a:lnTo>
                <a:lnTo>
                  <a:pt x="155" y="65"/>
                </a:lnTo>
                <a:lnTo>
                  <a:pt x="149" y="65"/>
                </a:lnTo>
                <a:lnTo>
                  <a:pt x="142" y="65"/>
                </a:lnTo>
                <a:lnTo>
                  <a:pt x="155" y="71"/>
                </a:lnTo>
                <a:lnTo>
                  <a:pt x="161" y="71"/>
                </a:lnTo>
                <a:lnTo>
                  <a:pt x="142" y="65"/>
                </a:lnTo>
                <a:lnTo>
                  <a:pt x="134" y="62"/>
                </a:lnTo>
                <a:lnTo>
                  <a:pt x="134" y="41"/>
                </a:lnTo>
                <a:lnTo>
                  <a:pt x="134" y="37"/>
                </a:lnTo>
                <a:lnTo>
                  <a:pt x="134" y="33"/>
                </a:lnTo>
                <a:lnTo>
                  <a:pt x="142" y="28"/>
                </a:lnTo>
                <a:lnTo>
                  <a:pt x="134" y="26"/>
                </a:lnTo>
                <a:lnTo>
                  <a:pt x="129" y="13"/>
                </a:lnTo>
                <a:lnTo>
                  <a:pt x="134" y="13"/>
                </a:lnTo>
                <a:lnTo>
                  <a:pt x="121" y="7"/>
                </a:lnTo>
                <a:lnTo>
                  <a:pt x="101" y="7"/>
                </a:lnTo>
                <a:lnTo>
                  <a:pt x="73" y="0"/>
                </a:lnTo>
                <a:lnTo>
                  <a:pt x="61" y="0"/>
                </a:lnTo>
                <a:lnTo>
                  <a:pt x="52" y="4"/>
                </a:lnTo>
                <a:lnTo>
                  <a:pt x="41" y="13"/>
                </a:lnTo>
                <a:lnTo>
                  <a:pt x="20" y="19"/>
                </a:lnTo>
                <a:lnTo>
                  <a:pt x="13" y="26"/>
                </a:lnTo>
                <a:lnTo>
                  <a:pt x="0" y="33"/>
                </a:lnTo>
                <a:lnTo>
                  <a:pt x="32" y="33"/>
                </a:lnTo>
                <a:lnTo>
                  <a:pt x="41" y="37"/>
                </a:lnTo>
                <a:lnTo>
                  <a:pt x="41" y="43"/>
                </a:lnTo>
                <a:lnTo>
                  <a:pt x="52" y="54"/>
                </a:lnTo>
                <a:lnTo>
                  <a:pt x="114" y="54"/>
                </a:lnTo>
                <a:lnTo>
                  <a:pt x="121" y="48"/>
                </a:lnTo>
                <a:lnTo>
                  <a:pt x="129" y="65"/>
                </a:lnTo>
                <a:lnTo>
                  <a:pt x="121" y="65"/>
                </a:lnTo>
                <a:lnTo>
                  <a:pt x="110" y="65"/>
                </a:lnTo>
                <a:lnTo>
                  <a:pt x="93" y="62"/>
                </a:lnTo>
                <a:lnTo>
                  <a:pt x="89" y="65"/>
                </a:lnTo>
                <a:lnTo>
                  <a:pt x="80" y="71"/>
                </a:lnTo>
                <a:lnTo>
                  <a:pt x="73" y="71"/>
                </a:lnTo>
                <a:lnTo>
                  <a:pt x="52" y="71"/>
                </a:lnTo>
                <a:lnTo>
                  <a:pt x="48" y="71"/>
                </a:lnTo>
                <a:lnTo>
                  <a:pt x="48" y="78"/>
                </a:lnTo>
                <a:lnTo>
                  <a:pt x="61" y="78"/>
                </a:lnTo>
                <a:lnTo>
                  <a:pt x="69" y="80"/>
                </a:lnTo>
                <a:lnTo>
                  <a:pt x="73" y="91"/>
                </a:lnTo>
                <a:lnTo>
                  <a:pt x="80" y="91"/>
                </a:lnTo>
                <a:lnTo>
                  <a:pt x="80" y="95"/>
                </a:lnTo>
                <a:lnTo>
                  <a:pt x="80" y="101"/>
                </a:lnTo>
                <a:lnTo>
                  <a:pt x="73" y="101"/>
                </a:lnTo>
                <a:lnTo>
                  <a:pt x="80" y="110"/>
                </a:lnTo>
                <a:lnTo>
                  <a:pt x="89" y="110"/>
                </a:lnTo>
                <a:lnTo>
                  <a:pt x="101" y="110"/>
                </a:lnTo>
                <a:lnTo>
                  <a:pt x="101" y="101"/>
                </a:lnTo>
                <a:lnTo>
                  <a:pt x="114" y="95"/>
                </a:lnTo>
                <a:lnTo>
                  <a:pt x="121" y="101"/>
                </a:lnTo>
                <a:lnTo>
                  <a:pt x="134" y="101"/>
                </a:lnTo>
                <a:lnTo>
                  <a:pt x="134" y="106"/>
                </a:lnTo>
                <a:lnTo>
                  <a:pt x="134" y="110"/>
                </a:lnTo>
                <a:lnTo>
                  <a:pt x="142" y="110"/>
                </a:lnTo>
                <a:lnTo>
                  <a:pt x="174" y="123"/>
                </a:lnTo>
                <a:lnTo>
                  <a:pt x="202" y="125"/>
                </a:lnTo>
                <a:lnTo>
                  <a:pt x="215" y="125"/>
                </a:lnTo>
                <a:lnTo>
                  <a:pt x="222" y="129"/>
                </a:lnTo>
                <a:lnTo>
                  <a:pt x="243" y="138"/>
                </a:lnTo>
                <a:lnTo>
                  <a:pt x="254" y="142"/>
                </a:lnTo>
                <a:lnTo>
                  <a:pt x="271" y="144"/>
                </a:lnTo>
                <a:lnTo>
                  <a:pt x="290" y="153"/>
                </a:lnTo>
                <a:lnTo>
                  <a:pt x="295" y="153"/>
                </a:lnTo>
                <a:lnTo>
                  <a:pt x="295" y="159"/>
                </a:lnTo>
                <a:lnTo>
                  <a:pt x="303" y="172"/>
                </a:lnTo>
                <a:lnTo>
                  <a:pt x="303" y="183"/>
                </a:lnTo>
                <a:lnTo>
                  <a:pt x="316" y="191"/>
                </a:lnTo>
                <a:lnTo>
                  <a:pt x="310" y="196"/>
                </a:lnTo>
                <a:lnTo>
                  <a:pt x="316" y="200"/>
                </a:lnTo>
                <a:lnTo>
                  <a:pt x="323" y="205"/>
                </a:lnTo>
                <a:lnTo>
                  <a:pt x="323" y="211"/>
                </a:lnTo>
                <a:lnTo>
                  <a:pt x="316" y="211"/>
                </a:lnTo>
                <a:lnTo>
                  <a:pt x="323" y="215"/>
                </a:lnTo>
                <a:lnTo>
                  <a:pt x="323" y="217"/>
                </a:lnTo>
                <a:lnTo>
                  <a:pt x="323" y="215"/>
                </a:lnTo>
                <a:lnTo>
                  <a:pt x="310" y="211"/>
                </a:lnTo>
                <a:lnTo>
                  <a:pt x="303" y="215"/>
                </a:lnTo>
                <a:lnTo>
                  <a:pt x="282" y="226"/>
                </a:lnTo>
                <a:lnTo>
                  <a:pt x="282" y="232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363680" y="4010040"/>
            <a:ext cx="1440" cy="144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49200" y="7454880"/>
            <a:ext cx="1800" cy="144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00360" y="5597640"/>
            <a:ext cx="237960" cy="133200"/>
          </a:xfrm>
          <a:custGeom>
            <a:avLst/>
            <a:gdLst/>
            <a:ahLst/>
            <a:rect l="l" t="t" r="r" b="b"/>
            <a:pathLst>
              <a:path w="150" h="84">
                <a:moveTo>
                  <a:pt x="17" y="0"/>
                </a:moveTo>
                <a:lnTo>
                  <a:pt x="28" y="0"/>
                </a:lnTo>
                <a:lnTo>
                  <a:pt x="39" y="9"/>
                </a:lnTo>
                <a:lnTo>
                  <a:pt x="60" y="15"/>
                </a:lnTo>
                <a:lnTo>
                  <a:pt x="80" y="15"/>
                </a:lnTo>
                <a:lnTo>
                  <a:pt x="97" y="9"/>
                </a:lnTo>
                <a:lnTo>
                  <a:pt x="118" y="9"/>
                </a:lnTo>
                <a:lnTo>
                  <a:pt x="120" y="0"/>
                </a:lnTo>
                <a:lnTo>
                  <a:pt x="129" y="5"/>
                </a:lnTo>
                <a:lnTo>
                  <a:pt x="136" y="0"/>
                </a:lnTo>
                <a:lnTo>
                  <a:pt x="140" y="0"/>
                </a:lnTo>
                <a:lnTo>
                  <a:pt x="150" y="9"/>
                </a:lnTo>
                <a:lnTo>
                  <a:pt x="150" y="24"/>
                </a:lnTo>
                <a:lnTo>
                  <a:pt x="150" y="39"/>
                </a:lnTo>
                <a:lnTo>
                  <a:pt x="140" y="39"/>
                </a:lnTo>
                <a:lnTo>
                  <a:pt x="136" y="54"/>
                </a:lnTo>
                <a:lnTo>
                  <a:pt x="129" y="62"/>
                </a:lnTo>
                <a:lnTo>
                  <a:pt x="136" y="62"/>
                </a:lnTo>
                <a:lnTo>
                  <a:pt x="136" y="77"/>
                </a:lnTo>
                <a:lnTo>
                  <a:pt x="129" y="77"/>
                </a:lnTo>
                <a:lnTo>
                  <a:pt x="120" y="62"/>
                </a:lnTo>
                <a:lnTo>
                  <a:pt x="120" y="69"/>
                </a:lnTo>
                <a:lnTo>
                  <a:pt x="108" y="69"/>
                </a:lnTo>
                <a:lnTo>
                  <a:pt x="97" y="84"/>
                </a:lnTo>
                <a:lnTo>
                  <a:pt x="88" y="84"/>
                </a:lnTo>
                <a:lnTo>
                  <a:pt x="80" y="84"/>
                </a:lnTo>
                <a:lnTo>
                  <a:pt x="77" y="84"/>
                </a:lnTo>
                <a:lnTo>
                  <a:pt x="56" y="84"/>
                </a:lnTo>
                <a:lnTo>
                  <a:pt x="56" y="77"/>
                </a:lnTo>
                <a:lnTo>
                  <a:pt x="49" y="77"/>
                </a:lnTo>
                <a:lnTo>
                  <a:pt x="36" y="69"/>
                </a:lnTo>
                <a:lnTo>
                  <a:pt x="28" y="54"/>
                </a:lnTo>
                <a:lnTo>
                  <a:pt x="21" y="39"/>
                </a:lnTo>
                <a:lnTo>
                  <a:pt x="17" y="30"/>
                </a:lnTo>
                <a:lnTo>
                  <a:pt x="7" y="20"/>
                </a:lnTo>
                <a:lnTo>
                  <a:pt x="0" y="9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800360" y="5597640"/>
            <a:ext cx="237960" cy="133200"/>
          </a:xfrm>
          <a:custGeom>
            <a:avLst/>
            <a:gdLst/>
            <a:ahLst/>
            <a:rect l="l" t="t" r="r" b="b"/>
            <a:pathLst>
              <a:path w="150" h="84">
                <a:moveTo>
                  <a:pt x="17" y="0"/>
                </a:moveTo>
                <a:lnTo>
                  <a:pt x="28" y="0"/>
                </a:lnTo>
                <a:lnTo>
                  <a:pt x="39" y="9"/>
                </a:lnTo>
                <a:lnTo>
                  <a:pt x="60" y="15"/>
                </a:lnTo>
                <a:lnTo>
                  <a:pt x="80" y="15"/>
                </a:lnTo>
                <a:lnTo>
                  <a:pt x="97" y="9"/>
                </a:lnTo>
                <a:lnTo>
                  <a:pt x="118" y="9"/>
                </a:lnTo>
                <a:lnTo>
                  <a:pt x="120" y="0"/>
                </a:lnTo>
                <a:lnTo>
                  <a:pt x="129" y="5"/>
                </a:lnTo>
                <a:lnTo>
                  <a:pt x="136" y="0"/>
                </a:lnTo>
                <a:lnTo>
                  <a:pt x="140" y="0"/>
                </a:lnTo>
                <a:lnTo>
                  <a:pt x="150" y="9"/>
                </a:lnTo>
                <a:lnTo>
                  <a:pt x="150" y="24"/>
                </a:lnTo>
                <a:lnTo>
                  <a:pt x="150" y="39"/>
                </a:lnTo>
                <a:lnTo>
                  <a:pt x="140" y="39"/>
                </a:lnTo>
                <a:lnTo>
                  <a:pt x="136" y="54"/>
                </a:lnTo>
                <a:lnTo>
                  <a:pt x="129" y="62"/>
                </a:lnTo>
                <a:lnTo>
                  <a:pt x="136" y="62"/>
                </a:lnTo>
                <a:lnTo>
                  <a:pt x="136" y="77"/>
                </a:lnTo>
                <a:lnTo>
                  <a:pt x="129" y="77"/>
                </a:lnTo>
                <a:lnTo>
                  <a:pt x="120" y="62"/>
                </a:lnTo>
                <a:lnTo>
                  <a:pt x="120" y="69"/>
                </a:lnTo>
                <a:lnTo>
                  <a:pt x="108" y="69"/>
                </a:lnTo>
                <a:lnTo>
                  <a:pt x="97" y="84"/>
                </a:lnTo>
                <a:lnTo>
                  <a:pt x="88" y="84"/>
                </a:lnTo>
                <a:lnTo>
                  <a:pt x="80" y="84"/>
                </a:lnTo>
                <a:lnTo>
                  <a:pt x="77" y="84"/>
                </a:lnTo>
                <a:lnTo>
                  <a:pt x="56" y="84"/>
                </a:lnTo>
                <a:lnTo>
                  <a:pt x="56" y="77"/>
                </a:lnTo>
                <a:lnTo>
                  <a:pt x="49" y="77"/>
                </a:lnTo>
                <a:lnTo>
                  <a:pt x="36" y="69"/>
                </a:lnTo>
                <a:lnTo>
                  <a:pt x="28" y="54"/>
                </a:lnTo>
                <a:lnTo>
                  <a:pt x="21" y="39"/>
                </a:lnTo>
                <a:lnTo>
                  <a:pt x="17" y="30"/>
                </a:lnTo>
                <a:lnTo>
                  <a:pt x="7" y="20"/>
                </a:lnTo>
                <a:lnTo>
                  <a:pt x="0" y="9"/>
                </a:ln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close/>
              </a:path>
            </a:pathLst>
          </a:custGeom>
          <a:noFill/>
          <a:ln w="3240">
            <a:solidFill>
              <a:srgbClr val="c8ff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800360" y="5597640"/>
            <a:ext cx="237960" cy="133200"/>
          </a:xfrm>
          <a:custGeom>
            <a:avLst/>
            <a:gdLst/>
            <a:ahLst/>
            <a:rect l="l" t="t" r="r" b="b"/>
            <a:pathLst>
              <a:path w="150" h="84">
                <a:moveTo>
                  <a:pt x="17" y="0"/>
                </a:moveTo>
                <a:lnTo>
                  <a:pt x="28" y="0"/>
                </a:lnTo>
                <a:lnTo>
                  <a:pt x="39" y="9"/>
                </a:lnTo>
                <a:lnTo>
                  <a:pt x="60" y="15"/>
                </a:lnTo>
                <a:lnTo>
                  <a:pt x="80" y="15"/>
                </a:lnTo>
                <a:lnTo>
                  <a:pt x="97" y="9"/>
                </a:lnTo>
                <a:lnTo>
                  <a:pt x="118" y="9"/>
                </a:lnTo>
                <a:lnTo>
                  <a:pt x="120" y="0"/>
                </a:lnTo>
                <a:lnTo>
                  <a:pt x="129" y="5"/>
                </a:lnTo>
                <a:lnTo>
                  <a:pt x="136" y="0"/>
                </a:lnTo>
                <a:lnTo>
                  <a:pt x="140" y="0"/>
                </a:lnTo>
                <a:lnTo>
                  <a:pt x="150" y="9"/>
                </a:lnTo>
                <a:lnTo>
                  <a:pt x="150" y="24"/>
                </a:lnTo>
                <a:lnTo>
                  <a:pt x="150" y="39"/>
                </a:lnTo>
                <a:lnTo>
                  <a:pt x="140" y="39"/>
                </a:lnTo>
                <a:lnTo>
                  <a:pt x="136" y="54"/>
                </a:lnTo>
                <a:lnTo>
                  <a:pt x="129" y="62"/>
                </a:lnTo>
                <a:lnTo>
                  <a:pt x="136" y="62"/>
                </a:lnTo>
                <a:lnTo>
                  <a:pt x="136" y="77"/>
                </a:lnTo>
                <a:lnTo>
                  <a:pt x="129" y="77"/>
                </a:lnTo>
                <a:lnTo>
                  <a:pt x="120" y="62"/>
                </a:lnTo>
                <a:lnTo>
                  <a:pt x="120" y="69"/>
                </a:lnTo>
                <a:lnTo>
                  <a:pt x="108" y="69"/>
                </a:lnTo>
                <a:lnTo>
                  <a:pt x="97" y="84"/>
                </a:lnTo>
                <a:lnTo>
                  <a:pt x="88" y="84"/>
                </a:lnTo>
                <a:lnTo>
                  <a:pt x="80" y="84"/>
                </a:lnTo>
                <a:lnTo>
                  <a:pt x="77" y="84"/>
                </a:lnTo>
                <a:lnTo>
                  <a:pt x="56" y="84"/>
                </a:lnTo>
                <a:lnTo>
                  <a:pt x="56" y="77"/>
                </a:lnTo>
                <a:lnTo>
                  <a:pt x="49" y="77"/>
                </a:lnTo>
                <a:lnTo>
                  <a:pt x="36" y="69"/>
                </a:lnTo>
                <a:lnTo>
                  <a:pt x="28" y="54"/>
                </a:lnTo>
                <a:lnTo>
                  <a:pt x="21" y="39"/>
                </a:lnTo>
                <a:lnTo>
                  <a:pt x="17" y="30"/>
                </a:lnTo>
                <a:lnTo>
                  <a:pt x="7" y="20"/>
                </a:lnTo>
                <a:lnTo>
                  <a:pt x="0" y="9"/>
                </a:lnTo>
                <a:lnTo>
                  <a:pt x="0" y="0"/>
                </a:lnTo>
                <a:lnTo>
                  <a:pt x="17" y="0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827360" y="5597640"/>
            <a:ext cx="1440" cy="144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49200" y="7454880"/>
            <a:ext cx="1800" cy="1440"/>
          </a:xfrm>
          <a:prstGeom prst="line">
            <a:avLst/>
          </a:prstGeom>
          <a:ln w="3240">
            <a:solidFill>
              <a:srgbClr val="c8ff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2240" y="350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cece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7680" y="4437000"/>
            <a:ext cx="317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cece"/>
                </a:solidFill>
                <a:latin typeface="Times New Roman"/>
              </a:rPr>
              <a:t>20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27680" y="5454720"/>
            <a:ext cx="317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cece"/>
                </a:solidFill>
                <a:latin typeface="Times New Roman"/>
              </a:rPr>
              <a:t>40S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94200" y="2522520"/>
            <a:ext cx="35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cece"/>
                </a:solidFill>
                <a:latin typeface="Times New Roman"/>
              </a:rPr>
              <a:t>20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94200" y="1546200"/>
            <a:ext cx="35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cece"/>
                </a:solidFill>
                <a:latin typeface="Times New Roman"/>
              </a:rPr>
              <a:t>40N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270800" y="6373800"/>
            <a:ext cx="43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cece"/>
                </a:solidFill>
                <a:latin typeface="Times New Roman"/>
              </a:rPr>
              <a:t>140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828240" y="6373800"/>
            <a:ext cx="43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cece"/>
                </a:solidFill>
                <a:latin typeface="Times New Roman"/>
              </a:rPr>
              <a:t>180E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363360" y="6373800"/>
            <a:ext cx="49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cece"/>
                </a:solidFill>
                <a:latin typeface="Times New Roman"/>
              </a:rPr>
              <a:t>140W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333440" y="1854360"/>
            <a:ext cx="314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Western Pacific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   Bigeye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                 (1,915 set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219640" y="2862360"/>
            <a:ext cx="314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Central Pacific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igeye (3,243 set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211640" y="4686480"/>
            <a:ext cx="25891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Western Pacific Distant (234 set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65600" y="1268280"/>
            <a:ext cx="4790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North Pacific Swordfish (1,539 set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4964040"/>
            <a:ext cx="29530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outh Pacific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Yellowfin (1,419 set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1000" y="5853240"/>
            <a:ext cx="39862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outh Pacific SBT (666 sets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42040" y="2781360"/>
            <a:ext cx="369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&gt;500,000 fish</a:t>
            </a:r>
            <a:br>
              <a:rPr sz="3600"/>
            </a:b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&gt;6,000 daily set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 flipH="1">
            <a:off x="1236240" y="2082960"/>
            <a:ext cx="74520" cy="1440"/>
          </a:xfrm>
          <a:prstGeom prst="line">
            <a:avLst/>
          </a:prstGeom>
          <a:ln w="158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1236240" y="1198440"/>
            <a:ext cx="74520" cy="1800"/>
          </a:xfrm>
          <a:prstGeom prst="line">
            <a:avLst/>
          </a:prstGeom>
          <a:ln w="158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1311120" y="1198080"/>
            <a:ext cx="1800" cy="4426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319040" y="1030320"/>
            <a:ext cx="3722760" cy="4763880"/>
          </a:xfrm>
          <a:prstGeom prst="rect">
            <a:avLst/>
          </a:prstGeom>
          <a:noFill/>
          <a:ln w="158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50080" y="1069920"/>
            <a:ext cx="1675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Swordfish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2090880" y="4800600"/>
            <a:ext cx="83880" cy="750960"/>
            <a:chOff x="2090880" y="4800600"/>
            <a:chExt cx="83880" cy="750960"/>
          </a:xfrm>
        </p:grpSpPr>
        <p:sp>
          <p:nvSpPr>
            <p:cNvPr id="598" name=""/>
            <p:cNvSpPr/>
            <p:nvPr/>
          </p:nvSpPr>
          <p:spPr>
            <a:xfrm flipV="1">
              <a:off x="2139840" y="4800600"/>
              <a:ext cx="1800" cy="750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090880" y="5129280"/>
              <a:ext cx="83880" cy="8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233440" y="4017600"/>
            <a:ext cx="82800" cy="1042920"/>
            <a:chOff x="2233440" y="4017600"/>
            <a:chExt cx="82800" cy="1042920"/>
          </a:xfrm>
        </p:grpSpPr>
        <p:sp>
          <p:nvSpPr>
            <p:cNvPr id="601" name=""/>
            <p:cNvSpPr/>
            <p:nvPr/>
          </p:nvSpPr>
          <p:spPr>
            <a:xfrm flipV="1">
              <a:off x="2279520" y="4017600"/>
              <a:ext cx="1800" cy="1042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233440" y="4487760"/>
              <a:ext cx="82800" cy="82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2374920" y="3193920"/>
            <a:ext cx="84240" cy="1533600"/>
            <a:chOff x="2374920" y="3193920"/>
            <a:chExt cx="84240" cy="1533600"/>
          </a:xfrm>
        </p:grpSpPr>
        <p:sp>
          <p:nvSpPr>
            <p:cNvPr id="604" name=""/>
            <p:cNvSpPr/>
            <p:nvPr/>
          </p:nvSpPr>
          <p:spPr>
            <a:xfrm flipV="1">
              <a:off x="2419200" y="3193920"/>
              <a:ext cx="1800" cy="15336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374920" y="3914640"/>
              <a:ext cx="84240" cy="8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2505240" y="3716280"/>
            <a:ext cx="83880" cy="1074960"/>
            <a:chOff x="2505240" y="3716280"/>
            <a:chExt cx="83880" cy="1074960"/>
          </a:xfrm>
        </p:grpSpPr>
        <p:sp>
          <p:nvSpPr>
            <p:cNvPr id="607" name=""/>
            <p:cNvSpPr/>
            <p:nvPr/>
          </p:nvSpPr>
          <p:spPr>
            <a:xfrm flipV="1">
              <a:off x="2557440" y="3716280"/>
              <a:ext cx="1440" cy="1074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05240" y="4202280"/>
              <a:ext cx="83880" cy="83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647800" y="4213080"/>
            <a:ext cx="82800" cy="905040"/>
            <a:chOff x="2647800" y="4213080"/>
            <a:chExt cx="82800" cy="905040"/>
          </a:xfrm>
        </p:grpSpPr>
        <p:sp>
          <p:nvSpPr>
            <p:cNvPr id="610" name=""/>
            <p:cNvSpPr/>
            <p:nvPr/>
          </p:nvSpPr>
          <p:spPr>
            <a:xfrm flipV="1">
              <a:off x="2697120" y="4213080"/>
              <a:ext cx="1800" cy="905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647800" y="4618080"/>
              <a:ext cx="82800" cy="8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2789280" y="3170160"/>
            <a:ext cx="84240" cy="1217520"/>
            <a:chOff x="2789280" y="3170160"/>
            <a:chExt cx="84240" cy="1217520"/>
          </a:xfrm>
        </p:grpSpPr>
        <p:sp>
          <p:nvSpPr>
            <p:cNvPr id="613" name=""/>
            <p:cNvSpPr/>
            <p:nvPr/>
          </p:nvSpPr>
          <p:spPr>
            <a:xfrm flipV="1">
              <a:off x="2835360" y="3170160"/>
              <a:ext cx="1440" cy="12175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789280" y="3728880"/>
              <a:ext cx="84240" cy="8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2919240" y="2819160"/>
            <a:ext cx="84240" cy="1471320"/>
            <a:chOff x="2919240" y="2819160"/>
            <a:chExt cx="84240" cy="1471320"/>
          </a:xfrm>
        </p:grpSpPr>
        <p:sp>
          <p:nvSpPr>
            <p:cNvPr id="616" name=""/>
            <p:cNvSpPr/>
            <p:nvPr/>
          </p:nvSpPr>
          <p:spPr>
            <a:xfrm flipV="1">
              <a:off x="2971800" y="2819160"/>
              <a:ext cx="1440" cy="1471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919240" y="3498840"/>
              <a:ext cx="84240" cy="8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3062160" y="2473200"/>
            <a:ext cx="82800" cy="1440000"/>
            <a:chOff x="3062160" y="2473200"/>
            <a:chExt cx="82800" cy="1440000"/>
          </a:xfrm>
        </p:grpSpPr>
        <p:sp>
          <p:nvSpPr>
            <p:cNvPr id="619" name=""/>
            <p:cNvSpPr/>
            <p:nvPr/>
          </p:nvSpPr>
          <p:spPr>
            <a:xfrm flipV="1">
              <a:off x="3111480" y="2473200"/>
              <a:ext cx="1440" cy="14400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062160" y="3141720"/>
              <a:ext cx="82800" cy="8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3203640" y="2386080"/>
            <a:ext cx="84240" cy="1357200"/>
            <a:chOff x="3203640" y="2386080"/>
            <a:chExt cx="84240" cy="1357200"/>
          </a:xfrm>
        </p:grpSpPr>
        <p:sp>
          <p:nvSpPr>
            <p:cNvPr id="622" name=""/>
            <p:cNvSpPr/>
            <p:nvPr/>
          </p:nvSpPr>
          <p:spPr>
            <a:xfrm flipV="1">
              <a:off x="3249720" y="2386080"/>
              <a:ext cx="1440" cy="135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203640" y="3014640"/>
              <a:ext cx="84240" cy="8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3333600" y="2112480"/>
            <a:ext cx="98640" cy="1476360"/>
            <a:chOff x="3333600" y="2112480"/>
            <a:chExt cx="98640" cy="1476360"/>
          </a:xfrm>
        </p:grpSpPr>
        <p:sp>
          <p:nvSpPr>
            <p:cNvPr id="625" name=""/>
            <p:cNvSpPr/>
            <p:nvPr/>
          </p:nvSpPr>
          <p:spPr>
            <a:xfrm flipV="1">
              <a:off x="3389400" y="2112480"/>
              <a:ext cx="1440" cy="14763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33600" y="2800440"/>
              <a:ext cx="98640" cy="83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3476520" y="1682640"/>
            <a:ext cx="82800" cy="1687680"/>
            <a:chOff x="3476520" y="1682640"/>
            <a:chExt cx="82800" cy="1687680"/>
          </a:xfrm>
        </p:grpSpPr>
        <p:sp>
          <p:nvSpPr>
            <p:cNvPr id="628" name=""/>
            <p:cNvSpPr/>
            <p:nvPr/>
          </p:nvSpPr>
          <p:spPr>
            <a:xfrm flipV="1">
              <a:off x="3529080" y="1682640"/>
              <a:ext cx="1440" cy="1687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76520" y="2473200"/>
              <a:ext cx="82800" cy="8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3618000" y="1221840"/>
            <a:ext cx="83880" cy="1536840"/>
            <a:chOff x="3618000" y="1221840"/>
            <a:chExt cx="83880" cy="1536840"/>
          </a:xfrm>
        </p:grpSpPr>
        <p:sp>
          <p:nvSpPr>
            <p:cNvPr id="631" name=""/>
            <p:cNvSpPr/>
            <p:nvPr/>
          </p:nvSpPr>
          <p:spPr>
            <a:xfrm flipV="1">
              <a:off x="3664080" y="1221840"/>
              <a:ext cx="1440" cy="15368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618000" y="1943280"/>
              <a:ext cx="83880" cy="83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747960" y="1047600"/>
            <a:ext cx="98640" cy="1704960"/>
            <a:chOff x="3747960" y="1047600"/>
            <a:chExt cx="98640" cy="1704960"/>
          </a:xfrm>
        </p:grpSpPr>
        <p:sp>
          <p:nvSpPr>
            <p:cNvPr id="634" name=""/>
            <p:cNvSpPr/>
            <p:nvPr/>
          </p:nvSpPr>
          <p:spPr>
            <a:xfrm flipV="1">
              <a:off x="3803760" y="1047600"/>
              <a:ext cx="1440" cy="1704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747960" y="1857240"/>
              <a:ext cx="98640" cy="8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890880" y="1179000"/>
            <a:ext cx="82800" cy="1737000"/>
            <a:chOff x="3890880" y="1179000"/>
            <a:chExt cx="82800" cy="1737000"/>
          </a:xfrm>
        </p:grpSpPr>
        <p:sp>
          <p:nvSpPr>
            <p:cNvPr id="637" name=""/>
            <p:cNvSpPr/>
            <p:nvPr/>
          </p:nvSpPr>
          <p:spPr>
            <a:xfrm flipV="1">
              <a:off x="3943440" y="1179000"/>
              <a:ext cx="1440" cy="17370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90880" y="2000160"/>
              <a:ext cx="82800" cy="84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4032360" y="1428480"/>
            <a:ext cx="83880" cy="1832040"/>
            <a:chOff x="4032360" y="1428480"/>
            <a:chExt cx="83880" cy="1832040"/>
          </a:xfrm>
        </p:grpSpPr>
        <p:sp>
          <p:nvSpPr>
            <p:cNvPr id="640" name=""/>
            <p:cNvSpPr/>
            <p:nvPr/>
          </p:nvSpPr>
          <p:spPr>
            <a:xfrm flipV="1">
              <a:off x="4081320" y="1428480"/>
              <a:ext cx="1800" cy="183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032360" y="2300400"/>
              <a:ext cx="83880" cy="83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178160" y="1882440"/>
            <a:ext cx="82800" cy="1833480"/>
            <a:chOff x="4178160" y="1882440"/>
            <a:chExt cx="82800" cy="1833480"/>
          </a:xfrm>
        </p:grpSpPr>
        <p:sp>
          <p:nvSpPr>
            <p:cNvPr id="643" name=""/>
            <p:cNvSpPr/>
            <p:nvPr/>
          </p:nvSpPr>
          <p:spPr>
            <a:xfrm flipV="1">
              <a:off x="4221000" y="1882440"/>
              <a:ext cx="1800" cy="18334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78160" y="2741760"/>
              <a:ext cx="82800" cy="83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 flipH="1">
            <a:off x="1218960" y="3809880"/>
            <a:ext cx="74520" cy="1800"/>
          </a:xfrm>
          <a:prstGeom prst="line">
            <a:avLst/>
          </a:prstGeom>
          <a:ln w="158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1218960" y="2925720"/>
            <a:ext cx="74520" cy="1800"/>
          </a:xfrm>
          <a:prstGeom prst="line">
            <a:avLst/>
          </a:prstGeom>
          <a:ln w="158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1218960" y="5562720"/>
            <a:ext cx="74520" cy="1440"/>
          </a:xfrm>
          <a:prstGeom prst="line">
            <a:avLst/>
          </a:prstGeom>
          <a:ln w="158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218960" y="4678200"/>
            <a:ext cx="74520" cy="1800"/>
          </a:xfrm>
          <a:prstGeom prst="line">
            <a:avLst/>
          </a:prstGeom>
          <a:ln w="158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58320" y="106668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cece"/>
                </a:solidFill>
                <a:latin typeface="Times New Roman"/>
              </a:rPr>
              <a:t>2.5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958320" y="198108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cece"/>
                </a:solidFill>
                <a:latin typeface="Times New Roman"/>
              </a:rPr>
              <a:t>2.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58320" y="281952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cece"/>
                </a:solidFill>
                <a:latin typeface="Times New Roman"/>
              </a:rPr>
              <a:t>1.5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958320" y="373392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cece"/>
                </a:solidFill>
                <a:latin typeface="Times New Roman"/>
              </a:rPr>
              <a:t>1.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958320" y="457200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cece"/>
                </a:solidFill>
                <a:latin typeface="Times New Roman"/>
              </a:rPr>
              <a:t>0.5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091520" y="5486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cece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6200000">
            <a:off x="-1392840" y="3114720"/>
            <a:ext cx="3972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Times New Roman"/>
              </a:rPr>
              <a:t>Catch rate (no./1000 hooks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71440" y="6172200"/>
            <a:ext cx="2055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ecece"/>
                </a:solidFill>
                <a:latin typeface="Times New Roman"/>
              </a:rPr>
              <a:t>Soak time (hr)</a:t>
            </a:r>
            <a:endParaRPr b="0" lang="en-US" sz="28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 flipV="1">
            <a:off x="1523520" y="5790960"/>
            <a:ext cx="1800" cy="74520"/>
          </a:xfrm>
          <a:prstGeom prst="line">
            <a:avLst/>
          </a:prstGeom>
          <a:ln w="158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2133720" y="5790960"/>
            <a:ext cx="1440" cy="74520"/>
          </a:xfrm>
          <a:prstGeom prst="line">
            <a:avLst/>
          </a:prstGeom>
          <a:ln w="158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 flipV="1">
            <a:off x="2895120" y="5790960"/>
            <a:ext cx="1800" cy="74520"/>
          </a:xfrm>
          <a:prstGeom prst="line">
            <a:avLst/>
          </a:prstGeom>
          <a:ln w="158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 flipV="1">
            <a:off x="3580920" y="5790960"/>
            <a:ext cx="1800" cy="74520"/>
          </a:xfrm>
          <a:prstGeom prst="line">
            <a:avLst/>
          </a:prstGeom>
          <a:ln w="158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4266720" y="5790960"/>
            <a:ext cx="1800" cy="74520"/>
          </a:xfrm>
          <a:prstGeom prst="line">
            <a:avLst/>
          </a:prstGeom>
          <a:ln w="158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434600" y="5883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cece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044080" y="58831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cece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755080" y="5883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cece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440880" y="5883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cece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126680" y="5883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cece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24000" y="152280"/>
            <a:ext cx="7315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Data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6736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-4644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0957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-46440" anchor="t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364000" y="2637000"/>
            <a:ext cx="367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             </a:t>
            </a:r>
            <a:r>
              <a:rPr b="1" lang="en-US" sz="6000" spc="-1" strike="noStrike">
                <a:solidFill>
                  <a:srgbClr val="fafd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afd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Estimate of deployment time from start and end of time of set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64000" y="981000"/>
            <a:ext cx="369108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Observer record of time when each hook was retrieved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" descr=""/>
          <p:cNvPicPr/>
          <p:nvPr/>
        </p:nvPicPr>
        <p:blipFill>
          <a:blip r:embed="rId1"/>
          <a:stretch/>
        </p:blipFill>
        <p:spPr>
          <a:xfrm>
            <a:off x="4738680" y="-27000"/>
            <a:ext cx="4586400" cy="5364000"/>
          </a:xfrm>
          <a:prstGeom prst="rect">
            <a:avLst/>
          </a:prstGeom>
          <a:ln w="0">
            <a:noFill/>
          </a:ln>
        </p:spPr>
      </p:pic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50920" y="11350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1) Random effects (O)</a:t>
            </a:r>
            <a:endParaRPr b="0" lang="en-US" sz="36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2359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ak time (</a:t>
            </a:r>
            <a:r>
              <a:rPr b="0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ason (</a:t>
            </a:r>
            <a:r>
              <a:rPr b="0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year (</a:t>
            </a:r>
            <a:r>
              <a:rPr b="0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Y)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wn (</a:t>
            </a:r>
            <a:r>
              <a:rPr b="0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usk (</a:t>
            </a:r>
            <a:r>
              <a:rPr b="0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39640" y="5362560"/>
                <a:ext cx="8147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539640" y="5362560"/>
                <a:ext cx="7382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539640" y="5362560"/>
                <a:ext cx="61722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539640" y="5362560"/>
                <a:ext cx="49230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539640" y="5367240"/>
                <a:ext cx="375300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39640" y="5362560"/>
                <a:ext cx="254340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>
            <a:off x="250920" y="287280"/>
            <a:ext cx="8570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Generalized linear mixed model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50920" y="1711440"/>
            <a:ext cx="82296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2) Fixed effect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704400" y="6381720"/>
            <a:ext cx="2672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ecece"/>
                </a:solidFill>
                <a:latin typeface="Times New Roman"/>
              </a:rPr>
              <a:t>Soak time effec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33680" y="6075360"/>
            <a:ext cx="1440" cy="112680"/>
          </a:xfrm>
          <a:prstGeom prst="line">
            <a:avLst/>
          </a:prstGeom>
          <a:ln w="111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121360" y="6075360"/>
            <a:ext cx="1440" cy="112680"/>
          </a:xfrm>
          <a:prstGeom prst="line">
            <a:avLst/>
          </a:prstGeom>
          <a:ln w="111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705800" y="6075360"/>
            <a:ext cx="1440" cy="112680"/>
          </a:xfrm>
          <a:prstGeom prst="line">
            <a:avLst/>
          </a:prstGeom>
          <a:ln w="111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533680" y="6075360"/>
            <a:ext cx="5172120" cy="1440"/>
          </a:xfrm>
          <a:prstGeom prst="line">
            <a:avLst/>
          </a:prstGeom>
          <a:ln w="111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340000" y="62326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cece"/>
                </a:solidFill>
                <a:latin typeface="Times New Roman"/>
              </a:rPr>
              <a:t>-0.2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003280" y="6232680"/>
            <a:ext cx="25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cece"/>
                </a:solidFill>
                <a:latin typeface="Times New Roman"/>
              </a:rPr>
              <a:t>0.0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490880" y="6232680"/>
            <a:ext cx="369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cece"/>
                </a:solidFill>
                <a:latin typeface="Times New Roman"/>
              </a:rPr>
              <a:t>+0.2</a:t>
            </a:r>
            <a:endParaRPr b="0" lang="en-US" sz="1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23120" y="5656320"/>
            <a:ext cx="814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igeye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274560" y="5006880"/>
            <a:ext cx="1018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kipjac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5121360" y="6063840"/>
            <a:ext cx="1440" cy="111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5121360" y="6001920"/>
            <a:ext cx="1440" cy="9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536880" y="1401840"/>
            <a:ext cx="1204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swordfis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962280" y="608040"/>
            <a:ext cx="5506920" cy="1033560"/>
            <a:chOff x="962280" y="608040"/>
            <a:chExt cx="5506920" cy="1033560"/>
          </a:xfrm>
        </p:grpSpPr>
        <p:sp>
          <p:nvSpPr>
            <p:cNvPr id="697" name=""/>
            <p:cNvSpPr/>
            <p:nvPr/>
          </p:nvSpPr>
          <p:spPr>
            <a:xfrm>
              <a:off x="6099120" y="1595520"/>
              <a:ext cx="3700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254560" y="1434960"/>
              <a:ext cx="506520" cy="18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157720" y="1278000"/>
              <a:ext cx="44460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25960" y="1119240"/>
              <a:ext cx="44604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610160" y="961920"/>
              <a:ext cx="1014480" cy="18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30880" y="1549440"/>
              <a:ext cx="106560" cy="921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454720" y="1389240"/>
              <a:ext cx="104760" cy="918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324400" y="1231920"/>
              <a:ext cx="106560" cy="921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197320" y="1073160"/>
              <a:ext cx="106560" cy="921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62680" y="915840"/>
              <a:ext cx="106200" cy="921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21360" y="161136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5121360" y="154944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5121360" y="148608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5121360" y="142416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5121360" y="1360080"/>
              <a:ext cx="144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5121360" y="1298160"/>
              <a:ext cx="144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5121360" y="123516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V="1">
              <a:off x="5121360" y="1171080"/>
              <a:ext cx="144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5121360" y="1109160"/>
              <a:ext cx="144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5121360" y="1045800"/>
              <a:ext cx="144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5121360" y="983880"/>
              <a:ext cx="144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5121360" y="920520"/>
              <a:ext cx="144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5121360" y="85896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5121360" y="794880"/>
              <a:ext cx="144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5121360" y="732960"/>
              <a:ext cx="144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5121360" y="669600"/>
              <a:ext cx="144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121360" y="60804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62280" y="1047600"/>
              <a:ext cx="1172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ecece"/>
                  </a:solidFill>
                  <a:latin typeface="Times New Roman"/>
                </a:rPr>
                <a:t>Billfishe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2254320" y="802800"/>
              <a:ext cx="1440" cy="792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2178000" y="1198440"/>
              <a:ext cx="76320" cy="1800"/>
            </a:xfrm>
            <a:prstGeom prst="line">
              <a:avLst/>
            </a:prstGeom>
            <a:ln w="111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54320" y="1595520"/>
              <a:ext cx="75960" cy="1440"/>
            </a:xfrm>
            <a:prstGeom prst="line">
              <a:avLst/>
            </a:prstGeom>
            <a:ln w="111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54320" y="801720"/>
              <a:ext cx="75960" cy="1440"/>
            </a:xfrm>
            <a:prstGeom prst="line">
              <a:avLst/>
            </a:prstGeom>
            <a:ln w="111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>
            <a:off x="4989600" y="5391000"/>
            <a:ext cx="168120" cy="1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987880" y="5865840"/>
            <a:ext cx="333720" cy="14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940280" y="5708520"/>
            <a:ext cx="506520" cy="18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108400" y="5551560"/>
            <a:ext cx="128880" cy="14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368960" y="5234040"/>
            <a:ext cx="468000" cy="14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00920" y="5821200"/>
            <a:ext cx="106200" cy="907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141880" y="5662440"/>
            <a:ext cx="1065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118120" y="5505480"/>
            <a:ext cx="10620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549680" y="5187960"/>
            <a:ext cx="106560" cy="903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121360" y="5938560"/>
            <a:ext cx="1440" cy="111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5121360" y="5877000"/>
            <a:ext cx="1440" cy="93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5121360" y="5812920"/>
            <a:ext cx="1440" cy="111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121360" y="5751000"/>
            <a:ext cx="1440" cy="972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5121360" y="5687640"/>
            <a:ext cx="1440" cy="111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5121360" y="5625720"/>
            <a:ext cx="1440" cy="972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5121360" y="5562360"/>
            <a:ext cx="1440" cy="111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121360" y="5500800"/>
            <a:ext cx="1440" cy="93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121360" y="5436720"/>
            <a:ext cx="1440" cy="111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5121360" y="5374800"/>
            <a:ext cx="1440" cy="972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5121360" y="5311440"/>
            <a:ext cx="1440" cy="111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5121360" y="5249880"/>
            <a:ext cx="1440" cy="93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5121360" y="5186520"/>
            <a:ext cx="1440" cy="108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5121360" y="5124600"/>
            <a:ext cx="1440" cy="93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86720" y="5398920"/>
            <a:ext cx="745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cece"/>
                </a:solidFill>
                <a:latin typeface="Times New Roman"/>
              </a:rPr>
              <a:t>Tuna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2254320" y="5233680"/>
            <a:ext cx="1440" cy="6318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178000" y="5551560"/>
            <a:ext cx="76320" cy="1440"/>
          </a:xfrm>
          <a:prstGeom prst="line">
            <a:avLst/>
          </a:prstGeom>
          <a:ln w="111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54320" y="5865840"/>
            <a:ext cx="75960" cy="1440"/>
          </a:xfrm>
          <a:prstGeom prst="line">
            <a:avLst/>
          </a:prstGeom>
          <a:ln w="111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254320" y="5234040"/>
            <a:ext cx="75960" cy="1440"/>
          </a:xfrm>
          <a:prstGeom prst="line">
            <a:avLst/>
          </a:prstGeom>
          <a:ln w="111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021280" y="5345280"/>
            <a:ext cx="106200" cy="918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973840" y="4575240"/>
            <a:ext cx="126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blue shar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200160" y="3605040"/>
            <a:ext cx="7095960" cy="1515960"/>
            <a:chOff x="200160" y="3605040"/>
            <a:chExt cx="7095960" cy="1515960"/>
          </a:xfrm>
        </p:grpSpPr>
        <p:sp>
          <p:nvSpPr>
            <p:cNvPr id="760" name=""/>
            <p:cNvSpPr/>
            <p:nvPr/>
          </p:nvSpPr>
          <p:spPr>
            <a:xfrm>
              <a:off x="4549680" y="3605040"/>
              <a:ext cx="106560" cy="918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5121360" y="3617280"/>
              <a:ext cx="144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68960" y="5074920"/>
              <a:ext cx="202716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757760" y="4917600"/>
              <a:ext cx="2533680" cy="18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614920" y="4758840"/>
              <a:ext cx="303120" cy="18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384880" y="4600080"/>
              <a:ext cx="506160" cy="18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84880" y="4441320"/>
              <a:ext cx="506160" cy="18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000760" y="4284360"/>
              <a:ext cx="10141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254560" y="4125600"/>
              <a:ext cx="5065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254560" y="3968280"/>
              <a:ext cx="506520" cy="18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19520" y="3808080"/>
              <a:ext cx="151920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587760" y="3650760"/>
              <a:ext cx="2027160" cy="18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230880" y="5028840"/>
              <a:ext cx="106560" cy="921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713560" y="4713120"/>
              <a:ext cx="104760" cy="918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583240" y="4554360"/>
              <a:ext cx="106200" cy="903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583240" y="4395600"/>
              <a:ext cx="106200" cy="918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454720" y="4238280"/>
              <a:ext cx="104760" cy="921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454720" y="4079520"/>
              <a:ext cx="104760" cy="921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454720" y="3922200"/>
              <a:ext cx="104760" cy="921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24400" y="3762000"/>
              <a:ext cx="106560" cy="921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5121360" y="5060160"/>
              <a:ext cx="144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121360" y="4998240"/>
              <a:ext cx="144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5121360" y="4934880"/>
              <a:ext cx="144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5121360" y="487332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5121360" y="4809960"/>
              <a:ext cx="1440" cy="1080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5121360" y="474804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5121360" y="4683960"/>
              <a:ext cx="144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5121360" y="4622040"/>
              <a:ext cx="144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5121360" y="455904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5121360" y="449712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5121360" y="4433040"/>
              <a:ext cx="144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5121360" y="4371120"/>
              <a:ext cx="144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5121360" y="4307760"/>
              <a:ext cx="144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5121360" y="4245840"/>
              <a:ext cx="144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5121360" y="418284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5121360" y="412092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5121360" y="4056840"/>
              <a:ext cx="144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5121360" y="3993480"/>
              <a:ext cx="144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5121360" y="393192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5121360" y="3868560"/>
              <a:ext cx="1440" cy="1080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5121360" y="380664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5121360" y="3742560"/>
              <a:ext cx="144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121360" y="3680640"/>
              <a:ext cx="144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00160" y="4142880"/>
              <a:ext cx="1933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ecece"/>
                  </a:solidFill>
                  <a:latin typeface="Times New Roman"/>
                </a:rPr>
                <a:t>Sharks and ray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2254320" y="3650760"/>
              <a:ext cx="1440" cy="1424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2178000" y="4362120"/>
              <a:ext cx="76320" cy="1440"/>
            </a:xfrm>
            <a:prstGeom prst="line">
              <a:avLst/>
            </a:prstGeom>
            <a:ln w="111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254320" y="5074920"/>
              <a:ext cx="75960" cy="1440"/>
            </a:xfrm>
            <a:prstGeom prst="line">
              <a:avLst/>
            </a:prstGeom>
            <a:ln w="111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254320" y="3650760"/>
              <a:ext cx="75960" cy="1800"/>
            </a:xfrm>
            <a:prstGeom prst="line">
              <a:avLst/>
            </a:prstGeom>
            <a:ln w="111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972040" y="4871880"/>
              <a:ext cx="106560" cy="918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3393360" y="255600"/>
            <a:ext cx="108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albatross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649080" y="1674360"/>
            <a:ext cx="5953320" cy="1891080"/>
            <a:chOff x="649080" y="1674360"/>
            <a:chExt cx="5953320" cy="1891080"/>
          </a:xfrm>
        </p:grpSpPr>
        <p:sp>
          <p:nvSpPr>
            <p:cNvPr id="811" name=""/>
            <p:cNvSpPr/>
            <p:nvPr/>
          </p:nvSpPr>
          <p:spPr>
            <a:xfrm>
              <a:off x="6222960" y="3492360"/>
              <a:ext cx="379440" cy="18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029280" y="3335400"/>
              <a:ext cx="50976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254560" y="3178080"/>
              <a:ext cx="506520" cy="18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38640" y="3017880"/>
              <a:ext cx="4795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95720" y="2859120"/>
              <a:ext cx="5065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514760" y="2701800"/>
              <a:ext cx="1013040" cy="18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37240" y="2544840"/>
              <a:ext cx="50616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737240" y="2386080"/>
              <a:ext cx="50616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62520" y="2227320"/>
              <a:ext cx="25560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56000" y="2068560"/>
              <a:ext cx="101304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478400" y="1911240"/>
              <a:ext cx="506520" cy="18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971880" y="1752480"/>
              <a:ext cx="1521000" cy="18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359400" y="3448080"/>
              <a:ext cx="106560" cy="903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30880" y="3289320"/>
              <a:ext cx="106560" cy="921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454720" y="3132000"/>
              <a:ext cx="104760" cy="907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324400" y="2971800"/>
              <a:ext cx="106560" cy="921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197320" y="2814840"/>
              <a:ext cx="106560" cy="903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968720" y="2656080"/>
              <a:ext cx="104760" cy="918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938840" y="2498760"/>
              <a:ext cx="106200" cy="903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938840" y="2340000"/>
              <a:ext cx="106200" cy="921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938840" y="2181240"/>
              <a:ext cx="106200" cy="903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680000" y="1865160"/>
              <a:ext cx="104760" cy="921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680000" y="1706760"/>
              <a:ext cx="104760" cy="918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5121360" y="355608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5121360" y="3492000"/>
              <a:ext cx="144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5121360" y="3430080"/>
              <a:ext cx="144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5121360" y="3366720"/>
              <a:ext cx="144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5121360" y="3304800"/>
              <a:ext cx="144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5121360" y="3241440"/>
              <a:ext cx="144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5121360" y="317988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5121360" y="3115800"/>
              <a:ext cx="144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5121360" y="3053880"/>
              <a:ext cx="144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5121360" y="2990520"/>
              <a:ext cx="144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5121360" y="292896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5121360" y="2865600"/>
              <a:ext cx="1440" cy="1080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5121360" y="280368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5121360" y="2739600"/>
              <a:ext cx="144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5121360" y="2677680"/>
              <a:ext cx="144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5121360" y="2614320"/>
              <a:ext cx="144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5121360" y="255276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5121360" y="2489400"/>
              <a:ext cx="1440" cy="1080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5121360" y="242748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5121360" y="2363400"/>
              <a:ext cx="144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5121360" y="2301480"/>
              <a:ext cx="144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5121360" y="2238120"/>
              <a:ext cx="144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5121360" y="217656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5121360" y="2112480"/>
              <a:ext cx="144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5121360" y="2050560"/>
              <a:ext cx="144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5121360" y="1987200"/>
              <a:ext cx="144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5121360" y="1925280"/>
              <a:ext cx="144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5121360" y="186228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5121360" y="1800360"/>
              <a:ext cx="144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5121360" y="1736280"/>
              <a:ext cx="144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5121360" y="1674360"/>
              <a:ext cx="144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49080" y="2471760"/>
              <a:ext cx="1485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ecece"/>
                  </a:solidFill>
                  <a:latin typeface="Times New Roman"/>
                </a:rPr>
                <a:t>Other fishe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2254320" y="1752120"/>
              <a:ext cx="1440" cy="1739880"/>
            </a:xfrm>
            <a:prstGeom prst="line">
              <a:avLst/>
            </a:prstGeom>
            <a:ln w="111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2178000" y="2622600"/>
              <a:ext cx="76320" cy="1440"/>
            </a:xfrm>
            <a:prstGeom prst="line">
              <a:avLst/>
            </a:prstGeom>
            <a:ln w="111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254320" y="3492360"/>
              <a:ext cx="75960" cy="1800"/>
            </a:xfrm>
            <a:prstGeom prst="line">
              <a:avLst/>
            </a:prstGeom>
            <a:ln w="111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254320" y="1752480"/>
              <a:ext cx="75960" cy="1800"/>
            </a:xfrm>
            <a:prstGeom prst="line">
              <a:avLst/>
            </a:prstGeom>
            <a:ln w="111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808520" y="2022480"/>
              <a:ext cx="106560" cy="921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42560" y="260280"/>
            <a:ext cx="900108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Soak time effect varies among species</a:t>
            </a:r>
            <a:endParaRPr b="0" lang="en-US" sz="40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095800" y="831960"/>
            <a:ext cx="1800" cy="93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5095800" y="78840"/>
            <a:ext cx="1800" cy="972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5095800" y="-46440"/>
            <a:ext cx="1800" cy="972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5095800" y="-109800"/>
            <a:ext cx="1800" cy="111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5095800" y="-171360"/>
            <a:ext cx="1800" cy="93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1041480" y="15480"/>
            <a:ext cx="4248000" cy="763920"/>
            <a:chOff x="1041480" y="15480"/>
            <a:chExt cx="4248000" cy="763920"/>
          </a:xfrm>
        </p:grpSpPr>
        <p:sp>
          <p:nvSpPr>
            <p:cNvPr id="878" name=""/>
            <p:cNvSpPr/>
            <p:nvPr/>
          </p:nvSpPr>
          <p:spPr>
            <a:xfrm flipV="1">
              <a:off x="5106960" y="544680"/>
              <a:ext cx="1440" cy="10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5106960" y="482760"/>
              <a:ext cx="1440" cy="9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557600" y="425520"/>
              <a:ext cx="44460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3240" y="214200"/>
              <a:ext cx="446040" cy="18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535280" y="644400"/>
              <a:ext cx="754200" cy="18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724280" y="379440"/>
              <a:ext cx="106200" cy="921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584600" y="168120"/>
              <a:ext cx="106200" cy="921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859280" y="600120"/>
              <a:ext cx="106200" cy="921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5081400" y="770040"/>
              <a:ext cx="180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081400" y="705960"/>
              <a:ext cx="180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5081400" y="644040"/>
              <a:ext cx="180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5081400" y="581040"/>
              <a:ext cx="180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5081400" y="519120"/>
              <a:ext cx="180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5081400" y="455760"/>
              <a:ext cx="180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5081400" y="391680"/>
              <a:ext cx="180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5081400" y="329760"/>
              <a:ext cx="1800" cy="972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5081400" y="266400"/>
              <a:ext cx="180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5081400" y="204840"/>
              <a:ext cx="1800" cy="93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5081400" y="140760"/>
              <a:ext cx="180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81400" y="15480"/>
              <a:ext cx="1800" cy="1116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041480" y="268200"/>
              <a:ext cx="1052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ecece"/>
                  </a:solidFill>
                  <a:latin typeface="Times New Roman"/>
                </a:rPr>
                <a:t>Seabirds</a:t>
              </a:r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2214360" y="188640"/>
              <a:ext cx="1800" cy="476280"/>
            </a:xfrm>
            <a:prstGeom prst="line">
              <a:avLst/>
            </a:prstGeom>
            <a:ln w="1260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138040" y="419040"/>
              <a:ext cx="75960" cy="1800"/>
            </a:xfrm>
            <a:prstGeom prst="line">
              <a:avLst/>
            </a:prstGeom>
            <a:ln w="111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214360" y="690480"/>
              <a:ext cx="76320" cy="1800"/>
            </a:xfrm>
            <a:prstGeom prst="line">
              <a:avLst/>
            </a:prstGeom>
            <a:ln w="111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214360" y="187200"/>
              <a:ext cx="76320" cy="1800"/>
            </a:xfrm>
            <a:prstGeom prst="line">
              <a:avLst/>
            </a:prstGeom>
            <a:ln w="111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79280" y="269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afd00"/>
                </a:solidFill>
                <a:latin typeface="Times New Roman"/>
              </a:rPr>
              <a:t>Soak time effect correlated with survival</a:t>
            </a:r>
            <a:endParaRPr b="0" lang="en-US" sz="40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904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633680" y="8251920"/>
            <a:ext cx="288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1855800" y="5659560"/>
            <a:ext cx="4680" cy="11592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3003480" y="5659560"/>
            <a:ext cx="4680" cy="11592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4152960" y="5659560"/>
            <a:ext cx="3240" cy="11592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V="1">
            <a:off x="5300640" y="5659560"/>
            <a:ext cx="3240" cy="11592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6442200" y="5659560"/>
            <a:ext cx="2880" cy="11592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7591320" y="5659560"/>
            <a:ext cx="3240" cy="11592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764360" y="5808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868120" y="5808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017600" y="5808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168520" y="5808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Times New Roman"/>
              </a:rPr>
              <a:t>6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309000" y="5808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Times New Roman"/>
              </a:rPr>
              <a:t>8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432560" y="58086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506600" y="5397480"/>
            <a:ext cx="119160" cy="32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506600" y="3517920"/>
            <a:ext cx="119160" cy="468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506600" y="1641600"/>
            <a:ext cx="119160" cy="288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478560" y="1554120"/>
            <a:ext cx="187200" cy="174600"/>
          </a:xfrm>
          <a:custGeom>
            <a:avLst/>
            <a:gdLst/>
            <a:ahLst/>
            <a:rect l="l" t="t" r="r" b="b"/>
            <a:pathLst>
              <a:path w="50" h="48">
                <a:moveTo>
                  <a:pt x="0" y="24"/>
                </a:moveTo>
                <a:lnTo>
                  <a:pt x="0" y="24"/>
                </a:lnTo>
                <a:lnTo>
                  <a:pt x="2" y="14"/>
                </a:lnTo>
                <a:lnTo>
                  <a:pt x="8" y="6"/>
                </a:lnTo>
                <a:lnTo>
                  <a:pt x="16" y="2"/>
                </a:lnTo>
                <a:lnTo>
                  <a:pt x="26" y="0"/>
                </a:lnTo>
                <a:lnTo>
                  <a:pt x="26" y="0"/>
                </a:lnTo>
                <a:lnTo>
                  <a:pt x="34" y="2"/>
                </a:lnTo>
                <a:lnTo>
                  <a:pt x="42" y="6"/>
                </a:lnTo>
                <a:lnTo>
                  <a:pt x="48" y="14"/>
                </a:lnTo>
                <a:lnTo>
                  <a:pt x="50" y="24"/>
                </a:lnTo>
                <a:lnTo>
                  <a:pt x="50" y="24"/>
                </a:lnTo>
                <a:lnTo>
                  <a:pt x="48" y="34"/>
                </a:lnTo>
                <a:lnTo>
                  <a:pt x="42" y="42"/>
                </a:lnTo>
                <a:lnTo>
                  <a:pt x="34" y="46"/>
                </a:lnTo>
                <a:lnTo>
                  <a:pt x="26" y="48"/>
                </a:lnTo>
                <a:lnTo>
                  <a:pt x="26" y="48"/>
                </a:lnTo>
                <a:lnTo>
                  <a:pt x="16" y="46"/>
                </a:lnTo>
                <a:lnTo>
                  <a:pt x="8" y="42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665760" y="1743120"/>
            <a:ext cx="177840" cy="17460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4"/>
                </a:lnTo>
                <a:lnTo>
                  <a:pt x="8" y="6"/>
                </a:lnTo>
                <a:lnTo>
                  <a:pt x="16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2" y="6"/>
                </a:lnTo>
                <a:lnTo>
                  <a:pt x="46" y="14"/>
                </a:lnTo>
                <a:lnTo>
                  <a:pt x="48" y="24"/>
                </a:lnTo>
                <a:lnTo>
                  <a:pt x="48" y="24"/>
                </a:lnTo>
                <a:lnTo>
                  <a:pt x="46" y="34"/>
                </a:lnTo>
                <a:lnTo>
                  <a:pt x="42" y="40"/>
                </a:lnTo>
                <a:lnTo>
                  <a:pt x="34" y="46"/>
                </a:lnTo>
                <a:lnTo>
                  <a:pt x="24" y="48"/>
                </a:lnTo>
                <a:lnTo>
                  <a:pt x="24" y="48"/>
                </a:lnTo>
                <a:lnTo>
                  <a:pt x="16" y="46"/>
                </a:lnTo>
                <a:lnTo>
                  <a:pt x="8" y="40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809960" y="1743120"/>
            <a:ext cx="177840" cy="17460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4"/>
                </a:lnTo>
                <a:lnTo>
                  <a:pt x="8" y="6"/>
                </a:lnTo>
                <a:lnTo>
                  <a:pt x="16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2" y="6"/>
                </a:lnTo>
                <a:lnTo>
                  <a:pt x="48" y="14"/>
                </a:lnTo>
                <a:lnTo>
                  <a:pt x="48" y="24"/>
                </a:lnTo>
                <a:lnTo>
                  <a:pt x="48" y="24"/>
                </a:lnTo>
                <a:lnTo>
                  <a:pt x="48" y="34"/>
                </a:lnTo>
                <a:lnTo>
                  <a:pt x="42" y="40"/>
                </a:lnTo>
                <a:lnTo>
                  <a:pt x="34" y="46"/>
                </a:lnTo>
                <a:lnTo>
                  <a:pt x="24" y="48"/>
                </a:lnTo>
                <a:lnTo>
                  <a:pt x="24" y="48"/>
                </a:lnTo>
                <a:lnTo>
                  <a:pt x="16" y="46"/>
                </a:lnTo>
                <a:lnTo>
                  <a:pt x="8" y="40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668840" y="1743120"/>
            <a:ext cx="177840" cy="17460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4"/>
                </a:lnTo>
                <a:lnTo>
                  <a:pt x="8" y="6"/>
                </a:lnTo>
                <a:lnTo>
                  <a:pt x="16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2" y="6"/>
                </a:lnTo>
                <a:lnTo>
                  <a:pt x="48" y="14"/>
                </a:lnTo>
                <a:lnTo>
                  <a:pt x="48" y="24"/>
                </a:lnTo>
                <a:lnTo>
                  <a:pt x="48" y="24"/>
                </a:lnTo>
                <a:lnTo>
                  <a:pt x="48" y="34"/>
                </a:lnTo>
                <a:lnTo>
                  <a:pt x="42" y="40"/>
                </a:lnTo>
                <a:lnTo>
                  <a:pt x="34" y="46"/>
                </a:lnTo>
                <a:lnTo>
                  <a:pt x="24" y="48"/>
                </a:lnTo>
                <a:lnTo>
                  <a:pt x="24" y="48"/>
                </a:lnTo>
                <a:lnTo>
                  <a:pt x="16" y="46"/>
                </a:lnTo>
                <a:lnTo>
                  <a:pt x="8" y="40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675400" y="1932120"/>
            <a:ext cx="177840" cy="176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4"/>
                </a:lnTo>
                <a:lnTo>
                  <a:pt x="8" y="6"/>
                </a:lnTo>
                <a:lnTo>
                  <a:pt x="16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2" y="6"/>
                </a:lnTo>
                <a:lnTo>
                  <a:pt x="46" y="14"/>
                </a:lnTo>
                <a:lnTo>
                  <a:pt x="48" y="24"/>
                </a:lnTo>
                <a:lnTo>
                  <a:pt x="48" y="24"/>
                </a:lnTo>
                <a:lnTo>
                  <a:pt x="46" y="34"/>
                </a:lnTo>
                <a:lnTo>
                  <a:pt x="42" y="40"/>
                </a:lnTo>
                <a:lnTo>
                  <a:pt x="34" y="46"/>
                </a:lnTo>
                <a:lnTo>
                  <a:pt x="24" y="48"/>
                </a:lnTo>
                <a:lnTo>
                  <a:pt x="24" y="48"/>
                </a:lnTo>
                <a:lnTo>
                  <a:pt x="16" y="46"/>
                </a:lnTo>
                <a:lnTo>
                  <a:pt x="8" y="40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061040" y="2494080"/>
            <a:ext cx="177840" cy="17280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4"/>
                </a:lnTo>
                <a:lnTo>
                  <a:pt x="8" y="8"/>
                </a:lnTo>
                <a:lnTo>
                  <a:pt x="16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2" y="8"/>
                </a:lnTo>
                <a:lnTo>
                  <a:pt x="46" y="14"/>
                </a:lnTo>
                <a:lnTo>
                  <a:pt x="48" y="24"/>
                </a:lnTo>
                <a:lnTo>
                  <a:pt x="48" y="24"/>
                </a:lnTo>
                <a:lnTo>
                  <a:pt x="46" y="34"/>
                </a:lnTo>
                <a:lnTo>
                  <a:pt x="42" y="42"/>
                </a:lnTo>
                <a:lnTo>
                  <a:pt x="34" y="46"/>
                </a:lnTo>
                <a:lnTo>
                  <a:pt x="24" y="48"/>
                </a:lnTo>
                <a:lnTo>
                  <a:pt x="24" y="48"/>
                </a:lnTo>
                <a:lnTo>
                  <a:pt x="16" y="46"/>
                </a:lnTo>
                <a:lnTo>
                  <a:pt x="8" y="42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972480" y="2494080"/>
            <a:ext cx="177480" cy="17280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4"/>
                </a:lnTo>
                <a:lnTo>
                  <a:pt x="6" y="8"/>
                </a:lnTo>
                <a:lnTo>
                  <a:pt x="14" y="2"/>
                </a:lnTo>
                <a:lnTo>
                  <a:pt x="24" y="0"/>
                </a:lnTo>
                <a:lnTo>
                  <a:pt x="24" y="0"/>
                </a:lnTo>
                <a:lnTo>
                  <a:pt x="32" y="2"/>
                </a:lnTo>
                <a:lnTo>
                  <a:pt x="40" y="8"/>
                </a:lnTo>
                <a:lnTo>
                  <a:pt x="46" y="14"/>
                </a:lnTo>
                <a:lnTo>
                  <a:pt x="48" y="24"/>
                </a:lnTo>
                <a:lnTo>
                  <a:pt x="48" y="24"/>
                </a:lnTo>
                <a:lnTo>
                  <a:pt x="46" y="34"/>
                </a:lnTo>
                <a:lnTo>
                  <a:pt x="40" y="42"/>
                </a:lnTo>
                <a:lnTo>
                  <a:pt x="32" y="46"/>
                </a:lnTo>
                <a:lnTo>
                  <a:pt x="24" y="48"/>
                </a:lnTo>
                <a:lnTo>
                  <a:pt x="24" y="48"/>
                </a:lnTo>
                <a:lnTo>
                  <a:pt x="14" y="46"/>
                </a:lnTo>
                <a:lnTo>
                  <a:pt x="6" y="42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7920" y="2674800"/>
            <a:ext cx="179280" cy="17460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6"/>
                </a:lnTo>
                <a:lnTo>
                  <a:pt x="8" y="8"/>
                </a:lnTo>
                <a:lnTo>
                  <a:pt x="14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2" y="8"/>
                </a:lnTo>
                <a:lnTo>
                  <a:pt x="46" y="16"/>
                </a:lnTo>
                <a:lnTo>
                  <a:pt x="48" y="24"/>
                </a:lnTo>
                <a:lnTo>
                  <a:pt x="48" y="24"/>
                </a:lnTo>
                <a:lnTo>
                  <a:pt x="46" y="34"/>
                </a:lnTo>
                <a:lnTo>
                  <a:pt x="42" y="42"/>
                </a:lnTo>
                <a:lnTo>
                  <a:pt x="34" y="48"/>
                </a:lnTo>
                <a:lnTo>
                  <a:pt x="24" y="48"/>
                </a:lnTo>
                <a:lnTo>
                  <a:pt x="24" y="48"/>
                </a:lnTo>
                <a:lnTo>
                  <a:pt x="14" y="48"/>
                </a:lnTo>
                <a:lnTo>
                  <a:pt x="8" y="42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531120" y="2674800"/>
            <a:ext cx="187200" cy="174600"/>
          </a:xfrm>
          <a:custGeom>
            <a:avLst/>
            <a:gdLst/>
            <a:ahLst/>
            <a:rect l="l" t="t" r="r" b="b"/>
            <a:pathLst>
              <a:path w="50" h="48">
                <a:moveTo>
                  <a:pt x="0" y="24"/>
                </a:moveTo>
                <a:lnTo>
                  <a:pt x="0" y="24"/>
                </a:lnTo>
                <a:lnTo>
                  <a:pt x="2" y="16"/>
                </a:lnTo>
                <a:lnTo>
                  <a:pt x="8" y="8"/>
                </a:lnTo>
                <a:lnTo>
                  <a:pt x="16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2" y="8"/>
                </a:lnTo>
                <a:lnTo>
                  <a:pt x="48" y="16"/>
                </a:lnTo>
                <a:lnTo>
                  <a:pt x="50" y="24"/>
                </a:lnTo>
                <a:lnTo>
                  <a:pt x="50" y="24"/>
                </a:lnTo>
                <a:lnTo>
                  <a:pt x="48" y="34"/>
                </a:lnTo>
                <a:lnTo>
                  <a:pt x="42" y="42"/>
                </a:lnTo>
                <a:lnTo>
                  <a:pt x="3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8" y="42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508800" y="2863800"/>
            <a:ext cx="179280" cy="17460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6"/>
                </a:lnTo>
                <a:lnTo>
                  <a:pt x="8" y="8"/>
                </a:lnTo>
                <a:lnTo>
                  <a:pt x="16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2" y="8"/>
                </a:lnTo>
                <a:lnTo>
                  <a:pt x="46" y="16"/>
                </a:lnTo>
                <a:lnTo>
                  <a:pt x="48" y="24"/>
                </a:lnTo>
                <a:lnTo>
                  <a:pt x="48" y="24"/>
                </a:lnTo>
                <a:lnTo>
                  <a:pt x="46" y="34"/>
                </a:lnTo>
                <a:lnTo>
                  <a:pt x="42" y="42"/>
                </a:lnTo>
                <a:lnTo>
                  <a:pt x="34" y="46"/>
                </a:lnTo>
                <a:lnTo>
                  <a:pt x="24" y="48"/>
                </a:lnTo>
                <a:lnTo>
                  <a:pt x="24" y="48"/>
                </a:lnTo>
                <a:lnTo>
                  <a:pt x="16" y="46"/>
                </a:lnTo>
                <a:lnTo>
                  <a:pt x="8" y="42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956280" y="2863800"/>
            <a:ext cx="179640" cy="17460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6"/>
                </a:lnTo>
                <a:lnTo>
                  <a:pt x="6" y="8"/>
                </a:lnTo>
                <a:lnTo>
                  <a:pt x="14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0" y="8"/>
                </a:lnTo>
                <a:lnTo>
                  <a:pt x="46" y="16"/>
                </a:lnTo>
                <a:lnTo>
                  <a:pt x="48" y="24"/>
                </a:lnTo>
                <a:lnTo>
                  <a:pt x="48" y="24"/>
                </a:lnTo>
                <a:lnTo>
                  <a:pt x="46" y="34"/>
                </a:lnTo>
                <a:lnTo>
                  <a:pt x="40" y="42"/>
                </a:lnTo>
                <a:lnTo>
                  <a:pt x="34" y="46"/>
                </a:lnTo>
                <a:lnTo>
                  <a:pt x="24" y="48"/>
                </a:lnTo>
                <a:lnTo>
                  <a:pt x="24" y="48"/>
                </a:lnTo>
                <a:lnTo>
                  <a:pt x="14" y="46"/>
                </a:lnTo>
                <a:lnTo>
                  <a:pt x="6" y="42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462800" y="2863800"/>
            <a:ext cx="181080" cy="17460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6"/>
                </a:lnTo>
                <a:lnTo>
                  <a:pt x="8" y="8"/>
                </a:lnTo>
                <a:lnTo>
                  <a:pt x="14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2" y="8"/>
                </a:lnTo>
                <a:lnTo>
                  <a:pt x="46" y="16"/>
                </a:lnTo>
                <a:lnTo>
                  <a:pt x="48" y="24"/>
                </a:lnTo>
                <a:lnTo>
                  <a:pt x="48" y="24"/>
                </a:lnTo>
                <a:lnTo>
                  <a:pt x="46" y="34"/>
                </a:lnTo>
                <a:lnTo>
                  <a:pt x="42" y="42"/>
                </a:lnTo>
                <a:lnTo>
                  <a:pt x="34" y="46"/>
                </a:lnTo>
                <a:lnTo>
                  <a:pt x="24" y="48"/>
                </a:lnTo>
                <a:lnTo>
                  <a:pt x="24" y="48"/>
                </a:lnTo>
                <a:lnTo>
                  <a:pt x="14" y="46"/>
                </a:lnTo>
                <a:lnTo>
                  <a:pt x="8" y="42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711760" y="2863800"/>
            <a:ext cx="177840" cy="17460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6"/>
                </a:lnTo>
                <a:lnTo>
                  <a:pt x="8" y="8"/>
                </a:lnTo>
                <a:lnTo>
                  <a:pt x="16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2" y="8"/>
                </a:lnTo>
                <a:lnTo>
                  <a:pt x="46" y="16"/>
                </a:lnTo>
                <a:lnTo>
                  <a:pt x="48" y="24"/>
                </a:lnTo>
                <a:lnTo>
                  <a:pt x="48" y="24"/>
                </a:lnTo>
                <a:lnTo>
                  <a:pt x="46" y="34"/>
                </a:lnTo>
                <a:lnTo>
                  <a:pt x="42" y="42"/>
                </a:lnTo>
                <a:lnTo>
                  <a:pt x="34" y="46"/>
                </a:lnTo>
                <a:lnTo>
                  <a:pt x="24" y="48"/>
                </a:lnTo>
                <a:lnTo>
                  <a:pt x="24" y="48"/>
                </a:lnTo>
                <a:lnTo>
                  <a:pt x="16" y="46"/>
                </a:lnTo>
                <a:lnTo>
                  <a:pt x="8" y="42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951440" y="2863800"/>
            <a:ext cx="177840" cy="17460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6"/>
                </a:lnTo>
                <a:lnTo>
                  <a:pt x="8" y="8"/>
                </a:lnTo>
                <a:lnTo>
                  <a:pt x="16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2" y="8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34"/>
                </a:lnTo>
                <a:lnTo>
                  <a:pt x="42" y="42"/>
                </a:lnTo>
                <a:lnTo>
                  <a:pt x="34" y="46"/>
                </a:lnTo>
                <a:lnTo>
                  <a:pt x="24" y="48"/>
                </a:lnTo>
                <a:lnTo>
                  <a:pt x="24" y="48"/>
                </a:lnTo>
                <a:lnTo>
                  <a:pt x="16" y="46"/>
                </a:lnTo>
                <a:lnTo>
                  <a:pt x="8" y="42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684600" y="3052800"/>
            <a:ext cx="177840" cy="17460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0" y="16"/>
                </a:lnTo>
                <a:lnTo>
                  <a:pt x="6" y="8"/>
                </a:lnTo>
                <a:lnTo>
                  <a:pt x="14" y="2"/>
                </a:lnTo>
                <a:lnTo>
                  <a:pt x="24" y="0"/>
                </a:lnTo>
                <a:lnTo>
                  <a:pt x="24" y="0"/>
                </a:lnTo>
                <a:lnTo>
                  <a:pt x="32" y="2"/>
                </a:lnTo>
                <a:lnTo>
                  <a:pt x="40" y="8"/>
                </a:lnTo>
                <a:lnTo>
                  <a:pt x="46" y="16"/>
                </a:lnTo>
                <a:lnTo>
                  <a:pt x="48" y="24"/>
                </a:lnTo>
                <a:lnTo>
                  <a:pt x="48" y="24"/>
                </a:lnTo>
                <a:lnTo>
                  <a:pt x="46" y="34"/>
                </a:lnTo>
                <a:lnTo>
                  <a:pt x="40" y="42"/>
                </a:lnTo>
                <a:lnTo>
                  <a:pt x="32" y="46"/>
                </a:lnTo>
                <a:lnTo>
                  <a:pt x="24" y="48"/>
                </a:lnTo>
                <a:lnTo>
                  <a:pt x="24" y="48"/>
                </a:lnTo>
                <a:lnTo>
                  <a:pt x="14" y="46"/>
                </a:lnTo>
                <a:lnTo>
                  <a:pt x="6" y="42"/>
                </a:lnTo>
                <a:lnTo>
                  <a:pt x="0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410600" y="3052800"/>
            <a:ext cx="180720" cy="17460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6"/>
                </a:lnTo>
                <a:lnTo>
                  <a:pt x="8" y="8"/>
                </a:lnTo>
                <a:lnTo>
                  <a:pt x="16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2" y="8"/>
                </a:lnTo>
                <a:lnTo>
                  <a:pt x="46" y="16"/>
                </a:lnTo>
                <a:lnTo>
                  <a:pt x="48" y="24"/>
                </a:lnTo>
                <a:lnTo>
                  <a:pt x="48" y="24"/>
                </a:lnTo>
                <a:lnTo>
                  <a:pt x="46" y="34"/>
                </a:lnTo>
                <a:lnTo>
                  <a:pt x="42" y="42"/>
                </a:lnTo>
                <a:lnTo>
                  <a:pt x="34" y="46"/>
                </a:lnTo>
                <a:lnTo>
                  <a:pt x="24" y="48"/>
                </a:lnTo>
                <a:lnTo>
                  <a:pt x="24" y="48"/>
                </a:lnTo>
                <a:lnTo>
                  <a:pt x="16" y="46"/>
                </a:lnTo>
                <a:lnTo>
                  <a:pt x="8" y="42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956280" y="3052800"/>
            <a:ext cx="179640" cy="17460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6"/>
                </a:lnTo>
                <a:lnTo>
                  <a:pt x="6" y="8"/>
                </a:lnTo>
                <a:lnTo>
                  <a:pt x="14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0" y="8"/>
                </a:lnTo>
                <a:lnTo>
                  <a:pt x="46" y="16"/>
                </a:lnTo>
                <a:lnTo>
                  <a:pt x="48" y="24"/>
                </a:lnTo>
                <a:lnTo>
                  <a:pt x="48" y="24"/>
                </a:lnTo>
                <a:lnTo>
                  <a:pt x="46" y="34"/>
                </a:lnTo>
                <a:lnTo>
                  <a:pt x="40" y="42"/>
                </a:lnTo>
                <a:lnTo>
                  <a:pt x="34" y="46"/>
                </a:lnTo>
                <a:lnTo>
                  <a:pt x="24" y="48"/>
                </a:lnTo>
                <a:lnTo>
                  <a:pt x="24" y="48"/>
                </a:lnTo>
                <a:lnTo>
                  <a:pt x="14" y="46"/>
                </a:lnTo>
                <a:lnTo>
                  <a:pt x="6" y="42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518160" y="3052800"/>
            <a:ext cx="177840" cy="17460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6"/>
                </a:lnTo>
                <a:lnTo>
                  <a:pt x="6" y="8"/>
                </a:lnTo>
                <a:lnTo>
                  <a:pt x="14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0" y="8"/>
                </a:lnTo>
                <a:lnTo>
                  <a:pt x="46" y="16"/>
                </a:lnTo>
                <a:lnTo>
                  <a:pt x="48" y="24"/>
                </a:lnTo>
                <a:lnTo>
                  <a:pt x="48" y="24"/>
                </a:lnTo>
                <a:lnTo>
                  <a:pt x="46" y="34"/>
                </a:lnTo>
                <a:lnTo>
                  <a:pt x="40" y="42"/>
                </a:lnTo>
                <a:lnTo>
                  <a:pt x="34" y="46"/>
                </a:lnTo>
                <a:lnTo>
                  <a:pt x="24" y="48"/>
                </a:lnTo>
                <a:lnTo>
                  <a:pt x="24" y="48"/>
                </a:lnTo>
                <a:lnTo>
                  <a:pt x="14" y="46"/>
                </a:lnTo>
                <a:lnTo>
                  <a:pt x="6" y="42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071880" y="3241800"/>
            <a:ext cx="179280" cy="176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6"/>
                </a:lnTo>
                <a:lnTo>
                  <a:pt x="6" y="8"/>
                </a:lnTo>
                <a:lnTo>
                  <a:pt x="14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0" y="8"/>
                </a:lnTo>
                <a:lnTo>
                  <a:pt x="46" y="16"/>
                </a:lnTo>
                <a:lnTo>
                  <a:pt x="48" y="24"/>
                </a:lnTo>
                <a:lnTo>
                  <a:pt x="48" y="24"/>
                </a:lnTo>
                <a:lnTo>
                  <a:pt x="46" y="34"/>
                </a:lnTo>
                <a:lnTo>
                  <a:pt x="40" y="42"/>
                </a:lnTo>
                <a:lnTo>
                  <a:pt x="34" y="46"/>
                </a:lnTo>
                <a:lnTo>
                  <a:pt x="24" y="48"/>
                </a:lnTo>
                <a:lnTo>
                  <a:pt x="24" y="48"/>
                </a:lnTo>
                <a:lnTo>
                  <a:pt x="14" y="46"/>
                </a:lnTo>
                <a:lnTo>
                  <a:pt x="6" y="42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311560" y="3241800"/>
            <a:ext cx="179280" cy="176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6"/>
                </a:lnTo>
                <a:lnTo>
                  <a:pt x="6" y="8"/>
                </a:lnTo>
                <a:lnTo>
                  <a:pt x="14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0" y="8"/>
                </a:lnTo>
                <a:lnTo>
                  <a:pt x="46" y="16"/>
                </a:lnTo>
                <a:lnTo>
                  <a:pt x="48" y="24"/>
                </a:lnTo>
                <a:lnTo>
                  <a:pt x="48" y="24"/>
                </a:lnTo>
                <a:lnTo>
                  <a:pt x="46" y="34"/>
                </a:lnTo>
                <a:lnTo>
                  <a:pt x="40" y="42"/>
                </a:lnTo>
                <a:lnTo>
                  <a:pt x="34" y="46"/>
                </a:lnTo>
                <a:lnTo>
                  <a:pt x="24" y="48"/>
                </a:lnTo>
                <a:lnTo>
                  <a:pt x="24" y="48"/>
                </a:lnTo>
                <a:lnTo>
                  <a:pt x="14" y="46"/>
                </a:lnTo>
                <a:lnTo>
                  <a:pt x="6" y="42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695920" y="3351240"/>
            <a:ext cx="179280" cy="182520"/>
          </a:xfrm>
          <a:custGeom>
            <a:avLst/>
            <a:gdLst/>
            <a:ahLst/>
            <a:rect l="l" t="t" r="r" b="b"/>
            <a:pathLst>
              <a:path w="48" h="50">
                <a:moveTo>
                  <a:pt x="0" y="24"/>
                </a:moveTo>
                <a:lnTo>
                  <a:pt x="0" y="24"/>
                </a:lnTo>
                <a:lnTo>
                  <a:pt x="2" y="16"/>
                </a:lnTo>
                <a:lnTo>
                  <a:pt x="8" y="8"/>
                </a:lnTo>
                <a:lnTo>
                  <a:pt x="16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2" y="8"/>
                </a:lnTo>
                <a:lnTo>
                  <a:pt x="48" y="16"/>
                </a:lnTo>
                <a:lnTo>
                  <a:pt x="48" y="24"/>
                </a:lnTo>
                <a:lnTo>
                  <a:pt x="48" y="24"/>
                </a:lnTo>
                <a:lnTo>
                  <a:pt x="48" y="34"/>
                </a:lnTo>
                <a:lnTo>
                  <a:pt x="42" y="42"/>
                </a:lnTo>
                <a:lnTo>
                  <a:pt x="34" y="48"/>
                </a:lnTo>
                <a:lnTo>
                  <a:pt x="24" y="50"/>
                </a:lnTo>
                <a:lnTo>
                  <a:pt x="24" y="50"/>
                </a:lnTo>
                <a:lnTo>
                  <a:pt x="16" y="48"/>
                </a:lnTo>
                <a:lnTo>
                  <a:pt x="8" y="42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830920" y="3365640"/>
            <a:ext cx="177840" cy="176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4"/>
                </a:lnTo>
                <a:lnTo>
                  <a:pt x="8" y="6"/>
                </a:lnTo>
                <a:lnTo>
                  <a:pt x="14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2" y="6"/>
                </a:lnTo>
                <a:lnTo>
                  <a:pt x="46" y="14"/>
                </a:lnTo>
                <a:lnTo>
                  <a:pt x="48" y="24"/>
                </a:lnTo>
                <a:lnTo>
                  <a:pt x="48" y="24"/>
                </a:lnTo>
                <a:lnTo>
                  <a:pt x="46" y="32"/>
                </a:lnTo>
                <a:lnTo>
                  <a:pt x="42" y="40"/>
                </a:lnTo>
                <a:lnTo>
                  <a:pt x="34" y="46"/>
                </a:lnTo>
                <a:lnTo>
                  <a:pt x="24" y="48"/>
                </a:lnTo>
                <a:lnTo>
                  <a:pt x="24" y="48"/>
                </a:lnTo>
                <a:lnTo>
                  <a:pt x="14" y="46"/>
                </a:lnTo>
                <a:lnTo>
                  <a:pt x="8" y="40"/>
                </a:lnTo>
                <a:lnTo>
                  <a:pt x="2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092480" y="3403440"/>
            <a:ext cx="181080" cy="174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4" y="0"/>
                </a:lnTo>
                <a:lnTo>
                  <a:pt x="24" y="0"/>
                </a:lnTo>
                <a:lnTo>
                  <a:pt x="32" y="2"/>
                </a:lnTo>
                <a:lnTo>
                  <a:pt x="40" y="6"/>
                </a:lnTo>
                <a:lnTo>
                  <a:pt x="46" y="14"/>
                </a:lnTo>
                <a:lnTo>
                  <a:pt x="48" y="24"/>
                </a:lnTo>
                <a:lnTo>
                  <a:pt x="48" y="24"/>
                </a:lnTo>
                <a:lnTo>
                  <a:pt x="46" y="34"/>
                </a:lnTo>
                <a:lnTo>
                  <a:pt x="40" y="40"/>
                </a:lnTo>
                <a:lnTo>
                  <a:pt x="32" y="46"/>
                </a:lnTo>
                <a:lnTo>
                  <a:pt x="24" y="48"/>
                </a:lnTo>
                <a:lnTo>
                  <a:pt x="24" y="48"/>
                </a:lnTo>
                <a:lnTo>
                  <a:pt x="14" y="46"/>
                </a:lnTo>
                <a:lnTo>
                  <a:pt x="6" y="40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766960" y="3440160"/>
            <a:ext cx="177840" cy="173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4"/>
                </a:lnTo>
                <a:lnTo>
                  <a:pt x="8" y="6"/>
                </a:lnTo>
                <a:lnTo>
                  <a:pt x="16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2" y="6"/>
                </a:lnTo>
                <a:lnTo>
                  <a:pt x="46" y="14"/>
                </a:lnTo>
                <a:lnTo>
                  <a:pt x="48" y="24"/>
                </a:lnTo>
                <a:lnTo>
                  <a:pt x="48" y="24"/>
                </a:lnTo>
                <a:lnTo>
                  <a:pt x="46" y="34"/>
                </a:lnTo>
                <a:lnTo>
                  <a:pt x="42" y="40"/>
                </a:lnTo>
                <a:lnTo>
                  <a:pt x="34" y="46"/>
                </a:lnTo>
                <a:lnTo>
                  <a:pt x="24" y="48"/>
                </a:lnTo>
                <a:lnTo>
                  <a:pt x="24" y="48"/>
                </a:lnTo>
                <a:lnTo>
                  <a:pt x="16" y="46"/>
                </a:lnTo>
                <a:lnTo>
                  <a:pt x="8" y="40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347920" y="3570120"/>
            <a:ext cx="179280" cy="174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6"/>
                </a:lnTo>
                <a:lnTo>
                  <a:pt x="8" y="8"/>
                </a:lnTo>
                <a:lnTo>
                  <a:pt x="14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2" y="8"/>
                </a:lnTo>
                <a:lnTo>
                  <a:pt x="46" y="16"/>
                </a:lnTo>
                <a:lnTo>
                  <a:pt x="48" y="24"/>
                </a:lnTo>
                <a:lnTo>
                  <a:pt x="48" y="24"/>
                </a:lnTo>
                <a:lnTo>
                  <a:pt x="46" y="34"/>
                </a:lnTo>
                <a:lnTo>
                  <a:pt x="42" y="42"/>
                </a:lnTo>
                <a:lnTo>
                  <a:pt x="34" y="46"/>
                </a:lnTo>
                <a:lnTo>
                  <a:pt x="24" y="48"/>
                </a:lnTo>
                <a:lnTo>
                  <a:pt x="24" y="48"/>
                </a:lnTo>
                <a:lnTo>
                  <a:pt x="14" y="46"/>
                </a:lnTo>
                <a:lnTo>
                  <a:pt x="8" y="42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546880" y="3578400"/>
            <a:ext cx="179280" cy="180720"/>
          </a:xfrm>
          <a:custGeom>
            <a:avLst/>
            <a:gdLst/>
            <a:ahLst/>
            <a:rect l="l" t="t" r="r" b="b"/>
            <a:pathLst>
              <a:path w="48" h="50">
                <a:moveTo>
                  <a:pt x="0" y="24"/>
                </a:moveTo>
                <a:lnTo>
                  <a:pt x="0" y="24"/>
                </a:lnTo>
                <a:lnTo>
                  <a:pt x="2" y="16"/>
                </a:lnTo>
                <a:lnTo>
                  <a:pt x="8" y="8"/>
                </a:lnTo>
                <a:lnTo>
                  <a:pt x="14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2" y="8"/>
                </a:lnTo>
                <a:lnTo>
                  <a:pt x="46" y="16"/>
                </a:lnTo>
                <a:lnTo>
                  <a:pt x="48" y="24"/>
                </a:lnTo>
                <a:lnTo>
                  <a:pt x="48" y="24"/>
                </a:lnTo>
                <a:lnTo>
                  <a:pt x="46" y="34"/>
                </a:lnTo>
                <a:lnTo>
                  <a:pt x="42" y="42"/>
                </a:lnTo>
                <a:lnTo>
                  <a:pt x="34" y="48"/>
                </a:lnTo>
                <a:lnTo>
                  <a:pt x="24" y="50"/>
                </a:lnTo>
                <a:lnTo>
                  <a:pt x="24" y="50"/>
                </a:lnTo>
                <a:lnTo>
                  <a:pt x="14" y="48"/>
                </a:lnTo>
                <a:lnTo>
                  <a:pt x="8" y="42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376960" y="3621240"/>
            <a:ext cx="177840" cy="176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4"/>
                </a:lnTo>
                <a:lnTo>
                  <a:pt x="8" y="6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34" y="0"/>
                </a:lnTo>
                <a:lnTo>
                  <a:pt x="42" y="6"/>
                </a:lnTo>
                <a:lnTo>
                  <a:pt x="46" y="14"/>
                </a:lnTo>
                <a:lnTo>
                  <a:pt x="48" y="24"/>
                </a:lnTo>
                <a:lnTo>
                  <a:pt x="48" y="24"/>
                </a:lnTo>
                <a:lnTo>
                  <a:pt x="46" y="32"/>
                </a:lnTo>
                <a:lnTo>
                  <a:pt x="42" y="40"/>
                </a:lnTo>
                <a:lnTo>
                  <a:pt x="34" y="46"/>
                </a:lnTo>
                <a:lnTo>
                  <a:pt x="24" y="48"/>
                </a:lnTo>
                <a:lnTo>
                  <a:pt x="24" y="48"/>
                </a:lnTo>
                <a:lnTo>
                  <a:pt x="16" y="46"/>
                </a:lnTo>
                <a:lnTo>
                  <a:pt x="8" y="40"/>
                </a:lnTo>
                <a:lnTo>
                  <a:pt x="2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960640" y="3621240"/>
            <a:ext cx="177840" cy="176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4"/>
                </a:lnTo>
                <a:lnTo>
                  <a:pt x="8" y="6"/>
                </a:lnTo>
                <a:lnTo>
                  <a:pt x="16" y="0"/>
                </a:lnTo>
                <a:lnTo>
                  <a:pt x="24" y="0"/>
                </a:lnTo>
                <a:lnTo>
                  <a:pt x="24" y="0"/>
                </a:lnTo>
                <a:lnTo>
                  <a:pt x="34" y="0"/>
                </a:lnTo>
                <a:lnTo>
                  <a:pt x="42" y="6"/>
                </a:lnTo>
                <a:lnTo>
                  <a:pt x="46" y="14"/>
                </a:lnTo>
                <a:lnTo>
                  <a:pt x="48" y="24"/>
                </a:lnTo>
                <a:lnTo>
                  <a:pt x="48" y="24"/>
                </a:lnTo>
                <a:lnTo>
                  <a:pt x="46" y="32"/>
                </a:lnTo>
                <a:lnTo>
                  <a:pt x="42" y="40"/>
                </a:lnTo>
                <a:lnTo>
                  <a:pt x="34" y="46"/>
                </a:lnTo>
                <a:lnTo>
                  <a:pt x="24" y="48"/>
                </a:lnTo>
                <a:lnTo>
                  <a:pt x="24" y="48"/>
                </a:lnTo>
                <a:lnTo>
                  <a:pt x="16" y="46"/>
                </a:lnTo>
                <a:lnTo>
                  <a:pt x="8" y="40"/>
                </a:lnTo>
                <a:lnTo>
                  <a:pt x="2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905360" y="3803760"/>
            <a:ext cx="181080" cy="180720"/>
          </a:xfrm>
          <a:custGeom>
            <a:avLst/>
            <a:gdLst/>
            <a:ahLst/>
            <a:rect l="l" t="t" r="r" b="b"/>
            <a:pathLst>
              <a:path w="48" h="50">
                <a:moveTo>
                  <a:pt x="0" y="26"/>
                </a:moveTo>
                <a:lnTo>
                  <a:pt x="0" y="26"/>
                </a:lnTo>
                <a:lnTo>
                  <a:pt x="2" y="16"/>
                </a:lnTo>
                <a:lnTo>
                  <a:pt x="8" y="8"/>
                </a:lnTo>
                <a:lnTo>
                  <a:pt x="14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2" y="8"/>
                </a:lnTo>
                <a:lnTo>
                  <a:pt x="46" y="16"/>
                </a:lnTo>
                <a:lnTo>
                  <a:pt x="48" y="26"/>
                </a:lnTo>
                <a:lnTo>
                  <a:pt x="48" y="26"/>
                </a:lnTo>
                <a:lnTo>
                  <a:pt x="46" y="34"/>
                </a:lnTo>
                <a:lnTo>
                  <a:pt x="42" y="42"/>
                </a:lnTo>
                <a:lnTo>
                  <a:pt x="34" y="48"/>
                </a:lnTo>
                <a:lnTo>
                  <a:pt x="24" y="50"/>
                </a:lnTo>
                <a:lnTo>
                  <a:pt x="24" y="50"/>
                </a:lnTo>
                <a:lnTo>
                  <a:pt x="14" y="48"/>
                </a:lnTo>
                <a:lnTo>
                  <a:pt x="8" y="42"/>
                </a:lnTo>
                <a:lnTo>
                  <a:pt x="2" y="34"/>
                </a:lnTo>
                <a:lnTo>
                  <a:pt x="0" y="26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562720" y="3803760"/>
            <a:ext cx="179280" cy="180720"/>
          </a:xfrm>
          <a:custGeom>
            <a:avLst/>
            <a:gdLst/>
            <a:ahLst/>
            <a:rect l="l" t="t" r="r" b="b"/>
            <a:pathLst>
              <a:path w="48" h="50">
                <a:moveTo>
                  <a:pt x="0" y="26"/>
                </a:moveTo>
                <a:lnTo>
                  <a:pt x="0" y="26"/>
                </a:lnTo>
                <a:lnTo>
                  <a:pt x="2" y="16"/>
                </a:lnTo>
                <a:lnTo>
                  <a:pt x="8" y="8"/>
                </a:lnTo>
                <a:lnTo>
                  <a:pt x="14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2" y="8"/>
                </a:lnTo>
                <a:lnTo>
                  <a:pt x="46" y="16"/>
                </a:lnTo>
                <a:lnTo>
                  <a:pt x="48" y="26"/>
                </a:lnTo>
                <a:lnTo>
                  <a:pt x="48" y="26"/>
                </a:lnTo>
                <a:lnTo>
                  <a:pt x="46" y="34"/>
                </a:lnTo>
                <a:lnTo>
                  <a:pt x="42" y="42"/>
                </a:lnTo>
                <a:lnTo>
                  <a:pt x="34" y="48"/>
                </a:lnTo>
                <a:lnTo>
                  <a:pt x="24" y="50"/>
                </a:lnTo>
                <a:lnTo>
                  <a:pt x="24" y="50"/>
                </a:lnTo>
                <a:lnTo>
                  <a:pt x="14" y="48"/>
                </a:lnTo>
                <a:lnTo>
                  <a:pt x="8" y="42"/>
                </a:lnTo>
                <a:lnTo>
                  <a:pt x="2" y="34"/>
                </a:lnTo>
                <a:lnTo>
                  <a:pt x="0" y="26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982880" y="3992400"/>
            <a:ext cx="179280" cy="17316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6"/>
                </a:lnTo>
                <a:lnTo>
                  <a:pt x="8" y="8"/>
                </a:lnTo>
                <a:lnTo>
                  <a:pt x="16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2" y="8"/>
                </a:lnTo>
                <a:lnTo>
                  <a:pt x="46" y="16"/>
                </a:lnTo>
                <a:lnTo>
                  <a:pt x="48" y="24"/>
                </a:lnTo>
                <a:lnTo>
                  <a:pt x="48" y="24"/>
                </a:lnTo>
                <a:lnTo>
                  <a:pt x="46" y="34"/>
                </a:lnTo>
                <a:lnTo>
                  <a:pt x="42" y="42"/>
                </a:lnTo>
                <a:lnTo>
                  <a:pt x="34" y="48"/>
                </a:lnTo>
                <a:lnTo>
                  <a:pt x="24" y="48"/>
                </a:lnTo>
                <a:lnTo>
                  <a:pt x="24" y="48"/>
                </a:lnTo>
                <a:lnTo>
                  <a:pt x="16" y="48"/>
                </a:lnTo>
                <a:lnTo>
                  <a:pt x="8" y="42"/>
                </a:lnTo>
                <a:lnTo>
                  <a:pt x="2" y="34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214720" y="4179960"/>
            <a:ext cx="179280" cy="17604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4" y="0"/>
                </a:lnTo>
                <a:lnTo>
                  <a:pt x="24" y="0"/>
                </a:lnTo>
                <a:lnTo>
                  <a:pt x="32" y="2"/>
                </a:lnTo>
                <a:lnTo>
                  <a:pt x="40" y="6"/>
                </a:lnTo>
                <a:lnTo>
                  <a:pt x="46" y="14"/>
                </a:lnTo>
                <a:lnTo>
                  <a:pt x="48" y="24"/>
                </a:lnTo>
                <a:lnTo>
                  <a:pt x="48" y="24"/>
                </a:lnTo>
                <a:lnTo>
                  <a:pt x="46" y="32"/>
                </a:lnTo>
                <a:lnTo>
                  <a:pt x="40" y="40"/>
                </a:lnTo>
                <a:lnTo>
                  <a:pt x="32" y="46"/>
                </a:lnTo>
                <a:lnTo>
                  <a:pt x="24" y="48"/>
                </a:lnTo>
                <a:lnTo>
                  <a:pt x="24" y="48"/>
                </a:lnTo>
                <a:lnTo>
                  <a:pt x="14" y="46"/>
                </a:lnTo>
                <a:lnTo>
                  <a:pt x="6" y="40"/>
                </a:lnTo>
                <a:lnTo>
                  <a:pt x="2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353200" y="4370400"/>
            <a:ext cx="179280" cy="17460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4"/>
                </a:moveTo>
                <a:lnTo>
                  <a:pt x="0" y="24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4" y="0"/>
                </a:lnTo>
                <a:lnTo>
                  <a:pt x="24" y="0"/>
                </a:lnTo>
                <a:lnTo>
                  <a:pt x="32" y="2"/>
                </a:lnTo>
                <a:lnTo>
                  <a:pt x="40" y="6"/>
                </a:lnTo>
                <a:lnTo>
                  <a:pt x="46" y="14"/>
                </a:lnTo>
                <a:lnTo>
                  <a:pt x="48" y="24"/>
                </a:lnTo>
                <a:lnTo>
                  <a:pt x="48" y="24"/>
                </a:lnTo>
                <a:lnTo>
                  <a:pt x="46" y="32"/>
                </a:lnTo>
                <a:lnTo>
                  <a:pt x="40" y="40"/>
                </a:lnTo>
                <a:lnTo>
                  <a:pt x="32" y="46"/>
                </a:lnTo>
                <a:lnTo>
                  <a:pt x="24" y="48"/>
                </a:lnTo>
                <a:lnTo>
                  <a:pt x="24" y="48"/>
                </a:lnTo>
                <a:lnTo>
                  <a:pt x="14" y="46"/>
                </a:lnTo>
                <a:lnTo>
                  <a:pt x="6" y="40"/>
                </a:lnTo>
                <a:lnTo>
                  <a:pt x="2" y="32"/>
                </a:lnTo>
                <a:lnTo>
                  <a:pt x="0" y="24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28320" y="6278400"/>
            <a:ext cx="1617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ecece"/>
                </a:solidFill>
                <a:latin typeface="Times New Roman"/>
              </a:rPr>
              <a:t>Alive (%)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rot="16200000">
            <a:off x="-552240" y="3216600"/>
            <a:ext cx="2672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cecece"/>
                </a:solidFill>
                <a:latin typeface="Times New Roman"/>
              </a:rPr>
              <a:t>Soak time effec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1625760" y="1413000"/>
            <a:ext cx="0" cy="423216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rot="16200000">
            <a:off x="1171440" y="336492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Times New Roman"/>
              </a:rPr>
              <a:t>0.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rot="16200000">
            <a:off x="1128960" y="5244840"/>
            <a:ext cx="40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Times New Roman"/>
              </a:rPr>
              <a:t>-0.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rot="16200000">
            <a:off x="1071360" y="1513800"/>
            <a:ext cx="46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cecece"/>
                </a:solidFill>
                <a:latin typeface="Times New Roman"/>
              </a:rPr>
              <a:t>+0.1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588720" y="5056200"/>
            <a:ext cx="960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Times New Roman"/>
              </a:rPr>
              <a:t>r = 0.54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49800" y="1576440"/>
            <a:ext cx="126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afd00"/>
                </a:solidFill>
                <a:latin typeface="Times New Roman"/>
              </a:rPr>
              <a:t>blue shar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806840" y="4343400"/>
            <a:ext cx="1620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afd00"/>
                </a:solidFill>
                <a:latin typeface="Times New Roman"/>
              </a:rPr>
              <a:t>skipjack tuna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625760" y="5659560"/>
            <a:ext cx="596556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Palatino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indefinite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9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95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5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indefinite"/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 flipV="1">
            <a:off x="3925800" y="365040"/>
            <a:ext cx="0" cy="5424480"/>
          </a:xfrm>
          <a:prstGeom prst="line">
            <a:avLst/>
          </a:prstGeom>
          <a:ln w="12600">
            <a:solidFill>
              <a:srgbClr val="cecec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312920" y="2981160"/>
            <a:ext cx="5018040" cy="0"/>
          </a:xfrm>
          <a:prstGeom prst="line">
            <a:avLst/>
          </a:prstGeom>
          <a:ln w="12600">
            <a:solidFill>
              <a:srgbClr val="cecec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1523880" y="5795640"/>
            <a:ext cx="3240" cy="666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2732040" y="5795640"/>
            <a:ext cx="0" cy="666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3925800" y="5795640"/>
            <a:ext cx="0" cy="666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5130720" y="5795640"/>
            <a:ext cx="3240" cy="666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6327720" y="5795640"/>
            <a:ext cx="3240" cy="6660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335960" y="5908680"/>
            <a:ext cx="40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</a:rPr>
              <a:t>-1.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580840" y="5908680"/>
            <a:ext cx="40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</a:rPr>
              <a:t>-0.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748320" y="590868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</a:rPr>
              <a:t>0.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978440" y="590868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191280" y="590868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04920" y="5589720"/>
            <a:ext cx="10800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204920" y="4284720"/>
            <a:ext cx="10800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204920" y="2979720"/>
            <a:ext cx="10800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204920" y="1668600"/>
            <a:ext cx="10800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204920" y="363600"/>
            <a:ext cx="108000" cy="144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131920" y="4033800"/>
            <a:ext cx="125640" cy="125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0" y="26"/>
                </a:moveTo>
                <a:lnTo>
                  <a:pt x="0" y="26"/>
                </a:lnTo>
                <a:lnTo>
                  <a:pt x="0" y="18"/>
                </a:lnTo>
                <a:lnTo>
                  <a:pt x="8" y="8"/>
                </a:lnTo>
                <a:lnTo>
                  <a:pt x="16" y="2"/>
                </a:lnTo>
                <a:lnTo>
                  <a:pt x="26" y="0"/>
                </a:lnTo>
                <a:lnTo>
                  <a:pt x="26" y="0"/>
                </a:lnTo>
                <a:lnTo>
                  <a:pt x="34" y="2"/>
                </a:lnTo>
                <a:lnTo>
                  <a:pt x="40" y="8"/>
                </a:lnTo>
                <a:lnTo>
                  <a:pt x="48" y="18"/>
                </a:lnTo>
                <a:lnTo>
                  <a:pt x="48" y="26"/>
                </a:lnTo>
                <a:lnTo>
                  <a:pt x="48" y="26"/>
                </a:lnTo>
                <a:lnTo>
                  <a:pt x="48" y="36"/>
                </a:lnTo>
                <a:lnTo>
                  <a:pt x="40" y="42"/>
                </a:lnTo>
                <a:lnTo>
                  <a:pt x="34" y="48"/>
                </a:lnTo>
                <a:lnTo>
                  <a:pt x="26" y="48"/>
                </a:lnTo>
                <a:lnTo>
                  <a:pt x="26" y="48"/>
                </a:lnTo>
                <a:lnTo>
                  <a:pt x="16" y="48"/>
                </a:lnTo>
                <a:lnTo>
                  <a:pt x="8" y="42"/>
                </a:lnTo>
                <a:lnTo>
                  <a:pt x="0" y="36"/>
                </a:lnTo>
                <a:lnTo>
                  <a:pt x="0" y="26"/>
                </a:lnTo>
                <a:lnTo>
                  <a:pt x="0" y="26"/>
                </a:lnTo>
                <a:lnTo>
                  <a:pt x="0" y="26"/>
                </a:lnTo>
                <a:lnTo>
                  <a:pt x="0" y="26"/>
                </a:lnTo>
                <a:lnTo>
                  <a:pt x="0" y="26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60560" y="1868400"/>
            <a:ext cx="125280" cy="125640"/>
          </a:xfrm>
          <a:custGeom>
            <a:avLst/>
            <a:gdLst/>
            <a:ahLst/>
            <a:rect l="l" t="t" r="r" b="b"/>
            <a:pathLst>
              <a:path w="50" h="46">
                <a:moveTo>
                  <a:pt x="0" y="22"/>
                </a:moveTo>
                <a:lnTo>
                  <a:pt x="0" y="22"/>
                </a:lnTo>
                <a:lnTo>
                  <a:pt x="2" y="14"/>
                </a:lnTo>
                <a:lnTo>
                  <a:pt x="10" y="6"/>
                </a:lnTo>
                <a:lnTo>
                  <a:pt x="16" y="2"/>
                </a:lnTo>
                <a:lnTo>
                  <a:pt x="26" y="0"/>
                </a:lnTo>
                <a:lnTo>
                  <a:pt x="26" y="0"/>
                </a:lnTo>
                <a:lnTo>
                  <a:pt x="36" y="2"/>
                </a:lnTo>
                <a:lnTo>
                  <a:pt x="42" y="6"/>
                </a:lnTo>
                <a:lnTo>
                  <a:pt x="48" y="14"/>
                </a:lnTo>
                <a:lnTo>
                  <a:pt x="50" y="22"/>
                </a:lnTo>
                <a:lnTo>
                  <a:pt x="50" y="22"/>
                </a:lnTo>
                <a:lnTo>
                  <a:pt x="48" y="32"/>
                </a:lnTo>
                <a:lnTo>
                  <a:pt x="42" y="42"/>
                </a:lnTo>
                <a:lnTo>
                  <a:pt x="36" y="44"/>
                </a:lnTo>
                <a:lnTo>
                  <a:pt x="26" y="46"/>
                </a:lnTo>
                <a:lnTo>
                  <a:pt x="26" y="46"/>
                </a:lnTo>
                <a:lnTo>
                  <a:pt x="16" y="44"/>
                </a:lnTo>
                <a:lnTo>
                  <a:pt x="10" y="42"/>
                </a:lnTo>
                <a:lnTo>
                  <a:pt x="2" y="3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505320" y="614520"/>
            <a:ext cx="125280" cy="125280"/>
          </a:xfrm>
          <a:custGeom>
            <a:avLst/>
            <a:gdLst/>
            <a:ahLst/>
            <a:rect l="l" t="t" r="r" b="b"/>
            <a:pathLst>
              <a:path w="48" h="46">
                <a:moveTo>
                  <a:pt x="0" y="22"/>
                </a:moveTo>
                <a:lnTo>
                  <a:pt x="0" y="22"/>
                </a:lnTo>
                <a:lnTo>
                  <a:pt x="2" y="14"/>
                </a:lnTo>
                <a:lnTo>
                  <a:pt x="8" y="6"/>
                </a:lnTo>
                <a:lnTo>
                  <a:pt x="12" y="2"/>
                </a:lnTo>
                <a:lnTo>
                  <a:pt x="22" y="0"/>
                </a:lnTo>
                <a:lnTo>
                  <a:pt x="22" y="0"/>
                </a:lnTo>
                <a:lnTo>
                  <a:pt x="32" y="2"/>
                </a:lnTo>
                <a:lnTo>
                  <a:pt x="42" y="6"/>
                </a:lnTo>
                <a:lnTo>
                  <a:pt x="44" y="14"/>
                </a:lnTo>
                <a:lnTo>
                  <a:pt x="48" y="22"/>
                </a:lnTo>
                <a:lnTo>
                  <a:pt x="48" y="22"/>
                </a:lnTo>
                <a:lnTo>
                  <a:pt x="44" y="32"/>
                </a:lnTo>
                <a:lnTo>
                  <a:pt x="42" y="42"/>
                </a:lnTo>
                <a:lnTo>
                  <a:pt x="32" y="44"/>
                </a:lnTo>
                <a:lnTo>
                  <a:pt x="22" y="46"/>
                </a:lnTo>
                <a:lnTo>
                  <a:pt x="22" y="46"/>
                </a:lnTo>
                <a:lnTo>
                  <a:pt x="12" y="44"/>
                </a:lnTo>
                <a:lnTo>
                  <a:pt x="8" y="42"/>
                </a:lnTo>
                <a:lnTo>
                  <a:pt x="2" y="3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735520" y="1868400"/>
            <a:ext cx="125640" cy="125640"/>
          </a:xfrm>
          <a:custGeom>
            <a:avLst/>
            <a:gdLst/>
            <a:ahLst/>
            <a:rect l="l" t="t" r="r" b="b"/>
            <a:pathLst>
              <a:path w="50" h="46">
                <a:moveTo>
                  <a:pt x="0" y="22"/>
                </a:moveTo>
                <a:lnTo>
                  <a:pt x="0" y="22"/>
                </a:lnTo>
                <a:lnTo>
                  <a:pt x="2" y="14"/>
                </a:lnTo>
                <a:lnTo>
                  <a:pt x="6" y="6"/>
                </a:lnTo>
                <a:lnTo>
                  <a:pt x="14" y="2"/>
                </a:lnTo>
                <a:lnTo>
                  <a:pt x="24" y="0"/>
                </a:lnTo>
                <a:lnTo>
                  <a:pt x="24" y="0"/>
                </a:lnTo>
                <a:lnTo>
                  <a:pt x="34" y="2"/>
                </a:lnTo>
                <a:lnTo>
                  <a:pt x="42" y="6"/>
                </a:lnTo>
                <a:lnTo>
                  <a:pt x="46" y="14"/>
                </a:lnTo>
                <a:lnTo>
                  <a:pt x="50" y="22"/>
                </a:lnTo>
                <a:lnTo>
                  <a:pt x="50" y="22"/>
                </a:lnTo>
                <a:lnTo>
                  <a:pt x="46" y="32"/>
                </a:lnTo>
                <a:lnTo>
                  <a:pt x="42" y="42"/>
                </a:lnTo>
                <a:lnTo>
                  <a:pt x="34" y="44"/>
                </a:lnTo>
                <a:lnTo>
                  <a:pt x="24" y="46"/>
                </a:lnTo>
                <a:lnTo>
                  <a:pt x="24" y="46"/>
                </a:lnTo>
                <a:lnTo>
                  <a:pt x="14" y="44"/>
                </a:lnTo>
                <a:lnTo>
                  <a:pt x="6" y="42"/>
                </a:lnTo>
                <a:lnTo>
                  <a:pt x="2" y="3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lnTo>
                  <a:pt x="0" y="22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08" name=""/>
          <p:cNvGrpSpPr/>
          <p:nvPr/>
        </p:nvGrpSpPr>
        <p:grpSpPr>
          <a:xfrm>
            <a:off x="2465280" y="1109520"/>
            <a:ext cx="2387880" cy="3157560"/>
            <a:chOff x="2465280" y="1109520"/>
            <a:chExt cx="2387880" cy="3157560"/>
          </a:xfrm>
        </p:grpSpPr>
        <p:sp>
          <p:nvSpPr>
            <p:cNvPr id="1009" name=""/>
            <p:cNvSpPr/>
            <p:nvPr/>
          </p:nvSpPr>
          <p:spPr>
            <a:xfrm>
              <a:off x="3957480" y="4141800"/>
              <a:ext cx="125640" cy="125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22"/>
                  </a:moveTo>
                  <a:lnTo>
                    <a:pt x="0" y="22"/>
                  </a:lnTo>
                  <a:lnTo>
                    <a:pt x="4" y="14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0" y="8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8" y="32"/>
                  </a:lnTo>
                  <a:lnTo>
                    <a:pt x="40" y="40"/>
                  </a:lnTo>
                  <a:lnTo>
                    <a:pt x="36" y="44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16" y="44"/>
                  </a:lnTo>
                  <a:lnTo>
                    <a:pt x="8" y="40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890880" y="2779560"/>
              <a:ext cx="125640" cy="12564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26"/>
                  </a:moveTo>
                  <a:lnTo>
                    <a:pt x="0" y="26"/>
                  </a:lnTo>
                  <a:lnTo>
                    <a:pt x="2" y="18"/>
                  </a:lnTo>
                  <a:lnTo>
                    <a:pt x="4" y="8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40" y="8"/>
                  </a:lnTo>
                  <a:lnTo>
                    <a:pt x="44" y="18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4" y="36"/>
                  </a:lnTo>
                  <a:lnTo>
                    <a:pt x="40" y="42"/>
                  </a:lnTo>
                  <a:lnTo>
                    <a:pt x="32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2" y="48"/>
                  </a:lnTo>
                  <a:lnTo>
                    <a:pt x="4" y="42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193920" y="2925720"/>
              <a:ext cx="125640" cy="12528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0" y="26"/>
                  </a:moveTo>
                  <a:lnTo>
                    <a:pt x="0" y="26"/>
                  </a:lnTo>
                  <a:lnTo>
                    <a:pt x="2" y="16"/>
                  </a:lnTo>
                  <a:lnTo>
                    <a:pt x="4" y="8"/>
                  </a:lnTo>
                  <a:lnTo>
                    <a:pt x="1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4"/>
                  </a:lnTo>
                  <a:lnTo>
                    <a:pt x="40" y="8"/>
                  </a:lnTo>
                  <a:lnTo>
                    <a:pt x="44" y="16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4" y="36"/>
                  </a:lnTo>
                  <a:lnTo>
                    <a:pt x="40" y="44"/>
                  </a:lnTo>
                  <a:lnTo>
                    <a:pt x="32" y="48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14" y="48"/>
                  </a:lnTo>
                  <a:lnTo>
                    <a:pt x="4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08320" y="3382920"/>
              <a:ext cx="125640" cy="12528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0" y="26"/>
                  </a:moveTo>
                  <a:lnTo>
                    <a:pt x="0" y="26"/>
                  </a:lnTo>
                  <a:lnTo>
                    <a:pt x="2" y="16"/>
                  </a:lnTo>
                  <a:lnTo>
                    <a:pt x="4" y="8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4" y="0"/>
                  </a:lnTo>
                  <a:lnTo>
                    <a:pt x="40" y="8"/>
                  </a:lnTo>
                  <a:lnTo>
                    <a:pt x="44" y="16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4" y="32"/>
                  </a:lnTo>
                  <a:lnTo>
                    <a:pt x="40" y="40"/>
                  </a:lnTo>
                  <a:lnTo>
                    <a:pt x="3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4" y="48"/>
                  </a:lnTo>
                  <a:lnTo>
                    <a:pt x="4" y="40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173480" y="2887560"/>
              <a:ext cx="125640" cy="12564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0" y="22"/>
                  </a:moveTo>
                  <a:lnTo>
                    <a:pt x="0" y="22"/>
                  </a:lnTo>
                  <a:lnTo>
                    <a:pt x="0" y="14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40" y="8"/>
                  </a:lnTo>
                  <a:lnTo>
                    <a:pt x="48" y="14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48" y="32"/>
                  </a:lnTo>
                  <a:lnTo>
                    <a:pt x="40" y="40"/>
                  </a:lnTo>
                  <a:lnTo>
                    <a:pt x="32" y="44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16" y="44"/>
                  </a:lnTo>
                  <a:lnTo>
                    <a:pt x="8" y="40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33800" y="3144960"/>
              <a:ext cx="125280" cy="12528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0" y="28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6" y="8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40" y="8"/>
                  </a:lnTo>
                  <a:lnTo>
                    <a:pt x="46" y="1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6" y="36"/>
                  </a:lnTo>
                  <a:lnTo>
                    <a:pt x="40" y="42"/>
                  </a:lnTo>
                  <a:lnTo>
                    <a:pt x="30" y="48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890880" y="2335320"/>
              <a:ext cx="125640" cy="125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26"/>
                  </a:moveTo>
                  <a:lnTo>
                    <a:pt x="0" y="26"/>
                  </a:lnTo>
                  <a:lnTo>
                    <a:pt x="2" y="18"/>
                  </a:lnTo>
                  <a:lnTo>
                    <a:pt x="4" y="8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40" y="8"/>
                  </a:lnTo>
                  <a:lnTo>
                    <a:pt x="44" y="18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4" y="36"/>
                  </a:lnTo>
                  <a:lnTo>
                    <a:pt x="40" y="42"/>
                  </a:lnTo>
                  <a:lnTo>
                    <a:pt x="32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2" y="48"/>
                  </a:lnTo>
                  <a:lnTo>
                    <a:pt x="4" y="42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017880" y="2951280"/>
              <a:ext cx="125280" cy="12528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0" y="24"/>
                  </a:moveTo>
                  <a:lnTo>
                    <a:pt x="0" y="24"/>
                  </a:lnTo>
                  <a:lnTo>
                    <a:pt x="4" y="14"/>
                  </a:lnTo>
                  <a:lnTo>
                    <a:pt x="8" y="10"/>
                  </a:lnTo>
                  <a:lnTo>
                    <a:pt x="18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4" y="10"/>
                  </a:lnTo>
                  <a:lnTo>
                    <a:pt x="48" y="1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4"/>
                  </a:lnTo>
                  <a:lnTo>
                    <a:pt x="44" y="42"/>
                  </a:lnTo>
                  <a:lnTo>
                    <a:pt x="36" y="48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18" y="48"/>
                  </a:lnTo>
                  <a:lnTo>
                    <a:pt x="8" y="42"/>
                  </a:lnTo>
                  <a:lnTo>
                    <a:pt x="4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763800" y="3122640"/>
              <a:ext cx="125640" cy="1252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0" y="22"/>
                  </a:moveTo>
                  <a:lnTo>
                    <a:pt x="0" y="22"/>
                  </a:lnTo>
                  <a:lnTo>
                    <a:pt x="4" y="14"/>
                  </a:lnTo>
                  <a:lnTo>
                    <a:pt x="8" y="6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4" y="6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8" y="32"/>
                  </a:lnTo>
                  <a:lnTo>
                    <a:pt x="44" y="42"/>
                  </a:lnTo>
                  <a:lnTo>
                    <a:pt x="36" y="44"/>
                  </a:lnTo>
                  <a:lnTo>
                    <a:pt x="26" y="46"/>
                  </a:lnTo>
                  <a:lnTo>
                    <a:pt x="26" y="46"/>
                  </a:lnTo>
                  <a:lnTo>
                    <a:pt x="16" y="44"/>
                  </a:lnTo>
                  <a:lnTo>
                    <a:pt x="8" y="42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505320" y="3382920"/>
              <a:ext cx="125280" cy="125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26"/>
                  </a:move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2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2" y="0"/>
                  </a:lnTo>
                  <a:lnTo>
                    <a:pt x="42" y="8"/>
                  </a:lnTo>
                  <a:lnTo>
                    <a:pt x="44" y="1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4" y="32"/>
                  </a:lnTo>
                  <a:lnTo>
                    <a:pt x="42" y="40"/>
                  </a:lnTo>
                  <a:lnTo>
                    <a:pt x="32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2" y="48"/>
                  </a:lnTo>
                  <a:lnTo>
                    <a:pt x="8" y="40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144960" y="3433680"/>
              <a:ext cx="125280" cy="12564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26"/>
                  </a:moveTo>
                  <a:lnTo>
                    <a:pt x="0" y="26"/>
                  </a:lnTo>
                  <a:lnTo>
                    <a:pt x="2" y="16"/>
                  </a:lnTo>
                  <a:lnTo>
                    <a:pt x="4" y="8"/>
                  </a:lnTo>
                  <a:lnTo>
                    <a:pt x="1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2" y="4"/>
                  </a:lnTo>
                  <a:lnTo>
                    <a:pt x="40" y="8"/>
                  </a:lnTo>
                  <a:lnTo>
                    <a:pt x="44" y="1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4" y="36"/>
                  </a:lnTo>
                  <a:lnTo>
                    <a:pt x="40" y="44"/>
                  </a:lnTo>
                  <a:lnTo>
                    <a:pt x="32" y="46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2" y="46"/>
                  </a:lnTo>
                  <a:lnTo>
                    <a:pt x="4" y="44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940200" y="2836800"/>
              <a:ext cx="125280" cy="1256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0" y="22"/>
                  </a:moveTo>
                  <a:lnTo>
                    <a:pt x="0" y="22"/>
                  </a:lnTo>
                  <a:lnTo>
                    <a:pt x="0" y="12"/>
                  </a:lnTo>
                  <a:lnTo>
                    <a:pt x="4" y="4"/>
                  </a:lnTo>
                  <a:lnTo>
                    <a:pt x="14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2"/>
                  </a:lnTo>
                  <a:lnTo>
                    <a:pt x="40" y="4"/>
                  </a:lnTo>
                  <a:lnTo>
                    <a:pt x="44" y="12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4" y="32"/>
                  </a:lnTo>
                  <a:lnTo>
                    <a:pt x="40" y="40"/>
                  </a:lnTo>
                  <a:lnTo>
                    <a:pt x="32" y="44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14" y="44"/>
                  </a:lnTo>
                  <a:lnTo>
                    <a:pt x="4" y="40"/>
                  </a:lnTo>
                  <a:lnTo>
                    <a:pt x="0" y="3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525840" y="2392200"/>
              <a:ext cx="125280" cy="12564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22"/>
                  </a:moveTo>
                  <a:lnTo>
                    <a:pt x="0" y="22"/>
                  </a:lnTo>
                  <a:lnTo>
                    <a:pt x="2" y="12"/>
                  </a:lnTo>
                  <a:lnTo>
                    <a:pt x="6" y="4"/>
                  </a:lnTo>
                  <a:lnTo>
                    <a:pt x="14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4" y="2"/>
                  </a:lnTo>
                  <a:lnTo>
                    <a:pt x="42" y="4"/>
                  </a:lnTo>
                  <a:lnTo>
                    <a:pt x="46" y="1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46" y="32"/>
                  </a:lnTo>
                  <a:lnTo>
                    <a:pt x="42" y="40"/>
                  </a:lnTo>
                  <a:lnTo>
                    <a:pt x="34" y="44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14" y="44"/>
                  </a:lnTo>
                  <a:lnTo>
                    <a:pt x="6" y="40"/>
                  </a:lnTo>
                  <a:lnTo>
                    <a:pt x="2" y="3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65280" y="2649600"/>
              <a:ext cx="125640" cy="12528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0" y="24"/>
                  </a:moveTo>
                  <a:lnTo>
                    <a:pt x="0" y="24"/>
                  </a:lnTo>
                  <a:lnTo>
                    <a:pt x="4" y="14"/>
                  </a:lnTo>
                  <a:lnTo>
                    <a:pt x="8" y="10"/>
                  </a:lnTo>
                  <a:lnTo>
                    <a:pt x="18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4" y="10"/>
                  </a:lnTo>
                  <a:lnTo>
                    <a:pt x="48" y="1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4"/>
                  </a:lnTo>
                  <a:lnTo>
                    <a:pt x="44" y="42"/>
                  </a:lnTo>
                  <a:lnTo>
                    <a:pt x="36" y="48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18" y="48"/>
                  </a:lnTo>
                  <a:lnTo>
                    <a:pt x="8" y="42"/>
                  </a:lnTo>
                  <a:lnTo>
                    <a:pt x="4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362400" y="2703600"/>
              <a:ext cx="125280" cy="12528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0" y="26"/>
                  </a:moveTo>
                  <a:lnTo>
                    <a:pt x="0" y="26"/>
                  </a:lnTo>
                  <a:lnTo>
                    <a:pt x="2" y="16"/>
                  </a:lnTo>
                  <a:lnTo>
                    <a:pt x="6" y="6"/>
                  </a:lnTo>
                  <a:lnTo>
                    <a:pt x="14" y="4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4" y="4"/>
                  </a:lnTo>
                  <a:lnTo>
                    <a:pt x="42" y="6"/>
                  </a:lnTo>
                  <a:lnTo>
                    <a:pt x="44" y="16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4" y="34"/>
                  </a:lnTo>
                  <a:lnTo>
                    <a:pt x="42" y="40"/>
                  </a:lnTo>
                  <a:lnTo>
                    <a:pt x="34" y="46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14" y="46"/>
                  </a:lnTo>
                  <a:lnTo>
                    <a:pt x="6" y="40"/>
                  </a:lnTo>
                  <a:lnTo>
                    <a:pt x="2" y="34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211560" y="1998720"/>
              <a:ext cx="125280" cy="125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22"/>
                  </a:moveTo>
                  <a:lnTo>
                    <a:pt x="0" y="22"/>
                  </a:lnTo>
                  <a:lnTo>
                    <a:pt x="4" y="14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8" y="22"/>
                  </a:lnTo>
                  <a:lnTo>
                    <a:pt x="48" y="32"/>
                  </a:lnTo>
                  <a:lnTo>
                    <a:pt x="44" y="40"/>
                  </a:lnTo>
                  <a:lnTo>
                    <a:pt x="36" y="48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16" y="48"/>
                  </a:lnTo>
                  <a:lnTo>
                    <a:pt x="8" y="40"/>
                  </a:lnTo>
                  <a:lnTo>
                    <a:pt x="4" y="3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144960" y="2649600"/>
              <a:ext cx="125280" cy="12528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0" y="24"/>
                  </a:moveTo>
                  <a:lnTo>
                    <a:pt x="0" y="24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40" y="10"/>
                  </a:lnTo>
                  <a:lnTo>
                    <a:pt x="44" y="1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4" y="34"/>
                  </a:lnTo>
                  <a:lnTo>
                    <a:pt x="40" y="42"/>
                  </a:lnTo>
                  <a:lnTo>
                    <a:pt x="32" y="48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12" y="48"/>
                  </a:lnTo>
                  <a:lnTo>
                    <a:pt x="4" y="42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957480" y="2494080"/>
              <a:ext cx="125640" cy="125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26"/>
                  </a:moveTo>
                  <a:lnTo>
                    <a:pt x="0" y="26"/>
                  </a:lnTo>
                  <a:lnTo>
                    <a:pt x="4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8" y="32"/>
                  </a:lnTo>
                  <a:lnTo>
                    <a:pt x="40" y="40"/>
                  </a:lnTo>
                  <a:lnTo>
                    <a:pt x="36" y="48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16" y="48"/>
                  </a:lnTo>
                  <a:lnTo>
                    <a:pt x="8" y="40"/>
                  </a:lnTo>
                  <a:lnTo>
                    <a:pt x="4" y="3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587840" y="1604880"/>
              <a:ext cx="125280" cy="12564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26"/>
                  </a:moveTo>
                  <a:lnTo>
                    <a:pt x="0" y="26"/>
                  </a:lnTo>
                  <a:lnTo>
                    <a:pt x="0" y="16"/>
                  </a:lnTo>
                  <a:lnTo>
                    <a:pt x="6" y="8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0" y="2"/>
                  </a:lnTo>
                  <a:lnTo>
                    <a:pt x="40" y="8"/>
                  </a:lnTo>
                  <a:lnTo>
                    <a:pt x="46" y="1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6" y="36"/>
                  </a:lnTo>
                  <a:lnTo>
                    <a:pt x="40" y="42"/>
                  </a:lnTo>
                  <a:lnTo>
                    <a:pt x="30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0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99080" y="2602080"/>
              <a:ext cx="125280" cy="12528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0" y="22"/>
                  </a:moveTo>
                  <a:lnTo>
                    <a:pt x="0" y="22"/>
                  </a:lnTo>
                  <a:lnTo>
                    <a:pt x="2" y="12"/>
                  </a:lnTo>
                  <a:lnTo>
                    <a:pt x="10" y="4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2" y="4"/>
                  </a:lnTo>
                  <a:lnTo>
                    <a:pt x="48" y="12"/>
                  </a:lnTo>
                  <a:lnTo>
                    <a:pt x="50" y="22"/>
                  </a:lnTo>
                  <a:lnTo>
                    <a:pt x="50" y="22"/>
                  </a:lnTo>
                  <a:lnTo>
                    <a:pt x="48" y="30"/>
                  </a:lnTo>
                  <a:lnTo>
                    <a:pt x="42" y="40"/>
                  </a:lnTo>
                  <a:lnTo>
                    <a:pt x="36" y="44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16" y="44"/>
                  </a:lnTo>
                  <a:lnTo>
                    <a:pt x="10" y="40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503600" y="1109520"/>
              <a:ext cx="125640" cy="12564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24"/>
                  </a:moveTo>
                  <a:lnTo>
                    <a:pt x="0" y="24"/>
                  </a:lnTo>
                  <a:lnTo>
                    <a:pt x="2" y="14"/>
                  </a:lnTo>
                  <a:lnTo>
                    <a:pt x="10" y="8"/>
                  </a:lnTo>
                  <a:lnTo>
                    <a:pt x="18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6" y="2"/>
                  </a:lnTo>
                  <a:lnTo>
                    <a:pt x="42" y="8"/>
                  </a:lnTo>
                  <a:lnTo>
                    <a:pt x="48" y="14"/>
                  </a:lnTo>
                  <a:lnTo>
                    <a:pt x="50" y="24"/>
                  </a:lnTo>
                  <a:lnTo>
                    <a:pt x="50" y="24"/>
                  </a:lnTo>
                  <a:lnTo>
                    <a:pt x="48" y="32"/>
                  </a:lnTo>
                  <a:lnTo>
                    <a:pt x="42" y="40"/>
                  </a:lnTo>
                  <a:lnTo>
                    <a:pt x="36" y="48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18" y="48"/>
                  </a:lnTo>
                  <a:lnTo>
                    <a:pt x="10" y="40"/>
                  </a:lnTo>
                  <a:lnTo>
                    <a:pt x="2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727520" y="1684440"/>
              <a:ext cx="125640" cy="12528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0" y="26"/>
                  </a:move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40" y="8"/>
                  </a:lnTo>
                  <a:lnTo>
                    <a:pt x="48" y="16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8" y="32"/>
                  </a:lnTo>
                  <a:lnTo>
                    <a:pt x="40" y="40"/>
                  </a:lnTo>
                  <a:lnTo>
                    <a:pt x="32" y="48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16" y="48"/>
                  </a:lnTo>
                  <a:lnTo>
                    <a:pt x="8" y="40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532400" y="1370160"/>
              <a:ext cx="125280" cy="12528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0" y="26"/>
                  </a:moveTo>
                  <a:lnTo>
                    <a:pt x="0" y="26"/>
                  </a:lnTo>
                  <a:lnTo>
                    <a:pt x="2" y="16"/>
                  </a:lnTo>
                  <a:lnTo>
                    <a:pt x="8" y="6"/>
                  </a:lnTo>
                  <a:lnTo>
                    <a:pt x="16" y="4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4"/>
                  </a:lnTo>
                  <a:lnTo>
                    <a:pt x="40" y="6"/>
                  </a:lnTo>
                  <a:lnTo>
                    <a:pt x="48" y="16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48" y="36"/>
                  </a:lnTo>
                  <a:lnTo>
                    <a:pt x="40" y="40"/>
                  </a:lnTo>
                  <a:lnTo>
                    <a:pt x="32" y="46"/>
                  </a:lnTo>
                  <a:lnTo>
                    <a:pt x="26" y="48"/>
                  </a:lnTo>
                  <a:lnTo>
                    <a:pt x="26" y="48"/>
                  </a:lnTo>
                  <a:lnTo>
                    <a:pt x="16" y="46"/>
                  </a:lnTo>
                  <a:lnTo>
                    <a:pt x="8" y="40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559400" y="2233440"/>
              <a:ext cx="125280" cy="12564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0" y="24"/>
                  </a:moveTo>
                  <a:lnTo>
                    <a:pt x="0" y="24"/>
                  </a:lnTo>
                  <a:lnTo>
                    <a:pt x="0" y="14"/>
                  </a:lnTo>
                  <a:lnTo>
                    <a:pt x="8" y="6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40" y="6"/>
                  </a:lnTo>
                  <a:lnTo>
                    <a:pt x="46" y="1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6" y="32"/>
                  </a:lnTo>
                  <a:lnTo>
                    <a:pt x="40" y="42"/>
                  </a:lnTo>
                  <a:lnTo>
                    <a:pt x="32" y="46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16" y="46"/>
                  </a:lnTo>
                  <a:lnTo>
                    <a:pt x="8" y="4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54320" y="3303720"/>
              <a:ext cx="125640" cy="12528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26"/>
                  </a:moveTo>
                  <a:lnTo>
                    <a:pt x="0" y="26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2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32" y="2"/>
                  </a:lnTo>
                  <a:lnTo>
                    <a:pt x="42" y="8"/>
                  </a:lnTo>
                  <a:lnTo>
                    <a:pt x="44" y="16"/>
                  </a:lnTo>
                  <a:lnTo>
                    <a:pt x="48" y="26"/>
                  </a:lnTo>
                  <a:lnTo>
                    <a:pt x="48" y="26"/>
                  </a:lnTo>
                  <a:lnTo>
                    <a:pt x="44" y="36"/>
                  </a:lnTo>
                  <a:lnTo>
                    <a:pt x="42" y="40"/>
                  </a:lnTo>
                  <a:lnTo>
                    <a:pt x="32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2" y="48"/>
                  </a:lnTo>
                  <a:lnTo>
                    <a:pt x="8" y="40"/>
                  </a:lnTo>
                  <a:lnTo>
                    <a:pt x="2" y="3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844800" y="2808360"/>
              <a:ext cx="125640" cy="12528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0" y="24"/>
                  </a:moveTo>
                  <a:lnTo>
                    <a:pt x="0" y="24"/>
                  </a:lnTo>
                  <a:lnTo>
                    <a:pt x="4" y="14"/>
                  </a:lnTo>
                  <a:lnTo>
                    <a:pt x="8" y="8"/>
                  </a:lnTo>
                  <a:lnTo>
                    <a:pt x="1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0" y="8"/>
                  </a:lnTo>
                  <a:lnTo>
                    <a:pt x="48" y="1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32"/>
                  </a:lnTo>
                  <a:lnTo>
                    <a:pt x="40" y="40"/>
                  </a:lnTo>
                  <a:lnTo>
                    <a:pt x="34" y="48"/>
                  </a:lnTo>
                  <a:lnTo>
                    <a:pt x="26" y="50"/>
                  </a:lnTo>
                  <a:lnTo>
                    <a:pt x="26" y="50"/>
                  </a:lnTo>
                  <a:lnTo>
                    <a:pt x="16" y="48"/>
                  </a:lnTo>
                  <a:lnTo>
                    <a:pt x="8" y="40"/>
                  </a:lnTo>
                  <a:lnTo>
                    <a:pt x="4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035" name=""/>
          <p:cNvSpPr/>
          <p:nvPr/>
        </p:nvSpPr>
        <p:spPr>
          <a:xfrm flipV="1">
            <a:off x="3925800" y="5789520"/>
            <a:ext cx="0" cy="648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>
            <a:off x="1312920" y="5796000"/>
            <a:ext cx="501480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312920" y="365040"/>
            <a:ext cx="0" cy="542448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rot="16200000">
            <a:off x="778320" y="5451480"/>
            <a:ext cx="40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</a:rPr>
              <a:t>-1.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rot="16200000">
            <a:off x="778320" y="4113720"/>
            <a:ext cx="40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</a:rPr>
              <a:t>-0.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rot="16200000">
            <a:off x="820800" y="286020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</a:rPr>
              <a:t>0.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rot="16200000">
            <a:off x="820800" y="156312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</a:rPr>
              <a:t>0.5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rot="16200000">
            <a:off x="820800" y="194760"/>
            <a:ext cx="32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ecece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16200000">
            <a:off x="-200880" y="2758320"/>
            <a:ext cx="141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Times New Roman"/>
              </a:rPr>
              <a:t>Dusk eff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146400" y="6232680"/>
            <a:ext cx="1500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ecece"/>
                </a:solidFill>
                <a:latin typeface="Times New Roman"/>
              </a:rPr>
              <a:t>Dawn effect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24040" y="1700280"/>
            <a:ext cx="782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afd00"/>
                </a:solidFill>
                <a:latin typeface="Times New Roman"/>
              </a:rPr>
              <a:t>oilfish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076720" y="3537000"/>
            <a:ext cx="393876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Dusk has a positive effect for many specie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761120" y="4149720"/>
            <a:ext cx="799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afd00"/>
                </a:solidFill>
                <a:latin typeface="Times New Roman"/>
              </a:rPr>
              <a:t>black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afd00"/>
                </a:solidFill>
                <a:latin typeface="Times New Roman"/>
              </a:rPr>
              <a:t>marlin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905840" y="471600"/>
            <a:ext cx="1552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afd00"/>
                </a:solidFill>
                <a:latin typeface="Times New Roman"/>
              </a:rPr>
              <a:t>Ray’s bream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b2f"/>
            </a:gs>
            <a:gs pos="50000">
              <a:srgbClr val="00279f"/>
            </a:gs>
            <a:gs pos="100000">
              <a:srgbClr val="000b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ffects make a substantial difference</a:t>
            </a:r>
            <a:endParaRPr b="0" lang="en-US" sz="4000" spc="-1" strike="noStrike">
              <a:solidFill>
                <a:srgbClr val="fafd00"/>
              </a:solidFill>
              <a:latin typeface="Palatino"/>
            </a:endParaRPr>
          </a:p>
        </p:txBody>
      </p:sp>
      <p:sp>
        <p:nvSpPr>
          <p:cNvPr id="1050" name=""/>
          <p:cNvSpPr/>
          <p:nvPr/>
        </p:nvSpPr>
        <p:spPr>
          <a:xfrm>
            <a:off x="8751240" y="214632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8751240" y="272268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160680" y="2971800"/>
            <a:ext cx="2814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$1,500 vs $5,000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755920" y="325440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1751040" y="1776240"/>
            <a:ext cx="4191840" cy="1728720"/>
            <a:chOff x="1751040" y="1776240"/>
            <a:chExt cx="4191840" cy="1728720"/>
          </a:xfrm>
        </p:grpSpPr>
        <p:sp>
          <p:nvSpPr>
            <p:cNvPr id="1055" name=""/>
            <p:cNvSpPr/>
            <p:nvPr/>
          </p:nvSpPr>
          <p:spPr>
            <a:xfrm>
              <a:off x="1843920" y="1865160"/>
              <a:ext cx="1675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afd00"/>
                  </a:solidFill>
                  <a:latin typeface="Times New Roman"/>
                </a:rPr>
                <a:t>Swordfish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306680" y="1865160"/>
              <a:ext cx="646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ecece"/>
                  </a:solidFill>
                  <a:latin typeface="Times New Roman"/>
                </a:rPr>
                <a:t>5 hr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091840" y="1865160"/>
              <a:ext cx="8510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ecece"/>
                  </a:solidFill>
                  <a:latin typeface="Times New Roman"/>
                </a:rPr>
                <a:t>20 hr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751040" y="1776240"/>
              <a:ext cx="2398680" cy="41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149720" y="1776240"/>
              <a:ext cx="39600" cy="41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189320" y="1776240"/>
              <a:ext cx="765360" cy="41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54680" y="1776240"/>
              <a:ext cx="41400" cy="41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996080" y="1776240"/>
              <a:ext cx="923760" cy="41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791360" y="2441160"/>
              <a:ext cx="2710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ecece"/>
                  </a:solidFill>
                  <a:latin typeface="Times New Roman"/>
                </a:rPr>
                <a:t>no dawn or dusk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95120" y="24411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658840" y="24411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751040" y="2352240"/>
              <a:ext cx="239868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149720" y="2352240"/>
              <a:ext cx="3960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189320" y="2352240"/>
              <a:ext cx="76536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954680" y="2352240"/>
              <a:ext cx="4140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96080" y="2352240"/>
              <a:ext cx="92376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792440" y="2973240"/>
              <a:ext cx="24498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ecece"/>
                  </a:solidFill>
                  <a:latin typeface="Times New Roman"/>
                </a:rPr>
                <a:t>dawn and dusk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695120" y="29732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478840" y="2973240"/>
              <a:ext cx="409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751040" y="3463560"/>
              <a:ext cx="239868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149720" y="3463560"/>
              <a:ext cx="3960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189320" y="3463560"/>
              <a:ext cx="76536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954680" y="3463560"/>
              <a:ext cx="4140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996080" y="3463560"/>
              <a:ext cx="923760" cy="4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afd00"/>
                </a:solidFill>
                <a:latin typeface="Times New Roman"/>
              </a:endParaRPr>
            </a:p>
          </p:txBody>
        </p:sp>
      </p:grpSp>
      <p:sp>
        <p:nvSpPr>
          <p:cNvPr id="1079" name=""/>
          <p:cNvSpPr/>
          <p:nvPr/>
        </p:nvSpPr>
        <p:spPr>
          <a:xfrm>
            <a:off x="1978920" y="3505320"/>
            <a:ext cx="1029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1080" name="" descr=""/>
          <p:cNvPicPr/>
          <p:nvPr/>
        </p:nvPicPr>
        <p:blipFill>
          <a:blip r:embed="rId1"/>
          <a:stretch/>
        </p:blipFill>
        <p:spPr>
          <a:xfrm>
            <a:off x="-36360" y="3645000"/>
            <a:ext cx="9577080" cy="4867200"/>
          </a:xfrm>
          <a:prstGeom prst="rect">
            <a:avLst/>
          </a:prstGeom>
          <a:ln w="0">
            <a:noFill/>
          </a:ln>
        </p:spPr>
      </p:pic>
      <p:sp>
        <p:nvSpPr>
          <p:cNvPr id="1081" name=""/>
          <p:cNvSpPr/>
          <p:nvPr/>
        </p:nvSpPr>
        <p:spPr>
          <a:xfrm>
            <a:off x="5427720" y="2465280"/>
            <a:ext cx="657000" cy="11080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67320" y="2852640"/>
            <a:ext cx="1444680" cy="7686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23:18:09Z</dcterms:created>
  <dc:creator>DPIE User</dc:creator>
  <dc:description/>
  <cp:keywords/>
  <dc:language>en-US</dc:language>
  <cp:lastModifiedBy>spc</cp:lastModifiedBy>
  <cp:lastPrinted>1999-10-31T23:59:35Z</cp:lastPrinted>
  <dcterms:modified xsi:type="dcterms:W3CDTF">2005-08-17T00:19:05Z</dcterms:modified>
  <cp:revision>428</cp:revision>
  <dc:subject/>
  <dc:title>Swordfish</dc:title>
</cp:coreProperties>
</file>